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8.wmf" ContentType="image/x-wmf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7-04-08T17:51:37.206000000" idx="1">
    <p:pos x="5690" y="257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F0F-C701-4456-BF19-A8961F72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0B6-37FD-40C8-BE28-89A313D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000-8D96-48C6-8C9E-7424D411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246-DC1E-4E9B-9AC6-999EE6F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A2C-0E07-4DCE-8A00-DA612D69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75FA-B7C0-4F92-AC75-00F8B03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EEB-6331-4083-9E7E-DECE1C7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9F5C-3EB9-4C70-A2F5-8E8298F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57A-050D-4AB0-836E-3EAB63B0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BB8-8612-4EC4-905C-AEB025E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132-D85D-4838-80D7-5A3E444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D1F-6B24-4992-AB3F-75498FBB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3F03-49FE-4E69-A998-19A1077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84F6-4CF1-47B9-9D1D-B080DD4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47F5-54AC-4286-B7F3-7B22E55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CC77-6376-4143-B97D-32972F8B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F4A-C787-42EF-BEE7-2FFEC529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BFB71-73F6-45AA-8DF9-379E1323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15A3-8434-4EFA-9C38-34CC925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A18D-58CF-4557-9884-F42A1D1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CC14-82B9-40CA-8B53-7242B771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DB71-39D8-4C6D-87A5-E210D435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989-3D7D-43C2-8F43-69DADBF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B346-40D2-4410-B4FB-617D025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C41F-77F3-4B90-BB1F-B998467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2A77-CD2B-42A4-9300-E6976D81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2434-BC19-4FA1-BE5B-A9170C8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AC54-33F4-4139-BC67-C89CBDD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7F59-6D39-425C-AA30-CEF3ACBC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FE29-1BE4-40A0-9C0C-5F4A13DF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0972-793C-4ADF-9419-13052083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4123-D3D2-40F5-8B02-35D9630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EE77-27E3-4C14-97DF-3B83D7C5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DE3-347A-483D-A08B-B8E81DB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6CCA-B794-4C88-A3A3-6FD3C36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0578-E04A-4F6E-9245-DF3B7468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72C6-3190-4122-9479-A130F92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C869-50FA-4A11-80FD-DA10037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9E90-55A2-4E73-9897-33F8C40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44A9-3F9C-490E-A671-4C8BDC8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7D92-3E29-40F9-8DB1-F8FBFBD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A548-91CB-489A-B8AD-0CE8AA07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78BB-63E6-43ED-9251-1A88C636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C61-B16C-4533-9126-8A188F55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086-D097-45D5-A94F-F7A21E46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BA7-E9A1-4A9A-B360-84AF6FB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31D-5CF7-48B7-8238-6B6E6C3D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7E2-A3D3-4757-9492-94E9995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012-5D86-434E-A785-F469C56EB0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45F-5646-451E-B393-3EBBAA20C1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93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39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53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67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81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95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09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23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25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609-4142-4E2D-AEF6-7CC16F783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81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95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A75-19EB-4656-BC2E-9AA49CE274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45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5796000" cy="2320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8520" cy="24224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6789600" y="0"/>
            <a:ext cx="235440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46080" y="-14974920"/>
          <a:ext cx="9051840" cy="593640"/>
        </p:xfrm>
        <a:graphic>
          <a:graphicData uri="http://schemas.openxmlformats.org/drawingml/2006/table">
            <a:tbl>
              <a:tblPr/>
              <a:tblGrid>
                <a:gridCol w="9051840"/>
              </a:tblGrid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营养和运动是维持和促进人体健康的两个重要方面。优异的运动成绩取决于三个因素：正确选材、科学训练和合理营养，缺一不可。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47520" y="-14306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6080" y="-13711320"/>
          <a:ext cx="550800" cy="343584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3435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　　合理的营养提供运动适宜的能源物质，有助于剧烈运动后的恢复，可减轻运动性疲劳的程度或延缓其发生。引起人体运动能力下降的常见原因如脱水、体温调节障碍引起的体温升高、酸性代谢产物的蓄积、电解质平衡失调所致的代谢紊乱、能源储备物的损耗等均可在合理营养的措施下（如适宜的饮食营养和补液等）延缓疲劳的发生或减轻程度。合理营养有助于解决运动训练中的一些特殊医学问题，如减体重；生长发育时期的运动员、妇女、老年人、患有不同疾病的人参加体育运动时，均面临的不同的生理问题，需要特殊的营养调控，以保证练习效果及身体健康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47520" y="2072196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6080" y="2131704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46080" y="-14974920"/>
          <a:ext cx="9051840" cy="593640"/>
        </p:xfrm>
        <a:graphic>
          <a:graphicData uri="http://schemas.openxmlformats.org/drawingml/2006/table">
            <a:tbl>
              <a:tblPr/>
              <a:tblGrid>
                <a:gridCol w="9051840"/>
              </a:tblGrid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营养和运动是维持和促进人体健康的两个重要方面。优异的运动成绩取决于三个因素：正确选材、科学训练和合理营养，缺一不可。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47520" y="-14306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520" y="2072196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6080" y="2131704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95640" y="191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06280" y="981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素材健康饮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5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维生素—必不可少的生命之素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1109520"/>
            <a:ext cx="914400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是维持人体的正常生理机能和新陈代谢活动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必需的低分子化合物。虽然人体对它的需要量微小，但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对人体生命活动所起的作用却是必不可少的。人体所需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维生素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多种，主要分为脂容性与水容性两大类。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中脂容性维生素有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等；而水容性维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素有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尼克酸、叶酸等。这些维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素对人体生命活动，尤其是对智力的开发是十分重要的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的缺少或过多都将引起智力下降。多数维生素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在人体内合成或合成的量不能满足人的需要。因此，我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每天的饮食中含有一定量的各种维生素是非常重要好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是从新鲜蔬菜与水果等植物性食物中获取的，并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助其他营养物质进行化合反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6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无机盐—极其重要的生命原料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无机盐是人体所需微量元素的总称，人体所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要的无机盐约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余种。微量元素在人体内含量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少，但有极其重要的生理作用。维持机体正常生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活动不可缺少的必需微量元素共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个，即铁、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钴、铬、氟、碘、锰、钼、镍、硒、锡、钒和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等。我国饮食中比较容易引起缺乏的无机盐是：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铁和碘类矿物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4859280" y="4729320"/>
            <a:ext cx="3043440" cy="2128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黑体"/>
              </a:rPr>
              <a:t>四、运动与营养的关系</a:t>
            </a:r>
            <a:r>
              <a:rPr b="0" lang="en-US" sz="4000" spc="-1" strike="noStrike">
                <a:solidFill>
                  <a:srgbClr val="ffe2c5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营养和运动是维持和促进人体健康的两个重要方面。优异的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成绩取决于三个因素：正确选材、科学训练和合理营养，缺一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合理的营养提供运动适宜的能源物质，有助于剧烈运动后的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复，可减轻运动性疲劳的程度或延缓其发生。引起人体运动能力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的常见原因如脱水、体温调节障碍引起的体温升高、酸性代谢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的蓄积、电解质平衡失调所致的代谢紊乱、能源储备物的损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均可在合理营养的措施下（如适宜的饮食营养和补液等）延缓疲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发生或减轻程度。合理营养有助于解决运动训练中的一些特殊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问题，如减体重；生长发育时期的运动员、妇女、老年人、患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同疾病的人参加体育运动时，均面临的不同的生理问题，需要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殊的营养调控，以保证练习效果及身体健康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427640" y="5157720"/>
            <a:ext cx="4716360" cy="17002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50072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163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4.1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运动与补糖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糖是运动肌肉的最佳能源。人的运动能力与糖的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备有密切的关系，中枢神经的能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％以上来 自糖，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水平的血糖将首先影响中枢神经系统的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.1.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比赛前的最大肌糖元储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在长时间的高强度比赛之前，应该调节膳食训练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划，以便使肌体内的肌糖元储存达到最大值，即“糖元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代偿”。具体做法是：在赛前的最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天，摄入高糖膳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使肌糖元提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％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％。比赛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小时内使用高糖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使肝脏帮助维持血糖的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4360" y="876240"/>
            <a:ext cx="49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pt素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4.1.2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运动中的糖摄入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％最大吸氧量的强度运动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％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的能量来源于糖。运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小时后，血糖的浓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通常会下降到相对低的水平，运动能力将明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降，出现疲劳。因此，从事长时间高强度运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人，运动中每小时应该补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克葡萄糖、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糖或其他高血糖指数含糖食品。通过补糖可使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劳推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分钟发生，使运动的后期保证足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的糖供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924360" y="5094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4.1.3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运动后补糖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运动者在运动后应该尽早摄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克高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中血糖指数的糖，而且随后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小时摄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克糖，直到正式用餐。运动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小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食物的血糖指数在肌糖元合成率中起主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387180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04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4.2</a:t>
            </a: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运动与蛋白质的补充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蛋白质与运动员运动能力的发挥与提高有着十分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要的作用。具体体现在几个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能够增加肌肉蛋白脂合成，增加肌肉力量，可以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防运动性贫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对体内胰岛素的分泌有良好且稳定的刺激效果，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而保持稳定的精神和体力状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提高中枢神经系统的兴奋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在长时间运动时可以作为细胞的部分能源，提供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动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％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％的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摄入过多蛋白质，不仅对肌肉增长和提高肌肉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能力没有好处，反而会对正常代谢和健康产生不良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导致肥胖，肝、肾负担加重，易疲劳和降低运动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84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4.3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运动中的合理补水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水营养是合理的基础，对于运动员来说，只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保持良好的水营养，才能保证身体的健康，维持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好的竞技状态和发挥最大的运动潜能。当身体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排出量超过摄入量而发生机体缺水时就会形成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状态。脱水对运动员的影响不仅在于体温升高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血管负担加重，还可以导致肾脏的损害。因此，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动中的合理补水是十分重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.3.1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运动训练前补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运动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分钟补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毫升水，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分次饮用。在参加比赛前几天多喝水，这样有利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机体在比赛开始时具有最大的水合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42022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4.3.2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运动中补水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运动中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分钟补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运动饮料或水。运动中最好采用含糖和无机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的运动饮料来补充水分和电解质。因为在热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境下，运动饮料可以迅速地被组织吸收。在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烈运动中，水分的最大吸收量时每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8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4.3.3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运动后补水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动后应及时补水，以保持体内的水分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衡。水分补充量应与汗液丢失量大体一致。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不应过度集中，若短时间内大量暴饮，虽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解一时的渴感，但尿量和汗量的增加，加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内电解质的进一步丢失，还会增加人体心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负担。所以，合理补水应以少量多次为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4462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一、营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9810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什么是营养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  机体摄取、消化、吸收和利用食物中的养料以维持生命活动的整个过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什么是营养学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营养学是研究合理利用食物以促进生长发育，增进健康、提高机能、防治疾病和延年益寿的科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什么是营养素？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食物中对机体有生理功能的成分称为营养素，营养素具有维持人体生长、发育、生殖和健康的作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人体营养素有醣类、脂肪、蛋白质、维生素、矿物质和水等六大类。前三者的功能是供给热能，后三者的功能在调节正常的生理机能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140360" y="4276800"/>
            <a:ext cx="3311280" cy="25812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64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4.4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运动与维生素补充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育运动促进了人的能量代谢，在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耗增加的情况下，某些维生素的学要量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增加。参加体育运动，应重视多种维生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补充，促进运动恢复，延缓疲劳发生，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体力和体能，从而保证身体健康，提高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技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4.4.1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运动后机体所需维生素增加的原因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动训练使肠胃对维生素的吸收功能下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动引起汗液、尿液及粪便中维生素排出量增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动使维生素在体内的周转率加速，能量代谢增加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5734080"/>
            <a:ext cx="49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pt素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4.4.2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对运动影响较多的几种维生素有：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5280" y="692280"/>
            <a:ext cx="8388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视黄醇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基本营养功用：是细胞代谢的重要成分，机体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其需求量随体力消耗状况、精神紧张 中（射击、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箭、乒乓、击剑、跳水），夜间作业或在弱光下工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人，长期发烧，腹泻或肝胆疾病患者对其的需要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较大。但过量机体会出现中毒症状。长期接触消毒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游泳运动员也有较高需求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天然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只存在于动物食物中，尤其是肝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蛋黄、乳制品和鱼肝油中。植物食物中的胡箩卜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可在体内转变为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，但吸收率和生理效率较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7520" y="-10382400"/>
          <a:ext cx="9048600" cy="2548080"/>
        </p:xfrm>
        <a:graphic>
          <a:graphicData uri="http://schemas.openxmlformats.org/drawingml/2006/table">
            <a:tbl>
              <a:tblPr/>
              <a:tblGrid>
                <a:gridCol w="3016080"/>
                <a:gridCol w="3016440"/>
                <a:gridCol w="3016080"/>
              </a:tblGrid>
              <a:tr h="167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lang="en-US" sz="900" spc="-1" strike="noStrike">
                          <a:solidFill>
                            <a:srgbClr val="3300cc"/>
                          </a:solidFill>
                          <a:latin typeface="Times New Roman"/>
                        </a:rPr>
                        <a:t>维生素</a:t>
                      </a:r>
                      <a:r>
                        <a:rPr b="1" lang="en-US" sz="900" spc="-1" strike="noStrike">
                          <a:solidFill>
                            <a:srgbClr val="3300cc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900" spc="-1" strike="noStrike">
                          <a:solidFill>
                            <a:srgbClr val="3300cc"/>
                          </a:solidFill>
                          <a:latin typeface="Times New Roman"/>
                        </a:rPr>
                        <a:t>（视黄醇）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　　基本营养功用：是细胞代谢的重要成分，有促进生长发育作用，缺乏可引起发育不良；眼内感光物质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视紫红质的重要成分，缺乏可引起夜盲症；维护上皮组织的健康，增加抵抗力，缺乏可引起上皮角化过度，导致皮肤干燥、脱屑，毛囊角化，儿童则可发生干眼病，甚至失明。机体对其需求量随体力消耗状况、精神紧张 中（射击、射箭、乒乓、击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1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剑、跳水），夜间作业或在弱光下工作的人，长期发烧，腹泻或肝胆疾病患者对其的需要量较大。但过量机体会出现中毒症状。长期接触消毒水的游泳运动员也有较高需求量。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　　天然维生素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只存在于动物食物中，尤其是肝脏、蛋黄、乳制品和鱼肝油中。植物食物中的胡箩卜素可在体内转变为维生素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9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，但吸收率和生理效率较低。 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49320" y="-77626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在能量代谢和唐代谢生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过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中起着重要作用。维生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缺乏时，其代谢物丙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转化成乳酸，乳酸堆积会导致疲劳，损害有氧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能力，影响正常的神经冲动和传导，并使消化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和食欲受影响。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主要食物来源为粗糙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粮食（米、面、花生、核桃、芝麻和豆类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核黄素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　　基本营养功用：作为数种酶系统的重要辅基组成成分，可保证代谢的正常进行，促进生长，维护皮肤和粘膜的完整性；参与机体蛋白质的合成代谢，对肌肉发育有特殊意义。是最容易缺乏的维生素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　　核黄素主要存在于动物内脏中（如肝、肾、心等），牛奶及蛋类含核黄素也较多，坚果类食品（如核桃、栗子、松子、花生、瓜子等）含量也不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运动训练加强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的代谢途径，因此经常锻炼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人对其需要量增加。硬果类、豆类和动植物食品以及蔬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水果均含有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，此外，米糖、麦牙中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含量最为丰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是一种重要的抗氧化营养素，特殊条件下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行训练后补充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有提高最大吸氧量、减少氧债和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乳酸的作用。维生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最丰富的来源是植物油、麦胚、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果类及其他谷类食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维生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抗坏血酸）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　　基本营养功用：构成胶原；促进铁和钙的更好利用；提高机体免疫机能；有抗肿瘤作用；可提高运动能力、减轻疲劳。因能提高机体应激能力（体育运动属于较强的应激），适量额外补充可改善竞技状态。 维生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要存在于在带酸味的水果和蔬菜中，如酸枣、猕猴桃、柑橘等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2722680" cy="19890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908000" y="4941720"/>
            <a:ext cx="244800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9832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五、运动与微量元素的补充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体育运动中人体所需的多种微量元素中，比较容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发生营养问题的是铁和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运动与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的补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其基本营养功用：构成血红蛋白的主要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料；是细胞色素酶、过氧化酶以及肌红蛋白的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成成分，在组织呼吸、生物氧化过程中起十分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要的作用。运动中有大量的铁经汗液丢失，使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动员的铁丢失高于普通人。运动员缺铁血红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就会减少，进而导致耐力降低、成绩下降和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后恢复时间延长。因此，运动员对铁的需要量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于普通人。铁的吸收率较低，其中动物性食物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铁为血色素型铁，吸收率比值物性高，瘦肉和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脏中铁的吸收率最高，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427640" y="5526000"/>
            <a:ext cx="1482480" cy="13320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6191280" y="5699160"/>
            <a:ext cx="295272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765000"/>
            <a:ext cx="9144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.2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运动与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Zn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的补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　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基本营养功用：是体内许多种酶的组成部分，在组织呼吸和蛋白质、脂肪、糖、核酸等代谢中有重要作用，对机体生长发育有重要影响。运动员缺锌可使机能降低，运动成绩下降。 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　   含锌较多的食物主要是带硬壳的食物，如牡蛎、核桃等。也可通过锌强化食物和锌制剂补充锌，但须慎重，因过量摄入对人体有害。 　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33480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六、合理营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合理膳食既要满足各类人群对各种营养素的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要求，能防止营养缺乏病的发生，有利于工作效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提高，又要防止某些营养素摄入过量而导致机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必要的负担与代谢上近期或远期紊乱。 　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就要求实践中应遵守平衡膳食的要求：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符合膳食要求的营养素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科学合理的食谱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合理的膳食制度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科学的烹饪方法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良好的饮食习惯和生活规律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  有严格的食品卫生制度和进食环境，提供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食品应无毒无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F84-674B-4C3B-8EBB-113E017BC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0" y="620640"/>
            <a:ext cx="91440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赛前饮食不可干扰与体力能力有关的生理应激。食物应满足热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和体液平衡的需要，体积和重量要小，容易消化吸收，原则上是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糖，低脂，少蛋白，充足的水，丰富的无机盐和维生素。选择食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应当是个人喜爱的，符合生理及心理的需要。赛前一日或当日不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更换新食物，或改变习惯饮食的时间，换新食物有发生胃肠不适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腹泻的可能。运动员应食用适口的并且认为是富于营养的食品，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要强吃不爱吃的食品。饮食时间以安排在赛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小时为宜，以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证运动员 　 在比赛时胃内食物已经基本排空，但也不产生肌饿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力的感觉。赛避免高脂、干豆、富含纤维素的粗杂粮、韭菜等容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产气或延缓排空的食物，少食用或不用过辣、过甜的浓缩糖食，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预防食物对胃肠道的刺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6732720" y="4770360"/>
            <a:ext cx="2166840" cy="208764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3348000" y="5013360"/>
            <a:ext cx="2736720" cy="1844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0" y="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4568"/>
                </a:solidFill>
                <a:latin typeface="Times New Roman"/>
              </a:rPr>
              <a:t>七、体育比赛前有什么营养要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八、赛前补糖有何意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为预防低血糖，不宜空腹参赛。补糖目的主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是提高糖原储备，提高血糖浓度。方法及措施：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糖饮料（如葡萄糖水）或高糖食品（如巧克力）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赛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小时或赛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分钟服用，糖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公斤，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体总量不超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毫升，以摄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度为宜。一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短时（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分钟）或强度不大的运动不需补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运动时间超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分钟，补糖可起到提高耐力的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在大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小时的运动中补糖，可增加糖的供能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例，提高氧的利用率，同时可补充水和电解质，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运动能力的提高有利。有训练的运动员对外源性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的利用率较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456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16000" y="3645000"/>
            <a:ext cx="768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4568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zhongguofe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D81-2103-4E38-8313-F4A0E77724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4568"/>
                </a:solidFill>
                <a:latin typeface="Times New Roman"/>
              </a:rPr>
              <a:t>九、赛前如何服用维生素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由于维生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服用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即能起到提高机体应激能力的作用，因此短时间项目应在赛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时服用，长时间项目在比赛临开始前服用，服用量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毫克。一定注意，不管是糖，还是维生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主要为比赛服用，切忌平时滥用。 　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095640" cy="27864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1258920" y="3906720"/>
            <a:ext cx="24861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203280" y="2060280"/>
            <a:ext cx="230508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谢 谢</a:t>
            </a:r>
            <a:r>
              <a:rPr b="0" lang="en-US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3886200" y="388620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086600" y="3886200"/>
            <a:ext cx="1600200" cy="25909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1981080" y="3809880"/>
            <a:ext cx="198144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、大学生时期的营养特点：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大学生时期主要以脑力学习知识为主，大脑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思维、记忆、理解等活动十分活跃，脑力消耗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大，故大脑对各种营养素的需要量也随之大幅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增加，以使大脑发挥正常的功能作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大学生时期正处于青春发育期的顶峰时期，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二特征受内分泌变化影响分泌各种激素，人体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大脑的生长发育需要大量的全面的营养素进行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充，刺激促进青春发育的完成，适应大学生时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身体发育和用脑的消耗需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三、生命的营养源：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糖－生命活动的动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糖类是由碳、氢、氧三种元素组成的一类化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物，也被称为碳水化合物。糖类在人体内最主要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生理作用是供给机体能量，是人体内来源最广泛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最经济而求分解最完全的供能物质。人体摄入的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大部分首先转化微葡萄糖，再由血液运送到肝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在肝脏内葡萄糖可以转化为脂肪、糖元或运输到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他组织，如肌肉等。在肌纤维中，葡萄糖分子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链组成糖元，糖元是肌纤维收缩的直接能量来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当人体运动时，糖元在肌肉中分解，以很高的速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释放能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蛋白质－强身健体之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蛋白质是由氮、碳、氢、氧等元素所组成的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分子化合物，它提供原材料，促成细胞、肌肉和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织的产生或更新，是人体内部进行各种代谢活动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物质基础。人体内蛋白质约占体重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蛋白质的基本组成是氨基酸，人体所需的氨基酸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种，分为三大类：第一类氨基酸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种，可以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过人体自身的合成功能从其他的来源中合成，故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之为非必需氨基酸；第二类氨基酸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种，不能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人体中合成，必须从食物的营养中摄取，故称之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必需氨基酸；第三类氨基酸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种，人体的合成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力较低，在人的生长发育阶段需要从食物中摄取补充，故称之为半必需氨基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蛋白质主要通过动物性食物（肉、蛋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奶）中获取，成为完全蛋白质，它包含几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所有的基本氨基酸。其次是从植物性食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蔬菜、粮食、水果）中获取，称为不完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蛋白质，它缺少部分的基本氨基酸。因此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将两类食物互相搭配食用，即可获取完全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蛋白质。研究表明，每天补充足量的蛋白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是十分必要的。但每次摄入的蛋白质必需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定量且比例合适的各种氨基酸。过量的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白质代谢会造成肝脏和肾脏功能的过度负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3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脂肪－人体不可缺、也不可多的物质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脂肪对人体有许多极重要的功能。脂肪包括中性脂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和类脂两大类，是人体的重要组成部分。类脂包括磷脂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糖脂、胆固醇等，主要存在于细胞原生质和细胞膜中，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含量不易收到影响，故称为定脂。正常人体内脂类脂肪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量约占体重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％。中性脂肪主要分布在人体的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下、腹腔、肌肉间隙和脏器周围，是人体内热能的一种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存形式，受机体营养状况和活动量的影响而变动，故称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动脂。人体中摄入过多的胆固醇会提高血液里低密度脂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白胆固醇，增加冠心病的风险。胆固醇偏高与心脏病、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些癌症、肥胖及其相关疾病有关。因此，专家建议从脂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摄入的卡路里不超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606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4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水－生命之源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水是人最必不可少的生命之素。水占人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体重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％，人体每天需摄入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水。人体中水分的来源主要有三个途径：一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糖类、脂肪、蛋白质三大营养素代谢过程中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生的水分；二是食物中含有的水分；三是饮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水提供的水分，其中饮料水是人体所需水的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要来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556000" y="4653000"/>
            <a:ext cx="345600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3:12:53Z</dcterms:created>
  <dc:creator/>
  <dc:description/>
  <cp:keywords>幻灯片之家 http:/www.eeppt.com</cp:keywords>
  <dc:language>en-US</dc:language>
  <cp:lastModifiedBy/>
  <dcterms:modified xsi:type="dcterms:W3CDTF">2015-07-10T01:49:5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