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268-6DCD-4A71-A853-720D3CA2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71D-E5E8-4C0F-8425-5D931561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EE1-B29C-4CF8-9C86-12AE79AE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B0C-FE9B-4852-A1EF-332237A4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AF4-E0FA-479B-8AC7-CD37944D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CAC-49BF-4CFE-A388-3A41C2CE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9DB-64F9-4D49-8FC7-16E55B05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213-7198-4DAA-B758-9F738B7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F81-ADBA-46CC-9A39-9B40BCC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CF1-947A-4EFE-8FBE-A185497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F7D-C8A0-4518-9D2A-4E2EF60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B73-2723-4799-BD54-D788BA91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03C1-FA5B-4746-AEF5-3E8C9699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6,1,&#24187;&#28783;&#29255; 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qiy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-458640"/>
            <a:ext cx="7812000" cy="695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7000" y="1197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简历通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98626-1A89-41E6-B746-15EF5F4694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5000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个人简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李历显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人才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普通求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别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年龄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民族：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汉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文化程度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大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身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体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178cm 62kg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户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业学校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州大学继续教育学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庭住址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大沥镇黄歧街道教表东风新一村二巷横一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邮编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52824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好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打篮球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个人手机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0757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13925421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婚姻状况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未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求职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均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工作年限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修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各种办公室软件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三联素材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网页设计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JS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C+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从大专开始已经有做兼职，各方面发展得比较平均，有一定的工作能力跟应变能力，刻苦耐劳善于跟别人沟通，还有相当的销售能力能适应各个职位。更在工作的同时热爱学习跟运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自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在学习阶段，一直有去做一些兼职，如必胜客，各名牌专卖店担任销售员，有一定的销售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能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语语种：英语                国语水平：良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英语水平：一般                    粤语水平：精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D88-1333-490A-AB1D-7D1CCD265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5:37:54Z</dcterms:created>
  <dc:creator/>
  <dc:description/>
  <cp:keywords>幻灯片之家 http:/www.eeppt.com</cp:keywords>
  <dc:language>en-US</dc:language>
  <cp:lastModifiedBy/>
  <dcterms:modified xsi:type="dcterms:W3CDTF">2015-07-06T12:44:3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