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930-EF9F-4980-A824-224DFF53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321-0020-4CA4-A0A6-1B6E40D3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DD5-6068-4B63-992C-38984F26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279-4360-47C9-AADC-9F39E63A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10D-3050-47C0-B909-98FF7EE7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4C1-1B2B-4E9A-B2AD-103BDB57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52E-B43A-42EE-9AAC-453AEE2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4A2-ED96-4522-8A77-B58440EC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618-CD13-4986-A5F8-B72476F4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351-E652-4D12-8EE8-81B1A79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043-CA87-48E4-B533-DBBE4EF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DE2-CCAF-4586-B8DB-FF697F3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550E-339A-4D66-91FC-795AE416A0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57B7-6764-4122-94C6-19D0A9090A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dministrator\Desktop\素材图片1\适合工作业绩汇报的3D小人素材图片\适合工作业绩汇报的3D小人素材图片-www.51pptmoban.com (2).jpg"/>
          <p:cNvPicPr/>
          <p:nvPr/>
        </p:nvPicPr>
        <p:blipFill>
          <a:blip r:embed="rId1"/>
          <a:stretch/>
        </p:blipFill>
        <p:spPr>
          <a:xfrm>
            <a:off x="-190440" y="-133344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4720" y="285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66080" y="909720"/>
            <a:ext cx="28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卡通小人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素材图片1\适合工作业绩汇报的3D小人素材图片\适合工作业绩汇报的3D小人素材图片-www.51pptmoban.com (3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31B-756B-437B-B3C0-B9EBEAA3F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Users\Administrator\Desktop\素材图片1\适合工作业绩汇报的3D小人素材图片\适合工作业绩汇报的3D小人素材图片-www.51pptmoban.com (42).jpg"/>
          <p:cNvPicPr/>
          <p:nvPr/>
        </p:nvPicPr>
        <p:blipFill>
          <a:blip r:embed="rId1"/>
          <a:stretch/>
        </p:blipFill>
        <p:spPr>
          <a:xfrm>
            <a:off x="0" y="-276120"/>
            <a:ext cx="9501120" cy="77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06:44:00Z</dcterms:created>
  <dc:creator/>
  <dc:description/>
  <cp:keywords>幻灯片之家 http:/www.eeppt.com</cp:keywords>
  <dc:language>en-US</dc:language>
  <cp:lastModifiedBy/>
  <dcterms:modified xsi:type="dcterms:W3CDTF">2015-07-10T01:51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