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BC79-D892-40B0-A983-98294D83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65A-C03E-4E46-A2BD-B3A7A4DB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299-BBB0-4BAA-A537-18ED3619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FC6-55DB-42E2-998A-56676BAD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E8F-7837-4BDF-8F91-750E52A1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BB4-277A-4898-8F5F-BA52CB71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D69-ED52-4BC2-B514-3720DC0E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046-D164-4E5B-8572-E4BF97F9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54A-21FB-4DCF-971D-7257591B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693-7914-42FE-A9AD-F486C24C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6F8-B4F3-4BA4-A7CC-1EDF82EB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40A-9B8D-438D-88EC-D8275E68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7CBF-401B-4276-842F-2410BB3269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0673-38E8-43CB-B3F7-D3DB8EEBFE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5"/>
          <p:cNvSpPr/>
          <p:nvPr/>
        </p:nvSpPr>
        <p:spPr>
          <a:xfrm>
            <a:off x="66600" y="41925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大宝库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【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.glzy8.com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】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3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32000" y="22827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64480" y="1346040"/>
            <a:ext cx="20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免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7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4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193680" y="1557360"/>
            <a:ext cx="2747880" cy="3355920"/>
            <a:chOff x="193680" y="1557360"/>
            <a:chExt cx="2747880" cy="3355920"/>
          </a:xfrm>
        </p:grpSpPr>
        <p:sp>
          <p:nvSpPr>
            <p:cNvPr id="72" name="圆角矩形 53"/>
            <p:cNvSpPr/>
            <p:nvPr/>
          </p:nvSpPr>
          <p:spPr>
            <a:xfrm>
              <a:off x="193680" y="1557360"/>
              <a:ext cx="2747880" cy="3355920"/>
            </a:xfrm>
            <a:custGeom>
              <a:avLst/>
              <a:gdLst>
                <a:gd name="textAreaLeft" fmla="*/ 47520 w 2747880"/>
                <a:gd name="textAreaRight" fmla="*/ 2700360 w 2747880"/>
                <a:gd name="textAreaTop" fmla="*/ 47520 h 3355920"/>
                <a:gd name="textAreaBottom" fmla="*/ 3308400 h 3355920"/>
              </a:gdLst>
              <a:ahLst/>
              <a:rect l="textAreaLeft" t="textAreaTop" r="textAreaRight" b="textAreaBottom"/>
              <a:pathLst>
                <a:path w="21600" h="26379">
                  <a:moveTo>
                    <a:pt x="1278" y="0"/>
                  </a:moveTo>
                  <a:arcTo wR="1278" hR="1278" stAng="16200000" swAng="-5400000"/>
                  <a:lnTo>
                    <a:pt x="0" y="25101"/>
                  </a:lnTo>
                  <a:arcTo wR="1278" hR="1278" stAng="10800000" swAng="-5400000"/>
                  <a:lnTo>
                    <a:pt x="20322" y="26379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1"/>
          <p:cNvGrpSpPr/>
          <p:nvPr/>
        </p:nvGrpSpPr>
        <p:grpSpPr>
          <a:xfrm>
            <a:off x="3133800" y="1557360"/>
            <a:ext cx="2747880" cy="3355920"/>
            <a:chOff x="3133800" y="1557360"/>
            <a:chExt cx="2747880" cy="3355920"/>
          </a:xfrm>
        </p:grpSpPr>
        <p:sp>
          <p:nvSpPr>
            <p:cNvPr id="74" name="圆角矩形 65"/>
            <p:cNvSpPr/>
            <p:nvPr/>
          </p:nvSpPr>
          <p:spPr>
            <a:xfrm>
              <a:off x="3133800" y="1557360"/>
              <a:ext cx="2747880" cy="3355920"/>
            </a:xfrm>
            <a:custGeom>
              <a:avLst/>
              <a:gdLst>
                <a:gd name="textAreaLeft" fmla="*/ 47520 w 2747880"/>
                <a:gd name="textAreaRight" fmla="*/ 2700360 w 2747880"/>
                <a:gd name="textAreaTop" fmla="*/ 47520 h 3355920"/>
                <a:gd name="textAreaBottom" fmla="*/ 3308400 h 3355920"/>
              </a:gdLst>
              <a:ahLst/>
              <a:rect l="textAreaLeft" t="textAreaTop" r="textAreaRight" b="textAreaBottom"/>
              <a:pathLst>
                <a:path w="21600" h="26379">
                  <a:moveTo>
                    <a:pt x="1278" y="0"/>
                  </a:moveTo>
                  <a:arcTo wR="1278" hR="1278" stAng="16200000" swAng="-5400000"/>
                  <a:lnTo>
                    <a:pt x="0" y="25101"/>
                  </a:lnTo>
                  <a:arcTo wR="1278" hR="1278" stAng="10800000" swAng="-5400000"/>
                  <a:lnTo>
                    <a:pt x="20322" y="26379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5"/>
          <p:cNvGrpSpPr/>
          <p:nvPr/>
        </p:nvGrpSpPr>
        <p:grpSpPr>
          <a:xfrm>
            <a:off x="6073920" y="1557360"/>
            <a:ext cx="2746080" cy="3355920"/>
            <a:chOff x="6073920" y="1557360"/>
            <a:chExt cx="2746080" cy="3355920"/>
          </a:xfrm>
        </p:grpSpPr>
        <p:sp>
          <p:nvSpPr>
            <p:cNvPr id="76" name="圆角矩形 71"/>
            <p:cNvSpPr/>
            <p:nvPr/>
          </p:nvSpPr>
          <p:spPr>
            <a:xfrm>
              <a:off x="6073920" y="1557360"/>
              <a:ext cx="2746080" cy="3355920"/>
            </a:xfrm>
            <a:custGeom>
              <a:avLst/>
              <a:gdLst>
                <a:gd name="textAreaLeft" fmla="*/ 47520 w 2746080"/>
                <a:gd name="textAreaRight" fmla="*/ 2698560 w 2746080"/>
                <a:gd name="textAreaTop" fmla="*/ 47520 h 3355920"/>
                <a:gd name="textAreaBottom" fmla="*/ 3308400 h 3355920"/>
              </a:gdLst>
              <a:ahLst/>
              <a:rect l="textAreaLeft" t="textAreaTop" r="textAreaRight" b="textAreaBottom"/>
              <a:pathLst>
                <a:path w="21600" h="26396">
                  <a:moveTo>
                    <a:pt x="1278" y="0"/>
                  </a:moveTo>
                  <a:arcTo wR="1278" hR="1278" stAng="16200000" swAng="-5400000"/>
                  <a:lnTo>
                    <a:pt x="0" y="25118"/>
                  </a:lnTo>
                  <a:arcTo wR="1278" hR="1278" stAng="10800000" swAng="-5400000"/>
                  <a:lnTo>
                    <a:pt x="20322" y="26396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E7B-0B6C-44A6-97F7-AD3267365F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/>
  <dc:description/>
  <cp:keywords>幻灯片之家 http:/www.eeppt.com</cp:keywords>
  <dc:language>en-US</dc:language>
  <cp:lastModifiedBy/>
  <dcterms:modified xsi:type="dcterms:W3CDTF">2015-07-12T10:25:44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