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A68A-F5A7-407A-A963-0D9A3AC34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EBA3-EB54-488E-9D7F-D87FD30C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1F87-9005-4A19-A245-CD118D713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9324-20F9-4E0D-ADE8-FC98B5F47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486D-ECFB-4D8B-8EA9-61CBEDCF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4F43-6E3B-474A-8479-EBD95D2D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BDCC-97B3-44FC-9769-7C91413C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DA4B-8B26-4BB0-B242-5996F207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57CF-F495-4D08-B871-F2285E17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6B2F-711B-4D49-A304-6D770618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2423-5FE6-47B6-B5BD-71B0DE67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8C25-B8C7-467F-8F0C-71F65851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784F-4B06-4155-93E5-F87478CCF64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E944-55A1-43EA-A755-0ABD06E5641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-343080" y="-847800"/>
            <a:ext cx="13230360" cy="8848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92760" y="771480"/>
            <a:ext cx="202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素材图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-771480" y="-1047600"/>
            <a:ext cx="14115960" cy="92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-885960" y="-971640"/>
            <a:ext cx="13744800" cy="8664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4360" y="87624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3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FB4F-AAC2-4098-BE3D-0CAAF785CA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-1428840" y="-1962000"/>
            <a:ext cx="13620960" cy="1048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5T10:35:00Z</dcterms:created>
  <dc:creator/>
  <dc:description/>
  <cp:keywords>幻灯片之家 http:/www.eeppt.com</cp:keywords>
  <dc:language>en-US</dc:language>
  <cp:lastModifiedBy/>
  <dcterms:modified xsi:type="dcterms:W3CDTF">2015-07-10T02:11:5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