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569F-0AB4-4246-81E5-CC84A7EA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9B292-0DB9-46BA-873E-4930977E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009C-4A27-4C72-B834-D9E5053E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67E1-A46B-4B89-B4A4-1E20DCDA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B0D8-C1BD-49B7-8219-17CAB493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2C37-C665-42BE-ACC7-FC9436F8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42F7-37A6-41C7-A311-69EA3406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48E5-8A52-4A70-933E-F5529261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F960-9D5D-4FED-8BD3-7470D253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B9E7-E7FB-4FA1-816C-B88F0947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096B-387B-4765-B992-891D32AC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6A78-DBDC-4686-B11B-20C54C26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431F-39FA-4FA1-87DD-66435D82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98B1-1BF9-441C-A5F6-66494AA6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4CC7-9A6E-452D-9E16-996EE375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2E0E-1365-449D-B4CD-0F5CF5EA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A31C-2C7B-492A-9918-9B62443D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211A2-3C4B-439A-A918-852981DB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0C6F-6871-4768-92F0-BAF39A5C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CD19-A3FB-4A1F-ACAD-7EA67175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E2BD-472A-4809-B134-6838970C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A3C3-3D5D-4C82-978C-63E52D5D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DF17-3836-437C-825B-0DE32E94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B92F-93B7-4CED-89ED-C053E4B1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9D38-2F2A-4773-AD0C-DA457D27FBA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7ABE-ED39-435E-B0FD-3B96AB233DD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</a:rPr>
              <a:t>《企业会计制度》讲座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Garamond"/>
                <a:ea typeface="楷体_GB2312"/>
              </a:rPr>
              <a:t>主讲：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  <a:ea typeface="楷体_GB2312"/>
              </a:rPr>
              <a:t>XX</a:t>
            </a:r>
            <a:r>
              <a:rPr b="0" lang="zh-CN" sz="4800" spc="-1" strike="noStrike">
                <a:solidFill>
                  <a:srgbClr val="ffffff"/>
                </a:solidFill>
                <a:latin typeface="Garamond"/>
                <a:ea typeface="楷体_GB2312"/>
              </a:rPr>
              <a:t>教授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《企业会计制度》讲座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部分 ：实施新《企业会计制度》的必要性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及新、旧会计制度的差异比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部分 ：施工企业实施新《企业会计制度》的基本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步骤、方法及有关问题的介绍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部分：实施新《企业会计制度》的必要性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及新、旧会计制度的差异比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一、旧的行业会计制度不能适应市场经济发展的需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（一）缺乏客观真实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（二）缺乏可比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（三）缺乏可操作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二、实施新的《企业会计制度》是完善国家统一会计核算制度和与国际接轨的迫切需要和必然趋势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（一）国家统一会计核算制度是规范会计行为的基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（二）实施统一会计核算……………………………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使用规范说明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F9AF-AD7E-46D3-BB88-F82682B1E40D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13842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部分 ：施工企业实施新《企业会计制度》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基本步骤、方法及有关问题介绍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一、实施新《企业会计制度》的基本步骤和基本程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（一）基本步骤：先试点后推广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（二）基本程序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——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清查财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——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审计验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——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提出申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——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审核批复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（三）企业集团公司…………………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43Z</dcterms:created>
  <dc:creator/>
  <dc:description/>
  <cp:keywords>幻灯片之家 http:/www.eeppt.com</cp:keywords>
  <dc:language>en-US</dc:language>
  <cp:lastModifiedBy/>
  <dcterms:modified xsi:type="dcterms:W3CDTF">2015-07-12T09:20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