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434C-E753-4B8C-99A5-C0CD5D15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D4A7-087A-4194-85B7-775D6D74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9732-0E30-453F-BB48-A29D1417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D098-3EDD-48E0-B0CC-ADEA9DD5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553B-9F86-4992-81E2-A2D5C607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884D-630A-4800-817B-52819E3D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5DA3-3220-4788-8E0E-5C039899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9CDA-4516-4278-861E-10CB2DE5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39A5-4736-43AC-83A9-8F04F87A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366-EEBE-457C-890A-7E6FAFA7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E290-F66A-4F39-8730-675AE625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8621-8450-41B0-B821-EB2149E4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66F2-7DEC-4AC5-9D79-AD400712CD6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7CDA-F79B-432E-8834-46A3831DC1E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hyperlink" Target="http://www.eeppt.com/moban/qiye/" TargetMode="External"/><Relationship Id="rId2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企业历程的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F:\work\公司宣传\未标题-1.png"/>
          <p:cNvPicPr/>
          <p:nvPr/>
        </p:nvPicPr>
        <p:blipFill>
          <a:blip r:embed="rId3">
            <a:lum bright="14000"/>
          </a:blip>
          <a:stretch/>
        </p:blipFill>
        <p:spPr>
          <a:xfrm>
            <a:off x="0" y="803160"/>
            <a:ext cx="9144000" cy="546732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33"/>
          <p:cNvGrpSpPr/>
          <p:nvPr/>
        </p:nvGrpSpPr>
        <p:grpSpPr>
          <a:xfrm>
            <a:off x="177840" y="1479600"/>
            <a:ext cx="8787960" cy="4582800"/>
            <a:chOff x="177840" y="1479600"/>
            <a:chExt cx="8787960" cy="4582800"/>
          </a:xfrm>
        </p:grpSpPr>
        <p:sp>
          <p:nvSpPr>
            <p:cNvPr id="46" name="矩形 25"/>
            <p:cNvSpPr/>
            <p:nvPr/>
          </p:nvSpPr>
          <p:spPr>
            <a:xfrm>
              <a:off x="214200" y="1515960"/>
              <a:ext cx="8715600" cy="4510440"/>
            </a:xfrm>
            <a:prstGeom prst="rect">
              <a:avLst/>
            </a:prstGeom>
            <a:solidFill>
              <a:srgbClr val="00000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半闭框 26"/>
            <p:cNvSpPr/>
            <p:nvPr/>
          </p:nvSpPr>
          <p:spPr>
            <a:xfrm>
              <a:off x="177840" y="1479600"/>
              <a:ext cx="230040" cy="21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半闭框 27"/>
            <p:cNvSpPr/>
            <p:nvPr/>
          </p:nvSpPr>
          <p:spPr>
            <a:xfrm flipV="1">
              <a:off x="177840" y="5842080"/>
              <a:ext cx="230040" cy="21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半闭框 28"/>
            <p:cNvSpPr/>
            <p:nvPr/>
          </p:nvSpPr>
          <p:spPr>
            <a:xfrm flipH="1">
              <a:off x="8735400" y="1479600"/>
              <a:ext cx="230040" cy="21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半闭框 29"/>
            <p:cNvSpPr/>
            <p:nvPr/>
          </p:nvSpPr>
          <p:spPr>
            <a:xfrm flipH="1" flipV="1">
              <a:off x="8735400" y="5842080"/>
              <a:ext cx="230040" cy="21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TextBox 9" descr=""/>
          <p:cNvPicPr/>
          <p:nvPr/>
        </p:nvPicPr>
        <p:blipFill>
          <a:blip r:embed="rId4"/>
          <a:stretch/>
        </p:blipFill>
        <p:spPr>
          <a:xfrm>
            <a:off x="6997680" y="912960"/>
            <a:ext cx="2292480" cy="66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ufo\桌面\Jadason背景2副本.png"/>
          <p:cNvPicPr/>
          <p:nvPr/>
        </p:nvPicPr>
        <p:blipFill>
          <a:blip r:embed="rId5"/>
          <a:stretch/>
        </p:blipFill>
        <p:spPr>
          <a:xfrm>
            <a:off x="133200" y="812880"/>
            <a:ext cx="1924200" cy="596880"/>
          </a:xfrm>
          <a:prstGeom prst="rect">
            <a:avLst/>
          </a:prstGeom>
          <a:ln w="0">
            <a:noFill/>
          </a:ln>
        </p:spPr>
      </p:pic>
      <p:grpSp>
        <p:nvGrpSpPr>
          <p:cNvPr id="53" name="组合 34"/>
          <p:cNvGrpSpPr/>
          <p:nvPr/>
        </p:nvGrpSpPr>
        <p:grpSpPr>
          <a:xfrm>
            <a:off x="2593800" y="5781600"/>
            <a:ext cx="6072480" cy="343080"/>
            <a:chOff x="2593800" y="5781600"/>
            <a:chExt cx="6072480" cy="343080"/>
          </a:xfrm>
        </p:grpSpPr>
        <p:grpSp>
          <p:nvGrpSpPr>
            <p:cNvPr id="54" name="圆角矩形 11"/>
            <p:cNvGrpSpPr/>
            <p:nvPr/>
          </p:nvGrpSpPr>
          <p:grpSpPr>
            <a:xfrm>
              <a:off x="2593800" y="5781600"/>
              <a:ext cx="6072480" cy="343080"/>
              <a:chOff x="2593800" y="5781600"/>
              <a:chExt cx="6072480" cy="343080"/>
            </a:xfrm>
          </p:grpSpPr>
          <p:pic>
            <p:nvPicPr>
              <p:cNvPr id="55" name="圆角矩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2593800" y="5781600"/>
                <a:ext cx="6072480" cy="34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Text Box 48"/>
              <p:cNvSpPr/>
              <p:nvPr/>
            </p:nvSpPr>
            <p:spPr>
              <a:xfrm>
                <a:off x="2597040" y="5785200"/>
                <a:ext cx="606060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矩形 34"/>
            <p:cNvSpPr/>
            <p:nvPr/>
          </p:nvSpPr>
          <p:spPr>
            <a:xfrm>
              <a:off x="2596680" y="5810040"/>
              <a:ext cx="29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特新企业成立，总部设在香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35"/>
          <p:cNvGrpSpPr/>
          <p:nvPr/>
        </p:nvGrpSpPr>
        <p:grpSpPr>
          <a:xfrm>
            <a:off x="2463840" y="5337000"/>
            <a:ext cx="6286320" cy="344520"/>
            <a:chOff x="2463840" y="5337000"/>
            <a:chExt cx="6286320" cy="344520"/>
          </a:xfrm>
        </p:grpSpPr>
        <p:grpSp>
          <p:nvGrpSpPr>
            <p:cNvPr id="59" name="圆角矩形 13"/>
            <p:cNvGrpSpPr/>
            <p:nvPr/>
          </p:nvGrpSpPr>
          <p:grpSpPr>
            <a:xfrm>
              <a:off x="2463840" y="5337000"/>
              <a:ext cx="6286320" cy="344520"/>
              <a:chOff x="2463840" y="5337000"/>
              <a:chExt cx="6286320" cy="344520"/>
            </a:xfrm>
          </p:grpSpPr>
          <p:pic>
            <p:nvPicPr>
              <p:cNvPr id="60" name="圆角矩形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2463840" y="5337000"/>
                <a:ext cx="628632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44"/>
              <p:cNvSpPr/>
              <p:nvPr/>
            </p:nvSpPr>
            <p:spPr>
              <a:xfrm>
                <a:off x="2470680" y="5340960"/>
                <a:ext cx="6275880" cy="33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矩形 55"/>
            <p:cNvSpPr/>
            <p:nvPr/>
          </p:nvSpPr>
          <p:spPr>
            <a:xfrm>
              <a:off x="2470680" y="5364720"/>
              <a:ext cx="276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特新企业图形图像部门成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36"/>
          <p:cNvGrpSpPr/>
          <p:nvPr/>
        </p:nvGrpSpPr>
        <p:grpSpPr>
          <a:xfrm>
            <a:off x="2122560" y="3546360"/>
            <a:ext cx="6735600" cy="1641240"/>
            <a:chOff x="2122560" y="3546360"/>
            <a:chExt cx="6735600" cy="1641240"/>
          </a:xfrm>
        </p:grpSpPr>
        <p:grpSp>
          <p:nvGrpSpPr>
            <p:cNvPr id="64" name="圆角矩形 14"/>
            <p:cNvGrpSpPr/>
            <p:nvPr/>
          </p:nvGrpSpPr>
          <p:grpSpPr>
            <a:xfrm>
              <a:off x="2122560" y="3546360"/>
              <a:ext cx="6735600" cy="1632240"/>
              <a:chOff x="2122560" y="3546360"/>
              <a:chExt cx="6735600" cy="1632240"/>
            </a:xfrm>
          </p:grpSpPr>
          <p:pic>
            <p:nvPicPr>
              <p:cNvPr id="65" name="圆角矩形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2122560" y="3546360"/>
                <a:ext cx="6735600" cy="163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Text Box 40"/>
              <p:cNvSpPr/>
              <p:nvPr/>
            </p:nvSpPr>
            <p:spPr>
              <a:xfrm>
                <a:off x="2129400" y="3552120"/>
                <a:ext cx="6723360" cy="16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矩形 60"/>
            <p:cNvSpPr/>
            <p:nvPr/>
          </p:nvSpPr>
          <p:spPr>
            <a:xfrm>
              <a:off x="2129400" y="3601800"/>
              <a:ext cx="658080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特新企业在新加坡首次筹股上市，股票代码为： 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JADASON 2000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年 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3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月特新科技有限公司在香港成立，专门从事数字图像合成的软件硬件的代理销售及服务支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特新科技有限公司马来西亚分公司成立，负责开拓东南亚地区市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特新科技有限公司获得加拿大 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Alias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公司的授权，成为公司旗下 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Maya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和 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StudioTools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产品的大中国地区总代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特新科技北京代表处成立，主要负责北部地区的技术支持及销售业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特新科技广州代表处成立，主要负责华南地区的技术支持及销售业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37"/>
          <p:cNvGrpSpPr/>
          <p:nvPr/>
        </p:nvGrpSpPr>
        <p:grpSpPr>
          <a:xfrm>
            <a:off x="1665360" y="3102120"/>
            <a:ext cx="7143840" cy="344520"/>
            <a:chOff x="1665360" y="3102120"/>
            <a:chExt cx="7143840" cy="344520"/>
          </a:xfrm>
        </p:grpSpPr>
        <p:grpSp>
          <p:nvGrpSpPr>
            <p:cNvPr id="69" name="圆角矩形 15"/>
            <p:cNvGrpSpPr/>
            <p:nvPr/>
          </p:nvGrpSpPr>
          <p:grpSpPr>
            <a:xfrm>
              <a:off x="1665360" y="3102120"/>
              <a:ext cx="7143840" cy="344520"/>
              <a:chOff x="1665360" y="3102120"/>
              <a:chExt cx="7143840" cy="344520"/>
            </a:xfrm>
          </p:grpSpPr>
          <p:pic>
            <p:nvPicPr>
              <p:cNvPr id="70" name="圆角矩形 15" descr=""/>
              <p:cNvPicPr/>
              <p:nvPr/>
            </p:nvPicPr>
            <p:blipFill>
              <a:blip r:embed="rId9"/>
              <a:stretch/>
            </p:blipFill>
            <p:spPr>
              <a:xfrm>
                <a:off x="1665360" y="3102120"/>
                <a:ext cx="714384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Text Box 36"/>
              <p:cNvSpPr/>
              <p:nvPr/>
            </p:nvSpPr>
            <p:spPr>
              <a:xfrm>
                <a:off x="1672920" y="3108240"/>
                <a:ext cx="7130520" cy="33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矩形 71"/>
            <p:cNvSpPr/>
            <p:nvPr/>
          </p:nvSpPr>
          <p:spPr>
            <a:xfrm>
              <a:off x="1672200" y="3131640"/>
              <a:ext cx="58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特新科技上海代表处成立，主要负责华东地区的技术支持及销售业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38"/>
          <p:cNvGrpSpPr/>
          <p:nvPr/>
        </p:nvGrpSpPr>
        <p:grpSpPr>
          <a:xfrm>
            <a:off x="1535040" y="2658960"/>
            <a:ext cx="7394760" cy="343080"/>
            <a:chOff x="1535040" y="2658960"/>
            <a:chExt cx="7394760" cy="343080"/>
          </a:xfrm>
        </p:grpSpPr>
        <p:grpSp>
          <p:nvGrpSpPr>
            <p:cNvPr id="74" name="圆角矩形 16"/>
            <p:cNvGrpSpPr/>
            <p:nvPr/>
          </p:nvGrpSpPr>
          <p:grpSpPr>
            <a:xfrm>
              <a:off x="1535040" y="2658960"/>
              <a:ext cx="7394760" cy="343080"/>
              <a:chOff x="1535040" y="2658960"/>
              <a:chExt cx="7394760" cy="343080"/>
            </a:xfrm>
          </p:grpSpPr>
          <p:pic>
            <p:nvPicPr>
              <p:cNvPr id="75" name="圆角矩形 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35040" y="2658960"/>
                <a:ext cx="7394760" cy="34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Text Box 32"/>
              <p:cNvSpPr/>
              <p:nvPr/>
            </p:nvSpPr>
            <p:spPr>
              <a:xfrm>
                <a:off x="1539720" y="2666880"/>
                <a:ext cx="738288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矩形 76"/>
            <p:cNvSpPr/>
            <p:nvPr/>
          </p:nvSpPr>
          <p:spPr>
            <a:xfrm>
              <a:off x="1539720" y="2690280"/>
              <a:ext cx="638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特新科技有限公司开拓了广阔的三维动画制作培训市场，并成为经 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Alias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授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39"/>
          <p:cNvGrpSpPr/>
          <p:nvPr/>
        </p:nvGrpSpPr>
        <p:grpSpPr>
          <a:xfrm>
            <a:off x="1374840" y="2033640"/>
            <a:ext cx="7520040" cy="520200"/>
            <a:chOff x="1374840" y="2033640"/>
            <a:chExt cx="7520040" cy="520200"/>
          </a:xfrm>
        </p:grpSpPr>
        <p:grpSp>
          <p:nvGrpSpPr>
            <p:cNvPr id="79" name="圆角矩形 17"/>
            <p:cNvGrpSpPr/>
            <p:nvPr/>
          </p:nvGrpSpPr>
          <p:grpSpPr>
            <a:xfrm>
              <a:off x="1374840" y="2057400"/>
              <a:ext cx="7520040" cy="493560"/>
              <a:chOff x="1374840" y="2057400"/>
              <a:chExt cx="7520040" cy="493560"/>
            </a:xfrm>
          </p:grpSpPr>
          <p:pic>
            <p:nvPicPr>
              <p:cNvPr id="80" name="圆角矩形 1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374840" y="2057400"/>
                <a:ext cx="7520040" cy="49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Text Box 28"/>
              <p:cNvSpPr/>
              <p:nvPr/>
            </p:nvSpPr>
            <p:spPr>
              <a:xfrm>
                <a:off x="1377720" y="2063880"/>
                <a:ext cx="7511760" cy="47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矩形 81"/>
            <p:cNvSpPr/>
            <p:nvPr/>
          </p:nvSpPr>
          <p:spPr>
            <a:xfrm>
              <a:off x="1377720" y="2033640"/>
              <a:ext cx="751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特新科技有限公司成为合并后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Autodesk M&amp;E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部门软件及高端系统总商业及教育总代理，涉及产品包括 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Maya, Motionbuilder, 3DSMax, Flint, Flame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及 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Smoke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Freeform 6"/>
          <p:cNvGrpSpPr/>
          <p:nvPr/>
        </p:nvGrpSpPr>
        <p:grpSpPr>
          <a:xfrm>
            <a:off x="560520" y="1419120"/>
            <a:ext cx="1749240" cy="4600800"/>
            <a:chOff x="560520" y="1419120"/>
            <a:chExt cx="1749240" cy="4600800"/>
          </a:xfrm>
        </p:grpSpPr>
        <p:pic>
          <p:nvPicPr>
            <p:cNvPr id="84" name="Freeform 6" descr=""/>
            <p:cNvPicPr/>
            <p:nvPr/>
          </p:nvPicPr>
          <p:blipFill>
            <a:blip r:embed="rId12"/>
            <a:stretch/>
          </p:blipFill>
          <p:spPr>
            <a:xfrm>
              <a:off x="560520" y="1419120"/>
              <a:ext cx="1749240" cy="46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13"/>
            <p:cNvSpPr/>
            <p:nvPr/>
          </p:nvSpPr>
          <p:spPr>
            <a:xfrm>
              <a:off x="658440" y="1513080"/>
              <a:ext cx="1626840" cy="449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40"/>
          <p:cNvGrpSpPr/>
          <p:nvPr/>
        </p:nvGrpSpPr>
        <p:grpSpPr>
          <a:xfrm>
            <a:off x="1214280" y="1622520"/>
            <a:ext cx="7715520" cy="344520"/>
            <a:chOff x="1214280" y="1622520"/>
            <a:chExt cx="7715520" cy="344520"/>
          </a:xfrm>
        </p:grpSpPr>
        <p:grpSp>
          <p:nvGrpSpPr>
            <p:cNvPr id="87" name="圆角矩形 30"/>
            <p:cNvGrpSpPr/>
            <p:nvPr/>
          </p:nvGrpSpPr>
          <p:grpSpPr>
            <a:xfrm>
              <a:off x="1214280" y="1622520"/>
              <a:ext cx="7715520" cy="344520"/>
              <a:chOff x="1214280" y="1622520"/>
              <a:chExt cx="7715520" cy="344520"/>
            </a:xfrm>
          </p:grpSpPr>
          <p:pic>
            <p:nvPicPr>
              <p:cNvPr id="88" name="圆角矩形 30" descr=""/>
              <p:cNvPicPr/>
              <p:nvPr/>
            </p:nvPicPr>
            <p:blipFill>
              <a:blip r:embed="rId13"/>
              <a:stretch/>
            </p:blipFill>
            <p:spPr>
              <a:xfrm>
                <a:off x="1214280" y="1622520"/>
                <a:ext cx="771552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Text Box 24"/>
              <p:cNvSpPr/>
              <p:nvPr/>
            </p:nvSpPr>
            <p:spPr>
              <a:xfrm>
                <a:off x="1221480" y="1630080"/>
                <a:ext cx="7701120" cy="33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矩形 89"/>
            <p:cNvSpPr/>
            <p:nvPr/>
          </p:nvSpPr>
          <p:spPr>
            <a:xfrm>
              <a:off x="1221480" y="1649160"/>
              <a:ext cx="370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Autodesk Maya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指导教师培训认证中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TextBox 23" descr=""/>
          <p:cNvPicPr/>
          <p:nvPr/>
        </p:nvPicPr>
        <p:blipFill>
          <a:blip r:embed="rId14"/>
          <a:stretch/>
        </p:blipFill>
        <p:spPr>
          <a:xfrm>
            <a:off x="1773360" y="5716440"/>
            <a:ext cx="896760" cy="675000"/>
          </a:xfrm>
          <a:prstGeom prst="rect">
            <a:avLst/>
          </a:prstGeom>
          <a:ln w="0">
            <a:noFill/>
          </a:ln>
        </p:spPr>
      </p:pic>
      <p:pic>
        <p:nvPicPr>
          <p:cNvPr id="92" name="TextBox 24" descr=""/>
          <p:cNvPicPr/>
          <p:nvPr/>
        </p:nvPicPr>
        <p:blipFill>
          <a:blip r:embed="rId15"/>
          <a:stretch/>
        </p:blipFill>
        <p:spPr>
          <a:xfrm>
            <a:off x="1627200" y="5278320"/>
            <a:ext cx="896760" cy="674640"/>
          </a:xfrm>
          <a:prstGeom prst="rect">
            <a:avLst/>
          </a:prstGeom>
          <a:ln w="0">
            <a:noFill/>
          </a:ln>
        </p:spPr>
      </p:pic>
      <p:pic>
        <p:nvPicPr>
          <p:cNvPr id="93" name="TextBox 25" descr=""/>
          <p:cNvPicPr/>
          <p:nvPr/>
        </p:nvPicPr>
        <p:blipFill>
          <a:blip r:embed="rId16"/>
          <a:stretch/>
        </p:blipFill>
        <p:spPr>
          <a:xfrm>
            <a:off x="1200240" y="4156200"/>
            <a:ext cx="952560" cy="67464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26" descr=""/>
          <p:cNvPicPr/>
          <p:nvPr/>
        </p:nvPicPr>
        <p:blipFill>
          <a:blip r:embed="rId17"/>
          <a:stretch/>
        </p:blipFill>
        <p:spPr>
          <a:xfrm>
            <a:off x="841320" y="3033720"/>
            <a:ext cx="890640" cy="67788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27" descr=""/>
          <p:cNvPicPr/>
          <p:nvPr/>
        </p:nvPicPr>
        <p:blipFill>
          <a:blip r:embed="rId18"/>
          <a:stretch/>
        </p:blipFill>
        <p:spPr>
          <a:xfrm>
            <a:off x="665280" y="2576520"/>
            <a:ext cx="944280" cy="67788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28" descr=""/>
          <p:cNvPicPr/>
          <p:nvPr/>
        </p:nvPicPr>
        <p:blipFill>
          <a:blip r:embed="rId19"/>
          <a:stretch/>
        </p:blipFill>
        <p:spPr>
          <a:xfrm>
            <a:off x="341280" y="1558800"/>
            <a:ext cx="951120" cy="67644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29" descr=""/>
          <p:cNvPicPr/>
          <p:nvPr/>
        </p:nvPicPr>
        <p:blipFill>
          <a:blip r:embed="rId20"/>
          <a:stretch/>
        </p:blipFill>
        <p:spPr>
          <a:xfrm>
            <a:off x="487440" y="2071800"/>
            <a:ext cx="950760" cy="674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4360" y="6237360"/>
            <a:ext cx="561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企业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qiy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1054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900"/>
                            </p:stCondLst>
                            <p:childTnLst>
                              <p:par>
                                <p:cTn id="2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300"/>
                            </p:stCondLst>
                            <p:childTnLst>
                              <p:par>
                                <p:cTn id="3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700"/>
                            </p:stCondLst>
                            <p:childTnLst>
                              <p:par>
                                <p:cTn id="3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100"/>
                            </p:stCondLst>
                            <p:childTnLst>
                              <p:par>
                                <p:cTn id="4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900"/>
                            </p:stCondLst>
                            <p:childTnLst>
                              <p:par>
                                <p:cTn id="5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300"/>
                            </p:stCondLst>
                            <p:childTnLst>
                              <p:par>
                                <p:cTn id="57" dur="indefinite" nodeType="after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600"/>
                            </p:stCondLst>
                            <p:childTnLst>
                              <p:par>
                                <p:cTn id="61" dur="indefinite" nodeType="after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dur="indefinite" nodeType="after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400"/>
                            </p:stCondLst>
                            <p:childTnLst>
                              <p:par>
                                <p:cTn id="69" dur="indefinite" nodeType="after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800"/>
                            </p:stCondLst>
                            <p:childTnLst>
                              <p:par>
                                <p:cTn id="73" dur="indefinite" nodeType="after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200"/>
                            </p:stCondLst>
                            <p:childTnLst>
                              <p:par>
                                <p:cTn id="77" dur="indefinite" nodeType="after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2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600"/>
                            </p:stCondLst>
                            <p:childTnLst>
                              <p:par>
                                <p:cTn id="81" dur="indefinite" nodeType="after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06E4-C395-47E7-A04E-BFDB97E14D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/>
  <dc:description/>
  <cp:keywords>幻灯片之家 http:/www.eeppt.com</cp:keywords>
  <dc:language>en-US</dc:language>
  <cp:lastModifiedBy/>
  <dcterms:modified xsi:type="dcterms:W3CDTF">2015-07-06T12:24:49Z</dcterms:modified>
  <cp:revision>7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锐普图表</vt:lpwstr>
  </property>
</Properties>
</file>