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32D-B0D8-4EE4-A2A0-E65B8913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556-07F8-442D-BEB7-01BE4E4A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234-34EA-4C9B-BB2B-F9F5C0CC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B1D-8640-4AAB-8FD5-A2A45574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792-7357-4EAA-B2A4-039BF64C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B20-AE76-469D-99C4-E9247144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E4A-5872-4560-B825-5107A22A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148-4E77-4FA1-BF01-776B4005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A03-2CDC-4C32-AE64-4024D7BD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76F-1509-43B0-8FAB-F4DDF527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7B0-6987-44ED-BAD2-FD7A792E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BB4-1FD9-44EE-8C92-0D85E9F3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B3FB-68EA-44C9-8169-C2AA16E167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/moban/lunwe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Calibri"/>
              </a:rPr>
              <a:t>如何做毕业论文</a:t>
            </a: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9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222-B140-41BC-996E-1C6E4ABE8C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178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20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185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1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188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  <a:ea typeface="微软雅黑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22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191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23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194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580080" y="2852640"/>
            <a:ext cx="2279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0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55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21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59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2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62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3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65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70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0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91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1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94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22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97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3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100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413000"/>
            <a:ext cx="7256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论文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lunw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/>
  <dc:description/>
  <cp:keywords>幻灯片之家 http:/www.eeppt.com</cp:keywords>
  <dc:language>en-US</dc:language>
  <cp:lastModifiedBy/>
  <dcterms:modified xsi:type="dcterms:W3CDTF">2015-07-12T09:06:31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