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花纹四套\未标题-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pthi-hoo.com/" TargetMode="Externa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hyperlink" Target="http://www.eeppt.com/moban/tongyong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pthi-hoo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新模板\花纹四套\未标题-7.png"/>
          <p:cNvPicPr/>
          <p:nvPr/>
        </p:nvPicPr>
        <p:blipFill>
          <a:blip r:embed="rId1"/>
          <a:stretch/>
        </p:blipFill>
        <p:spPr>
          <a:xfrm>
            <a:off x="44280" y="-111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3"/>
          <p:cNvSpPr/>
          <p:nvPr/>
        </p:nvSpPr>
        <p:spPr>
          <a:xfrm>
            <a:off x="259920" y="1166760"/>
            <a:ext cx="345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253080" y="2281320"/>
            <a:ext cx="25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253800" y="841320"/>
            <a:ext cx="36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BatangChe"/>
              </a:rPr>
              <a:t>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30280" y="26748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色彩精品通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714240" y="969840"/>
            <a:ext cx="299592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276" name="矩形 6"/>
          <p:cNvSpPr/>
          <p:nvPr/>
        </p:nvSpPr>
        <p:spPr>
          <a:xfrm>
            <a:off x="3906720" y="3327480"/>
            <a:ext cx="4643640" cy="21225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4049640" y="3398760"/>
            <a:ext cx="435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6"/>
          <p:cNvSpPr/>
          <p:nvPr/>
        </p:nvSpPr>
        <p:spPr>
          <a:xfrm>
            <a:off x="3835440" y="28987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>
            <a:hlinkClick r:id="rId2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E:\新模板\花纹四套\未标题-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0"/>
          <p:cNvSpPr/>
          <p:nvPr/>
        </p:nvSpPr>
        <p:spPr>
          <a:xfrm>
            <a:off x="208080" y="4991040"/>
            <a:ext cx="350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eeppt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823320" y="1285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217080" y="86832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BatangChe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809640" y="1428840"/>
            <a:ext cx="7524720" cy="2490840"/>
            <a:chOff x="809640" y="1428840"/>
            <a:chExt cx="7524720" cy="2490840"/>
          </a:xfrm>
        </p:grpSpPr>
        <p:sp>
          <p:nvSpPr>
            <p:cNvPr id="83" name="AutoShape 3"/>
            <p:cNvSpPr/>
            <p:nvPr/>
          </p:nvSpPr>
          <p:spPr>
            <a:xfrm>
              <a:off x="809640" y="1571400"/>
              <a:ext cx="7524720" cy="2348280"/>
            </a:xfrm>
            <a:prstGeom prst="rect">
              <a:avLst/>
            </a:prstGeom>
            <a:solidFill>
              <a:srgbClr val="595959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3"/>
            <p:cNvSpPr/>
            <p:nvPr/>
          </p:nvSpPr>
          <p:spPr>
            <a:xfrm>
              <a:off x="914040" y="1428840"/>
              <a:ext cx="7315920" cy="237744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3"/>
          <p:cNvSpPr/>
          <p:nvPr/>
        </p:nvSpPr>
        <p:spPr>
          <a:xfrm>
            <a:off x="1081080" y="1787400"/>
            <a:ext cx="69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7380360" y="90360"/>
            <a:ext cx="151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120" y="1123920"/>
            <a:ext cx="719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通用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tongy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3"/>
          <p:cNvSpPr/>
          <p:nvPr/>
        </p:nvSpPr>
        <p:spPr>
          <a:xfrm>
            <a:off x="1290600" y="140652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355760" y="1214280"/>
            <a:ext cx="6432480" cy="4827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3151080" y="13003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1290600" y="2085840"/>
            <a:ext cx="6562800" cy="546120"/>
            <a:chOff x="1290600" y="2085840"/>
            <a:chExt cx="6562800" cy="546120"/>
          </a:xfrm>
        </p:grpSpPr>
        <p:sp>
          <p:nvSpPr>
            <p:cNvPr id="93" name="AutoShape 3"/>
            <p:cNvSpPr/>
            <p:nvPr/>
          </p:nvSpPr>
          <p:spPr>
            <a:xfrm>
              <a:off x="1290600" y="2278080"/>
              <a:ext cx="6562800" cy="3538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"/>
            <p:cNvSpPr/>
            <p:nvPr/>
          </p:nvSpPr>
          <p:spPr>
            <a:xfrm>
              <a:off x="1354680" y="2085840"/>
              <a:ext cx="6434280" cy="482760"/>
            </a:xfrm>
            <a:prstGeom prst="rect">
              <a:avLst/>
            </a:prstGeom>
            <a:solidFill>
              <a:srgbClr val="7f7f7f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13"/>
          <p:cNvSpPr/>
          <p:nvPr/>
        </p:nvSpPr>
        <p:spPr>
          <a:xfrm>
            <a:off x="3151080" y="21718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1290600" y="315108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355760" y="2959200"/>
            <a:ext cx="6432480" cy="48240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151080" y="30448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1290600" y="3830760"/>
            <a:ext cx="6562800" cy="546120"/>
            <a:chOff x="1290600" y="3830760"/>
            <a:chExt cx="6562800" cy="546120"/>
          </a:xfrm>
        </p:grpSpPr>
        <p:sp>
          <p:nvSpPr>
            <p:cNvPr id="100" name="AutoShape 3"/>
            <p:cNvSpPr/>
            <p:nvPr/>
          </p:nvSpPr>
          <p:spPr>
            <a:xfrm>
              <a:off x="1290600" y="4023000"/>
              <a:ext cx="6562800" cy="3538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"/>
            <p:cNvSpPr/>
            <p:nvPr/>
          </p:nvSpPr>
          <p:spPr>
            <a:xfrm>
              <a:off x="1354680" y="3830760"/>
              <a:ext cx="6434280" cy="482760"/>
            </a:xfrm>
            <a:prstGeom prst="rect">
              <a:avLst/>
            </a:prstGeom>
            <a:solidFill>
              <a:srgbClr val="7f7f7f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3"/>
          <p:cNvSpPr/>
          <p:nvPr/>
        </p:nvSpPr>
        <p:spPr>
          <a:xfrm>
            <a:off x="3151080" y="391644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7380360" y="90360"/>
            <a:ext cx="151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>
            <a:off x="1290600" y="276228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1355760" y="2570040"/>
            <a:ext cx="6432480" cy="4809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3151080" y="26542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7380360" y="90360"/>
            <a:ext cx="151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"/>
          <p:cNvSpPr/>
          <p:nvPr/>
        </p:nvSpPr>
        <p:spPr>
          <a:xfrm>
            <a:off x="103356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2"/>
          <p:cNvSpPr/>
          <p:nvPr/>
        </p:nvSpPr>
        <p:spPr>
          <a:xfrm>
            <a:off x="1357200" y="985680"/>
            <a:ext cx="1036800" cy="1036800"/>
          </a:xfrm>
          <a:custGeom>
            <a:avLst/>
            <a:gdLst>
              <a:gd name="textAreaLeft" fmla="*/ 0 w 1036800"/>
              <a:gd name="textAreaRight" fmla="*/ 1036800 w 10368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1036800" h="1036800">
                <a:moveTo>
                  <a:pt x="1036799" y="519147"/>
                </a:moveTo>
                <a:lnTo>
                  <a:pt x="1036799" y="519147"/>
                </a:lnTo>
                <a:cubicBezTo>
                  <a:pt x="1036387" y="805159"/>
                  <a:pt x="804412" y="1036800"/>
                  <a:pt x="518400" y="1036800"/>
                </a:cubicBezTo>
                <a:cubicBezTo>
                  <a:pt x="232095" y="1036800"/>
                  <a:pt x="0" y="804704"/>
                  <a:pt x="0" y="518400"/>
                </a:cubicBezTo>
                <a:cubicBezTo>
                  <a:pt x="0" y="232171"/>
                  <a:pt x="231977" y="107"/>
                  <a:pt x="518206" y="0"/>
                </a:cubicBezTo>
                <a:lnTo>
                  <a:pt x="518304" y="261066"/>
                </a:lnTo>
                <a:cubicBezTo>
                  <a:pt x="376219" y="261119"/>
                  <a:pt x="261066" y="376315"/>
                  <a:pt x="261066" y="518399"/>
                </a:cubicBezTo>
                <a:cubicBezTo>
                  <a:pt x="261066" y="660521"/>
                  <a:pt x="376278" y="775734"/>
                  <a:pt x="518400" y="775734"/>
                </a:cubicBezTo>
                <a:cubicBezTo>
                  <a:pt x="660376" y="775734"/>
                  <a:pt x="775529" y="660747"/>
                  <a:pt x="775733" y="518770"/>
                </a:cubicBezTo>
                <a:lnTo>
                  <a:pt x="1036799" y="519147"/>
                </a:lnTo>
                <a:close/>
              </a:path>
            </a:pathLst>
          </a:custGeom>
          <a:solidFill>
            <a:srgbClr val="7f7f7f">
              <a:alpha val="80000"/>
            </a:srgbClr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3"/>
          <p:cNvSpPr/>
          <p:nvPr/>
        </p:nvSpPr>
        <p:spPr>
          <a:xfrm>
            <a:off x="1357200" y="985680"/>
            <a:ext cx="1036800" cy="1036800"/>
          </a:xfrm>
          <a:custGeom>
            <a:avLst/>
            <a:gdLst>
              <a:gd name="textAreaLeft" fmla="*/ 519120 w 1036800"/>
              <a:gd name="textAreaRight" fmla="*/ 1037160 w 1036800"/>
              <a:gd name="textAreaTop" fmla="*/ 0 h 1036800"/>
              <a:gd name="textAreaBottom" fmla="*/ 518400 h 1036800"/>
            </a:gdLst>
            <a:ahLst/>
            <a:rect l="textAreaLeft" t="textAreaTop" r="textAreaRight" b="textAreaBottom"/>
            <a:pathLst>
              <a:path w="1036800" h="1036800">
                <a:moveTo>
                  <a:pt x="519636" y="1"/>
                </a:moveTo>
                <a:lnTo>
                  <a:pt x="519635" y="1"/>
                </a:lnTo>
                <a:cubicBezTo>
                  <a:pt x="805457" y="682"/>
                  <a:pt x="1036800" y="232578"/>
                  <a:pt x="1036800" y="518400"/>
                </a:cubicBezTo>
                <a:cubicBezTo>
                  <a:pt x="1036800" y="518400"/>
                  <a:pt x="1036799" y="518400"/>
                  <a:pt x="1036799" y="518401"/>
                </a:cubicBezTo>
                <a:lnTo>
                  <a:pt x="777600" y="518400"/>
                </a:lnTo>
                <a:cubicBezTo>
                  <a:pt x="777600" y="375488"/>
                  <a:pt x="661927" y="259540"/>
                  <a:pt x="519017" y="259200"/>
                </a:cubicBezTo>
                <a:lnTo>
                  <a:pt x="519636" y="1"/>
                </a:lnTo>
                <a:close/>
              </a:path>
            </a:pathLst>
          </a:custGeom>
          <a:solidFill>
            <a:srgbClr val="c00000">
              <a:alpha val="80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空心弧 4"/>
          <p:cNvSpPr/>
          <p:nvPr/>
        </p:nvSpPr>
        <p:spPr>
          <a:xfrm>
            <a:off x="3154320" y="985680"/>
            <a:ext cx="1036800" cy="1036800"/>
          </a:xfrm>
          <a:custGeom>
            <a:avLst/>
            <a:gdLst>
              <a:gd name="textAreaLeft" fmla="*/ 0 w 1036800"/>
              <a:gd name="textAreaRight" fmla="*/ 518400 w 10368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1036800" h="1036800">
                <a:moveTo>
                  <a:pt x="517906" y="1036800"/>
                </a:moveTo>
                <a:lnTo>
                  <a:pt x="517906" y="1036799"/>
                </a:lnTo>
                <a:cubicBezTo>
                  <a:pt x="231794" y="1036527"/>
                  <a:pt x="0" y="804511"/>
                  <a:pt x="0" y="518400"/>
                </a:cubicBezTo>
                <a:cubicBezTo>
                  <a:pt x="0" y="232171"/>
                  <a:pt x="231977" y="107"/>
                  <a:pt x="518206" y="0"/>
                </a:cubicBezTo>
                <a:lnTo>
                  <a:pt x="518304" y="261066"/>
                </a:lnTo>
                <a:cubicBezTo>
                  <a:pt x="376219" y="261119"/>
                  <a:pt x="261066" y="376315"/>
                  <a:pt x="261066" y="518399"/>
                </a:cubicBezTo>
                <a:cubicBezTo>
                  <a:pt x="261066" y="660425"/>
                  <a:pt x="376129" y="775598"/>
                  <a:pt x="518155" y="775733"/>
                </a:cubicBezTo>
                <a:lnTo>
                  <a:pt x="517906" y="1036800"/>
                </a:lnTo>
                <a:close/>
              </a:path>
            </a:pathLst>
          </a:custGeom>
          <a:solidFill>
            <a:srgbClr val="7f7f7f">
              <a:alpha val="80000"/>
            </a:srgbClr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空心弧 5"/>
          <p:cNvSpPr/>
          <p:nvPr/>
        </p:nvSpPr>
        <p:spPr>
          <a:xfrm>
            <a:off x="3154320" y="985680"/>
            <a:ext cx="1036800" cy="1036800"/>
          </a:xfrm>
          <a:custGeom>
            <a:avLst/>
            <a:gdLst>
              <a:gd name="textAreaLeft" fmla="*/ 519120 w 1036800"/>
              <a:gd name="textAreaRight" fmla="*/ 1037160 w 1036800"/>
              <a:gd name="textAreaTop" fmla="*/ 0 h 1036800"/>
              <a:gd name="textAreaBottom" fmla="*/ 1036800 h 1036800"/>
            </a:gdLst>
            <a:ahLst/>
            <a:rect l="textAreaLeft" t="textAreaTop" r="textAreaRight" b="textAreaBottom"/>
            <a:pathLst>
              <a:path w="1036800" h="1036800">
                <a:moveTo>
                  <a:pt x="519636" y="1"/>
                </a:moveTo>
                <a:lnTo>
                  <a:pt x="519635" y="1"/>
                </a:lnTo>
                <a:cubicBezTo>
                  <a:pt x="805457" y="682"/>
                  <a:pt x="1036800" y="232578"/>
                  <a:pt x="1036800" y="518400"/>
                </a:cubicBezTo>
                <a:cubicBezTo>
                  <a:pt x="1036800" y="804007"/>
                  <a:pt x="805790" y="1035813"/>
                  <a:pt x="520185" y="1036796"/>
                </a:cubicBezTo>
                <a:lnTo>
                  <a:pt x="519282" y="774436"/>
                </a:lnTo>
                <a:cubicBezTo>
                  <a:pt x="660342" y="773950"/>
                  <a:pt x="774438" y="659461"/>
                  <a:pt x="774438" y="518400"/>
                </a:cubicBezTo>
                <a:cubicBezTo>
                  <a:pt x="774438" y="377232"/>
                  <a:pt x="660177" y="262699"/>
                  <a:pt x="519009" y="262362"/>
                </a:cubicBezTo>
                <a:lnTo>
                  <a:pt x="519636" y="1"/>
                </a:lnTo>
                <a:close/>
              </a:path>
            </a:pathLst>
          </a:custGeom>
          <a:solidFill>
            <a:srgbClr val="c00000">
              <a:alpha val="80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空心弧 6"/>
          <p:cNvSpPr/>
          <p:nvPr/>
        </p:nvSpPr>
        <p:spPr>
          <a:xfrm>
            <a:off x="4952880" y="985680"/>
            <a:ext cx="1036800" cy="1036800"/>
          </a:xfrm>
          <a:custGeom>
            <a:avLst/>
            <a:gdLst>
              <a:gd name="textAreaLeft" fmla="*/ 0 w 1036800"/>
              <a:gd name="textAreaRight" fmla="*/ 518400 w 1036800"/>
              <a:gd name="textAreaTop" fmla="*/ 0 h 1036800"/>
              <a:gd name="textAreaBottom" fmla="*/ 519480 h 1036800"/>
            </a:gdLst>
            <a:ahLst/>
            <a:rect l="textAreaLeft" t="textAreaTop" r="textAreaRight" b="textAreaBottom"/>
            <a:pathLst>
              <a:path w="1036800" h="1036800">
                <a:moveTo>
                  <a:pt x="1" y="519500"/>
                </a:moveTo>
                <a:lnTo>
                  <a:pt x="1" y="519499"/>
                </a:lnTo>
                <a:cubicBezTo>
                  <a:pt x="0" y="519133"/>
                  <a:pt x="0" y="518766"/>
                  <a:pt x="0" y="518400"/>
                </a:cubicBezTo>
                <a:cubicBezTo>
                  <a:pt x="0" y="232171"/>
                  <a:pt x="231977" y="107"/>
                  <a:pt x="518206" y="0"/>
                </a:cubicBezTo>
                <a:lnTo>
                  <a:pt x="518304" y="261066"/>
                </a:lnTo>
                <a:cubicBezTo>
                  <a:pt x="376219" y="261119"/>
                  <a:pt x="261066" y="376315"/>
                  <a:pt x="261066" y="518399"/>
                </a:cubicBezTo>
                <a:cubicBezTo>
                  <a:pt x="261066" y="518582"/>
                  <a:pt x="261066" y="518764"/>
                  <a:pt x="261066" y="518946"/>
                </a:cubicBezTo>
                <a:lnTo>
                  <a:pt x="1" y="519500"/>
                </a:lnTo>
                <a:close/>
              </a:path>
            </a:pathLst>
          </a:custGeom>
          <a:solidFill>
            <a:srgbClr val="7f7f7f">
              <a:alpha val="80000"/>
            </a:srgbClr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空心弧 7"/>
          <p:cNvSpPr/>
          <p:nvPr/>
        </p:nvSpPr>
        <p:spPr>
          <a:xfrm>
            <a:off x="4952880" y="985680"/>
            <a:ext cx="1036800" cy="103680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1036800" h="1036800">
                <a:moveTo>
                  <a:pt x="519636" y="1"/>
                </a:moveTo>
                <a:lnTo>
                  <a:pt x="519635" y="1"/>
                </a:lnTo>
                <a:cubicBezTo>
                  <a:pt x="805457" y="682"/>
                  <a:pt x="1036800" y="232578"/>
                  <a:pt x="1036800" y="518400"/>
                </a:cubicBezTo>
                <a:cubicBezTo>
                  <a:pt x="1036800" y="804704"/>
                  <a:pt x="804704" y="1036800"/>
                  <a:pt x="518400" y="1036800"/>
                </a:cubicBezTo>
                <a:cubicBezTo>
                  <a:pt x="232095" y="1036800"/>
                  <a:pt x="0" y="804704"/>
                  <a:pt x="0" y="518400"/>
                </a:cubicBezTo>
                <a:cubicBezTo>
                  <a:pt x="0" y="518399"/>
                  <a:pt x="0" y="518398"/>
                  <a:pt x="0" y="518398"/>
                </a:cubicBezTo>
                <a:lnTo>
                  <a:pt x="260963" y="518400"/>
                </a:lnTo>
                <a:cubicBezTo>
                  <a:pt x="260963" y="660578"/>
                  <a:pt x="376221" y="775837"/>
                  <a:pt x="518400" y="775837"/>
                </a:cubicBezTo>
                <a:cubicBezTo>
                  <a:pt x="660578" y="775837"/>
                  <a:pt x="775837" y="660578"/>
                  <a:pt x="775837" y="518400"/>
                </a:cubicBezTo>
                <a:cubicBezTo>
                  <a:pt x="775837" y="376460"/>
                  <a:pt x="660951" y="261301"/>
                  <a:pt x="519013" y="260963"/>
                </a:cubicBezTo>
                <a:lnTo>
                  <a:pt x="519636" y="1"/>
                </a:lnTo>
                <a:close/>
              </a:path>
            </a:pathLst>
          </a:custGeom>
          <a:solidFill>
            <a:srgbClr val="c00000">
              <a:alpha val="80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同心圆 8"/>
          <p:cNvSpPr/>
          <p:nvPr/>
        </p:nvSpPr>
        <p:spPr>
          <a:xfrm>
            <a:off x="6750000" y="985680"/>
            <a:ext cx="1036800" cy="1036800"/>
          </a:xfrm>
          <a:custGeom>
            <a:avLst/>
            <a:gdLst>
              <a:gd name="textAreaLeft" fmla="*/ 151560 w 1036800"/>
              <a:gd name="textAreaRight" fmla="*/ 885240 w 1036800"/>
              <a:gd name="textAreaTop" fmla="*/ 151560 h 1036800"/>
              <a:gd name="textAreaBottom" fmla="*/ 885240 h 1036800"/>
            </a:gdLst>
            <a:ahLst/>
            <a:rect l="textAreaLeft" t="textAreaTop" r="textAreaRight" b="textAreaBottom"/>
            <a:pathLst>
              <a:path w="1036800" h="1036800">
                <a:moveTo>
                  <a:pt x="0" y="518400"/>
                </a:moveTo>
                <a:lnTo>
                  <a:pt x="0" y="518400"/>
                </a:lnTo>
                <a:cubicBezTo>
                  <a:pt x="0" y="232095"/>
                  <a:pt x="232095" y="1"/>
                  <a:pt x="518400" y="1"/>
                </a:cubicBezTo>
                <a:cubicBezTo>
                  <a:pt x="518400" y="1"/>
                  <a:pt x="518400" y="1"/>
                  <a:pt x="518400" y="1"/>
                </a:cubicBezTo>
                <a:cubicBezTo>
                  <a:pt x="804705" y="1"/>
                  <a:pt x="1036800" y="232096"/>
                  <a:pt x="1036800" y="518401"/>
                </a:cubicBezTo>
                <a:cubicBezTo>
                  <a:pt x="1036800" y="518401"/>
                  <a:pt x="1036799" y="518401"/>
                  <a:pt x="1036799" y="518402"/>
                </a:cubicBezTo>
                <a:lnTo>
                  <a:pt x="1036800" y="518402"/>
                </a:lnTo>
                <a:cubicBezTo>
                  <a:pt x="1036800" y="804706"/>
                  <a:pt x="804704" y="1036802"/>
                  <a:pt x="518400" y="1036802"/>
                </a:cubicBezTo>
                <a:cubicBezTo>
                  <a:pt x="232095" y="1036802"/>
                  <a:pt x="0" y="804706"/>
                  <a:pt x="0" y="518402"/>
                </a:cubicBezTo>
                <a:cubicBezTo>
                  <a:pt x="0" y="518401"/>
                  <a:pt x="0" y="518401"/>
                  <a:pt x="0" y="518401"/>
                </a:cubicBezTo>
                <a:lnTo>
                  <a:pt x="0" y="518400"/>
                </a:lnTo>
                <a:close/>
                <a:moveTo>
                  <a:pt x="259200" y="518400"/>
                </a:moveTo>
                <a:lnTo>
                  <a:pt x="259200" y="518400"/>
                </a:lnTo>
                <a:cubicBezTo>
                  <a:pt x="259200" y="661552"/>
                  <a:pt x="375247" y="777600"/>
                  <a:pt x="518400" y="777600"/>
                </a:cubicBezTo>
                <a:cubicBezTo>
                  <a:pt x="661552" y="777600"/>
                  <a:pt x="777600" y="661552"/>
                  <a:pt x="777600" y="518400"/>
                </a:cubicBezTo>
                <a:cubicBezTo>
                  <a:pt x="777600" y="375247"/>
                  <a:pt x="661552" y="259200"/>
                  <a:pt x="518400" y="259200"/>
                </a:cubicBezTo>
                <a:lnTo>
                  <a:pt x="518399" y="259200"/>
                </a:lnTo>
                <a:cubicBezTo>
                  <a:pt x="375247" y="259200"/>
                  <a:pt x="259200" y="375247"/>
                  <a:pt x="259200" y="518399"/>
                </a:cubicBezTo>
                <a:lnTo>
                  <a:pt x="259200" y="518400"/>
                </a:lnTo>
                <a:close/>
              </a:path>
            </a:pathLst>
          </a:custGeom>
          <a:solidFill>
            <a:srgbClr val="c00000">
              <a:alpha val="80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58904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38616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518328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981840" y="1336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4"/>
          <p:cNvGrpSpPr/>
          <p:nvPr/>
        </p:nvGrpSpPr>
        <p:grpSpPr>
          <a:xfrm>
            <a:off x="1616040" y="2068560"/>
            <a:ext cx="519120" cy="345960"/>
            <a:chOff x="1616040" y="2068560"/>
            <a:chExt cx="519120" cy="345960"/>
          </a:xfrm>
        </p:grpSpPr>
        <p:sp>
          <p:nvSpPr>
            <p:cNvPr id="123" name="燕尾形 14"/>
            <p:cNvSpPr/>
            <p:nvPr/>
          </p:nvSpPr>
          <p:spPr>
            <a:xfrm rot="5400000">
              <a:off x="1778400" y="1905840"/>
              <a:ext cx="194040" cy="51912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燕尾形 15"/>
            <p:cNvSpPr/>
            <p:nvPr/>
          </p:nvSpPr>
          <p:spPr>
            <a:xfrm rot="5400000">
              <a:off x="1778400" y="2057760"/>
              <a:ext cx="194040" cy="51912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矩形 16"/>
          <p:cNvSpPr/>
          <p:nvPr/>
        </p:nvSpPr>
        <p:spPr>
          <a:xfrm>
            <a:off x="283068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8"/>
          <p:cNvGrpSpPr/>
          <p:nvPr/>
        </p:nvGrpSpPr>
        <p:grpSpPr>
          <a:xfrm>
            <a:off x="3414600" y="2068560"/>
            <a:ext cx="517680" cy="345960"/>
            <a:chOff x="3414600" y="2068560"/>
            <a:chExt cx="517680" cy="345960"/>
          </a:xfrm>
        </p:grpSpPr>
        <p:sp>
          <p:nvSpPr>
            <p:cNvPr id="127" name="燕尾形 18"/>
            <p:cNvSpPr/>
            <p:nvPr/>
          </p:nvSpPr>
          <p:spPr>
            <a:xfrm rot="5400000">
              <a:off x="3576240" y="1906560"/>
              <a:ext cx="194040" cy="5176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燕尾形 19"/>
            <p:cNvSpPr/>
            <p:nvPr/>
          </p:nvSpPr>
          <p:spPr>
            <a:xfrm rot="5400000">
              <a:off x="3576240" y="2058480"/>
              <a:ext cx="194040" cy="5176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矩形 20"/>
          <p:cNvSpPr/>
          <p:nvPr/>
        </p:nvSpPr>
        <p:spPr>
          <a:xfrm>
            <a:off x="462924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2"/>
          <p:cNvGrpSpPr/>
          <p:nvPr/>
        </p:nvGrpSpPr>
        <p:grpSpPr>
          <a:xfrm>
            <a:off x="5211720" y="2068560"/>
            <a:ext cx="517680" cy="345960"/>
            <a:chOff x="5211720" y="2068560"/>
            <a:chExt cx="517680" cy="345960"/>
          </a:xfrm>
        </p:grpSpPr>
        <p:sp>
          <p:nvSpPr>
            <p:cNvPr id="131" name="燕尾形 22"/>
            <p:cNvSpPr/>
            <p:nvPr/>
          </p:nvSpPr>
          <p:spPr>
            <a:xfrm rot="5400000">
              <a:off x="5373360" y="1906560"/>
              <a:ext cx="194040" cy="5176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燕尾形 23"/>
            <p:cNvSpPr/>
            <p:nvPr/>
          </p:nvSpPr>
          <p:spPr>
            <a:xfrm rot="5400000">
              <a:off x="5373360" y="2058480"/>
              <a:ext cx="194040" cy="5176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矩形 24"/>
          <p:cNvSpPr/>
          <p:nvPr/>
        </p:nvSpPr>
        <p:spPr>
          <a:xfrm>
            <a:off x="6426360" y="2508120"/>
            <a:ext cx="1684080" cy="243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6"/>
          <p:cNvGrpSpPr/>
          <p:nvPr/>
        </p:nvGrpSpPr>
        <p:grpSpPr>
          <a:xfrm>
            <a:off x="7008840" y="2068560"/>
            <a:ext cx="519120" cy="345960"/>
            <a:chOff x="7008840" y="2068560"/>
            <a:chExt cx="519120" cy="345960"/>
          </a:xfrm>
        </p:grpSpPr>
        <p:sp>
          <p:nvSpPr>
            <p:cNvPr id="135" name="燕尾形 26"/>
            <p:cNvSpPr/>
            <p:nvPr/>
          </p:nvSpPr>
          <p:spPr>
            <a:xfrm rot="5400000">
              <a:off x="7171200" y="1905840"/>
              <a:ext cx="194040" cy="51912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燕尾形 27"/>
            <p:cNvSpPr/>
            <p:nvPr/>
          </p:nvSpPr>
          <p:spPr>
            <a:xfrm rot="5400000">
              <a:off x="7171200" y="2057760"/>
              <a:ext cx="194040" cy="51912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46"/>
          <p:cNvSpPr/>
          <p:nvPr/>
        </p:nvSpPr>
        <p:spPr>
          <a:xfrm>
            <a:off x="1055520" y="3173400"/>
            <a:ext cx="16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6"/>
          <p:cNvSpPr/>
          <p:nvPr/>
        </p:nvSpPr>
        <p:spPr>
          <a:xfrm>
            <a:off x="2854440" y="317340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6"/>
          <p:cNvSpPr/>
          <p:nvPr/>
        </p:nvSpPr>
        <p:spPr>
          <a:xfrm>
            <a:off x="4651200" y="317340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6"/>
          <p:cNvSpPr/>
          <p:nvPr/>
        </p:nvSpPr>
        <p:spPr>
          <a:xfrm>
            <a:off x="6448320" y="3173400"/>
            <a:ext cx="16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32"/>
          <p:cNvSpPr/>
          <p:nvPr/>
        </p:nvSpPr>
        <p:spPr>
          <a:xfrm>
            <a:off x="1098720" y="3044880"/>
            <a:ext cx="15541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46"/>
          <p:cNvSpPr/>
          <p:nvPr/>
        </p:nvSpPr>
        <p:spPr>
          <a:xfrm>
            <a:off x="1065240" y="263520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34"/>
          <p:cNvSpPr/>
          <p:nvPr/>
        </p:nvSpPr>
        <p:spPr>
          <a:xfrm>
            <a:off x="2895480" y="3044880"/>
            <a:ext cx="15559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6"/>
          <p:cNvSpPr/>
          <p:nvPr/>
        </p:nvSpPr>
        <p:spPr>
          <a:xfrm>
            <a:off x="2863800" y="26352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36"/>
          <p:cNvSpPr/>
          <p:nvPr/>
        </p:nvSpPr>
        <p:spPr>
          <a:xfrm>
            <a:off x="4692600" y="3044880"/>
            <a:ext cx="15559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6"/>
          <p:cNvSpPr/>
          <p:nvPr/>
        </p:nvSpPr>
        <p:spPr>
          <a:xfrm>
            <a:off x="4660920" y="26352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38"/>
          <p:cNvSpPr/>
          <p:nvPr/>
        </p:nvSpPr>
        <p:spPr>
          <a:xfrm>
            <a:off x="6491160" y="3044880"/>
            <a:ext cx="15541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6"/>
          <p:cNvSpPr/>
          <p:nvPr/>
        </p:nvSpPr>
        <p:spPr>
          <a:xfrm>
            <a:off x="6458040" y="263520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1222200" y="1373040"/>
            <a:ext cx="2754360" cy="2754360"/>
            <a:chOff x="1222200" y="1373040"/>
            <a:chExt cx="2754360" cy="2754360"/>
          </a:xfrm>
        </p:grpSpPr>
        <p:sp>
          <p:nvSpPr>
            <p:cNvPr id="155" name="椭圆 2"/>
            <p:cNvSpPr/>
            <p:nvPr/>
          </p:nvSpPr>
          <p:spPr>
            <a:xfrm>
              <a:off x="1222200" y="1373040"/>
              <a:ext cx="2754360" cy="2754360"/>
            </a:xfrm>
            <a:prstGeom prst="ellipse">
              <a:avLst/>
            </a:prstGeom>
            <a:noFill/>
            <a:ln w="76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3"/>
            <p:cNvSpPr/>
            <p:nvPr/>
          </p:nvSpPr>
          <p:spPr>
            <a:xfrm>
              <a:off x="1432800" y="1583640"/>
              <a:ext cx="2333160" cy="233316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76320">
              <a:solidFill>
                <a:srgbClr val="595959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4"/>
          <p:cNvSpPr/>
          <p:nvPr/>
        </p:nvSpPr>
        <p:spPr>
          <a:xfrm>
            <a:off x="3549600" y="3730680"/>
            <a:ext cx="4372200" cy="388800"/>
          </a:xfrm>
          <a:prstGeom prst="rect">
            <a:avLst/>
          </a:prstGeom>
          <a:solidFill>
            <a:srgbClr val="595959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4192560" y="2556000"/>
            <a:ext cx="3729240" cy="388800"/>
          </a:xfrm>
          <a:prstGeom prst="rect">
            <a:avLst/>
          </a:prstGeom>
          <a:solidFill>
            <a:srgbClr val="7f7f7f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3549600" y="1390680"/>
            <a:ext cx="4372200" cy="38880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3584520" y="2381400"/>
            <a:ext cx="739800" cy="739800"/>
            <a:chOff x="3584520" y="2381400"/>
            <a:chExt cx="739800" cy="739800"/>
          </a:xfrm>
        </p:grpSpPr>
        <p:sp>
          <p:nvSpPr>
            <p:cNvPr id="161" name="椭圆 8"/>
            <p:cNvSpPr/>
            <p:nvPr/>
          </p:nvSpPr>
          <p:spPr>
            <a:xfrm>
              <a:off x="3584520" y="2381400"/>
              <a:ext cx="739800" cy="73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9"/>
            <p:cNvSpPr/>
            <p:nvPr/>
          </p:nvSpPr>
          <p:spPr>
            <a:xfrm>
              <a:off x="3630240" y="2427120"/>
              <a:ext cx="648000" cy="648000"/>
            </a:xfrm>
            <a:prstGeom prst="ellipse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2876400" y="1214280"/>
            <a:ext cx="741600" cy="741600"/>
            <a:chOff x="2876400" y="1214280"/>
            <a:chExt cx="741600" cy="741600"/>
          </a:xfrm>
        </p:grpSpPr>
        <p:sp>
          <p:nvSpPr>
            <p:cNvPr id="164" name="椭圆 11"/>
            <p:cNvSpPr/>
            <p:nvPr/>
          </p:nvSpPr>
          <p:spPr>
            <a:xfrm>
              <a:off x="2876400" y="1214280"/>
              <a:ext cx="741600" cy="74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2"/>
            <p:cNvSpPr/>
            <p:nvPr/>
          </p:nvSpPr>
          <p:spPr>
            <a:xfrm>
              <a:off x="2922840" y="1260720"/>
              <a:ext cx="648720" cy="648720"/>
            </a:xfrm>
            <a:prstGeom prst="ellipse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2878200" y="3556080"/>
            <a:ext cx="739800" cy="739800"/>
            <a:chOff x="2878200" y="3556080"/>
            <a:chExt cx="739800" cy="739800"/>
          </a:xfrm>
        </p:grpSpPr>
        <p:sp>
          <p:nvSpPr>
            <p:cNvPr id="167" name="椭圆 14"/>
            <p:cNvSpPr/>
            <p:nvPr/>
          </p:nvSpPr>
          <p:spPr>
            <a:xfrm>
              <a:off x="2878200" y="3556080"/>
              <a:ext cx="739800" cy="73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15"/>
            <p:cNvSpPr/>
            <p:nvPr/>
          </p:nvSpPr>
          <p:spPr>
            <a:xfrm>
              <a:off x="2923920" y="3601800"/>
              <a:ext cx="648000" cy="648000"/>
            </a:xfrm>
            <a:prstGeom prst="ellipse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46"/>
          <p:cNvSpPr/>
          <p:nvPr/>
        </p:nvSpPr>
        <p:spPr>
          <a:xfrm>
            <a:off x="3743280" y="144612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6"/>
          <p:cNvSpPr/>
          <p:nvPr/>
        </p:nvSpPr>
        <p:spPr>
          <a:xfrm>
            <a:off x="3889440" y="18352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6"/>
          <p:cNvSpPr/>
          <p:nvPr/>
        </p:nvSpPr>
        <p:spPr>
          <a:xfrm>
            <a:off x="4448160" y="261288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6"/>
          <p:cNvSpPr/>
          <p:nvPr/>
        </p:nvSpPr>
        <p:spPr>
          <a:xfrm>
            <a:off x="4257720" y="299736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6"/>
          <p:cNvSpPr/>
          <p:nvPr/>
        </p:nvSpPr>
        <p:spPr>
          <a:xfrm>
            <a:off x="3743280" y="378792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6"/>
          <p:cNvSpPr/>
          <p:nvPr/>
        </p:nvSpPr>
        <p:spPr>
          <a:xfrm>
            <a:off x="3743280" y="41767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2873520" y="1384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3581280" y="2550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2873520" y="3726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1913040" y="2397240"/>
            <a:ext cx="13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701640" y="1384200"/>
            <a:ext cx="7740720" cy="35989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376280" y="2787480"/>
            <a:ext cx="6610320" cy="307080"/>
            <a:chOff x="1376280" y="2787480"/>
            <a:chExt cx="6610320" cy="307080"/>
          </a:xfrm>
        </p:grpSpPr>
        <p:sp>
          <p:nvSpPr>
            <p:cNvPr id="183" name="Rectangle 12"/>
            <p:cNvSpPr/>
            <p:nvPr/>
          </p:nvSpPr>
          <p:spPr>
            <a:xfrm>
              <a:off x="303840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386964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470088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553212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2"/>
            <p:cNvSpPr/>
            <p:nvPr/>
          </p:nvSpPr>
          <p:spPr>
            <a:xfrm>
              <a:off x="636336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>
              <a:off x="719460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2"/>
            <p:cNvSpPr/>
            <p:nvPr/>
          </p:nvSpPr>
          <p:spPr>
            <a:xfrm>
              <a:off x="137628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2207160" y="27874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2"/>
          <p:cNvGrpSpPr/>
          <p:nvPr/>
        </p:nvGrpSpPr>
        <p:grpSpPr>
          <a:xfrm>
            <a:off x="835200" y="1612800"/>
            <a:ext cx="539640" cy="3352320"/>
            <a:chOff x="835200" y="1612800"/>
            <a:chExt cx="539640" cy="3352320"/>
          </a:xfrm>
        </p:grpSpPr>
        <p:sp>
          <p:nvSpPr>
            <p:cNvPr id="192" name="Rectangle 12"/>
            <p:cNvSpPr/>
            <p:nvPr/>
          </p:nvSpPr>
          <p:spPr>
            <a:xfrm>
              <a:off x="835200" y="21200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835200" y="23738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835200" y="26276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835200" y="18662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835200" y="16128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835200" y="28814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835200" y="31352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835200" y="33890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835200" y="36428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835200" y="38966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2"/>
            <p:cNvSpPr/>
            <p:nvPr/>
          </p:nvSpPr>
          <p:spPr>
            <a:xfrm>
              <a:off x="835200" y="41504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2"/>
            <p:cNvSpPr/>
            <p:nvPr/>
          </p:nvSpPr>
          <p:spPr>
            <a:xfrm>
              <a:off x="835200" y="44042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835200" y="46580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6"/>
          <p:cNvGrpSpPr/>
          <p:nvPr/>
        </p:nvGrpSpPr>
        <p:grpSpPr>
          <a:xfrm>
            <a:off x="1357200" y="1752480"/>
            <a:ext cx="6661440" cy="3060720"/>
            <a:chOff x="1357200" y="1752480"/>
            <a:chExt cx="6661440" cy="3060720"/>
          </a:xfrm>
        </p:grpSpPr>
        <p:sp>
          <p:nvSpPr>
            <p:cNvPr id="206" name="直接连接符 26"/>
            <p:cNvSpPr/>
            <p:nvPr/>
          </p:nvSpPr>
          <p:spPr>
            <a:xfrm>
              <a:off x="6353280" y="27727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27"/>
            <p:cNvSpPr/>
            <p:nvPr/>
          </p:nvSpPr>
          <p:spPr>
            <a:xfrm flipV="1">
              <a:off x="3022560" y="27727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28"/>
            <p:cNvSpPr/>
            <p:nvPr/>
          </p:nvSpPr>
          <p:spPr>
            <a:xfrm>
              <a:off x="3855240" y="27727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29"/>
            <p:cNvSpPr/>
            <p:nvPr/>
          </p:nvSpPr>
          <p:spPr>
            <a:xfrm>
              <a:off x="4687920" y="27727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30"/>
            <p:cNvSpPr/>
            <p:nvPr/>
          </p:nvSpPr>
          <p:spPr>
            <a:xfrm flipV="1">
              <a:off x="2189880" y="27727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31"/>
            <p:cNvSpPr/>
            <p:nvPr/>
          </p:nvSpPr>
          <p:spPr>
            <a:xfrm>
              <a:off x="1357560" y="2772720"/>
              <a:ext cx="666108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32"/>
            <p:cNvSpPr/>
            <p:nvPr/>
          </p:nvSpPr>
          <p:spPr>
            <a:xfrm flipV="1">
              <a:off x="1357200" y="1752480"/>
              <a:ext cx="0" cy="3060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33"/>
            <p:cNvSpPr/>
            <p:nvPr/>
          </p:nvSpPr>
          <p:spPr>
            <a:xfrm>
              <a:off x="1357200" y="200736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34"/>
            <p:cNvSpPr/>
            <p:nvPr/>
          </p:nvSpPr>
          <p:spPr>
            <a:xfrm>
              <a:off x="1357200" y="328284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35"/>
            <p:cNvSpPr/>
            <p:nvPr/>
          </p:nvSpPr>
          <p:spPr>
            <a:xfrm>
              <a:off x="1357200" y="480708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36"/>
            <p:cNvSpPr/>
            <p:nvPr/>
          </p:nvSpPr>
          <p:spPr>
            <a:xfrm>
              <a:off x="1357200" y="175860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37"/>
            <p:cNvSpPr/>
            <p:nvPr/>
          </p:nvSpPr>
          <p:spPr>
            <a:xfrm>
              <a:off x="1357200" y="302760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38"/>
            <p:cNvSpPr/>
            <p:nvPr/>
          </p:nvSpPr>
          <p:spPr>
            <a:xfrm>
              <a:off x="1357200" y="226260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39"/>
            <p:cNvSpPr/>
            <p:nvPr/>
          </p:nvSpPr>
          <p:spPr>
            <a:xfrm>
              <a:off x="1357200" y="251748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40"/>
            <p:cNvSpPr/>
            <p:nvPr/>
          </p:nvSpPr>
          <p:spPr>
            <a:xfrm>
              <a:off x="1357200" y="379296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41"/>
            <p:cNvSpPr/>
            <p:nvPr/>
          </p:nvSpPr>
          <p:spPr>
            <a:xfrm>
              <a:off x="1357200" y="353808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42"/>
            <p:cNvSpPr/>
            <p:nvPr/>
          </p:nvSpPr>
          <p:spPr>
            <a:xfrm>
              <a:off x="1357200" y="455832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43"/>
            <p:cNvSpPr/>
            <p:nvPr/>
          </p:nvSpPr>
          <p:spPr>
            <a:xfrm>
              <a:off x="1357200" y="404820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44"/>
            <p:cNvSpPr/>
            <p:nvPr/>
          </p:nvSpPr>
          <p:spPr>
            <a:xfrm>
              <a:off x="1357200" y="4303080"/>
              <a:ext cx="10800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45"/>
            <p:cNvSpPr/>
            <p:nvPr/>
          </p:nvSpPr>
          <p:spPr>
            <a:xfrm>
              <a:off x="8012520" y="27727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46"/>
            <p:cNvSpPr/>
            <p:nvPr/>
          </p:nvSpPr>
          <p:spPr>
            <a:xfrm>
              <a:off x="5520600" y="27727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47"/>
            <p:cNvSpPr/>
            <p:nvPr/>
          </p:nvSpPr>
          <p:spPr>
            <a:xfrm>
              <a:off x="7185960" y="27727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任意多边形 48"/>
          <p:cNvSpPr/>
          <p:nvPr/>
        </p:nvSpPr>
        <p:spPr>
          <a:xfrm>
            <a:off x="1779480" y="1779480"/>
            <a:ext cx="2716200" cy="992160"/>
          </a:xfrm>
          <a:custGeom>
            <a:avLst/>
            <a:gdLst>
              <a:gd name="textAreaLeft" fmla="*/ 0 w 2716200"/>
              <a:gd name="textAreaRight" fmla="*/ 2716560 w 271620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717006" h="992982">
                <a:moveTo>
                  <a:pt x="0" y="0"/>
                </a:moveTo>
                <a:lnTo>
                  <a:pt x="833437" y="190501"/>
                </a:lnTo>
                <a:lnTo>
                  <a:pt x="1664493" y="576263"/>
                </a:lnTo>
                <a:lnTo>
                  <a:pt x="2505075" y="678657"/>
                </a:lnTo>
                <a:lnTo>
                  <a:pt x="2717006" y="992982"/>
                </a:ln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49"/>
          <p:cNvSpPr/>
          <p:nvPr/>
        </p:nvSpPr>
        <p:spPr>
          <a:xfrm>
            <a:off x="4495680" y="2771640"/>
            <a:ext cx="3114720" cy="1643040"/>
          </a:xfrm>
          <a:custGeom>
            <a:avLst/>
            <a:gdLst>
              <a:gd name="textAreaLeft" fmla="*/ 0 w 3114720"/>
              <a:gd name="textAreaRight" fmla="*/ 3115080 w 311472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3114675" h="1643063">
                <a:moveTo>
                  <a:pt x="0" y="0"/>
                </a:moveTo>
                <a:lnTo>
                  <a:pt x="611981" y="1052512"/>
                </a:lnTo>
                <a:lnTo>
                  <a:pt x="1445419" y="538163"/>
                </a:lnTo>
                <a:lnTo>
                  <a:pt x="2274094" y="781050"/>
                </a:lnTo>
                <a:lnTo>
                  <a:pt x="3114675" y="1643063"/>
                </a:lnTo>
              </a:path>
            </a:pathLst>
          </a:custGeom>
          <a:noFill/>
          <a:ln w="381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0"/>
          <p:cNvSpPr/>
          <p:nvPr/>
        </p:nvSpPr>
        <p:spPr>
          <a:xfrm>
            <a:off x="1701720" y="1703520"/>
            <a:ext cx="144720" cy="1443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51"/>
          <p:cNvSpPr/>
          <p:nvPr/>
        </p:nvSpPr>
        <p:spPr>
          <a:xfrm>
            <a:off x="5864400" y="3235320"/>
            <a:ext cx="144360" cy="144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52"/>
          <p:cNvSpPr/>
          <p:nvPr/>
        </p:nvSpPr>
        <p:spPr>
          <a:xfrm>
            <a:off x="2533680" y="1895400"/>
            <a:ext cx="144360" cy="1443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3"/>
          <p:cNvSpPr/>
          <p:nvPr/>
        </p:nvSpPr>
        <p:spPr>
          <a:xfrm>
            <a:off x="3367080" y="2276640"/>
            <a:ext cx="144360" cy="1443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54"/>
          <p:cNvSpPr/>
          <p:nvPr/>
        </p:nvSpPr>
        <p:spPr>
          <a:xfrm>
            <a:off x="4199040" y="2382840"/>
            <a:ext cx="144360" cy="1443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55"/>
          <p:cNvSpPr/>
          <p:nvPr/>
        </p:nvSpPr>
        <p:spPr>
          <a:xfrm>
            <a:off x="5032440" y="3745080"/>
            <a:ext cx="142920" cy="144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6"/>
          <p:cNvSpPr/>
          <p:nvPr/>
        </p:nvSpPr>
        <p:spPr>
          <a:xfrm>
            <a:off x="6697800" y="3471840"/>
            <a:ext cx="142560" cy="1429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57"/>
          <p:cNvSpPr/>
          <p:nvPr/>
        </p:nvSpPr>
        <p:spPr>
          <a:xfrm>
            <a:off x="7529400" y="4340160"/>
            <a:ext cx="144720" cy="144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6"/>
          <p:cNvSpPr/>
          <p:nvPr/>
        </p:nvSpPr>
        <p:spPr>
          <a:xfrm>
            <a:off x="701640" y="95256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46"/>
          <p:cNvSpPr/>
          <p:nvPr/>
        </p:nvSpPr>
        <p:spPr>
          <a:xfrm>
            <a:off x="701640" y="507060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6"/>
          <p:cNvSpPr/>
          <p:nvPr/>
        </p:nvSpPr>
        <p:spPr>
          <a:xfrm>
            <a:off x="4803840" y="387684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6"/>
          <p:cNvSpPr/>
          <p:nvPr/>
        </p:nvSpPr>
        <p:spPr>
          <a:xfrm>
            <a:off x="5629320" y="3355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6"/>
          <p:cNvSpPr/>
          <p:nvPr/>
        </p:nvSpPr>
        <p:spPr>
          <a:xfrm>
            <a:off x="6810480" y="340668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46"/>
          <p:cNvSpPr/>
          <p:nvPr/>
        </p:nvSpPr>
        <p:spPr>
          <a:xfrm>
            <a:off x="7292880" y="444816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46"/>
          <p:cNvSpPr/>
          <p:nvPr/>
        </p:nvSpPr>
        <p:spPr>
          <a:xfrm>
            <a:off x="3965400" y="211140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6"/>
          <p:cNvSpPr/>
          <p:nvPr/>
        </p:nvSpPr>
        <p:spPr>
          <a:xfrm>
            <a:off x="3139920" y="20113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6"/>
          <p:cNvSpPr/>
          <p:nvPr/>
        </p:nvSpPr>
        <p:spPr>
          <a:xfrm>
            <a:off x="2301840" y="161604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6"/>
          <p:cNvSpPr/>
          <p:nvPr/>
        </p:nvSpPr>
        <p:spPr>
          <a:xfrm>
            <a:off x="1463760" y="143820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任意多边形 1"/>
          <p:cNvSpPr/>
          <p:nvPr/>
        </p:nvSpPr>
        <p:spPr>
          <a:xfrm>
            <a:off x="2730600" y="2082960"/>
            <a:ext cx="1189080" cy="25236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252360"/>
              <a:gd name="textAreaBottom" fmla="*/ 252360 h 252360"/>
            </a:gdLst>
            <a:ahLst/>
            <a:rect l="textAreaLeft" t="textAreaTop" r="textAreaRight" b="textAreaBottom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"/>
          <p:cNvSpPr/>
          <p:nvPr/>
        </p:nvSpPr>
        <p:spPr>
          <a:xfrm flipV="1">
            <a:off x="2730600" y="4037760"/>
            <a:ext cx="1189080" cy="250920"/>
          </a:xfrm>
          <a:custGeom>
            <a:avLst/>
            <a:gdLst>
              <a:gd name="textAreaLeft" fmla="*/ 0 w 1189080"/>
              <a:gd name="textAreaRight" fmla="*/ 1189440 w 1189080"/>
              <a:gd name="textAreaTop" fmla="*/ -360 h 250920"/>
              <a:gd name="textAreaBottom" fmla="*/ 250920 h 250920"/>
            </a:gdLst>
            <a:ahLst/>
            <a:rect l="textAreaLeft" t="textAreaTop" r="textAreaRight" b="textAreaBottom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3"/>
          <p:cNvSpPr/>
          <p:nvPr/>
        </p:nvSpPr>
        <p:spPr>
          <a:xfrm flipH="1">
            <a:off x="5161680" y="1967040"/>
            <a:ext cx="1187640" cy="250560"/>
          </a:xfrm>
          <a:custGeom>
            <a:avLst/>
            <a:gdLst>
              <a:gd name="textAreaLeft" fmla="*/ -360 w 1187640"/>
              <a:gd name="textAreaRight" fmla="*/ 1187640 w 11876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 flipH="1" flipV="1">
            <a:off x="5161680" y="4081320"/>
            <a:ext cx="1187640" cy="252720"/>
          </a:xfrm>
          <a:custGeom>
            <a:avLst/>
            <a:gdLst>
              <a:gd name="textAreaLeft" fmla="*/ -360 w 1187640"/>
              <a:gd name="textAreaRight" fmla="*/ 1187640 w 1187640"/>
              <a:gd name="textAreaTop" fmla="*/ 360 h 252720"/>
              <a:gd name="textAreaBottom" fmla="*/ 253440 h 252720"/>
            </a:gdLst>
            <a:ahLst/>
            <a:rect l="textAreaLeft" t="textAreaTop" r="textAreaRight" b="textAreaBottom"/>
            <a:pathLst>
              <a:path w="1248228" h="290286">
                <a:moveTo>
                  <a:pt x="1248228" y="0"/>
                </a:moveTo>
                <a:lnTo>
                  <a:pt x="464457" y="0"/>
                </a:lnTo>
                <a:lnTo>
                  <a:pt x="0" y="290286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5"/>
          <p:cNvSpPr/>
          <p:nvPr/>
        </p:nvSpPr>
        <p:spPr>
          <a:xfrm>
            <a:off x="5704920" y="2770560"/>
            <a:ext cx="645480" cy="561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6"/>
          <p:cNvSpPr/>
          <p:nvPr/>
        </p:nvSpPr>
        <p:spPr>
          <a:xfrm flipV="1">
            <a:off x="5704920" y="3559680"/>
            <a:ext cx="645480" cy="561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7"/>
          <p:cNvSpPr/>
          <p:nvPr/>
        </p:nvSpPr>
        <p:spPr>
          <a:xfrm>
            <a:off x="2730600" y="3338640"/>
            <a:ext cx="647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46"/>
          <p:cNvSpPr/>
          <p:nvPr/>
        </p:nvSpPr>
        <p:spPr>
          <a:xfrm>
            <a:off x="6334200" y="204948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% </a:t>
            </a:r>
            <a:r>
              <a:rPr b="0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6"/>
          <p:cNvSpPr/>
          <p:nvPr/>
        </p:nvSpPr>
        <p:spPr>
          <a:xfrm>
            <a:off x="6334200" y="267336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6% 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6"/>
          <p:cNvSpPr/>
          <p:nvPr/>
        </p:nvSpPr>
        <p:spPr>
          <a:xfrm>
            <a:off x="6334200" y="340524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1% 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46"/>
          <p:cNvSpPr/>
          <p:nvPr/>
        </p:nvSpPr>
        <p:spPr>
          <a:xfrm>
            <a:off x="6334200" y="3938760"/>
            <a:ext cx="23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2% 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6"/>
          <p:cNvSpPr/>
          <p:nvPr/>
        </p:nvSpPr>
        <p:spPr>
          <a:xfrm>
            <a:off x="357120" y="3879720"/>
            <a:ext cx="23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6"/>
          <p:cNvSpPr/>
          <p:nvPr/>
        </p:nvSpPr>
        <p:spPr>
          <a:xfrm>
            <a:off x="357120" y="3184560"/>
            <a:ext cx="23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46"/>
          <p:cNvSpPr/>
          <p:nvPr/>
        </p:nvSpPr>
        <p:spPr>
          <a:xfrm>
            <a:off x="357120" y="2166840"/>
            <a:ext cx="23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饼形 15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700000" h="2700000">
                <a:moveTo>
                  <a:pt x="2528679" y="691809"/>
                </a:moveTo>
                <a:lnTo>
                  <a:pt x="2528679" y="691808"/>
                </a:lnTo>
                <a:cubicBezTo>
                  <a:pt x="2640580" y="892200"/>
                  <a:pt x="2699543" y="1117814"/>
                  <a:pt x="2699997" y="1347332"/>
                </a:cubicBezTo>
                <a:lnTo>
                  <a:pt x="1350000" y="1350000"/>
                </a:lnTo>
                <a:lnTo>
                  <a:pt x="2528679" y="691809"/>
                </a:lnTo>
                <a:close/>
              </a:path>
            </a:pathLst>
          </a:custGeom>
          <a:solidFill>
            <a:srgbClr val="f2f2f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饼形 16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700000" h="2700000">
                <a:moveTo>
                  <a:pt x="2699998" y="1347597"/>
                </a:moveTo>
                <a:lnTo>
                  <a:pt x="2699997" y="1347597"/>
                </a:lnTo>
                <a:cubicBezTo>
                  <a:pt x="2699999" y="1348397"/>
                  <a:pt x="2700000" y="1349198"/>
                  <a:pt x="2700000" y="1350000"/>
                </a:cubicBezTo>
                <a:cubicBezTo>
                  <a:pt x="2700000" y="1669280"/>
                  <a:pt x="2586838" y="1978227"/>
                  <a:pt x="2380613" y="2221971"/>
                </a:cubicBezTo>
                <a:lnTo>
                  <a:pt x="1350000" y="1350000"/>
                </a:lnTo>
                <a:lnTo>
                  <a:pt x="2699998" y="1347597"/>
                </a:lnTo>
                <a:close/>
              </a:path>
            </a:pathLst>
          </a:custGeom>
          <a:solidFill>
            <a:srgbClr val="d9d9d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饼形 17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700000" h="2700000">
                <a:moveTo>
                  <a:pt x="2380666" y="2221910"/>
                </a:moveTo>
                <a:lnTo>
                  <a:pt x="2380666" y="2221910"/>
                </a:lnTo>
                <a:cubicBezTo>
                  <a:pt x="2124160" y="2525120"/>
                  <a:pt x="1747154" y="2700000"/>
                  <a:pt x="1350000" y="2700000"/>
                </a:cubicBezTo>
                <a:cubicBezTo>
                  <a:pt x="1346881" y="2700000"/>
                  <a:pt x="1343763" y="2699989"/>
                  <a:pt x="1340645" y="2699967"/>
                </a:cubicBezTo>
                <a:lnTo>
                  <a:pt x="1350000" y="1350000"/>
                </a:lnTo>
                <a:lnTo>
                  <a:pt x="2380666" y="2221910"/>
                </a:lnTo>
                <a:close/>
              </a:path>
            </a:pathLst>
          </a:cu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饼形 18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700000" h="2700000">
                <a:moveTo>
                  <a:pt x="1343784" y="2699986"/>
                </a:moveTo>
                <a:lnTo>
                  <a:pt x="1343784" y="2699985"/>
                </a:lnTo>
                <a:cubicBezTo>
                  <a:pt x="918323" y="2698026"/>
                  <a:pt x="518681" y="2495613"/>
                  <a:pt x="265362" y="2153780"/>
                </a:cubicBezTo>
                <a:lnTo>
                  <a:pt x="1350000" y="1350000"/>
                </a:lnTo>
                <a:lnTo>
                  <a:pt x="1343784" y="2699986"/>
                </a:lnTo>
                <a:close/>
              </a:path>
            </a:pathLst>
          </a:custGeom>
          <a:solidFill>
            <a:srgbClr val="a6a6a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饼形 19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700000" h="2700000">
                <a:moveTo>
                  <a:pt x="269079" y="2158771"/>
                </a:moveTo>
                <a:lnTo>
                  <a:pt x="269079" y="2158770"/>
                </a:lnTo>
                <a:cubicBezTo>
                  <a:pt x="94400" y="1925312"/>
                  <a:pt x="0" y="1641574"/>
                  <a:pt x="0" y="1350000"/>
                </a:cubicBezTo>
                <a:cubicBezTo>
                  <a:pt x="0" y="1216894"/>
                  <a:pt x="19685" y="1084520"/>
                  <a:pt x="58416" y="957175"/>
                </a:cubicBezTo>
                <a:lnTo>
                  <a:pt x="1350000" y="1350000"/>
                </a:lnTo>
                <a:lnTo>
                  <a:pt x="269079" y="2158771"/>
                </a:lnTo>
                <a:close/>
              </a:path>
            </a:pathLst>
          </a:cu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饼形 20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700000" h="2700000">
                <a:moveTo>
                  <a:pt x="60031" y="951903"/>
                </a:moveTo>
                <a:lnTo>
                  <a:pt x="60031" y="951903"/>
                </a:lnTo>
                <a:cubicBezTo>
                  <a:pt x="234674" y="385999"/>
                  <a:pt x="757761" y="0"/>
                  <a:pt x="1350000" y="0"/>
                </a:cubicBezTo>
                <a:cubicBezTo>
                  <a:pt x="1350000" y="0"/>
                  <a:pt x="1350000" y="0"/>
                  <a:pt x="1350000" y="0"/>
                </a:cubicBezTo>
                <a:lnTo>
                  <a:pt x="1350000" y="1350000"/>
                </a:lnTo>
                <a:lnTo>
                  <a:pt x="60031" y="951903"/>
                </a:lnTo>
                <a:close/>
              </a:path>
            </a:pathLst>
          </a:cu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饼形 21"/>
          <p:cNvSpPr/>
          <p:nvPr/>
        </p:nvSpPr>
        <p:spPr>
          <a:xfrm>
            <a:off x="3222720" y="178740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700000" h="2700000">
                <a:moveTo>
                  <a:pt x="1348761" y="1"/>
                </a:moveTo>
                <a:lnTo>
                  <a:pt x="1348760" y="0"/>
                </a:lnTo>
                <a:cubicBezTo>
                  <a:pt x="1349173" y="0"/>
                  <a:pt x="1349586" y="0"/>
                  <a:pt x="1350000" y="0"/>
                </a:cubicBezTo>
                <a:cubicBezTo>
                  <a:pt x="1840631" y="0"/>
                  <a:pt x="2292639" y="266187"/>
                  <a:pt x="2530595" y="695251"/>
                </a:cubicBezTo>
                <a:lnTo>
                  <a:pt x="1350000" y="1350000"/>
                </a:lnTo>
                <a:lnTo>
                  <a:pt x="1348761" y="1"/>
                </a:lnTo>
                <a:close/>
              </a:path>
            </a:pathLst>
          </a:cu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22"/>
          <p:cNvSpPr/>
          <p:nvPr/>
        </p:nvSpPr>
        <p:spPr>
          <a:xfrm>
            <a:off x="3078000" y="164304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3780000" y="9036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>
            <a:hlinkClick r:id="rId1"/>
          </p:cNvPr>
          <p:cNvSpPr/>
          <p:nvPr/>
        </p:nvSpPr>
        <p:spPr>
          <a:xfrm>
            <a:off x="6964200" y="5452920"/>
            <a:ext cx="192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>幻灯片之家 http:/www.eeppt.com</cp:keywords>
  <dc:language>en-US</dc:language>
  <cp:lastModifiedBy/>
  <dcterms:modified xsi:type="dcterms:W3CDTF">2015-07-12T09:25:46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