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17.jpeg" ContentType="image/jpeg"/>
  <Override PartName="/ppt/media/image3.png" ContentType="image/pn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FF8-013A-4EED-8EB5-16DF2C30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04F-88AB-4F5D-98BC-D566B414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EB0-9449-4902-BF6C-437C7CD5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808-55F9-4FD2-A2B8-07632BE5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B756-1CCB-4D6D-AA0D-33379645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58EB-DC9C-44ED-A43A-DF977A28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6853-0AD5-4F71-8055-CDFEDCB1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C5F3-4711-42E7-A28A-33F9AF7C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ADE1-4AA4-432C-9C7E-72CB1F3A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BB95-F5F9-4207-85E4-044B2297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ACBB-3A12-410A-9AC9-DA6E3BD7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20B-EAA0-47FE-AD25-244767B9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4287-0C5B-490D-8030-3E130783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C835-E0AF-4F13-A1A8-924240E1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4333-6959-4106-9139-554893D9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3F07-0332-4BDC-82B8-74C778AC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2F06-C8A7-4B1C-80B3-A448DB31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A1C3-0D11-422D-A3A7-0FFD8E13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8039-A912-4A80-94FB-C9445726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DA19-346D-41D7-9EE6-F182CB7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DB09-30EA-4D29-8780-222D0B62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C7ED-6CCE-4AEF-93CA-EEEB5398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048-E157-4F0B-921C-180E3F35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1DE7C-FD33-4862-B96C-C8B0256B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9354-3980-4350-868F-6A48680B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C99A-7FB0-42D8-80A0-BF7F7B13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B7C7B-D66C-4773-9147-DB31CA0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5DC8-B054-40AF-B297-FD86EFDD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0D46-1169-43DD-8920-F66DC55B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DED41-2D92-4C0C-9CC7-0CBBD792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C37-AC2E-48F1-9DD2-A25EE38F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620-E2AE-4898-BA09-58EB4098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5BE-0FB6-476A-86EF-4A42EE96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00D-F0B4-4A0D-9479-DC3A178A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57A-D23B-4786-96A2-2E2CB76C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936-2DB8-422C-A676-465A68A6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609E-4EDB-40B0-9A9A-EDDA1BAD9DD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0560-5FAA-4B79-BD0F-6D3AEE0338C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9433-EF55-472E-9FBC-C29D96EFC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20720" y="4365720"/>
            <a:ext cx="997272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社会主义三大改造的基本任务：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（</a:t>
            </a:r>
            <a:r>
              <a:rPr b="1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生产资料私有制     公有制）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10569600">
            <a:off x="5005080" y="5300280"/>
            <a:ext cx="1101600" cy="83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932360" y="6216480"/>
            <a:ext cx="39718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东北师大附中 刘屿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4" name=""/>
          <p:cNvSpPr/>
          <p:nvPr/>
        </p:nvSpPr>
        <p:spPr>
          <a:xfrm>
            <a:off x="1522440" y="1125360"/>
            <a:ext cx="32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三大改造动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模板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538-7501-4C17-9A23-209328DEFE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619360" cy="1924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7885080" y="5516640"/>
            <a:ext cx="83664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635280" y="811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三大改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2060640"/>
            <a:ext cx="568944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19280" y="2060640"/>
            <a:ext cx="0" cy="647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1557360"/>
            <a:ext cx="0" cy="1150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08720" y="2060640"/>
            <a:ext cx="0" cy="647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5084640"/>
            <a:ext cx="568944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4437000"/>
            <a:ext cx="0" cy="647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4437000"/>
            <a:ext cx="0" cy="936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08720" y="4437000"/>
            <a:ext cx="0" cy="647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7280" y="2708280"/>
            <a:ext cx="93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7000"/>
                    </a:srgbClr>
                  </a:outerShdw>
                </a:effectLst>
                <a:latin typeface="华文中宋"/>
              </a:rPr>
              <a:t>农业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7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24360" y="270828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7000"/>
                    </a:srgbClr>
                  </a:outerShdw>
                </a:effectLst>
                <a:latin typeface="华文中宋"/>
              </a:rPr>
              <a:t>手工业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7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227640" y="2708280"/>
            <a:ext cx="22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7000"/>
                    </a:srgbClr>
                  </a:outerShdw>
                </a:effectLst>
                <a:latin typeface="华文中宋"/>
              </a:rPr>
              <a:t>资本主义工商业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7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560760"/>
            <a:ext cx="2252520" cy="5814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农业合作社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4920" y="3573360"/>
            <a:ext cx="2737080" cy="5814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手工业合作社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3573360"/>
            <a:ext cx="2016360" cy="5814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公私合营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16360" y="5805360"/>
            <a:ext cx="37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社会主义制度确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308720" y="5734080"/>
            <a:ext cx="9334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意义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52560" y="1339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0360" y="83664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土地改革后我国农村经济情况如何</a:t>
            </a:r>
            <a:r>
              <a:rPr b="1" lang="en-US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101080" y="5229360"/>
            <a:ext cx="836640" cy="1049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76360" y="1413000"/>
            <a:ext cx="5975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土地改革后，农民分到了土地，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农业生产有了恢复和发展；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242100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但分散经营使农民个体经济很难发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展，也不能满足国家工业化的需要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48360" y="1268280"/>
            <a:ext cx="933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基础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451640" y="2205000"/>
            <a:ext cx="933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必要性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90792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原因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411280" y="189000"/>
            <a:ext cx="417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农业社会主义改造</a:t>
            </a:r>
            <a:endParaRPr b="1" lang="en-US" sz="1800" spc="-1" strike="noStrike">
              <a:ln w="9360">
                <a:solidFill>
                  <a:srgbClr val="ffff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9640" y="3645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方法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571920"/>
            <a:ext cx="687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800000"/>
                </a:solidFill>
                <a:latin typeface="华文中宋"/>
                <a:ea typeface="华文中宋"/>
              </a:rPr>
              <a:t>把分散的农民组织起来，引导他们参加农业生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800000"/>
                </a:solidFill>
                <a:latin typeface="华文中宋"/>
                <a:ea typeface="华文中宋"/>
              </a:rPr>
              <a:t>产合作社</a:t>
            </a:r>
            <a:r>
              <a:rPr b="1" lang="en-US" sz="2400" spc="-1" strike="noStrike">
                <a:solidFill>
                  <a:srgbClr val="8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800000"/>
                </a:solidFill>
                <a:latin typeface="华文中宋"/>
                <a:ea typeface="华文中宋"/>
              </a:rPr>
              <a:t>走集体化和共同富裕的社会主义道路。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1280" y="47242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成就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465300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华文中宋"/>
                <a:ea typeface="华文中宋"/>
              </a:rPr>
              <a:t>1955</a:t>
            </a:r>
            <a:r>
              <a:rPr b="1" lang="zh-CN" sz="2400" spc="-1" strike="noStrike">
                <a:solidFill>
                  <a:srgbClr val="800080"/>
                </a:solidFill>
                <a:latin typeface="华文中宋"/>
                <a:ea typeface="华文中宋"/>
              </a:rPr>
              <a:t>年全国掀起农业合作化的高潮；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华文中宋"/>
                <a:ea typeface="华文中宋"/>
              </a:rPr>
              <a:t>1956</a:t>
            </a:r>
            <a:r>
              <a:rPr b="1" lang="zh-CN" sz="2400" spc="-1" strike="noStrike">
                <a:solidFill>
                  <a:srgbClr val="800080"/>
                </a:solidFill>
                <a:latin typeface="华文中宋"/>
                <a:ea typeface="华文中宋"/>
              </a:rPr>
              <a:t>年全国绝大多数农户参加了农业生产合作社。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5610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4000" y="2131920"/>
            <a:ext cx="799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方正姚体"/>
                <a:ea typeface="方正姚体"/>
              </a:rPr>
              <a:t>1956</a:t>
            </a:r>
            <a:r>
              <a:rPr b="1" lang="zh-CN" sz="4000" spc="-1" strike="noStrike">
                <a:solidFill>
                  <a:srgbClr val="800080"/>
                </a:solidFill>
                <a:latin typeface="方正姚体"/>
                <a:ea typeface="方正姚体"/>
              </a:rPr>
              <a:t>年，</a:t>
            </a:r>
            <a:r>
              <a:rPr b="1" lang="en-US" sz="4000" spc="-1" strike="noStrike">
                <a:solidFill>
                  <a:srgbClr val="800080"/>
                </a:solidFill>
                <a:latin typeface="方正姚体"/>
                <a:ea typeface="方正姚体"/>
              </a:rPr>
              <a:t>90%</a:t>
            </a:r>
            <a:r>
              <a:rPr b="1" lang="zh-CN" sz="4000" spc="-1" strike="noStrike">
                <a:solidFill>
                  <a:srgbClr val="800080"/>
                </a:solidFill>
                <a:latin typeface="方正姚体"/>
                <a:ea typeface="方正姚体"/>
              </a:rPr>
              <a:t>以上的个体手工业者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方正姚体"/>
                <a:ea typeface="方正姚体"/>
              </a:rPr>
              <a:t> </a:t>
            </a:r>
            <a:r>
              <a:rPr b="1" lang="zh-CN" sz="4000" spc="-1" strike="noStrike">
                <a:solidFill>
                  <a:srgbClr val="800080"/>
                </a:solidFill>
                <a:latin typeface="方正姚体"/>
                <a:ea typeface="方正姚体"/>
              </a:rPr>
              <a:t>参加了手工业生产合作社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411280" y="189000"/>
            <a:ext cx="417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手工业社会主义改造</a:t>
            </a:r>
            <a:endParaRPr b="1" lang="en-US" sz="1800" spc="-1" strike="noStrike">
              <a:ln w="9360">
                <a:solidFill>
                  <a:srgbClr val="ffff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885080" y="5229360"/>
            <a:ext cx="83664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2324160"/>
            <a:ext cx="545472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55640" y="1916280"/>
            <a:ext cx="93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时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58880" y="2616120"/>
            <a:ext cx="93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方法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58880" y="3408480"/>
            <a:ext cx="93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成就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7080" y="4200480"/>
            <a:ext cx="93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政策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42920" y="117360"/>
            <a:ext cx="6913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资本主义工商业社会主义改造</a:t>
            </a:r>
            <a:endParaRPr b="1" lang="en-US" sz="1800" spc="-1" strike="noStrike">
              <a:ln w="9360">
                <a:solidFill>
                  <a:srgbClr val="ffff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183204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1954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年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92360" y="2614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公私合营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00920" y="3457440"/>
            <a:ext cx="43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1956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年初，出现了全行业公私合营的高潮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412920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和平赎买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2381040" cy="3114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92360" y="1052640"/>
            <a:ext cx="2381400" cy="3047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43160" y="42210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荣氏第二代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荣毅仁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47640" y="0"/>
            <a:ext cx="56102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荣氏企业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--</a:t>
            </a: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一个家族的神话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51280" y="3141720"/>
            <a:ext cx="4726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222640" cy="3413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40160" y="4508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荣氏第三代荣智健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843280" y="3500280"/>
            <a:ext cx="3095640" cy="253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156360" y="907920"/>
            <a:ext cx="2793960" cy="4038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411280" y="692280"/>
            <a:ext cx="46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中国百年老字号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3097080" cy="2360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708360" y="4653000"/>
            <a:ext cx="20160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6:04:48Z</dcterms:created>
  <dc:creator/>
  <dc:description/>
  <cp:keywords>幻灯片之家 http:/www.eeppt.com</cp:keywords>
  <dc:language>en-US</dc:language>
  <cp:lastModifiedBy/>
  <dcterms:modified xsi:type="dcterms:W3CDTF">2015-07-12T08:24:39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