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B91D-9E6E-4435-A74D-CF29FB0F5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2156-3E36-41D3-A821-164AD032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1FE2-3A9C-4850-B35D-E286FA326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A69B-7D3A-4084-8F01-1A8BB249A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C280-BE67-416F-BACE-26653E02E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83B41-575A-49B0-AEBC-F735140E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86F99-4C56-4760-A52B-EB418185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FFC8-A8B2-49E1-ACE2-B22900F5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5739-F890-4A8E-BEC3-755A69A8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D6BCF-916E-4242-AEF9-744F62EC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CE49-EF9C-4A34-9A70-C70E9FC0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CCC9-5F5F-4803-8601-F4BA574E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BC689-407B-4EB8-841F-081CEEB7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C528-9A98-4522-9F1F-0120DBEC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FF9F-1692-43C4-951C-BCF8150F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29ED-C366-4CAF-81BD-124FB9653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6C06-AA65-442E-A9F8-8434CAE44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6F63-6351-41A7-A4F1-E5A0DC02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B62B-60AE-40F5-9EDE-02BB23C1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A27D-899C-4ECD-BE61-0ADB13D0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9346-04D9-451D-9EE0-B221EC4C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B82C-C73F-46E9-98D8-009CA8EF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0F8C-FFA4-48B4-A500-8ACB2B91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6C3B-36F5-4B71-95FA-CDB60EC4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7C5C-D035-443C-8F25-B37BCD3622E6}" type="slidenum">
              <a:rPr b="1" lang="zh-CN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 Black"/>
                <a:ea typeface="宋体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 Black"/>
                <a:ea typeface="宋体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C256-23E7-4195-80B8-DDF17A2B6EA8}" type="slidenum">
              <a:rPr b="0" lang="zh-CN" sz="8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jier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7631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Eras Bold ITC"/>
                <a:ea typeface="宋体"/>
              </a:rPr>
              <a:t>YOUR TITLE GOES HERE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" name=""/>
          <p:cNvSpPr/>
          <p:nvPr/>
        </p:nvSpPr>
        <p:spPr>
          <a:xfrm>
            <a:off x="971640" y="6453360"/>
            <a:ext cx="460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11120" y="1557360"/>
            <a:ext cx="27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圣诞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1752480"/>
            <a:ext cx="4647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ras Demi ITC"/>
                <a:ea typeface="宋体"/>
              </a:rPr>
              <a:t>YOUR TOPIC GOES HER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2819160"/>
            <a:ext cx="76197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Eras Demi ITC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1187280" y="4653000"/>
            <a:ext cx="6499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Impact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FB1D-595C-4CB4-A5BC-71953BE110BE}" type="slidenum">
              <a:t>3</a:t>
            </a:fld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48120" y="15228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tyle Bold Extended ATT"/>
                <a:ea typeface="宋体"/>
              </a:rPr>
              <a:t>TRANSI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9840" y="1600200"/>
            <a:ext cx="4876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Eras Demi ITC"/>
                <a:ea typeface="宋体"/>
              </a:rPr>
              <a:t>YOUR TOPIC GOES HER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2819160"/>
            <a:ext cx="76960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Eras Demi ITC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07:56:19Z</dcterms:created>
  <dc:creator/>
  <dc:description/>
  <cp:keywords>幻灯片之家 http:/www.eeppt.com</cp:keywords>
  <dc:language>en-US</dc:language>
  <cp:lastModifiedBy/>
  <dcterms:modified xsi:type="dcterms:W3CDTF">2015-07-09T08:14:51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