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934C-909D-45A8-A7DD-D3FA1B5BA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C1FA-6BF8-4895-B907-AF1E8FDC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7069-0186-4B5B-BCA6-7A4A39FF5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6025-6D07-4F2B-A98F-4EDEE089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DFE3-C1BE-45B9-85A4-FB70A9FD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1058-CA10-4DD9-A009-B374A8C0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5819-F063-4B52-B4C7-E8710099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E993-C4CB-4708-883C-D67EC774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0040-F327-4677-AF4A-02E27F3C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D7A7-0462-4ED0-872F-95D42DE6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9365-5E1F-4925-983F-C580C676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05B7-D8B1-4A34-84E6-51145402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F232BF-3CFC-4ED8-A6ED-6DBD7C7655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0"/>
          <p:cNvSpPr/>
          <p:nvPr/>
        </p:nvSpPr>
        <p:spPr>
          <a:xfrm>
            <a:off x="1074600" y="59832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5"/>
          <p:cNvSpPr/>
          <p:nvPr/>
        </p:nvSpPr>
        <p:spPr>
          <a:xfrm>
            <a:off x="6437520" y="2647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初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6"/>
          <p:cNvSpPr/>
          <p:nvPr/>
        </p:nvSpPr>
        <p:spPr>
          <a:xfrm>
            <a:off x="6162480" y="3294000"/>
            <a:ext cx="146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峥嵘岁月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化风云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英雄的黎明.mp3" descr="英雄的黎明"/>
          <p:cNvPicPr/>
          <p:nvPr/>
        </p:nvPicPr>
        <p:blipFill>
          <a:blip r:embed="rId2"/>
          <a:stretch/>
        </p:blipFill>
        <p:spPr>
          <a:xfrm>
            <a:off x="8610480" y="5238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4629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82320" y="598320"/>
            <a:ext cx="303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墨中国风奔腾年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498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14982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16982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7"/>
          <p:cNvSpPr/>
          <p:nvPr/>
        </p:nvSpPr>
        <p:spPr>
          <a:xfrm>
            <a:off x="6510240" y="18097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6136920" y="2382840"/>
            <a:ext cx="126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 Black"/>
                <a:ea typeface="宋体"/>
              </a:rPr>
              <a:t>NO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9"/>
          <p:cNvSpPr/>
          <p:nvPr/>
        </p:nvSpPr>
        <p:spPr>
          <a:xfrm>
            <a:off x="2869920" y="446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奔腾年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0"/>
          <p:cNvSpPr/>
          <p:nvPr/>
        </p:nvSpPr>
        <p:spPr>
          <a:xfrm>
            <a:off x="2629800" y="127620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doni MT Black"/>
                <a:ea typeface="宋体"/>
              </a:rPr>
              <a:t>Seabis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6166440" y="219060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MT Black"/>
                <a:ea typeface="宋体"/>
              </a:rPr>
              <a:t>ROKEY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3"/>
          <p:cNvSpPr/>
          <p:nvPr/>
        </p:nvSpPr>
        <p:spPr>
          <a:xfrm>
            <a:off x="6082200" y="3029040"/>
            <a:ext cx="141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驾驭明日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登临巅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至高鹜远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阔赢天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7"/>
          <p:cNvSpPr/>
          <p:nvPr/>
        </p:nvSpPr>
        <p:spPr>
          <a:xfrm>
            <a:off x="1328400" y="5144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/>
          <p:cNvSpPr/>
          <p:nvPr/>
        </p:nvSpPr>
        <p:spPr>
          <a:xfrm>
            <a:off x="955440" y="1087560"/>
            <a:ext cx="126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 Black"/>
                <a:ea typeface="宋体"/>
              </a:rPr>
              <a:t>NO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9"/>
          <p:cNvSpPr/>
          <p:nvPr/>
        </p:nvSpPr>
        <p:spPr>
          <a:xfrm>
            <a:off x="5384520" y="33051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奔腾年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0"/>
          <p:cNvSpPr/>
          <p:nvPr/>
        </p:nvSpPr>
        <p:spPr>
          <a:xfrm>
            <a:off x="5144400" y="398304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doni MT Black"/>
                <a:ea typeface="宋体"/>
              </a:rPr>
              <a:t>Seabis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2"/>
          <p:cNvSpPr/>
          <p:nvPr/>
        </p:nvSpPr>
        <p:spPr>
          <a:xfrm>
            <a:off x="984960" y="89532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MT Black"/>
                <a:ea typeface="宋体"/>
              </a:rPr>
              <a:t>ROKEY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3"/>
          <p:cNvSpPr/>
          <p:nvPr/>
        </p:nvSpPr>
        <p:spPr>
          <a:xfrm>
            <a:off x="5409000" y="2468520"/>
            <a:ext cx="164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思进则懈，不思晋则殆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量身则闻远，量才则博深 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1"/>
          <p:cNvSpPr/>
          <p:nvPr/>
        </p:nvSpPr>
        <p:spPr>
          <a:xfrm>
            <a:off x="3030120" y="3618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奔腾年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"/>
          <p:cNvSpPr/>
          <p:nvPr/>
        </p:nvSpPr>
        <p:spPr>
          <a:xfrm>
            <a:off x="2790360" y="119232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doni MT Black"/>
                <a:ea typeface="宋体"/>
              </a:rPr>
              <a:t>Seabis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3"/>
          <p:cNvSpPr/>
          <p:nvPr/>
        </p:nvSpPr>
        <p:spPr>
          <a:xfrm>
            <a:off x="6406560" y="1809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"/>
          <p:cNvSpPr/>
          <p:nvPr/>
        </p:nvSpPr>
        <p:spPr>
          <a:xfrm>
            <a:off x="6136920" y="2382840"/>
            <a:ext cx="126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 Black"/>
                <a:ea typeface="宋体"/>
              </a:rPr>
              <a:t>NO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6166440" y="219060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MT Black"/>
                <a:ea typeface="宋体"/>
              </a:rPr>
              <a:t>ROKEY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6086520" y="302904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共勉共进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荣耀光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镜为鉴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人为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55EC-DAE6-4661-AF8B-496CC31078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1"/>
          <p:cNvSpPr/>
          <p:nvPr/>
        </p:nvSpPr>
        <p:spPr>
          <a:xfrm>
            <a:off x="4362120" y="37987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奔腾年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"/>
          <p:cNvSpPr/>
          <p:nvPr/>
        </p:nvSpPr>
        <p:spPr>
          <a:xfrm>
            <a:off x="4121280" y="462924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doni MT Black"/>
                <a:ea typeface="宋体"/>
              </a:rPr>
              <a:t>Seabis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3"/>
          <p:cNvSpPr/>
          <p:nvPr/>
        </p:nvSpPr>
        <p:spPr>
          <a:xfrm>
            <a:off x="843840" y="647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4"/>
          <p:cNvSpPr/>
          <p:nvPr/>
        </p:nvSpPr>
        <p:spPr>
          <a:xfrm>
            <a:off x="574200" y="1220760"/>
            <a:ext cx="126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 Black"/>
                <a:ea typeface="宋体"/>
              </a:rPr>
              <a:t>NO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603720" y="102888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MT Black"/>
                <a:ea typeface="宋体"/>
              </a:rPr>
              <a:t>ROKEY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3700440" y="1521000"/>
            <a:ext cx="3386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人为鉴可明得失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镜为鉴可整衣冠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察古可以知今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察己可以知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"/>
          <p:cNvSpPr/>
          <p:nvPr/>
        </p:nvSpPr>
        <p:spPr>
          <a:xfrm>
            <a:off x="1125000" y="2905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奔腾年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2"/>
          <p:cNvSpPr/>
          <p:nvPr/>
        </p:nvSpPr>
        <p:spPr>
          <a:xfrm>
            <a:off x="885240" y="112068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doni MT Black"/>
                <a:ea typeface="宋体"/>
              </a:rPr>
              <a:t>Seabis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"/>
          <p:cNvSpPr/>
          <p:nvPr/>
        </p:nvSpPr>
        <p:spPr>
          <a:xfrm>
            <a:off x="6571440" y="1987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终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4"/>
          <p:cNvSpPr/>
          <p:nvPr/>
        </p:nvSpPr>
        <p:spPr>
          <a:xfrm>
            <a:off x="6211440" y="2560680"/>
            <a:ext cx="126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 Black"/>
                <a:ea typeface="宋体"/>
              </a:rPr>
              <a:t>NO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6240960" y="236844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MT Black"/>
                <a:ea typeface="宋体"/>
              </a:rPr>
              <a:t>ROKEY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6187680" y="3206880"/>
            <a:ext cx="141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磨砺锋芒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器初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将之气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剑指天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8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02:42:06Z</dcterms:created>
  <dc:creator/>
  <dc:description/>
  <cp:keywords>幻灯片之家 http:/www.eeppt.com</cp:keywords>
  <dc:language>en-US</dc:language>
  <cp:lastModifiedBy/>
  <dcterms:modified xsi:type="dcterms:W3CDTF">2015-07-12T09:30:18Z</dcterms:modified>
  <cp:revision>3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