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02E-20A3-4FCA-AECA-B09CCF25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88B-4FD3-44F2-B51B-B007E25D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01F-FEBC-40CD-AB77-733A34C7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36E-E032-434F-8328-2DADADCB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0194-B3F7-4996-9AEF-900EBF54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D0D1-3DE7-4DCB-B3E1-8ED7C993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0673-008A-42FA-A009-EFDCF388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6076-B489-40E1-A703-1ECBC009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B4B1-CECE-4124-8CB9-CCF95FA1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A7A2-524D-4D5F-8589-97E61A5E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7379-0151-46C5-9489-459BEC0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3D5-6FAC-483F-AC14-6009F9A7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0A2-2E69-4B3D-AEF4-ACD906C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7308-CAC1-4D1B-B25F-744F9B75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992C-F166-4FD7-9E2F-069E6067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0EAC-6D62-4B42-B4AE-D93B0B78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A403-CC2F-4385-810E-97703DBC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93A-5028-486C-B5EB-16EF467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80F-5ABE-4E06-A117-8648E91E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B77-12EC-4475-AB2D-484ED726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423-FB44-436A-854F-401EFE44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EC3-3D8E-48CC-8454-DE823073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48E-E100-42F1-B77F-2BA82CA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441-8DFC-47F3-B5D2-011418B8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" name="Oval 3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d6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C8FA-924F-4B8A-A861-31711EBCC6B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7524720" y="298440"/>
            <a:ext cx="1227240" cy="122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Oval 3"/>
            <p:cNvSpPr/>
            <p:nvPr/>
          </p:nvSpPr>
          <p:spPr>
            <a:xfrm>
              <a:off x="1066680" y="6480"/>
              <a:ext cx="7346880" cy="6851520"/>
            </a:xfrm>
            <a:prstGeom prst="ellipse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9" name="Oval 5"/>
          <p:cNvSpPr/>
          <p:nvPr/>
        </p:nvSpPr>
        <p:spPr>
          <a:xfrm>
            <a:off x="1476360" y="1916280"/>
            <a:ext cx="4390920" cy="4433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8600" y="22860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d6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d1d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9B0C-F09D-48E0-88AC-DDEC4118309D}" type="slidenum">
              <a:rPr b="0" lang="en-US" sz="1200" spc="-1" strike="noStrike">
                <a:solidFill>
                  <a:srgbClr val="d1d1d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PowerPoint Temp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4120" y="61570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0080" y="9144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1d1d1"/>
                </a:solidFill>
                <a:latin typeface="Arial"/>
              </a:rPr>
              <a:t>商务图表完整版打包下载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93ac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d69e"/>
              </a:gs>
              <a:gs pos="100000">
                <a:srgbClr val="93ee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d69e"/>
              </a:gs>
              <a:gs pos="50000">
                <a:srgbClr val="ffffff"/>
              </a:gs>
              <a:gs pos="100000">
                <a:srgbClr val="00d69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d69e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d69e"/>
              </a:gs>
              <a:gs pos="50000">
                <a:srgbClr val="007456"/>
              </a:gs>
              <a:gs pos="100000">
                <a:srgbClr val="00d69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d69e">
                  <a:alpha val="0"/>
                </a:srgbClr>
              </a:gs>
              <a:gs pos="100000">
                <a:srgbClr val="00886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46ae8"/>
              </a:gs>
              <a:gs pos="50000">
                <a:srgbClr val="ffffff"/>
              </a:gs>
              <a:gs pos="100000">
                <a:srgbClr val="d46ae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46ae8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46ae8"/>
              </a:gs>
              <a:gs pos="50000">
                <a:srgbClr val="73397e"/>
              </a:gs>
              <a:gs pos="100000">
                <a:srgbClr val="d46ae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d46ae8">
                  <a:alpha val="0"/>
                </a:srgbClr>
              </a:gs>
              <a:gs pos="100000">
                <a:srgbClr val="8743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93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94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5" name="Oval 17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6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7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98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50000">
                <a:srgbClr val="ffffff"/>
              </a:gs>
              <a:gs pos="100000">
                <a:srgbClr val="003b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1b52"/>
              </a:gs>
              <a:gs pos="100000">
                <a:srgbClr val="003bb2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50000">
                <a:srgbClr val="002060"/>
              </a:gs>
              <a:gs pos="100000">
                <a:srgbClr val="003b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3bb2">
                  <a:alpha val="0"/>
                </a:srgbClr>
              </a:gs>
              <a:gs pos="100000">
                <a:srgbClr val="0025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03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04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5" name="Oval 27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6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7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09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0" name="Oval 32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1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2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13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4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5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8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未知"/>
          <p:cNvSpPr/>
          <p:nvPr/>
        </p:nvSpPr>
        <p:spPr>
          <a:xfrm>
            <a:off x="1143000" y="193032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00d69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791320" y="3301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d1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2" name="Oval 5"/>
          <p:cNvSpPr/>
          <p:nvPr/>
        </p:nvSpPr>
        <p:spPr>
          <a:xfrm rot="20876400">
            <a:off x="33829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33148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333540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3526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4448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37324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 rot="20826600">
            <a:off x="1554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29" name="Group 12"/>
          <p:cNvGrpSpPr/>
          <p:nvPr/>
        </p:nvGrpSpPr>
        <p:grpSpPr>
          <a:xfrm>
            <a:off x="1477800" y="3352680"/>
            <a:ext cx="1371240" cy="1441080"/>
            <a:chOff x="1477800" y="3352680"/>
            <a:chExt cx="1371240" cy="1441080"/>
          </a:xfrm>
        </p:grpSpPr>
        <p:sp>
          <p:nvSpPr>
            <p:cNvPr id="330" name="Oval 13"/>
            <p:cNvSpPr/>
            <p:nvPr/>
          </p:nvSpPr>
          <p:spPr>
            <a:xfrm>
              <a:off x="147780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1495800" y="3360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1508760" y="33742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3" name="Oval 16"/>
            <p:cNvSpPr/>
            <p:nvPr/>
          </p:nvSpPr>
          <p:spPr>
            <a:xfrm>
              <a:off x="1580400" y="34110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175824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35" name="Oval 18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6" name="Oval 19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7" name="Oval 20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8" name="Oval 21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9" name="Oval 22"/>
          <p:cNvSpPr/>
          <p:nvPr/>
        </p:nvSpPr>
        <p:spPr>
          <a:xfrm>
            <a:off x="13730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14925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251460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2" name="Oval 25"/>
          <p:cNvSpPr/>
          <p:nvPr/>
        </p:nvSpPr>
        <p:spPr>
          <a:xfrm>
            <a:off x="26370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3" name="Oval 26"/>
          <p:cNvSpPr/>
          <p:nvPr/>
        </p:nvSpPr>
        <p:spPr>
          <a:xfrm>
            <a:off x="264636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4" name="Oval 27"/>
          <p:cNvSpPr/>
          <p:nvPr/>
        </p:nvSpPr>
        <p:spPr>
          <a:xfrm>
            <a:off x="265284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5" name="Oval 28"/>
          <p:cNvSpPr/>
          <p:nvPr/>
        </p:nvSpPr>
        <p:spPr>
          <a:xfrm>
            <a:off x="268920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6" name="Text Box 29"/>
          <p:cNvSpPr/>
          <p:nvPr/>
        </p:nvSpPr>
        <p:spPr>
          <a:xfrm>
            <a:off x="270720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3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56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58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59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0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1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2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3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4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65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6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7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68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9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70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1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2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73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d69e"/>
              </a:gs>
              <a:gs pos="50000">
                <a:srgbClr val="ffffff"/>
              </a:gs>
              <a:gs pos="100000">
                <a:srgbClr val="00d69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74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6349"/>
              </a:gs>
              <a:gs pos="100000">
                <a:srgbClr val="00d69e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75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d69e"/>
              </a:gs>
              <a:gs pos="50000">
                <a:srgbClr val="007456"/>
              </a:gs>
              <a:gs pos="100000">
                <a:srgbClr val="00d69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76" name="Group 31"/>
          <p:cNvGrpSpPr/>
          <p:nvPr/>
        </p:nvGrpSpPr>
        <p:grpSpPr>
          <a:xfrm>
            <a:off x="3733920" y="2870280"/>
            <a:ext cx="1690560" cy="1690560"/>
            <a:chOff x="3733920" y="2870280"/>
            <a:chExt cx="1690560" cy="1690560"/>
          </a:xfrm>
        </p:grpSpPr>
        <p:sp>
          <p:nvSpPr>
            <p:cNvPr id="377" name="Oval 32"/>
            <p:cNvSpPr/>
            <p:nvPr/>
          </p:nvSpPr>
          <p:spPr>
            <a:xfrm>
              <a:off x="3733920" y="2870280"/>
              <a:ext cx="1690560" cy="1690560"/>
            </a:xfrm>
            <a:prstGeom prst="ellipse">
              <a:avLst/>
            </a:prstGeom>
            <a:gradFill rotWithShape="0">
              <a:gsLst>
                <a:gs pos="0">
                  <a:srgbClr val="00d69e">
                    <a:alpha val="0"/>
                  </a:srgbClr>
                </a:gs>
                <a:gs pos="100000">
                  <a:srgbClr val="0088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8" name="Oval 33"/>
            <p:cNvSpPr/>
            <p:nvPr/>
          </p:nvSpPr>
          <p:spPr>
            <a:xfrm>
              <a:off x="3835440" y="298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9" name="Oval 34"/>
            <p:cNvSpPr/>
            <p:nvPr/>
          </p:nvSpPr>
          <p:spPr>
            <a:xfrm>
              <a:off x="3857760" y="300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0" name="Oval 35"/>
            <p:cNvSpPr/>
            <p:nvPr/>
          </p:nvSpPr>
          <p:spPr>
            <a:xfrm>
              <a:off x="3875040" y="3009960"/>
              <a:ext cx="143856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1" name="Oval 36"/>
            <p:cNvSpPr/>
            <p:nvPr/>
          </p:nvSpPr>
          <p:spPr>
            <a:xfrm>
              <a:off x="3891240" y="302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2" name="Oval 37"/>
            <p:cNvSpPr/>
            <p:nvPr/>
          </p:nvSpPr>
          <p:spPr>
            <a:xfrm>
              <a:off x="3971880" y="306072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83" name="Text Box 38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4" name="Text Box 39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5" name="Text Box 40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1244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1278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1295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1295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95" name="Group 7"/>
          <p:cNvGrpSpPr/>
          <p:nvPr/>
        </p:nvGrpSpPr>
        <p:grpSpPr>
          <a:xfrm>
            <a:off x="1989000" y="2039760"/>
            <a:ext cx="642960" cy="642960"/>
            <a:chOff x="1989000" y="2039760"/>
            <a:chExt cx="642960" cy="642960"/>
          </a:xfrm>
        </p:grpSpPr>
        <p:sp>
          <p:nvSpPr>
            <p:cNvPr id="396" name="Oval 8"/>
            <p:cNvSpPr/>
            <p:nvPr/>
          </p:nvSpPr>
          <p:spPr>
            <a:xfrm>
              <a:off x="1989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7" name="Oval 9"/>
            <p:cNvSpPr/>
            <p:nvPr/>
          </p:nvSpPr>
          <p:spPr>
            <a:xfrm>
              <a:off x="1995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8" name="Oval 10"/>
            <p:cNvSpPr/>
            <p:nvPr/>
          </p:nvSpPr>
          <p:spPr>
            <a:xfrm>
              <a:off x="200340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9" name="Oval 11"/>
            <p:cNvSpPr/>
            <p:nvPr/>
          </p:nvSpPr>
          <p:spPr>
            <a:xfrm>
              <a:off x="2009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00" name="Oval 12"/>
            <p:cNvSpPr/>
            <p:nvPr/>
          </p:nvSpPr>
          <p:spPr>
            <a:xfrm>
              <a:off x="2043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01" name="Text Box 13"/>
          <p:cNvSpPr/>
          <p:nvPr/>
        </p:nvSpPr>
        <p:spPr>
          <a:xfrm>
            <a:off x="2129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1243080" y="29019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59691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60022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60199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6" name="AutoShape 18"/>
          <p:cNvSpPr/>
          <p:nvPr/>
        </p:nvSpPr>
        <p:spPr>
          <a:xfrm>
            <a:off x="60199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407" name="Group 19"/>
          <p:cNvGrpSpPr/>
          <p:nvPr/>
        </p:nvGrpSpPr>
        <p:grpSpPr>
          <a:xfrm>
            <a:off x="6713640" y="2039760"/>
            <a:ext cx="642960" cy="642960"/>
            <a:chOff x="6713640" y="2039760"/>
            <a:chExt cx="642960" cy="642960"/>
          </a:xfrm>
        </p:grpSpPr>
        <p:sp>
          <p:nvSpPr>
            <p:cNvPr id="408" name="Oval 20"/>
            <p:cNvSpPr/>
            <p:nvPr/>
          </p:nvSpPr>
          <p:spPr>
            <a:xfrm>
              <a:off x="67136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09" name="Oval 21"/>
            <p:cNvSpPr/>
            <p:nvPr/>
          </p:nvSpPr>
          <p:spPr>
            <a:xfrm>
              <a:off x="67201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0" name="Oval 22"/>
            <p:cNvSpPr/>
            <p:nvPr/>
          </p:nvSpPr>
          <p:spPr>
            <a:xfrm>
              <a:off x="672804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1" name="Oval 23"/>
            <p:cNvSpPr/>
            <p:nvPr/>
          </p:nvSpPr>
          <p:spPr>
            <a:xfrm>
              <a:off x="67345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2" name="Oval 24"/>
            <p:cNvSpPr/>
            <p:nvPr/>
          </p:nvSpPr>
          <p:spPr>
            <a:xfrm>
              <a:off x="67683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13" name="Text Box 25"/>
          <p:cNvSpPr/>
          <p:nvPr/>
        </p:nvSpPr>
        <p:spPr>
          <a:xfrm>
            <a:off x="68536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6045120" y="2801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5" name="AutoShape 27"/>
          <p:cNvSpPr/>
          <p:nvPr/>
        </p:nvSpPr>
        <p:spPr>
          <a:xfrm>
            <a:off x="3606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6" name="AutoShape 28"/>
          <p:cNvSpPr/>
          <p:nvPr/>
        </p:nvSpPr>
        <p:spPr>
          <a:xfrm>
            <a:off x="3639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3657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8" name="AutoShape 30"/>
          <p:cNvSpPr/>
          <p:nvPr/>
        </p:nvSpPr>
        <p:spPr>
          <a:xfrm>
            <a:off x="3657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9" name="Oval 31"/>
          <p:cNvSpPr/>
          <p:nvPr/>
        </p:nvSpPr>
        <p:spPr>
          <a:xfrm>
            <a:off x="435132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0" name="Oval 32"/>
          <p:cNvSpPr/>
          <p:nvPr/>
        </p:nvSpPr>
        <p:spPr>
          <a:xfrm>
            <a:off x="4357800" y="2044800"/>
            <a:ext cx="62208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1" name="Oval 33"/>
          <p:cNvSpPr/>
          <p:nvPr/>
        </p:nvSpPr>
        <p:spPr>
          <a:xfrm>
            <a:off x="436572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2" name="Oval 34"/>
          <p:cNvSpPr/>
          <p:nvPr/>
        </p:nvSpPr>
        <p:spPr>
          <a:xfrm>
            <a:off x="4371840" y="205416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3" name="Oval 35"/>
          <p:cNvSpPr/>
          <p:nvPr/>
        </p:nvSpPr>
        <p:spPr>
          <a:xfrm>
            <a:off x="4406760" y="207000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4" name="Text Box 36"/>
          <p:cNvSpPr/>
          <p:nvPr/>
        </p:nvSpPr>
        <p:spPr>
          <a:xfrm>
            <a:off x="4491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5" name="Text Box 37"/>
          <p:cNvSpPr/>
          <p:nvPr/>
        </p:nvSpPr>
        <p:spPr>
          <a:xfrm>
            <a:off x="3683160" y="2801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429" name="Group 5"/>
          <p:cNvGrpSpPr/>
          <p:nvPr/>
        </p:nvGrpSpPr>
        <p:grpSpPr>
          <a:xfrm>
            <a:off x="609480" y="2286000"/>
            <a:ext cx="8159760" cy="3740400"/>
            <a:chOff x="609480" y="2286000"/>
            <a:chExt cx="8159760" cy="3740400"/>
          </a:xfrm>
        </p:grpSpPr>
        <p:grpSp>
          <p:nvGrpSpPr>
            <p:cNvPr id="430" name="Group 6"/>
            <p:cNvGrpSpPr/>
            <p:nvPr/>
          </p:nvGrpSpPr>
          <p:grpSpPr>
            <a:xfrm>
              <a:off x="4955760" y="3339360"/>
              <a:ext cx="1656360" cy="2615760"/>
              <a:chOff x="4955760" y="3339360"/>
              <a:chExt cx="1656360" cy="2615760"/>
            </a:xfrm>
          </p:grpSpPr>
          <p:grpSp>
            <p:nvGrpSpPr>
              <p:cNvPr id="431" name="Group 7"/>
              <p:cNvGrpSpPr/>
              <p:nvPr/>
            </p:nvGrpSpPr>
            <p:grpSpPr>
              <a:xfrm>
                <a:off x="4955760" y="3511800"/>
                <a:ext cx="1536840" cy="2443320"/>
                <a:chOff x="4955760" y="3511800"/>
                <a:chExt cx="1536840" cy="2443320"/>
              </a:xfrm>
            </p:grpSpPr>
            <p:sp>
              <p:nvSpPr>
                <p:cNvPr id="432" name="未知"/>
                <p:cNvSpPr/>
                <p:nvPr/>
              </p:nvSpPr>
              <p:spPr>
                <a:xfrm rot="3876600">
                  <a:off x="4499640" y="4464000"/>
                  <a:ext cx="244908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33" name="未知"/>
                <p:cNvSpPr/>
                <p:nvPr/>
              </p:nvSpPr>
              <p:spPr>
                <a:xfrm rot="3876600">
                  <a:off x="5971320" y="541080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10"/>
              <p:cNvGrpSpPr/>
              <p:nvPr/>
            </p:nvGrpSpPr>
            <p:grpSpPr>
              <a:xfrm>
                <a:off x="5433120" y="3339360"/>
                <a:ext cx="1179000" cy="1874880"/>
                <a:chOff x="5433120" y="3339360"/>
                <a:chExt cx="1179000" cy="1874880"/>
              </a:xfrm>
            </p:grpSpPr>
            <p:sp>
              <p:nvSpPr>
                <p:cNvPr id="435" name="未知"/>
                <p:cNvSpPr/>
                <p:nvPr/>
              </p:nvSpPr>
              <p:spPr>
                <a:xfrm flipV="1" rot="3876600">
                  <a:off x="5082840" y="4070160"/>
                  <a:ext cx="187920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36" name="未知"/>
                <p:cNvSpPr/>
                <p:nvPr/>
              </p:nvSpPr>
              <p:spPr>
                <a:xfrm flipV="1" rot="3876600">
                  <a:off x="6195240" y="480456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13"/>
            <p:cNvGrpSpPr/>
            <p:nvPr/>
          </p:nvGrpSpPr>
          <p:grpSpPr>
            <a:xfrm>
              <a:off x="4505040" y="2441160"/>
              <a:ext cx="1391760" cy="1408680"/>
              <a:chOff x="4505040" y="2441160"/>
              <a:chExt cx="1391760" cy="1408680"/>
            </a:xfrm>
          </p:grpSpPr>
          <p:sp>
            <p:nvSpPr>
              <p:cNvPr id="438" name="Oval 14"/>
              <p:cNvSpPr/>
              <p:nvPr/>
            </p:nvSpPr>
            <p:spPr>
              <a:xfrm>
                <a:off x="4505040" y="2441160"/>
                <a:ext cx="1391760" cy="14086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39" name="Oval 15"/>
              <p:cNvSpPr/>
              <p:nvPr/>
            </p:nvSpPr>
            <p:spPr>
              <a:xfrm>
                <a:off x="4505040" y="2441160"/>
                <a:ext cx="1391760" cy="1408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0" name="Oval 16"/>
              <p:cNvSpPr/>
              <p:nvPr/>
            </p:nvSpPr>
            <p:spPr>
              <a:xfrm>
                <a:off x="4597200" y="2532600"/>
                <a:ext cx="1207080" cy="122364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1" name="Oval 17"/>
              <p:cNvSpPr/>
              <p:nvPr/>
            </p:nvSpPr>
            <p:spPr>
              <a:xfrm>
                <a:off x="4597200" y="2535840"/>
                <a:ext cx="1207080" cy="1223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2" name="Oval 18"/>
              <p:cNvSpPr/>
              <p:nvPr/>
            </p:nvSpPr>
            <p:spPr>
              <a:xfrm>
                <a:off x="4656960" y="2594880"/>
                <a:ext cx="1087560" cy="110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43" name="Group 19"/>
              <p:cNvGrpSpPr/>
              <p:nvPr/>
            </p:nvGrpSpPr>
            <p:grpSpPr>
              <a:xfrm>
                <a:off x="4673520" y="2611800"/>
                <a:ext cx="1054080" cy="1068480"/>
                <a:chOff x="4673520" y="2611800"/>
                <a:chExt cx="1054080" cy="1068480"/>
              </a:xfrm>
            </p:grpSpPr>
            <p:sp>
              <p:nvSpPr>
                <p:cNvPr id="444" name="Oval 20"/>
                <p:cNvSpPr/>
                <p:nvPr/>
              </p:nvSpPr>
              <p:spPr>
                <a:xfrm>
                  <a:off x="4673520" y="2611800"/>
                  <a:ext cx="1054080" cy="106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5" name="Oval 21"/>
                <p:cNvSpPr/>
                <p:nvPr/>
              </p:nvSpPr>
              <p:spPr>
                <a:xfrm>
                  <a:off x="4686840" y="2617560"/>
                  <a:ext cx="1028520" cy="104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6" name="Oval 22"/>
                <p:cNvSpPr/>
                <p:nvPr/>
              </p:nvSpPr>
              <p:spPr>
                <a:xfrm>
                  <a:off x="4697640" y="2628000"/>
                  <a:ext cx="978120" cy="9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7" name="Oval 23"/>
                <p:cNvSpPr/>
                <p:nvPr/>
              </p:nvSpPr>
              <p:spPr>
                <a:xfrm>
                  <a:off x="4755240" y="2655000"/>
                  <a:ext cx="869760" cy="79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8" name="Group 24"/>
            <p:cNvGrpSpPr/>
            <p:nvPr/>
          </p:nvGrpSpPr>
          <p:grpSpPr>
            <a:xfrm>
              <a:off x="7112880" y="3410640"/>
              <a:ext cx="1656360" cy="2615760"/>
              <a:chOff x="7112880" y="3410640"/>
              <a:chExt cx="1656360" cy="2615760"/>
            </a:xfrm>
          </p:grpSpPr>
          <p:grpSp>
            <p:nvGrpSpPr>
              <p:cNvPr id="449" name="Group 25"/>
              <p:cNvGrpSpPr/>
              <p:nvPr/>
            </p:nvGrpSpPr>
            <p:grpSpPr>
              <a:xfrm>
                <a:off x="7112880" y="3583080"/>
                <a:ext cx="1536840" cy="2443320"/>
                <a:chOff x="7112880" y="3583080"/>
                <a:chExt cx="1536840" cy="2443320"/>
              </a:xfrm>
            </p:grpSpPr>
            <p:sp>
              <p:nvSpPr>
                <p:cNvPr id="450" name="未知"/>
                <p:cNvSpPr/>
                <p:nvPr/>
              </p:nvSpPr>
              <p:spPr>
                <a:xfrm rot="3876600">
                  <a:off x="6656760" y="4535280"/>
                  <a:ext cx="244908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51" name="未知"/>
                <p:cNvSpPr/>
                <p:nvPr/>
              </p:nvSpPr>
              <p:spPr>
                <a:xfrm rot="3876600">
                  <a:off x="8128440" y="548208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28"/>
              <p:cNvGrpSpPr/>
              <p:nvPr/>
            </p:nvGrpSpPr>
            <p:grpSpPr>
              <a:xfrm>
                <a:off x="7590240" y="3410640"/>
                <a:ext cx="1179000" cy="1874880"/>
                <a:chOff x="7590240" y="3410640"/>
                <a:chExt cx="1179000" cy="1874880"/>
              </a:xfrm>
            </p:grpSpPr>
            <p:sp>
              <p:nvSpPr>
                <p:cNvPr id="453" name="未知"/>
                <p:cNvSpPr/>
                <p:nvPr/>
              </p:nvSpPr>
              <p:spPr>
                <a:xfrm flipV="1" rot="3876600">
                  <a:off x="7239960" y="4141440"/>
                  <a:ext cx="187920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54" name="未知"/>
                <p:cNvSpPr/>
                <p:nvPr/>
              </p:nvSpPr>
              <p:spPr>
                <a:xfrm flipV="1" rot="3876600">
                  <a:off x="8352360" y="487584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Oval 31"/>
            <p:cNvSpPr/>
            <p:nvPr/>
          </p:nvSpPr>
          <p:spPr>
            <a:xfrm>
              <a:off x="6452280" y="2286000"/>
              <a:ext cx="1672560" cy="168984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52280" y="2286000"/>
              <a:ext cx="1672560" cy="168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564240" y="2396160"/>
              <a:ext cx="1451520" cy="14673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8" name="Oval 34"/>
            <p:cNvSpPr/>
            <p:nvPr/>
          </p:nvSpPr>
          <p:spPr>
            <a:xfrm>
              <a:off x="6566040" y="2399400"/>
              <a:ext cx="1451160" cy="14673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9" name="Oval 35"/>
            <p:cNvSpPr/>
            <p:nvPr/>
          </p:nvSpPr>
          <p:spPr>
            <a:xfrm>
              <a:off x="6636240" y="2470680"/>
              <a:ext cx="1307160" cy="1319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460" name="Group 36"/>
            <p:cNvGrpSpPr/>
            <p:nvPr/>
          </p:nvGrpSpPr>
          <p:grpSpPr>
            <a:xfrm>
              <a:off x="6656400" y="2490840"/>
              <a:ext cx="1267200" cy="1281240"/>
              <a:chOff x="6656400" y="2490840"/>
              <a:chExt cx="1267200" cy="1281240"/>
            </a:xfrm>
          </p:grpSpPr>
          <p:sp>
            <p:nvSpPr>
              <p:cNvPr id="461" name="Oval 37"/>
              <p:cNvSpPr/>
              <p:nvPr/>
            </p:nvSpPr>
            <p:spPr>
              <a:xfrm>
                <a:off x="6656400" y="2490840"/>
                <a:ext cx="1267200" cy="1281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2" name="Oval 38"/>
              <p:cNvSpPr/>
              <p:nvPr/>
            </p:nvSpPr>
            <p:spPr>
              <a:xfrm>
                <a:off x="6672600" y="2497680"/>
                <a:ext cx="1236600" cy="1249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3" name="Oval 39"/>
              <p:cNvSpPr/>
              <p:nvPr/>
            </p:nvSpPr>
            <p:spPr>
              <a:xfrm>
                <a:off x="6685560" y="2510280"/>
                <a:ext cx="1176120" cy="1167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4" name="Oval 40"/>
              <p:cNvSpPr/>
              <p:nvPr/>
            </p:nvSpPr>
            <p:spPr>
              <a:xfrm>
                <a:off x="6754320" y="2543040"/>
                <a:ext cx="1045440" cy="94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1"/>
            <p:cNvGrpSpPr/>
            <p:nvPr/>
          </p:nvGrpSpPr>
          <p:grpSpPr>
            <a:xfrm>
              <a:off x="2976120" y="3339360"/>
              <a:ext cx="1656360" cy="2616120"/>
              <a:chOff x="2976120" y="3339360"/>
              <a:chExt cx="1656360" cy="2616120"/>
            </a:xfrm>
          </p:grpSpPr>
          <p:grpSp>
            <p:nvGrpSpPr>
              <p:cNvPr id="466" name="Group 42"/>
              <p:cNvGrpSpPr/>
              <p:nvPr/>
            </p:nvGrpSpPr>
            <p:grpSpPr>
              <a:xfrm>
                <a:off x="2976120" y="3511800"/>
                <a:ext cx="1536840" cy="2443680"/>
                <a:chOff x="2976120" y="3511800"/>
                <a:chExt cx="1536840" cy="2443680"/>
              </a:xfrm>
            </p:grpSpPr>
            <p:sp>
              <p:nvSpPr>
                <p:cNvPr id="467" name="未知"/>
                <p:cNvSpPr/>
                <p:nvPr/>
              </p:nvSpPr>
              <p:spPr>
                <a:xfrm rot="3876600">
                  <a:off x="2519640" y="4464000"/>
                  <a:ext cx="244908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68" name="未知"/>
                <p:cNvSpPr/>
                <p:nvPr/>
              </p:nvSpPr>
              <p:spPr>
                <a:xfrm rot="3876600">
                  <a:off x="3991680" y="541080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45"/>
              <p:cNvGrpSpPr/>
              <p:nvPr/>
            </p:nvGrpSpPr>
            <p:grpSpPr>
              <a:xfrm>
                <a:off x="3453480" y="3339360"/>
                <a:ext cx="1179000" cy="1874880"/>
                <a:chOff x="3453480" y="3339360"/>
                <a:chExt cx="1179000" cy="1874880"/>
              </a:xfrm>
            </p:grpSpPr>
            <p:sp>
              <p:nvSpPr>
                <p:cNvPr id="470" name="未知"/>
                <p:cNvSpPr/>
                <p:nvPr/>
              </p:nvSpPr>
              <p:spPr>
                <a:xfrm flipV="1" rot="3876600">
                  <a:off x="3103200" y="4070160"/>
                  <a:ext cx="187920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71" name="未知"/>
                <p:cNvSpPr/>
                <p:nvPr/>
              </p:nvSpPr>
              <p:spPr>
                <a:xfrm flipV="1" rot="3876600">
                  <a:off x="4215600" y="480456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Group 48"/>
            <p:cNvGrpSpPr/>
            <p:nvPr/>
          </p:nvGrpSpPr>
          <p:grpSpPr>
            <a:xfrm>
              <a:off x="2525760" y="2441160"/>
              <a:ext cx="1391400" cy="1408680"/>
              <a:chOff x="2525760" y="2441160"/>
              <a:chExt cx="1391400" cy="1408680"/>
            </a:xfrm>
          </p:grpSpPr>
          <p:sp>
            <p:nvSpPr>
              <p:cNvPr id="473" name="Oval 49"/>
              <p:cNvSpPr/>
              <p:nvPr/>
            </p:nvSpPr>
            <p:spPr>
              <a:xfrm>
                <a:off x="2525760" y="2441160"/>
                <a:ext cx="1391400" cy="14086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4" name="Oval 50"/>
              <p:cNvSpPr/>
              <p:nvPr/>
            </p:nvSpPr>
            <p:spPr>
              <a:xfrm>
                <a:off x="2525760" y="2441160"/>
                <a:ext cx="1391400" cy="1408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5" name="Oval 51"/>
              <p:cNvSpPr/>
              <p:nvPr/>
            </p:nvSpPr>
            <p:spPr>
              <a:xfrm>
                <a:off x="2617920" y="2532600"/>
                <a:ext cx="1206720" cy="122364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6" name="Oval 52"/>
              <p:cNvSpPr/>
              <p:nvPr/>
            </p:nvSpPr>
            <p:spPr>
              <a:xfrm>
                <a:off x="2617920" y="2535840"/>
                <a:ext cx="1206720" cy="1223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7" name="Oval 53"/>
              <p:cNvSpPr/>
              <p:nvPr/>
            </p:nvSpPr>
            <p:spPr>
              <a:xfrm>
                <a:off x="2677680" y="2594880"/>
                <a:ext cx="1087200" cy="110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78" name="Group 54"/>
              <p:cNvGrpSpPr/>
              <p:nvPr/>
            </p:nvGrpSpPr>
            <p:grpSpPr>
              <a:xfrm>
                <a:off x="2694240" y="2611800"/>
                <a:ext cx="1053720" cy="1068480"/>
                <a:chOff x="2694240" y="2611800"/>
                <a:chExt cx="1053720" cy="1068480"/>
              </a:xfrm>
            </p:grpSpPr>
            <p:sp>
              <p:nvSpPr>
                <p:cNvPr id="479" name="Oval 55"/>
                <p:cNvSpPr/>
                <p:nvPr/>
              </p:nvSpPr>
              <p:spPr>
                <a:xfrm>
                  <a:off x="2694240" y="2611800"/>
                  <a:ext cx="1053720" cy="106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0" name="Oval 56"/>
                <p:cNvSpPr/>
                <p:nvPr/>
              </p:nvSpPr>
              <p:spPr>
                <a:xfrm>
                  <a:off x="2707560" y="2617560"/>
                  <a:ext cx="1028160" cy="104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1" name="Oval 57"/>
                <p:cNvSpPr/>
                <p:nvPr/>
              </p:nvSpPr>
              <p:spPr>
                <a:xfrm>
                  <a:off x="2718360" y="2628000"/>
                  <a:ext cx="977760" cy="9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2" name="Oval 58"/>
                <p:cNvSpPr/>
                <p:nvPr/>
              </p:nvSpPr>
              <p:spPr>
                <a:xfrm>
                  <a:off x="2775600" y="2655000"/>
                  <a:ext cx="869400" cy="79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3" name="Group 59"/>
            <p:cNvGrpSpPr/>
            <p:nvPr/>
          </p:nvGrpSpPr>
          <p:grpSpPr>
            <a:xfrm>
              <a:off x="1059480" y="3339360"/>
              <a:ext cx="1656360" cy="2616120"/>
              <a:chOff x="1059480" y="3339360"/>
              <a:chExt cx="1656360" cy="2616120"/>
            </a:xfrm>
          </p:grpSpPr>
          <p:grpSp>
            <p:nvGrpSpPr>
              <p:cNvPr id="484" name="Group 60"/>
              <p:cNvGrpSpPr/>
              <p:nvPr/>
            </p:nvGrpSpPr>
            <p:grpSpPr>
              <a:xfrm>
                <a:off x="1059480" y="3511800"/>
                <a:ext cx="1536840" cy="2443680"/>
                <a:chOff x="1059480" y="3511800"/>
                <a:chExt cx="1536840" cy="2443680"/>
              </a:xfrm>
            </p:grpSpPr>
            <p:sp>
              <p:nvSpPr>
                <p:cNvPr id="485" name="未知"/>
                <p:cNvSpPr/>
                <p:nvPr/>
              </p:nvSpPr>
              <p:spPr>
                <a:xfrm rot="3876600">
                  <a:off x="603000" y="4464000"/>
                  <a:ext cx="244908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6" name="未知"/>
                <p:cNvSpPr/>
                <p:nvPr/>
              </p:nvSpPr>
              <p:spPr>
                <a:xfrm rot="3876600">
                  <a:off x="2075040" y="541080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63"/>
              <p:cNvGrpSpPr/>
              <p:nvPr/>
            </p:nvGrpSpPr>
            <p:grpSpPr>
              <a:xfrm>
                <a:off x="1536840" y="3339360"/>
                <a:ext cx="1179000" cy="1874880"/>
                <a:chOff x="1536840" y="3339360"/>
                <a:chExt cx="1179000" cy="1874880"/>
              </a:xfrm>
            </p:grpSpPr>
            <p:sp>
              <p:nvSpPr>
                <p:cNvPr id="488" name="未知"/>
                <p:cNvSpPr/>
                <p:nvPr/>
              </p:nvSpPr>
              <p:spPr>
                <a:xfrm flipV="1" rot="3876600">
                  <a:off x="1186560" y="4070160"/>
                  <a:ext cx="187920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9" name="未知"/>
                <p:cNvSpPr/>
                <p:nvPr/>
              </p:nvSpPr>
              <p:spPr>
                <a:xfrm flipV="1" rot="3876600">
                  <a:off x="2298960" y="480456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Group 66"/>
            <p:cNvGrpSpPr/>
            <p:nvPr/>
          </p:nvGrpSpPr>
          <p:grpSpPr>
            <a:xfrm>
              <a:off x="609480" y="2441160"/>
              <a:ext cx="1391760" cy="1408680"/>
              <a:chOff x="609480" y="2441160"/>
              <a:chExt cx="1391760" cy="1408680"/>
            </a:xfrm>
          </p:grpSpPr>
          <p:sp>
            <p:nvSpPr>
              <p:cNvPr id="491" name="Oval 67"/>
              <p:cNvSpPr/>
              <p:nvPr/>
            </p:nvSpPr>
            <p:spPr>
              <a:xfrm>
                <a:off x="609480" y="2441160"/>
                <a:ext cx="1391760" cy="14086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2" name="Oval 68"/>
              <p:cNvSpPr/>
              <p:nvPr/>
            </p:nvSpPr>
            <p:spPr>
              <a:xfrm>
                <a:off x="609480" y="2441160"/>
                <a:ext cx="1391760" cy="1408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3" name="Oval 69"/>
              <p:cNvSpPr/>
              <p:nvPr/>
            </p:nvSpPr>
            <p:spPr>
              <a:xfrm>
                <a:off x="701640" y="2532600"/>
                <a:ext cx="1207080" cy="122364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4" name="Oval 70"/>
              <p:cNvSpPr/>
              <p:nvPr/>
            </p:nvSpPr>
            <p:spPr>
              <a:xfrm>
                <a:off x="701640" y="2535840"/>
                <a:ext cx="1207080" cy="1223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5" name="Oval 71"/>
              <p:cNvSpPr/>
              <p:nvPr/>
            </p:nvSpPr>
            <p:spPr>
              <a:xfrm>
                <a:off x="761400" y="2594880"/>
                <a:ext cx="1087560" cy="110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96" name="Group 72"/>
              <p:cNvGrpSpPr/>
              <p:nvPr/>
            </p:nvGrpSpPr>
            <p:grpSpPr>
              <a:xfrm>
                <a:off x="777960" y="2611800"/>
                <a:ext cx="1054080" cy="1068480"/>
                <a:chOff x="777960" y="2611800"/>
                <a:chExt cx="1054080" cy="1068480"/>
              </a:xfrm>
            </p:grpSpPr>
            <p:sp>
              <p:nvSpPr>
                <p:cNvPr id="497" name="Oval 73"/>
                <p:cNvSpPr/>
                <p:nvPr/>
              </p:nvSpPr>
              <p:spPr>
                <a:xfrm>
                  <a:off x="777960" y="2611800"/>
                  <a:ext cx="1054080" cy="106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98" name="Oval 74"/>
                <p:cNvSpPr/>
                <p:nvPr/>
              </p:nvSpPr>
              <p:spPr>
                <a:xfrm>
                  <a:off x="791280" y="2617560"/>
                  <a:ext cx="1028520" cy="104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99" name="Oval 75"/>
                <p:cNvSpPr/>
                <p:nvPr/>
              </p:nvSpPr>
              <p:spPr>
                <a:xfrm>
                  <a:off x="802080" y="2628000"/>
                  <a:ext cx="978120" cy="9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500" name="Oval 76"/>
                <p:cNvSpPr/>
                <p:nvPr/>
              </p:nvSpPr>
              <p:spPr>
                <a:xfrm>
                  <a:off x="859680" y="2655000"/>
                  <a:ext cx="869760" cy="79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Text Box 77"/>
            <p:cNvSpPr/>
            <p:nvPr/>
          </p:nvSpPr>
          <p:spPr>
            <a:xfrm rot="3925800">
              <a:off x="1062360" y="4349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2" name="Text Box 78"/>
            <p:cNvSpPr/>
            <p:nvPr/>
          </p:nvSpPr>
          <p:spPr>
            <a:xfrm rot="3925800">
              <a:off x="1557000" y="4064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3" name="Text Box 79"/>
            <p:cNvSpPr/>
            <p:nvPr/>
          </p:nvSpPr>
          <p:spPr>
            <a:xfrm rot="3925800">
              <a:off x="2978640" y="4356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4" name="Text Box 80"/>
            <p:cNvSpPr/>
            <p:nvPr/>
          </p:nvSpPr>
          <p:spPr>
            <a:xfrm rot="3925800">
              <a:off x="3469320" y="4064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5" name="Text Box 81"/>
            <p:cNvSpPr/>
            <p:nvPr/>
          </p:nvSpPr>
          <p:spPr>
            <a:xfrm rot="3925800">
              <a:off x="4961160" y="4349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6" name="Text Box 82"/>
            <p:cNvSpPr/>
            <p:nvPr/>
          </p:nvSpPr>
          <p:spPr>
            <a:xfrm rot="3925800">
              <a:off x="5455800" y="4064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7" name="Text Box 83"/>
            <p:cNvSpPr/>
            <p:nvPr/>
          </p:nvSpPr>
          <p:spPr>
            <a:xfrm rot="3925800">
              <a:off x="7101360" y="45057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8" name="Text Box 84"/>
            <p:cNvSpPr/>
            <p:nvPr/>
          </p:nvSpPr>
          <p:spPr>
            <a:xfrm rot="3925800">
              <a:off x="7594560" y="4218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509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0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1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2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cxnSp>
        <p:nvCxnSpPr>
          <p:cNvPr id="513" name="AutoShape 89"/>
          <p:cNvCxnSpPr>
            <a:stCxn id="509" idx="3"/>
            <a:endCxn id="510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cxnSp>
        <p:nvCxnSpPr>
          <p:cNvPr id="514" name="AutoShape 90"/>
          <p:cNvCxnSpPr>
            <a:stCxn id="510" idx="3"/>
            <a:endCxn id="511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cxnSp>
        <p:nvCxnSpPr>
          <p:cNvPr id="515" name="AutoShape 91"/>
          <p:cNvCxnSpPr>
            <a:stCxn id="511" idx="3"/>
            <a:endCxn id="512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4da6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8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d69e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3bb2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8080" y="16858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 w="5760">
                      <a:solidFill>
                        <a:srgbClr val="d1d1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3862440" y="2201760"/>
            <a:ext cx="1699200" cy="1836360"/>
            <a:chOff x="3862440" y="2201760"/>
            <a:chExt cx="1699200" cy="1836360"/>
          </a:xfrm>
        </p:grpSpPr>
        <p:sp>
          <p:nvSpPr>
            <p:cNvPr id="529" name="Rectangle 6"/>
            <p:cNvSpPr/>
            <p:nvPr/>
          </p:nvSpPr>
          <p:spPr>
            <a:xfrm rot="18394200">
              <a:off x="5034240" y="2413800"/>
              <a:ext cx="59472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530" name="Group 7"/>
            <p:cNvGrpSpPr/>
            <p:nvPr/>
          </p:nvGrpSpPr>
          <p:grpSpPr>
            <a:xfrm>
              <a:off x="3862440" y="2453040"/>
              <a:ext cx="1609560" cy="1585080"/>
              <a:chOff x="3862440" y="2453040"/>
              <a:chExt cx="1609560" cy="1585080"/>
            </a:xfrm>
          </p:grpSpPr>
          <p:sp>
            <p:nvSpPr>
              <p:cNvPr id="531" name="Oval 8"/>
              <p:cNvSpPr/>
              <p:nvPr/>
            </p:nvSpPr>
            <p:spPr>
              <a:xfrm>
                <a:off x="3862440" y="2453040"/>
                <a:ext cx="1609560" cy="158508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32" name="未知"/>
              <p:cNvSpPr/>
              <p:nvPr/>
            </p:nvSpPr>
            <p:spPr>
              <a:xfrm>
                <a:off x="4046400" y="2479320"/>
                <a:ext cx="1241640" cy="597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33" name="Text Box 10"/>
            <p:cNvSpPr/>
            <p:nvPr/>
          </p:nvSpPr>
          <p:spPr>
            <a:xfrm>
              <a:off x="3949200" y="31428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34" name="Group 11"/>
          <p:cNvGrpSpPr/>
          <p:nvPr/>
        </p:nvGrpSpPr>
        <p:grpSpPr>
          <a:xfrm>
            <a:off x="5272200" y="1519200"/>
            <a:ext cx="891720" cy="861840"/>
            <a:chOff x="5272200" y="1519200"/>
            <a:chExt cx="891720" cy="861840"/>
          </a:xfrm>
        </p:grpSpPr>
        <p:grpSp>
          <p:nvGrpSpPr>
            <p:cNvPr id="535" name="Group 12"/>
            <p:cNvGrpSpPr/>
            <p:nvPr/>
          </p:nvGrpSpPr>
          <p:grpSpPr>
            <a:xfrm>
              <a:off x="5272200" y="1519200"/>
              <a:ext cx="871560" cy="861840"/>
              <a:chOff x="5272200" y="1519200"/>
              <a:chExt cx="871560" cy="861840"/>
            </a:xfrm>
          </p:grpSpPr>
          <p:sp>
            <p:nvSpPr>
              <p:cNvPr id="536" name="Oval 13"/>
              <p:cNvSpPr/>
              <p:nvPr/>
            </p:nvSpPr>
            <p:spPr>
              <a:xfrm>
                <a:off x="527220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37" name="未知"/>
              <p:cNvSpPr/>
              <p:nvPr/>
            </p:nvSpPr>
            <p:spPr>
              <a:xfrm>
                <a:off x="537156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38" name="Text Box 15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39" name="Group 16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0" name="Group 17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1" name="Oval 18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42" name="未知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43" name="Text Box 20"/>
            <p:cNvSpPr/>
            <p:nvPr/>
          </p:nvSpPr>
          <p:spPr>
            <a:xfrm>
              <a:off x="154224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44" name="Group 21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45" name="Group 22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46" name="Oval 23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47" name="未知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48" name="Text Box 25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Group 3"/>
          <p:cNvGrpSpPr/>
          <p:nvPr/>
        </p:nvGrpSpPr>
        <p:grpSpPr>
          <a:xfrm>
            <a:off x="997200" y="1226520"/>
            <a:ext cx="6667920" cy="4675320"/>
            <a:chOff x="997200" y="1226520"/>
            <a:chExt cx="6667920" cy="4675320"/>
          </a:xfrm>
        </p:grpSpPr>
        <p:sp>
          <p:nvSpPr>
            <p:cNvPr id="551" name="Oval 4"/>
            <p:cNvSpPr/>
            <p:nvPr/>
          </p:nvSpPr>
          <p:spPr>
            <a:xfrm>
              <a:off x="2033640" y="423684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211e5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2" name="Oval 5"/>
            <p:cNvSpPr/>
            <p:nvPr/>
          </p:nvSpPr>
          <p:spPr>
            <a:xfrm rot="20601600">
              <a:off x="1308240" y="21236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3" name="Oval 6"/>
            <p:cNvSpPr/>
            <p:nvPr/>
          </p:nvSpPr>
          <p:spPr>
            <a:xfrm rot="20601600">
              <a:off x="1365120" y="19616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4" name="Arc 7"/>
            <p:cNvSpPr/>
            <p:nvPr/>
          </p:nvSpPr>
          <p:spPr>
            <a:xfrm rot="20601600">
              <a:off x="4012920" y="203940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5" name="Arc 8"/>
            <p:cNvSpPr/>
            <p:nvPr/>
          </p:nvSpPr>
          <p:spPr>
            <a:xfrm flipH="1" rot="20602200">
              <a:off x="1419120" y="335232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6" name="Arc 9"/>
            <p:cNvSpPr/>
            <p:nvPr/>
          </p:nvSpPr>
          <p:spPr>
            <a:xfrm rot="20601600">
              <a:off x="3257640" y="176796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7" name="Arc 10"/>
            <p:cNvSpPr/>
            <p:nvPr/>
          </p:nvSpPr>
          <p:spPr>
            <a:xfrm flipH="1" rot="20602200">
              <a:off x="1218960" y="242028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8" name="Oval 11"/>
            <p:cNvSpPr/>
            <p:nvPr/>
          </p:nvSpPr>
          <p:spPr>
            <a:xfrm rot="20601600">
              <a:off x="2826000" y="26762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9" name="Text Box 12"/>
            <p:cNvSpPr/>
            <p:nvPr/>
          </p:nvSpPr>
          <p:spPr>
            <a:xfrm>
              <a:off x="2141280" y="2898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0" name="Text Box 13"/>
            <p:cNvSpPr/>
            <p:nvPr/>
          </p:nvSpPr>
          <p:spPr>
            <a:xfrm>
              <a:off x="4046400" y="1984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1" name="Text Box 14"/>
            <p:cNvSpPr/>
            <p:nvPr/>
          </p:nvSpPr>
          <p:spPr>
            <a:xfrm>
              <a:off x="5722560" y="2441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6148440" y="29746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3" name="Arc 16"/>
            <p:cNvSpPr/>
            <p:nvPr/>
          </p:nvSpPr>
          <p:spPr>
            <a:xfrm rot="20539200">
              <a:off x="4546440" y="298080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5" name="Text Box 18"/>
            <p:cNvSpPr/>
            <p:nvPr/>
          </p:nvSpPr>
          <p:spPr>
            <a:xfrm>
              <a:off x="5722560" y="3431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6" name="Text Box 19"/>
            <p:cNvSpPr/>
            <p:nvPr/>
          </p:nvSpPr>
          <p:spPr>
            <a:xfrm>
              <a:off x="3970080" y="41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7" name="Text Box 20"/>
            <p:cNvSpPr/>
            <p:nvPr/>
          </p:nvSpPr>
          <p:spPr>
            <a:xfrm>
              <a:off x="2064960" y="4041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8" name="Oval 21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3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d69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d69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d1d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BC6-D626-4DF6-AD1D-16C7A5A075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2004840" y="2771640"/>
            <a:ext cx="5310360" cy="609480"/>
            <a:chOff x="2004840" y="2771640"/>
            <a:chExt cx="5310360" cy="609480"/>
          </a:xfrm>
        </p:grpSpPr>
        <p:grpSp>
          <p:nvGrpSpPr>
            <p:cNvPr id="99" name="Group 4"/>
            <p:cNvGrpSpPr/>
            <p:nvPr/>
          </p:nvGrpSpPr>
          <p:grpSpPr>
            <a:xfrm>
              <a:off x="2004840" y="2771640"/>
              <a:ext cx="609480" cy="609480"/>
              <a:chOff x="2004840" y="2771640"/>
              <a:chExt cx="609480" cy="609480"/>
            </a:xfrm>
          </p:grpSpPr>
          <p:sp>
            <p:nvSpPr>
              <p:cNvPr id="100" name="Oval 5"/>
              <p:cNvSpPr/>
              <p:nvPr/>
            </p:nvSpPr>
            <p:spPr>
              <a:xfrm>
                <a:off x="2004840" y="2771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50000">
                    <a:srgbClr val="ffffff"/>
                  </a:gs>
                  <a:gs pos="100000">
                    <a:srgbClr val="4da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1" name="Oval 6"/>
              <p:cNvSpPr/>
              <p:nvPr/>
            </p:nvSpPr>
            <p:spPr>
              <a:xfrm>
                <a:off x="2004840" y="2771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da6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2" name="Oval 7"/>
              <p:cNvSpPr/>
              <p:nvPr/>
            </p:nvSpPr>
            <p:spPr>
              <a:xfrm>
                <a:off x="2044440" y="28112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50000">
                    <a:srgbClr val="2a5a8a"/>
                  </a:gs>
                  <a:gs pos="100000">
                    <a:srgbClr val="4da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3" name="Oval 8"/>
              <p:cNvSpPr/>
              <p:nvPr/>
            </p:nvSpPr>
            <p:spPr>
              <a:xfrm>
                <a:off x="2084040" y="28508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0"/>
                    </a:srgbClr>
                  </a:gs>
                  <a:gs pos="100000">
                    <a:srgbClr val="3169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4" name="Oval 9"/>
              <p:cNvSpPr/>
              <p:nvPr/>
            </p:nvSpPr>
            <p:spPr>
              <a:xfrm>
                <a:off x="2073240" y="283824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5" name="Oval 10"/>
              <p:cNvSpPr/>
              <p:nvPr/>
            </p:nvSpPr>
            <p:spPr>
              <a:xfrm>
                <a:off x="2081160" y="284616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6" name="Oval 11"/>
              <p:cNvSpPr/>
              <p:nvPr/>
            </p:nvSpPr>
            <p:spPr>
              <a:xfrm>
                <a:off x="2087280" y="284940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7" name="Oval 12"/>
              <p:cNvSpPr/>
              <p:nvPr/>
            </p:nvSpPr>
            <p:spPr>
              <a:xfrm>
                <a:off x="2092320" y="285264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8" name="Oval 13"/>
              <p:cNvSpPr/>
              <p:nvPr/>
            </p:nvSpPr>
            <p:spPr>
              <a:xfrm>
                <a:off x="2116080" y="286524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09" name="Line 14"/>
            <p:cNvSpPr/>
            <p:nvPr/>
          </p:nvSpPr>
          <p:spPr>
            <a:xfrm>
              <a:off x="2514600" y="333360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2743200" y="28000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2135520" y="28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2023920" y="4572000"/>
            <a:ext cx="5291280" cy="609480"/>
            <a:chOff x="2023920" y="4572000"/>
            <a:chExt cx="5291280" cy="609480"/>
          </a:xfrm>
        </p:grpSpPr>
        <p:grpSp>
          <p:nvGrpSpPr>
            <p:cNvPr id="113" name="Group 18"/>
            <p:cNvGrpSpPr/>
            <p:nvPr/>
          </p:nvGrpSpPr>
          <p:grpSpPr>
            <a:xfrm>
              <a:off x="2023920" y="4572000"/>
              <a:ext cx="609480" cy="609480"/>
              <a:chOff x="2023920" y="4572000"/>
              <a:chExt cx="609480" cy="609480"/>
            </a:xfrm>
          </p:grpSpPr>
          <p:sp>
            <p:nvSpPr>
              <p:cNvPr id="114" name="Oval 19"/>
              <p:cNvSpPr/>
              <p:nvPr/>
            </p:nvSpPr>
            <p:spPr>
              <a:xfrm>
                <a:off x="2023920" y="45720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50000">
                    <a:srgbClr val="ffffff"/>
                  </a:gs>
                  <a:gs pos="100000">
                    <a:srgbClr val="4da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5" name="Oval 20"/>
              <p:cNvSpPr/>
              <p:nvPr/>
            </p:nvSpPr>
            <p:spPr>
              <a:xfrm>
                <a:off x="2023920" y="45720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da6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6" name="Oval 21"/>
              <p:cNvSpPr/>
              <p:nvPr/>
            </p:nvSpPr>
            <p:spPr>
              <a:xfrm>
                <a:off x="2063520" y="46116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50000">
                    <a:srgbClr val="2a5a8a"/>
                  </a:gs>
                  <a:gs pos="100000">
                    <a:srgbClr val="4da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7" name="Oval 22"/>
              <p:cNvSpPr/>
              <p:nvPr/>
            </p:nvSpPr>
            <p:spPr>
              <a:xfrm>
                <a:off x="2103120" y="46512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0"/>
                    </a:srgbClr>
                  </a:gs>
                  <a:gs pos="100000">
                    <a:srgbClr val="3169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8" name="Oval 23"/>
              <p:cNvSpPr/>
              <p:nvPr/>
            </p:nvSpPr>
            <p:spPr>
              <a:xfrm>
                <a:off x="2092320" y="46386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9" name="Oval 24"/>
              <p:cNvSpPr/>
              <p:nvPr/>
            </p:nvSpPr>
            <p:spPr>
              <a:xfrm>
                <a:off x="2100240" y="46465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0" name="Oval 25"/>
              <p:cNvSpPr/>
              <p:nvPr/>
            </p:nvSpPr>
            <p:spPr>
              <a:xfrm>
                <a:off x="2106360" y="46497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1" name="Oval 26"/>
              <p:cNvSpPr/>
              <p:nvPr/>
            </p:nvSpPr>
            <p:spPr>
              <a:xfrm>
                <a:off x="2111400" y="46530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2" name="Oval 27"/>
              <p:cNvSpPr/>
              <p:nvPr/>
            </p:nvSpPr>
            <p:spPr>
              <a:xfrm>
                <a:off x="2135160" y="46656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23" name="Line 28"/>
            <p:cNvSpPr/>
            <p:nvPr/>
          </p:nvSpPr>
          <p:spPr>
            <a:xfrm>
              <a:off x="2514600" y="51404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2743200" y="4606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2163960" y="464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26" name="Group 31"/>
          <p:cNvGrpSpPr/>
          <p:nvPr/>
        </p:nvGrpSpPr>
        <p:grpSpPr>
          <a:xfrm>
            <a:off x="1981080" y="1886040"/>
            <a:ext cx="5334120" cy="628560"/>
            <a:chOff x="1981080" y="1886040"/>
            <a:chExt cx="5334120" cy="628560"/>
          </a:xfrm>
        </p:grpSpPr>
        <p:sp>
          <p:nvSpPr>
            <p:cNvPr id="127" name="Line 32"/>
            <p:cNvSpPr/>
            <p:nvPr/>
          </p:nvSpPr>
          <p:spPr>
            <a:xfrm>
              <a:off x="2514600" y="24195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2743200" y="18860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29" name="Group 34"/>
            <p:cNvGrpSpPr/>
            <p:nvPr/>
          </p:nvGrpSpPr>
          <p:grpSpPr>
            <a:xfrm>
              <a:off x="1981080" y="1905120"/>
              <a:ext cx="609480" cy="609480"/>
              <a:chOff x="1981080" y="1905120"/>
              <a:chExt cx="609480" cy="609480"/>
            </a:xfrm>
          </p:grpSpPr>
          <p:grpSp>
            <p:nvGrpSpPr>
              <p:cNvPr id="130" name="Group 35"/>
              <p:cNvGrpSpPr/>
              <p:nvPr/>
            </p:nvGrpSpPr>
            <p:grpSpPr>
              <a:xfrm>
                <a:off x="1981080" y="1905120"/>
                <a:ext cx="609480" cy="609480"/>
                <a:chOff x="1981080" y="1905120"/>
                <a:chExt cx="609480" cy="609480"/>
              </a:xfrm>
            </p:grpSpPr>
            <p:sp>
              <p:nvSpPr>
                <p:cNvPr id="131" name="Text Box 36"/>
                <p:cNvSpPr/>
                <p:nvPr/>
              </p:nvSpPr>
              <p:spPr>
                <a:xfrm>
                  <a:off x="2106720" y="1981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2" name="Oval 37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3" name="Oval 38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d69e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4" name="Oval 39"/>
                <p:cNvSpPr/>
                <p:nvPr/>
              </p:nvSpPr>
              <p:spPr>
                <a:xfrm>
                  <a:off x="2009520" y="19144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50000">
                      <a:srgbClr val="007456"/>
                    </a:gs>
                    <a:gs pos="100000">
                      <a:srgbClr val="00d69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5" name="Oval 40"/>
                <p:cNvSpPr/>
                <p:nvPr/>
              </p:nvSpPr>
              <p:spPr>
                <a:xfrm>
                  <a:off x="2019240" y="19432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0"/>
                      </a:srgbClr>
                    </a:gs>
                    <a:gs pos="100000">
                      <a:srgbClr val="008864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6" name="Oval 41"/>
                <p:cNvSpPr/>
                <p:nvPr/>
              </p:nvSpPr>
              <p:spPr>
                <a:xfrm>
                  <a:off x="2038320" y="196236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2"/>
                <p:cNvSpPr/>
                <p:nvPr/>
              </p:nvSpPr>
              <p:spPr>
                <a:xfrm>
                  <a:off x="2057400" y="19796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8" name="Oval 43"/>
                <p:cNvSpPr/>
                <p:nvPr/>
              </p:nvSpPr>
              <p:spPr>
                <a:xfrm>
                  <a:off x="2063520" y="19828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9" name="Oval 44"/>
                <p:cNvSpPr/>
                <p:nvPr/>
              </p:nvSpPr>
              <p:spPr>
                <a:xfrm>
                  <a:off x="2068560" y="19861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5"/>
                <p:cNvSpPr/>
                <p:nvPr/>
              </p:nvSpPr>
              <p:spPr>
                <a:xfrm>
                  <a:off x="2092320" y="19987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Text Box 46"/>
              <p:cNvSpPr/>
              <p:nvPr/>
            </p:nvSpPr>
            <p:spPr>
              <a:xfrm>
                <a:off x="2106720" y="1981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47"/>
          <p:cNvGrpSpPr/>
          <p:nvPr/>
        </p:nvGrpSpPr>
        <p:grpSpPr>
          <a:xfrm>
            <a:off x="1981080" y="3692520"/>
            <a:ext cx="5334120" cy="631800"/>
            <a:chOff x="1981080" y="3692520"/>
            <a:chExt cx="5334120" cy="631800"/>
          </a:xfrm>
        </p:grpSpPr>
        <p:sp>
          <p:nvSpPr>
            <p:cNvPr id="143" name="Line 48"/>
            <p:cNvSpPr/>
            <p:nvPr/>
          </p:nvSpPr>
          <p:spPr>
            <a:xfrm>
              <a:off x="2514600" y="42260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44" name="Text Box 49"/>
            <p:cNvSpPr/>
            <p:nvPr/>
          </p:nvSpPr>
          <p:spPr>
            <a:xfrm>
              <a:off x="2743200" y="369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45" name="Group 50"/>
            <p:cNvGrpSpPr/>
            <p:nvPr/>
          </p:nvGrpSpPr>
          <p:grpSpPr>
            <a:xfrm>
              <a:off x="1981080" y="3714840"/>
              <a:ext cx="609480" cy="609480"/>
              <a:chOff x="1981080" y="3714840"/>
              <a:chExt cx="609480" cy="609480"/>
            </a:xfrm>
          </p:grpSpPr>
          <p:grpSp>
            <p:nvGrpSpPr>
              <p:cNvPr id="146" name="Group 51"/>
              <p:cNvGrpSpPr/>
              <p:nvPr/>
            </p:nvGrpSpPr>
            <p:grpSpPr>
              <a:xfrm>
                <a:off x="1981080" y="3714840"/>
                <a:ext cx="609480" cy="609480"/>
                <a:chOff x="1981080" y="3714840"/>
                <a:chExt cx="609480" cy="609480"/>
              </a:xfrm>
            </p:grpSpPr>
            <p:sp>
              <p:nvSpPr>
                <p:cNvPr id="147" name="Text Box 52"/>
                <p:cNvSpPr/>
                <p:nvPr/>
              </p:nvSpPr>
              <p:spPr>
                <a:xfrm>
                  <a:off x="2106720" y="37911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8" name="Oval 53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9" name="Oval 54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d69e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0" name="Oval 55"/>
                <p:cNvSpPr/>
                <p:nvPr/>
              </p:nvSpPr>
              <p:spPr>
                <a:xfrm>
                  <a:off x="2009520" y="37242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50000">
                      <a:srgbClr val="007456"/>
                    </a:gs>
                    <a:gs pos="100000">
                      <a:srgbClr val="00d69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1" name="Oval 56"/>
                <p:cNvSpPr/>
                <p:nvPr/>
              </p:nvSpPr>
              <p:spPr>
                <a:xfrm>
                  <a:off x="2019240" y="37530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0"/>
                      </a:srgbClr>
                    </a:gs>
                    <a:gs pos="100000">
                      <a:srgbClr val="008864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2" name="Oval 57"/>
                <p:cNvSpPr/>
                <p:nvPr/>
              </p:nvSpPr>
              <p:spPr>
                <a:xfrm>
                  <a:off x="2038320" y="377208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3" name="Oval 58"/>
                <p:cNvSpPr/>
                <p:nvPr/>
              </p:nvSpPr>
              <p:spPr>
                <a:xfrm>
                  <a:off x="2057400" y="37893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4" name="Oval 59"/>
                <p:cNvSpPr/>
                <p:nvPr/>
              </p:nvSpPr>
              <p:spPr>
                <a:xfrm>
                  <a:off x="2063520" y="37926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5" name="Oval 60"/>
                <p:cNvSpPr/>
                <p:nvPr/>
              </p:nvSpPr>
              <p:spPr>
                <a:xfrm>
                  <a:off x="2068560" y="37958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6" name="Oval 61"/>
                <p:cNvSpPr/>
                <p:nvPr/>
              </p:nvSpPr>
              <p:spPr>
                <a:xfrm>
                  <a:off x="2092320" y="38084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62"/>
              <p:cNvSpPr/>
              <p:nvPr/>
            </p:nvSpPr>
            <p:spPr>
              <a:xfrm>
                <a:off x="2106720" y="379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3335400" y="4606920"/>
            <a:ext cx="5274720" cy="1308240"/>
            <a:chOff x="3335400" y="4606920"/>
            <a:chExt cx="5274720" cy="1308240"/>
          </a:xfrm>
        </p:grpSpPr>
        <p:sp>
          <p:nvSpPr>
            <p:cNvPr id="575" name="未知"/>
            <p:cNvSpPr/>
            <p:nvPr/>
          </p:nvSpPr>
          <p:spPr>
            <a:xfrm>
              <a:off x="7679880" y="46069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747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3756600" y="46069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141a2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3335400" y="51606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78" name="Group 7"/>
          <p:cNvGrpSpPr/>
          <p:nvPr/>
        </p:nvGrpSpPr>
        <p:grpSpPr>
          <a:xfrm>
            <a:off x="3849840" y="3824280"/>
            <a:ext cx="4179240" cy="1181160"/>
            <a:chOff x="3849840" y="3824280"/>
            <a:chExt cx="4179240" cy="1181160"/>
          </a:xfrm>
        </p:grpSpPr>
        <p:sp>
          <p:nvSpPr>
            <p:cNvPr id="579" name="未知"/>
            <p:cNvSpPr/>
            <p:nvPr/>
          </p:nvSpPr>
          <p:spPr>
            <a:xfrm>
              <a:off x="7206840" y="38242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5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4261680" y="38242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4"/>
                </a:gs>
                <a:gs pos="100000">
                  <a:srgbClr val="00cc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3849840" y="42386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6e7c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2" name="Group 11"/>
          <p:cNvGrpSpPr/>
          <p:nvPr/>
        </p:nvGrpSpPr>
        <p:grpSpPr>
          <a:xfrm>
            <a:off x="4343400" y="3044880"/>
            <a:ext cx="3107880" cy="1027080"/>
            <a:chOff x="4343400" y="3044880"/>
            <a:chExt cx="3107880" cy="1027080"/>
          </a:xfrm>
        </p:grpSpPr>
        <p:sp>
          <p:nvSpPr>
            <p:cNvPr id="583" name="未知"/>
            <p:cNvSpPr/>
            <p:nvPr/>
          </p:nvSpPr>
          <p:spPr>
            <a:xfrm>
              <a:off x="6731640" y="30448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27a0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4762080" y="30448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44f06"/>
                </a:gs>
                <a:gs pos="100000">
                  <a:srgbClr val="f4a70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4343400" y="33206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ad58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6" name="Group 15"/>
          <p:cNvGrpSpPr/>
          <p:nvPr/>
        </p:nvGrpSpPr>
        <p:grpSpPr>
          <a:xfrm>
            <a:off x="4844880" y="2257560"/>
            <a:ext cx="2025360" cy="893520"/>
            <a:chOff x="4844880" y="2257560"/>
            <a:chExt cx="2025360" cy="893520"/>
          </a:xfrm>
        </p:grpSpPr>
        <p:sp>
          <p:nvSpPr>
            <p:cNvPr id="587" name="未知"/>
            <p:cNvSpPr/>
            <p:nvPr/>
          </p:nvSpPr>
          <p:spPr>
            <a:xfrm>
              <a:off x="6250680" y="2257560"/>
              <a:ext cx="619560" cy="89352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a38c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5271480" y="22575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32482"/>
                </a:gs>
                <a:gs pos="100000">
                  <a:srgbClr val="c247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844880" y="2390040"/>
              <a:ext cx="1831320" cy="7606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e0a3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90" name="Group 19"/>
          <p:cNvGrpSpPr/>
          <p:nvPr/>
        </p:nvGrpSpPr>
        <p:grpSpPr>
          <a:xfrm>
            <a:off x="5342040" y="1469880"/>
            <a:ext cx="948960" cy="757440"/>
            <a:chOff x="5342040" y="1469880"/>
            <a:chExt cx="948960" cy="757440"/>
          </a:xfrm>
        </p:grpSpPr>
        <p:sp>
          <p:nvSpPr>
            <p:cNvPr id="591" name="未知"/>
            <p:cNvSpPr/>
            <p:nvPr/>
          </p:nvSpPr>
          <p:spPr>
            <a:xfrm>
              <a:off x="5766480" y="1469880"/>
              <a:ext cx="524520" cy="7574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1c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5342040" y="1469880"/>
              <a:ext cx="850320" cy="7574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ec5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93" name="Group 22"/>
          <p:cNvGrpSpPr/>
          <p:nvPr/>
        </p:nvGrpSpPr>
        <p:grpSpPr>
          <a:xfrm>
            <a:off x="1294920" y="1560600"/>
            <a:ext cx="4419720" cy="4328640"/>
            <a:chOff x="1294920" y="1560600"/>
            <a:chExt cx="4419720" cy="4328640"/>
          </a:xfrm>
        </p:grpSpPr>
        <p:sp>
          <p:nvSpPr>
            <p:cNvPr id="594" name="Line 23"/>
            <p:cNvSpPr/>
            <p:nvPr/>
          </p:nvSpPr>
          <p:spPr>
            <a:xfrm flipH="1">
              <a:off x="1295280" y="5887800"/>
              <a:ext cx="195768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 flipH="1">
              <a:off x="1294920" y="5015160"/>
              <a:ext cx="252684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6" name="Line 25"/>
            <p:cNvSpPr/>
            <p:nvPr/>
          </p:nvSpPr>
          <p:spPr>
            <a:xfrm flipH="1">
              <a:off x="1294920" y="4110480"/>
              <a:ext cx="296604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7" name="Line 26"/>
            <p:cNvSpPr/>
            <p:nvPr/>
          </p:nvSpPr>
          <p:spPr>
            <a:xfrm flipH="1">
              <a:off x="1294920" y="3221280"/>
              <a:ext cx="347220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8" name="Line 27"/>
            <p:cNvSpPr/>
            <p:nvPr/>
          </p:nvSpPr>
          <p:spPr>
            <a:xfrm flipH="1">
              <a:off x="1294920" y="2325600"/>
              <a:ext cx="397620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9" name="Line 28"/>
            <p:cNvSpPr/>
            <p:nvPr/>
          </p:nvSpPr>
          <p:spPr>
            <a:xfrm flipH="1">
              <a:off x="1295280" y="1560600"/>
              <a:ext cx="441936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600" name="Line 29"/>
          <p:cNvSpPr/>
          <p:nvPr/>
        </p:nvSpPr>
        <p:spPr>
          <a:xfrm>
            <a:off x="1582560" y="1447920"/>
            <a:ext cx="1800" cy="7524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1582560" y="2247840"/>
            <a:ext cx="1800" cy="8874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2" name="Line 31"/>
          <p:cNvSpPr/>
          <p:nvPr/>
        </p:nvSpPr>
        <p:spPr>
          <a:xfrm>
            <a:off x="1582560" y="3182760"/>
            <a:ext cx="1800" cy="8892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3" name="Line 32"/>
          <p:cNvSpPr/>
          <p:nvPr/>
        </p:nvSpPr>
        <p:spPr>
          <a:xfrm>
            <a:off x="1582560" y="4119480"/>
            <a:ext cx="1800" cy="8892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4" name="Line 33"/>
          <p:cNvSpPr/>
          <p:nvPr/>
        </p:nvSpPr>
        <p:spPr>
          <a:xfrm>
            <a:off x="1582560" y="5051520"/>
            <a:ext cx="1800" cy="8208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5" name="Text Box 34"/>
          <p:cNvSpPr/>
          <p:nvPr/>
        </p:nvSpPr>
        <p:spPr>
          <a:xfrm>
            <a:off x="1635840" y="16444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6" name="Text Box 35"/>
          <p:cNvSpPr/>
          <p:nvPr/>
        </p:nvSpPr>
        <p:spPr>
          <a:xfrm>
            <a:off x="1635840" y="25588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7" name="Text Box 36"/>
          <p:cNvSpPr/>
          <p:nvPr/>
        </p:nvSpPr>
        <p:spPr>
          <a:xfrm>
            <a:off x="1635840" y="347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8" name="Text Box 37"/>
          <p:cNvSpPr/>
          <p:nvPr/>
        </p:nvSpPr>
        <p:spPr>
          <a:xfrm>
            <a:off x="1635840" y="4387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9" name="Text Box 38"/>
          <p:cNvSpPr/>
          <p:nvPr/>
        </p:nvSpPr>
        <p:spPr>
          <a:xfrm>
            <a:off x="1635840" y="53020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0" name="Text Box 39"/>
          <p:cNvSpPr/>
          <p:nvPr/>
        </p:nvSpPr>
        <p:spPr>
          <a:xfrm>
            <a:off x="5482440" y="1844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1" name="Text Box 40"/>
          <p:cNvSpPr/>
          <p:nvPr/>
        </p:nvSpPr>
        <p:spPr>
          <a:xfrm>
            <a:off x="5482440" y="2682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2" name="Text Box 41"/>
          <p:cNvSpPr/>
          <p:nvPr/>
        </p:nvSpPr>
        <p:spPr>
          <a:xfrm>
            <a:off x="5482440" y="3597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3" name="Text Box 42"/>
          <p:cNvSpPr/>
          <p:nvPr/>
        </p:nvSpPr>
        <p:spPr>
          <a:xfrm>
            <a:off x="5482440" y="4511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4" name="Text Box 43"/>
          <p:cNvSpPr/>
          <p:nvPr/>
        </p:nvSpPr>
        <p:spPr>
          <a:xfrm>
            <a:off x="5482440" y="54259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d69e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d1d1d1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638320" y="6172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WordArt 3"/>
          <p:cNvSpPr txBox="1"/>
          <p:nvPr/>
        </p:nvSpPr>
        <p:spPr>
          <a:xfrm>
            <a:off x="3429000" y="35053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bb2"/>
                    </a:gs>
                    <a:gs pos="100000">
                      <a:srgbClr val="00d69e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bb2"/>
                  </a:gs>
                  <a:gs pos="100000">
                    <a:srgbClr val="00d69e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304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d6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715000" y="34718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38400" y="347652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aed2"/>
              </a:gs>
              <a:gs pos="100000">
                <a:srgbClr val="0000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c1e7"/>
              </a:gs>
              <a:gs pos="100000">
                <a:srgbClr val="003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70" name="Group 12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71" name="Oval 13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684d"/>
                  </a:gs>
                  <a:gs pos="100000">
                    <a:srgbClr val="00d69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72" name="Oval 14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d69e"/>
                  </a:gs>
                  <a:gs pos="100000">
                    <a:srgbClr val="8eedd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73" name="Oval 15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003bb2"/>
                </a:gs>
                <a:gs pos="100000">
                  <a:srgbClr val="001b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a6bbe4"/>
                </a:gs>
                <a:gs pos="100000">
                  <a:srgbClr val="003bb2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003bb2">
                    <a:alpha val="48235"/>
                  </a:srgbClr>
                </a:gs>
                <a:gs pos="100000">
                  <a:srgbClr val="002f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003bb2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523880" y="1600200"/>
            <a:ext cx="1752480" cy="4267080"/>
            <a:chOff x="1523880" y="1600200"/>
            <a:chExt cx="1752480" cy="4267080"/>
          </a:xfrm>
        </p:grpSpPr>
        <p:sp>
          <p:nvSpPr>
            <p:cNvPr id="180" name="AutoShape 4"/>
            <p:cNvSpPr/>
            <p:nvPr/>
          </p:nvSpPr>
          <p:spPr>
            <a:xfrm>
              <a:off x="1600200" y="320040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1817640" y="38862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2" name="AutoShape 6"/>
            <p:cNvSpPr/>
            <p:nvPr/>
          </p:nvSpPr>
          <p:spPr>
            <a:xfrm>
              <a:off x="1523880" y="160020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>
              <a:off x="1565280" y="309240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4" name="AutoShape 8"/>
            <p:cNvSpPr/>
            <p:nvPr/>
          </p:nvSpPr>
          <p:spPr>
            <a:xfrm>
              <a:off x="1565280" y="162252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198288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6" name="AutoShape 10"/>
            <p:cNvSpPr/>
            <p:nvPr/>
          </p:nvSpPr>
          <p:spPr>
            <a:xfrm flipV="1">
              <a:off x="1709640" y="55332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87" name="Group 11"/>
          <p:cNvGrpSpPr/>
          <p:nvPr/>
        </p:nvGrpSpPr>
        <p:grpSpPr>
          <a:xfrm>
            <a:off x="6059520" y="2286000"/>
            <a:ext cx="1712880" cy="3581280"/>
            <a:chOff x="6059520" y="2286000"/>
            <a:chExt cx="1712880" cy="3581280"/>
          </a:xfrm>
        </p:grpSpPr>
        <p:sp>
          <p:nvSpPr>
            <p:cNvPr id="188" name="AutoShape 12"/>
            <p:cNvSpPr/>
            <p:nvPr/>
          </p:nvSpPr>
          <p:spPr>
            <a:xfrm>
              <a:off x="6121440" y="365760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6339240" y="431172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0" name="AutoShape 14"/>
            <p:cNvSpPr/>
            <p:nvPr/>
          </p:nvSpPr>
          <p:spPr>
            <a:xfrm>
              <a:off x="6059520" y="228600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6099120" y="366552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6099120" y="2306520"/>
              <a:ext cx="1639800" cy="47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555240" y="27432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 flipV="1">
              <a:off x="6248520" y="55620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95" name="Group 19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196" name="AutoShape 20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8" name="AutoShape 22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9" name="AutoShape 23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2" name="AutoShape 26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a6ff"/>
              </a:gs>
              <a:gs pos="50000">
                <a:srgbClr val="244d76"/>
              </a:gs>
              <a:gs pos="100000">
                <a:srgbClr val="4da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a6ff"/>
              </a:gs>
              <a:gs pos="50000">
                <a:srgbClr val="244d76"/>
              </a:gs>
              <a:gs pos="100000">
                <a:srgbClr val="4da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a6ff"/>
              </a:gs>
              <a:gs pos="50000">
                <a:srgbClr val="244d76"/>
              </a:gs>
              <a:gs pos="100000">
                <a:srgbClr val="4da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d46ae8"/>
              </a:gs>
              <a:gs pos="50000">
                <a:srgbClr val="62316b"/>
              </a:gs>
              <a:gs pos="100000">
                <a:srgbClr val="d46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d69e"/>
              </a:gs>
              <a:gs pos="50000">
                <a:srgbClr val="006349"/>
              </a:gs>
              <a:gs pos="100000">
                <a:srgbClr val="00d6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a6ff"/>
              </a:gs>
              <a:gs pos="50000">
                <a:srgbClr val="244d76"/>
              </a:gs>
              <a:gs pos="100000">
                <a:srgbClr val="4da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a6ff"/>
              </a:gs>
              <a:gs pos="50000">
                <a:srgbClr val="244d76"/>
              </a:gs>
              <a:gs pos="100000">
                <a:srgbClr val="4da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a6ff"/>
              </a:gs>
              <a:gs pos="50000">
                <a:srgbClr val="244d76"/>
              </a:gs>
              <a:gs pos="100000">
                <a:srgbClr val="4da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3bb2"/>
              </a:gs>
              <a:gs pos="50000">
                <a:srgbClr val="001b52"/>
              </a:gs>
              <a:gs pos="100000">
                <a:srgbClr val="003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3bb2"/>
              </a:gs>
              <a:gs pos="50000">
                <a:srgbClr val="001b52"/>
              </a:gs>
              <a:gs pos="100000">
                <a:srgbClr val="003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3bb2"/>
              </a:gs>
              <a:gs pos="50000">
                <a:srgbClr val="001b52"/>
              </a:gs>
              <a:gs pos="100000">
                <a:srgbClr val="003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2917080" y="1981080"/>
            <a:ext cx="3157560" cy="2841480"/>
            <a:chOff x="2917080" y="1981080"/>
            <a:chExt cx="3157560" cy="2841480"/>
          </a:xfrm>
        </p:grpSpPr>
        <p:sp>
          <p:nvSpPr>
            <p:cNvPr id="230" name="AutoShape 10"/>
            <p:cNvSpPr/>
            <p:nvPr/>
          </p:nvSpPr>
          <p:spPr>
            <a:xfrm flipH="1" rot="16200000">
              <a:off x="2835000" y="309132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555555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1" name="AutoShape 11"/>
            <p:cNvSpPr/>
            <p:nvPr/>
          </p:nvSpPr>
          <p:spPr>
            <a:xfrm flipH="1" rot="5400000">
              <a:off x="5665320" y="303732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555555"/>
                </a:gs>
                <a:gs pos="100000">
                  <a:srgbClr val="d1d1d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2" name="AutoShape 12"/>
            <p:cNvSpPr/>
            <p:nvPr/>
          </p:nvSpPr>
          <p:spPr>
            <a:xfrm flipH="1" rot="10800000">
              <a:off x="4252320" y="449568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555555"/>
                </a:gs>
                <a:gs pos="100000">
                  <a:srgbClr val="d1d1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3" name="Oval 13"/>
            <p:cNvSpPr/>
            <p:nvPr/>
          </p:nvSpPr>
          <p:spPr>
            <a:xfrm>
              <a:off x="3223080" y="1981080"/>
              <a:ext cx="256860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3369240" y="2125440"/>
              <a:ext cx="227448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3503160" y="2260440"/>
              <a:ext cx="2007360" cy="2006640"/>
            </a:xfrm>
            <a:prstGeom prst="ellipse">
              <a:avLst/>
            </a:prstGeom>
            <a:gradFill rotWithShape="0">
              <a:gsLst>
                <a:gs pos="0">
                  <a:srgbClr val="00d69e"/>
                </a:gs>
                <a:gs pos="50000">
                  <a:srgbClr val="ffffff"/>
                </a:gs>
                <a:gs pos="100000">
                  <a:srgbClr val="00d69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3503160" y="2260440"/>
              <a:ext cx="200736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3635280" y="2392200"/>
              <a:ext cx="1743120" cy="1743120"/>
            </a:xfrm>
            <a:prstGeom prst="ellipse">
              <a:avLst/>
            </a:prstGeom>
            <a:gradFill rotWithShape="0">
              <a:gsLst>
                <a:gs pos="0">
                  <a:srgbClr val="00d69e"/>
                </a:gs>
                <a:gs pos="50000">
                  <a:srgbClr val="007456"/>
                </a:gs>
                <a:gs pos="100000">
                  <a:srgbClr val="00d69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3635280" y="2392200"/>
              <a:ext cx="174312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381564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40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未知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563f"/>
              </a:gs>
              <a:gs pos="50000">
                <a:srgbClr val="00281d"/>
              </a:gs>
              <a:gs pos="100000">
                <a:srgbClr val="0056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0" name="未知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b1092"/>
              </a:gs>
              <a:gs pos="50000">
                <a:srgbClr val="230744"/>
              </a:gs>
              <a:gs pos="100000">
                <a:srgbClr val="4b10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1" name="未知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90330a"/>
              </a:gs>
              <a:gs pos="50000">
                <a:srgbClr val="431805"/>
              </a:gs>
              <a:gs pos="100000">
                <a:srgbClr val="9033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3" name="未知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906b0e"/>
              </a:gs>
              <a:gs pos="50000">
                <a:srgbClr val="433206"/>
              </a:gs>
              <a:gs pos="100000">
                <a:srgbClr val="906b0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4" name="未知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906a"/>
              </a:gs>
              <a:gs pos="50000">
                <a:srgbClr val="00684d"/>
              </a:gs>
              <a:gs pos="100000">
                <a:srgbClr val="00906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8041ff"/>
              </a:gs>
              <a:gs pos="50000">
                <a:srgbClr val="5d2fb9"/>
              </a:gs>
              <a:gs pos="100000">
                <a:srgbClr val="8041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dc7150"/>
              </a:gs>
              <a:gs pos="50000">
                <a:srgbClr val="a0523a"/>
              </a:gs>
              <a:gs pos="100000">
                <a:srgbClr val="dc71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d0a11c"/>
              </a:gs>
              <a:gs pos="50000">
                <a:srgbClr val="977514"/>
              </a:gs>
              <a:gs pos="100000">
                <a:srgbClr val="d0a11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3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6c8ed3"/>
              </a:gs>
              <a:gs pos="100000">
                <a:srgbClr val="0627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9T03:12:12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