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gif" ContentType="image/gif"/>
  <Override PartName="/ppt/media/image9.gif" ContentType="image/gif"/>
  <Override PartName="/ppt/media/image17.gif" ContentType="image/gif"/>
  <Override PartName="/ppt/media/image3.png" ContentType="image/png"/>
  <Override PartName="/ppt/media/image15.gif" ContentType="image/gif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D37-A751-4AE2-9200-F4F6C25D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7A7-45CB-40CB-88B2-9FBDEDE1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6EF-F51C-4B4C-BCE3-9042D1A9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E8E-1E51-4FE8-A0B7-237F77A7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EE58-C000-41F8-89AE-5D91521C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A162-10F0-4180-A2B8-70AECF30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9B36-7200-4375-9CA5-CA8C88FF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22A1-958A-47F1-AA3B-7B944ACA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1C49-95F3-4C43-8C9F-4C53AB01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4418-6F47-4503-AEC5-2BDDE1A7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4FE7-E2CD-497D-AEAF-FE0222D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432-B7B0-4F73-ABE6-4E0BAF7C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C83E-E8BA-49C5-9D74-C2BDED7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5F08-7CE6-420C-BF65-FB1CFA77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DB0-71E8-400F-A395-EE2B7D77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2EBB-20BE-4F54-9B26-1F84B8EE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D567-E708-4A7C-9F17-A220C31D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030F-490D-4722-9B47-7301D3DC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2CDC-E790-4E08-BEA2-23405673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2C20-3E21-4DE7-8E59-5424825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2ABE-EC36-4138-ACB6-23EFF577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B0C6-1DF6-4CA2-82A8-2C748B7D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FC4-C432-4686-B7BD-C38B3742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F7DC-2D7E-481B-BDA0-DFC622AF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4EBB-A5DF-4572-9840-71AEE8F0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951C-6BC4-4E09-AE7C-40E2D5B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E6FA-0D28-473E-99EF-45B61B75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97A6-61BA-4E1D-AE3D-560778C3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F175-05C4-4B6F-8014-5AA828FA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62F4-6DEE-4DC8-8A65-C77E95CF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BDE0-27A7-4F7F-B427-562F9379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80F98-C01D-40D1-B756-4C96136E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5607-9168-4C0A-BB0D-CE84344B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04A-4CC8-42BF-A8E2-584DF1DD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EE81-FBA2-446C-8778-6E6F6138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DD01-145E-441C-ABA7-76ADA76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C428A-53F1-4216-8756-9BE9BCF6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5E25-6228-45F8-AA29-A69661B2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A1D1-A634-435F-8630-B25AC177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DE0D0-A60E-4CA3-B607-DE1B69C8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6E8A-D96E-4912-ADD2-C3B6CA9A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652B-E8DD-4A19-BADA-A30895AC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1343-638D-403E-95DA-9F1B0C6A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B7A-AA5B-4D07-B75A-A242B148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51D-7724-4A2C-8C13-C305DF2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8E7-9ACB-414B-8912-B8F3DBE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65D-1707-4B01-8662-FF205CB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532-2346-457E-9303-97123DF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8C60-FCF9-4B05-AEB8-14BE9920B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2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65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D112-134F-47A2-B8CE-B4C72223F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4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1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12D-8CF7-4BA2-B487-7D8FD04C0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E2DC-02A5-4832-B036-B4A7DC6A4F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725800" y="234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6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0800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97960" y="1628640"/>
            <a:ext cx="16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唯一的听众课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95280" y="1263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后来，拉小提琴成了我无法割舍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的爱好，我能熟练地拉许多曲子。在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各种文艺晚会上，我有机会面对成百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上千的观众演奏小提琴曲。那时，我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总是不由得想起那位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耳聋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的老人，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那清晨里唯一的听众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Tahoma"/>
              </a:rPr>
              <a:t>……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翘翘板"/>
          <p:cNvPicPr/>
          <p:nvPr/>
        </p:nvPicPr>
        <p:blipFill>
          <a:blip r:embed="rId2"/>
          <a:stretch/>
        </p:blipFill>
        <p:spPr>
          <a:xfrm>
            <a:off x="7467480" y="1066680"/>
            <a:ext cx="1212840" cy="7178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1972800" y="1019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737360" y="2057400"/>
            <a:ext cx="54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认为这篇课文的中心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28600" y="3809880"/>
            <a:ext cx="864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中妹妹的角色是必须有的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怎样理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640" y="64008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比一比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思考一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我一直珍藏着一位老人美好的心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这句话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美好的心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含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0240"/>
          <p:cNvPicPr/>
          <p:nvPr/>
        </p:nvPicPr>
        <p:blipFill>
          <a:blip r:embed="rId2"/>
          <a:stretch/>
        </p:blipFill>
        <p:spPr>
          <a:xfrm>
            <a:off x="7772400" y="990720"/>
            <a:ext cx="779400" cy="779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304920" y="2209680"/>
            <a:ext cx="84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感情的朗读下面的短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研究相关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820160" y="990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探究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152280"/>
            <a:ext cx="883908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  灵   有  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小女孩因为长得又矮又瘦而被老师排除在合唱团之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躲在公园里伤心地流泪。她想：我为什么不能去唱歌呢？难道我真的唱得很难听吗？想着想着，小女孩就低声唱了起来，她唱了一支又一支，直到唱累了为止。“唱得真好！” 一个声音响了起来，“谢谢你，小姑娘，你让我渡过了一个愉快的下午。”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这时小姑娘惊呆了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话的老人说完就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第二天下午再去时，那老人还坐在原来的位置上，满脸慈祥地看着她微笑。小女孩又唱起来，老人聚精会神地听着，一副陶醉其中的表情。最后他大声喝彩，说：“谢谢你，小姑娘，你唱得太棒了！”说完又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过去了许多年后，小女孩成了大女孩，而且成了有名的歌星。但她忘不了公园里那个慈祥的老人。一个冬日的下午，她特意去公园找老人，令她失望的是那里只有一张小小的孤独的靠椅。后来才知道，老人早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是个聋子，都聋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了！”一个知情人告诉她。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姑娘惊呆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533520" y="22096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章两次写到小姑娘惊呆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别说说 她“惊呆”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33520" y="38098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短文中的老人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一的听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的老人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068200" y="1030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ahoma"/>
                <a:ea typeface="华文彩云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Q_015"/>
          <p:cNvPicPr/>
          <p:nvPr/>
        </p:nvPicPr>
        <p:blipFill>
          <a:blip r:embed="rId2"/>
          <a:stretch/>
        </p:blipFill>
        <p:spPr>
          <a:xfrm>
            <a:off x="8229600" y="1143000"/>
            <a:ext cx="609480" cy="61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84360" y="6922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219320" y="99072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创新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84360" y="2781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同学们，你在成长的过程中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定也得到过许多人的帮助和关怀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选择一件写一写，表达你的感激之情。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字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8640" y="64008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353A-A77B-4513-BD75-3A5B7EEAA7B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铅笔"/>
          <p:cNvPicPr/>
          <p:nvPr/>
        </p:nvPicPr>
        <p:blipFill>
          <a:blip r:embed="rId2"/>
          <a:stretch/>
        </p:blipFill>
        <p:spPr>
          <a:xfrm flipH="1">
            <a:off x="7391520" y="121932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飞信"/>
          <p:cNvPicPr/>
          <p:nvPr/>
        </p:nvPicPr>
        <p:blipFill>
          <a:blip r:embed="rId3"/>
          <a:stretch/>
        </p:blipFill>
        <p:spPr>
          <a:xfrm>
            <a:off x="1295280" y="4724280"/>
            <a:ext cx="365400" cy="2286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15238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371600" y="990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Tahoma"/>
                <a:ea typeface="华文彩云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观察你身边最亲近人的一天，以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爱在我身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主题写一篇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25702" dir="1234696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49568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今天，我们能强健而正直地生活着，我们应该对那些在我们生命历程中用关爱扶持我们的人，用智慧启迪我们的人，用美德陶冶我们的人，用真情沐浴我们的人，心存感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80" y="3733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多一份感激，就少一份冷漠；多一份感激，就少一份虚荣；多一份感激，就多一份奉献</a:t>
            </a: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存感激，是一种明朗的心境，一种人性的光辉，天空因此而变得湛蓝，空气因此而变得湿润，美好的事物因此而变得离我们很近很近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5562720" y="7621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ahoma"/>
                <a:ea typeface="华文彩云"/>
              </a:rPr>
              <a:t>心 存 感 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荷花动画2"/>
          <p:cNvPicPr/>
          <p:nvPr/>
        </p:nvPicPr>
        <p:blipFill>
          <a:blip r:embed="rId2"/>
          <a:stretch/>
        </p:blipFill>
        <p:spPr>
          <a:xfrm>
            <a:off x="4419720" y="304920"/>
            <a:ext cx="976320" cy="1218960"/>
          </a:xfrm>
          <a:prstGeom prst="rect">
            <a:avLst/>
          </a:prstGeom>
          <a:ln w="0">
            <a:noFill/>
          </a:ln>
        </p:spPr>
      </p:pic>
      <p:pic>
        <p:nvPicPr>
          <p:cNvPr id="287" name="感恩的心.mpg" descr=""/>
          <p:cNvPicPr/>
          <p:nvPr/>
        </p:nvPicPr>
        <p:blipFill>
          <a:blip r:embed="rId3"/>
          <a:stretch/>
        </p:blipFill>
        <p:spPr>
          <a:xfrm>
            <a:off x="0" y="0"/>
            <a:ext cx="3962520" cy="32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pic>
        <p:nvPicPr>
          <p:cNvPr id="288" name="Picture 8" descr="荷花动画"/>
          <p:cNvPicPr/>
          <p:nvPr/>
        </p:nvPicPr>
        <p:blipFill>
          <a:blip r:embed="rId4"/>
          <a:stretch/>
        </p:blipFill>
        <p:spPr>
          <a:xfrm>
            <a:off x="8061480" y="5775480"/>
            <a:ext cx="1082520" cy="108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258920" y="690480"/>
            <a:ext cx="3429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中练琴遭冷遇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4920" y="206064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中遇到夸“我”的耳聋老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到几分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066680" y="414972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道老妇人的身份，受到震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-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838080" y="536400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常想起这位德高望重的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 rot="5400000">
            <a:off x="6172200" y="2514600"/>
            <a:ext cx="35049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课文流程</a:t>
            </a:r>
            <a:endParaRPr b="0" lang="en-US" sz="1800" spc="-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22876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685800" y="21337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读一读课文的开头和结尾，说说我在音乐方面发生了什么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22876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373392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再读全文，结合课文内容概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发生变化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22876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22876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685800" y="510552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浏览课文，找出描写老人神态的关键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9"/>
          <p:cNvSpPr txBox="1"/>
          <p:nvPr/>
        </p:nvSpPr>
        <p:spPr>
          <a:xfrm>
            <a:off x="762120" y="22860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88720" y="691920"/>
            <a:ext cx="86756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我感觉到背后有人，转过身时，吓了一跳：一位极瘦极瘦的老妇人静静地坐在木椅上，平静地望着我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她一直很平静地望着我。我停下来时，她总不忘说上一句：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真不错。我的心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已经感受到了。谢谢你，小伙子。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她慈祥的眼神平静地望着我，像深深的潭水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Tahoma"/>
              </a:rPr>
              <a:t>……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470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我打扰了你吗？小伙子。不过，我每天早晨都在这儿坐一会儿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猜想你一定拉的非常好，只可惜我的耳朵聋了。如果不介意我在场的话，请继续吧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也许我会用心去感受这音乐。我能做你 的听众吗？就在每天早晨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真不错，我的心已经感受到了。谢谢你，小伙子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的琴声能给我带来快乐和幸福。”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496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懊恼极了，泪水几乎夺眶而出，不由得叨念着：“我这辈子甭想拉好琴了！”当我感觉到身后有人，并转过身去的时候，吓了一跳，一位极瘦极痩的老妇人坐在一张木椅上，她双眼                  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羞愧起来，同时暗暗有了几分信心。以后，每天清晨，我都到小树林里去练琴，面对我唯一的听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位耳聋的老人。她总是很                   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全力以赴地演奏，也许真的会给老人带来一丝快乐和幸福。她慈祥的眼睛                  我，像深深的潭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517440" y="1557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静地望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589080" y="34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静地望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438160" y="4941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静地望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101080" y="6237360"/>
            <a:ext cx="431640" cy="360360"/>
          </a:xfrm>
          <a:custGeom>
            <a:avLst/>
            <a:gdLst>
              <a:gd name="textAreaLeft" fmla="*/ 22320 w 431640"/>
              <a:gd name="textAreaRight" fmla="*/ 409320 w 431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518" y="1350"/>
                </a:lnTo>
                <a:lnTo>
                  <a:pt x="1350" y="135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518" y="20250"/>
                </a:lnTo>
                <a:lnTo>
                  <a:pt x="24518" y="135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18" y="2025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68" h="21600">
                <a:moveTo>
                  <a:pt x="5890" y="3756"/>
                </a:moveTo>
                <a:lnTo>
                  <a:pt x="19978" y="10800"/>
                </a:lnTo>
                <a:lnTo>
                  <a:pt x="5890" y="1784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640" y="64008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9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9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9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写一段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求：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平静的神态背后，老教授、“我”、还有作为读者的你自己都会有一种思潮在翻滚着，涌动着。请同学们联系上下文，发挥想像，任选一个角度写一段心理活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>
            <a:hlinkClick r:id="" action="ppaction://hlinkshowjump?jump=previousslide"/>
          </p:cNvPr>
          <p:cNvSpPr/>
          <p:nvPr/>
        </p:nvSpPr>
        <p:spPr>
          <a:xfrm>
            <a:off x="8459640" y="6021360"/>
            <a:ext cx="505080" cy="432000"/>
          </a:xfrm>
          <a:custGeom>
            <a:avLst/>
            <a:gdLst>
              <a:gd name="textAreaLeft" fmla="*/ 27000 w 505080"/>
              <a:gd name="textAreaRight" fmla="*/ 478080 w 50508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901" y="1350"/>
                </a:lnTo>
                <a:lnTo>
                  <a:pt x="1350" y="135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901" y="20250"/>
                </a:lnTo>
                <a:lnTo>
                  <a:pt x="23901" y="135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901" y="2025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51" h="21600">
                <a:moveTo>
                  <a:pt x="5582" y="10800"/>
                </a:moveTo>
                <a:lnTo>
                  <a:pt x="19669" y="3756"/>
                </a:lnTo>
                <a:lnTo>
                  <a:pt x="19669" y="1784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天清晨，我总是早早地来到林子里，面对着这位耳“聋”的音乐家，我唯一的听众，轻轻调好弦，然后静静地拉起一支优美的曲子。我渐渐地感到我造出了真正的音乐，那从琴弦上发出的美妙的声音充满了整个林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和老人没有交谈过什么，只是在每个清晨，一个人轻轻地拉，一个人静静地听。我看着这位老人安详地靠在木椅上，微笑着，手指悄悄地打着拍子。我全力以赴地演奏，也许真的会给老人带来一丝快乐和幸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008000" y="333360"/>
            <a:ext cx="81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那悄悄打着的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那多少次平静地望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那一声声鼓励的话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每天早晨来做惟一的听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10.mp3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5559480" y="501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971640" y="692280"/>
            <a:ext cx="73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后来，小提琴成了我无法割舍的爱好，我能熟练地拉出许多曲子。在各种文艺晚会上，我有机会面对成百上千的观众演奏小提琴曲。但我总是不由得想起那位耳“聋”的老人，每天清晨里我唯一的听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7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7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16:36Z</dcterms:created>
  <dc:creator/>
  <dc:description/>
  <cp:keywords>幻灯片之家 http:/www.eeppt.com</cp:keywords>
  <dc:language>en-US</dc:language>
  <cp:lastModifiedBy/>
  <dcterms:modified xsi:type="dcterms:W3CDTF">2015-07-12T09:38:45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