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429-520E-4876-B4CF-420DF84D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CBB-3B3F-4E8D-9211-BE224A10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BAC-0F6E-49D3-9DCA-A632E83F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D75-AC3C-4177-BC58-1F933A9B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D4A-3C4F-4583-95CC-AC60B464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A90-9389-49BD-B599-01986EBA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64A-E48C-4DD1-B8DB-159A19CF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929-160F-4C6A-909E-310D4EFD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1D9-C268-4C15-84CA-8E50612F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7ED-C7C3-4884-9477-5B38BA8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791-EAE6-44D0-98B7-172D715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056-A2B2-4DD2-85BA-95E76F8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23F6-E604-453E-AD26-74713C59D2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黑咖啡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4"/>
          <p:cNvGrpSpPr/>
          <p:nvPr/>
        </p:nvGrpSpPr>
        <p:grpSpPr>
          <a:xfrm>
            <a:off x="1859400" y="716760"/>
            <a:ext cx="5424840" cy="5424840"/>
            <a:chOff x="1859400" y="716760"/>
            <a:chExt cx="5424840" cy="5424840"/>
          </a:xfrm>
        </p:grpSpPr>
        <p:sp>
          <p:nvSpPr>
            <p:cNvPr id="43" name="环形箭头 12"/>
            <p:cNvSpPr/>
            <p:nvPr/>
          </p:nvSpPr>
          <p:spPr>
            <a:xfrm>
              <a:off x="2590920" y="1447920"/>
              <a:ext cx="3962160" cy="396216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76" y="19138"/>
                  </a:moveTo>
                  <a:arcTo wR="-8495" hR="-8495" stAng="6061065" swAng="-6061065"/>
                  <a:lnTo>
                    <a:pt x="0" y="10800"/>
                  </a:lnTo>
                  <a:arcTo wR="10800" hR="10800" stAng="10800000" swAng="6061065"/>
                  <a:lnTo>
                    <a:pt x="13380" y="-2451"/>
                  </a:lnTo>
                  <a:lnTo>
                    <a:pt x="16425" y="2067"/>
                  </a:lnTo>
                  <a:lnTo>
                    <a:pt x="11907" y="51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环形箭头 21"/>
            <p:cNvSpPr/>
            <p:nvPr/>
          </p:nvSpPr>
          <p:spPr>
            <a:xfrm rot="7191000">
              <a:off x="2590920" y="1447560"/>
              <a:ext cx="3962160" cy="396216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76" y="19138"/>
                  </a:moveTo>
                  <a:arcTo wR="-8495" hR="-8495" stAng="6061065" swAng="-6061065"/>
                  <a:lnTo>
                    <a:pt x="0" y="10800"/>
                  </a:lnTo>
                  <a:arcTo wR="10800" hR="10800" stAng="10800000" swAng="6061065"/>
                  <a:lnTo>
                    <a:pt x="13380" y="-2451"/>
                  </a:lnTo>
                  <a:lnTo>
                    <a:pt x="16425" y="2067"/>
                  </a:lnTo>
                  <a:lnTo>
                    <a:pt x="11907" y="51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1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环形箭头 22"/>
            <p:cNvSpPr/>
            <p:nvPr/>
          </p:nvSpPr>
          <p:spPr>
            <a:xfrm rot="14370000">
              <a:off x="2590560" y="1447920"/>
              <a:ext cx="3962160" cy="396216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76" y="19138"/>
                  </a:moveTo>
                  <a:arcTo wR="-8495" hR="-8495" stAng="6061065" swAng="-6061065"/>
                  <a:lnTo>
                    <a:pt x="0" y="10800"/>
                  </a:lnTo>
                  <a:arcTo wR="10800" hR="10800" stAng="10800000" swAng="6061065"/>
                  <a:lnTo>
                    <a:pt x="13380" y="-2451"/>
                  </a:lnTo>
                  <a:lnTo>
                    <a:pt x="16425" y="2067"/>
                  </a:lnTo>
                  <a:lnTo>
                    <a:pt x="11907" y="51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6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Freeform 40"/>
          <p:cNvSpPr/>
          <p:nvPr/>
        </p:nvSpPr>
        <p:spPr>
          <a:xfrm>
            <a:off x="6019920" y="3068640"/>
            <a:ext cx="2663640" cy="360360"/>
          </a:xfrm>
          <a:prstGeom prst="pie">
            <a:avLst/>
          </a:prstGeom>
          <a:noFill/>
          <a:ln w="9360">
            <a:solidFill>
              <a:srgbClr val="000000"/>
            </a:solidFill>
            <a:bevel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40"/>
          <p:cNvSpPr/>
          <p:nvPr/>
        </p:nvSpPr>
        <p:spPr>
          <a:xfrm flipH="1" flipV="1">
            <a:off x="990000" y="4571280"/>
            <a:ext cx="2663640" cy="360360"/>
          </a:xfrm>
          <a:prstGeom prst="pie">
            <a:avLst/>
          </a:prstGeom>
          <a:noFill/>
          <a:ln w="9360">
            <a:solidFill>
              <a:srgbClr val="000000"/>
            </a:solidFill>
            <a:bevel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40"/>
          <p:cNvSpPr/>
          <p:nvPr/>
        </p:nvSpPr>
        <p:spPr>
          <a:xfrm flipH="1">
            <a:off x="990000" y="1905120"/>
            <a:ext cx="2663640" cy="360360"/>
          </a:xfrm>
          <a:prstGeom prst="pie">
            <a:avLst/>
          </a:prstGeom>
          <a:noFill/>
          <a:ln w="9360">
            <a:solidFill>
              <a:srgbClr val="000000"/>
            </a:solidFill>
            <a:bevel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6643800" y="305928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6643800" y="26668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371600" y="191628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371600" y="1523880"/>
            <a:ext cx="17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1371600" y="49500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371600" y="4557600"/>
            <a:ext cx="17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6300720" y="15228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关系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>幻灯片之家 http:/www.eeppt.com</cp:keywords>
  <dc:language>en-US</dc:language>
  <cp:lastModifiedBy/>
  <cp:lastPrinted>2113-01-01T00:00:00Z</cp:lastPrinted>
  <dcterms:modified xsi:type="dcterms:W3CDTF">2015-07-09T11:32:21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图表制作3</vt:lpwstr>
  </property>
  <property fmtid="{D5CDD505-2E9C-101B-9397-08002B2CF9AE}" pid="4" name="Version">
    <vt:r8>1</vt:r8>
  </property>
</Properties>
</file>