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855575" cy="7235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9F51-51D9-472C-A758-D619504F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960" y="290160"/>
            <a:ext cx="11568240" cy="12049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1156824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4183200"/>
            <a:ext cx="1156824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E913-BFE1-43A0-84A8-A1BA5F52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960" y="290160"/>
            <a:ext cx="11568240" cy="12049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7072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23B-112D-49AC-A437-30313CA1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960" y="290160"/>
            <a:ext cx="11568240" cy="12049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4000" y="168912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65400" y="168912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418320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4000" y="418320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65400" y="418320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FCE-7E8F-4DEC-BDB2-E215D5DB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960" y="290160"/>
            <a:ext cx="11568240" cy="12049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89120"/>
            <a:ext cx="1156824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EBB8-F519-49FC-8E05-5CBA0718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960" y="290160"/>
            <a:ext cx="11568240" cy="12049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11568240" cy="47750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F95C-2724-4A2B-A61A-53BD0C23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960" y="290160"/>
            <a:ext cx="11568240" cy="12049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C4A-8D98-4897-AD30-21AFC3B2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960" y="290160"/>
            <a:ext cx="11568240" cy="12049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38C-CC12-4372-B3B1-7DD82771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960" y="290160"/>
            <a:ext cx="11568240" cy="55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C07-8C63-4272-8883-36E6DDB1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960" y="290160"/>
            <a:ext cx="11568240" cy="12049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D9D-B23F-470A-80C2-7C490103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960" y="290160"/>
            <a:ext cx="11568240" cy="12049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7072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B4E1-4A62-4372-A0B5-50FD564E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960" y="290160"/>
            <a:ext cx="11568240" cy="12049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4183200"/>
            <a:ext cx="1156824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D53-AB9C-41FD-9878-DA21F6B3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960" y="290160"/>
            <a:ext cx="11568240" cy="12049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89120"/>
            <a:ext cx="11568240" cy="47750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 fontScale="82000"/>
          </a:bodyPr>
          <a:p>
            <a:pPr marL="394200" indent="-394200">
              <a:spcBef>
                <a:spcPts val="112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1" marL="527040" indent="525600">
              <a:spcBef>
                <a:spcPts val="1125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2" marL="1054440" indent="-1440">
              <a:spcBef>
                <a:spcPts val="112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529560">
              <a:spcBef>
                <a:spcPts val="1125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4" marL="2108880" indent="-1055880">
              <a:spcBef>
                <a:spcPts val="11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5" marL="2108880" indent="-1055880">
              <a:spcBef>
                <a:spcPts val="11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6" marL="2108880" indent="-1055880">
              <a:spcBef>
                <a:spcPts val="11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2960" y="6708600"/>
            <a:ext cx="2998800" cy="38448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7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75D7EA85-10D9-40F8-969C-88C0E4D0BCBE}" type="datetime">
              <a:rPr b="0" lang="zh-CN" sz="17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90560" y="6708600"/>
            <a:ext cx="4071960" cy="38448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12400" y="6708600"/>
            <a:ext cx="2998800" cy="38448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7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11AC3464-8910-497F-A859-8857CD96C4E4}" type="slidenum">
              <a:rPr b="0" lang="zh-CN" sz="17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:\work\培训\培训2\新建文件夹\未标题-4.png"/>
          <p:cNvPicPr/>
          <p:nvPr/>
        </p:nvPicPr>
        <p:blipFill>
          <a:blip r:embed="rId1"/>
          <a:stretch/>
        </p:blipFill>
        <p:spPr>
          <a:xfrm>
            <a:off x="0" y="0"/>
            <a:ext cx="12860280" cy="7234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F:\work\培训\培训2\新建文件夹\未标题-6.png"/>
          <p:cNvPicPr/>
          <p:nvPr/>
        </p:nvPicPr>
        <p:blipFill>
          <a:blip r:embed="rId2"/>
          <a:stretch/>
        </p:blipFill>
        <p:spPr>
          <a:xfrm>
            <a:off x="0" y="0"/>
            <a:ext cx="12860280" cy="7234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:\work\培训\培训2\新建文件夹\未标题-18.png"/>
          <p:cNvPicPr/>
          <p:nvPr/>
        </p:nvPicPr>
        <p:blipFill>
          <a:blip r:embed="rId3"/>
          <a:srcRect l="24449" t="8525" r="7228" b="8525"/>
          <a:stretch/>
        </p:blipFill>
        <p:spPr>
          <a:xfrm>
            <a:off x="3139920" y="617400"/>
            <a:ext cx="8788680" cy="6002640"/>
          </a:xfrm>
          <a:prstGeom prst="rect">
            <a:avLst/>
          </a:prstGeom>
          <a:ln w="0">
            <a:noFill/>
          </a:ln>
        </p:spPr>
      </p:pic>
      <p:sp>
        <p:nvSpPr>
          <p:cNvPr id="44" name="同侧圆角矩形 116"/>
          <p:cNvSpPr/>
          <p:nvPr/>
        </p:nvSpPr>
        <p:spPr>
          <a:xfrm rot="5400000">
            <a:off x="9287280" y="1226160"/>
            <a:ext cx="352440" cy="2871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同侧圆角矩形 117"/>
          <p:cNvSpPr/>
          <p:nvPr/>
        </p:nvSpPr>
        <p:spPr>
          <a:xfrm rot="5400000">
            <a:off x="9287280" y="1832400"/>
            <a:ext cx="352440" cy="2871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同侧圆角矩形 118"/>
          <p:cNvSpPr/>
          <p:nvPr/>
        </p:nvSpPr>
        <p:spPr>
          <a:xfrm rot="5400000">
            <a:off x="9287280" y="2440440"/>
            <a:ext cx="352440" cy="2871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同侧圆角矩形 119"/>
          <p:cNvSpPr/>
          <p:nvPr/>
        </p:nvSpPr>
        <p:spPr>
          <a:xfrm rot="5400000">
            <a:off x="9287280" y="3048840"/>
            <a:ext cx="352440" cy="2871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侧圆角矩形 120"/>
          <p:cNvSpPr/>
          <p:nvPr/>
        </p:nvSpPr>
        <p:spPr>
          <a:xfrm rot="5400000">
            <a:off x="9287280" y="3656880"/>
            <a:ext cx="352440" cy="2871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1"/>
          <p:cNvSpPr/>
          <p:nvPr/>
        </p:nvSpPr>
        <p:spPr>
          <a:xfrm>
            <a:off x="8757720" y="24782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隐藏和显示鼠标指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2"/>
          <p:cNvSpPr/>
          <p:nvPr/>
        </p:nvSpPr>
        <p:spPr>
          <a:xfrm>
            <a:off x="9260640" y="3086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返回到第一张幻灯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3"/>
          <p:cNvSpPr/>
          <p:nvPr/>
        </p:nvSpPr>
        <p:spPr>
          <a:xfrm>
            <a:off x="8664840" y="36939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暂停或重新开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同侧圆角矩形 104"/>
          <p:cNvSpPr/>
          <p:nvPr/>
        </p:nvSpPr>
        <p:spPr>
          <a:xfrm rot="5400000">
            <a:off x="5429880" y="1226160"/>
            <a:ext cx="352440" cy="2872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同侧圆角矩形 105"/>
          <p:cNvSpPr/>
          <p:nvPr/>
        </p:nvSpPr>
        <p:spPr>
          <a:xfrm rot="5400000">
            <a:off x="5429880" y="1832400"/>
            <a:ext cx="352440" cy="2872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同侧圆角矩形 106"/>
          <p:cNvSpPr/>
          <p:nvPr/>
        </p:nvSpPr>
        <p:spPr>
          <a:xfrm rot="5400000">
            <a:off x="5429880" y="2440440"/>
            <a:ext cx="352440" cy="2872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同侧圆角矩形 107"/>
          <p:cNvSpPr/>
          <p:nvPr/>
        </p:nvSpPr>
        <p:spPr>
          <a:xfrm rot="5400000">
            <a:off x="5429880" y="3048480"/>
            <a:ext cx="352440" cy="2872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同侧圆角矩形 108"/>
          <p:cNvSpPr/>
          <p:nvPr/>
        </p:nvSpPr>
        <p:spPr>
          <a:xfrm rot="5400000">
            <a:off x="5429880" y="3656520"/>
            <a:ext cx="352440" cy="2872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F:\work\培训\培训2\新建文件夹\未标题-17.png"/>
          <p:cNvPicPr/>
          <p:nvPr/>
        </p:nvPicPr>
        <p:blipFill>
          <a:blip r:embed="rId4"/>
          <a:srcRect l="0" t="7574" r="74971" b="7311"/>
          <a:stretch/>
        </p:blipFill>
        <p:spPr>
          <a:xfrm>
            <a:off x="0" y="546120"/>
            <a:ext cx="3211560" cy="6145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F:\work\培训\培训2\新建文件夹\未标题-16.png"/>
          <p:cNvPicPr/>
          <p:nvPr/>
        </p:nvPicPr>
        <p:blipFill>
          <a:blip r:embed="rId5"/>
          <a:srcRect l="92229" t="7574" r="0" b="7311"/>
          <a:stretch/>
        </p:blipFill>
        <p:spPr>
          <a:xfrm>
            <a:off x="11856960" y="546120"/>
            <a:ext cx="997200" cy="6145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F:\work\培训\培训2\新建文件夹\未标题-8.png"/>
          <p:cNvPicPr/>
          <p:nvPr/>
        </p:nvPicPr>
        <p:blipFill>
          <a:blip r:embed="rId6"/>
          <a:srcRect l="22781" t="14447" r="71108" b="81601"/>
          <a:stretch/>
        </p:blipFill>
        <p:spPr>
          <a:xfrm>
            <a:off x="2425680" y="1189080"/>
            <a:ext cx="785880" cy="28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F:\work\培训\培训2\新建文件夹\未标题-9.png"/>
          <p:cNvPicPr/>
          <p:nvPr/>
        </p:nvPicPr>
        <p:blipFill>
          <a:blip r:embed="rId7"/>
          <a:srcRect l="0" t="13516" r="80147" b="78571"/>
          <a:stretch/>
        </p:blipFill>
        <p:spPr>
          <a:xfrm>
            <a:off x="20520" y="974880"/>
            <a:ext cx="2548080" cy="571320"/>
          </a:xfrm>
          <a:prstGeom prst="rect">
            <a:avLst/>
          </a:prstGeom>
          <a:ln w="0">
            <a:noFill/>
          </a:ln>
        </p:spPr>
      </p:pic>
      <p:sp>
        <p:nvSpPr>
          <p:cNvPr id="61" name="TextBox 31">
            <a:hlinkClick r:id="" action="ppaction://hlinkshowjump?jump=nextslide"/>
          </p:cNvPr>
          <p:cNvSpPr/>
          <p:nvPr/>
        </p:nvSpPr>
        <p:spPr>
          <a:xfrm>
            <a:off x="2089800" y="1546200"/>
            <a:ext cx="101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7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架 构</a:t>
            </a:r>
            <a:r>
              <a:rPr b="0" lang="en-US" sz="17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PP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2"/>
          <p:cNvSpPr/>
          <p:nvPr/>
        </p:nvSpPr>
        <p:spPr>
          <a:xfrm>
            <a:off x="2089800" y="1903320"/>
            <a:ext cx="101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7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版 式</a:t>
            </a:r>
            <a:r>
              <a:rPr b="0" lang="en-US" sz="17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PP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4"/>
          <p:cNvSpPr/>
          <p:nvPr/>
        </p:nvSpPr>
        <p:spPr>
          <a:xfrm>
            <a:off x="2089800" y="2249640"/>
            <a:ext cx="101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7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美 观</a:t>
            </a:r>
            <a:r>
              <a:rPr b="0" lang="en-US" sz="17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PP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5"/>
          <p:cNvSpPr/>
          <p:nvPr/>
        </p:nvSpPr>
        <p:spPr>
          <a:xfrm>
            <a:off x="2089800" y="2571840"/>
            <a:ext cx="101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7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生 动</a:t>
            </a:r>
            <a:r>
              <a:rPr b="0" lang="en-US" sz="17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PP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7"/>
          <p:cNvSpPr/>
          <p:nvPr/>
        </p:nvSpPr>
        <p:spPr>
          <a:xfrm>
            <a:off x="4014720" y="1047600"/>
            <a:ext cx="2949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演示管理与可视化沟通</a:t>
            </a:r>
            <a:r>
              <a:rPr b="1" lang="zh-CN" sz="23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PPT</a:t>
            </a:r>
            <a:r>
              <a:rPr b="1" lang="zh-CN" sz="23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图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0"/>
          <p:cNvSpPr/>
          <p:nvPr/>
        </p:nvSpPr>
        <p:spPr>
          <a:xfrm>
            <a:off x="9785520" y="103500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十部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5"/>
          <p:cNvSpPr/>
          <p:nvPr/>
        </p:nvSpPr>
        <p:spPr>
          <a:xfrm>
            <a:off x="2089800" y="2884320"/>
            <a:ext cx="101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7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演 示</a:t>
            </a:r>
            <a:r>
              <a:rPr b="0" lang="en-US" sz="17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PP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2"/>
          <p:cNvSpPr/>
          <p:nvPr/>
        </p:nvSpPr>
        <p:spPr>
          <a:xfrm>
            <a:off x="4664520" y="2478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快速放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3"/>
          <p:cNvSpPr/>
          <p:nvPr/>
        </p:nvSpPr>
        <p:spPr>
          <a:xfrm>
            <a:off x="4758120" y="308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快速停止放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4"/>
          <p:cNvSpPr/>
          <p:nvPr/>
        </p:nvSpPr>
        <p:spPr>
          <a:xfrm>
            <a:off x="4834080" y="3693960"/>
            <a:ext cx="16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任意进到第</a:t>
            </a:r>
            <a:r>
              <a:rPr b="0" lang="en-US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n</a:t>
            </a: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张幻灯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71"/>
          <p:cNvGrpSpPr/>
          <p:nvPr/>
        </p:nvGrpSpPr>
        <p:grpSpPr>
          <a:xfrm>
            <a:off x="4110120" y="3157560"/>
            <a:ext cx="225360" cy="225360"/>
            <a:chOff x="4110120" y="3157560"/>
            <a:chExt cx="225360" cy="225360"/>
          </a:xfrm>
        </p:grpSpPr>
        <p:sp>
          <p:nvSpPr>
            <p:cNvPr id="72" name="Oval 172"/>
            <p:cNvSpPr/>
            <p:nvPr/>
          </p:nvSpPr>
          <p:spPr>
            <a:xfrm>
              <a:off x="4163040" y="3210480"/>
              <a:ext cx="119160" cy="119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73"/>
            <p:cNvGrpSpPr/>
            <p:nvPr/>
          </p:nvGrpSpPr>
          <p:grpSpPr>
            <a:xfrm>
              <a:off x="4110120" y="3157560"/>
              <a:ext cx="225360" cy="225360"/>
              <a:chOff x="4110120" y="3157560"/>
              <a:chExt cx="225360" cy="225360"/>
            </a:xfrm>
          </p:grpSpPr>
          <p:sp>
            <p:nvSpPr>
              <p:cNvPr id="74" name="Oval 174"/>
              <p:cNvSpPr/>
              <p:nvPr/>
            </p:nvSpPr>
            <p:spPr>
              <a:xfrm>
                <a:off x="4110120" y="3157560"/>
                <a:ext cx="22536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47680"/>
                    <a:tab algn="l" pos="2295360"/>
                    <a:tab algn="l" pos="3443400"/>
                    <a:tab algn="l" pos="4591080"/>
                    <a:tab algn="l" pos="5738760"/>
                    <a:tab algn="l" pos="6886440"/>
                    <a:tab algn="l" pos="8034480"/>
                    <a:tab algn="l" pos="9182160"/>
                    <a:tab algn="l" pos="1032984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175"/>
              <p:cNvSpPr/>
              <p:nvPr/>
            </p:nvSpPr>
            <p:spPr>
              <a:xfrm>
                <a:off x="4121640" y="3169080"/>
                <a:ext cx="201960" cy="20196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47680"/>
                    <a:tab algn="l" pos="2295360"/>
                    <a:tab algn="l" pos="3443400"/>
                    <a:tab algn="l" pos="4591080"/>
                    <a:tab algn="l" pos="5738760"/>
                    <a:tab algn="l" pos="6886440"/>
                    <a:tab algn="l" pos="8034480"/>
                    <a:tab algn="l" pos="9182160"/>
                    <a:tab algn="l" pos="1032984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176"/>
              <p:cNvSpPr/>
              <p:nvPr/>
            </p:nvSpPr>
            <p:spPr>
              <a:xfrm>
                <a:off x="4129200" y="3176640"/>
                <a:ext cx="186840" cy="186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47680"/>
                    <a:tab algn="l" pos="2295360"/>
                    <a:tab algn="l" pos="3443400"/>
                    <a:tab algn="l" pos="4591080"/>
                    <a:tab algn="l" pos="5738760"/>
                    <a:tab algn="l" pos="6886440"/>
                    <a:tab algn="l" pos="8034480"/>
                    <a:tab algn="l" pos="9182160"/>
                    <a:tab algn="l" pos="1032984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Oval 177"/>
              <p:cNvSpPr/>
              <p:nvPr/>
            </p:nvSpPr>
            <p:spPr>
              <a:xfrm>
                <a:off x="4145040" y="3267360"/>
                <a:ext cx="154800" cy="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47680"/>
                    <a:tab algn="l" pos="2295360"/>
                    <a:tab algn="l" pos="3443400"/>
                    <a:tab algn="l" pos="4591080"/>
                    <a:tab algn="l" pos="5738760"/>
                    <a:tab algn="l" pos="6886440"/>
                    <a:tab algn="l" pos="8034480"/>
                    <a:tab algn="l" pos="9182160"/>
                    <a:tab algn="l" pos="1032984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178"/>
          <p:cNvGrpSpPr/>
          <p:nvPr/>
        </p:nvGrpSpPr>
        <p:grpSpPr>
          <a:xfrm>
            <a:off x="4110120" y="2549520"/>
            <a:ext cx="225360" cy="225360"/>
            <a:chOff x="4110120" y="2549520"/>
            <a:chExt cx="225360" cy="225360"/>
          </a:xfrm>
        </p:grpSpPr>
        <p:sp>
          <p:nvSpPr>
            <p:cNvPr id="79" name="Oval 179"/>
            <p:cNvSpPr/>
            <p:nvPr/>
          </p:nvSpPr>
          <p:spPr>
            <a:xfrm>
              <a:off x="4110120" y="2549520"/>
              <a:ext cx="225360" cy="22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80"/>
            <p:cNvSpPr/>
            <p:nvPr/>
          </p:nvSpPr>
          <p:spPr>
            <a:xfrm>
              <a:off x="4121640" y="2561040"/>
              <a:ext cx="201960" cy="201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81"/>
            <p:cNvSpPr/>
            <p:nvPr/>
          </p:nvSpPr>
          <p:spPr>
            <a:xfrm>
              <a:off x="4129200" y="2568600"/>
              <a:ext cx="186840" cy="18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82"/>
            <p:cNvSpPr/>
            <p:nvPr/>
          </p:nvSpPr>
          <p:spPr>
            <a:xfrm>
              <a:off x="4145040" y="2658960"/>
              <a:ext cx="154800" cy="78120"/>
            </a:xfrm>
            <a:prstGeom prst="ellipse">
              <a:avLst/>
            </a:prstGeom>
            <a:solidFill>
              <a:srgbClr val="33cc33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83"/>
          <p:cNvGrpSpPr/>
          <p:nvPr/>
        </p:nvGrpSpPr>
        <p:grpSpPr>
          <a:xfrm>
            <a:off x="4110120" y="4373640"/>
            <a:ext cx="225360" cy="223920"/>
            <a:chOff x="4110120" y="4373640"/>
            <a:chExt cx="225360" cy="223920"/>
          </a:xfrm>
        </p:grpSpPr>
        <p:sp>
          <p:nvSpPr>
            <p:cNvPr id="84" name="Oval 184"/>
            <p:cNvSpPr/>
            <p:nvPr/>
          </p:nvSpPr>
          <p:spPr>
            <a:xfrm>
              <a:off x="4110120" y="4373640"/>
              <a:ext cx="22536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5"/>
            <p:cNvSpPr/>
            <p:nvPr/>
          </p:nvSpPr>
          <p:spPr>
            <a:xfrm>
              <a:off x="4121640" y="4385160"/>
              <a:ext cx="201960" cy="200520"/>
            </a:xfrm>
            <a:prstGeom prst="ellipse">
              <a:avLst/>
            </a:prstGeom>
            <a:solidFill>
              <a:srgbClr val="ff4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86"/>
            <p:cNvSpPr/>
            <p:nvPr/>
          </p:nvSpPr>
          <p:spPr>
            <a:xfrm>
              <a:off x="4129200" y="4392720"/>
              <a:ext cx="18684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87"/>
            <p:cNvSpPr/>
            <p:nvPr/>
          </p:nvSpPr>
          <p:spPr>
            <a:xfrm>
              <a:off x="4145040" y="4482360"/>
              <a:ext cx="154800" cy="77760"/>
            </a:xfrm>
            <a:prstGeom prst="ellipse">
              <a:avLst/>
            </a:prstGeom>
            <a:solidFill>
              <a:srgbClr val="ff4b87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232"/>
          <p:cNvGrpSpPr/>
          <p:nvPr/>
        </p:nvGrpSpPr>
        <p:grpSpPr>
          <a:xfrm>
            <a:off x="4110120" y="4981680"/>
            <a:ext cx="225360" cy="223560"/>
            <a:chOff x="4110120" y="4981680"/>
            <a:chExt cx="225360" cy="223560"/>
          </a:xfrm>
        </p:grpSpPr>
        <p:sp>
          <p:nvSpPr>
            <p:cNvPr id="89" name="Oval 189"/>
            <p:cNvSpPr/>
            <p:nvPr/>
          </p:nvSpPr>
          <p:spPr>
            <a:xfrm>
              <a:off x="4163040" y="5034240"/>
              <a:ext cx="119160" cy="118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91"/>
            <p:cNvSpPr/>
            <p:nvPr/>
          </p:nvSpPr>
          <p:spPr>
            <a:xfrm>
              <a:off x="4110120" y="4981680"/>
              <a:ext cx="225360" cy="22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92"/>
            <p:cNvSpPr/>
            <p:nvPr/>
          </p:nvSpPr>
          <p:spPr>
            <a:xfrm>
              <a:off x="4121640" y="4992840"/>
              <a:ext cx="202320" cy="20052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93"/>
            <p:cNvSpPr/>
            <p:nvPr/>
          </p:nvSpPr>
          <p:spPr>
            <a:xfrm>
              <a:off x="4131000" y="5000760"/>
              <a:ext cx="186840" cy="185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94"/>
            <p:cNvSpPr/>
            <p:nvPr/>
          </p:nvSpPr>
          <p:spPr>
            <a:xfrm>
              <a:off x="4147200" y="5090400"/>
              <a:ext cx="154800" cy="77400"/>
            </a:xfrm>
            <a:prstGeom prst="ellipse">
              <a:avLst/>
            </a:prstGeom>
            <a:solidFill>
              <a:srgbClr val="99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31"/>
          <p:cNvGrpSpPr/>
          <p:nvPr/>
        </p:nvGrpSpPr>
        <p:grpSpPr>
          <a:xfrm>
            <a:off x="4110120" y="3765600"/>
            <a:ext cx="225360" cy="223920"/>
            <a:chOff x="4110120" y="3765600"/>
            <a:chExt cx="225360" cy="223920"/>
          </a:xfrm>
        </p:grpSpPr>
        <p:sp>
          <p:nvSpPr>
            <p:cNvPr id="95" name="Oval 196"/>
            <p:cNvSpPr/>
            <p:nvPr/>
          </p:nvSpPr>
          <p:spPr>
            <a:xfrm>
              <a:off x="4110120" y="3765600"/>
              <a:ext cx="22536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97"/>
            <p:cNvSpPr/>
            <p:nvPr/>
          </p:nvSpPr>
          <p:spPr>
            <a:xfrm>
              <a:off x="4122000" y="3777480"/>
              <a:ext cx="201600" cy="2001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98"/>
            <p:cNvSpPr/>
            <p:nvPr/>
          </p:nvSpPr>
          <p:spPr>
            <a:xfrm>
              <a:off x="4129200" y="3784680"/>
              <a:ext cx="18684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99"/>
            <p:cNvSpPr/>
            <p:nvPr/>
          </p:nvSpPr>
          <p:spPr>
            <a:xfrm>
              <a:off x="4145040" y="3870360"/>
              <a:ext cx="154800" cy="77400"/>
            </a:xfrm>
            <a:prstGeom prst="ellipse">
              <a:avLst/>
            </a:prstGeom>
            <a:solidFill>
              <a:srgbClr val="ff99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6"/>
          <p:cNvGrpSpPr/>
          <p:nvPr/>
        </p:nvGrpSpPr>
        <p:grpSpPr>
          <a:xfrm>
            <a:off x="7954920" y="4981680"/>
            <a:ext cx="223920" cy="223560"/>
            <a:chOff x="7954920" y="4981680"/>
            <a:chExt cx="223920" cy="223560"/>
          </a:xfrm>
        </p:grpSpPr>
        <p:sp>
          <p:nvSpPr>
            <p:cNvPr id="100" name="Oval 201"/>
            <p:cNvSpPr/>
            <p:nvPr/>
          </p:nvSpPr>
          <p:spPr>
            <a:xfrm>
              <a:off x="7954920" y="4981680"/>
              <a:ext cx="223920" cy="22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02"/>
            <p:cNvSpPr/>
            <p:nvPr/>
          </p:nvSpPr>
          <p:spPr>
            <a:xfrm>
              <a:off x="7966800" y="4993200"/>
              <a:ext cx="200160" cy="1998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03"/>
            <p:cNvSpPr/>
            <p:nvPr/>
          </p:nvSpPr>
          <p:spPr>
            <a:xfrm>
              <a:off x="7974720" y="5000760"/>
              <a:ext cx="185760" cy="185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04"/>
            <p:cNvSpPr/>
            <p:nvPr/>
          </p:nvSpPr>
          <p:spPr>
            <a:xfrm>
              <a:off x="7990560" y="5090400"/>
              <a:ext cx="153720" cy="77040"/>
            </a:xfrm>
            <a:prstGeom prst="ellipse">
              <a:avLst/>
            </a:prstGeom>
            <a:solidFill>
              <a:srgbClr val="cccc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29"/>
          <p:cNvGrpSpPr/>
          <p:nvPr/>
        </p:nvGrpSpPr>
        <p:grpSpPr>
          <a:xfrm>
            <a:off x="7954920" y="2549520"/>
            <a:ext cx="223920" cy="225360"/>
            <a:chOff x="7954920" y="2549520"/>
            <a:chExt cx="223920" cy="225360"/>
          </a:xfrm>
        </p:grpSpPr>
        <p:sp>
          <p:nvSpPr>
            <p:cNvPr id="105" name="Oval 206"/>
            <p:cNvSpPr/>
            <p:nvPr/>
          </p:nvSpPr>
          <p:spPr>
            <a:xfrm>
              <a:off x="8007480" y="2602440"/>
              <a:ext cx="118440" cy="119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08"/>
            <p:cNvSpPr/>
            <p:nvPr/>
          </p:nvSpPr>
          <p:spPr>
            <a:xfrm>
              <a:off x="7954920" y="2549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09"/>
            <p:cNvSpPr/>
            <p:nvPr/>
          </p:nvSpPr>
          <p:spPr>
            <a:xfrm>
              <a:off x="7966080" y="2561040"/>
              <a:ext cx="200880" cy="20232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0"/>
            <p:cNvSpPr/>
            <p:nvPr/>
          </p:nvSpPr>
          <p:spPr>
            <a:xfrm>
              <a:off x="7974000" y="2568600"/>
              <a:ext cx="185760" cy="18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11"/>
            <p:cNvSpPr/>
            <p:nvPr/>
          </p:nvSpPr>
          <p:spPr>
            <a:xfrm>
              <a:off x="7990560" y="2659320"/>
              <a:ext cx="153720" cy="7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0"/>
          <p:cNvGrpSpPr/>
          <p:nvPr/>
        </p:nvGrpSpPr>
        <p:grpSpPr>
          <a:xfrm>
            <a:off x="7954920" y="3157560"/>
            <a:ext cx="223920" cy="225360"/>
            <a:chOff x="7954920" y="3157560"/>
            <a:chExt cx="223920" cy="225360"/>
          </a:xfrm>
        </p:grpSpPr>
        <p:sp>
          <p:nvSpPr>
            <p:cNvPr id="111" name="Oval 213"/>
            <p:cNvSpPr/>
            <p:nvPr/>
          </p:nvSpPr>
          <p:spPr>
            <a:xfrm>
              <a:off x="7954920" y="3157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14"/>
            <p:cNvSpPr/>
            <p:nvPr/>
          </p:nvSpPr>
          <p:spPr>
            <a:xfrm>
              <a:off x="7966800" y="3169440"/>
              <a:ext cx="200160" cy="20160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15"/>
            <p:cNvSpPr/>
            <p:nvPr/>
          </p:nvSpPr>
          <p:spPr>
            <a:xfrm>
              <a:off x="7974720" y="3176640"/>
              <a:ext cx="185760" cy="18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16"/>
            <p:cNvSpPr/>
            <p:nvPr/>
          </p:nvSpPr>
          <p:spPr>
            <a:xfrm>
              <a:off x="7990200" y="3267360"/>
              <a:ext cx="153720" cy="77760"/>
            </a:xfrm>
            <a:prstGeom prst="ellipse">
              <a:avLst/>
            </a:prstGeom>
            <a:solidFill>
              <a:srgbClr val="cc00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34"/>
          <p:cNvGrpSpPr/>
          <p:nvPr/>
        </p:nvGrpSpPr>
        <p:grpSpPr>
          <a:xfrm>
            <a:off x="7954920" y="4373640"/>
            <a:ext cx="223920" cy="223920"/>
            <a:chOff x="7954920" y="4373640"/>
            <a:chExt cx="223920" cy="223920"/>
          </a:xfrm>
        </p:grpSpPr>
        <p:sp>
          <p:nvSpPr>
            <p:cNvPr id="116" name="Oval 218"/>
            <p:cNvSpPr/>
            <p:nvPr/>
          </p:nvSpPr>
          <p:spPr>
            <a:xfrm>
              <a:off x="8007480" y="4426200"/>
              <a:ext cx="118440" cy="118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20"/>
            <p:cNvSpPr/>
            <p:nvPr/>
          </p:nvSpPr>
          <p:spPr>
            <a:xfrm>
              <a:off x="7954920" y="437364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21"/>
            <p:cNvSpPr/>
            <p:nvPr/>
          </p:nvSpPr>
          <p:spPr>
            <a:xfrm>
              <a:off x="7966080" y="4384800"/>
              <a:ext cx="200880" cy="2008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22"/>
            <p:cNvSpPr/>
            <p:nvPr/>
          </p:nvSpPr>
          <p:spPr>
            <a:xfrm>
              <a:off x="7973280" y="4392720"/>
              <a:ext cx="18576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223"/>
            <p:cNvSpPr/>
            <p:nvPr/>
          </p:nvSpPr>
          <p:spPr>
            <a:xfrm>
              <a:off x="7989120" y="4482720"/>
              <a:ext cx="153720" cy="77400"/>
            </a:xfrm>
            <a:prstGeom prst="ellipse">
              <a:avLst/>
            </a:prstGeom>
            <a:solidFill>
              <a:srgbClr val="4d4d4d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35"/>
          <p:cNvGrpSpPr/>
          <p:nvPr/>
        </p:nvGrpSpPr>
        <p:grpSpPr>
          <a:xfrm>
            <a:off x="7954920" y="3765600"/>
            <a:ext cx="223920" cy="223920"/>
            <a:chOff x="7954920" y="3765600"/>
            <a:chExt cx="223920" cy="223920"/>
          </a:xfrm>
        </p:grpSpPr>
        <p:sp>
          <p:nvSpPr>
            <p:cNvPr id="122" name="Oval 225"/>
            <p:cNvSpPr/>
            <p:nvPr/>
          </p:nvSpPr>
          <p:spPr>
            <a:xfrm>
              <a:off x="7954920" y="376560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226"/>
            <p:cNvSpPr/>
            <p:nvPr/>
          </p:nvSpPr>
          <p:spPr>
            <a:xfrm>
              <a:off x="7966800" y="3777480"/>
              <a:ext cx="200160" cy="2001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27"/>
            <p:cNvSpPr/>
            <p:nvPr/>
          </p:nvSpPr>
          <p:spPr>
            <a:xfrm>
              <a:off x="7974720" y="3784680"/>
              <a:ext cx="18576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28"/>
            <p:cNvSpPr/>
            <p:nvPr/>
          </p:nvSpPr>
          <p:spPr>
            <a:xfrm>
              <a:off x="7990200" y="3874680"/>
              <a:ext cx="153720" cy="77400"/>
            </a:xfrm>
            <a:prstGeom prst="ellipse">
              <a:avLst/>
            </a:prstGeom>
            <a:solidFill>
              <a:srgbClr val="008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矩形 124"/>
          <p:cNvSpPr/>
          <p:nvPr/>
        </p:nvSpPr>
        <p:spPr>
          <a:xfrm>
            <a:off x="8805240" y="4300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放映中在幻灯片上书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5"/>
          <p:cNvSpPr/>
          <p:nvPr/>
        </p:nvSpPr>
        <p:spPr>
          <a:xfrm>
            <a:off x="8757720" y="4908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放映中显示快捷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6"/>
          <p:cNvSpPr/>
          <p:nvPr/>
        </p:nvSpPr>
        <p:spPr>
          <a:xfrm>
            <a:off x="4758120" y="4300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快速显示黑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7"/>
          <p:cNvSpPr/>
          <p:nvPr/>
        </p:nvSpPr>
        <p:spPr>
          <a:xfrm>
            <a:off x="4758120" y="4908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快速显示白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3" presetSubtype="1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3" presetSubtype="16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2" presetSubtype="8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2" presetSubtype="8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2" presetSubtype="8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2" presetSubtype="8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2" presetSubtype="8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0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2" presetSubtype="8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2" presetSubtype="8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0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8800" y="200160"/>
            <a:ext cx="11538000" cy="6062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6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339920"/>
            <a:ext cx="12551040" cy="55087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0244160" y="352440"/>
            <a:ext cx="1952640" cy="368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9F4-A7A2-46A0-AC76-531B2E856C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0:09:00Z</dcterms:created>
  <dc:creator/>
  <dc:description/>
  <cp:keywords>幻灯片之家 http:/www.eeppt.com</cp:keywords>
  <dc:language>en-US</dc:language>
  <cp:lastModifiedBy/>
  <dcterms:modified xsi:type="dcterms:W3CDTF">2015-07-12T10:26:17Z</dcterms:modified>
  <cp:revision>4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8-212</vt:lpwstr>
  </property>
</Properties>
</file>