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FD2D-05E6-4E20-BA8F-7B650E3E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CB5E-FBDE-4235-9E7E-F224660C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D9A4-C76B-414B-B09B-290829E4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88FD-2BB2-4208-8729-6E7FACF0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6C31-69F4-4DD4-966B-5CEA4C77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B2E0-E263-448D-ADC5-A026B55B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2DAA-E2B1-4FF4-9B4B-1A21113B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E3BB-D0F5-4D4B-A3AA-44128D4A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A515-45FC-4631-84F2-13CC77C0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3AB5-43B1-434A-91DB-8F47E482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E4BA-D78B-4AB4-A4B6-BFB82D1E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C8B2-93D7-4CD4-A1B3-2EB30E96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7576-0BAA-410A-ADEA-C7A4F739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A374-2E11-4B3A-A556-950C3712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E59C-BE0F-430C-9AD9-7CB82ACF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0845-B985-480E-BDE6-8CA6C64F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500D-A6F0-45DA-8540-C7B90C8D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DF29-9EF6-49FC-B9C2-DD2AB9C0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0D64-0E0E-4258-81EA-15D45074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F2C4-CD97-465E-A7DF-2C12EED7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4BE9-2520-41EF-9767-C208CE12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C0DF-5BCE-4357-B1BC-3A71E25C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4347-C4EB-40B5-ACA4-CEA65B33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B70-20C2-4F58-B971-17CA0977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三个模板2  "/>
          <p:cNvPicPr/>
          <p:nvPr/>
        </p:nvPicPr>
        <p:blipFill>
          <a:blip r:embed="rId2"/>
          <a:stretch/>
        </p:blipFill>
        <p:spPr>
          <a:xfrm>
            <a:off x="-57240" y="-15840"/>
            <a:ext cx="9201240" cy="690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7B19-036A-4F27-84EC-EC963B93E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s三个模板 1 "/>
          <p:cNvPicPr/>
          <p:nvPr/>
        </p:nvPicPr>
        <p:blipFill>
          <a:blip r:embed="rId2"/>
          <a:stretch/>
        </p:blipFill>
        <p:spPr>
          <a:xfrm>
            <a:off x="-28440" y="4680"/>
            <a:ext cx="9172440" cy="6880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771D-9C80-4D02-BE20-696FFF462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tubiao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1960" y="2512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1989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83600" y="836640"/>
            <a:ext cx="26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艺术绿灰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图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2709720"/>
            <a:ext cx="7611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767F-E5B7-43AB-9B50-BED9043A0A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s三个模板3 "/>
          <p:cNvPicPr/>
          <p:nvPr/>
        </p:nvPicPr>
        <p:blipFill>
          <a:blip r:embed="rId1"/>
          <a:stretch/>
        </p:blipFill>
        <p:spPr>
          <a:xfrm>
            <a:off x="-71280" y="-2700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900000" y="486900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谢谢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45:56Z</dcterms:created>
  <dc:creator/>
  <dc:description/>
  <cp:keywords>幻灯片之家 http:/www.eeppt.com</cp:keywords>
  <dc:language>en-US</dc:language>
  <cp:lastModifiedBy/>
  <dcterms:modified xsi:type="dcterms:W3CDTF">2015-07-07T04:05:0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