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8EBE-B7CC-4EDF-9843-5065DDC6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80F5-0F6B-4964-99F8-D0962A4F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4143-406E-4231-9A8F-59B00C726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AC1B-D086-4590-B097-6B6C73E4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C98C-2289-4B9A-8E26-D751DC8E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E4AA-A834-441D-A1B5-6C6B1EA17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1F16-F1BD-4F62-BE75-F6B46525E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FD68-4E53-4A5C-9E3B-AD12C2EF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B347-A6A5-4981-B175-C9CD6308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6DBA-A8EA-45F0-8902-65FCBDC9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2C5C-C5F8-4392-90E2-B128451E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5165-4AF4-4F67-AD49-D45E90FA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2F19-048D-45E7-A13D-7801D197689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0FBB-0506-4353-A578-7865A42BB6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dabian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114840" y="263160"/>
            <a:ext cx="7772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医学答辩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772080" y="3306600"/>
          <a:ext cx="1600200" cy="244440"/>
        </p:xfrm>
        <a:graphic>
          <a:graphicData uri="http://schemas.openxmlformats.org/drawingml/2006/table">
            <a:tbl>
              <a:tblPr/>
              <a:tblGrid>
                <a:gridCol w="1600200"/>
              </a:tblGrid>
              <a:tr h="244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496800" y="5638680"/>
            <a:ext cx="611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68440" y="17334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1280" y="5821200"/>
            <a:ext cx="7401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答辩ppt模板下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dab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4C02-0195-4AD3-908E-4492C41212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6T02:25:4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