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819B-30F8-43E8-A66C-F54B0405B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88AF-70E2-4801-92E9-70AD92FCB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74CB-1357-4BED-B2C8-0E324E567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DBA0-7026-4391-9121-90CD0E5B7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A63BF-8816-483E-81B7-FACCE8119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88720-CC30-4DB2-8CD1-73318469D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10040-3D67-4FA0-A5CC-2B8D18C97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D02CA-0B85-44E6-963B-6A4642B23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E4CC6-BD71-473D-AED2-D10E20963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CDF16-7120-4226-A489-BC6856D5B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CA690-8A39-468D-8076-4FA05BA15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0BC3-6F51-47FD-B1AD-7D1D3B6DE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07875-32C4-4651-8F14-4F9B4B1CA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B51C8-9161-4B04-9867-8CA91D31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14D1A-8952-49B4-ACF7-34A44DB04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844F1-5468-4008-81FE-FF00CBDC2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E80FE-3E85-4E36-9903-34A5C7EBE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335B-77EA-49FB-A3EC-F8E8D79F7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914D-8BF8-47CB-9281-896393F50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7D8E-2E3E-474A-BEA7-C44DD559E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C042-193B-49B0-8C8F-FC59C549B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B67F-2848-4139-9A44-FA6B741D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FC38-20AE-4EC6-9BDF-E26E53776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0E80-D58C-4C96-AF46-2EDDFD9FE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FC84B-E0DB-47C9-9CDA-2721C398FBD7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8179A-4F0C-4719-BF96-5715548E9AB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0AB62-4254-4941-8D37-1401DEBE7258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C8DA4-7B28-462F-845D-E4F2C9FCBE0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hyperlink" Target="http://www.eeppt.com/moban/shangwu/" TargetMode="External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5"/>
          <p:cNvSpPr/>
          <p:nvPr/>
        </p:nvSpPr>
        <p:spPr>
          <a:xfrm>
            <a:off x="5857920" y="60721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28720" y="573408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46960" y="4653000"/>
            <a:ext cx="240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银行商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素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Oval 10" descr=""/>
          <p:cNvPicPr/>
          <p:nvPr/>
        </p:nvPicPr>
        <p:blipFill>
          <a:blip r:embed="rId2"/>
          <a:stretch/>
        </p:blipFill>
        <p:spPr>
          <a:xfrm>
            <a:off x="6297480" y="3687840"/>
            <a:ext cx="1517760" cy="263376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4"/>
          <p:cNvSpPr/>
          <p:nvPr/>
        </p:nvSpPr>
        <p:spPr>
          <a:xfrm>
            <a:off x="1712880" y="2166840"/>
            <a:ext cx="5207040" cy="232884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eeece1"/>
              </a:gs>
              <a:gs pos="100000">
                <a:srgbClr val="ffffff">
                  <a:alpha val="2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Oval 10" descr=""/>
          <p:cNvPicPr/>
          <p:nvPr/>
        </p:nvPicPr>
        <p:blipFill>
          <a:blip r:embed="rId3"/>
          <a:stretch/>
        </p:blipFill>
        <p:spPr>
          <a:xfrm>
            <a:off x="2541600" y="3687840"/>
            <a:ext cx="1517760" cy="26337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3252960" y="2781360"/>
            <a:ext cx="164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Oval 10" descr=""/>
          <p:cNvPicPr/>
          <p:nvPr/>
        </p:nvPicPr>
        <p:blipFill>
          <a:blip r:embed="rId4"/>
          <a:stretch/>
        </p:blipFill>
        <p:spPr>
          <a:xfrm>
            <a:off x="719280" y="3687840"/>
            <a:ext cx="1523880" cy="26337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2"/>
          <p:cNvSpPr/>
          <p:nvPr/>
        </p:nvSpPr>
        <p:spPr>
          <a:xfrm>
            <a:off x="882720" y="4183200"/>
            <a:ext cx="116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con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8"/>
          <p:cNvSpPr/>
          <p:nvPr/>
        </p:nvSpPr>
        <p:spPr>
          <a:xfrm>
            <a:off x="2646360" y="4183200"/>
            <a:ext cx="129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Con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Oval 10" descr=""/>
          <p:cNvPicPr/>
          <p:nvPr/>
        </p:nvPicPr>
        <p:blipFill>
          <a:blip r:embed="rId5"/>
          <a:stretch/>
        </p:blipFill>
        <p:spPr>
          <a:xfrm>
            <a:off x="4438800" y="3687840"/>
            <a:ext cx="1523880" cy="26337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24"/>
          <p:cNvSpPr/>
          <p:nvPr/>
        </p:nvSpPr>
        <p:spPr>
          <a:xfrm>
            <a:off x="4583160" y="4183200"/>
            <a:ext cx="129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Con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1"/>
          <p:cNvSpPr/>
          <p:nvPr/>
        </p:nvSpPr>
        <p:spPr>
          <a:xfrm>
            <a:off x="6513480" y="4183200"/>
            <a:ext cx="105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Con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AutoShape 5"/>
          <p:cNvGrpSpPr/>
          <p:nvPr/>
        </p:nvGrpSpPr>
        <p:grpSpPr>
          <a:xfrm>
            <a:off x="1584360" y="1511280"/>
            <a:ext cx="5565600" cy="646200"/>
            <a:chOff x="1584360" y="1511280"/>
            <a:chExt cx="5565600" cy="646200"/>
          </a:xfrm>
        </p:grpSpPr>
        <p:pic>
          <p:nvPicPr>
            <p:cNvPr id="96" name="AutoShape 5" descr=""/>
            <p:cNvPicPr/>
            <p:nvPr/>
          </p:nvPicPr>
          <p:blipFill>
            <a:blip r:embed="rId6"/>
            <a:stretch/>
          </p:blipFill>
          <p:spPr>
            <a:xfrm>
              <a:off x="1584360" y="1511280"/>
              <a:ext cx="556560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1722600" y="1627200"/>
              <a:ext cx="5292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646200" y="66600"/>
            <a:ext cx="4048200" cy="1152720"/>
            <a:chOff x="646200" y="66600"/>
            <a:chExt cx="4048200" cy="1152720"/>
          </a:xfrm>
        </p:grpSpPr>
        <p:pic>
          <p:nvPicPr>
            <p:cNvPr id="99" name="标题 1" descr=""/>
            <p:cNvPicPr/>
            <p:nvPr/>
          </p:nvPicPr>
          <p:blipFill>
            <a:blip r:embed="rId7"/>
            <a:stretch/>
          </p:blipFill>
          <p:spPr>
            <a:xfrm>
              <a:off x="646200" y="66600"/>
              <a:ext cx="4048200" cy="11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 txBox="1"/>
            <p:nvPr/>
          </p:nvSpPr>
          <p:spPr>
            <a:xfrm>
              <a:off x="646200" y="66600"/>
              <a:ext cx="4048200" cy="1152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755640" y="2708280"/>
            <a:ext cx="62517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商务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shangw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5721-C358-4212-876F-6BB7746956B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6"/>
          <p:cNvSpPr/>
          <p:nvPr/>
        </p:nvSpPr>
        <p:spPr>
          <a:xfrm>
            <a:off x="1066680" y="2027160"/>
            <a:ext cx="2057400" cy="527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Phas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7"/>
          <p:cNvSpPr/>
          <p:nvPr/>
        </p:nvSpPr>
        <p:spPr>
          <a:xfrm>
            <a:off x="3386160" y="2027160"/>
            <a:ext cx="2057400" cy="527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Phas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8"/>
          <p:cNvSpPr/>
          <p:nvPr/>
        </p:nvSpPr>
        <p:spPr>
          <a:xfrm>
            <a:off x="5715000" y="2027160"/>
            <a:ext cx="2057400" cy="527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54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Phas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圆角矩形 7" descr=""/>
          <p:cNvPicPr/>
          <p:nvPr/>
        </p:nvPicPr>
        <p:blipFill>
          <a:blip r:embed="rId2"/>
          <a:stretch/>
        </p:blipFill>
        <p:spPr>
          <a:xfrm>
            <a:off x="1006560" y="2664000"/>
            <a:ext cx="2206440" cy="4554360"/>
          </a:xfrm>
          <a:prstGeom prst="rect">
            <a:avLst/>
          </a:prstGeom>
          <a:ln w="0">
            <a:noFill/>
          </a:ln>
        </p:spPr>
      </p:pic>
      <p:pic>
        <p:nvPicPr>
          <p:cNvPr id="109" name="圆角矩形 8" descr=""/>
          <p:cNvPicPr/>
          <p:nvPr/>
        </p:nvPicPr>
        <p:blipFill>
          <a:blip r:embed="rId3"/>
          <a:stretch/>
        </p:blipFill>
        <p:spPr>
          <a:xfrm>
            <a:off x="3348000" y="2637000"/>
            <a:ext cx="2206800" cy="4552920"/>
          </a:xfrm>
          <a:prstGeom prst="rect">
            <a:avLst/>
          </a:prstGeom>
          <a:ln w="0">
            <a:noFill/>
          </a:ln>
        </p:spPr>
      </p:pic>
      <p:pic>
        <p:nvPicPr>
          <p:cNvPr id="110" name="圆角矩形 9" descr=""/>
          <p:cNvPicPr/>
          <p:nvPr/>
        </p:nvPicPr>
        <p:blipFill>
          <a:blip r:embed="rId4"/>
          <a:stretch/>
        </p:blipFill>
        <p:spPr>
          <a:xfrm>
            <a:off x="5651640" y="2637000"/>
            <a:ext cx="2199960" cy="4554360"/>
          </a:xfrm>
          <a:prstGeom prst="rect">
            <a:avLst/>
          </a:prstGeom>
          <a:ln w="0">
            <a:noFill/>
          </a:ln>
        </p:spPr>
      </p:pic>
      <p:sp>
        <p:nvSpPr>
          <p:cNvPr id="111" name="流程图: 摘录 10"/>
          <p:cNvSpPr/>
          <p:nvPr/>
        </p:nvSpPr>
        <p:spPr>
          <a:xfrm rot="5400000">
            <a:off x="3131640" y="4381560"/>
            <a:ext cx="320760" cy="298440"/>
          </a:xfrm>
          <a:prstGeom prst="flowChartExtract">
            <a:avLst/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81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流程图: 摘录 11"/>
          <p:cNvSpPr/>
          <p:nvPr/>
        </p:nvSpPr>
        <p:spPr>
          <a:xfrm rot="5400000">
            <a:off x="5488560" y="4407840"/>
            <a:ext cx="322200" cy="298440"/>
          </a:xfrm>
          <a:prstGeom prst="flowChartExtract">
            <a:avLst/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81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646200" y="66600"/>
            <a:ext cx="4048200" cy="1152720"/>
            <a:chOff x="646200" y="66600"/>
            <a:chExt cx="4048200" cy="1152720"/>
          </a:xfrm>
        </p:grpSpPr>
        <p:pic>
          <p:nvPicPr>
            <p:cNvPr id="114" name="标题 1" descr=""/>
            <p:cNvPicPr/>
            <p:nvPr/>
          </p:nvPicPr>
          <p:blipFill>
            <a:blip r:embed="rId5"/>
            <a:stretch/>
          </p:blipFill>
          <p:spPr>
            <a:xfrm>
              <a:off x="646200" y="66600"/>
              <a:ext cx="4048200" cy="11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646200" y="66600"/>
              <a:ext cx="4048200" cy="1152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标题 8" descr=""/>
          <p:cNvPicPr/>
          <p:nvPr/>
        </p:nvPicPr>
        <p:blipFill>
          <a:blip r:embed="rId2"/>
          <a:stretch/>
        </p:blipFill>
        <p:spPr>
          <a:xfrm>
            <a:off x="281160" y="3870360"/>
            <a:ext cx="5082840" cy="1897200"/>
          </a:xfrm>
          <a:prstGeom prst="rect">
            <a:avLst/>
          </a:prstGeom>
          <a:ln w="0">
            <a:noFill/>
          </a:ln>
        </p:spPr>
      </p:pic>
      <p:sp>
        <p:nvSpPr>
          <p:cNvPr id="117" name="副标题 9"/>
          <p:cNvSpPr/>
          <p:nvPr/>
        </p:nvSpPr>
        <p:spPr>
          <a:xfrm>
            <a:off x="785880" y="5084640"/>
            <a:ext cx="42861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d0d0d"/>
                </a:solidFill>
                <a:latin typeface="Arial"/>
                <a:ea typeface="Arial"/>
              </a:rPr>
              <a:t>Add your company slog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2T07:05:07Z</dcterms:created>
  <dc:creator/>
  <dc:description/>
  <cp:keywords>幻灯片之家 http:/www.eeppt.com</cp:keywords>
  <dc:language>en-US</dc:language>
  <cp:lastModifiedBy/>
  <dcterms:modified xsi:type="dcterms:W3CDTF">2015-07-12T09:39:22Z</dcterms:modified>
  <cp:revision>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