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838080"/>
            <a:ext cx="8229600" cy="5683320"/>
            <a:chOff x="457200" y="838080"/>
            <a:chExt cx="8229600" cy="5683320"/>
          </a:xfrm>
        </p:grpSpPr>
        <p:sp>
          <p:nvSpPr>
            <p:cNvPr id="2" name=""/>
            <p:cNvSpPr/>
            <p:nvPr/>
          </p:nvSpPr>
          <p:spPr>
            <a:xfrm>
              <a:off x="66294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146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6294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146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72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294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5146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72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6294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720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5146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72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294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720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146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572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6294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5720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5146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572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57200" y="83808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" y="243684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7200" y="274320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7200" y="434808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464796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" y="624672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7200" y="652140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5146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6294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868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56280" y="2895480"/>
            <a:ext cx="107784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36760" y="2895480"/>
            <a:ext cx="617760" cy="129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264440" y="990720"/>
            <a:ext cx="73656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300640" y="990720"/>
            <a:ext cx="72072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968560" y="990720"/>
            <a:ext cx="1222560" cy="1295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066680" y="990720"/>
            <a:ext cx="771480" cy="1295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800600" y="4952880"/>
            <a:ext cx="1638360" cy="1096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895480" y="4800600"/>
            <a:ext cx="118296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909720" y="480060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086600" y="2895480"/>
            <a:ext cx="1174680" cy="129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7010280" y="4800600"/>
            <a:ext cx="1397160" cy="1298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838080" y="2895480"/>
            <a:ext cx="160020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22:39:55Z</dcterms:created>
  <dc:creator/>
  <dc:description/>
  <cp:keywords>幻灯片之家 http:/www.eeppt.com</cp:keywords>
  <dc:language>en-US</dc:language>
  <cp:lastModifiedBy/>
  <dcterms:modified xsi:type="dcterms:W3CDTF">2015-07-05T02:42:14Z</dcterms:modified>
  <cp:revision>9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