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59054-F079-4A36-B54D-FD85D6773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9E100-D996-466B-8A23-758EFF8F28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2C857-B213-438D-8AC8-75599BDFD3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DD553-742E-4EE7-9377-237AFB9B6D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2253E-937B-488E-ABB4-A98996A6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0B0AD-8EB4-447E-84F4-602E188F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E2B70-9F4A-4DB2-903E-115B8DAE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AE243-FC50-407E-8FCC-550B91DF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29FB4-3445-4DDC-B582-7DB3AF1F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F2BDF-1D2B-4CDD-8A43-40DB2914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12570-37D6-454A-8185-A607A554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0CA18-F1AD-4A9D-8B32-364A3E4E82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C97B2-5D6F-40E6-A163-2057D40E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EE02B-A01E-46BA-973C-6EA51AA3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79A11-1467-4626-8371-A594A85A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AE1F3-9657-4A4E-B237-08AF059A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FAB16-0D86-421E-AE54-0F337EB6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5EB5C-1CD9-43E1-A987-E8EFAA5E8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15106-99D2-4CF6-8AF1-350880776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81D84-E6F3-4CDE-8332-7EAA6408D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032B7-A0BE-452D-85F0-3D151AFBDD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04B66-5A03-4CA6-BF40-D5C7CEFA2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F1A98-5C5B-4CA2-B52A-0DD4D7167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18ABD-BED2-4A30-A801-35E2C095F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90AB-C3BD-4DB5-A696-214269A034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China Telecom Logo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395280" y="6165720"/>
            <a:ext cx="1619280" cy="5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EF1E-1937-4A06-880F-181CD168F9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China Telecom Logo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7238880" y="228600"/>
            <a:ext cx="1619280" cy="5475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qiye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508720" y="5734080"/>
            <a:ext cx="36352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400" spc="-1" strike="noStrike">
              <a:solidFill>
                <a:srgbClr val="9999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2000" y="1197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71160" y="2709720"/>
            <a:ext cx="34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中国电信公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5302080"/>
            <a:ext cx="5616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企业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qiy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6EA44-4CF1-4B06-B55D-3FD265F0D5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08:18:59Z</dcterms:created>
  <dc:creator/>
  <dc:description/>
  <cp:keywords>幻灯片之家 http:/www.eeppt.com</cp:keywords>
  <dc:language>en-US</dc:language>
  <cp:lastModifiedBy/>
  <dcterms:modified xsi:type="dcterms:W3CDTF">2015-07-06T12:40:57Z</dcterms:modified>
  <cp:revision>9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