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9B6-F397-4288-B094-E9647710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B44-BD8B-4A7E-B495-BE017D34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828-214C-4866-9A62-0E40C9B4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1E8-0860-4121-9A00-DD13B809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12B-A6AD-4CF8-A3F9-76B38891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535-9A6E-4F13-A22B-E20FECAB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5E3-E670-4BF1-9530-AF82998D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B9F-03D7-47CA-9C0A-4A918180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AA2-19A5-4FF1-BB75-F1ACF6A5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F74-7F0A-483C-97C9-FE662123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5B8-2DCD-40E1-BD79-5363C6AD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E07-BF69-43A6-A74C-8990554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D0CD-E377-49A5-928C-73B23FC17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0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图片2"/>
          <p:cNvPicPr/>
          <p:nvPr/>
        </p:nvPicPr>
        <p:blipFill>
          <a:blip r:embed="rId5"/>
          <a:stretch/>
        </p:blipFill>
        <p:spPr>
          <a:xfrm>
            <a:off x="685800" y="20574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中国风 (1)"/>
          <p:cNvPicPr/>
          <p:nvPr/>
        </p:nvPicPr>
        <p:blipFill>
          <a:blip r:embed="rId8"/>
          <a:stretch/>
        </p:blipFill>
        <p:spPr>
          <a:xfrm>
            <a:off x="-533520" y="3995640"/>
            <a:ext cx="2895840" cy="286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3"/>
          <a:stretch/>
        </p:blipFill>
        <p:spPr>
          <a:xfrm>
            <a:off x="-914400" y="4246560"/>
            <a:ext cx="453384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4"/>
          <a:stretch/>
        </p:blipFill>
        <p:spPr>
          <a:xfrm>
            <a:off x="2438280" y="4114800"/>
            <a:ext cx="4534200" cy="261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8" name="矩形 18"/>
          <p:cNvSpPr/>
          <p:nvPr/>
        </p:nvSpPr>
        <p:spPr>
          <a:xfrm>
            <a:off x="4318200" y="2579760"/>
            <a:ext cx="1025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114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5280" y="324648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10209 C -0.0316 0.08218 0.00573 0.06227 0.05972 0.05556 C 0.11372 0.04885 0.18976 0.06343 0.25503 0.06204 C 0.32014 0.06065 0.38507 0.05648 0.45035 0.04723 C 0.51545 0.03797 0.58681 0.00417 0.64705 0.00695 C 0.70729 0.00973 0.78472 0.05463 0.81215 0.06412 E">
                                      <p:cBhvr>
                                        <p:cTn id="4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8600" y="0"/>
            <a:ext cx="114444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4_副本"/>
          <p:cNvPicPr/>
          <p:nvPr/>
        </p:nvPicPr>
        <p:blipFill>
          <a:blip r:embed="rId8"/>
          <a:stretch/>
        </p:blipFill>
        <p:spPr>
          <a:xfrm>
            <a:off x="1981080" y="236232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4_副本"/>
          <p:cNvPicPr/>
          <p:nvPr/>
        </p:nvPicPr>
        <p:blipFill>
          <a:blip r:embed="rId9"/>
          <a:stretch/>
        </p:blipFill>
        <p:spPr>
          <a:xfrm>
            <a:off x="205740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4_副本"/>
          <p:cNvPicPr/>
          <p:nvPr/>
        </p:nvPicPr>
        <p:blipFill>
          <a:blip r:embed="rId10"/>
          <a:stretch/>
        </p:blipFill>
        <p:spPr>
          <a:xfrm>
            <a:off x="2057400" y="4191120"/>
            <a:ext cx="69228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0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绿2"/>
          <p:cNvPicPr/>
          <p:nvPr/>
        </p:nvPicPr>
        <p:blipFill>
          <a:blip r:embed="rId5"/>
          <a:stretch/>
        </p:blipFill>
        <p:spPr>
          <a:xfrm>
            <a:off x="3352680" y="-380880"/>
            <a:ext cx="4572000" cy="184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荷花 10_副本"/>
          <p:cNvPicPr/>
          <p:nvPr/>
        </p:nvPicPr>
        <p:blipFill>
          <a:blip r:embed="rId9"/>
          <a:stretch/>
        </p:blipFill>
        <p:spPr>
          <a:xfrm>
            <a:off x="-533520" y="4495680"/>
            <a:ext cx="2289240" cy="2895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栏杆_副本"/>
          <p:cNvPicPr/>
          <p:nvPr/>
        </p:nvPicPr>
        <p:blipFill>
          <a:blip r:embed="rId3"/>
          <a:stretch/>
        </p:blipFill>
        <p:spPr>
          <a:xfrm>
            <a:off x="-228600" y="6173640"/>
            <a:ext cx="9372600" cy="6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D6A-A9EC-4778-8E76-D1412F875B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6:05:42Z</dcterms:created>
  <dc:creator/>
  <dc:description/>
  <cp:keywords>幻灯片之家 http:/www.eeppt.com</cp:keywords>
  <dc:language>en-US</dc:language>
  <cp:lastModifiedBy/>
  <dcterms:modified xsi:type="dcterms:W3CDTF">2015-07-12T08:35:15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