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3481-7E6E-46DC-91F5-D41F16C16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7275-61D2-4C18-B8BE-9A49CB9A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3718-5641-4900-B044-413E267A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E27B-2F92-45E7-8DF0-B84B58FE3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26D7-C9D1-4AB4-9ECA-9BDF662F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2ADF-A7D0-417B-942C-952A9538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DB7C-EF48-4905-A494-14CAC000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7EC7-C744-41BA-81F9-C61CEE50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92C1-4A50-4592-A511-4BAF5365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07C1-3C5E-4E26-B79E-563F5778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976E-2AEA-485F-A80C-EE7435EC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9008-258A-425A-BA9C-A642543F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4D3A-CC04-46AA-ACE8-F86832FCECD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6153-EB2B-48A0-BE98-B24513DE99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fengjing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064200"/>
            <a:ext cx="6111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91720" y="1098720"/>
            <a:ext cx="34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自然风景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7760" y="5845320"/>
            <a:ext cx="6188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自然风景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fengj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C1D6-6234-4106-A8DB-04983C0550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12T09:22:3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