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4F0-CC95-45D2-814B-348D50035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49CC-AA29-4468-82C6-1C6E5CCC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27B1-7ED2-4082-B4D1-5DA1413D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12A4A-21B3-4AAF-A5BF-5B4A79D90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8C54-1827-4946-9963-212D07E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BCCF-86BE-4B75-B9AB-EC9A3A45F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15E4-3E0C-45F9-81F4-7D8DF2A5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C9F8-7E92-4A48-9AC9-5F5F8391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9689-A4AF-445E-AB7E-C8097EB01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3EE3-9982-491B-B7A8-ABBABD947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7770-DF3E-4757-BA4F-F35ECF817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D83D-984B-40ED-964A-1E601EF9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09D02-D7B9-424A-B850-7F03B100D2D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3354-6CB2-4B1E-8937-269039546AD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23600" y="1736640"/>
            <a:ext cx="26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植树的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6C43-ED86-458F-9704-ABD0124517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/>
  <dc:description/>
  <cp:keywords>幻灯片之家 http:/www.eeppt.com</cp:keywords>
  <dc:language>en-US</dc:language>
  <cp:lastModifiedBy/>
  <dcterms:modified xsi:type="dcterms:W3CDTF">2015-07-03T09:47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