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D23-0425-49E7-93FA-0126D821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60E-C7B1-4196-BEDE-2A401532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694-70BC-4345-BE00-7079F657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DCA-0B74-4E57-B0CF-CE2FD672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567-C07B-4E9A-85F6-2E360748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4044-201F-468E-8856-DC4C494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5418-4CD5-4E00-AB62-286D04A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223-F4DB-405A-83BD-1D2A8C5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0A65-EAF5-4724-B072-A604B64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3290-34A4-4DE2-A00D-8B440BA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9C9-0D17-4A7F-9E16-DBAFCD33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6AA-108B-4F42-8EE1-66094917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A662-0A1A-45B5-B15F-BF2A9D5D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B577-0236-4E3D-932E-C220642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991D-C67E-4B8F-8C78-7A18CD4D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221E-141C-4025-9EE9-AB434AC7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B77-54EA-4AA8-9DE8-96658FC4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0D0-874B-4A05-AFE2-CA0DF14B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39A-A4B1-4902-BAD3-BFBB53EE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FED-3C34-481C-A2F2-3894C75F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CD-BE69-4E11-9904-23EBFD99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9C2-3550-4A0E-853A-C2ACE93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436-7240-4678-B41C-E0047313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722-E1FA-4517-BC22-FF161C0C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422A-464E-4213-A8C8-3CC990C431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D35-3910-413D-9AE6-A6FEFECE9B3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hyperlink" Target="http://www.eeppt.com/moban/kejian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1" name="Picture 4" descr="树叶5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71640" y="1989000"/>
            <a:ext cx="817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320" y="635148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56680" y="184464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做一片美的叶子》优质课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1332000" y="17002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99ff66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树叶1"/>
          <p:cNvPicPr/>
          <p:nvPr/>
        </p:nvPicPr>
        <p:blipFill>
          <a:blip r:embed="rId20"/>
          <a:stretch/>
        </p:blipFill>
        <p:spPr>
          <a:xfrm>
            <a:off x="0" y="-243000"/>
            <a:ext cx="9144000" cy="7318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1E2-45E6-41F4-9CB7-CE02654666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树叶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树叶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4" descr="树叶4"/>
          <p:cNvPicPr/>
          <p:nvPr/>
        </p:nvPicPr>
        <p:blipFill>
          <a:blip r:embed="rId2"/>
          <a:stretch/>
        </p:blipFill>
        <p:spPr>
          <a:xfrm>
            <a:off x="0" y="0"/>
            <a:ext cx="10260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056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你怎么理解以下这些语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每一片叶子形态各异——你找不到两片相同的叶子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春天的时候，叶子嫩绿；夏天的时候，叶子肥美；秋叶变黄；冬日飘零——回归大树地下的根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大树把无数的叶子结为一个整体。无数的叶子在树上找到了自己的位置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每一棵大树都很美，每一片叶子都很美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3" descr="树叶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55640" y="198900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Times New Roman"/>
                <a:ea typeface="隶书"/>
              </a:rPr>
              <a:t>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（      ）做一片美的叶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2:11Z</dcterms:created>
  <dc:creator/>
  <dc:description/>
  <cp:keywords>幻灯片之家 http:/www.eeppt.com</cp:keywords>
  <dc:language>en-US</dc:language>
  <cp:lastModifiedBy/>
  <dcterms:modified xsi:type="dcterms:W3CDTF">2015-07-12T09:37:4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