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5C6-7BC0-4108-9476-7BE62E1D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65A-74EF-4789-B800-EEAE375C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72C-86D5-4D7E-A5E0-53A56EAA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0E4-BB2F-4C07-AC95-7530521C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CF5-29CC-47FD-B037-243C4AC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4F1-2A8C-4ACF-BE51-A2B8274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A21-928B-4537-8523-33F285D1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897-8A56-4EBB-9595-BF98515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92A-E830-4AE8-808E-8B38DE91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2F9-D9F4-4F7D-8C1E-2266F824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919-5B59-4376-B76D-AD4FA82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9AE-8876-4752-8A2F-8EDF29A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D11-DA4A-4D66-9C27-80BCFF1FB5B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8A30-C93B-45FA-8E9F-45BED6B383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tubiao/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柱状图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6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表 9" descr=""/>
          <p:cNvPicPr/>
          <p:nvPr/>
        </p:nvPicPr>
        <p:blipFill>
          <a:blip r:embed="rId3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48" name="图表 12" descr=""/>
          <p:cNvPicPr/>
          <p:nvPr/>
        </p:nvPicPr>
        <p:blipFill>
          <a:blip r:embed="rId4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4500720" y="3549600"/>
            <a:ext cx="46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004"/>
              <a:gd name="adj2" fmla="val 18694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009"/>
              <a:gd name="adj2" fmla="val 18694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308640"/>
            <a:ext cx="761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83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02D-0F90-4EBA-A538-B120CD91A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4:15:54Z</dcterms:modified>
  <cp:revision>10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