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jpeg" ContentType="image/jpeg"/>
  <Override PartName="/ppt/media/image11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5.png" ContentType="image/png"/>
  <Override PartName="/ppt/media/image114.png" ContentType="image/png"/>
  <Override PartName="/ppt/media/image113.png" ContentType="image/png"/>
  <Override PartName="/ppt/media/image3.png" ContentType="image/png"/>
  <Override PartName="/ppt/media/image15.png" ContentType="image/png"/>
  <Override PartName="/ppt/media/image83.png" ContentType="image/png"/>
  <Override PartName="/ppt/media/image6.png" ContentType="image/png"/>
  <Override PartName="/ppt/media/image33.png" ContentType="image/png"/>
  <Override PartName="/ppt/media/image4.png" ContentType="image/png"/>
  <Override PartName="/ppt/media/image34.png" ContentType="image/png"/>
  <Override PartName="/ppt/media/image5.png" ContentType="image/png"/>
  <Override PartName="/ppt/media/image35.png" ContentType="image/png"/>
  <Override PartName="/ppt/media/image107.png" ContentType="image/png"/>
  <Override PartName="/ppt/media/image10.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7.png" ContentType="image/png"/>
  <Override PartName="/ppt/media/image16.png" ContentType="image/png"/>
  <Override PartName="/ppt/media/image84.png" ContentType="image/png"/>
  <Override PartName="/ppt/media/image37.png" ContentType="image/png"/>
  <Override PartName="/ppt/media/image109.png" ContentType="image/png"/>
  <Override PartName="/ppt/media/image80.png" ContentType="image/png"/>
  <Override PartName="/ppt/media/image12.png" ContentType="image/png"/>
  <Override PartName="/ppt/media/image56.png" ContentType="image/png"/>
  <Override PartName="/ppt/media/image54.png" ContentType="image/png"/>
  <Override PartName="/ppt/media/image128.png" ContentType="image/png"/>
  <Override PartName="/ppt/media/image9.png" ContentType="image/png"/>
  <Override PartName="/ppt/media/image31.png" ContentType="image/png"/>
  <Override PartName="/ppt/media/image55.png" ContentType="image/png"/>
  <Override PartName="/ppt/media/image17.png" ContentType="image/png"/>
  <Override PartName="/ppt/media/image85.png" ContentType="image/png"/>
  <Override PartName="/ppt/media/image129.png" ContentType="image/png"/>
  <Override PartName="/ppt/media/image32.png" ContentType="image/png"/>
  <Override PartName="/ppt/media/image40.png" ContentType="image/png"/>
  <Override PartName="/ppt/media/image137.png" ContentType="image/png"/>
  <Override PartName="/ppt/media/image47.png" ContentType="image/png"/>
  <Override PartName="/ppt/media/image133.png" ContentType="image/png"/>
  <Override PartName="/ppt/media/image41.png" ContentType="image/png"/>
  <Override PartName="/ppt/media/image39.png" ContentType="image/png"/>
  <Override PartName="/ppt/media/image48.png" ContentType="image/png"/>
  <Override PartName="/ppt/media/image134.png" ContentType="image/png"/>
  <Override PartName="/ppt/media/image42.png" ContentType="image/png"/>
  <Override PartName="/ppt/media/image49.png" ContentType="image/png"/>
  <Override PartName="/ppt/media/image100.png" ContentType="image/png"/>
  <Override PartName="/ppt/media/image135.png" ContentType="image/png"/>
  <Override PartName="/ppt/media/image43.png" ContentType="image/png"/>
  <Override PartName="/ppt/media/image81.png" ContentType="image/png"/>
  <Override PartName="/ppt/media/image13.png" ContentType="image/png"/>
  <Override PartName="/ppt/media/image1.png" ContentType="image/png"/>
  <Override PartName="/ppt/media/image136.png" ContentType="image/png"/>
  <Override PartName="/ppt/media/image130.png" ContentType="image/png"/>
  <Override PartName="/ppt/media/image79.png" ContentType="image/png"/>
  <Override PartName="/ppt/media/image44.png" ContentType="image/png"/>
  <Override PartName="/ppt/media/image131.png" ContentType="image/png"/>
  <Override PartName="/ppt/media/image45.png" ContentType="image/png"/>
  <Override PartName="/ppt/media/image53.png" ContentType="image/png"/>
  <Override PartName="/ppt/media/image52.png" ContentType="image/png"/>
  <Override PartName="/ppt/media/image51.png" ContentType="image/png"/>
  <Override PartName="/ppt/media/image50.png" ContentType="image/png"/>
  <Override PartName="/ppt/media/image132.png" ContentType="image/png"/>
  <Override PartName="/ppt/media/image46.png" ContentType="image/png"/>
  <Override PartName="/ppt/media/image8.png" ContentType="image/png"/>
  <Override PartName="/ppt/media/image30.png" ContentType="image/png"/>
  <Override PartName="/ppt/media/image38.png" ContentType="image/png"/>
  <Override PartName="/ppt/media/image94.png" ContentType="image/png"/>
  <Override PartName="/ppt/media/image26.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127.wmf" ContentType="image/x-wmf"/>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89.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101.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png" ContentType="image/png"/>
  <Override PartName="/ppt/media/image111.png" ContentType="image/png"/>
  <Override PartName="/ppt/media/image1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DFBBF-8554-412F-AE36-F8B23DAD1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A34EE-7659-4B62-97AE-742ADCF7D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8B687-42CD-4973-827E-6B5CFA0EB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07362-521F-4FB8-A2CB-D4B1BABA9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B4F06-D4B3-469C-A47D-77A9503D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D551F-F645-4D09-8207-3FAC133CE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25DF7-4075-46DA-98CE-CE932B273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CE0F4-C562-4983-B8DE-F3ACD4659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B2095-3EED-4770-AED0-7D5CD843C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055DC-57AF-4CD9-9BE1-000D0BBCF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02BA-0147-4934-9C16-C38CAEE29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CF0F-4A03-4188-82CA-EB4EB9432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9569-80D5-4F17-837E-B24278AF1EEC}"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image" Target="../media/image104.png"/><Relationship Id="rId6" Type="http://schemas.openxmlformats.org/officeDocument/2006/relationships/image" Target="../media/image105.png"/><Relationship Id="rId7" Type="http://schemas.openxmlformats.org/officeDocument/2006/relationships/image" Target="../media/image106.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image" Target="../media/image109.png"/><Relationship Id="rId4" Type="http://schemas.openxmlformats.org/officeDocument/2006/relationships/image" Target="../media/image110.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image" Target="../media/image113.png"/><Relationship Id="rId8" Type="http://schemas.openxmlformats.org/officeDocument/2006/relationships/image" Target="../media/image113.png"/><Relationship Id="rId9" Type="http://schemas.openxmlformats.org/officeDocument/2006/relationships/image" Target="../media/image114.png"/><Relationship Id="rId10" Type="http://schemas.openxmlformats.org/officeDocument/2006/relationships/image" Target="../media/image112.png"/><Relationship Id="rId11" Type="http://schemas.openxmlformats.org/officeDocument/2006/relationships/image" Target="../media/image115.png"/><Relationship Id="rId12" Type="http://schemas.openxmlformats.org/officeDocument/2006/relationships/image" Target="../media/image115.png"/><Relationship Id="rId13" Type="http://schemas.openxmlformats.org/officeDocument/2006/relationships/image" Target="../media/image112.png"/><Relationship Id="rId14" Type="http://schemas.openxmlformats.org/officeDocument/2006/relationships/hyperlink" Target="http://www.rapidbbs.cn/" TargetMode="External"/><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image" Target="../media/image1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image" Target="../media/image123.png"/><Relationship Id="rId3" Type="http://schemas.openxmlformats.org/officeDocument/2006/relationships/hyperlink" Target="http://www.rapidbbs.cn/"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5.png"/><Relationship Id="rId3" Type="http://schemas.openxmlformats.org/officeDocument/2006/relationships/hyperlink" Target="http://www.eeppt.com/moban/shangwu/"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9.png"/><Relationship Id="rId3" Type="http://schemas.openxmlformats.org/officeDocument/2006/relationships/image" Target="../media/image130.png"/><Relationship Id="rId4" Type="http://schemas.openxmlformats.org/officeDocument/2006/relationships/image" Target="../media/image131.png"/><Relationship Id="rId5" Type="http://schemas.openxmlformats.org/officeDocument/2006/relationships/image" Target="../media/image132.png"/><Relationship Id="rId6" Type="http://schemas.openxmlformats.org/officeDocument/2006/relationships/image" Target="../media/image133.png"/><Relationship Id="rId7" Type="http://schemas.openxmlformats.org/officeDocument/2006/relationships/image" Target="../media/image134.png"/><Relationship Id="rId8" Type="http://schemas.openxmlformats.org/officeDocument/2006/relationships/image" Target="../media/image135.png"/><Relationship Id="rId9" Type="http://schemas.openxmlformats.org/officeDocument/2006/relationships/image" Target="../media/image136.png"/><Relationship Id="rId10" Type="http://schemas.openxmlformats.org/officeDocument/2006/relationships/image" Target="../media/image137.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6.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0.png"/><Relationship Id="rId10" Type="http://schemas.openxmlformats.org/officeDocument/2006/relationships/image" Target="../media/image22.png"/><Relationship Id="rId11" Type="http://schemas.openxmlformats.org/officeDocument/2006/relationships/image" Target="../media/image16.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image" Target="../media/image59.png"/><Relationship Id="rId10" Type="http://schemas.openxmlformats.org/officeDocument/2006/relationships/image" Target="../media/image60.png"/><Relationship Id="rId11" Type="http://schemas.openxmlformats.org/officeDocument/2006/relationships/image" Target="../media/image61.png"/><Relationship Id="rId12" Type="http://schemas.openxmlformats.org/officeDocument/2006/relationships/image" Target="../media/image62.png"/><Relationship Id="rId13" Type="http://schemas.openxmlformats.org/officeDocument/2006/relationships/image" Target="../media/image63.png"/><Relationship Id="rId14" Type="http://schemas.openxmlformats.org/officeDocument/2006/relationships/image" Target="../media/image64.png"/><Relationship Id="rId15" Type="http://schemas.openxmlformats.org/officeDocument/2006/relationships/image" Target="../media/image65.png"/><Relationship Id="rId16" Type="http://schemas.openxmlformats.org/officeDocument/2006/relationships/image" Target="../media/image66.png"/><Relationship Id="rId17" Type="http://schemas.openxmlformats.org/officeDocument/2006/relationships/image" Target="../media/image67.png"/><Relationship Id="rId18" Type="http://schemas.openxmlformats.org/officeDocument/2006/relationships/image" Target="../media/image68.png"/><Relationship Id="rId19" Type="http://schemas.openxmlformats.org/officeDocument/2006/relationships/image" Target="../media/image69.png"/><Relationship Id="rId20" Type="http://schemas.openxmlformats.org/officeDocument/2006/relationships/image" Target="../media/image70.png"/><Relationship Id="rId21" Type="http://schemas.openxmlformats.org/officeDocument/2006/relationships/image" Target="../media/image71.png"/><Relationship Id="rId22" Type="http://schemas.openxmlformats.org/officeDocument/2006/relationships/image" Target="../media/image72.png"/><Relationship Id="rId23" Type="http://schemas.openxmlformats.org/officeDocument/2006/relationships/image" Target="../media/image73.png"/><Relationship Id="rId24" Type="http://schemas.openxmlformats.org/officeDocument/2006/relationships/image" Target="../media/image74.png"/><Relationship Id="rId25" Type="http://schemas.openxmlformats.org/officeDocument/2006/relationships/image" Target="../media/image75.png"/><Relationship Id="rId26" Type="http://schemas.openxmlformats.org/officeDocument/2006/relationships/image" Target="../media/image76.png"/><Relationship Id="rId27" Type="http://schemas.openxmlformats.org/officeDocument/2006/relationships/image" Target="../media/image77.png"/><Relationship Id="rId28" Type="http://schemas.openxmlformats.org/officeDocument/2006/relationships/image" Target="../media/image78.png"/><Relationship Id="rId29" Type="http://schemas.openxmlformats.org/officeDocument/2006/relationships/image" Target="../media/image79.png"/><Relationship Id="rId30" Type="http://schemas.openxmlformats.org/officeDocument/2006/relationships/image" Target="../media/image80.png"/><Relationship Id="rId31" Type="http://schemas.openxmlformats.org/officeDocument/2006/relationships/image" Target="../media/image81.png"/><Relationship Id="rId32" Type="http://schemas.openxmlformats.org/officeDocument/2006/relationships/image" Target="../media/image82.png"/><Relationship Id="rId33" Type="http://schemas.openxmlformats.org/officeDocument/2006/relationships/image" Target="../media/image83.png"/><Relationship Id="rId34" Type="http://schemas.openxmlformats.org/officeDocument/2006/relationships/image" Target="../media/image84.png"/><Relationship Id="rId35" Type="http://schemas.openxmlformats.org/officeDocument/2006/relationships/image" Target="../media/image85.png"/><Relationship Id="rId36" Type="http://schemas.openxmlformats.org/officeDocument/2006/relationships/image" Target="../media/image86.png"/><Relationship Id="rId37" Type="http://schemas.openxmlformats.org/officeDocument/2006/relationships/image" Target="../media/image87.png"/><Relationship Id="rId38" Type="http://schemas.openxmlformats.org/officeDocument/2006/relationships/image" Target="../media/image88.png"/><Relationship Id="rId39" Type="http://schemas.openxmlformats.org/officeDocument/2006/relationships/image" Target="../media/image89.png"/><Relationship Id="rId40" Type="http://schemas.openxmlformats.org/officeDocument/2006/relationships/image" Target="../media/image90.png"/><Relationship Id="rId41" Type="http://schemas.openxmlformats.org/officeDocument/2006/relationships/image" Target="../media/image91.png"/><Relationship Id="rId42" Type="http://schemas.openxmlformats.org/officeDocument/2006/relationships/image" Target="../media/image92.png"/><Relationship Id="rId43" Type="http://schemas.openxmlformats.org/officeDocument/2006/relationships/image" Target="../media/image93.png"/><Relationship Id="rId44" Type="http://schemas.openxmlformats.org/officeDocument/2006/relationships/image" Target="../media/image94.png"/><Relationship Id="rId45" Type="http://schemas.openxmlformats.org/officeDocument/2006/relationships/image" Target="../media/image95.png"/><Relationship Id="rId46" Type="http://schemas.openxmlformats.org/officeDocument/2006/relationships/hyperlink" Target="http://www.rapidbbs.cn/" TargetMode="External"/><Relationship Id="rId4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2158920" y="863640"/>
            <a:ext cx="4978440" cy="4978440"/>
            <a:chOff x="2158920" y="863640"/>
            <a:chExt cx="4978440" cy="4978440"/>
          </a:xfrm>
        </p:grpSpPr>
        <p:pic>
          <p:nvPicPr>
            <p:cNvPr id="42" name="Group 23" descr=""/>
            <p:cNvPicPr/>
            <p:nvPr/>
          </p:nvPicPr>
          <p:blipFill>
            <a:blip r:embed="rId1"/>
            <a:stretch/>
          </p:blipFill>
          <p:spPr>
            <a:xfrm>
              <a:off x="2158920" y="863640"/>
              <a:ext cx="4978440" cy="4978440"/>
            </a:xfrm>
            <a:prstGeom prst="rect">
              <a:avLst/>
            </a:prstGeom>
            <a:ln w="0">
              <a:noFill/>
            </a:ln>
          </p:spPr>
        </p:pic>
        <p:grpSp>
          <p:nvGrpSpPr>
            <p:cNvPr id="43" name="Group 4"/>
            <p:cNvGrpSpPr/>
            <p:nvPr/>
          </p:nvGrpSpPr>
          <p:grpSpPr>
            <a:xfrm>
              <a:off x="3392280" y="2199960"/>
              <a:ext cx="2280960" cy="2288880"/>
              <a:chOff x="3392280" y="2199960"/>
              <a:chExt cx="2280960" cy="2288880"/>
            </a:xfrm>
          </p:grpSpPr>
          <p:pic>
            <p:nvPicPr>
              <p:cNvPr id="44" name="Oval 13" descr=""/>
              <p:cNvPicPr/>
              <p:nvPr/>
            </p:nvPicPr>
            <p:blipFill>
              <a:blip r:embed="rId2"/>
              <a:stretch/>
            </p:blipFill>
            <p:spPr>
              <a:xfrm>
                <a:off x="3392280" y="2199960"/>
                <a:ext cx="2280960" cy="2288880"/>
              </a:xfrm>
              <a:prstGeom prst="rect">
                <a:avLst/>
              </a:prstGeom>
              <a:ln w="0">
                <a:noFill/>
              </a:ln>
            </p:spPr>
          </p:pic>
          <p:sp>
            <p:nvSpPr>
              <p:cNvPr id="45" name="Text Box 6"/>
              <p:cNvSpPr/>
              <p:nvPr/>
            </p:nvSpPr>
            <p:spPr>
              <a:xfrm>
                <a:off x="3823560" y="2521440"/>
                <a:ext cx="1409400" cy="1410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 name="Group 7"/>
            <p:cNvGrpSpPr/>
            <p:nvPr/>
          </p:nvGrpSpPr>
          <p:grpSpPr>
            <a:xfrm>
              <a:off x="3623040" y="2070000"/>
              <a:ext cx="946080" cy="558000"/>
              <a:chOff x="3623040" y="2070000"/>
              <a:chExt cx="946080" cy="558000"/>
            </a:xfrm>
          </p:grpSpPr>
          <p:pic>
            <p:nvPicPr>
              <p:cNvPr id="47" name="Oval 14" descr=""/>
              <p:cNvPicPr/>
              <p:nvPr/>
            </p:nvPicPr>
            <p:blipFill>
              <a:blip r:embed="rId3"/>
              <a:stretch/>
            </p:blipFill>
            <p:spPr>
              <a:xfrm>
                <a:off x="3623040" y="2070000"/>
                <a:ext cx="946080" cy="558000"/>
              </a:xfrm>
              <a:prstGeom prst="rect">
                <a:avLst/>
              </a:prstGeom>
              <a:ln w="0">
                <a:noFill/>
              </a:ln>
            </p:spPr>
          </p:pic>
          <p:sp>
            <p:nvSpPr>
              <p:cNvPr id="48" name="Text Box 9"/>
              <p:cNvSpPr/>
              <p:nvPr/>
            </p:nvSpPr>
            <p:spPr>
              <a:xfrm rot="19944000">
                <a:off x="3724560" y="2242080"/>
                <a:ext cx="742680" cy="214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TextBox 15"/>
            <p:cNvSpPr/>
            <p:nvPr/>
          </p:nvSpPr>
          <p:spPr>
            <a:xfrm>
              <a:off x="3754440" y="2744280"/>
              <a:ext cx="1533960" cy="1492560"/>
            </a:xfrm>
            <a:prstGeom prst="rect">
              <a:avLst/>
            </a:prstGeom>
            <a:noFill/>
            <a:ln w="0">
              <a:noFill/>
            </a:ln>
            <a:effectLst>
              <a:outerShdw dist="38183" dir="2700000" blurRad="0" rotWithShape="0">
                <a:srgbClr val="000000">
                  <a:alpha val="33000"/>
                </a:srgbClr>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Arial"/>
                </a:rPr>
                <a:t>Result of Parts</a:t>
              </a:r>
              <a:endParaRPr b="0" lang="en-US" sz="3600" spc="-1" strike="noStrike">
                <a:solidFill>
                  <a:srgbClr val="000000"/>
                </a:solidFill>
                <a:latin typeface="Arial"/>
              </a:endParaRPr>
            </a:p>
          </p:txBody>
        </p:sp>
        <p:sp>
          <p:nvSpPr>
            <p:cNvPr id="50" name="TextBox 16"/>
            <p:cNvSpPr/>
            <p:nvPr/>
          </p:nvSpPr>
          <p:spPr>
            <a:xfrm>
              <a:off x="2758320" y="1460880"/>
              <a:ext cx="1302120" cy="1201320"/>
            </a:xfrm>
            <a:prstGeom prst="rect">
              <a:avLst/>
            </a:prstGeom>
            <a:noFill/>
            <a:ln w="0">
              <a:noFill/>
            </a:ln>
            <a:effectLst>
              <a:outerShdw dist="38183" dir="2700000" blurRad="0" rotWithShape="0">
                <a:srgbClr val="000000">
                  <a:alpha val="3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A</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sp>
          <p:nvSpPr>
            <p:cNvPr id="51" name="TextBox 17"/>
            <p:cNvSpPr/>
            <p:nvPr/>
          </p:nvSpPr>
          <p:spPr>
            <a:xfrm>
              <a:off x="4982040" y="1460880"/>
              <a:ext cx="1302120" cy="1201320"/>
            </a:xfrm>
            <a:prstGeom prst="rect">
              <a:avLst/>
            </a:prstGeom>
            <a:noFill/>
            <a:ln w="0">
              <a:noFill/>
            </a:ln>
            <a:effectLst>
              <a:outerShdw dist="38183" dir="2700000" blurRad="0" rotWithShape="0">
                <a:srgbClr val="000000">
                  <a:alpha val="3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B</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sp>
          <p:nvSpPr>
            <p:cNvPr id="52" name="TextBox 18"/>
            <p:cNvSpPr/>
            <p:nvPr/>
          </p:nvSpPr>
          <p:spPr>
            <a:xfrm>
              <a:off x="5084640" y="3763440"/>
              <a:ext cx="1302120" cy="1201320"/>
            </a:xfrm>
            <a:prstGeom prst="rect">
              <a:avLst/>
            </a:prstGeom>
            <a:noFill/>
            <a:ln w="0">
              <a:noFill/>
            </a:ln>
            <a:effectLst>
              <a:outerShdw dist="38183" dir="2700000" blurRad="0" rotWithShape="0">
                <a:srgbClr val="000000">
                  <a:alpha val="3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C</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sp>
          <p:nvSpPr>
            <p:cNvPr id="53" name="TextBox 22"/>
            <p:cNvSpPr/>
            <p:nvPr/>
          </p:nvSpPr>
          <p:spPr>
            <a:xfrm>
              <a:off x="2682000" y="3763440"/>
              <a:ext cx="1302120" cy="1201320"/>
            </a:xfrm>
            <a:prstGeom prst="rect">
              <a:avLst/>
            </a:prstGeom>
            <a:noFill/>
            <a:ln w="0">
              <a:noFill/>
            </a:ln>
            <a:effectLst>
              <a:outerShdw dist="38183" dir="2700000" blurRad="0" rotWithShape="0">
                <a:srgbClr val="000000">
                  <a:alpha val="3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Arial"/>
                </a:rPr>
                <a:t>Part D</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Arial Narrow"/>
                  <a:ea typeface="Arial"/>
                </a:rPr>
                <a:t>Place your details or bullets here</a:t>
              </a:r>
              <a:endParaRPr b="0" lang="en-US" sz="1600" spc="-1" strike="noStrike">
                <a:solidFill>
                  <a:srgbClr val="000000"/>
                </a:solidFill>
                <a:latin typeface="Arial"/>
              </a:endParaRPr>
            </a:p>
          </p:txBody>
        </p:sp>
      </p:grpSp>
      <p:sp>
        <p:nvSpPr>
          <p:cNvPr id="54" name=""/>
          <p:cNvSpPr/>
          <p:nvPr/>
        </p:nvSpPr>
        <p:spPr>
          <a:xfrm>
            <a:off x="910080" y="189000"/>
            <a:ext cx="390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17</a:t>
            </a:r>
            <a:r>
              <a:rPr b="0" lang="zh-TW" sz="3200" spc="-1" strike="noStrike">
                <a:solidFill>
                  <a:srgbClr val="000000"/>
                </a:solidFill>
                <a:latin typeface="Arial"/>
              </a:rPr>
              <a:t>页欧美各式商务</a:t>
            </a:r>
            <a:r>
              <a:rPr b="0" lang="zh-CN" sz="3200" spc="-1" strike="noStrike">
                <a:solidFill>
                  <a:srgbClr val="000000"/>
                </a:solidFill>
                <a:latin typeface="Arial"/>
                <a:ea typeface="宋体"/>
              </a:rPr>
              <a:t>PPT</a:t>
            </a:r>
            <a:r>
              <a:rPr b="0" lang="zh-TW" sz="3200" spc="-1" strike="noStrike">
                <a:solidFill>
                  <a:srgbClr val="000000"/>
                </a:solidFill>
                <a:latin typeface="Arial"/>
              </a:rPr>
              <a:t>图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Straight Connector 4"/>
          <p:cNvSpPr/>
          <p:nvPr/>
        </p:nvSpPr>
        <p:spPr>
          <a:xfrm>
            <a:off x="2992320" y="3430440"/>
            <a:ext cx="4496040" cy="1800"/>
          </a:xfrm>
          <a:prstGeom prst="line">
            <a:avLst/>
          </a:prstGeom>
          <a:ln cap="rnd" w="57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2" name="Straight Connector 6"/>
          <p:cNvSpPr/>
          <p:nvPr/>
        </p:nvSpPr>
        <p:spPr>
          <a:xfrm>
            <a:off x="1391400" y="1447920"/>
            <a:ext cx="1600200" cy="19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3" name="Group 4"/>
          <p:cNvGrpSpPr/>
          <p:nvPr/>
        </p:nvGrpSpPr>
        <p:grpSpPr>
          <a:xfrm>
            <a:off x="255600" y="1060560"/>
            <a:ext cx="1603440" cy="609480"/>
            <a:chOff x="255600" y="1060560"/>
            <a:chExt cx="1603440" cy="609480"/>
          </a:xfrm>
        </p:grpSpPr>
        <p:pic>
          <p:nvPicPr>
            <p:cNvPr id="894" name="Rectangle 37" descr=""/>
            <p:cNvPicPr/>
            <p:nvPr/>
          </p:nvPicPr>
          <p:blipFill>
            <a:blip r:embed="rId1"/>
            <a:stretch/>
          </p:blipFill>
          <p:spPr>
            <a:xfrm>
              <a:off x="255600" y="1060560"/>
              <a:ext cx="1603440" cy="609480"/>
            </a:xfrm>
            <a:prstGeom prst="rect">
              <a:avLst/>
            </a:prstGeom>
            <a:ln w="0">
              <a:noFill/>
            </a:ln>
          </p:spPr>
        </p:pic>
        <p:sp>
          <p:nvSpPr>
            <p:cNvPr id="895" name="Text Box 6"/>
            <p:cNvSpPr/>
            <p:nvPr/>
          </p:nvSpPr>
          <p:spPr>
            <a:xfrm>
              <a:off x="304920" y="1181160"/>
              <a:ext cx="1503360" cy="3189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A</a:t>
              </a:r>
              <a:endParaRPr b="0" lang="en-US" sz="2000" spc="-1" strike="noStrike">
                <a:solidFill>
                  <a:srgbClr val="000000"/>
                </a:solidFill>
                <a:latin typeface="Arial"/>
              </a:endParaRPr>
            </a:p>
          </p:txBody>
        </p:sp>
      </p:grpSp>
      <p:sp>
        <p:nvSpPr>
          <p:cNvPr id="896" name="Straight Connector 38"/>
          <p:cNvSpPr/>
          <p:nvPr/>
        </p:nvSpPr>
        <p:spPr>
          <a:xfrm>
            <a:off x="3506040" y="1447920"/>
            <a:ext cx="1600200" cy="19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7" name="Group 8"/>
          <p:cNvGrpSpPr/>
          <p:nvPr/>
        </p:nvGrpSpPr>
        <p:grpSpPr>
          <a:xfrm>
            <a:off x="2371680" y="1060560"/>
            <a:ext cx="1603440" cy="609480"/>
            <a:chOff x="2371680" y="1060560"/>
            <a:chExt cx="1603440" cy="609480"/>
          </a:xfrm>
        </p:grpSpPr>
        <p:pic>
          <p:nvPicPr>
            <p:cNvPr id="898" name="Rectangle 37" descr=""/>
            <p:cNvPicPr/>
            <p:nvPr/>
          </p:nvPicPr>
          <p:blipFill>
            <a:blip r:embed="rId2"/>
            <a:stretch/>
          </p:blipFill>
          <p:spPr>
            <a:xfrm>
              <a:off x="2371680" y="1060560"/>
              <a:ext cx="1603440" cy="609480"/>
            </a:xfrm>
            <a:prstGeom prst="rect">
              <a:avLst/>
            </a:prstGeom>
            <a:ln w="0">
              <a:noFill/>
            </a:ln>
          </p:spPr>
        </p:pic>
        <p:sp>
          <p:nvSpPr>
            <p:cNvPr id="899" name="Text Box 10"/>
            <p:cNvSpPr/>
            <p:nvPr/>
          </p:nvSpPr>
          <p:spPr>
            <a:xfrm>
              <a:off x="2421000" y="1181160"/>
              <a:ext cx="1503360" cy="3189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B</a:t>
              </a:r>
              <a:endParaRPr b="0" lang="en-US" sz="2000" spc="-1" strike="noStrike">
                <a:solidFill>
                  <a:srgbClr val="000000"/>
                </a:solidFill>
                <a:latin typeface="Arial"/>
              </a:endParaRPr>
            </a:p>
          </p:txBody>
        </p:sp>
      </p:grpSp>
      <p:sp>
        <p:nvSpPr>
          <p:cNvPr id="900" name="Straight Connector 43"/>
          <p:cNvSpPr/>
          <p:nvPr/>
        </p:nvSpPr>
        <p:spPr>
          <a:xfrm flipV="1">
            <a:off x="1391400" y="3430440"/>
            <a:ext cx="1600200" cy="19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Straight Connector 44"/>
          <p:cNvSpPr/>
          <p:nvPr/>
        </p:nvSpPr>
        <p:spPr>
          <a:xfrm flipV="1">
            <a:off x="3506040" y="3430440"/>
            <a:ext cx="1600200" cy="19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2" name="Group 13"/>
          <p:cNvGrpSpPr/>
          <p:nvPr/>
        </p:nvGrpSpPr>
        <p:grpSpPr>
          <a:xfrm>
            <a:off x="255600" y="5291280"/>
            <a:ext cx="1603440" cy="615960"/>
            <a:chOff x="255600" y="5291280"/>
            <a:chExt cx="1603440" cy="615960"/>
          </a:xfrm>
        </p:grpSpPr>
        <p:pic>
          <p:nvPicPr>
            <p:cNvPr id="903" name="Rectangle 37" descr=""/>
            <p:cNvPicPr/>
            <p:nvPr/>
          </p:nvPicPr>
          <p:blipFill>
            <a:blip r:embed="rId3"/>
            <a:stretch/>
          </p:blipFill>
          <p:spPr>
            <a:xfrm>
              <a:off x="255600" y="5291280"/>
              <a:ext cx="1603440" cy="615960"/>
            </a:xfrm>
            <a:prstGeom prst="rect">
              <a:avLst/>
            </a:prstGeom>
            <a:ln w="0">
              <a:noFill/>
            </a:ln>
          </p:spPr>
        </p:pic>
        <p:sp>
          <p:nvSpPr>
            <p:cNvPr id="904" name="Text Box 15"/>
            <p:cNvSpPr/>
            <p:nvPr/>
          </p:nvSpPr>
          <p:spPr>
            <a:xfrm>
              <a:off x="304920" y="5413680"/>
              <a:ext cx="1503360" cy="32040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D</a:t>
              </a:r>
              <a:endParaRPr b="0" lang="en-US" sz="2000" spc="-1" strike="noStrike">
                <a:solidFill>
                  <a:srgbClr val="000000"/>
                </a:solidFill>
                <a:latin typeface="Arial"/>
              </a:endParaRPr>
            </a:p>
          </p:txBody>
        </p:sp>
      </p:grpSp>
      <p:grpSp>
        <p:nvGrpSpPr>
          <p:cNvPr id="905" name="Group 16"/>
          <p:cNvGrpSpPr/>
          <p:nvPr/>
        </p:nvGrpSpPr>
        <p:grpSpPr>
          <a:xfrm>
            <a:off x="2371680" y="5291280"/>
            <a:ext cx="1603440" cy="615960"/>
            <a:chOff x="2371680" y="5291280"/>
            <a:chExt cx="1603440" cy="615960"/>
          </a:xfrm>
        </p:grpSpPr>
        <p:pic>
          <p:nvPicPr>
            <p:cNvPr id="906" name="Rectangle 37" descr=""/>
            <p:cNvPicPr/>
            <p:nvPr/>
          </p:nvPicPr>
          <p:blipFill>
            <a:blip r:embed="rId4"/>
            <a:stretch/>
          </p:blipFill>
          <p:spPr>
            <a:xfrm>
              <a:off x="2371680" y="5291280"/>
              <a:ext cx="1603440" cy="615960"/>
            </a:xfrm>
            <a:prstGeom prst="rect">
              <a:avLst/>
            </a:prstGeom>
            <a:ln w="0">
              <a:noFill/>
            </a:ln>
          </p:spPr>
        </p:pic>
        <p:sp>
          <p:nvSpPr>
            <p:cNvPr id="907" name="Text Box 18"/>
            <p:cNvSpPr/>
            <p:nvPr/>
          </p:nvSpPr>
          <p:spPr>
            <a:xfrm>
              <a:off x="2421000" y="5413680"/>
              <a:ext cx="1503360" cy="32040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E</a:t>
              </a:r>
              <a:endParaRPr b="0" lang="en-US" sz="2000" spc="-1" strike="noStrike">
                <a:solidFill>
                  <a:srgbClr val="000000"/>
                </a:solidFill>
                <a:latin typeface="Arial"/>
              </a:endParaRPr>
            </a:p>
          </p:txBody>
        </p:sp>
      </p:grpSp>
      <p:sp>
        <p:nvSpPr>
          <p:cNvPr id="908" name="Straight Connector 48"/>
          <p:cNvSpPr/>
          <p:nvPr/>
        </p:nvSpPr>
        <p:spPr>
          <a:xfrm>
            <a:off x="5487120" y="1447920"/>
            <a:ext cx="1600200" cy="19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9" name="Group 20"/>
          <p:cNvGrpSpPr/>
          <p:nvPr/>
        </p:nvGrpSpPr>
        <p:grpSpPr>
          <a:xfrm>
            <a:off x="4352760" y="1060560"/>
            <a:ext cx="1603440" cy="609480"/>
            <a:chOff x="4352760" y="1060560"/>
            <a:chExt cx="1603440" cy="609480"/>
          </a:xfrm>
        </p:grpSpPr>
        <p:pic>
          <p:nvPicPr>
            <p:cNvPr id="910" name="Rectangle 37" descr=""/>
            <p:cNvPicPr/>
            <p:nvPr/>
          </p:nvPicPr>
          <p:blipFill>
            <a:blip r:embed="rId5"/>
            <a:stretch/>
          </p:blipFill>
          <p:spPr>
            <a:xfrm>
              <a:off x="4352760" y="1060560"/>
              <a:ext cx="1603440" cy="609480"/>
            </a:xfrm>
            <a:prstGeom prst="rect">
              <a:avLst/>
            </a:prstGeom>
            <a:ln w="0">
              <a:noFill/>
            </a:ln>
          </p:spPr>
        </p:pic>
        <p:sp>
          <p:nvSpPr>
            <p:cNvPr id="911" name="Text Box 22"/>
            <p:cNvSpPr/>
            <p:nvPr/>
          </p:nvSpPr>
          <p:spPr>
            <a:xfrm>
              <a:off x="4402080" y="1181160"/>
              <a:ext cx="1503360" cy="3189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C</a:t>
              </a:r>
              <a:endParaRPr b="0" lang="en-US" sz="2000" spc="-1" strike="noStrike">
                <a:solidFill>
                  <a:srgbClr val="000000"/>
                </a:solidFill>
                <a:latin typeface="Arial"/>
              </a:endParaRPr>
            </a:p>
          </p:txBody>
        </p:sp>
      </p:grpSp>
      <p:sp>
        <p:nvSpPr>
          <p:cNvPr id="912" name="Straight Connector 50"/>
          <p:cNvSpPr/>
          <p:nvPr/>
        </p:nvSpPr>
        <p:spPr>
          <a:xfrm flipV="1">
            <a:off x="5487120" y="3430440"/>
            <a:ext cx="1600200" cy="19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3" name="Group 24"/>
          <p:cNvGrpSpPr/>
          <p:nvPr/>
        </p:nvGrpSpPr>
        <p:grpSpPr>
          <a:xfrm>
            <a:off x="4352760" y="5291280"/>
            <a:ext cx="1603440" cy="615960"/>
            <a:chOff x="4352760" y="5291280"/>
            <a:chExt cx="1603440" cy="615960"/>
          </a:xfrm>
        </p:grpSpPr>
        <p:pic>
          <p:nvPicPr>
            <p:cNvPr id="914" name="Rectangle 37" descr=""/>
            <p:cNvPicPr/>
            <p:nvPr/>
          </p:nvPicPr>
          <p:blipFill>
            <a:blip r:embed="rId6"/>
            <a:stretch/>
          </p:blipFill>
          <p:spPr>
            <a:xfrm>
              <a:off x="4352760" y="5291280"/>
              <a:ext cx="1603440" cy="615960"/>
            </a:xfrm>
            <a:prstGeom prst="rect">
              <a:avLst/>
            </a:prstGeom>
            <a:ln w="0">
              <a:noFill/>
            </a:ln>
          </p:spPr>
        </p:pic>
        <p:sp>
          <p:nvSpPr>
            <p:cNvPr id="915" name="Text Box 26"/>
            <p:cNvSpPr/>
            <p:nvPr/>
          </p:nvSpPr>
          <p:spPr>
            <a:xfrm>
              <a:off x="4402080" y="5413680"/>
              <a:ext cx="1503360" cy="32040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tegory F</a:t>
              </a:r>
              <a:endParaRPr b="0" lang="en-US" sz="2000" spc="-1" strike="noStrike">
                <a:solidFill>
                  <a:srgbClr val="000000"/>
                </a:solidFill>
                <a:latin typeface="Arial"/>
              </a:endParaRPr>
            </a:p>
          </p:txBody>
        </p:sp>
      </p:grpSp>
      <p:sp>
        <p:nvSpPr>
          <p:cNvPr id="916" name="Straight Connector 55"/>
          <p:cNvSpPr/>
          <p:nvPr/>
        </p:nvSpPr>
        <p:spPr>
          <a:xfrm flipH="1" flipV="1">
            <a:off x="1350720" y="20574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7" name="Rectangle 70"/>
          <p:cNvSpPr/>
          <p:nvPr/>
        </p:nvSpPr>
        <p:spPr>
          <a:xfrm>
            <a:off x="228600" y="190656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18" name="Straight Connector 57"/>
          <p:cNvSpPr/>
          <p:nvPr/>
        </p:nvSpPr>
        <p:spPr>
          <a:xfrm flipH="1" flipV="1">
            <a:off x="1849320" y="266652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Rectangle 70"/>
          <p:cNvSpPr/>
          <p:nvPr/>
        </p:nvSpPr>
        <p:spPr>
          <a:xfrm>
            <a:off x="725400" y="251604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20" name="Straight Connector 63"/>
          <p:cNvSpPr/>
          <p:nvPr/>
        </p:nvSpPr>
        <p:spPr>
          <a:xfrm flipH="1" flipV="1">
            <a:off x="1350720" y="48006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1" name="Rectangle 70"/>
          <p:cNvSpPr/>
          <p:nvPr/>
        </p:nvSpPr>
        <p:spPr>
          <a:xfrm>
            <a:off x="228600" y="464976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22" name="Straight Connector 65"/>
          <p:cNvSpPr/>
          <p:nvPr/>
        </p:nvSpPr>
        <p:spPr>
          <a:xfrm flipH="1" flipV="1">
            <a:off x="1849320" y="418896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3" name="Rectangle 70"/>
          <p:cNvSpPr/>
          <p:nvPr/>
        </p:nvSpPr>
        <p:spPr>
          <a:xfrm>
            <a:off x="725400" y="403848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24" name="Straight Connector 67"/>
          <p:cNvSpPr/>
          <p:nvPr/>
        </p:nvSpPr>
        <p:spPr>
          <a:xfrm flipH="1" flipV="1">
            <a:off x="3458880" y="20574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Rectangle 70"/>
          <p:cNvSpPr/>
          <p:nvPr/>
        </p:nvSpPr>
        <p:spPr>
          <a:xfrm>
            <a:off x="2336760" y="190656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26" name="Straight Connector 69"/>
          <p:cNvSpPr/>
          <p:nvPr/>
        </p:nvSpPr>
        <p:spPr>
          <a:xfrm flipH="1" flipV="1">
            <a:off x="3957480" y="266652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7" name="Rectangle 70"/>
          <p:cNvSpPr/>
          <p:nvPr/>
        </p:nvSpPr>
        <p:spPr>
          <a:xfrm>
            <a:off x="2835360" y="251604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28" name="Straight Connector 71"/>
          <p:cNvSpPr/>
          <p:nvPr/>
        </p:nvSpPr>
        <p:spPr>
          <a:xfrm flipH="1" flipV="1">
            <a:off x="3458880" y="4800600"/>
            <a:ext cx="53316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9" name="Rectangle 70"/>
          <p:cNvSpPr/>
          <p:nvPr/>
        </p:nvSpPr>
        <p:spPr>
          <a:xfrm>
            <a:off x="2336760" y="464976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30" name="Straight Connector 73"/>
          <p:cNvSpPr/>
          <p:nvPr/>
        </p:nvSpPr>
        <p:spPr>
          <a:xfrm flipH="1" flipV="1">
            <a:off x="3957480" y="4188960"/>
            <a:ext cx="53352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1" name="Rectangle 70"/>
          <p:cNvSpPr/>
          <p:nvPr/>
        </p:nvSpPr>
        <p:spPr>
          <a:xfrm>
            <a:off x="2835360" y="403848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32" name="Straight Connector 75"/>
          <p:cNvSpPr/>
          <p:nvPr/>
        </p:nvSpPr>
        <p:spPr>
          <a:xfrm flipH="1" flipV="1">
            <a:off x="5432400" y="2057400"/>
            <a:ext cx="5335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3" name="Rectangle 70"/>
          <p:cNvSpPr/>
          <p:nvPr/>
        </p:nvSpPr>
        <p:spPr>
          <a:xfrm>
            <a:off x="4309920" y="190656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34" name="Straight Connector 77"/>
          <p:cNvSpPr/>
          <p:nvPr/>
        </p:nvSpPr>
        <p:spPr>
          <a:xfrm flipH="1" flipV="1">
            <a:off x="5930640" y="2666520"/>
            <a:ext cx="53316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Rectangle 78"/>
          <p:cNvSpPr/>
          <p:nvPr/>
        </p:nvSpPr>
        <p:spPr>
          <a:xfrm>
            <a:off x="4807080" y="251604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36" name="Straight Connector 79"/>
          <p:cNvSpPr/>
          <p:nvPr/>
        </p:nvSpPr>
        <p:spPr>
          <a:xfrm flipH="1" flipV="1">
            <a:off x="5432400" y="4800600"/>
            <a:ext cx="533520" cy="1440"/>
          </a:xfrm>
          <a:prstGeom prst="line">
            <a:avLst/>
          </a:prstGeom>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7" name="Rectangle 70"/>
          <p:cNvSpPr/>
          <p:nvPr/>
        </p:nvSpPr>
        <p:spPr>
          <a:xfrm>
            <a:off x="4309920" y="464976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sp>
        <p:nvSpPr>
          <p:cNvPr id="938" name="Straight Connector 81"/>
          <p:cNvSpPr/>
          <p:nvPr/>
        </p:nvSpPr>
        <p:spPr>
          <a:xfrm flipH="1" flipV="1">
            <a:off x="5930640" y="4188960"/>
            <a:ext cx="533160" cy="1800"/>
          </a:xfrm>
          <a:prstGeom prst="line">
            <a:avLst/>
          </a:prstGeom>
          <a:ln cap="rnd"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9" name="Rectangle 70"/>
          <p:cNvSpPr/>
          <p:nvPr/>
        </p:nvSpPr>
        <p:spPr>
          <a:xfrm>
            <a:off x="4807080" y="403848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use</a:t>
            </a:r>
            <a:endParaRPr b="0" lang="en-US" sz="1800" spc="-1" strike="noStrike">
              <a:solidFill>
                <a:srgbClr val="000000"/>
              </a:solidFill>
              <a:latin typeface="Arial"/>
            </a:endParaRPr>
          </a:p>
        </p:txBody>
      </p:sp>
      <p:grpSp>
        <p:nvGrpSpPr>
          <p:cNvPr id="940" name="Group 51"/>
          <p:cNvGrpSpPr/>
          <p:nvPr/>
        </p:nvGrpSpPr>
        <p:grpSpPr>
          <a:xfrm>
            <a:off x="7192800" y="2840040"/>
            <a:ext cx="1627200" cy="1158840"/>
            <a:chOff x="7192800" y="2840040"/>
            <a:chExt cx="1627200" cy="1158840"/>
          </a:xfrm>
        </p:grpSpPr>
        <p:pic>
          <p:nvPicPr>
            <p:cNvPr id="941" name="Rectangle 43" descr=""/>
            <p:cNvPicPr/>
            <p:nvPr/>
          </p:nvPicPr>
          <p:blipFill>
            <a:blip r:embed="rId7"/>
            <a:stretch/>
          </p:blipFill>
          <p:spPr>
            <a:xfrm>
              <a:off x="7192800" y="2840040"/>
              <a:ext cx="1627200" cy="1158840"/>
            </a:xfrm>
            <a:prstGeom prst="rect">
              <a:avLst/>
            </a:prstGeom>
            <a:ln w="0">
              <a:noFill/>
            </a:ln>
          </p:spPr>
        </p:pic>
        <p:sp>
          <p:nvSpPr>
            <p:cNvPr id="942" name="Text Box 53"/>
            <p:cNvSpPr/>
            <p:nvPr/>
          </p:nvSpPr>
          <p:spPr>
            <a:xfrm>
              <a:off x="7238880" y="2940120"/>
              <a:ext cx="1523880" cy="98100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ffect</a:t>
              </a:r>
              <a:br>
                <a:rPr sz="2400"/>
              </a:br>
              <a:r>
                <a:rPr b="0" lang="en-US" sz="1600" spc="-1" strike="noStrike">
                  <a:solidFill>
                    <a:srgbClr val="000000"/>
                  </a:solidFill>
                  <a:latin typeface="Arial Narrow"/>
                </a:rPr>
                <a:t>More information placed her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Rectangle 8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5"/>
          <p:cNvSpPr/>
          <p:nvPr/>
        </p:nvSpPr>
        <p:spPr>
          <a:xfrm>
            <a:off x="1143000" y="3351240"/>
            <a:ext cx="6324480" cy="104760"/>
          </a:xfrm>
          <a:custGeom>
            <a:avLst/>
            <a:gdLst>
              <a:gd name="textAreaLeft" fmla="*/ 0 w 6324480"/>
              <a:gd name="textAreaRight" fmla="*/ 6324840 w 6324480"/>
              <a:gd name="textAreaTop" fmla="*/ 0 h 104760"/>
              <a:gd name="textAreaBottom" fmla="*/ 105120 h 104760"/>
            </a:gdLst>
            <a:ahLst/>
            <a:rect l="textAreaLeft" t="textAreaTop" r="textAreaRight" b="textAreaBottom"/>
            <a:pathLst>
              <a:path w="3654" h="100">
                <a:moveTo>
                  <a:pt x="3654" y="36"/>
                </a:moveTo>
                <a:lnTo>
                  <a:pt x="3654" y="36"/>
                </a:lnTo>
                <a:lnTo>
                  <a:pt x="3452" y="30"/>
                </a:lnTo>
                <a:lnTo>
                  <a:pt x="2965" y="18"/>
                </a:lnTo>
                <a:lnTo>
                  <a:pt x="2673" y="11"/>
                </a:lnTo>
                <a:lnTo>
                  <a:pt x="2378" y="5"/>
                </a:lnTo>
                <a:lnTo>
                  <a:pt x="2104" y="1"/>
                </a:lnTo>
                <a:lnTo>
                  <a:pt x="1873" y="0"/>
                </a:lnTo>
                <a:lnTo>
                  <a:pt x="1644" y="1"/>
                </a:lnTo>
                <a:lnTo>
                  <a:pt x="1370" y="5"/>
                </a:lnTo>
                <a:lnTo>
                  <a:pt x="1076" y="11"/>
                </a:lnTo>
                <a:lnTo>
                  <a:pt x="781" y="18"/>
                </a:lnTo>
                <a:lnTo>
                  <a:pt x="283" y="30"/>
                </a:lnTo>
                <a:lnTo>
                  <a:pt x="49" y="36"/>
                </a:lnTo>
                <a:lnTo>
                  <a:pt x="39" y="36"/>
                </a:lnTo>
                <a:lnTo>
                  <a:pt x="30" y="37"/>
                </a:lnTo>
                <a:lnTo>
                  <a:pt x="22" y="40"/>
                </a:lnTo>
                <a:lnTo>
                  <a:pt x="15" y="42"/>
                </a:lnTo>
                <a:lnTo>
                  <a:pt x="10" y="47"/>
                </a:lnTo>
                <a:lnTo>
                  <a:pt x="5" y="50"/>
                </a:lnTo>
                <a:lnTo>
                  <a:pt x="3" y="55"/>
                </a:lnTo>
                <a:lnTo>
                  <a:pt x="1" y="59"/>
                </a:lnTo>
                <a:lnTo>
                  <a:pt x="0" y="64"/>
                </a:lnTo>
                <a:lnTo>
                  <a:pt x="1" y="67"/>
                </a:lnTo>
                <a:lnTo>
                  <a:pt x="2" y="71"/>
                </a:lnTo>
                <a:lnTo>
                  <a:pt x="4" y="74"/>
                </a:lnTo>
                <a:lnTo>
                  <a:pt x="9" y="77"/>
                </a:lnTo>
                <a:lnTo>
                  <a:pt x="14" y="78"/>
                </a:lnTo>
                <a:lnTo>
                  <a:pt x="20" y="78"/>
                </a:lnTo>
                <a:lnTo>
                  <a:pt x="28" y="78"/>
                </a:lnTo>
                <a:lnTo>
                  <a:pt x="54" y="77"/>
                </a:lnTo>
                <a:lnTo>
                  <a:pt x="112" y="76"/>
                </a:lnTo>
                <a:lnTo>
                  <a:pt x="310" y="74"/>
                </a:lnTo>
                <a:lnTo>
                  <a:pt x="585" y="73"/>
                </a:lnTo>
                <a:lnTo>
                  <a:pt x="902" y="73"/>
                </a:lnTo>
                <a:lnTo>
                  <a:pt x="1221" y="73"/>
                </a:lnTo>
                <a:lnTo>
                  <a:pt x="1510" y="74"/>
                </a:lnTo>
                <a:lnTo>
                  <a:pt x="1729" y="76"/>
                </a:lnTo>
                <a:lnTo>
                  <a:pt x="1802" y="77"/>
                </a:lnTo>
                <a:lnTo>
                  <a:pt x="1845" y="78"/>
                </a:lnTo>
                <a:lnTo>
                  <a:pt x="1888" y="79"/>
                </a:lnTo>
                <a:lnTo>
                  <a:pt x="1961" y="80"/>
                </a:lnTo>
                <a:lnTo>
                  <a:pt x="2181" y="84"/>
                </a:lnTo>
                <a:lnTo>
                  <a:pt x="2790" y="92"/>
                </a:lnTo>
                <a:lnTo>
                  <a:pt x="3633" y="100"/>
                </a:lnTo>
                <a:lnTo>
                  <a:pt x="3654" y="36"/>
                </a:lnTo>
                <a:close/>
              </a:path>
            </a:pathLst>
          </a:custGeom>
          <a:gradFill rotWithShape="0">
            <a:gsLst>
              <a:gs pos="0">
                <a:srgbClr val="ffffff"/>
              </a:gs>
              <a:gs pos="100000">
                <a:srgbClr val="cdcdc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5" name="Group 52" descr=""/>
          <p:cNvPicPr/>
          <p:nvPr/>
        </p:nvPicPr>
        <p:blipFill>
          <a:blip r:embed="rId1"/>
          <a:stretch/>
        </p:blipFill>
        <p:spPr>
          <a:xfrm>
            <a:off x="6784920" y="1884240"/>
            <a:ext cx="311040" cy="3052800"/>
          </a:xfrm>
          <a:prstGeom prst="rect">
            <a:avLst/>
          </a:prstGeom>
          <a:ln w="0">
            <a:noFill/>
          </a:ln>
        </p:spPr>
      </p:pic>
      <p:pic>
        <p:nvPicPr>
          <p:cNvPr id="946" name="Group 56" descr=""/>
          <p:cNvPicPr/>
          <p:nvPr/>
        </p:nvPicPr>
        <p:blipFill>
          <a:blip r:embed="rId2"/>
          <a:stretch/>
        </p:blipFill>
        <p:spPr>
          <a:xfrm>
            <a:off x="5237280" y="1560600"/>
            <a:ext cx="371520" cy="3670200"/>
          </a:xfrm>
          <a:prstGeom prst="rect">
            <a:avLst/>
          </a:prstGeom>
          <a:ln w="0">
            <a:noFill/>
          </a:ln>
        </p:spPr>
      </p:pic>
      <p:pic>
        <p:nvPicPr>
          <p:cNvPr id="947" name="Group 55" descr=""/>
          <p:cNvPicPr/>
          <p:nvPr/>
        </p:nvPicPr>
        <p:blipFill>
          <a:blip r:embed="rId3"/>
          <a:stretch/>
        </p:blipFill>
        <p:spPr>
          <a:xfrm>
            <a:off x="3505320" y="1560600"/>
            <a:ext cx="371520" cy="3663720"/>
          </a:xfrm>
          <a:prstGeom prst="rect">
            <a:avLst/>
          </a:prstGeom>
          <a:ln w="0">
            <a:noFill/>
          </a:ln>
        </p:spPr>
      </p:pic>
      <p:pic>
        <p:nvPicPr>
          <p:cNvPr id="948" name="Group 54" descr=""/>
          <p:cNvPicPr/>
          <p:nvPr/>
        </p:nvPicPr>
        <p:blipFill>
          <a:blip r:embed="rId4"/>
          <a:stretch/>
        </p:blipFill>
        <p:spPr>
          <a:xfrm>
            <a:off x="2048040" y="1987560"/>
            <a:ext cx="287280" cy="2833560"/>
          </a:xfrm>
          <a:prstGeom prst="rect">
            <a:avLst/>
          </a:prstGeom>
          <a:ln w="0">
            <a:noFill/>
          </a:ln>
        </p:spPr>
      </p:pic>
      <p:pic>
        <p:nvPicPr>
          <p:cNvPr id="949" name="Group 25" descr=""/>
          <p:cNvPicPr/>
          <p:nvPr/>
        </p:nvPicPr>
        <p:blipFill>
          <a:blip r:embed="rId5"/>
          <a:stretch/>
        </p:blipFill>
        <p:spPr>
          <a:xfrm>
            <a:off x="219240" y="2163600"/>
            <a:ext cx="1085760" cy="2494080"/>
          </a:xfrm>
          <a:prstGeom prst="rect">
            <a:avLst/>
          </a:prstGeom>
          <a:ln w="0">
            <a:noFill/>
          </a:ln>
        </p:spPr>
      </p:pic>
      <p:sp>
        <p:nvSpPr>
          <p:cNvPr id="950" name="Freeform 5"/>
          <p:cNvSpPr/>
          <p:nvPr/>
        </p:nvSpPr>
        <p:spPr>
          <a:xfrm>
            <a:off x="7315200" y="1986120"/>
            <a:ext cx="1646280" cy="2835000"/>
          </a:xfrm>
          <a:custGeom>
            <a:avLst/>
            <a:gdLst>
              <a:gd name="textAreaLeft" fmla="*/ 0 w 1646280"/>
              <a:gd name="textAreaRight" fmla="*/ 1646640 w 1646280"/>
              <a:gd name="textAreaTop" fmla="*/ 0 h 2835000"/>
              <a:gd name="textAreaBottom" fmla="*/ 2835360 h 2835000"/>
            </a:gdLst>
            <a:ahLst/>
            <a:rect l="textAreaLeft" t="textAreaTop" r="textAreaRight" b="textAreaBottom"/>
            <a:pathLst>
              <a:path w="3111" h="4320">
                <a:moveTo>
                  <a:pt x="287" y="0"/>
                </a:moveTo>
                <a:lnTo>
                  <a:pt x="287" y="0"/>
                </a:lnTo>
                <a:lnTo>
                  <a:pt x="312" y="4"/>
                </a:lnTo>
                <a:lnTo>
                  <a:pt x="385" y="14"/>
                </a:lnTo>
                <a:lnTo>
                  <a:pt x="437" y="22"/>
                </a:lnTo>
                <a:lnTo>
                  <a:pt x="499" y="34"/>
                </a:lnTo>
                <a:lnTo>
                  <a:pt x="570" y="48"/>
                </a:lnTo>
                <a:lnTo>
                  <a:pt x="649" y="66"/>
                </a:lnTo>
                <a:lnTo>
                  <a:pt x="735" y="88"/>
                </a:lnTo>
                <a:lnTo>
                  <a:pt x="827" y="111"/>
                </a:lnTo>
                <a:lnTo>
                  <a:pt x="927" y="140"/>
                </a:lnTo>
                <a:lnTo>
                  <a:pt x="1031" y="173"/>
                </a:lnTo>
                <a:lnTo>
                  <a:pt x="1084" y="190"/>
                </a:lnTo>
                <a:lnTo>
                  <a:pt x="1139" y="209"/>
                </a:lnTo>
                <a:lnTo>
                  <a:pt x="1195" y="229"/>
                </a:lnTo>
                <a:lnTo>
                  <a:pt x="1252" y="251"/>
                </a:lnTo>
                <a:lnTo>
                  <a:pt x="1310" y="273"/>
                </a:lnTo>
                <a:lnTo>
                  <a:pt x="1368" y="297"/>
                </a:lnTo>
                <a:lnTo>
                  <a:pt x="1425" y="322"/>
                </a:lnTo>
                <a:lnTo>
                  <a:pt x="1485" y="348"/>
                </a:lnTo>
                <a:lnTo>
                  <a:pt x="1545" y="376"/>
                </a:lnTo>
                <a:lnTo>
                  <a:pt x="1604" y="405"/>
                </a:lnTo>
                <a:lnTo>
                  <a:pt x="1664" y="435"/>
                </a:lnTo>
                <a:lnTo>
                  <a:pt x="1725" y="467"/>
                </a:lnTo>
                <a:lnTo>
                  <a:pt x="1785" y="500"/>
                </a:lnTo>
                <a:lnTo>
                  <a:pt x="1845" y="535"/>
                </a:lnTo>
                <a:lnTo>
                  <a:pt x="1905" y="571"/>
                </a:lnTo>
                <a:lnTo>
                  <a:pt x="1966" y="609"/>
                </a:lnTo>
                <a:lnTo>
                  <a:pt x="2025" y="648"/>
                </a:lnTo>
                <a:lnTo>
                  <a:pt x="2084" y="690"/>
                </a:lnTo>
                <a:lnTo>
                  <a:pt x="2143" y="732"/>
                </a:lnTo>
                <a:lnTo>
                  <a:pt x="2201" y="777"/>
                </a:lnTo>
                <a:lnTo>
                  <a:pt x="2258" y="823"/>
                </a:lnTo>
                <a:lnTo>
                  <a:pt x="2314" y="871"/>
                </a:lnTo>
                <a:lnTo>
                  <a:pt x="2370" y="920"/>
                </a:lnTo>
                <a:lnTo>
                  <a:pt x="2424" y="972"/>
                </a:lnTo>
                <a:lnTo>
                  <a:pt x="2479" y="1026"/>
                </a:lnTo>
                <a:lnTo>
                  <a:pt x="2531" y="1080"/>
                </a:lnTo>
                <a:lnTo>
                  <a:pt x="2583" y="1137"/>
                </a:lnTo>
                <a:lnTo>
                  <a:pt x="2632" y="1196"/>
                </a:lnTo>
                <a:lnTo>
                  <a:pt x="2681" y="1257"/>
                </a:lnTo>
                <a:lnTo>
                  <a:pt x="2728" y="1320"/>
                </a:lnTo>
                <a:lnTo>
                  <a:pt x="2773" y="1385"/>
                </a:lnTo>
                <a:lnTo>
                  <a:pt x="2817" y="1451"/>
                </a:lnTo>
                <a:lnTo>
                  <a:pt x="2859" y="1521"/>
                </a:lnTo>
                <a:lnTo>
                  <a:pt x="2899" y="1592"/>
                </a:lnTo>
                <a:lnTo>
                  <a:pt x="2937" y="1666"/>
                </a:lnTo>
                <a:lnTo>
                  <a:pt x="2955" y="1702"/>
                </a:lnTo>
                <a:lnTo>
                  <a:pt x="2973" y="1740"/>
                </a:lnTo>
                <a:lnTo>
                  <a:pt x="2990" y="1779"/>
                </a:lnTo>
                <a:lnTo>
                  <a:pt x="3007" y="1818"/>
                </a:lnTo>
                <a:lnTo>
                  <a:pt x="3024" y="1858"/>
                </a:lnTo>
                <a:lnTo>
                  <a:pt x="3039" y="1899"/>
                </a:lnTo>
                <a:lnTo>
                  <a:pt x="3054" y="1939"/>
                </a:lnTo>
                <a:lnTo>
                  <a:pt x="3068" y="1980"/>
                </a:lnTo>
                <a:lnTo>
                  <a:pt x="3081" y="2022"/>
                </a:lnTo>
                <a:lnTo>
                  <a:pt x="3096" y="2064"/>
                </a:lnTo>
                <a:lnTo>
                  <a:pt x="3100" y="2083"/>
                </a:lnTo>
                <a:lnTo>
                  <a:pt x="3104" y="2102"/>
                </a:lnTo>
                <a:lnTo>
                  <a:pt x="3107" y="2122"/>
                </a:lnTo>
                <a:lnTo>
                  <a:pt x="3110" y="2141"/>
                </a:lnTo>
                <a:lnTo>
                  <a:pt x="3111" y="2161"/>
                </a:lnTo>
                <a:lnTo>
                  <a:pt x="3111" y="2180"/>
                </a:lnTo>
                <a:lnTo>
                  <a:pt x="3111" y="2200"/>
                </a:lnTo>
                <a:lnTo>
                  <a:pt x="3109" y="2222"/>
                </a:lnTo>
                <a:lnTo>
                  <a:pt x="3106" y="2242"/>
                </a:lnTo>
                <a:lnTo>
                  <a:pt x="3104" y="2262"/>
                </a:lnTo>
                <a:lnTo>
                  <a:pt x="3099" y="2283"/>
                </a:lnTo>
                <a:lnTo>
                  <a:pt x="3094" y="2304"/>
                </a:lnTo>
                <a:lnTo>
                  <a:pt x="3089" y="2326"/>
                </a:lnTo>
                <a:lnTo>
                  <a:pt x="3081" y="2347"/>
                </a:lnTo>
                <a:lnTo>
                  <a:pt x="3066" y="2389"/>
                </a:lnTo>
                <a:lnTo>
                  <a:pt x="3048" y="2433"/>
                </a:lnTo>
                <a:lnTo>
                  <a:pt x="3026" y="2478"/>
                </a:lnTo>
                <a:lnTo>
                  <a:pt x="3002" y="2523"/>
                </a:lnTo>
                <a:lnTo>
                  <a:pt x="2975" y="2568"/>
                </a:lnTo>
                <a:lnTo>
                  <a:pt x="2946" y="2614"/>
                </a:lnTo>
                <a:lnTo>
                  <a:pt x="2914" y="2660"/>
                </a:lnTo>
                <a:lnTo>
                  <a:pt x="2878" y="2707"/>
                </a:lnTo>
                <a:lnTo>
                  <a:pt x="2842" y="2753"/>
                </a:lnTo>
                <a:lnTo>
                  <a:pt x="2804" y="2799"/>
                </a:lnTo>
                <a:lnTo>
                  <a:pt x="2762" y="2846"/>
                </a:lnTo>
                <a:lnTo>
                  <a:pt x="2720" y="2893"/>
                </a:lnTo>
                <a:lnTo>
                  <a:pt x="2676" y="2941"/>
                </a:lnTo>
                <a:lnTo>
                  <a:pt x="2630" y="2987"/>
                </a:lnTo>
                <a:lnTo>
                  <a:pt x="2583" y="3034"/>
                </a:lnTo>
                <a:lnTo>
                  <a:pt x="2533" y="3081"/>
                </a:lnTo>
                <a:lnTo>
                  <a:pt x="2483" y="3128"/>
                </a:lnTo>
                <a:lnTo>
                  <a:pt x="2433" y="3174"/>
                </a:lnTo>
                <a:lnTo>
                  <a:pt x="2379" y="3221"/>
                </a:lnTo>
                <a:lnTo>
                  <a:pt x="2326" y="3266"/>
                </a:lnTo>
                <a:lnTo>
                  <a:pt x="2273" y="3312"/>
                </a:lnTo>
                <a:lnTo>
                  <a:pt x="2163" y="3402"/>
                </a:lnTo>
                <a:lnTo>
                  <a:pt x="2052" y="3491"/>
                </a:lnTo>
                <a:lnTo>
                  <a:pt x="1940" y="3576"/>
                </a:lnTo>
                <a:lnTo>
                  <a:pt x="1829" y="3660"/>
                </a:lnTo>
                <a:lnTo>
                  <a:pt x="1717" y="3739"/>
                </a:lnTo>
                <a:lnTo>
                  <a:pt x="1610" y="3816"/>
                </a:lnTo>
                <a:lnTo>
                  <a:pt x="1505" y="3888"/>
                </a:lnTo>
                <a:lnTo>
                  <a:pt x="1403" y="3957"/>
                </a:lnTo>
                <a:lnTo>
                  <a:pt x="1307" y="4021"/>
                </a:lnTo>
                <a:lnTo>
                  <a:pt x="1217" y="4079"/>
                </a:lnTo>
                <a:lnTo>
                  <a:pt x="1134" y="4132"/>
                </a:lnTo>
                <a:lnTo>
                  <a:pt x="1059" y="4179"/>
                </a:lnTo>
                <a:lnTo>
                  <a:pt x="936" y="4255"/>
                </a:lnTo>
                <a:lnTo>
                  <a:pt x="857" y="4303"/>
                </a:lnTo>
                <a:lnTo>
                  <a:pt x="830" y="4320"/>
                </a:lnTo>
                <a:lnTo>
                  <a:pt x="793" y="4255"/>
                </a:lnTo>
                <a:lnTo>
                  <a:pt x="753" y="4178"/>
                </a:lnTo>
                <a:lnTo>
                  <a:pt x="700" y="4076"/>
                </a:lnTo>
                <a:lnTo>
                  <a:pt x="637" y="3952"/>
                </a:lnTo>
                <a:lnTo>
                  <a:pt x="567" y="3809"/>
                </a:lnTo>
                <a:lnTo>
                  <a:pt x="530" y="3732"/>
                </a:lnTo>
                <a:lnTo>
                  <a:pt x="492" y="3650"/>
                </a:lnTo>
                <a:lnTo>
                  <a:pt x="454" y="3565"/>
                </a:lnTo>
                <a:lnTo>
                  <a:pt x="415" y="3479"/>
                </a:lnTo>
                <a:lnTo>
                  <a:pt x="376" y="3389"/>
                </a:lnTo>
                <a:lnTo>
                  <a:pt x="337" y="3297"/>
                </a:lnTo>
                <a:lnTo>
                  <a:pt x="299" y="3203"/>
                </a:lnTo>
                <a:lnTo>
                  <a:pt x="262" y="3109"/>
                </a:lnTo>
                <a:lnTo>
                  <a:pt x="226" y="3013"/>
                </a:lnTo>
                <a:lnTo>
                  <a:pt x="191" y="2917"/>
                </a:lnTo>
                <a:lnTo>
                  <a:pt x="160" y="2820"/>
                </a:lnTo>
                <a:lnTo>
                  <a:pt x="129" y="2724"/>
                </a:lnTo>
                <a:lnTo>
                  <a:pt x="102" y="2628"/>
                </a:lnTo>
                <a:lnTo>
                  <a:pt x="76" y="2535"/>
                </a:lnTo>
                <a:lnTo>
                  <a:pt x="54" y="2442"/>
                </a:lnTo>
                <a:lnTo>
                  <a:pt x="44" y="2397"/>
                </a:lnTo>
                <a:lnTo>
                  <a:pt x="35" y="2350"/>
                </a:lnTo>
                <a:lnTo>
                  <a:pt x="27" y="2305"/>
                </a:lnTo>
                <a:lnTo>
                  <a:pt x="20" y="2262"/>
                </a:lnTo>
                <a:lnTo>
                  <a:pt x="14" y="2218"/>
                </a:lnTo>
                <a:lnTo>
                  <a:pt x="9" y="2175"/>
                </a:lnTo>
                <a:lnTo>
                  <a:pt x="5" y="2134"/>
                </a:lnTo>
                <a:lnTo>
                  <a:pt x="2" y="2093"/>
                </a:lnTo>
                <a:lnTo>
                  <a:pt x="0" y="2052"/>
                </a:lnTo>
                <a:lnTo>
                  <a:pt x="0" y="2012"/>
                </a:lnTo>
                <a:lnTo>
                  <a:pt x="0" y="1934"/>
                </a:lnTo>
                <a:lnTo>
                  <a:pt x="2" y="1852"/>
                </a:lnTo>
                <a:lnTo>
                  <a:pt x="7" y="1771"/>
                </a:lnTo>
                <a:lnTo>
                  <a:pt x="12" y="1687"/>
                </a:lnTo>
                <a:lnTo>
                  <a:pt x="19" y="1603"/>
                </a:lnTo>
                <a:lnTo>
                  <a:pt x="26" y="1518"/>
                </a:lnTo>
                <a:lnTo>
                  <a:pt x="34" y="1433"/>
                </a:lnTo>
                <a:lnTo>
                  <a:pt x="45" y="1347"/>
                </a:lnTo>
                <a:lnTo>
                  <a:pt x="56" y="1262"/>
                </a:lnTo>
                <a:lnTo>
                  <a:pt x="66" y="1177"/>
                </a:lnTo>
                <a:lnTo>
                  <a:pt x="91" y="1010"/>
                </a:lnTo>
                <a:lnTo>
                  <a:pt x="116" y="848"/>
                </a:lnTo>
                <a:lnTo>
                  <a:pt x="143" y="694"/>
                </a:lnTo>
                <a:lnTo>
                  <a:pt x="170" y="550"/>
                </a:lnTo>
                <a:lnTo>
                  <a:pt x="196" y="418"/>
                </a:lnTo>
                <a:lnTo>
                  <a:pt x="220" y="299"/>
                </a:lnTo>
                <a:lnTo>
                  <a:pt x="242" y="198"/>
                </a:lnTo>
                <a:lnTo>
                  <a:pt x="274" y="53"/>
                </a:lnTo>
                <a:lnTo>
                  <a:pt x="287" y="0"/>
                </a:lnTo>
                <a:close/>
              </a:path>
            </a:pathLst>
          </a:custGeom>
          <a:gradFill rotWithShape="0">
            <a:gsLst>
              <a:gs pos="0">
                <a:srgbClr val="ffffff"/>
              </a:gs>
              <a:gs pos="100000">
                <a:srgbClr val="cdcdc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Rectangle 70"/>
          <p:cNvSpPr/>
          <p:nvPr/>
        </p:nvSpPr>
        <p:spPr>
          <a:xfrm>
            <a:off x="846000" y="220968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52" name="Straight Connector 19"/>
          <p:cNvSpPr/>
          <p:nvPr/>
        </p:nvSpPr>
        <p:spPr>
          <a:xfrm flipH="1" flipV="1">
            <a:off x="1968480" y="2360160"/>
            <a:ext cx="233280" cy="1800"/>
          </a:xfrm>
          <a:prstGeom prst="line">
            <a:avLst/>
          </a:prstGeom>
          <a:ln cap="rnd"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3" name="Straight Connector 20"/>
          <p:cNvSpPr/>
          <p:nvPr/>
        </p:nvSpPr>
        <p:spPr>
          <a:xfrm flipH="1" flipV="1">
            <a:off x="2035080" y="29703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4" name="Rectangle 70"/>
          <p:cNvSpPr/>
          <p:nvPr/>
        </p:nvSpPr>
        <p:spPr>
          <a:xfrm>
            <a:off x="961920" y="2819520"/>
            <a:ext cx="1067040" cy="30456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55" name="Rectangle 70"/>
          <p:cNvSpPr/>
          <p:nvPr/>
        </p:nvSpPr>
        <p:spPr>
          <a:xfrm>
            <a:off x="2395440" y="2362320"/>
            <a:ext cx="1067040" cy="30456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56" name="Straight Connector 23"/>
          <p:cNvSpPr/>
          <p:nvPr/>
        </p:nvSpPr>
        <p:spPr>
          <a:xfrm flipH="1" flipV="1">
            <a:off x="3517920" y="25131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7" name="Straight Connector 24"/>
          <p:cNvSpPr/>
          <p:nvPr/>
        </p:nvSpPr>
        <p:spPr>
          <a:xfrm flipH="1" flipV="1">
            <a:off x="3584520" y="29703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8" name="Rectangle 70"/>
          <p:cNvSpPr/>
          <p:nvPr/>
        </p:nvSpPr>
        <p:spPr>
          <a:xfrm>
            <a:off x="2511360" y="2819520"/>
            <a:ext cx="1067040" cy="30456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59" name="Rectangle 70"/>
          <p:cNvSpPr/>
          <p:nvPr/>
        </p:nvSpPr>
        <p:spPr>
          <a:xfrm>
            <a:off x="2311560" y="1905120"/>
            <a:ext cx="1066680" cy="30456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60" name="Straight Connector 31"/>
          <p:cNvSpPr/>
          <p:nvPr/>
        </p:nvSpPr>
        <p:spPr>
          <a:xfrm flipH="1" flipV="1">
            <a:off x="3433680" y="20559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1" name="Rectangle 70"/>
          <p:cNvSpPr/>
          <p:nvPr/>
        </p:nvSpPr>
        <p:spPr>
          <a:xfrm>
            <a:off x="4135320" y="2362320"/>
            <a:ext cx="1067040" cy="30456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62" name="Straight Connector 35"/>
          <p:cNvSpPr/>
          <p:nvPr/>
        </p:nvSpPr>
        <p:spPr>
          <a:xfrm flipH="1" flipV="1">
            <a:off x="5257800" y="25131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3" name="Straight Connector 36"/>
          <p:cNvSpPr/>
          <p:nvPr/>
        </p:nvSpPr>
        <p:spPr>
          <a:xfrm flipH="1" flipV="1">
            <a:off x="5324400" y="297036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4" name="Rectangle 70"/>
          <p:cNvSpPr/>
          <p:nvPr/>
        </p:nvSpPr>
        <p:spPr>
          <a:xfrm>
            <a:off x="4251240" y="2819520"/>
            <a:ext cx="1067040" cy="30456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65" name="Rectangle 70"/>
          <p:cNvSpPr/>
          <p:nvPr/>
        </p:nvSpPr>
        <p:spPr>
          <a:xfrm>
            <a:off x="4051440" y="1905120"/>
            <a:ext cx="1066680" cy="30456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66" name="Straight Connector 43"/>
          <p:cNvSpPr/>
          <p:nvPr/>
        </p:nvSpPr>
        <p:spPr>
          <a:xfrm flipH="1" flipV="1">
            <a:off x="5173200" y="205596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7" name="Rectangle 70"/>
          <p:cNvSpPr/>
          <p:nvPr/>
        </p:nvSpPr>
        <p:spPr>
          <a:xfrm>
            <a:off x="5608800" y="220968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68" name="Straight Connector 45"/>
          <p:cNvSpPr/>
          <p:nvPr/>
        </p:nvSpPr>
        <p:spPr>
          <a:xfrm flipH="1" flipV="1">
            <a:off x="6730920" y="2360160"/>
            <a:ext cx="233280" cy="1800"/>
          </a:xfrm>
          <a:prstGeom prst="line">
            <a:avLst/>
          </a:prstGeom>
          <a:ln cap="rnd"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9" name="Straight Connector 46"/>
          <p:cNvSpPr/>
          <p:nvPr/>
        </p:nvSpPr>
        <p:spPr>
          <a:xfrm flipH="1" flipV="1">
            <a:off x="6797160" y="297036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Rectangle 70"/>
          <p:cNvSpPr/>
          <p:nvPr/>
        </p:nvSpPr>
        <p:spPr>
          <a:xfrm>
            <a:off x="5724360" y="2819520"/>
            <a:ext cx="1067040" cy="30456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grpSp>
        <p:nvGrpSpPr>
          <p:cNvPr id="971" name="Group 30"/>
          <p:cNvGrpSpPr/>
          <p:nvPr/>
        </p:nvGrpSpPr>
        <p:grpSpPr>
          <a:xfrm>
            <a:off x="792000" y="1652760"/>
            <a:ext cx="1536840" cy="347400"/>
            <a:chOff x="792000" y="1652760"/>
            <a:chExt cx="1536840" cy="347400"/>
          </a:xfrm>
        </p:grpSpPr>
        <p:pic>
          <p:nvPicPr>
            <p:cNvPr id="972" name="Rectangle 37" descr=""/>
            <p:cNvPicPr/>
            <p:nvPr/>
          </p:nvPicPr>
          <p:blipFill>
            <a:blip r:embed="rId6"/>
            <a:stretch/>
          </p:blipFill>
          <p:spPr>
            <a:xfrm>
              <a:off x="792000" y="1652760"/>
              <a:ext cx="1536840" cy="347400"/>
            </a:xfrm>
            <a:prstGeom prst="rect">
              <a:avLst/>
            </a:prstGeom>
            <a:ln w="0">
              <a:noFill/>
            </a:ln>
          </p:spPr>
        </p:pic>
        <p:sp>
          <p:nvSpPr>
            <p:cNvPr id="973" name="Text Box 32"/>
            <p:cNvSpPr/>
            <p:nvPr/>
          </p:nvSpPr>
          <p:spPr>
            <a:xfrm>
              <a:off x="807840" y="1665000"/>
              <a:ext cx="1503360" cy="32040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A</a:t>
              </a:r>
              <a:endParaRPr b="0" lang="en-US" sz="2000" spc="-1" strike="noStrike">
                <a:solidFill>
                  <a:srgbClr val="000000"/>
                </a:solidFill>
                <a:latin typeface="Arial"/>
              </a:endParaRPr>
            </a:p>
          </p:txBody>
        </p:sp>
      </p:grpSp>
      <p:grpSp>
        <p:nvGrpSpPr>
          <p:cNvPr id="974" name="Group 33"/>
          <p:cNvGrpSpPr/>
          <p:nvPr/>
        </p:nvGrpSpPr>
        <p:grpSpPr>
          <a:xfrm>
            <a:off x="2273400" y="1225440"/>
            <a:ext cx="1530360" cy="353880"/>
            <a:chOff x="2273400" y="1225440"/>
            <a:chExt cx="1530360" cy="353880"/>
          </a:xfrm>
        </p:grpSpPr>
        <p:pic>
          <p:nvPicPr>
            <p:cNvPr id="975" name="Rectangle 37" descr=""/>
            <p:cNvPicPr/>
            <p:nvPr/>
          </p:nvPicPr>
          <p:blipFill>
            <a:blip r:embed="rId7"/>
            <a:stretch/>
          </p:blipFill>
          <p:spPr>
            <a:xfrm>
              <a:off x="2273400" y="1225440"/>
              <a:ext cx="1530360" cy="353880"/>
            </a:xfrm>
            <a:prstGeom prst="rect">
              <a:avLst/>
            </a:prstGeom>
            <a:ln w="0">
              <a:noFill/>
            </a:ln>
          </p:spPr>
        </p:pic>
        <p:sp>
          <p:nvSpPr>
            <p:cNvPr id="976" name="Text Box 35"/>
            <p:cNvSpPr/>
            <p:nvPr/>
          </p:nvSpPr>
          <p:spPr>
            <a:xfrm>
              <a:off x="2286000" y="1241280"/>
              <a:ext cx="1503360" cy="3207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B</a:t>
              </a:r>
              <a:endParaRPr b="0" lang="en-US" sz="2000" spc="-1" strike="noStrike">
                <a:solidFill>
                  <a:srgbClr val="000000"/>
                </a:solidFill>
                <a:latin typeface="Arial"/>
              </a:endParaRPr>
            </a:p>
          </p:txBody>
        </p:sp>
      </p:grpSp>
      <p:grpSp>
        <p:nvGrpSpPr>
          <p:cNvPr id="977" name="Group 36"/>
          <p:cNvGrpSpPr/>
          <p:nvPr/>
        </p:nvGrpSpPr>
        <p:grpSpPr>
          <a:xfrm>
            <a:off x="3968640" y="1225440"/>
            <a:ext cx="1530360" cy="353880"/>
            <a:chOff x="3968640" y="1225440"/>
            <a:chExt cx="1530360" cy="353880"/>
          </a:xfrm>
        </p:grpSpPr>
        <p:pic>
          <p:nvPicPr>
            <p:cNvPr id="978" name="Rectangle 37" descr=""/>
            <p:cNvPicPr/>
            <p:nvPr/>
          </p:nvPicPr>
          <p:blipFill>
            <a:blip r:embed="rId8"/>
            <a:stretch/>
          </p:blipFill>
          <p:spPr>
            <a:xfrm>
              <a:off x="3968640" y="1225440"/>
              <a:ext cx="1530360" cy="353880"/>
            </a:xfrm>
            <a:prstGeom prst="rect">
              <a:avLst/>
            </a:prstGeom>
            <a:ln w="0">
              <a:noFill/>
            </a:ln>
          </p:spPr>
        </p:pic>
        <p:sp>
          <p:nvSpPr>
            <p:cNvPr id="979" name="Text Box 38"/>
            <p:cNvSpPr/>
            <p:nvPr/>
          </p:nvSpPr>
          <p:spPr>
            <a:xfrm>
              <a:off x="3983040" y="1241280"/>
              <a:ext cx="1503360" cy="3207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C</a:t>
              </a:r>
              <a:endParaRPr b="0" lang="en-US" sz="2000" spc="-1" strike="noStrike">
                <a:solidFill>
                  <a:srgbClr val="000000"/>
                </a:solidFill>
                <a:latin typeface="Arial"/>
              </a:endParaRPr>
            </a:p>
          </p:txBody>
        </p:sp>
      </p:grpSp>
      <p:grpSp>
        <p:nvGrpSpPr>
          <p:cNvPr id="980" name="Group 39"/>
          <p:cNvGrpSpPr/>
          <p:nvPr/>
        </p:nvGrpSpPr>
        <p:grpSpPr>
          <a:xfrm>
            <a:off x="5535720" y="1547640"/>
            <a:ext cx="1535040" cy="353880"/>
            <a:chOff x="5535720" y="1547640"/>
            <a:chExt cx="1535040" cy="353880"/>
          </a:xfrm>
        </p:grpSpPr>
        <p:pic>
          <p:nvPicPr>
            <p:cNvPr id="981" name="Rectangle 37" descr=""/>
            <p:cNvPicPr/>
            <p:nvPr/>
          </p:nvPicPr>
          <p:blipFill>
            <a:blip r:embed="rId9"/>
            <a:stretch/>
          </p:blipFill>
          <p:spPr>
            <a:xfrm>
              <a:off x="5535720" y="1547640"/>
              <a:ext cx="1535040" cy="353880"/>
            </a:xfrm>
            <a:prstGeom prst="rect">
              <a:avLst/>
            </a:prstGeom>
            <a:ln w="0">
              <a:noFill/>
            </a:ln>
          </p:spPr>
        </p:pic>
        <p:sp>
          <p:nvSpPr>
            <p:cNvPr id="982" name="Text Box 41"/>
            <p:cNvSpPr/>
            <p:nvPr/>
          </p:nvSpPr>
          <p:spPr>
            <a:xfrm>
              <a:off x="5553360" y="1563480"/>
              <a:ext cx="1503360" cy="3207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D</a:t>
              </a:r>
              <a:endParaRPr b="0" lang="en-US" sz="2000" spc="-1" strike="noStrike">
                <a:solidFill>
                  <a:srgbClr val="000000"/>
                </a:solidFill>
                <a:latin typeface="Arial"/>
              </a:endParaRPr>
            </a:p>
          </p:txBody>
        </p:sp>
      </p:grpSp>
      <p:sp>
        <p:nvSpPr>
          <p:cNvPr id="983" name="Rectangle 70"/>
          <p:cNvSpPr/>
          <p:nvPr/>
        </p:nvSpPr>
        <p:spPr>
          <a:xfrm>
            <a:off x="846000" y="425448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84" name="Straight Connector 59"/>
          <p:cNvSpPr/>
          <p:nvPr/>
        </p:nvSpPr>
        <p:spPr>
          <a:xfrm flipH="1" flipV="1">
            <a:off x="1968480" y="440532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Straight Connector 60"/>
          <p:cNvSpPr/>
          <p:nvPr/>
        </p:nvSpPr>
        <p:spPr>
          <a:xfrm flipH="1" flipV="1">
            <a:off x="2035080" y="38084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Rectangle 70"/>
          <p:cNvSpPr/>
          <p:nvPr/>
        </p:nvSpPr>
        <p:spPr>
          <a:xfrm>
            <a:off x="961920" y="365760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87" name="Rectangle 70"/>
          <p:cNvSpPr/>
          <p:nvPr/>
        </p:nvSpPr>
        <p:spPr>
          <a:xfrm>
            <a:off x="2395440" y="411480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88" name="Straight Connector 63"/>
          <p:cNvSpPr/>
          <p:nvPr/>
        </p:nvSpPr>
        <p:spPr>
          <a:xfrm flipH="1" flipV="1">
            <a:off x="3517920" y="42656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Straight Connector 64"/>
          <p:cNvSpPr/>
          <p:nvPr/>
        </p:nvSpPr>
        <p:spPr>
          <a:xfrm flipH="1" flipV="1">
            <a:off x="3584520" y="38084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0" name="Rectangle 70"/>
          <p:cNvSpPr/>
          <p:nvPr/>
        </p:nvSpPr>
        <p:spPr>
          <a:xfrm>
            <a:off x="2511360" y="365760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91" name="Rectangle 70"/>
          <p:cNvSpPr/>
          <p:nvPr/>
        </p:nvSpPr>
        <p:spPr>
          <a:xfrm>
            <a:off x="2311560" y="457200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92" name="Straight Connector 67"/>
          <p:cNvSpPr/>
          <p:nvPr/>
        </p:nvSpPr>
        <p:spPr>
          <a:xfrm flipH="1" flipV="1">
            <a:off x="3433680" y="47228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3" name="Rectangle 70"/>
          <p:cNvSpPr/>
          <p:nvPr/>
        </p:nvSpPr>
        <p:spPr>
          <a:xfrm>
            <a:off x="4135320" y="411480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94" name="Straight Connector 69"/>
          <p:cNvSpPr/>
          <p:nvPr/>
        </p:nvSpPr>
        <p:spPr>
          <a:xfrm flipH="1" flipV="1">
            <a:off x="5257800" y="42656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5" name="Straight Connector 70"/>
          <p:cNvSpPr/>
          <p:nvPr/>
        </p:nvSpPr>
        <p:spPr>
          <a:xfrm flipH="1" flipV="1">
            <a:off x="5324400" y="380844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6" name="Rectangle 70"/>
          <p:cNvSpPr/>
          <p:nvPr/>
        </p:nvSpPr>
        <p:spPr>
          <a:xfrm>
            <a:off x="4251240" y="365760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97" name="Rectangle 70"/>
          <p:cNvSpPr/>
          <p:nvPr/>
        </p:nvSpPr>
        <p:spPr>
          <a:xfrm>
            <a:off x="4051440" y="457200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998" name="Straight Connector 73"/>
          <p:cNvSpPr/>
          <p:nvPr/>
        </p:nvSpPr>
        <p:spPr>
          <a:xfrm flipH="1" flipV="1">
            <a:off x="5173200" y="472284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Rectangle 70"/>
          <p:cNvSpPr/>
          <p:nvPr/>
        </p:nvSpPr>
        <p:spPr>
          <a:xfrm>
            <a:off x="5608800" y="4254480"/>
            <a:ext cx="106668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sp>
        <p:nvSpPr>
          <p:cNvPr id="1000" name="Straight Connector 75"/>
          <p:cNvSpPr/>
          <p:nvPr/>
        </p:nvSpPr>
        <p:spPr>
          <a:xfrm flipH="1" flipV="1">
            <a:off x="6730920" y="4405320"/>
            <a:ext cx="23328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Straight Connector 76"/>
          <p:cNvSpPr/>
          <p:nvPr/>
        </p:nvSpPr>
        <p:spPr>
          <a:xfrm flipH="1" flipV="1">
            <a:off x="6797160" y="3808440"/>
            <a:ext cx="233640" cy="1440"/>
          </a:xfrm>
          <a:prstGeom prst="line">
            <a:avLst/>
          </a:prstGeom>
          <a:ln cap="rnd"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2" name="Rectangle 70"/>
          <p:cNvSpPr/>
          <p:nvPr/>
        </p:nvSpPr>
        <p:spPr>
          <a:xfrm>
            <a:off x="5724360" y="3657600"/>
            <a:ext cx="1067040" cy="304920"/>
          </a:xfrm>
          <a:prstGeom prst="rect">
            <a:avLst/>
          </a:prstGeom>
          <a:noFill/>
          <a:ln w="0">
            <a:noFill/>
          </a:ln>
        </p:spPr>
        <p:style>
          <a:lnRef idx="0"/>
          <a:fillRef idx="0"/>
          <a:effectRef idx="0"/>
          <a:fontRef idx="minor"/>
        </p:style>
        <p:txBody>
          <a:bodyPr lIns="45720" rIns="27360" tIns="18360" bIns="18360" anchor="t">
            <a:normAutofit/>
          </a:bodyPr>
          <a:p>
            <a:pPr algn="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ause</a:t>
            </a:r>
            <a:endParaRPr b="0" lang="en-US" sz="1800" spc="-1" strike="noStrike">
              <a:solidFill>
                <a:srgbClr val="000000"/>
              </a:solidFill>
              <a:latin typeface="Arial"/>
            </a:endParaRPr>
          </a:p>
        </p:txBody>
      </p:sp>
      <p:grpSp>
        <p:nvGrpSpPr>
          <p:cNvPr id="1003" name="Group 62"/>
          <p:cNvGrpSpPr/>
          <p:nvPr/>
        </p:nvGrpSpPr>
        <p:grpSpPr>
          <a:xfrm>
            <a:off x="792000" y="4846680"/>
            <a:ext cx="1536840" cy="347760"/>
            <a:chOff x="792000" y="4846680"/>
            <a:chExt cx="1536840" cy="347760"/>
          </a:xfrm>
        </p:grpSpPr>
        <p:pic>
          <p:nvPicPr>
            <p:cNvPr id="1004" name="Rectangle 37" descr=""/>
            <p:cNvPicPr/>
            <p:nvPr/>
          </p:nvPicPr>
          <p:blipFill>
            <a:blip r:embed="rId10"/>
            <a:stretch/>
          </p:blipFill>
          <p:spPr>
            <a:xfrm>
              <a:off x="792000" y="4846680"/>
              <a:ext cx="1536840" cy="347760"/>
            </a:xfrm>
            <a:prstGeom prst="rect">
              <a:avLst/>
            </a:prstGeom>
            <a:ln w="0">
              <a:noFill/>
            </a:ln>
          </p:spPr>
        </p:pic>
        <p:sp>
          <p:nvSpPr>
            <p:cNvPr id="1005" name="Text Box 64"/>
            <p:cNvSpPr/>
            <p:nvPr/>
          </p:nvSpPr>
          <p:spPr>
            <a:xfrm>
              <a:off x="807840" y="4861080"/>
              <a:ext cx="1503360" cy="32040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E</a:t>
              </a:r>
              <a:endParaRPr b="0" lang="en-US" sz="2000" spc="-1" strike="noStrike">
                <a:solidFill>
                  <a:srgbClr val="000000"/>
                </a:solidFill>
                <a:latin typeface="Arial"/>
              </a:endParaRPr>
            </a:p>
          </p:txBody>
        </p:sp>
      </p:grpSp>
      <p:grpSp>
        <p:nvGrpSpPr>
          <p:cNvPr id="1006" name="Group 65"/>
          <p:cNvGrpSpPr/>
          <p:nvPr/>
        </p:nvGrpSpPr>
        <p:grpSpPr>
          <a:xfrm>
            <a:off x="2273400" y="5218200"/>
            <a:ext cx="1530360" cy="347400"/>
            <a:chOff x="2273400" y="5218200"/>
            <a:chExt cx="1530360" cy="347400"/>
          </a:xfrm>
        </p:grpSpPr>
        <p:pic>
          <p:nvPicPr>
            <p:cNvPr id="1007" name="Rectangle 37" descr=""/>
            <p:cNvPicPr/>
            <p:nvPr/>
          </p:nvPicPr>
          <p:blipFill>
            <a:blip r:embed="rId11"/>
            <a:stretch/>
          </p:blipFill>
          <p:spPr>
            <a:xfrm>
              <a:off x="2273400" y="5218200"/>
              <a:ext cx="1530360" cy="347400"/>
            </a:xfrm>
            <a:prstGeom prst="rect">
              <a:avLst/>
            </a:prstGeom>
            <a:ln w="0">
              <a:noFill/>
            </a:ln>
          </p:spPr>
        </p:pic>
        <p:sp>
          <p:nvSpPr>
            <p:cNvPr id="1008" name="Text Box 67"/>
            <p:cNvSpPr/>
            <p:nvPr/>
          </p:nvSpPr>
          <p:spPr>
            <a:xfrm>
              <a:off x="2286000" y="5232240"/>
              <a:ext cx="1503360" cy="3200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F</a:t>
              </a:r>
              <a:endParaRPr b="0" lang="en-US" sz="2000" spc="-1" strike="noStrike">
                <a:solidFill>
                  <a:srgbClr val="000000"/>
                </a:solidFill>
                <a:latin typeface="Arial"/>
              </a:endParaRPr>
            </a:p>
          </p:txBody>
        </p:sp>
      </p:grpSp>
      <p:grpSp>
        <p:nvGrpSpPr>
          <p:cNvPr id="1009" name="Group 68"/>
          <p:cNvGrpSpPr/>
          <p:nvPr/>
        </p:nvGrpSpPr>
        <p:grpSpPr>
          <a:xfrm>
            <a:off x="3968640" y="5218200"/>
            <a:ext cx="1530360" cy="347400"/>
            <a:chOff x="3968640" y="5218200"/>
            <a:chExt cx="1530360" cy="347400"/>
          </a:xfrm>
        </p:grpSpPr>
        <p:pic>
          <p:nvPicPr>
            <p:cNvPr id="1010" name="Rectangle 37" descr=""/>
            <p:cNvPicPr/>
            <p:nvPr/>
          </p:nvPicPr>
          <p:blipFill>
            <a:blip r:embed="rId12"/>
            <a:stretch/>
          </p:blipFill>
          <p:spPr>
            <a:xfrm>
              <a:off x="3968640" y="5218200"/>
              <a:ext cx="1530360" cy="347400"/>
            </a:xfrm>
            <a:prstGeom prst="rect">
              <a:avLst/>
            </a:prstGeom>
            <a:ln w="0">
              <a:noFill/>
            </a:ln>
          </p:spPr>
        </p:pic>
        <p:sp>
          <p:nvSpPr>
            <p:cNvPr id="1011" name="Text Box 70"/>
            <p:cNvSpPr/>
            <p:nvPr/>
          </p:nvSpPr>
          <p:spPr>
            <a:xfrm>
              <a:off x="3983040" y="5232240"/>
              <a:ext cx="1503360" cy="3200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G</a:t>
              </a:r>
              <a:endParaRPr b="0" lang="en-US" sz="2000" spc="-1" strike="noStrike">
                <a:solidFill>
                  <a:srgbClr val="000000"/>
                </a:solidFill>
                <a:latin typeface="Arial"/>
              </a:endParaRPr>
            </a:p>
          </p:txBody>
        </p:sp>
      </p:grpSp>
      <p:grpSp>
        <p:nvGrpSpPr>
          <p:cNvPr id="1012" name="Group 71"/>
          <p:cNvGrpSpPr/>
          <p:nvPr/>
        </p:nvGrpSpPr>
        <p:grpSpPr>
          <a:xfrm>
            <a:off x="5535720" y="4943520"/>
            <a:ext cx="1535040" cy="347760"/>
            <a:chOff x="5535720" y="4943520"/>
            <a:chExt cx="1535040" cy="347760"/>
          </a:xfrm>
        </p:grpSpPr>
        <p:pic>
          <p:nvPicPr>
            <p:cNvPr id="1013" name="Rectangle 37" descr=""/>
            <p:cNvPicPr/>
            <p:nvPr/>
          </p:nvPicPr>
          <p:blipFill>
            <a:blip r:embed="rId13"/>
            <a:stretch/>
          </p:blipFill>
          <p:spPr>
            <a:xfrm>
              <a:off x="5535720" y="4943520"/>
              <a:ext cx="1535040" cy="347760"/>
            </a:xfrm>
            <a:prstGeom prst="rect">
              <a:avLst/>
            </a:prstGeom>
            <a:ln w="0">
              <a:noFill/>
            </a:ln>
          </p:spPr>
        </p:pic>
        <p:sp>
          <p:nvSpPr>
            <p:cNvPr id="1014" name="Text Box 73"/>
            <p:cNvSpPr/>
            <p:nvPr/>
          </p:nvSpPr>
          <p:spPr>
            <a:xfrm>
              <a:off x="5553360" y="4957920"/>
              <a:ext cx="1503360" cy="32040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ategory H</a:t>
              </a:r>
              <a:endParaRPr b="0" lang="en-US" sz="2000" spc="-1" strike="noStrike">
                <a:solidFill>
                  <a:srgbClr val="000000"/>
                </a:solidFill>
                <a:latin typeface="Arial"/>
              </a:endParaRPr>
            </a:p>
          </p:txBody>
        </p:sp>
      </p:grpSp>
      <p:sp>
        <p:nvSpPr>
          <p:cNvPr id="1015" name="Rectangle 43"/>
          <p:cNvSpPr/>
          <p:nvPr/>
        </p:nvSpPr>
        <p:spPr>
          <a:xfrm>
            <a:off x="7391520" y="2819520"/>
            <a:ext cx="1523880" cy="979200"/>
          </a:xfrm>
          <a:prstGeom prst="rect">
            <a:avLst/>
          </a:prstGeom>
          <a:noFill/>
          <a:ln w="0">
            <a:noFill/>
          </a:ln>
        </p:spPr>
        <p:style>
          <a:lnRef idx="0"/>
          <a:fillRef idx="0"/>
          <a:effectRef idx="0"/>
          <a:fontRef idx="minor"/>
        </p:style>
        <p:txBody>
          <a:bodyPr lIns="18360" rIns="18360" tIns="18360" bIns="18360" anchor="ctr" anchorCtr="1">
            <a:normAutofit/>
          </a:bodyPr>
          <a:p>
            <a:pP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ffect</a:t>
            </a:r>
            <a:br>
              <a:rPr sz="2400"/>
            </a:br>
            <a:r>
              <a:rPr b="0" lang="en-US" sz="1600" spc="-1" strike="noStrike">
                <a:solidFill>
                  <a:srgbClr val="000000"/>
                </a:solidFill>
                <a:latin typeface="Arial Narrow"/>
              </a:rPr>
              <a:t>More information placed here.</a:t>
            </a:r>
            <a:endParaRPr b="0" lang="en-US" sz="1600" spc="-1" strike="noStrike">
              <a:solidFill>
                <a:srgbClr val="000000"/>
              </a:solidFill>
              <a:latin typeface="Arial"/>
            </a:endParaRPr>
          </a:p>
        </p:txBody>
      </p:sp>
      <p:sp>
        <p:nvSpPr>
          <p:cNvPr id="1016" name="TextBox 38">
            <a:hlinkClick r:id="rId14"/>
          </p:cNvPr>
          <p:cNvSpPr/>
          <p:nvPr/>
        </p:nvSpPr>
        <p:spPr>
          <a:xfrm>
            <a:off x="4255920" y="6456240"/>
            <a:ext cx="488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Arial"/>
                <a:ea typeface="MS PGothic"/>
              </a:rPr>
              <a:t>锐普</a:t>
            </a:r>
            <a:r>
              <a:rPr b="0" lang="en-US" sz="1800" spc="-1" strike="noStrike">
                <a:solidFill>
                  <a:srgbClr val="ffffff"/>
                </a:solidFill>
                <a:latin typeface="Arial"/>
                <a:ea typeface="MS PGothic"/>
              </a:rPr>
              <a:t>PPT</a:t>
            </a:r>
            <a:r>
              <a:rPr b="0" lang="zh-CN" sz="1800" spc="-1" strike="noStrike">
                <a:solidFill>
                  <a:srgbClr val="ffffff"/>
                </a:solidFill>
                <a:latin typeface="Arial"/>
                <a:ea typeface="MS PGothic"/>
              </a:rPr>
              <a:t>论坛</a:t>
            </a:r>
            <a:r>
              <a:rPr b="0" lang="en-US" sz="1800" spc="-1" strike="noStrike">
                <a:solidFill>
                  <a:srgbClr val="ffffff"/>
                </a:solidFill>
                <a:latin typeface="Arial"/>
                <a:ea typeface="MS PGothic"/>
              </a:rPr>
              <a:t>sxt66329</a:t>
            </a:r>
            <a:r>
              <a:rPr b="0" lang="zh-CN" sz="1800" spc="-1" strike="noStrike">
                <a:solidFill>
                  <a:srgbClr val="ffffff"/>
                </a:solidFill>
                <a:latin typeface="Arial"/>
                <a:ea typeface="MS PGothic"/>
              </a:rPr>
              <a:t>首发：</a:t>
            </a:r>
            <a:r>
              <a:rPr b="0" lang="en-US" sz="1800" spc="-1" strike="noStrike">
                <a:solidFill>
                  <a:srgbClr val="ffffff"/>
                </a:solidFill>
                <a:latin typeface="Arial"/>
                <a:ea typeface="MS PGothic"/>
              </a:rPr>
              <a:t>www.rapidbbs.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Freeform 5"/>
          <p:cNvSpPr/>
          <p:nvPr/>
        </p:nvSpPr>
        <p:spPr>
          <a:xfrm>
            <a:off x="3505320" y="2666880"/>
            <a:ext cx="2141280" cy="1422360"/>
          </a:xfrm>
          <a:prstGeom prst="pie">
            <a:avLst/>
          </a:prstGeom>
          <a:gradFill rotWithShape="0">
            <a:gsLst>
              <a:gs pos="0">
                <a:srgbClr val="843a35"/>
              </a:gs>
              <a:gs pos="100000">
                <a:srgbClr val="401410"/>
              </a:gs>
            </a:gsLst>
            <a:lin ang="3600000"/>
          </a:gradFill>
          <a:ln w="0">
            <a:noFill/>
          </a:ln>
        </p:spPr>
        <p:style>
          <a:lnRef idx="0"/>
          <a:fillRef idx="0"/>
          <a:effectRef idx="0"/>
          <a:fontRef idx="minor"/>
        </p:style>
        <p:txBody>
          <a:bodyPr lIns="182880" rIns="182880" tIns="0" bIns="0" anchor="ctr" anchorCtr="1">
            <a:norm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e Title Here</a:t>
            </a:r>
            <a:endParaRPr b="0" lang="en-US" sz="2800" spc="-1" strike="noStrike">
              <a:solidFill>
                <a:srgbClr val="000000"/>
              </a:solidFill>
              <a:latin typeface="Arial"/>
            </a:endParaRPr>
          </a:p>
        </p:txBody>
      </p:sp>
      <p:sp>
        <p:nvSpPr>
          <p:cNvPr id="1018" name="Freeform 5"/>
          <p:cNvSpPr/>
          <p:nvPr/>
        </p:nvSpPr>
        <p:spPr>
          <a:xfrm>
            <a:off x="617400" y="812880"/>
            <a:ext cx="7917120" cy="5257800"/>
          </a:xfrm>
          <a:custGeom>
            <a:avLst/>
            <a:gdLst>
              <a:gd name="textAreaLeft" fmla="*/ 0 w 7917120"/>
              <a:gd name="textAreaRight" fmla="*/ 7917480 w 7917120"/>
              <a:gd name="textAreaTop" fmla="*/ 0 h 5257800"/>
              <a:gd name="textAreaBottom" fmla="*/ 5258160 h 5257800"/>
            </a:gdLst>
            <a:ahLst/>
            <a:rect l="textAreaLeft" t="textAreaTop" r="textAreaRight" b="textAreaBottom"/>
            <a:pathLst>
              <a:path w="4990" h="4320">
                <a:moveTo>
                  <a:pt x="1248" y="4320"/>
                </a:moveTo>
                <a:lnTo>
                  <a:pt x="0" y="2160"/>
                </a:lnTo>
                <a:lnTo>
                  <a:pt x="1248" y="0"/>
                </a:lnTo>
                <a:lnTo>
                  <a:pt x="3743" y="0"/>
                </a:lnTo>
                <a:lnTo>
                  <a:pt x="4990" y="2160"/>
                </a:lnTo>
                <a:lnTo>
                  <a:pt x="3743" y="4320"/>
                </a:lnTo>
                <a:lnTo>
                  <a:pt x="1248" y="4320"/>
                </a:lnTo>
                <a:close/>
              </a:path>
            </a:pathLst>
          </a:custGeom>
          <a:noFill/>
          <a:ln w="15840">
            <a:solidFill>
              <a:srgbClr val="e6e6e6"/>
            </a:solidFill>
            <a:round/>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nvGrpSpPr>
          <p:cNvPr id="1019" name="Group 4"/>
          <p:cNvGrpSpPr/>
          <p:nvPr/>
        </p:nvGrpSpPr>
        <p:grpSpPr>
          <a:xfrm>
            <a:off x="2916360" y="1143000"/>
            <a:ext cx="3311280" cy="1654200"/>
            <a:chOff x="2916360" y="1143000"/>
            <a:chExt cx="3311280" cy="1654200"/>
          </a:xfrm>
        </p:grpSpPr>
        <p:sp>
          <p:nvSpPr>
            <p:cNvPr id="1020" name="Freeform 8"/>
            <p:cNvSpPr/>
            <p:nvPr/>
          </p:nvSpPr>
          <p:spPr>
            <a:xfrm>
              <a:off x="2916360" y="1143000"/>
              <a:ext cx="1123200" cy="1654200"/>
            </a:xfrm>
            <a:custGeom>
              <a:avLst/>
              <a:gdLst>
                <a:gd name="textAreaLeft" fmla="*/ 0 w 1123200"/>
                <a:gd name="textAreaRight" fmla="*/ 1123560 w 1123200"/>
                <a:gd name="textAreaTop" fmla="*/ 0 h 1654200"/>
                <a:gd name="textAreaBottom" fmla="*/ 1654560 h 1654200"/>
              </a:gdLst>
              <a:ahLst/>
              <a:rect l="textAreaLeft" t="textAreaTop" r="textAreaRight" b="textAreaBottom"/>
              <a:pathLst>
                <a:path w="802" h="1180">
                  <a:moveTo>
                    <a:pt x="802" y="1065"/>
                  </a:moveTo>
                  <a:lnTo>
                    <a:pt x="802" y="1180"/>
                  </a:lnTo>
                  <a:lnTo>
                    <a:pt x="0" y="115"/>
                  </a:lnTo>
                  <a:lnTo>
                    <a:pt x="0" y="0"/>
                  </a:lnTo>
                  <a:lnTo>
                    <a:pt x="802" y="1065"/>
                  </a:lnTo>
                  <a:close/>
                </a:path>
              </a:pathLst>
            </a:custGeom>
            <a:gradFill rotWithShape="0">
              <a:gsLst>
                <a:gs pos="0">
                  <a:srgbClr val="c4807c"/>
                </a:gs>
                <a:gs pos="100000">
                  <a:srgbClr val="d49491"/>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21" name="Freeform 10"/>
            <p:cNvSpPr/>
            <p:nvPr/>
          </p:nvSpPr>
          <p:spPr>
            <a:xfrm>
              <a:off x="5104440" y="1143000"/>
              <a:ext cx="1123200" cy="1654200"/>
            </a:xfrm>
            <a:custGeom>
              <a:avLst/>
              <a:gdLst>
                <a:gd name="textAreaLeft" fmla="*/ 0 w 1123200"/>
                <a:gd name="textAreaRight" fmla="*/ 1123560 w 1123200"/>
                <a:gd name="textAreaTop" fmla="*/ 0 h 1654200"/>
                <a:gd name="textAreaBottom" fmla="*/ 1654560 h 1654200"/>
              </a:gdLst>
              <a:ahLst/>
              <a:rect l="textAreaLeft" t="textAreaTop" r="textAreaRight" b="textAreaBottom"/>
              <a:pathLst>
                <a:path w="802" h="1180">
                  <a:moveTo>
                    <a:pt x="802" y="0"/>
                  </a:moveTo>
                  <a:lnTo>
                    <a:pt x="802" y="115"/>
                  </a:lnTo>
                  <a:lnTo>
                    <a:pt x="0" y="1180"/>
                  </a:lnTo>
                  <a:lnTo>
                    <a:pt x="0" y="1065"/>
                  </a:lnTo>
                  <a:lnTo>
                    <a:pt x="802" y="0"/>
                  </a:lnTo>
                  <a:close/>
                </a:path>
              </a:pathLst>
            </a:custGeom>
            <a:gradFill rotWithShape="0">
              <a:gsLst>
                <a:gs pos="0">
                  <a:srgbClr val="441714"/>
                </a:gs>
                <a:gs pos="100000">
                  <a:srgbClr val="712f2a"/>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22" name="Rectangle 11"/>
            <p:cNvSpPr/>
            <p:nvPr/>
          </p:nvSpPr>
          <p:spPr>
            <a:xfrm>
              <a:off x="4039560" y="2636280"/>
              <a:ext cx="106452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9"/>
            <p:cNvSpPr/>
            <p:nvPr/>
          </p:nvSpPr>
          <p:spPr>
            <a:xfrm>
              <a:off x="2916360" y="1145520"/>
              <a:ext cx="3311280" cy="1493280"/>
            </a:xfrm>
            <a:custGeom>
              <a:avLst/>
              <a:gdLst>
                <a:gd name="textAreaLeft" fmla="*/ 0 w 3311280"/>
                <a:gd name="textAreaRight" fmla="*/ 3311640 w 3311280"/>
                <a:gd name="textAreaTop" fmla="*/ 0 h 1493280"/>
                <a:gd name="textAreaBottom" fmla="*/ 1493640 h 1493280"/>
              </a:gdLst>
              <a:ahLst/>
              <a:rect l="textAreaLeft" t="textAreaTop" r="textAreaRight" b="textAreaBottom"/>
              <a:pathLst>
                <a:path w="2364" h="1065">
                  <a:moveTo>
                    <a:pt x="2364" y="0"/>
                  </a:moveTo>
                  <a:lnTo>
                    <a:pt x="1562" y="1065"/>
                  </a:lnTo>
                  <a:lnTo>
                    <a:pt x="802" y="1065"/>
                  </a:lnTo>
                  <a:lnTo>
                    <a:pt x="0" y="0"/>
                  </a:lnTo>
                  <a:lnTo>
                    <a:pt x="2364" y="0"/>
                  </a:lnTo>
                  <a:close/>
                </a:path>
              </a:pathLst>
            </a:custGeom>
            <a:gradFill rotWithShape="0">
              <a:gsLst>
                <a:gs pos="0">
                  <a:srgbClr val="d89b98"/>
                </a:gs>
                <a:gs pos="100000">
                  <a:srgbClr val="f6d3d4"/>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1024" name="Group 9"/>
          <p:cNvGrpSpPr/>
          <p:nvPr/>
        </p:nvGrpSpPr>
        <p:grpSpPr>
          <a:xfrm>
            <a:off x="5103720" y="1157400"/>
            <a:ext cx="2779920" cy="2355840"/>
            <a:chOff x="5103720" y="1157400"/>
            <a:chExt cx="2779920" cy="2355840"/>
          </a:xfrm>
        </p:grpSpPr>
        <p:sp>
          <p:nvSpPr>
            <p:cNvPr id="1025" name="Rectangle 6"/>
            <p:cNvSpPr/>
            <p:nvPr/>
          </p:nvSpPr>
          <p:spPr>
            <a:xfrm>
              <a:off x="5633640" y="3352320"/>
              <a:ext cx="225000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7"/>
            <p:cNvSpPr/>
            <p:nvPr/>
          </p:nvSpPr>
          <p:spPr>
            <a:xfrm>
              <a:off x="5103720" y="2647080"/>
              <a:ext cx="529920" cy="866160"/>
            </a:xfrm>
            <a:custGeom>
              <a:avLst/>
              <a:gdLst>
                <a:gd name="textAreaLeft" fmla="*/ 0 w 529920"/>
                <a:gd name="textAreaRight" fmla="*/ 530280 w 529920"/>
                <a:gd name="textAreaTop" fmla="*/ 0 h 866160"/>
                <a:gd name="textAreaBottom" fmla="*/ 866520 h 866160"/>
              </a:gdLst>
              <a:ahLst/>
              <a:rect l="textAreaLeft" t="textAreaTop" r="textAreaRight" b="textAreaBottom"/>
              <a:pathLst>
                <a:path w="378" h="618">
                  <a:moveTo>
                    <a:pt x="378" y="503"/>
                  </a:moveTo>
                  <a:lnTo>
                    <a:pt x="378" y="618"/>
                  </a:lnTo>
                  <a:lnTo>
                    <a:pt x="0" y="115"/>
                  </a:lnTo>
                  <a:lnTo>
                    <a:pt x="0" y="0"/>
                  </a:lnTo>
                  <a:lnTo>
                    <a:pt x="378" y="503"/>
                  </a:lnTo>
                  <a:close/>
                </a:path>
              </a:pathLst>
            </a:custGeom>
            <a:gradFill rotWithShape="0">
              <a:gsLst>
                <a:gs pos="0">
                  <a:srgbClr val="c4807c"/>
                </a:gs>
                <a:gs pos="100000">
                  <a:srgbClr val="d49491"/>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27" name="Freeform 5"/>
            <p:cNvSpPr/>
            <p:nvPr/>
          </p:nvSpPr>
          <p:spPr>
            <a:xfrm>
              <a:off x="5103720" y="1157400"/>
              <a:ext cx="2779920" cy="2197800"/>
            </a:xfrm>
            <a:custGeom>
              <a:avLst/>
              <a:gdLst>
                <a:gd name="textAreaLeft" fmla="*/ 0 w 2779920"/>
                <a:gd name="textAreaRight" fmla="*/ 2780280 w 2779920"/>
                <a:gd name="textAreaTop" fmla="*/ 0 h 2197800"/>
                <a:gd name="textAreaBottom" fmla="*/ 2198160 h 2197800"/>
              </a:gdLst>
              <a:ahLst/>
              <a:rect l="textAreaLeft" t="textAreaTop" r="textAreaRight" b="textAreaBottom"/>
              <a:pathLst>
                <a:path w="1983" h="1568">
                  <a:moveTo>
                    <a:pt x="802" y="0"/>
                  </a:moveTo>
                  <a:lnTo>
                    <a:pt x="1983" y="1568"/>
                  </a:lnTo>
                  <a:lnTo>
                    <a:pt x="378" y="1568"/>
                  </a:lnTo>
                  <a:lnTo>
                    <a:pt x="0" y="1065"/>
                  </a:lnTo>
                  <a:lnTo>
                    <a:pt x="802" y="0"/>
                  </a:lnTo>
                  <a:close/>
                </a:path>
              </a:pathLst>
            </a:custGeom>
            <a:gradFill rotWithShape="0">
              <a:gsLst>
                <a:gs pos="0">
                  <a:srgbClr val="d89b98"/>
                </a:gs>
                <a:gs pos="100000">
                  <a:srgbClr val="f6d3d4"/>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1028" name="Group 13"/>
          <p:cNvGrpSpPr/>
          <p:nvPr/>
        </p:nvGrpSpPr>
        <p:grpSpPr>
          <a:xfrm>
            <a:off x="1260360" y="1158840"/>
            <a:ext cx="2779920" cy="2354400"/>
            <a:chOff x="1260360" y="1158840"/>
            <a:chExt cx="2779920" cy="2354400"/>
          </a:xfrm>
        </p:grpSpPr>
        <p:sp>
          <p:nvSpPr>
            <p:cNvPr id="1029" name="Freeform 13"/>
            <p:cNvSpPr/>
            <p:nvPr/>
          </p:nvSpPr>
          <p:spPr>
            <a:xfrm>
              <a:off x="3510360" y="2648520"/>
              <a:ext cx="529920" cy="864720"/>
            </a:xfrm>
            <a:custGeom>
              <a:avLst/>
              <a:gdLst>
                <a:gd name="textAreaLeft" fmla="*/ 0 w 529920"/>
                <a:gd name="textAreaRight" fmla="*/ 530280 w 529920"/>
                <a:gd name="textAreaTop" fmla="*/ 0 h 864720"/>
                <a:gd name="textAreaBottom" fmla="*/ 865080 h 864720"/>
              </a:gdLst>
              <a:ahLst/>
              <a:rect l="textAreaLeft" t="textAreaTop" r="textAreaRight" b="textAreaBottom"/>
              <a:pathLst>
                <a:path w="378" h="617">
                  <a:moveTo>
                    <a:pt x="378" y="0"/>
                  </a:moveTo>
                  <a:lnTo>
                    <a:pt x="378" y="114"/>
                  </a:lnTo>
                  <a:lnTo>
                    <a:pt x="0" y="617"/>
                  </a:lnTo>
                  <a:lnTo>
                    <a:pt x="0" y="502"/>
                  </a:lnTo>
                  <a:lnTo>
                    <a:pt x="378" y="0"/>
                  </a:lnTo>
                  <a:close/>
                </a:path>
              </a:pathLst>
            </a:custGeom>
            <a:gradFill rotWithShape="0">
              <a:gsLst>
                <a:gs pos="0">
                  <a:srgbClr val="441714"/>
                </a:gs>
                <a:gs pos="100000">
                  <a:srgbClr val="712f2a"/>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30" name="Rectangle 14"/>
            <p:cNvSpPr/>
            <p:nvPr/>
          </p:nvSpPr>
          <p:spPr>
            <a:xfrm>
              <a:off x="1260360" y="3352320"/>
              <a:ext cx="225000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12"/>
            <p:cNvSpPr/>
            <p:nvPr/>
          </p:nvSpPr>
          <p:spPr>
            <a:xfrm>
              <a:off x="1260360" y="1158840"/>
              <a:ext cx="2779920" cy="2196360"/>
            </a:xfrm>
            <a:custGeom>
              <a:avLst/>
              <a:gdLst>
                <a:gd name="textAreaLeft" fmla="*/ 0 w 2779920"/>
                <a:gd name="textAreaRight" fmla="*/ 2780280 w 2779920"/>
                <a:gd name="textAreaTop" fmla="*/ 0 h 2196360"/>
                <a:gd name="textAreaBottom" fmla="*/ 2196720 h 2196360"/>
              </a:gdLst>
              <a:ahLst/>
              <a:rect l="textAreaLeft" t="textAreaTop" r="textAreaRight" b="textAreaBottom"/>
              <a:pathLst>
                <a:path w="1983" h="1567">
                  <a:moveTo>
                    <a:pt x="1181" y="0"/>
                  </a:moveTo>
                  <a:lnTo>
                    <a:pt x="1983" y="1065"/>
                  </a:lnTo>
                  <a:lnTo>
                    <a:pt x="1605" y="1567"/>
                  </a:lnTo>
                  <a:lnTo>
                    <a:pt x="0" y="1567"/>
                  </a:lnTo>
                  <a:lnTo>
                    <a:pt x="1181" y="0"/>
                  </a:lnTo>
                  <a:close/>
                </a:path>
              </a:pathLst>
            </a:custGeom>
            <a:gradFill rotWithShape="0">
              <a:gsLst>
                <a:gs pos="0">
                  <a:srgbClr val="d89b98"/>
                </a:gs>
                <a:gs pos="100000">
                  <a:srgbClr val="f6d3d4"/>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1032" name="Group 17"/>
          <p:cNvGrpSpPr/>
          <p:nvPr/>
        </p:nvGrpSpPr>
        <p:grpSpPr>
          <a:xfrm>
            <a:off x="5103720" y="3357720"/>
            <a:ext cx="2779920" cy="2358720"/>
            <a:chOff x="5103720" y="3357720"/>
            <a:chExt cx="2779920" cy="2358720"/>
          </a:xfrm>
        </p:grpSpPr>
        <p:sp>
          <p:nvSpPr>
            <p:cNvPr id="1033" name="Freeform 21"/>
            <p:cNvSpPr/>
            <p:nvPr/>
          </p:nvSpPr>
          <p:spPr>
            <a:xfrm>
              <a:off x="6228000" y="3357720"/>
              <a:ext cx="1655640" cy="2358720"/>
            </a:xfrm>
            <a:custGeom>
              <a:avLst/>
              <a:gdLst>
                <a:gd name="textAreaLeft" fmla="*/ 0 w 1655640"/>
                <a:gd name="textAreaRight" fmla="*/ 1656000 w 1655640"/>
                <a:gd name="textAreaTop" fmla="*/ 0 h 2358720"/>
                <a:gd name="textAreaBottom" fmla="*/ 2359080 h 2358720"/>
              </a:gdLst>
              <a:ahLst/>
              <a:rect l="textAreaLeft" t="textAreaTop" r="textAreaRight" b="textAreaBottom"/>
              <a:pathLst>
                <a:path w="1181" h="1683">
                  <a:moveTo>
                    <a:pt x="1181" y="0"/>
                  </a:moveTo>
                  <a:lnTo>
                    <a:pt x="1181" y="115"/>
                  </a:lnTo>
                  <a:lnTo>
                    <a:pt x="0" y="1683"/>
                  </a:lnTo>
                  <a:lnTo>
                    <a:pt x="0" y="1568"/>
                  </a:lnTo>
                  <a:lnTo>
                    <a:pt x="1181" y="0"/>
                  </a:lnTo>
                  <a:close/>
                </a:path>
              </a:pathLst>
            </a:custGeom>
            <a:gradFill rotWithShape="0">
              <a:gsLst>
                <a:gs pos="0">
                  <a:srgbClr val="441714"/>
                </a:gs>
                <a:gs pos="100000">
                  <a:srgbClr val="712f2a"/>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34" name="Freeform 22"/>
            <p:cNvSpPr/>
            <p:nvPr/>
          </p:nvSpPr>
          <p:spPr>
            <a:xfrm>
              <a:off x="5103720" y="4064040"/>
              <a:ext cx="1124280" cy="1652400"/>
            </a:xfrm>
            <a:custGeom>
              <a:avLst/>
              <a:gdLst>
                <a:gd name="textAreaLeft" fmla="*/ 0 w 1124280"/>
                <a:gd name="textAreaRight" fmla="*/ 1124640 w 1124280"/>
                <a:gd name="textAreaTop" fmla="*/ 0 h 1652400"/>
                <a:gd name="textAreaBottom" fmla="*/ 1652760 h 1652400"/>
              </a:gdLst>
              <a:ahLst/>
              <a:rect l="textAreaLeft" t="textAreaTop" r="textAreaRight" b="textAreaBottom"/>
              <a:pathLst>
                <a:path w="802" h="1179">
                  <a:moveTo>
                    <a:pt x="802" y="1064"/>
                  </a:moveTo>
                  <a:lnTo>
                    <a:pt x="802" y="1179"/>
                  </a:lnTo>
                  <a:lnTo>
                    <a:pt x="0" y="114"/>
                  </a:lnTo>
                  <a:lnTo>
                    <a:pt x="0" y="0"/>
                  </a:lnTo>
                  <a:lnTo>
                    <a:pt x="802" y="1064"/>
                  </a:lnTo>
                  <a:close/>
                </a:path>
              </a:pathLst>
            </a:custGeom>
            <a:gradFill rotWithShape="0">
              <a:gsLst>
                <a:gs pos="0">
                  <a:srgbClr val="7e413d"/>
                </a:gs>
                <a:gs pos="100000">
                  <a:srgbClr val="b1635e"/>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35" name="Freeform 20"/>
            <p:cNvSpPr/>
            <p:nvPr/>
          </p:nvSpPr>
          <p:spPr>
            <a:xfrm>
              <a:off x="5103720" y="3360240"/>
              <a:ext cx="2779920" cy="2197800"/>
            </a:xfrm>
            <a:custGeom>
              <a:avLst/>
              <a:gdLst>
                <a:gd name="textAreaLeft" fmla="*/ 0 w 2779920"/>
                <a:gd name="textAreaRight" fmla="*/ 2780280 w 2779920"/>
                <a:gd name="textAreaTop" fmla="*/ 0 h 2197800"/>
                <a:gd name="textAreaBottom" fmla="*/ 2198160 h 2197800"/>
              </a:gdLst>
              <a:ahLst/>
              <a:rect l="textAreaLeft" t="textAreaTop" r="textAreaRight" b="textAreaBottom"/>
              <a:pathLst>
                <a:path w="1983" h="1568">
                  <a:moveTo>
                    <a:pt x="378" y="0"/>
                  </a:moveTo>
                  <a:lnTo>
                    <a:pt x="1983" y="0"/>
                  </a:lnTo>
                  <a:lnTo>
                    <a:pt x="802" y="1568"/>
                  </a:lnTo>
                  <a:lnTo>
                    <a:pt x="0" y="504"/>
                  </a:lnTo>
                  <a:lnTo>
                    <a:pt x="378" y="0"/>
                  </a:lnTo>
                  <a:close/>
                </a:path>
              </a:pathLst>
            </a:custGeom>
            <a:gradFill rotWithShape="0">
              <a:gsLst>
                <a:gs pos="0">
                  <a:srgbClr val="d89b98"/>
                </a:gs>
                <a:gs pos="100000">
                  <a:srgbClr val="f6d3d4"/>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1036" name="Group 21"/>
          <p:cNvGrpSpPr/>
          <p:nvPr/>
        </p:nvGrpSpPr>
        <p:grpSpPr>
          <a:xfrm>
            <a:off x="1260360" y="3357720"/>
            <a:ext cx="2779920" cy="2358720"/>
            <a:chOff x="1260360" y="3357720"/>
            <a:chExt cx="2779920" cy="2358720"/>
          </a:xfrm>
        </p:grpSpPr>
        <p:sp>
          <p:nvSpPr>
            <p:cNvPr id="1037" name="Freeform 16"/>
            <p:cNvSpPr/>
            <p:nvPr/>
          </p:nvSpPr>
          <p:spPr>
            <a:xfrm>
              <a:off x="2916000" y="4064040"/>
              <a:ext cx="1124280" cy="1652400"/>
            </a:xfrm>
            <a:custGeom>
              <a:avLst/>
              <a:gdLst>
                <a:gd name="textAreaLeft" fmla="*/ 0 w 1124280"/>
                <a:gd name="textAreaRight" fmla="*/ 1124640 w 1124280"/>
                <a:gd name="textAreaTop" fmla="*/ 0 h 1652400"/>
                <a:gd name="textAreaBottom" fmla="*/ 1652760 h 1652400"/>
              </a:gdLst>
              <a:ahLst/>
              <a:rect l="textAreaLeft" t="textAreaTop" r="textAreaRight" b="textAreaBottom"/>
              <a:pathLst>
                <a:path w="802" h="1179">
                  <a:moveTo>
                    <a:pt x="802" y="0"/>
                  </a:moveTo>
                  <a:lnTo>
                    <a:pt x="802" y="114"/>
                  </a:lnTo>
                  <a:lnTo>
                    <a:pt x="0" y="1179"/>
                  </a:lnTo>
                  <a:lnTo>
                    <a:pt x="0" y="1064"/>
                  </a:lnTo>
                  <a:lnTo>
                    <a:pt x="802" y="0"/>
                  </a:lnTo>
                  <a:close/>
                </a:path>
              </a:pathLst>
            </a:custGeom>
            <a:gradFill rotWithShape="0">
              <a:gsLst>
                <a:gs pos="0">
                  <a:srgbClr val="441714"/>
                </a:gs>
                <a:gs pos="100000">
                  <a:srgbClr val="712f2a"/>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38" name="Freeform 17"/>
            <p:cNvSpPr/>
            <p:nvPr/>
          </p:nvSpPr>
          <p:spPr>
            <a:xfrm>
              <a:off x="1260360" y="3357720"/>
              <a:ext cx="1655640" cy="2358720"/>
            </a:xfrm>
            <a:custGeom>
              <a:avLst/>
              <a:gdLst>
                <a:gd name="textAreaLeft" fmla="*/ 0 w 1655640"/>
                <a:gd name="textAreaRight" fmla="*/ 1656000 w 1655640"/>
                <a:gd name="textAreaTop" fmla="*/ 0 h 2358720"/>
                <a:gd name="textAreaBottom" fmla="*/ 2359080 h 2358720"/>
              </a:gdLst>
              <a:ahLst/>
              <a:rect l="textAreaLeft" t="textAreaTop" r="textAreaRight" b="textAreaBottom"/>
              <a:pathLst>
                <a:path w="1181" h="1683">
                  <a:moveTo>
                    <a:pt x="1181" y="1568"/>
                  </a:moveTo>
                  <a:lnTo>
                    <a:pt x="1181" y="1683"/>
                  </a:lnTo>
                  <a:lnTo>
                    <a:pt x="0" y="115"/>
                  </a:lnTo>
                  <a:lnTo>
                    <a:pt x="0" y="0"/>
                  </a:lnTo>
                  <a:lnTo>
                    <a:pt x="1181" y="1568"/>
                  </a:lnTo>
                  <a:close/>
                </a:path>
              </a:pathLst>
            </a:custGeom>
            <a:gradFill rotWithShape="0">
              <a:gsLst>
                <a:gs pos="0">
                  <a:srgbClr val="7e413d"/>
                </a:gs>
                <a:gs pos="100000">
                  <a:srgbClr val="b1635e"/>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39" name="Freeform 15"/>
            <p:cNvSpPr/>
            <p:nvPr/>
          </p:nvSpPr>
          <p:spPr>
            <a:xfrm>
              <a:off x="1260360" y="3360240"/>
              <a:ext cx="2779920" cy="2197800"/>
            </a:xfrm>
            <a:custGeom>
              <a:avLst/>
              <a:gdLst>
                <a:gd name="textAreaLeft" fmla="*/ 0 w 2779920"/>
                <a:gd name="textAreaRight" fmla="*/ 2780280 w 2779920"/>
                <a:gd name="textAreaTop" fmla="*/ 0 h 2197800"/>
                <a:gd name="textAreaBottom" fmla="*/ 2198160 h 2197800"/>
              </a:gdLst>
              <a:ahLst/>
              <a:rect l="textAreaLeft" t="textAreaTop" r="textAreaRight" b="textAreaBottom"/>
              <a:pathLst>
                <a:path w="1983" h="1568">
                  <a:moveTo>
                    <a:pt x="1605" y="0"/>
                  </a:moveTo>
                  <a:lnTo>
                    <a:pt x="1983" y="504"/>
                  </a:lnTo>
                  <a:lnTo>
                    <a:pt x="1181" y="1568"/>
                  </a:lnTo>
                  <a:lnTo>
                    <a:pt x="0" y="0"/>
                  </a:lnTo>
                  <a:lnTo>
                    <a:pt x="1605" y="0"/>
                  </a:lnTo>
                  <a:close/>
                </a:path>
              </a:pathLst>
            </a:custGeom>
            <a:gradFill rotWithShape="0">
              <a:gsLst>
                <a:gs pos="0">
                  <a:srgbClr val="d89b98"/>
                </a:gs>
                <a:gs pos="100000">
                  <a:srgbClr val="f6d3d4"/>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1040" name="Group 25"/>
          <p:cNvGrpSpPr/>
          <p:nvPr/>
        </p:nvGrpSpPr>
        <p:grpSpPr>
          <a:xfrm>
            <a:off x="2916360" y="4076640"/>
            <a:ext cx="3311280" cy="1650960"/>
            <a:chOff x="2916360" y="4076640"/>
            <a:chExt cx="3311280" cy="1650960"/>
          </a:xfrm>
        </p:grpSpPr>
        <p:sp>
          <p:nvSpPr>
            <p:cNvPr id="1041" name="Rectangle 19"/>
            <p:cNvSpPr/>
            <p:nvPr/>
          </p:nvSpPr>
          <p:spPr>
            <a:xfrm>
              <a:off x="2916360" y="5566680"/>
              <a:ext cx="3311280" cy="160920"/>
            </a:xfrm>
            <a:prstGeom prst="rect">
              <a:avLst/>
            </a:prstGeom>
            <a:gradFill rotWithShape="0">
              <a:gsLst>
                <a:gs pos="0">
                  <a:srgbClr val="7e413d"/>
                </a:gs>
                <a:gs pos="100000">
                  <a:srgbClr val="b1635e"/>
                </a:gs>
              </a:gsLst>
              <a:lin ang="10800000"/>
            </a:grad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18"/>
            <p:cNvSpPr/>
            <p:nvPr/>
          </p:nvSpPr>
          <p:spPr>
            <a:xfrm>
              <a:off x="2916360" y="4076640"/>
              <a:ext cx="3311280" cy="1492560"/>
            </a:xfrm>
            <a:custGeom>
              <a:avLst/>
              <a:gdLst>
                <a:gd name="textAreaLeft" fmla="*/ 0 w 3311280"/>
                <a:gd name="textAreaRight" fmla="*/ 3311640 w 3311280"/>
                <a:gd name="textAreaTop" fmla="*/ 0 h 1492560"/>
                <a:gd name="textAreaBottom" fmla="*/ 1492920 h 1492560"/>
              </a:gdLst>
              <a:ahLst/>
              <a:rect l="textAreaLeft" t="textAreaTop" r="textAreaRight" b="textAreaBottom"/>
              <a:pathLst>
                <a:path w="2364" h="1065">
                  <a:moveTo>
                    <a:pt x="1562" y="0"/>
                  </a:moveTo>
                  <a:lnTo>
                    <a:pt x="2364" y="1065"/>
                  </a:lnTo>
                  <a:lnTo>
                    <a:pt x="0" y="1065"/>
                  </a:lnTo>
                  <a:lnTo>
                    <a:pt x="802" y="0"/>
                  </a:lnTo>
                  <a:lnTo>
                    <a:pt x="1562" y="0"/>
                  </a:lnTo>
                  <a:close/>
                </a:path>
              </a:pathLst>
            </a:custGeom>
            <a:gradFill rotWithShape="0">
              <a:gsLst>
                <a:gs pos="0">
                  <a:srgbClr val="d89b98"/>
                </a:gs>
                <a:gs pos="100000">
                  <a:srgbClr val="f6d3d4"/>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sp>
        <p:nvSpPr>
          <p:cNvPr id="1043" name="TextBox 33"/>
          <p:cNvSpPr/>
          <p:nvPr/>
        </p:nvSpPr>
        <p:spPr>
          <a:xfrm>
            <a:off x="2590920" y="800280"/>
            <a:ext cx="396216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e7e7e"/>
                </a:solidFill>
                <a:latin typeface="Arial Narrow"/>
              </a:rPr>
              <a:t>Solution Title</a:t>
            </a:r>
            <a:endParaRPr b="0" lang="en-US" sz="2000" spc="-1" strike="noStrike">
              <a:solidFill>
                <a:srgbClr val="000000"/>
              </a:solidFill>
              <a:latin typeface="Arial"/>
            </a:endParaRPr>
          </a:p>
        </p:txBody>
      </p:sp>
      <p:sp>
        <p:nvSpPr>
          <p:cNvPr id="1044" name="TextBox 34"/>
          <p:cNvSpPr/>
          <p:nvPr/>
        </p:nvSpPr>
        <p:spPr>
          <a:xfrm>
            <a:off x="2590920" y="5715000"/>
            <a:ext cx="396216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e7e7e"/>
                </a:solidFill>
                <a:latin typeface="Arial Narrow"/>
              </a:rPr>
              <a:t>Solution Title</a:t>
            </a:r>
            <a:endParaRPr b="0" lang="en-US" sz="2000" spc="-1" strike="noStrike">
              <a:solidFill>
                <a:srgbClr val="000000"/>
              </a:solidFill>
              <a:latin typeface="Arial"/>
            </a:endParaRPr>
          </a:p>
        </p:txBody>
      </p:sp>
      <p:sp>
        <p:nvSpPr>
          <p:cNvPr id="1045" name="Rectangle 28"/>
          <p:cNvSpPr/>
          <p:nvPr/>
        </p:nvSpPr>
        <p:spPr>
          <a:xfrm>
            <a:off x="3546360" y="1422360"/>
            <a:ext cx="2092320" cy="851040"/>
          </a:xfrm>
          <a:prstGeom prst="rect">
            <a:avLst/>
          </a:prstGeom>
          <a:noFill/>
          <a:ln w="0">
            <a:noFill/>
          </a:ln>
        </p:spPr>
        <p:style>
          <a:lnRef idx="0"/>
          <a:fillRef idx="0"/>
          <a:effectRef idx="0"/>
          <a:fontRef idx="minor"/>
        </p:style>
        <p:txBody>
          <a:bodyPr lIns="0" rIns="27360" tIns="0" bIns="0" anchor="t">
            <a:norm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lement Title 1</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Additional Information Here)</a:t>
            </a:r>
            <a:endParaRPr b="0" lang="en-US" sz="1600" spc="-1" strike="noStrike">
              <a:solidFill>
                <a:srgbClr val="000000"/>
              </a:solidFill>
              <a:latin typeface="Arial"/>
            </a:endParaRPr>
          </a:p>
        </p:txBody>
      </p:sp>
      <p:sp>
        <p:nvSpPr>
          <p:cNvPr id="1046" name="Rectangle 35"/>
          <p:cNvSpPr/>
          <p:nvPr/>
        </p:nvSpPr>
        <p:spPr>
          <a:xfrm>
            <a:off x="5410080" y="2362320"/>
            <a:ext cx="1812960" cy="787320"/>
          </a:xfrm>
          <a:prstGeom prst="rect">
            <a:avLst/>
          </a:prstGeom>
          <a:noFill/>
          <a:ln w="0">
            <a:noFill/>
          </a:ln>
        </p:spPr>
        <p:style>
          <a:lnRef idx="0"/>
          <a:fillRef idx="0"/>
          <a:effectRef idx="0"/>
          <a:fontRef idx="minor"/>
        </p:style>
        <p:txBody>
          <a:bodyPr lIns="0" rIns="27360" tIns="0" bIns="0" anchor="t">
            <a:norm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lement Title 2</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Additional Information Here)</a:t>
            </a:r>
            <a:endParaRPr b="0" lang="en-US" sz="1600" spc="-1" strike="noStrike">
              <a:solidFill>
                <a:srgbClr val="000000"/>
              </a:solidFill>
              <a:latin typeface="Arial"/>
            </a:endParaRPr>
          </a:p>
        </p:txBody>
      </p:sp>
      <p:sp>
        <p:nvSpPr>
          <p:cNvPr id="1047" name="Rectangle 36"/>
          <p:cNvSpPr/>
          <p:nvPr/>
        </p:nvSpPr>
        <p:spPr>
          <a:xfrm>
            <a:off x="3546360" y="4495680"/>
            <a:ext cx="2092320" cy="851040"/>
          </a:xfrm>
          <a:prstGeom prst="rect">
            <a:avLst/>
          </a:prstGeom>
          <a:noFill/>
          <a:ln w="0">
            <a:noFill/>
          </a:ln>
        </p:spPr>
        <p:style>
          <a:lnRef idx="0"/>
          <a:fillRef idx="0"/>
          <a:effectRef idx="0"/>
          <a:fontRef idx="minor"/>
        </p:style>
        <p:txBody>
          <a:bodyPr lIns="0" rIns="27360" tIns="0" bIns="0" anchor="t">
            <a:norm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lement Title 4</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Additional Information Here)</a:t>
            </a:r>
            <a:endParaRPr b="0" lang="en-US" sz="1600" spc="-1" strike="noStrike">
              <a:solidFill>
                <a:srgbClr val="000000"/>
              </a:solidFill>
              <a:latin typeface="Arial"/>
            </a:endParaRPr>
          </a:p>
        </p:txBody>
      </p:sp>
      <p:sp>
        <p:nvSpPr>
          <p:cNvPr id="1048" name="Rectangle 37"/>
          <p:cNvSpPr/>
          <p:nvPr/>
        </p:nvSpPr>
        <p:spPr>
          <a:xfrm>
            <a:off x="1981080" y="2362320"/>
            <a:ext cx="1812960" cy="787320"/>
          </a:xfrm>
          <a:prstGeom prst="rect">
            <a:avLst/>
          </a:prstGeom>
          <a:noFill/>
          <a:ln w="0">
            <a:noFill/>
          </a:ln>
        </p:spPr>
        <p:style>
          <a:lnRef idx="0"/>
          <a:fillRef idx="0"/>
          <a:effectRef idx="0"/>
          <a:fontRef idx="minor"/>
        </p:style>
        <p:txBody>
          <a:bodyPr lIns="0" rIns="27360" tIns="0" bIns="0" anchor="t">
            <a:norm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lement Title 6</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Additional Information Here)</a:t>
            </a:r>
            <a:endParaRPr b="0" lang="en-US" sz="1600" spc="-1" strike="noStrike">
              <a:solidFill>
                <a:srgbClr val="000000"/>
              </a:solidFill>
              <a:latin typeface="Arial"/>
            </a:endParaRPr>
          </a:p>
        </p:txBody>
      </p:sp>
      <p:sp>
        <p:nvSpPr>
          <p:cNvPr id="1049" name="Rectangle 38"/>
          <p:cNvSpPr/>
          <p:nvPr/>
        </p:nvSpPr>
        <p:spPr>
          <a:xfrm>
            <a:off x="5410080" y="3733920"/>
            <a:ext cx="1812960" cy="787320"/>
          </a:xfrm>
          <a:prstGeom prst="rect">
            <a:avLst/>
          </a:prstGeom>
          <a:noFill/>
          <a:ln w="0">
            <a:noFill/>
          </a:ln>
        </p:spPr>
        <p:style>
          <a:lnRef idx="0"/>
          <a:fillRef idx="0"/>
          <a:effectRef idx="0"/>
          <a:fontRef idx="minor"/>
        </p:style>
        <p:txBody>
          <a:bodyPr lIns="0" rIns="27360" tIns="0" bIns="0" anchor="t">
            <a:norm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lement Title 3</a:t>
            </a:r>
            <a:endParaRPr b="0" lang="en-US" sz="2000" spc="-1" strike="noStrike">
              <a:solidFill>
                <a:srgbClr val="000000"/>
              </a:solidFill>
              <a:latin typeface="Arial"/>
            </a:endParaRPr>
          </a:p>
          <a:p>
            <a:pPr lvl="2"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67d77"/>
                </a:solidFill>
                <a:latin typeface="Arial Narrow"/>
              </a:rPr>
              <a:t>(</a:t>
            </a:r>
            <a:r>
              <a:rPr b="0" lang="en-US" sz="1600" spc="-1" strike="noStrike">
                <a:solidFill>
                  <a:srgbClr val="595959"/>
                </a:solidFill>
                <a:latin typeface="Arial Narrow"/>
              </a:rPr>
              <a:t>Additional Information Here)</a:t>
            </a:r>
            <a:endParaRPr b="0" lang="en-US" sz="1600" spc="-1" strike="noStrike">
              <a:solidFill>
                <a:srgbClr val="000000"/>
              </a:solidFill>
              <a:latin typeface="Arial"/>
            </a:endParaRPr>
          </a:p>
        </p:txBody>
      </p:sp>
      <p:sp>
        <p:nvSpPr>
          <p:cNvPr id="1050" name="Rectangle 39"/>
          <p:cNvSpPr/>
          <p:nvPr/>
        </p:nvSpPr>
        <p:spPr>
          <a:xfrm>
            <a:off x="1981080" y="3733920"/>
            <a:ext cx="1812960" cy="787320"/>
          </a:xfrm>
          <a:prstGeom prst="rect">
            <a:avLst/>
          </a:prstGeom>
          <a:noFill/>
          <a:ln w="0">
            <a:noFill/>
          </a:ln>
        </p:spPr>
        <p:style>
          <a:lnRef idx="0"/>
          <a:fillRef idx="0"/>
          <a:effectRef idx="0"/>
          <a:fontRef idx="minor"/>
        </p:style>
        <p:txBody>
          <a:bodyPr lIns="0" rIns="27360" tIns="0" bIns="0" anchor="t">
            <a:normAutofit/>
          </a:bodyPr>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lement Title 5</a:t>
            </a:r>
            <a:endParaRPr b="0" lang="en-US" sz="2000" spc="-1" strike="noStrike">
              <a:solidFill>
                <a:srgbClr val="000000"/>
              </a:solidFill>
              <a:latin typeface="Arial"/>
            </a:endParaRPr>
          </a:p>
          <a:p>
            <a:pPr lvl="1" algn="ct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67d77"/>
                </a:solidFill>
                <a:latin typeface="Arial Narrow"/>
              </a:rPr>
              <a:t>(</a:t>
            </a:r>
            <a:r>
              <a:rPr b="0" lang="en-US" sz="1600" spc="-1" strike="noStrike">
                <a:solidFill>
                  <a:srgbClr val="595959"/>
                </a:solidFill>
                <a:latin typeface="Arial Narrow"/>
              </a:rPr>
              <a:t>Additional Information Here)</a:t>
            </a:r>
            <a:endParaRPr b="0" lang="en-US" sz="1600" spc="-1" strike="noStrike">
              <a:solidFill>
                <a:srgbClr val="000000"/>
              </a:solidFill>
              <a:latin typeface="Arial"/>
            </a:endParaRPr>
          </a:p>
        </p:txBody>
      </p:sp>
      <p:grpSp>
        <p:nvGrpSpPr>
          <p:cNvPr id="1051" name="Group 36"/>
          <p:cNvGrpSpPr/>
          <p:nvPr/>
        </p:nvGrpSpPr>
        <p:grpSpPr>
          <a:xfrm>
            <a:off x="921960" y="1058760"/>
            <a:ext cx="7319880" cy="4827600"/>
            <a:chOff x="921960" y="1058760"/>
            <a:chExt cx="7319880" cy="4827600"/>
          </a:xfrm>
        </p:grpSpPr>
        <p:grpSp>
          <p:nvGrpSpPr>
            <p:cNvPr id="1052" name="Group 37"/>
            <p:cNvGrpSpPr/>
            <p:nvPr/>
          </p:nvGrpSpPr>
          <p:grpSpPr>
            <a:xfrm>
              <a:off x="6372000" y="1058760"/>
              <a:ext cx="1869840" cy="2297520"/>
              <a:chOff x="6372000" y="1058760"/>
              <a:chExt cx="1869840" cy="2297520"/>
            </a:xfrm>
          </p:grpSpPr>
          <p:sp>
            <p:nvSpPr>
              <p:cNvPr id="1053" name="AutoShape 105"/>
              <p:cNvSpPr/>
              <p:nvPr/>
            </p:nvSpPr>
            <p:spPr>
              <a:xfrm rot="3180000">
                <a:off x="6405840" y="1233720"/>
                <a:ext cx="639720" cy="404280"/>
              </a:xfrm>
              <a:prstGeom prst="rightArrow">
                <a:avLst>
                  <a:gd name="adj1" fmla="val 50000"/>
                  <a:gd name="adj2" fmla="val 50035"/>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AutoShape 105"/>
              <p:cNvSpPr/>
              <p:nvPr/>
            </p:nvSpPr>
            <p:spPr>
              <a:xfrm rot="3180000">
                <a:off x="7567920" y="2777040"/>
                <a:ext cx="639720" cy="404280"/>
              </a:xfrm>
              <a:prstGeom prst="rightArrow">
                <a:avLst>
                  <a:gd name="adj1" fmla="val 50000"/>
                  <a:gd name="adj2" fmla="val 50035"/>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AutoShape 105"/>
              <p:cNvSpPr/>
              <p:nvPr/>
            </p:nvSpPr>
            <p:spPr>
              <a:xfrm rot="3180000">
                <a:off x="6990120" y="2005200"/>
                <a:ext cx="639720" cy="404280"/>
              </a:xfrm>
              <a:prstGeom prst="rightArrow">
                <a:avLst>
                  <a:gd name="adj1" fmla="val 50000"/>
                  <a:gd name="adj2" fmla="val 50035"/>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6" name="Group 41"/>
            <p:cNvGrpSpPr/>
            <p:nvPr/>
          </p:nvGrpSpPr>
          <p:grpSpPr>
            <a:xfrm>
              <a:off x="6323760" y="3589560"/>
              <a:ext cx="1870560" cy="2296440"/>
              <a:chOff x="6323760" y="3589560"/>
              <a:chExt cx="1870560" cy="2296440"/>
            </a:xfrm>
          </p:grpSpPr>
          <p:sp>
            <p:nvSpPr>
              <p:cNvPr id="1057" name="AutoShape 105"/>
              <p:cNvSpPr/>
              <p:nvPr/>
            </p:nvSpPr>
            <p:spPr>
              <a:xfrm rot="7620000">
                <a:off x="7520760" y="376416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AutoShape 105"/>
              <p:cNvSpPr/>
              <p:nvPr/>
            </p:nvSpPr>
            <p:spPr>
              <a:xfrm rot="7620000">
                <a:off x="6357960" y="530676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AutoShape 105"/>
              <p:cNvSpPr/>
              <p:nvPr/>
            </p:nvSpPr>
            <p:spPr>
              <a:xfrm rot="7620000">
                <a:off x="6940080" y="453816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0" name="Group 45"/>
            <p:cNvGrpSpPr/>
            <p:nvPr/>
          </p:nvGrpSpPr>
          <p:grpSpPr>
            <a:xfrm>
              <a:off x="921960" y="1059120"/>
              <a:ext cx="1869480" cy="2297160"/>
              <a:chOff x="921960" y="1059120"/>
              <a:chExt cx="1869480" cy="2297160"/>
            </a:xfrm>
          </p:grpSpPr>
          <p:sp>
            <p:nvSpPr>
              <p:cNvPr id="1061" name="AutoShape 105"/>
              <p:cNvSpPr/>
              <p:nvPr/>
            </p:nvSpPr>
            <p:spPr>
              <a:xfrm flipV="1" rot="18420000">
                <a:off x="955440" y="2777400"/>
                <a:ext cx="639720" cy="403920"/>
              </a:xfrm>
              <a:prstGeom prst="rightArrow">
                <a:avLst>
                  <a:gd name="adj1" fmla="val 50000"/>
                  <a:gd name="adj2" fmla="val 50079"/>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AutoShape 105"/>
              <p:cNvSpPr/>
              <p:nvPr/>
            </p:nvSpPr>
            <p:spPr>
              <a:xfrm flipV="1" rot="18420000">
                <a:off x="2117520" y="1234080"/>
                <a:ext cx="639720" cy="403920"/>
              </a:xfrm>
              <a:prstGeom prst="rightArrow">
                <a:avLst>
                  <a:gd name="adj1" fmla="val 50000"/>
                  <a:gd name="adj2" fmla="val 50079"/>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AutoShape 105"/>
              <p:cNvSpPr/>
              <p:nvPr/>
            </p:nvSpPr>
            <p:spPr>
              <a:xfrm flipV="1" rot="18420000">
                <a:off x="1539720" y="2005920"/>
                <a:ext cx="639720" cy="403920"/>
              </a:xfrm>
              <a:prstGeom prst="rightArrow">
                <a:avLst>
                  <a:gd name="adj1" fmla="val 50000"/>
                  <a:gd name="adj2" fmla="val 50079"/>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4" name="Group 49"/>
            <p:cNvGrpSpPr/>
            <p:nvPr/>
          </p:nvGrpSpPr>
          <p:grpSpPr>
            <a:xfrm>
              <a:off x="949680" y="3589920"/>
              <a:ext cx="1870560" cy="2296440"/>
              <a:chOff x="949680" y="3589920"/>
              <a:chExt cx="1870560" cy="2296440"/>
            </a:xfrm>
          </p:grpSpPr>
          <p:sp>
            <p:nvSpPr>
              <p:cNvPr id="1065" name="AutoShape 105"/>
              <p:cNvSpPr/>
              <p:nvPr/>
            </p:nvSpPr>
            <p:spPr>
              <a:xfrm flipV="1" rot="13980000">
                <a:off x="2146680" y="530712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AutoShape 105"/>
              <p:cNvSpPr/>
              <p:nvPr/>
            </p:nvSpPr>
            <p:spPr>
              <a:xfrm flipV="1" rot="13980000">
                <a:off x="983880" y="376452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AutoShape 105"/>
              <p:cNvSpPr/>
              <p:nvPr/>
            </p:nvSpPr>
            <p:spPr>
              <a:xfrm flipV="1" rot="13980000">
                <a:off x="1566000" y="4533120"/>
                <a:ext cx="639360" cy="404280"/>
              </a:xfrm>
              <a:prstGeom prst="rightArrow">
                <a:avLst>
                  <a:gd name="adj1" fmla="val 50000"/>
                  <a:gd name="adj2" fmla="val 50007"/>
                </a:avLst>
              </a:prstGeom>
              <a:gradFill rotWithShape="0">
                <a:gsLst>
                  <a:gs pos="0">
                    <a:srgbClr val="e6e6e6"/>
                  </a:gs>
                  <a:gs pos="100000">
                    <a:srgbClr val="ffffff">
                      <a:alpha val="0"/>
                    </a:srgbClr>
                  </a:gs>
                </a:gsLst>
                <a:lin ang="762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8" name="Group 2"/>
          <p:cNvGrpSpPr/>
          <p:nvPr/>
        </p:nvGrpSpPr>
        <p:grpSpPr>
          <a:xfrm>
            <a:off x="2187360" y="552600"/>
            <a:ext cx="5036040" cy="5244120"/>
            <a:chOff x="2187360" y="552600"/>
            <a:chExt cx="5036040" cy="5244120"/>
          </a:xfrm>
        </p:grpSpPr>
        <p:pic>
          <p:nvPicPr>
            <p:cNvPr id="1069" name="Group 47" descr=""/>
            <p:cNvPicPr/>
            <p:nvPr/>
          </p:nvPicPr>
          <p:blipFill>
            <a:blip r:embed="rId1"/>
            <a:stretch/>
          </p:blipFill>
          <p:spPr>
            <a:xfrm rot="21599400">
              <a:off x="2192760" y="552600"/>
              <a:ext cx="4908960" cy="5238720"/>
            </a:xfrm>
            <a:prstGeom prst="rect">
              <a:avLst/>
            </a:prstGeom>
            <a:ln w="0">
              <a:noFill/>
            </a:ln>
          </p:spPr>
        </p:pic>
        <p:pic>
          <p:nvPicPr>
            <p:cNvPr id="1070" name="Group 52" descr=""/>
            <p:cNvPicPr/>
            <p:nvPr/>
          </p:nvPicPr>
          <p:blipFill>
            <a:blip r:embed="rId2"/>
            <a:stretch/>
          </p:blipFill>
          <p:spPr>
            <a:xfrm rot="21599400">
              <a:off x="2427480" y="1014840"/>
              <a:ext cx="4795200" cy="3667680"/>
            </a:xfrm>
            <a:prstGeom prst="rect">
              <a:avLst/>
            </a:prstGeom>
            <a:ln w="0">
              <a:noFill/>
            </a:ln>
          </p:spPr>
        </p:pic>
        <p:pic>
          <p:nvPicPr>
            <p:cNvPr id="1071" name="Group 41" descr=""/>
            <p:cNvPicPr/>
            <p:nvPr/>
          </p:nvPicPr>
          <p:blipFill>
            <a:blip r:embed="rId3"/>
            <a:stretch/>
          </p:blipFill>
          <p:spPr>
            <a:xfrm rot="21599400">
              <a:off x="2187360" y="2241360"/>
              <a:ext cx="4898160" cy="355464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2" name="Group 2"/>
          <p:cNvGrpSpPr/>
          <p:nvPr/>
        </p:nvGrpSpPr>
        <p:grpSpPr>
          <a:xfrm>
            <a:off x="3405240" y="479520"/>
            <a:ext cx="2414520" cy="5532480"/>
            <a:chOff x="3405240" y="479520"/>
            <a:chExt cx="2414520" cy="5532480"/>
          </a:xfrm>
        </p:grpSpPr>
        <p:pic>
          <p:nvPicPr>
            <p:cNvPr id="1073" name="Group 16" descr=""/>
            <p:cNvPicPr/>
            <p:nvPr/>
          </p:nvPicPr>
          <p:blipFill>
            <a:blip r:embed="rId1"/>
            <a:stretch/>
          </p:blipFill>
          <p:spPr>
            <a:xfrm>
              <a:off x="3405240" y="479520"/>
              <a:ext cx="2414520" cy="5532480"/>
            </a:xfrm>
            <a:prstGeom prst="rect">
              <a:avLst/>
            </a:prstGeom>
            <a:ln w="0">
              <a:noFill/>
            </a:ln>
          </p:spPr>
        </p:pic>
        <p:sp>
          <p:nvSpPr>
            <p:cNvPr id="1074" name="Freeform 5"/>
            <p:cNvSpPr/>
            <p:nvPr/>
          </p:nvSpPr>
          <p:spPr>
            <a:xfrm rot="20700000">
              <a:off x="3987360" y="3958200"/>
              <a:ext cx="1386000" cy="1100880"/>
            </a:xfrm>
            <a:custGeom>
              <a:avLst/>
              <a:gdLst>
                <a:gd name="textAreaLeft" fmla="*/ 0 w 1386000"/>
                <a:gd name="textAreaRight" fmla="*/ 1386360 w 1386000"/>
                <a:gd name="textAreaTop" fmla="*/ 0 h 1100880"/>
                <a:gd name="textAreaBottom" fmla="*/ 1100880 h 1100880"/>
              </a:gdLst>
              <a:ahLst/>
              <a:rect l="textAreaLeft" t="textAreaTop" r="textAreaRight" b="textAreaBottom"/>
              <a:pathLst>
                <a:path w="4782" h="2720">
                  <a:moveTo>
                    <a:pt x="4782" y="2720"/>
                  </a:moveTo>
                  <a:lnTo>
                    <a:pt x="0" y="2720"/>
                  </a:lnTo>
                  <a:lnTo>
                    <a:pt x="0" y="0"/>
                  </a:lnTo>
                  <a:lnTo>
                    <a:pt x="4782" y="0"/>
                  </a:lnTo>
                  <a:lnTo>
                    <a:pt x="4782" y="2720"/>
                  </a:lnTo>
                  <a:close/>
                  <a:moveTo>
                    <a:pt x="80" y="2640"/>
                  </a:moveTo>
                  <a:lnTo>
                    <a:pt x="4702" y="2640"/>
                  </a:lnTo>
                  <a:lnTo>
                    <a:pt x="4702" y="80"/>
                  </a:lnTo>
                  <a:lnTo>
                    <a:pt x="80" y="80"/>
                  </a:lnTo>
                  <a:lnTo>
                    <a:pt x="80" y="2640"/>
                  </a:lnTo>
                  <a:close/>
                </a:path>
              </a:pathLst>
            </a:custGeom>
            <a:gradFill rotWithShape="0">
              <a:gsLst>
                <a:gs pos="0">
                  <a:srgbClr val="cecece"/>
                </a:gs>
                <a:gs pos="100000">
                  <a:srgbClr val="f8fa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Rectangle 18"/>
            <p:cNvSpPr/>
            <p:nvPr/>
          </p:nvSpPr>
          <p:spPr>
            <a:xfrm rot="20700000">
              <a:off x="4042080" y="4032720"/>
              <a:ext cx="1276200" cy="951480"/>
            </a:xfrm>
            <a:prstGeom prst="rect">
              <a:avLst/>
            </a:prstGeom>
            <a:gradFill rotWithShape="0">
              <a:gsLst>
                <a:gs pos="0">
                  <a:srgbClr val="cecece"/>
                </a:gs>
                <a:gs pos="100000">
                  <a:srgbClr val="f8faff"/>
                </a:gs>
              </a:gsLst>
              <a:lin ang="13500000"/>
            </a:gradFill>
            <a:ln w="0">
              <a:noFill/>
            </a:ln>
          </p:spPr>
          <p:style>
            <a:lnRef idx="0"/>
            <a:fillRef idx="0"/>
            <a:effectRef idx="0"/>
            <a:fontRef idx="minor"/>
          </p:style>
          <p:txBody>
            <a:bodyPr lIns="90000" rIns="90000" tIns="46800" bIns="91440" anchor="ctr" anchorCtr="1">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Words Here</a:t>
              </a:r>
              <a:endParaRPr b="0" lang="en-US" sz="2400" spc="-1" strike="noStrike">
                <a:solidFill>
                  <a:srgbClr val="000000"/>
                </a:solidFill>
                <a:latin typeface="Arial"/>
              </a:endParaRPr>
            </a:p>
          </p:txBody>
        </p:sp>
        <p:pic>
          <p:nvPicPr>
            <p:cNvPr id="1076" name="Group 29" descr=""/>
            <p:cNvPicPr/>
            <p:nvPr/>
          </p:nvPicPr>
          <p:blipFill>
            <a:blip r:embed="rId2"/>
            <a:stretch/>
          </p:blipFill>
          <p:spPr>
            <a:xfrm>
              <a:off x="3801600" y="3287880"/>
              <a:ext cx="1330560" cy="789480"/>
            </a:xfrm>
            <a:prstGeom prst="rect">
              <a:avLst/>
            </a:prstGeom>
            <a:ln w="0">
              <a:noFill/>
            </a:ln>
          </p:spPr>
        </p:pic>
        <p:pic>
          <p:nvPicPr>
            <p:cNvPr id="1077" name="Group 30" descr=""/>
            <p:cNvPicPr/>
            <p:nvPr/>
          </p:nvPicPr>
          <p:blipFill>
            <a:blip r:embed="rId3"/>
            <a:stretch/>
          </p:blipFill>
          <p:spPr>
            <a:xfrm>
              <a:off x="3723480" y="2975040"/>
              <a:ext cx="1295280" cy="7182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Rectangle 64"/>
          <p:cNvSpPr/>
          <p:nvPr/>
        </p:nvSpPr>
        <p:spPr>
          <a:xfrm>
            <a:off x="0" y="0"/>
            <a:ext cx="9144000" cy="6858000"/>
          </a:xfrm>
          <a:prstGeom prst="rect">
            <a:avLst/>
          </a:prstGeom>
          <a:gradFill rotWithShape="0">
            <a:gsLst>
              <a:gs pos="0">
                <a:srgbClr val="3463bd"/>
              </a:gs>
              <a:gs pos="100000">
                <a:srgbClr val="4da7e5"/>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TextBox 62"/>
          <p:cNvSpPr/>
          <p:nvPr/>
        </p:nvSpPr>
        <p:spPr>
          <a:xfrm>
            <a:off x="0" y="6257880"/>
            <a:ext cx="41911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hen scaling, group all elements to be scaled. Scale as needed. Use the “Increase Font Size,” “Decrease Font Size” buttons or manually change the font size for the editable text.</a:t>
            </a:r>
            <a:endParaRPr b="0" lang="en-US" sz="1100" spc="-1" strike="noStrike">
              <a:solidFill>
                <a:srgbClr val="000000"/>
              </a:solidFill>
              <a:latin typeface="Arial"/>
            </a:endParaRPr>
          </a:p>
        </p:txBody>
      </p:sp>
      <p:grpSp>
        <p:nvGrpSpPr>
          <p:cNvPr id="1080" name="Group 4"/>
          <p:cNvGrpSpPr/>
          <p:nvPr/>
        </p:nvGrpSpPr>
        <p:grpSpPr>
          <a:xfrm>
            <a:off x="2127240" y="609480"/>
            <a:ext cx="4889520" cy="8183520"/>
            <a:chOff x="2127240" y="609480"/>
            <a:chExt cx="4889520" cy="8183520"/>
          </a:xfrm>
        </p:grpSpPr>
        <p:grpSp>
          <p:nvGrpSpPr>
            <p:cNvPr id="1081" name="Group 5"/>
            <p:cNvGrpSpPr/>
            <p:nvPr/>
          </p:nvGrpSpPr>
          <p:grpSpPr>
            <a:xfrm>
              <a:off x="4366800" y="609480"/>
              <a:ext cx="407160" cy="8183520"/>
              <a:chOff x="4366800" y="609480"/>
              <a:chExt cx="407160" cy="8183520"/>
            </a:xfrm>
          </p:grpSpPr>
          <p:grpSp>
            <p:nvGrpSpPr>
              <p:cNvPr id="1082" name="Group 6"/>
              <p:cNvGrpSpPr/>
              <p:nvPr/>
            </p:nvGrpSpPr>
            <p:grpSpPr>
              <a:xfrm>
                <a:off x="4366800" y="609480"/>
                <a:ext cx="407160" cy="247320"/>
                <a:chOff x="4366800" y="609480"/>
                <a:chExt cx="407160" cy="247320"/>
              </a:xfrm>
            </p:grpSpPr>
            <p:sp>
              <p:nvSpPr>
                <p:cNvPr id="1083" name="Freeform 6"/>
                <p:cNvSpPr/>
                <p:nvPr/>
              </p:nvSpPr>
              <p:spPr>
                <a:xfrm>
                  <a:off x="4366800" y="609480"/>
                  <a:ext cx="407160" cy="164520"/>
                </a:xfrm>
                <a:custGeom>
                  <a:avLst/>
                  <a:gdLst>
                    <a:gd name="textAreaLeft" fmla="*/ 0 w 407160"/>
                    <a:gd name="textAreaRight" fmla="*/ 407520 w 407160"/>
                    <a:gd name="textAreaTop" fmla="*/ 0 h 164520"/>
                    <a:gd name="textAreaBottom" fmla="*/ 164880 h 164520"/>
                  </a:gdLst>
                  <a:ahLst/>
                  <a:rect l="textAreaLeft" t="textAreaTop" r="textAreaRight" b="textAreaBottom"/>
                  <a:pathLst>
                    <a:path w="492" h="199">
                      <a:moveTo>
                        <a:pt x="0" y="199"/>
                      </a:moveTo>
                      <a:lnTo>
                        <a:pt x="0" y="199"/>
                      </a:lnTo>
                      <a:lnTo>
                        <a:pt x="1" y="194"/>
                      </a:lnTo>
                      <a:lnTo>
                        <a:pt x="5" y="189"/>
                      </a:lnTo>
                      <a:lnTo>
                        <a:pt x="12" y="184"/>
                      </a:lnTo>
                      <a:lnTo>
                        <a:pt x="19" y="180"/>
                      </a:lnTo>
                      <a:lnTo>
                        <a:pt x="30" y="175"/>
                      </a:lnTo>
                      <a:lnTo>
                        <a:pt x="43" y="171"/>
                      </a:lnTo>
                      <a:lnTo>
                        <a:pt x="56" y="168"/>
                      </a:lnTo>
                      <a:lnTo>
                        <a:pt x="72" y="164"/>
                      </a:lnTo>
                      <a:lnTo>
                        <a:pt x="109" y="158"/>
                      </a:lnTo>
                      <a:lnTo>
                        <a:pt x="150" y="154"/>
                      </a:lnTo>
                      <a:lnTo>
                        <a:pt x="197" y="151"/>
                      </a:lnTo>
                      <a:lnTo>
                        <a:pt x="246" y="150"/>
                      </a:lnTo>
                      <a:lnTo>
                        <a:pt x="296" y="151"/>
                      </a:lnTo>
                      <a:lnTo>
                        <a:pt x="342" y="154"/>
                      </a:lnTo>
                      <a:lnTo>
                        <a:pt x="383" y="158"/>
                      </a:lnTo>
                      <a:lnTo>
                        <a:pt x="421" y="164"/>
                      </a:lnTo>
                      <a:lnTo>
                        <a:pt x="436" y="168"/>
                      </a:lnTo>
                      <a:lnTo>
                        <a:pt x="450" y="171"/>
                      </a:lnTo>
                      <a:lnTo>
                        <a:pt x="462" y="175"/>
                      </a:lnTo>
                      <a:lnTo>
                        <a:pt x="473" y="180"/>
                      </a:lnTo>
                      <a:lnTo>
                        <a:pt x="481" y="184"/>
                      </a:lnTo>
                      <a:lnTo>
                        <a:pt x="487" y="189"/>
                      </a:lnTo>
                      <a:lnTo>
                        <a:pt x="491" y="194"/>
                      </a:lnTo>
                      <a:lnTo>
                        <a:pt x="492" y="199"/>
                      </a:lnTo>
                      <a:lnTo>
                        <a:pt x="476" y="49"/>
                      </a:lnTo>
                      <a:lnTo>
                        <a:pt x="475" y="44"/>
                      </a:lnTo>
                      <a:lnTo>
                        <a:pt x="472" y="39"/>
                      </a:lnTo>
                      <a:lnTo>
                        <a:pt x="466" y="34"/>
                      </a:lnTo>
                      <a:lnTo>
                        <a:pt x="459" y="30"/>
                      </a:lnTo>
                      <a:lnTo>
                        <a:pt x="449" y="26"/>
                      </a:lnTo>
                      <a:lnTo>
                        <a:pt x="439" y="21"/>
                      </a:lnTo>
                      <a:lnTo>
                        <a:pt x="426" y="18"/>
                      </a:lnTo>
                      <a:lnTo>
                        <a:pt x="412" y="14"/>
                      </a:lnTo>
                      <a:lnTo>
                        <a:pt x="378" y="9"/>
                      </a:lnTo>
                      <a:lnTo>
                        <a:pt x="340" y="3"/>
                      </a:lnTo>
                      <a:lnTo>
                        <a:pt x="295" y="1"/>
                      </a:lnTo>
                      <a:lnTo>
                        <a:pt x="246" y="0"/>
                      </a:lnTo>
                      <a:lnTo>
                        <a:pt x="197" y="1"/>
                      </a:lnTo>
                      <a:lnTo>
                        <a:pt x="153" y="3"/>
                      </a:lnTo>
                      <a:lnTo>
                        <a:pt x="114" y="9"/>
                      </a:lnTo>
                      <a:lnTo>
                        <a:pt x="81" y="14"/>
                      </a:lnTo>
                      <a:lnTo>
                        <a:pt x="66" y="18"/>
                      </a:lnTo>
                      <a:lnTo>
                        <a:pt x="53" y="21"/>
                      </a:lnTo>
                      <a:lnTo>
                        <a:pt x="43" y="26"/>
                      </a:lnTo>
                      <a:lnTo>
                        <a:pt x="33" y="30"/>
                      </a:lnTo>
                      <a:lnTo>
                        <a:pt x="27" y="34"/>
                      </a:lnTo>
                      <a:lnTo>
                        <a:pt x="21" y="39"/>
                      </a:lnTo>
                      <a:lnTo>
                        <a:pt x="18" y="44"/>
                      </a:lnTo>
                      <a:lnTo>
                        <a:pt x="17" y="49"/>
                      </a:lnTo>
                      <a:lnTo>
                        <a:pt x="0" y="199"/>
                      </a:lnTo>
                      <a:close/>
                    </a:path>
                  </a:pathLst>
                </a:custGeom>
                <a:gradFill rotWithShape="0">
                  <a:gsLst>
                    <a:gs pos="0">
                      <a:srgbClr val="a8a8a8"/>
                    </a:gs>
                    <a:gs pos="100000">
                      <a:srgbClr val="a8a8a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7"/>
                <p:cNvSpPr/>
                <p:nvPr/>
              </p:nvSpPr>
              <p:spPr>
                <a:xfrm>
                  <a:off x="4366800" y="726840"/>
                  <a:ext cx="407160" cy="81720"/>
                </a:xfrm>
                <a:custGeom>
                  <a:avLst/>
                  <a:gdLst>
                    <a:gd name="textAreaLeft" fmla="*/ 0 w 407160"/>
                    <a:gd name="textAreaRight" fmla="*/ 407520 w 407160"/>
                    <a:gd name="textAreaTop" fmla="*/ 0 h 81720"/>
                    <a:gd name="textAreaBottom" fmla="*/ 82080 h 81720"/>
                  </a:gdLst>
                  <a:ahLst/>
                  <a:rect l="textAreaLeft" t="textAreaTop" r="textAreaRight" b="textAreaBottom"/>
                  <a:pathLst>
                    <a:path w="492" h="99">
                      <a:moveTo>
                        <a:pt x="492" y="50"/>
                      </a:moveTo>
                      <a:lnTo>
                        <a:pt x="492" y="50"/>
                      </a:lnTo>
                      <a:lnTo>
                        <a:pt x="491" y="55"/>
                      </a:lnTo>
                      <a:lnTo>
                        <a:pt x="487" y="60"/>
                      </a:lnTo>
                      <a:lnTo>
                        <a:pt x="481" y="64"/>
                      </a:lnTo>
                      <a:lnTo>
                        <a:pt x="473" y="70"/>
                      </a:lnTo>
                      <a:lnTo>
                        <a:pt x="462" y="74"/>
                      </a:lnTo>
                      <a:lnTo>
                        <a:pt x="450" y="77"/>
                      </a:lnTo>
                      <a:lnTo>
                        <a:pt x="436" y="81"/>
                      </a:lnTo>
                      <a:lnTo>
                        <a:pt x="421" y="84"/>
                      </a:lnTo>
                      <a:lnTo>
                        <a:pt x="383" y="91"/>
                      </a:lnTo>
                      <a:lnTo>
                        <a:pt x="342" y="95"/>
                      </a:lnTo>
                      <a:lnTo>
                        <a:pt x="296" y="98"/>
                      </a:lnTo>
                      <a:lnTo>
                        <a:pt x="246" y="99"/>
                      </a:lnTo>
                      <a:lnTo>
                        <a:pt x="197" y="98"/>
                      </a:lnTo>
                      <a:lnTo>
                        <a:pt x="150" y="95"/>
                      </a:lnTo>
                      <a:lnTo>
                        <a:pt x="109" y="91"/>
                      </a:lnTo>
                      <a:lnTo>
                        <a:pt x="72" y="84"/>
                      </a:lnTo>
                      <a:lnTo>
                        <a:pt x="56" y="81"/>
                      </a:lnTo>
                      <a:lnTo>
                        <a:pt x="43" y="77"/>
                      </a:lnTo>
                      <a:lnTo>
                        <a:pt x="30" y="74"/>
                      </a:lnTo>
                      <a:lnTo>
                        <a:pt x="19" y="70"/>
                      </a:lnTo>
                      <a:lnTo>
                        <a:pt x="12" y="64"/>
                      </a:lnTo>
                      <a:lnTo>
                        <a:pt x="5" y="60"/>
                      </a:lnTo>
                      <a:lnTo>
                        <a:pt x="1" y="55"/>
                      </a:lnTo>
                      <a:lnTo>
                        <a:pt x="0" y="50"/>
                      </a:lnTo>
                      <a:lnTo>
                        <a:pt x="1" y="45"/>
                      </a:lnTo>
                      <a:lnTo>
                        <a:pt x="5" y="40"/>
                      </a:lnTo>
                      <a:lnTo>
                        <a:pt x="12" y="36"/>
                      </a:lnTo>
                      <a:lnTo>
                        <a:pt x="19" y="31"/>
                      </a:lnTo>
                      <a:lnTo>
                        <a:pt x="30" y="27"/>
                      </a:lnTo>
                      <a:lnTo>
                        <a:pt x="43" y="23"/>
                      </a:lnTo>
                      <a:lnTo>
                        <a:pt x="56" y="19"/>
                      </a:lnTo>
                      <a:lnTo>
                        <a:pt x="72" y="15"/>
                      </a:lnTo>
                      <a:lnTo>
                        <a:pt x="109" y="9"/>
                      </a:lnTo>
                      <a:lnTo>
                        <a:pt x="150" y="5"/>
                      </a:lnTo>
                      <a:lnTo>
                        <a:pt x="197" y="2"/>
                      </a:lnTo>
                      <a:lnTo>
                        <a:pt x="246" y="0"/>
                      </a:lnTo>
                      <a:lnTo>
                        <a:pt x="296" y="2"/>
                      </a:lnTo>
                      <a:lnTo>
                        <a:pt x="342" y="5"/>
                      </a:lnTo>
                      <a:lnTo>
                        <a:pt x="383" y="9"/>
                      </a:lnTo>
                      <a:lnTo>
                        <a:pt x="421" y="15"/>
                      </a:lnTo>
                      <a:lnTo>
                        <a:pt x="436" y="19"/>
                      </a:lnTo>
                      <a:lnTo>
                        <a:pt x="450" y="23"/>
                      </a:lnTo>
                      <a:lnTo>
                        <a:pt x="462" y="27"/>
                      </a:lnTo>
                      <a:lnTo>
                        <a:pt x="473" y="31"/>
                      </a:lnTo>
                      <a:lnTo>
                        <a:pt x="481" y="36"/>
                      </a:lnTo>
                      <a:lnTo>
                        <a:pt x="487" y="40"/>
                      </a:lnTo>
                      <a:lnTo>
                        <a:pt x="491" y="45"/>
                      </a:lnTo>
                      <a:lnTo>
                        <a:pt x="492" y="50"/>
                      </a:lnTo>
                      <a:close/>
                    </a:path>
                  </a:pathLst>
                </a:custGeom>
                <a:gradFill rotWithShape="0">
                  <a:gsLst>
                    <a:gs pos="0">
                      <a:srgbClr val="323232"/>
                    </a:gs>
                    <a:gs pos="100000">
                      <a:srgbClr val="4d4d4d"/>
                    </a:gs>
                  </a:gsLst>
                  <a:lin ang="108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85" name="Freeform 8"/>
                <p:cNvSpPr/>
                <p:nvPr/>
              </p:nvSpPr>
              <p:spPr>
                <a:xfrm>
                  <a:off x="4381560" y="737640"/>
                  <a:ext cx="377640" cy="86760"/>
                </a:xfrm>
                <a:custGeom>
                  <a:avLst/>
                  <a:gdLst>
                    <a:gd name="textAreaLeft" fmla="*/ 0 w 377640"/>
                    <a:gd name="textAreaRight" fmla="*/ 378000 w 377640"/>
                    <a:gd name="textAreaTop" fmla="*/ 0 h 86760"/>
                    <a:gd name="textAreaBottom" fmla="*/ 86760 h 86760"/>
                  </a:gdLst>
                  <a:ahLst/>
                  <a:rect l="textAreaLeft" t="textAreaTop" r="textAreaRight" b="textAreaBottom"/>
                  <a:pathLst>
                    <a:path w="456" h="105">
                      <a:moveTo>
                        <a:pt x="0" y="105"/>
                      </a:moveTo>
                      <a:lnTo>
                        <a:pt x="0" y="105"/>
                      </a:lnTo>
                      <a:lnTo>
                        <a:pt x="1" y="100"/>
                      </a:lnTo>
                      <a:lnTo>
                        <a:pt x="5" y="96"/>
                      </a:lnTo>
                      <a:lnTo>
                        <a:pt x="11" y="92"/>
                      </a:lnTo>
                      <a:lnTo>
                        <a:pt x="18" y="87"/>
                      </a:lnTo>
                      <a:lnTo>
                        <a:pt x="28" y="83"/>
                      </a:lnTo>
                      <a:lnTo>
                        <a:pt x="40" y="80"/>
                      </a:lnTo>
                      <a:lnTo>
                        <a:pt x="52" y="76"/>
                      </a:lnTo>
                      <a:lnTo>
                        <a:pt x="67" y="73"/>
                      </a:lnTo>
                      <a:lnTo>
                        <a:pt x="101" y="67"/>
                      </a:lnTo>
                      <a:lnTo>
                        <a:pt x="140" y="63"/>
                      </a:lnTo>
                      <a:lnTo>
                        <a:pt x="182" y="61"/>
                      </a:lnTo>
                      <a:lnTo>
                        <a:pt x="228" y="60"/>
                      </a:lnTo>
                      <a:lnTo>
                        <a:pt x="274" y="61"/>
                      </a:lnTo>
                      <a:lnTo>
                        <a:pt x="316" y="63"/>
                      </a:lnTo>
                      <a:lnTo>
                        <a:pt x="356" y="67"/>
                      </a:lnTo>
                      <a:lnTo>
                        <a:pt x="389" y="73"/>
                      </a:lnTo>
                      <a:lnTo>
                        <a:pt x="404" y="76"/>
                      </a:lnTo>
                      <a:lnTo>
                        <a:pt x="418" y="80"/>
                      </a:lnTo>
                      <a:lnTo>
                        <a:pt x="428" y="83"/>
                      </a:lnTo>
                      <a:lnTo>
                        <a:pt x="438" y="87"/>
                      </a:lnTo>
                      <a:lnTo>
                        <a:pt x="445" y="92"/>
                      </a:lnTo>
                      <a:lnTo>
                        <a:pt x="452" y="96"/>
                      </a:lnTo>
                      <a:lnTo>
                        <a:pt x="455" y="100"/>
                      </a:lnTo>
                      <a:lnTo>
                        <a:pt x="456" y="105"/>
                      </a:lnTo>
                      <a:lnTo>
                        <a:pt x="456" y="46"/>
                      </a:lnTo>
                      <a:lnTo>
                        <a:pt x="455" y="41"/>
                      </a:lnTo>
                      <a:lnTo>
                        <a:pt x="452" y="36"/>
                      </a:lnTo>
                      <a:lnTo>
                        <a:pt x="445" y="32"/>
                      </a:lnTo>
                      <a:lnTo>
                        <a:pt x="438" y="28"/>
                      </a:lnTo>
                      <a:lnTo>
                        <a:pt x="428" y="24"/>
                      </a:lnTo>
                      <a:lnTo>
                        <a:pt x="418" y="20"/>
                      </a:lnTo>
                      <a:lnTo>
                        <a:pt x="404" y="17"/>
                      </a:lnTo>
                      <a:lnTo>
                        <a:pt x="389" y="13"/>
                      </a:lnTo>
                      <a:lnTo>
                        <a:pt x="356" y="8"/>
                      </a:lnTo>
                      <a:lnTo>
                        <a:pt x="316" y="3"/>
                      </a:lnTo>
                      <a:lnTo>
                        <a:pt x="274" y="1"/>
                      </a:lnTo>
                      <a:lnTo>
                        <a:pt x="228" y="0"/>
                      </a:lnTo>
                      <a:lnTo>
                        <a:pt x="182" y="1"/>
                      </a:lnTo>
                      <a:lnTo>
                        <a:pt x="140" y="3"/>
                      </a:lnTo>
                      <a:lnTo>
                        <a:pt x="101" y="8"/>
                      </a:lnTo>
                      <a:lnTo>
                        <a:pt x="67" y="13"/>
                      </a:lnTo>
                      <a:lnTo>
                        <a:pt x="52" y="17"/>
                      </a:lnTo>
                      <a:lnTo>
                        <a:pt x="40" y="20"/>
                      </a:lnTo>
                      <a:lnTo>
                        <a:pt x="28" y="24"/>
                      </a:lnTo>
                      <a:lnTo>
                        <a:pt x="18" y="28"/>
                      </a:lnTo>
                      <a:lnTo>
                        <a:pt x="11" y="32"/>
                      </a:lnTo>
                      <a:lnTo>
                        <a:pt x="5" y="36"/>
                      </a:lnTo>
                      <a:lnTo>
                        <a:pt x="1" y="41"/>
                      </a:lnTo>
                      <a:lnTo>
                        <a:pt x="0" y="46"/>
                      </a:lnTo>
                      <a:lnTo>
                        <a:pt x="0" y="105"/>
                      </a:lnTo>
                      <a:close/>
                    </a:path>
                  </a:pathLst>
                </a:custGeom>
                <a:gradFill rotWithShape="0">
                  <a:gsLst>
                    <a:gs pos="0">
                      <a:srgbClr val="a8a8a8"/>
                    </a:gs>
                    <a:gs pos="100000">
                      <a:srgbClr val="a8a8a8"/>
                    </a:gs>
                  </a:gsLst>
                  <a:lin ang="10800000"/>
                </a:gra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86" name="Freeform 9"/>
                <p:cNvSpPr/>
                <p:nvPr/>
              </p:nvSpPr>
              <p:spPr>
                <a:xfrm>
                  <a:off x="4381560" y="781560"/>
                  <a:ext cx="377640" cy="75240"/>
                </a:xfrm>
                <a:custGeom>
                  <a:avLst/>
                  <a:gdLst>
                    <a:gd name="textAreaLeft" fmla="*/ 0 w 377640"/>
                    <a:gd name="textAreaRight" fmla="*/ 378000 w 377640"/>
                    <a:gd name="textAreaTop" fmla="*/ 0 h 75240"/>
                    <a:gd name="textAreaBottom" fmla="*/ 75240 h 75240"/>
                  </a:gdLst>
                  <a:ahLst/>
                  <a:rect l="textAreaLeft" t="textAreaTop" r="textAreaRight" b="textAreaBottom"/>
                  <a:pathLst>
                    <a:path w="456" h="91">
                      <a:moveTo>
                        <a:pt x="456" y="46"/>
                      </a:moveTo>
                      <a:lnTo>
                        <a:pt x="456" y="46"/>
                      </a:lnTo>
                      <a:lnTo>
                        <a:pt x="455" y="50"/>
                      </a:lnTo>
                      <a:lnTo>
                        <a:pt x="452" y="55"/>
                      </a:lnTo>
                      <a:lnTo>
                        <a:pt x="445" y="59"/>
                      </a:lnTo>
                      <a:lnTo>
                        <a:pt x="438" y="63"/>
                      </a:lnTo>
                      <a:lnTo>
                        <a:pt x="428" y="67"/>
                      </a:lnTo>
                      <a:lnTo>
                        <a:pt x="418" y="71"/>
                      </a:lnTo>
                      <a:lnTo>
                        <a:pt x="404" y="75"/>
                      </a:lnTo>
                      <a:lnTo>
                        <a:pt x="389" y="78"/>
                      </a:lnTo>
                      <a:lnTo>
                        <a:pt x="356" y="83"/>
                      </a:lnTo>
                      <a:lnTo>
                        <a:pt x="316" y="88"/>
                      </a:lnTo>
                      <a:lnTo>
                        <a:pt x="274" y="90"/>
                      </a:lnTo>
                      <a:lnTo>
                        <a:pt x="228" y="91"/>
                      </a:lnTo>
                      <a:lnTo>
                        <a:pt x="182" y="90"/>
                      </a:lnTo>
                      <a:lnTo>
                        <a:pt x="140" y="88"/>
                      </a:lnTo>
                      <a:lnTo>
                        <a:pt x="101" y="83"/>
                      </a:lnTo>
                      <a:lnTo>
                        <a:pt x="67" y="78"/>
                      </a:lnTo>
                      <a:lnTo>
                        <a:pt x="52" y="75"/>
                      </a:lnTo>
                      <a:lnTo>
                        <a:pt x="40" y="71"/>
                      </a:lnTo>
                      <a:lnTo>
                        <a:pt x="28" y="67"/>
                      </a:lnTo>
                      <a:lnTo>
                        <a:pt x="18" y="63"/>
                      </a:lnTo>
                      <a:lnTo>
                        <a:pt x="11" y="59"/>
                      </a:lnTo>
                      <a:lnTo>
                        <a:pt x="5" y="55"/>
                      </a:lnTo>
                      <a:lnTo>
                        <a:pt x="1" y="50"/>
                      </a:lnTo>
                      <a:lnTo>
                        <a:pt x="0" y="46"/>
                      </a:lnTo>
                      <a:lnTo>
                        <a:pt x="1" y="41"/>
                      </a:lnTo>
                      <a:lnTo>
                        <a:pt x="5" y="37"/>
                      </a:lnTo>
                      <a:lnTo>
                        <a:pt x="11" y="32"/>
                      </a:lnTo>
                      <a:lnTo>
                        <a:pt x="18" y="28"/>
                      </a:lnTo>
                      <a:lnTo>
                        <a:pt x="28" y="24"/>
                      </a:lnTo>
                      <a:lnTo>
                        <a:pt x="40" y="21"/>
                      </a:lnTo>
                      <a:lnTo>
                        <a:pt x="52" y="16"/>
                      </a:lnTo>
                      <a:lnTo>
                        <a:pt x="67" y="13"/>
                      </a:lnTo>
                      <a:lnTo>
                        <a:pt x="101" y="8"/>
                      </a:lnTo>
                      <a:lnTo>
                        <a:pt x="140" y="4"/>
                      </a:lnTo>
                      <a:lnTo>
                        <a:pt x="182" y="1"/>
                      </a:lnTo>
                      <a:lnTo>
                        <a:pt x="228" y="0"/>
                      </a:lnTo>
                      <a:lnTo>
                        <a:pt x="274" y="1"/>
                      </a:lnTo>
                      <a:lnTo>
                        <a:pt x="316" y="4"/>
                      </a:lnTo>
                      <a:lnTo>
                        <a:pt x="356" y="8"/>
                      </a:lnTo>
                      <a:lnTo>
                        <a:pt x="389" y="13"/>
                      </a:lnTo>
                      <a:lnTo>
                        <a:pt x="404" y="16"/>
                      </a:lnTo>
                      <a:lnTo>
                        <a:pt x="418" y="21"/>
                      </a:lnTo>
                      <a:lnTo>
                        <a:pt x="428" y="24"/>
                      </a:lnTo>
                      <a:lnTo>
                        <a:pt x="438" y="28"/>
                      </a:lnTo>
                      <a:lnTo>
                        <a:pt x="445" y="32"/>
                      </a:lnTo>
                      <a:lnTo>
                        <a:pt x="452" y="37"/>
                      </a:lnTo>
                      <a:lnTo>
                        <a:pt x="455" y="41"/>
                      </a:lnTo>
                      <a:lnTo>
                        <a:pt x="456" y="46"/>
                      </a:lnTo>
                      <a:close/>
                    </a:path>
                  </a:pathLst>
                </a:custGeom>
                <a:gradFill rotWithShape="0">
                  <a:gsLst>
                    <a:gs pos="0">
                      <a:srgbClr val="000000"/>
                    </a:gs>
                    <a:gs pos="100000">
                      <a:srgbClr val="323232"/>
                    </a:gs>
                  </a:gsLst>
                  <a:lin ang="10800000"/>
                </a:gra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87" name="Group 11"/>
              <p:cNvGrpSpPr/>
              <p:nvPr/>
            </p:nvGrpSpPr>
            <p:grpSpPr>
              <a:xfrm>
                <a:off x="4391640" y="794880"/>
                <a:ext cx="357480" cy="7998120"/>
                <a:chOff x="4391640" y="794880"/>
                <a:chExt cx="357480" cy="7998120"/>
              </a:xfrm>
            </p:grpSpPr>
            <p:sp>
              <p:nvSpPr>
                <p:cNvPr id="1088" name="Freeform 5"/>
                <p:cNvSpPr/>
                <p:nvPr/>
              </p:nvSpPr>
              <p:spPr>
                <a:xfrm>
                  <a:off x="4391640" y="794880"/>
                  <a:ext cx="357480" cy="7963200"/>
                </a:xfrm>
                <a:custGeom>
                  <a:avLst/>
                  <a:gdLst>
                    <a:gd name="textAreaLeft" fmla="*/ 0 w 357480"/>
                    <a:gd name="textAreaRight" fmla="*/ 357480 w 357480"/>
                    <a:gd name="textAreaTop" fmla="*/ 0 h 7963200"/>
                    <a:gd name="textAreaBottom" fmla="*/ 7963560 h 7963200"/>
                  </a:gdLst>
                  <a:ahLst/>
                  <a:rect l="textAreaLeft" t="textAreaTop" r="textAreaRight" b="textAreaBottom"/>
                  <a:pathLst>
                    <a:path w="388" h="8640">
                      <a:moveTo>
                        <a:pt x="0" y="8640"/>
                      </a:moveTo>
                      <a:lnTo>
                        <a:pt x="0" y="8640"/>
                      </a:lnTo>
                      <a:lnTo>
                        <a:pt x="1" y="8637"/>
                      </a:lnTo>
                      <a:lnTo>
                        <a:pt x="5" y="8632"/>
                      </a:lnTo>
                      <a:lnTo>
                        <a:pt x="9" y="8629"/>
                      </a:lnTo>
                      <a:lnTo>
                        <a:pt x="16" y="8625"/>
                      </a:lnTo>
                      <a:lnTo>
                        <a:pt x="24" y="8622"/>
                      </a:lnTo>
                      <a:lnTo>
                        <a:pt x="33" y="8618"/>
                      </a:lnTo>
                      <a:lnTo>
                        <a:pt x="57" y="8613"/>
                      </a:lnTo>
                      <a:lnTo>
                        <a:pt x="86" y="8608"/>
                      </a:lnTo>
                      <a:lnTo>
                        <a:pt x="119" y="8605"/>
                      </a:lnTo>
                      <a:lnTo>
                        <a:pt x="155" y="8602"/>
                      </a:lnTo>
                      <a:lnTo>
                        <a:pt x="195" y="8601"/>
                      </a:lnTo>
                      <a:lnTo>
                        <a:pt x="233" y="8602"/>
                      </a:lnTo>
                      <a:lnTo>
                        <a:pt x="270" y="8605"/>
                      </a:lnTo>
                      <a:lnTo>
                        <a:pt x="302" y="8608"/>
                      </a:lnTo>
                      <a:lnTo>
                        <a:pt x="331" y="8613"/>
                      </a:lnTo>
                      <a:lnTo>
                        <a:pt x="355" y="8618"/>
                      </a:lnTo>
                      <a:lnTo>
                        <a:pt x="365" y="8622"/>
                      </a:lnTo>
                      <a:lnTo>
                        <a:pt x="373" y="8625"/>
                      </a:lnTo>
                      <a:lnTo>
                        <a:pt x="379" y="8629"/>
                      </a:lnTo>
                      <a:lnTo>
                        <a:pt x="385" y="8632"/>
                      </a:lnTo>
                      <a:lnTo>
                        <a:pt x="387" y="8637"/>
                      </a:lnTo>
                      <a:lnTo>
                        <a:pt x="388" y="8640"/>
                      </a:lnTo>
                      <a:lnTo>
                        <a:pt x="388" y="39"/>
                      </a:lnTo>
                      <a:lnTo>
                        <a:pt x="387" y="35"/>
                      </a:lnTo>
                      <a:lnTo>
                        <a:pt x="385" y="31"/>
                      </a:lnTo>
                      <a:lnTo>
                        <a:pt x="379" y="27"/>
                      </a:lnTo>
                      <a:lnTo>
                        <a:pt x="373" y="24"/>
                      </a:lnTo>
                      <a:lnTo>
                        <a:pt x="365" y="21"/>
                      </a:lnTo>
                      <a:lnTo>
                        <a:pt x="355" y="17"/>
                      </a:lnTo>
                      <a:lnTo>
                        <a:pt x="331" y="11"/>
                      </a:lnTo>
                      <a:lnTo>
                        <a:pt x="302" y="7"/>
                      </a:lnTo>
                      <a:lnTo>
                        <a:pt x="270" y="3"/>
                      </a:lnTo>
                      <a:lnTo>
                        <a:pt x="233" y="1"/>
                      </a:lnTo>
                      <a:lnTo>
                        <a:pt x="195" y="0"/>
                      </a:lnTo>
                      <a:lnTo>
                        <a:pt x="155" y="1"/>
                      </a:lnTo>
                      <a:lnTo>
                        <a:pt x="119" y="3"/>
                      </a:lnTo>
                      <a:lnTo>
                        <a:pt x="86" y="7"/>
                      </a:lnTo>
                      <a:lnTo>
                        <a:pt x="57" y="11"/>
                      </a:lnTo>
                      <a:lnTo>
                        <a:pt x="33" y="17"/>
                      </a:lnTo>
                      <a:lnTo>
                        <a:pt x="24" y="21"/>
                      </a:lnTo>
                      <a:lnTo>
                        <a:pt x="16" y="24"/>
                      </a:lnTo>
                      <a:lnTo>
                        <a:pt x="9" y="27"/>
                      </a:lnTo>
                      <a:lnTo>
                        <a:pt x="5" y="31"/>
                      </a:lnTo>
                      <a:lnTo>
                        <a:pt x="1" y="35"/>
                      </a:lnTo>
                      <a:lnTo>
                        <a:pt x="0" y="39"/>
                      </a:lnTo>
                      <a:lnTo>
                        <a:pt x="0" y="8640"/>
                      </a:lnTo>
                      <a:close/>
                    </a:path>
                  </a:pathLst>
                </a:custGeom>
                <a:gradFill rotWithShape="0">
                  <a:gsLst>
                    <a:gs pos="0">
                      <a:srgbClr val="292929"/>
                    </a:gs>
                    <a:gs pos="100000">
                      <a:srgbClr val="41414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5"/>
                <p:cNvSpPr/>
                <p:nvPr/>
              </p:nvSpPr>
              <p:spPr>
                <a:xfrm>
                  <a:off x="4392360" y="8722080"/>
                  <a:ext cx="356040" cy="70920"/>
                </a:xfrm>
                <a:custGeom>
                  <a:avLst/>
                  <a:gdLst>
                    <a:gd name="textAreaLeft" fmla="*/ 0 w 356040"/>
                    <a:gd name="textAreaRight" fmla="*/ 356400 w 356040"/>
                    <a:gd name="textAreaTop" fmla="*/ 0 h 70920"/>
                    <a:gd name="textAreaBottom" fmla="*/ 71280 h 70920"/>
                  </a:gdLst>
                  <a:ahLst/>
                  <a:rect l="textAreaLeft" t="textAreaTop" r="textAreaRight" b="textAreaBottom"/>
                  <a:pathLst>
                    <a:path w="430" h="86">
                      <a:moveTo>
                        <a:pt x="430" y="42"/>
                      </a:moveTo>
                      <a:lnTo>
                        <a:pt x="430" y="42"/>
                      </a:lnTo>
                      <a:lnTo>
                        <a:pt x="429" y="48"/>
                      </a:lnTo>
                      <a:lnTo>
                        <a:pt x="426" y="52"/>
                      </a:lnTo>
                      <a:lnTo>
                        <a:pt x="421" y="55"/>
                      </a:lnTo>
                      <a:lnTo>
                        <a:pt x="413" y="59"/>
                      </a:lnTo>
                      <a:lnTo>
                        <a:pt x="405" y="64"/>
                      </a:lnTo>
                      <a:lnTo>
                        <a:pt x="394" y="67"/>
                      </a:lnTo>
                      <a:lnTo>
                        <a:pt x="367" y="73"/>
                      </a:lnTo>
                      <a:lnTo>
                        <a:pt x="335" y="79"/>
                      </a:lnTo>
                      <a:lnTo>
                        <a:pt x="299" y="83"/>
                      </a:lnTo>
                      <a:lnTo>
                        <a:pt x="259" y="85"/>
                      </a:lnTo>
                      <a:lnTo>
                        <a:pt x="215" y="86"/>
                      </a:lnTo>
                      <a:lnTo>
                        <a:pt x="171" y="85"/>
                      </a:lnTo>
                      <a:lnTo>
                        <a:pt x="131" y="83"/>
                      </a:lnTo>
                      <a:lnTo>
                        <a:pt x="95" y="79"/>
                      </a:lnTo>
                      <a:lnTo>
                        <a:pt x="63" y="73"/>
                      </a:lnTo>
                      <a:lnTo>
                        <a:pt x="37" y="67"/>
                      </a:lnTo>
                      <a:lnTo>
                        <a:pt x="25" y="64"/>
                      </a:lnTo>
                      <a:lnTo>
                        <a:pt x="17" y="59"/>
                      </a:lnTo>
                      <a:lnTo>
                        <a:pt x="9" y="55"/>
                      </a:lnTo>
                      <a:lnTo>
                        <a:pt x="4" y="52"/>
                      </a:lnTo>
                      <a:lnTo>
                        <a:pt x="1" y="48"/>
                      </a:lnTo>
                      <a:lnTo>
                        <a:pt x="0" y="42"/>
                      </a:lnTo>
                      <a:lnTo>
                        <a:pt x="1" y="38"/>
                      </a:lnTo>
                      <a:lnTo>
                        <a:pt x="4" y="34"/>
                      </a:lnTo>
                      <a:lnTo>
                        <a:pt x="9" y="30"/>
                      </a:lnTo>
                      <a:lnTo>
                        <a:pt x="17" y="26"/>
                      </a:lnTo>
                      <a:lnTo>
                        <a:pt x="25" y="22"/>
                      </a:lnTo>
                      <a:lnTo>
                        <a:pt x="37" y="19"/>
                      </a:lnTo>
                      <a:lnTo>
                        <a:pt x="63" y="13"/>
                      </a:lnTo>
                      <a:lnTo>
                        <a:pt x="95" y="7"/>
                      </a:lnTo>
                      <a:lnTo>
                        <a:pt x="131" y="3"/>
                      </a:lnTo>
                      <a:lnTo>
                        <a:pt x="171" y="1"/>
                      </a:lnTo>
                      <a:lnTo>
                        <a:pt x="215" y="0"/>
                      </a:lnTo>
                      <a:lnTo>
                        <a:pt x="259" y="1"/>
                      </a:lnTo>
                      <a:lnTo>
                        <a:pt x="299" y="3"/>
                      </a:lnTo>
                      <a:lnTo>
                        <a:pt x="335" y="7"/>
                      </a:lnTo>
                      <a:lnTo>
                        <a:pt x="367" y="13"/>
                      </a:lnTo>
                      <a:lnTo>
                        <a:pt x="394" y="19"/>
                      </a:lnTo>
                      <a:lnTo>
                        <a:pt x="405" y="22"/>
                      </a:lnTo>
                      <a:lnTo>
                        <a:pt x="413" y="26"/>
                      </a:lnTo>
                      <a:lnTo>
                        <a:pt x="421" y="30"/>
                      </a:lnTo>
                      <a:lnTo>
                        <a:pt x="426" y="34"/>
                      </a:lnTo>
                      <a:lnTo>
                        <a:pt x="429" y="38"/>
                      </a:lnTo>
                      <a:lnTo>
                        <a:pt x="430" y="42"/>
                      </a:lnTo>
                      <a:close/>
                    </a:path>
                  </a:pathLst>
                </a:custGeom>
                <a:gradFill rotWithShape="0">
                  <a:gsLst>
                    <a:gs pos="0">
                      <a:srgbClr val="000000"/>
                    </a:gs>
                    <a:gs pos="100000">
                      <a:srgbClr val="323232"/>
                    </a:gs>
                  </a:gsLst>
                  <a:lin ang="10800000"/>
                </a:gra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sp>
          <p:nvSpPr>
            <p:cNvPr id="1090" name="Rectangle 28"/>
            <p:cNvSpPr/>
            <p:nvPr/>
          </p:nvSpPr>
          <p:spPr>
            <a:xfrm>
              <a:off x="4394160" y="5765760"/>
              <a:ext cx="355320" cy="228600"/>
            </a:xfrm>
            <a:prstGeom prst="rect">
              <a:avLst/>
            </a:prstGeom>
            <a:gradFill rotWithShape="0">
              <a:gsLst>
                <a:gs pos="0">
                  <a:srgbClr val="000000">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1" name="Group 15"/>
            <p:cNvGrpSpPr/>
            <p:nvPr/>
          </p:nvGrpSpPr>
          <p:grpSpPr>
            <a:xfrm>
              <a:off x="2127240" y="914040"/>
              <a:ext cx="4889520" cy="4876560"/>
              <a:chOff x="2127240" y="914040"/>
              <a:chExt cx="4889520" cy="4876560"/>
            </a:xfrm>
          </p:grpSpPr>
          <p:sp>
            <p:nvSpPr>
              <p:cNvPr id="1092" name="Freeform 5"/>
              <p:cNvSpPr/>
              <p:nvPr/>
            </p:nvSpPr>
            <p:spPr>
              <a:xfrm>
                <a:off x="2127240" y="914040"/>
                <a:ext cx="4889520" cy="4876560"/>
              </a:xfrm>
              <a:custGeom>
                <a:avLst/>
                <a:gdLst>
                  <a:gd name="textAreaLeft" fmla="*/ 0 w 4889520"/>
                  <a:gd name="textAreaRight" fmla="*/ 4889880 w 4889520"/>
                  <a:gd name="textAreaTop" fmla="*/ 0 h 4876560"/>
                  <a:gd name="textAreaBottom" fmla="*/ 4876920 h 4876560"/>
                </a:gdLst>
                <a:ahLst/>
                <a:rect l="textAreaLeft" t="textAreaTop" r="textAreaRight" b="textAreaBottom"/>
                <a:pathLst>
                  <a:path w="8660" h="8640">
                    <a:moveTo>
                      <a:pt x="8660" y="8195"/>
                    </a:moveTo>
                    <a:lnTo>
                      <a:pt x="8660" y="8195"/>
                    </a:lnTo>
                    <a:lnTo>
                      <a:pt x="8658" y="8217"/>
                    </a:lnTo>
                    <a:lnTo>
                      <a:pt x="8657" y="8240"/>
                    </a:lnTo>
                    <a:lnTo>
                      <a:pt x="8655" y="8262"/>
                    </a:lnTo>
                    <a:lnTo>
                      <a:pt x="8650" y="8285"/>
                    </a:lnTo>
                    <a:lnTo>
                      <a:pt x="8645" y="8307"/>
                    </a:lnTo>
                    <a:lnTo>
                      <a:pt x="8640" y="8326"/>
                    </a:lnTo>
                    <a:lnTo>
                      <a:pt x="8633" y="8348"/>
                    </a:lnTo>
                    <a:lnTo>
                      <a:pt x="8625" y="8368"/>
                    </a:lnTo>
                    <a:lnTo>
                      <a:pt x="8615" y="8388"/>
                    </a:lnTo>
                    <a:lnTo>
                      <a:pt x="8607" y="8406"/>
                    </a:lnTo>
                    <a:lnTo>
                      <a:pt x="8595" y="8426"/>
                    </a:lnTo>
                    <a:lnTo>
                      <a:pt x="8584" y="8444"/>
                    </a:lnTo>
                    <a:lnTo>
                      <a:pt x="8572" y="8461"/>
                    </a:lnTo>
                    <a:lnTo>
                      <a:pt x="8559" y="8477"/>
                    </a:lnTo>
                    <a:lnTo>
                      <a:pt x="8544" y="8494"/>
                    </a:lnTo>
                    <a:lnTo>
                      <a:pt x="8529" y="8509"/>
                    </a:lnTo>
                    <a:lnTo>
                      <a:pt x="8514" y="8524"/>
                    </a:lnTo>
                    <a:lnTo>
                      <a:pt x="8497" y="8539"/>
                    </a:lnTo>
                    <a:lnTo>
                      <a:pt x="8481" y="8552"/>
                    </a:lnTo>
                    <a:lnTo>
                      <a:pt x="8464" y="8564"/>
                    </a:lnTo>
                    <a:lnTo>
                      <a:pt x="8446" y="8575"/>
                    </a:lnTo>
                    <a:lnTo>
                      <a:pt x="8428" y="8585"/>
                    </a:lnTo>
                    <a:lnTo>
                      <a:pt x="8408" y="8595"/>
                    </a:lnTo>
                    <a:lnTo>
                      <a:pt x="8388" y="8605"/>
                    </a:lnTo>
                    <a:lnTo>
                      <a:pt x="8368" y="8613"/>
                    </a:lnTo>
                    <a:lnTo>
                      <a:pt x="8348" y="8620"/>
                    </a:lnTo>
                    <a:lnTo>
                      <a:pt x="8326" y="8625"/>
                    </a:lnTo>
                    <a:lnTo>
                      <a:pt x="8305" y="8630"/>
                    </a:lnTo>
                    <a:lnTo>
                      <a:pt x="8283" y="8635"/>
                    </a:lnTo>
                    <a:lnTo>
                      <a:pt x="8262" y="8637"/>
                    </a:lnTo>
                    <a:lnTo>
                      <a:pt x="8239" y="8638"/>
                    </a:lnTo>
                    <a:lnTo>
                      <a:pt x="8215" y="8640"/>
                    </a:lnTo>
                    <a:lnTo>
                      <a:pt x="445" y="8640"/>
                    </a:lnTo>
                    <a:lnTo>
                      <a:pt x="421" y="8638"/>
                    </a:lnTo>
                    <a:lnTo>
                      <a:pt x="398" y="8637"/>
                    </a:lnTo>
                    <a:lnTo>
                      <a:pt x="377" y="8635"/>
                    </a:lnTo>
                    <a:lnTo>
                      <a:pt x="355" y="8630"/>
                    </a:lnTo>
                    <a:lnTo>
                      <a:pt x="334" y="8625"/>
                    </a:lnTo>
                    <a:lnTo>
                      <a:pt x="312" y="8620"/>
                    </a:lnTo>
                    <a:lnTo>
                      <a:pt x="292" y="8613"/>
                    </a:lnTo>
                    <a:lnTo>
                      <a:pt x="270" y="8605"/>
                    </a:lnTo>
                    <a:lnTo>
                      <a:pt x="252" y="8595"/>
                    </a:lnTo>
                    <a:lnTo>
                      <a:pt x="232" y="8585"/>
                    </a:lnTo>
                    <a:lnTo>
                      <a:pt x="214" y="8575"/>
                    </a:lnTo>
                    <a:lnTo>
                      <a:pt x="196" y="8564"/>
                    </a:lnTo>
                    <a:lnTo>
                      <a:pt x="178" y="8552"/>
                    </a:lnTo>
                    <a:lnTo>
                      <a:pt x="161" y="8539"/>
                    </a:lnTo>
                    <a:lnTo>
                      <a:pt x="146" y="8524"/>
                    </a:lnTo>
                    <a:lnTo>
                      <a:pt x="129" y="8509"/>
                    </a:lnTo>
                    <a:lnTo>
                      <a:pt x="114" y="8494"/>
                    </a:lnTo>
                    <a:lnTo>
                      <a:pt x="101" y="8477"/>
                    </a:lnTo>
                    <a:lnTo>
                      <a:pt x="88" y="8461"/>
                    </a:lnTo>
                    <a:lnTo>
                      <a:pt x="76" y="8444"/>
                    </a:lnTo>
                    <a:lnTo>
                      <a:pt x="65" y="8426"/>
                    </a:lnTo>
                    <a:lnTo>
                      <a:pt x="53" y="8406"/>
                    </a:lnTo>
                    <a:lnTo>
                      <a:pt x="43" y="8388"/>
                    </a:lnTo>
                    <a:lnTo>
                      <a:pt x="35" y="8368"/>
                    </a:lnTo>
                    <a:lnTo>
                      <a:pt x="27" y="8348"/>
                    </a:lnTo>
                    <a:lnTo>
                      <a:pt x="20" y="8326"/>
                    </a:lnTo>
                    <a:lnTo>
                      <a:pt x="13" y="8307"/>
                    </a:lnTo>
                    <a:lnTo>
                      <a:pt x="8" y="8285"/>
                    </a:lnTo>
                    <a:lnTo>
                      <a:pt x="5" y="8262"/>
                    </a:lnTo>
                    <a:lnTo>
                      <a:pt x="2" y="8240"/>
                    </a:lnTo>
                    <a:lnTo>
                      <a:pt x="0" y="8217"/>
                    </a:lnTo>
                    <a:lnTo>
                      <a:pt x="0" y="8195"/>
                    </a:lnTo>
                    <a:lnTo>
                      <a:pt x="0" y="445"/>
                    </a:lnTo>
                    <a:lnTo>
                      <a:pt x="0" y="421"/>
                    </a:lnTo>
                    <a:lnTo>
                      <a:pt x="2" y="400"/>
                    </a:lnTo>
                    <a:lnTo>
                      <a:pt x="5" y="377"/>
                    </a:lnTo>
                    <a:lnTo>
                      <a:pt x="8" y="355"/>
                    </a:lnTo>
                    <a:lnTo>
                      <a:pt x="13" y="333"/>
                    </a:lnTo>
                    <a:lnTo>
                      <a:pt x="20" y="312"/>
                    </a:lnTo>
                    <a:lnTo>
                      <a:pt x="27" y="292"/>
                    </a:lnTo>
                    <a:lnTo>
                      <a:pt x="35" y="272"/>
                    </a:lnTo>
                    <a:lnTo>
                      <a:pt x="43" y="252"/>
                    </a:lnTo>
                    <a:lnTo>
                      <a:pt x="53" y="232"/>
                    </a:lnTo>
                    <a:lnTo>
                      <a:pt x="65" y="214"/>
                    </a:lnTo>
                    <a:lnTo>
                      <a:pt x="76" y="196"/>
                    </a:lnTo>
                    <a:lnTo>
                      <a:pt x="88" y="179"/>
                    </a:lnTo>
                    <a:lnTo>
                      <a:pt x="101" y="163"/>
                    </a:lnTo>
                    <a:lnTo>
                      <a:pt x="114" y="146"/>
                    </a:lnTo>
                    <a:lnTo>
                      <a:pt x="129" y="131"/>
                    </a:lnTo>
                    <a:lnTo>
                      <a:pt x="146" y="116"/>
                    </a:lnTo>
                    <a:lnTo>
                      <a:pt x="161" y="101"/>
                    </a:lnTo>
                    <a:lnTo>
                      <a:pt x="178" y="88"/>
                    </a:lnTo>
                    <a:lnTo>
                      <a:pt x="196" y="76"/>
                    </a:lnTo>
                    <a:lnTo>
                      <a:pt x="214" y="65"/>
                    </a:lnTo>
                    <a:lnTo>
                      <a:pt x="232" y="53"/>
                    </a:lnTo>
                    <a:lnTo>
                      <a:pt x="252" y="43"/>
                    </a:lnTo>
                    <a:lnTo>
                      <a:pt x="270" y="35"/>
                    </a:lnTo>
                    <a:lnTo>
                      <a:pt x="292" y="27"/>
                    </a:lnTo>
                    <a:lnTo>
                      <a:pt x="312" y="20"/>
                    </a:lnTo>
                    <a:lnTo>
                      <a:pt x="334" y="13"/>
                    </a:lnTo>
                    <a:lnTo>
                      <a:pt x="355" y="8"/>
                    </a:lnTo>
                    <a:lnTo>
                      <a:pt x="377" y="5"/>
                    </a:lnTo>
                    <a:lnTo>
                      <a:pt x="398" y="2"/>
                    </a:lnTo>
                    <a:lnTo>
                      <a:pt x="421" y="0"/>
                    </a:lnTo>
                    <a:lnTo>
                      <a:pt x="445" y="0"/>
                    </a:lnTo>
                    <a:lnTo>
                      <a:pt x="8215" y="0"/>
                    </a:lnTo>
                    <a:lnTo>
                      <a:pt x="8239" y="0"/>
                    </a:lnTo>
                    <a:lnTo>
                      <a:pt x="8262" y="2"/>
                    </a:lnTo>
                    <a:lnTo>
                      <a:pt x="8283" y="5"/>
                    </a:lnTo>
                    <a:lnTo>
                      <a:pt x="8305" y="8"/>
                    </a:lnTo>
                    <a:lnTo>
                      <a:pt x="8326" y="13"/>
                    </a:lnTo>
                    <a:lnTo>
                      <a:pt x="8348" y="20"/>
                    </a:lnTo>
                    <a:lnTo>
                      <a:pt x="8368" y="27"/>
                    </a:lnTo>
                    <a:lnTo>
                      <a:pt x="8388" y="35"/>
                    </a:lnTo>
                    <a:lnTo>
                      <a:pt x="8408" y="43"/>
                    </a:lnTo>
                    <a:lnTo>
                      <a:pt x="8428" y="53"/>
                    </a:lnTo>
                    <a:lnTo>
                      <a:pt x="8446" y="65"/>
                    </a:lnTo>
                    <a:lnTo>
                      <a:pt x="8464" y="76"/>
                    </a:lnTo>
                    <a:lnTo>
                      <a:pt x="8481" y="88"/>
                    </a:lnTo>
                    <a:lnTo>
                      <a:pt x="8497" y="101"/>
                    </a:lnTo>
                    <a:lnTo>
                      <a:pt x="8514" y="116"/>
                    </a:lnTo>
                    <a:lnTo>
                      <a:pt x="8529" y="131"/>
                    </a:lnTo>
                    <a:lnTo>
                      <a:pt x="8544" y="146"/>
                    </a:lnTo>
                    <a:lnTo>
                      <a:pt x="8559" y="163"/>
                    </a:lnTo>
                    <a:lnTo>
                      <a:pt x="8572" y="179"/>
                    </a:lnTo>
                    <a:lnTo>
                      <a:pt x="8584" y="196"/>
                    </a:lnTo>
                    <a:lnTo>
                      <a:pt x="8595" y="214"/>
                    </a:lnTo>
                    <a:lnTo>
                      <a:pt x="8607" y="232"/>
                    </a:lnTo>
                    <a:lnTo>
                      <a:pt x="8615" y="252"/>
                    </a:lnTo>
                    <a:lnTo>
                      <a:pt x="8625" y="272"/>
                    </a:lnTo>
                    <a:lnTo>
                      <a:pt x="8633" y="292"/>
                    </a:lnTo>
                    <a:lnTo>
                      <a:pt x="8640" y="312"/>
                    </a:lnTo>
                    <a:lnTo>
                      <a:pt x="8645" y="333"/>
                    </a:lnTo>
                    <a:lnTo>
                      <a:pt x="8650" y="355"/>
                    </a:lnTo>
                    <a:lnTo>
                      <a:pt x="8655" y="377"/>
                    </a:lnTo>
                    <a:lnTo>
                      <a:pt x="8657" y="400"/>
                    </a:lnTo>
                    <a:lnTo>
                      <a:pt x="8658" y="421"/>
                    </a:lnTo>
                    <a:lnTo>
                      <a:pt x="8660" y="445"/>
                    </a:lnTo>
                    <a:lnTo>
                      <a:pt x="8660" y="8195"/>
                    </a:lnTo>
                    <a:close/>
                  </a:path>
                </a:pathLst>
              </a:custGeom>
              <a:gradFill rotWithShape="0">
                <a:gsLst>
                  <a:gs pos="0">
                    <a:srgbClr val="dbdbdb"/>
                  </a:gs>
                  <a:gs pos="100000">
                    <a:srgbClr val="f8f8f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6"/>
              <p:cNvSpPr/>
              <p:nvPr/>
            </p:nvSpPr>
            <p:spPr>
              <a:xfrm>
                <a:off x="2386800" y="1163520"/>
                <a:ext cx="4370400" cy="4367520"/>
              </a:xfrm>
              <a:custGeom>
                <a:avLst/>
                <a:gdLst>
                  <a:gd name="textAreaLeft" fmla="*/ 0 w 4370400"/>
                  <a:gd name="textAreaRight" fmla="*/ 4370760 w 4370400"/>
                  <a:gd name="textAreaTop" fmla="*/ 0 h 4367520"/>
                  <a:gd name="textAreaBottom" fmla="*/ 4367880 h 4367520"/>
                </a:gdLst>
                <a:ahLst/>
                <a:rect l="textAreaLeft" t="textAreaTop" r="textAreaRight" b="textAreaBottom"/>
                <a:pathLst>
                  <a:path w="7740" h="7739">
                    <a:moveTo>
                      <a:pt x="7740" y="3869"/>
                    </a:moveTo>
                    <a:lnTo>
                      <a:pt x="7740" y="3869"/>
                    </a:lnTo>
                    <a:lnTo>
                      <a:pt x="7739" y="3970"/>
                    </a:lnTo>
                    <a:lnTo>
                      <a:pt x="7735" y="4068"/>
                    </a:lnTo>
                    <a:lnTo>
                      <a:pt x="7729" y="4168"/>
                    </a:lnTo>
                    <a:lnTo>
                      <a:pt x="7720" y="4266"/>
                    </a:lnTo>
                    <a:lnTo>
                      <a:pt x="7709" y="4362"/>
                    </a:lnTo>
                    <a:lnTo>
                      <a:pt x="7696" y="4460"/>
                    </a:lnTo>
                    <a:lnTo>
                      <a:pt x="7679" y="4554"/>
                    </a:lnTo>
                    <a:lnTo>
                      <a:pt x="7661" y="4649"/>
                    </a:lnTo>
                    <a:lnTo>
                      <a:pt x="7641" y="4743"/>
                    </a:lnTo>
                    <a:lnTo>
                      <a:pt x="7618" y="4836"/>
                    </a:lnTo>
                    <a:lnTo>
                      <a:pt x="7593" y="4929"/>
                    </a:lnTo>
                    <a:lnTo>
                      <a:pt x="7566" y="5020"/>
                    </a:lnTo>
                    <a:lnTo>
                      <a:pt x="7536" y="5110"/>
                    </a:lnTo>
                    <a:lnTo>
                      <a:pt x="7505" y="5200"/>
                    </a:lnTo>
                    <a:lnTo>
                      <a:pt x="7472" y="5289"/>
                    </a:lnTo>
                    <a:lnTo>
                      <a:pt x="7437" y="5375"/>
                    </a:lnTo>
                    <a:lnTo>
                      <a:pt x="7399" y="5462"/>
                    </a:lnTo>
                    <a:lnTo>
                      <a:pt x="7359" y="5548"/>
                    </a:lnTo>
                    <a:lnTo>
                      <a:pt x="7317" y="5631"/>
                    </a:lnTo>
                    <a:lnTo>
                      <a:pt x="7272" y="5714"/>
                    </a:lnTo>
                    <a:lnTo>
                      <a:pt x="7228" y="5795"/>
                    </a:lnTo>
                    <a:lnTo>
                      <a:pt x="7180" y="5876"/>
                    </a:lnTo>
                    <a:lnTo>
                      <a:pt x="7130" y="5956"/>
                    </a:lnTo>
                    <a:lnTo>
                      <a:pt x="7078" y="6032"/>
                    </a:lnTo>
                    <a:lnTo>
                      <a:pt x="7025" y="6110"/>
                    </a:lnTo>
                    <a:lnTo>
                      <a:pt x="6970" y="6185"/>
                    </a:lnTo>
                    <a:lnTo>
                      <a:pt x="6914" y="6258"/>
                    </a:lnTo>
                    <a:lnTo>
                      <a:pt x="6856" y="6331"/>
                    </a:lnTo>
                    <a:lnTo>
                      <a:pt x="6796" y="6402"/>
                    </a:lnTo>
                    <a:lnTo>
                      <a:pt x="6735" y="6472"/>
                    </a:lnTo>
                    <a:lnTo>
                      <a:pt x="6672" y="6540"/>
                    </a:lnTo>
                    <a:lnTo>
                      <a:pt x="6607" y="6606"/>
                    </a:lnTo>
                    <a:lnTo>
                      <a:pt x="6541" y="6671"/>
                    </a:lnTo>
                    <a:lnTo>
                      <a:pt x="6473" y="6734"/>
                    </a:lnTo>
                    <a:lnTo>
                      <a:pt x="6403" y="6795"/>
                    </a:lnTo>
                    <a:lnTo>
                      <a:pt x="6332" y="6855"/>
                    </a:lnTo>
                    <a:lnTo>
                      <a:pt x="6259" y="6913"/>
                    </a:lnTo>
                    <a:lnTo>
                      <a:pt x="6186" y="6970"/>
                    </a:lnTo>
                    <a:lnTo>
                      <a:pt x="6111" y="7024"/>
                    </a:lnTo>
                    <a:lnTo>
                      <a:pt x="6033" y="7078"/>
                    </a:lnTo>
                    <a:lnTo>
                      <a:pt x="5957" y="7129"/>
                    </a:lnTo>
                    <a:lnTo>
                      <a:pt x="5877" y="7179"/>
                    </a:lnTo>
                    <a:lnTo>
                      <a:pt x="5796" y="7227"/>
                    </a:lnTo>
                    <a:lnTo>
                      <a:pt x="5714" y="7272"/>
                    </a:lnTo>
                    <a:lnTo>
                      <a:pt x="5631" y="7316"/>
                    </a:lnTo>
                    <a:lnTo>
                      <a:pt x="5548" y="7358"/>
                    </a:lnTo>
                    <a:lnTo>
                      <a:pt x="5462" y="7398"/>
                    </a:lnTo>
                    <a:lnTo>
                      <a:pt x="5376" y="7436"/>
                    </a:lnTo>
                    <a:lnTo>
                      <a:pt x="5290" y="7471"/>
                    </a:lnTo>
                    <a:lnTo>
                      <a:pt x="5200" y="7504"/>
                    </a:lnTo>
                    <a:lnTo>
                      <a:pt x="5110" y="7535"/>
                    </a:lnTo>
                    <a:lnTo>
                      <a:pt x="5021" y="7565"/>
                    </a:lnTo>
                    <a:lnTo>
                      <a:pt x="4929" y="7592"/>
                    </a:lnTo>
                    <a:lnTo>
                      <a:pt x="4837" y="7617"/>
                    </a:lnTo>
                    <a:lnTo>
                      <a:pt x="4744" y="7640"/>
                    </a:lnTo>
                    <a:lnTo>
                      <a:pt x="4649" y="7660"/>
                    </a:lnTo>
                    <a:lnTo>
                      <a:pt x="4554" y="7678"/>
                    </a:lnTo>
                    <a:lnTo>
                      <a:pt x="4460" y="7695"/>
                    </a:lnTo>
                    <a:lnTo>
                      <a:pt x="4362" y="7708"/>
                    </a:lnTo>
                    <a:lnTo>
                      <a:pt x="4266" y="7720"/>
                    </a:lnTo>
                    <a:lnTo>
                      <a:pt x="4168" y="7728"/>
                    </a:lnTo>
                    <a:lnTo>
                      <a:pt x="4068" y="7734"/>
                    </a:lnTo>
                    <a:lnTo>
                      <a:pt x="3970" y="7738"/>
                    </a:lnTo>
                    <a:lnTo>
                      <a:pt x="3869" y="7739"/>
                    </a:lnTo>
                    <a:lnTo>
                      <a:pt x="3770" y="7738"/>
                    </a:lnTo>
                    <a:lnTo>
                      <a:pt x="3670" y="7734"/>
                    </a:lnTo>
                    <a:lnTo>
                      <a:pt x="3572" y="7728"/>
                    </a:lnTo>
                    <a:lnTo>
                      <a:pt x="3474" y="7720"/>
                    </a:lnTo>
                    <a:lnTo>
                      <a:pt x="3376" y="7708"/>
                    </a:lnTo>
                    <a:lnTo>
                      <a:pt x="3280" y="7695"/>
                    </a:lnTo>
                    <a:lnTo>
                      <a:pt x="3186" y="7678"/>
                    </a:lnTo>
                    <a:lnTo>
                      <a:pt x="3089" y="7660"/>
                    </a:lnTo>
                    <a:lnTo>
                      <a:pt x="2996" y="7640"/>
                    </a:lnTo>
                    <a:lnTo>
                      <a:pt x="2902" y="7617"/>
                    </a:lnTo>
                    <a:lnTo>
                      <a:pt x="2811" y="7592"/>
                    </a:lnTo>
                    <a:lnTo>
                      <a:pt x="2719" y="7565"/>
                    </a:lnTo>
                    <a:lnTo>
                      <a:pt x="2628" y="7535"/>
                    </a:lnTo>
                    <a:lnTo>
                      <a:pt x="2538" y="7504"/>
                    </a:lnTo>
                    <a:lnTo>
                      <a:pt x="2450" y="7471"/>
                    </a:lnTo>
                    <a:lnTo>
                      <a:pt x="2364" y="7436"/>
                    </a:lnTo>
                    <a:lnTo>
                      <a:pt x="2278" y="7398"/>
                    </a:lnTo>
                    <a:lnTo>
                      <a:pt x="2192" y="7358"/>
                    </a:lnTo>
                    <a:lnTo>
                      <a:pt x="2109" y="7316"/>
                    </a:lnTo>
                    <a:lnTo>
                      <a:pt x="2026" y="7272"/>
                    </a:lnTo>
                    <a:lnTo>
                      <a:pt x="1943" y="7227"/>
                    </a:lnTo>
                    <a:lnTo>
                      <a:pt x="1863" y="7179"/>
                    </a:lnTo>
                    <a:lnTo>
                      <a:pt x="1783" y="7129"/>
                    </a:lnTo>
                    <a:lnTo>
                      <a:pt x="1705" y="7078"/>
                    </a:lnTo>
                    <a:lnTo>
                      <a:pt x="1629" y="7024"/>
                    </a:lnTo>
                    <a:lnTo>
                      <a:pt x="1554" y="6970"/>
                    </a:lnTo>
                    <a:lnTo>
                      <a:pt x="1480" y="6913"/>
                    </a:lnTo>
                    <a:lnTo>
                      <a:pt x="1408" y="6855"/>
                    </a:lnTo>
                    <a:lnTo>
                      <a:pt x="1337" y="6795"/>
                    </a:lnTo>
                    <a:lnTo>
                      <a:pt x="1267" y="6734"/>
                    </a:lnTo>
                    <a:lnTo>
                      <a:pt x="1199" y="6671"/>
                    </a:lnTo>
                    <a:lnTo>
                      <a:pt x="1133" y="6606"/>
                    </a:lnTo>
                    <a:lnTo>
                      <a:pt x="1068" y="6540"/>
                    </a:lnTo>
                    <a:lnTo>
                      <a:pt x="1005" y="6472"/>
                    </a:lnTo>
                    <a:lnTo>
                      <a:pt x="944" y="6402"/>
                    </a:lnTo>
                    <a:lnTo>
                      <a:pt x="884" y="6331"/>
                    </a:lnTo>
                    <a:lnTo>
                      <a:pt x="824" y="6258"/>
                    </a:lnTo>
                    <a:lnTo>
                      <a:pt x="768" y="6185"/>
                    </a:lnTo>
                    <a:lnTo>
                      <a:pt x="713" y="6110"/>
                    </a:lnTo>
                    <a:lnTo>
                      <a:pt x="660" y="6032"/>
                    </a:lnTo>
                    <a:lnTo>
                      <a:pt x="609" y="5956"/>
                    </a:lnTo>
                    <a:lnTo>
                      <a:pt x="560" y="5876"/>
                    </a:lnTo>
                    <a:lnTo>
                      <a:pt x="512" y="5795"/>
                    </a:lnTo>
                    <a:lnTo>
                      <a:pt x="466" y="5714"/>
                    </a:lnTo>
                    <a:lnTo>
                      <a:pt x="423" y="5631"/>
                    </a:lnTo>
                    <a:lnTo>
                      <a:pt x="381" y="5548"/>
                    </a:lnTo>
                    <a:lnTo>
                      <a:pt x="341" y="5462"/>
                    </a:lnTo>
                    <a:lnTo>
                      <a:pt x="303" y="5375"/>
                    </a:lnTo>
                    <a:lnTo>
                      <a:pt x="268" y="5289"/>
                    </a:lnTo>
                    <a:lnTo>
                      <a:pt x="234" y="5200"/>
                    </a:lnTo>
                    <a:lnTo>
                      <a:pt x="204" y="5110"/>
                    </a:lnTo>
                    <a:lnTo>
                      <a:pt x="174" y="5020"/>
                    </a:lnTo>
                    <a:lnTo>
                      <a:pt x="146" y="4929"/>
                    </a:lnTo>
                    <a:lnTo>
                      <a:pt x="121" y="4836"/>
                    </a:lnTo>
                    <a:lnTo>
                      <a:pt x="99" y="4743"/>
                    </a:lnTo>
                    <a:lnTo>
                      <a:pt x="78" y="4649"/>
                    </a:lnTo>
                    <a:lnTo>
                      <a:pt x="59" y="4554"/>
                    </a:lnTo>
                    <a:lnTo>
                      <a:pt x="44" y="4460"/>
                    </a:lnTo>
                    <a:lnTo>
                      <a:pt x="31" y="4362"/>
                    </a:lnTo>
                    <a:lnTo>
                      <a:pt x="20" y="4266"/>
                    </a:lnTo>
                    <a:lnTo>
                      <a:pt x="11" y="4168"/>
                    </a:lnTo>
                    <a:lnTo>
                      <a:pt x="5" y="4068"/>
                    </a:lnTo>
                    <a:lnTo>
                      <a:pt x="1" y="3970"/>
                    </a:lnTo>
                    <a:lnTo>
                      <a:pt x="0" y="3869"/>
                    </a:lnTo>
                    <a:lnTo>
                      <a:pt x="1" y="3770"/>
                    </a:lnTo>
                    <a:lnTo>
                      <a:pt x="5" y="3670"/>
                    </a:lnTo>
                    <a:lnTo>
                      <a:pt x="11" y="3572"/>
                    </a:lnTo>
                    <a:lnTo>
                      <a:pt x="20" y="3474"/>
                    </a:lnTo>
                    <a:lnTo>
                      <a:pt x="31" y="3376"/>
                    </a:lnTo>
                    <a:lnTo>
                      <a:pt x="44" y="3280"/>
                    </a:lnTo>
                    <a:lnTo>
                      <a:pt x="59" y="3184"/>
                    </a:lnTo>
                    <a:lnTo>
                      <a:pt x="78" y="3089"/>
                    </a:lnTo>
                    <a:lnTo>
                      <a:pt x="99" y="2996"/>
                    </a:lnTo>
                    <a:lnTo>
                      <a:pt x="121" y="2902"/>
                    </a:lnTo>
                    <a:lnTo>
                      <a:pt x="146" y="2811"/>
                    </a:lnTo>
                    <a:lnTo>
                      <a:pt x="174" y="2719"/>
                    </a:lnTo>
                    <a:lnTo>
                      <a:pt x="204" y="2628"/>
                    </a:lnTo>
                    <a:lnTo>
                      <a:pt x="234" y="2539"/>
                    </a:lnTo>
                    <a:lnTo>
                      <a:pt x="268" y="2451"/>
                    </a:lnTo>
                    <a:lnTo>
                      <a:pt x="303" y="2363"/>
                    </a:lnTo>
                    <a:lnTo>
                      <a:pt x="341" y="2278"/>
                    </a:lnTo>
                    <a:lnTo>
                      <a:pt x="381" y="2192"/>
                    </a:lnTo>
                    <a:lnTo>
                      <a:pt x="423" y="2109"/>
                    </a:lnTo>
                    <a:lnTo>
                      <a:pt x="466" y="2026"/>
                    </a:lnTo>
                    <a:lnTo>
                      <a:pt x="512" y="1943"/>
                    </a:lnTo>
                    <a:lnTo>
                      <a:pt x="560" y="1863"/>
                    </a:lnTo>
                    <a:lnTo>
                      <a:pt x="609" y="1784"/>
                    </a:lnTo>
                    <a:lnTo>
                      <a:pt x="660" y="1706"/>
                    </a:lnTo>
                    <a:lnTo>
                      <a:pt x="713" y="1629"/>
                    </a:lnTo>
                    <a:lnTo>
                      <a:pt x="768" y="1555"/>
                    </a:lnTo>
                    <a:lnTo>
                      <a:pt x="824" y="1480"/>
                    </a:lnTo>
                    <a:lnTo>
                      <a:pt x="884" y="1409"/>
                    </a:lnTo>
                    <a:lnTo>
                      <a:pt x="944" y="1337"/>
                    </a:lnTo>
                    <a:lnTo>
                      <a:pt x="1005" y="1268"/>
                    </a:lnTo>
                    <a:lnTo>
                      <a:pt x="1068" y="1200"/>
                    </a:lnTo>
                    <a:lnTo>
                      <a:pt x="1133" y="1133"/>
                    </a:lnTo>
                    <a:lnTo>
                      <a:pt x="1199" y="1069"/>
                    </a:lnTo>
                    <a:lnTo>
                      <a:pt x="1267" y="1006"/>
                    </a:lnTo>
                    <a:lnTo>
                      <a:pt x="1337" y="944"/>
                    </a:lnTo>
                    <a:lnTo>
                      <a:pt x="1408" y="885"/>
                    </a:lnTo>
                    <a:lnTo>
                      <a:pt x="1480" y="825"/>
                    </a:lnTo>
                    <a:lnTo>
                      <a:pt x="1554" y="768"/>
                    </a:lnTo>
                    <a:lnTo>
                      <a:pt x="1629" y="714"/>
                    </a:lnTo>
                    <a:lnTo>
                      <a:pt x="1705" y="661"/>
                    </a:lnTo>
                    <a:lnTo>
                      <a:pt x="1783" y="609"/>
                    </a:lnTo>
                    <a:lnTo>
                      <a:pt x="1863" y="561"/>
                    </a:lnTo>
                    <a:lnTo>
                      <a:pt x="1943" y="513"/>
                    </a:lnTo>
                    <a:lnTo>
                      <a:pt x="2026" y="466"/>
                    </a:lnTo>
                    <a:lnTo>
                      <a:pt x="2109" y="423"/>
                    </a:lnTo>
                    <a:lnTo>
                      <a:pt x="2192" y="382"/>
                    </a:lnTo>
                    <a:lnTo>
                      <a:pt x="2278" y="342"/>
                    </a:lnTo>
                    <a:lnTo>
                      <a:pt x="2364" y="304"/>
                    </a:lnTo>
                    <a:lnTo>
                      <a:pt x="2450" y="269"/>
                    </a:lnTo>
                    <a:lnTo>
                      <a:pt x="2538" y="236"/>
                    </a:lnTo>
                    <a:lnTo>
                      <a:pt x="2628" y="204"/>
                    </a:lnTo>
                    <a:lnTo>
                      <a:pt x="2719" y="174"/>
                    </a:lnTo>
                    <a:lnTo>
                      <a:pt x="2811" y="146"/>
                    </a:lnTo>
                    <a:lnTo>
                      <a:pt x="2902" y="121"/>
                    </a:lnTo>
                    <a:lnTo>
                      <a:pt x="2996" y="100"/>
                    </a:lnTo>
                    <a:lnTo>
                      <a:pt x="3089" y="78"/>
                    </a:lnTo>
                    <a:lnTo>
                      <a:pt x="3186" y="60"/>
                    </a:lnTo>
                    <a:lnTo>
                      <a:pt x="3280" y="45"/>
                    </a:lnTo>
                    <a:lnTo>
                      <a:pt x="3376" y="32"/>
                    </a:lnTo>
                    <a:lnTo>
                      <a:pt x="3474" y="20"/>
                    </a:lnTo>
                    <a:lnTo>
                      <a:pt x="3572" y="12"/>
                    </a:lnTo>
                    <a:lnTo>
                      <a:pt x="3670" y="5"/>
                    </a:lnTo>
                    <a:lnTo>
                      <a:pt x="3770" y="2"/>
                    </a:lnTo>
                    <a:lnTo>
                      <a:pt x="3869" y="0"/>
                    </a:lnTo>
                    <a:lnTo>
                      <a:pt x="3970" y="2"/>
                    </a:lnTo>
                    <a:lnTo>
                      <a:pt x="4068" y="5"/>
                    </a:lnTo>
                    <a:lnTo>
                      <a:pt x="4168" y="12"/>
                    </a:lnTo>
                    <a:lnTo>
                      <a:pt x="4266" y="20"/>
                    </a:lnTo>
                    <a:lnTo>
                      <a:pt x="4362" y="32"/>
                    </a:lnTo>
                    <a:lnTo>
                      <a:pt x="4460" y="45"/>
                    </a:lnTo>
                    <a:lnTo>
                      <a:pt x="4554" y="60"/>
                    </a:lnTo>
                    <a:lnTo>
                      <a:pt x="4649" y="78"/>
                    </a:lnTo>
                    <a:lnTo>
                      <a:pt x="4744" y="100"/>
                    </a:lnTo>
                    <a:lnTo>
                      <a:pt x="4837" y="121"/>
                    </a:lnTo>
                    <a:lnTo>
                      <a:pt x="4929" y="146"/>
                    </a:lnTo>
                    <a:lnTo>
                      <a:pt x="5021" y="174"/>
                    </a:lnTo>
                    <a:lnTo>
                      <a:pt x="5110" y="204"/>
                    </a:lnTo>
                    <a:lnTo>
                      <a:pt x="5200" y="236"/>
                    </a:lnTo>
                    <a:lnTo>
                      <a:pt x="5290" y="269"/>
                    </a:lnTo>
                    <a:lnTo>
                      <a:pt x="5376" y="304"/>
                    </a:lnTo>
                    <a:lnTo>
                      <a:pt x="5462" y="342"/>
                    </a:lnTo>
                    <a:lnTo>
                      <a:pt x="5548" y="382"/>
                    </a:lnTo>
                    <a:lnTo>
                      <a:pt x="5631" y="423"/>
                    </a:lnTo>
                    <a:lnTo>
                      <a:pt x="5714" y="466"/>
                    </a:lnTo>
                    <a:lnTo>
                      <a:pt x="5796" y="513"/>
                    </a:lnTo>
                    <a:lnTo>
                      <a:pt x="5877" y="561"/>
                    </a:lnTo>
                    <a:lnTo>
                      <a:pt x="5957" y="609"/>
                    </a:lnTo>
                    <a:lnTo>
                      <a:pt x="6033" y="661"/>
                    </a:lnTo>
                    <a:lnTo>
                      <a:pt x="6111" y="714"/>
                    </a:lnTo>
                    <a:lnTo>
                      <a:pt x="6186" y="768"/>
                    </a:lnTo>
                    <a:lnTo>
                      <a:pt x="6259" y="825"/>
                    </a:lnTo>
                    <a:lnTo>
                      <a:pt x="6332" y="885"/>
                    </a:lnTo>
                    <a:lnTo>
                      <a:pt x="6403" y="944"/>
                    </a:lnTo>
                    <a:lnTo>
                      <a:pt x="6473" y="1006"/>
                    </a:lnTo>
                    <a:lnTo>
                      <a:pt x="6541" y="1069"/>
                    </a:lnTo>
                    <a:lnTo>
                      <a:pt x="6607" y="1133"/>
                    </a:lnTo>
                    <a:lnTo>
                      <a:pt x="6672" y="1200"/>
                    </a:lnTo>
                    <a:lnTo>
                      <a:pt x="6735" y="1268"/>
                    </a:lnTo>
                    <a:lnTo>
                      <a:pt x="6796" y="1337"/>
                    </a:lnTo>
                    <a:lnTo>
                      <a:pt x="6856" y="1409"/>
                    </a:lnTo>
                    <a:lnTo>
                      <a:pt x="6914" y="1480"/>
                    </a:lnTo>
                    <a:lnTo>
                      <a:pt x="6970" y="1555"/>
                    </a:lnTo>
                    <a:lnTo>
                      <a:pt x="7025" y="1629"/>
                    </a:lnTo>
                    <a:lnTo>
                      <a:pt x="7078" y="1706"/>
                    </a:lnTo>
                    <a:lnTo>
                      <a:pt x="7130" y="1784"/>
                    </a:lnTo>
                    <a:lnTo>
                      <a:pt x="7180" y="1863"/>
                    </a:lnTo>
                    <a:lnTo>
                      <a:pt x="7228" y="1943"/>
                    </a:lnTo>
                    <a:lnTo>
                      <a:pt x="7272" y="2026"/>
                    </a:lnTo>
                    <a:lnTo>
                      <a:pt x="7317" y="2109"/>
                    </a:lnTo>
                    <a:lnTo>
                      <a:pt x="7359" y="2192"/>
                    </a:lnTo>
                    <a:lnTo>
                      <a:pt x="7399" y="2278"/>
                    </a:lnTo>
                    <a:lnTo>
                      <a:pt x="7437" y="2363"/>
                    </a:lnTo>
                    <a:lnTo>
                      <a:pt x="7472" y="2451"/>
                    </a:lnTo>
                    <a:lnTo>
                      <a:pt x="7505" y="2539"/>
                    </a:lnTo>
                    <a:lnTo>
                      <a:pt x="7536" y="2628"/>
                    </a:lnTo>
                    <a:lnTo>
                      <a:pt x="7566" y="2719"/>
                    </a:lnTo>
                    <a:lnTo>
                      <a:pt x="7593" y="2811"/>
                    </a:lnTo>
                    <a:lnTo>
                      <a:pt x="7618" y="2902"/>
                    </a:lnTo>
                    <a:lnTo>
                      <a:pt x="7641" y="2996"/>
                    </a:lnTo>
                    <a:lnTo>
                      <a:pt x="7661" y="3089"/>
                    </a:lnTo>
                    <a:lnTo>
                      <a:pt x="7679" y="3184"/>
                    </a:lnTo>
                    <a:lnTo>
                      <a:pt x="7696" y="3280"/>
                    </a:lnTo>
                    <a:lnTo>
                      <a:pt x="7709" y="3376"/>
                    </a:lnTo>
                    <a:lnTo>
                      <a:pt x="7720" y="3474"/>
                    </a:lnTo>
                    <a:lnTo>
                      <a:pt x="7729" y="3572"/>
                    </a:lnTo>
                    <a:lnTo>
                      <a:pt x="7735" y="3670"/>
                    </a:lnTo>
                    <a:lnTo>
                      <a:pt x="7739" y="3770"/>
                    </a:lnTo>
                    <a:lnTo>
                      <a:pt x="7740" y="3869"/>
                    </a:lnTo>
                    <a:close/>
                  </a:path>
                </a:pathLst>
              </a:custGeom>
              <a:gradFill rotWithShape="0">
                <a:gsLst>
                  <a:gs pos="0">
                    <a:srgbClr val="8c1e0b"/>
                  </a:gs>
                  <a:gs pos="100000">
                    <a:srgbClr val="c8281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7"/>
              <p:cNvSpPr/>
              <p:nvPr/>
            </p:nvSpPr>
            <p:spPr>
              <a:xfrm>
                <a:off x="3114000" y="2053080"/>
                <a:ext cx="409680" cy="647640"/>
              </a:xfrm>
              <a:custGeom>
                <a:avLst/>
                <a:gdLst>
                  <a:gd name="textAreaLeft" fmla="*/ 0 w 409680"/>
                  <a:gd name="textAreaRight" fmla="*/ 410040 w 409680"/>
                  <a:gd name="textAreaTop" fmla="*/ 0 h 647640"/>
                  <a:gd name="textAreaBottom" fmla="*/ 648000 h 647640"/>
                </a:gdLst>
                <a:ahLst/>
                <a:rect l="textAreaLeft" t="textAreaTop" r="textAreaRight" b="textAreaBottom"/>
                <a:pathLst>
                  <a:path w="727" h="1146">
                    <a:moveTo>
                      <a:pt x="540" y="154"/>
                    </a:moveTo>
                    <a:lnTo>
                      <a:pt x="540" y="154"/>
                    </a:lnTo>
                    <a:lnTo>
                      <a:pt x="520" y="136"/>
                    </a:lnTo>
                    <a:lnTo>
                      <a:pt x="498" y="118"/>
                    </a:lnTo>
                    <a:lnTo>
                      <a:pt x="476" y="103"/>
                    </a:lnTo>
                    <a:lnTo>
                      <a:pt x="455" y="86"/>
                    </a:lnTo>
                    <a:lnTo>
                      <a:pt x="432" y="73"/>
                    </a:lnTo>
                    <a:lnTo>
                      <a:pt x="408" y="60"/>
                    </a:lnTo>
                    <a:lnTo>
                      <a:pt x="384" y="48"/>
                    </a:lnTo>
                    <a:lnTo>
                      <a:pt x="359" y="38"/>
                    </a:lnTo>
                    <a:lnTo>
                      <a:pt x="334" y="30"/>
                    </a:lnTo>
                    <a:lnTo>
                      <a:pt x="309" y="22"/>
                    </a:lnTo>
                    <a:lnTo>
                      <a:pt x="282" y="15"/>
                    </a:lnTo>
                    <a:lnTo>
                      <a:pt x="256" y="8"/>
                    </a:lnTo>
                    <a:lnTo>
                      <a:pt x="228" y="5"/>
                    </a:lnTo>
                    <a:lnTo>
                      <a:pt x="201" y="2"/>
                    </a:lnTo>
                    <a:lnTo>
                      <a:pt x="171" y="0"/>
                    </a:lnTo>
                    <a:lnTo>
                      <a:pt x="143" y="0"/>
                    </a:lnTo>
                    <a:lnTo>
                      <a:pt x="27" y="0"/>
                    </a:lnTo>
                    <a:lnTo>
                      <a:pt x="0" y="0"/>
                    </a:lnTo>
                    <a:lnTo>
                      <a:pt x="0" y="25"/>
                    </a:lnTo>
                    <a:lnTo>
                      <a:pt x="0" y="1121"/>
                    </a:lnTo>
                    <a:lnTo>
                      <a:pt x="0" y="1146"/>
                    </a:lnTo>
                    <a:lnTo>
                      <a:pt x="27" y="1146"/>
                    </a:lnTo>
                    <a:lnTo>
                      <a:pt x="165" y="1146"/>
                    </a:lnTo>
                    <a:lnTo>
                      <a:pt x="194" y="1146"/>
                    </a:lnTo>
                    <a:lnTo>
                      <a:pt x="224" y="1145"/>
                    </a:lnTo>
                    <a:lnTo>
                      <a:pt x="252" y="1141"/>
                    </a:lnTo>
                    <a:lnTo>
                      <a:pt x="281" y="1138"/>
                    </a:lnTo>
                    <a:lnTo>
                      <a:pt x="309" y="1133"/>
                    </a:lnTo>
                    <a:lnTo>
                      <a:pt x="335" y="1126"/>
                    </a:lnTo>
                    <a:lnTo>
                      <a:pt x="360" y="1120"/>
                    </a:lnTo>
                    <a:lnTo>
                      <a:pt x="385" y="1112"/>
                    </a:lnTo>
                    <a:lnTo>
                      <a:pt x="410" y="1102"/>
                    </a:lnTo>
                    <a:lnTo>
                      <a:pt x="433" y="1090"/>
                    </a:lnTo>
                    <a:lnTo>
                      <a:pt x="457" y="1078"/>
                    </a:lnTo>
                    <a:lnTo>
                      <a:pt x="478" y="1065"/>
                    </a:lnTo>
                    <a:lnTo>
                      <a:pt x="500" y="1052"/>
                    </a:lnTo>
                    <a:lnTo>
                      <a:pt x="520" y="1037"/>
                    </a:lnTo>
                    <a:lnTo>
                      <a:pt x="540" y="1020"/>
                    </a:lnTo>
                    <a:lnTo>
                      <a:pt x="558" y="1004"/>
                    </a:lnTo>
                    <a:lnTo>
                      <a:pt x="578" y="982"/>
                    </a:lnTo>
                    <a:lnTo>
                      <a:pt x="598" y="961"/>
                    </a:lnTo>
                    <a:lnTo>
                      <a:pt x="616" y="939"/>
                    </a:lnTo>
                    <a:lnTo>
                      <a:pt x="631" y="916"/>
                    </a:lnTo>
                    <a:lnTo>
                      <a:pt x="647" y="893"/>
                    </a:lnTo>
                    <a:lnTo>
                      <a:pt x="661" y="868"/>
                    </a:lnTo>
                    <a:lnTo>
                      <a:pt x="674" y="843"/>
                    </a:lnTo>
                    <a:lnTo>
                      <a:pt x="684" y="818"/>
                    </a:lnTo>
                    <a:lnTo>
                      <a:pt x="694" y="791"/>
                    </a:lnTo>
                    <a:lnTo>
                      <a:pt x="702" y="766"/>
                    </a:lnTo>
                    <a:lnTo>
                      <a:pt x="710" y="738"/>
                    </a:lnTo>
                    <a:lnTo>
                      <a:pt x="715" y="712"/>
                    </a:lnTo>
                    <a:lnTo>
                      <a:pt x="720" y="683"/>
                    </a:lnTo>
                    <a:lnTo>
                      <a:pt x="724" y="654"/>
                    </a:lnTo>
                    <a:lnTo>
                      <a:pt x="725" y="625"/>
                    </a:lnTo>
                    <a:lnTo>
                      <a:pt x="727" y="596"/>
                    </a:lnTo>
                    <a:lnTo>
                      <a:pt x="725" y="566"/>
                    </a:lnTo>
                    <a:lnTo>
                      <a:pt x="724" y="534"/>
                    </a:lnTo>
                    <a:lnTo>
                      <a:pt x="720" y="504"/>
                    </a:lnTo>
                    <a:lnTo>
                      <a:pt x="714" y="474"/>
                    </a:lnTo>
                    <a:lnTo>
                      <a:pt x="707" y="445"/>
                    </a:lnTo>
                    <a:lnTo>
                      <a:pt x="699" y="415"/>
                    </a:lnTo>
                    <a:lnTo>
                      <a:pt x="689" y="387"/>
                    </a:lnTo>
                    <a:lnTo>
                      <a:pt x="677" y="357"/>
                    </a:lnTo>
                    <a:lnTo>
                      <a:pt x="664" y="328"/>
                    </a:lnTo>
                    <a:lnTo>
                      <a:pt x="651" y="300"/>
                    </a:lnTo>
                    <a:lnTo>
                      <a:pt x="634" y="274"/>
                    </a:lnTo>
                    <a:lnTo>
                      <a:pt x="618" y="249"/>
                    </a:lnTo>
                    <a:lnTo>
                      <a:pt x="599" y="224"/>
                    </a:lnTo>
                    <a:lnTo>
                      <a:pt x="581" y="199"/>
                    </a:lnTo>
                    <a:lnTo>
                      <a:pt x="561" y="177"/>
                    </a:lnTo>
                    <a:lnTo>
                      <a:pt x="540" y="154"/>
                    </a:lnTo>
                    <a:close/>
                    <a:moveTo>
                      <a:pt x="423" y="851"/>
                    </a:moveTo>
                    <a:lnTo>
                      <a:pt x="423" y="851"/>
                    </a:lnTo>
                    <a:lnTo>
                      <a:pt x="402" y="873"/>
                    </a:lnTo>
                    <a:lnTo>
                      <a:pt x="380" y="891"/>
                    </a:lnTo>
                    <a:lnTo>
                      <a:pt x="355" y="906"/>
                    </a:lnTo>
                    <a:lnTo>
                      <a:pt x="330" y="919"/>
                    </a:lnTo>
                    <a:lnTo>
                      <a:pt x="302" y="931"/>
                    </a:lnTo>
                    <a:lnTo>
                      <a:pt x="274" y="939"/>
                    </a:lnTo>
                    <a:lnTo>
                      <a:pt x="244" y="944"/>
                    </a:lnTo>
                    <a:lnTo>
                      <a:pt x="213" y="947"/>
                    </a:lnTo>
                    <a:lnTo>
                      <a:pt x="213" y="199"/>
                    </a:lnTo>
                    <a:lnTo>
                      <a:pt x="241" y="202"/>
                    </a:lnTo>
                    <a:lnTo>
                      <a:pt x="267" y="211"/>
                    </a:lnTo>
                    <a:lnTo>
                      <a:pt x="294" y="221"/>
                    </a:lnTo>
                    <a:lnTo>
                      <a:pt x="319" y="232"/>
                    </a:lnTo>
                    <a:lnTo>
                      <a:pt x="344" y="249"/>
                    </a:lnTo>
                    <a:lnTo>
                      <a:pt x="369" y="267"/>
                    </a:lnTo>
                    <a:lnTo>
                      <a:pt x="392" y="290"/>
                    </a:lnTo>
                    <a:lnTo>
                      <a:pt x="415" y="315"/>
                    </a:lnTo>
                    <a:lnTo>
                      <a:pt x="438" y="345"/>
                    </a:lnTo>
                    <a:lnTo>
                      <a:pt x="458" y="377"/>
                    </a:lnTo>
                    <a:lnTo>
                      <a:pt x="475" y="410"/>
                    </a:lnTo>
                    <a:lnTo>
                      <a:pt x="490" y="443"/>
                    </a:lnTo>
                    <a:lnTo>
                      <a:pt x="500" y="479"/>
                    </a:lnTo>
                    <a:lnTo>
                      <a:pt x="508" y="516"/>
                    </a:lnTo>
                    <a:lnTo>
                      <a:pt x="513" y="554"/>
                    </a:lnTo>
                    <a:lnTo>
                      <a:pt x="515" y="592"/>
                    </a:lnTo>
                    <a:lnTo>
                      <a:pt x="513" y="632"/>
                    </a:lnTo>
                    <a:lnTo>
                      <a:pt x="508" y="669"/>
                    </a:lnTo>
                    <a:lnTo>
                      <a:pt x="501" y="705"/>
                    </a:lnTo>
                    <a:lnTo>
                      <a:pt x="491" y="738"/>
                    </a:lnTo>
                    <a:lnTo>
                      <a:pt x="478" y="770"/>
                    </a:lnTo>
                    <a:lnTo>
                      <a:pt x="463" y="800"/>
                    </a:lnTo>
                    <a:lnTo>
                      <a:pt x="445" y="826"/>
                    </a:lnTo>
                    <a:lnTo>
                      <a:pt x="423" y="8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Freeform 8"/>
              <p:cNvSpPr/>
              <p:nvPr/>
            </p:nvSpPr>
            <p:spPr>
              <a:xfrm>
                <a:off x="3604320" y="2045160"/>
                <a:ext cx="467280" cy="663480"/>
              </a:xfrm>
              <a:custGeom>
                <a:avLst/>
                <a:gdLst>
                  <a:gd name="textAreaLeft" fmla="*/ 0 w 467280"/>
                  <a:gd name="textAreaRight" fmla="*/ 467640 w 467280"/>
                  <a:gd name="textAreaTop" fmla="*/ 0 h 663480"/>
                  <a:gd name="textAreaBottom" fmla="*/ 663840 h 663480"/>
                </a:gdLst>
                <a:ahLst/>
                <a:rect l="textAreaLeft" t="textAreaTop" r="textAreaRight" b="textAreaBottom"/>
                <a:pathLst>
                  <a:path w="828" h="1176">
                    <a:moveTo>
                      <a:pt x="415" y="0"/>
                    </a:moveTo>
                    <a:lnTo>
                      <a:pt x="415" y="0"/>
                    </a:lnTo>
                    <a:lnTo>
                      <a:pt x="393" y="2"/>
                    </a:lnTo>
                    <a:lnTo>
                      <a:pt x="370" y="3"/>
                    </a:lnTo>
                    <a:lnTo>
                      <a:pt x="350" y="7"/>
                    </a:lnTo>
                    <a:lnTo>
                      <a:pt x="329" y="12"/>
                    </a:lnTo>
                    <a:lnTo>
                      <a:pt x="309" y="18"/>
                    </a:lnTo>
                    <a:lnTo>
                      <a:pt x="289" y="25"/>
                    </a:lnTo>
                    <a:lnTo>
                      <a:pt x="269" y="33"/>
                    </a:lnTo>
                    <a:lnTo>
                      <a:pt x="249" y="45"/>
                    </a:lnTo>
                    <a:lnTo>
                      <a:pt x="231" y="56"/>
                    </a:lnTo>
                    <a:lnTo>
                      <a:pt x="212" y="68"/>
                    </a:lnTo>
                    <a:lnTo>
                      <a:pt x="196" y="83"/>
                    </a:lnTo>
                    <a:lnTo>
                      <a:pt x="178" y="98"/>
                    </a:lnTo>
                    <a:lnTo>
                      <a:pt x="163" y="116"/>
                    </a:lnTo>
                    <a:lnTo>
                      <a:pt x="146" y="134"/>
                    </a:lnTo>
                    <a:lnTo>
                      <a:pt x="131" y="153"/>
                    </a:lnTo>
                    <a:lnTo>
                      <a:pt x="115" y="174"/>
                    </a:lnTo>
                    <a:lnTo>
                      <a:pt x="101" y="196"/>
                    </a:lnTo>
                    <a:lnTo>
                      <a:pt x="88" y="217"/>
                    </a:lnTo>
                    <a:lnTo>
                      <a:pt x="76" y="241"/>
                    </a:lnTo>
                    <a:lnTo>
                      <a:pt x="65" y="264"/>
                    </a:lnTo>
                    <a:lnTo>
                      <a:pt x="55" y="289"/>
                    </a:lnTo>
                    <a:lnTo>
                      <a:pt x="45" y="314"/>
                    </a:lnTo>
                    <a:lnTo>
                      <a:pt x="37" y="338"/>
                    </a:lnTo>
                    <a:lnTo>
                      <a:pt x="28" y="365"/>
                    </a:lnTo>
                    <a:lnTo>
                      <a:pt x="22" y="392"/>
                    </a:lnTo>
                    <a:lnTo>
                      <a:pt x="17" y="418"/>
                    </a:lnTo>
                    <a:lnTo>
                      <a:pt x="7" y="476"/>
                    </a:lnTo>
                    <a:lnTo>
                      <a:pt x="2" y="536"/>
                    </a:lnTo>
                    <a:lnTo>
                      <a:pt x="0" y="597"/>
                    </a:lnTo>
                    <a:lnTo>
                      <a:pt x="2" y="657"/>
                    </a:lnTo>
                    <a:lnTo>
                      <a:pt x="7" y="717"/>
                    </a:lnTo>
                    <a:lnTo>
                      <a:pt x="17" y="771"/>
                    </a:lnTo>
                    <a:lnTo>
                      <a:pt x="22" y="798"/>
                    </a:lnTo>
                    <a:lnTo>
                      <a:pt x="28" y="825"/>
                    </a:lnTo>
                    <a:lnTo>
                      <a:pt x="37" y="849"/>
                    </a:lnTo>
                    <a:lnTo>
                      <a:pt x="45" y="874"/>
                    </a:lnTo>
                    <a:lnTo>
                      <a:pt x="53" y="899"/>
                    </a:lnTo>
                    <a:lnTo>
                      <a:pt x="65" y="922"/>
                    </a:lnTo>
                    <a:lnTo>
                      <a:pt x="75" y="946"/>
                    </a:lnTo>
                    <a:lnTo>
                      <a:pt x="88" y="967"/>
                    </a:lnTo>
                    <a:lnTo>
                      <a:pt x="100" y="989"/>
                    </a:lnTo>
                    <a:lnTo>
                      <a:pt x="115" y="1009"/>
                    </a:lnTo>
                    <a:lnTo>
                      <a:pt x="130" y="1029"/>
                    </a:lnTo>
                    <a:lnTo>
                      <a:pt x="144" y="1049"/>
                    </a:lnTo>
                    <a:lnTo>
                      <a:pt x="159" y="1065"/>
                    </a:lnTo>
                    <a:lnTo>
                      <a:pt x="176" y="1082"/>
                    </a:lnTo>
                    <a:lnTo>
                      <a:pt x="193" y="1097"/>
                    </a:lnTo>
                    <a:lnTo>
                      <a:pt x="211" y="1110"/>
                    </a:lnTo>
                    <a:lnTo>
                      <a:pt x="229" y="1123"/>
                    </a:lnTo>
                    <a:lnTo>
                      <a:pt x="247" y="1135"/>
                    </a:lnTo>
                    <a:lnTo>
                      <a:pt x="266" y="1143"/>
                    </a:lnTo>
                    <a:lnTo>
                      <a:pt x="285" y="1153"/>
                    </a:lnTo>
                    <a:lnTo>
                      <a:pt x="305" y="1160"/>
                    </a:lnTo>
                    <a:lnTo>
                      <a:pt x="325" y="1165"/>
                    </a:lnTo>
                    <a:lnTo>
                      <a:pt x="347" y="1170"/>
                    </a:lnTo>
                    <a:lnTo>
                      <a:pt x="368" y="1173"/>
                    </a:lnTo>
                    <a:lnTo>
                      <a:pt x="390" y="1175"/>
                    </a:lnTo>
                    <a:lnTo>
                      <a:pt x="413" y="1176"/>
                    </a:lnTo>
                    <a:lnTo>
                      <a:pt x="435" y="1175"/>
                    </a:lnTo>
                    <a:lnTo>
                      <a:pt x="458" y="1173"/>
                    </a:lnTo>
                    <a:lnTo>
                      <a:pt x="480" y="1170"/>
                    </a:lnTo>
                    <a:lnTo>
                      <a:pt x="501" y="1165"/>
                    </a:lnTo>
                    <a:lnTo>
                      <a:pt x="521" y="1160"/>
                    </a:lnTo>
                    <a:lnTo>
                      <a:pt x="543" y="1151"/>
                    </a:lnTo>
                    <a:lnTo>
                      <a:pt x="563" y="1143"/>
                    </a:lnTo>
                    <a:lnTo>
                      <a:pt x="581" y="1133"/>
                    </a:lnTo>
                    <a:lnTo>
                      <a:pt x="599" y="1123"/>
                    </a:lnTo>
                    <a:lnTo>
                      <a:pt x="617" y="1110"/>
                    </a:lnTo>
                    <a:lnTo>
                      <a:pt x="636" y="1097"/>
                    </a:lnTo>
                    <a:lnTo>
                      <a:pt x="652" y="1082"/>
                    </a:lnTo>
                    <a:lnTo>
                      <a:pt x="669" y="1065"/>
                    </a:lnTo>
                    <a:lnTo>
                      <a:pt x="685" y="1047"/>
                    </a:lnTo>
                    <a:lnTo>
                      <a:pt x="700" y="1029"/>
                    </a:lnTo>
                    <a:lnTo>
                      <a:pt x="715" y="1009"/>
                    </a:lnTo>
                    <a:lnTo>
                      <a:pt x="729" y="987"/>
                    </a:lnTo>
                    <a:lnTo>
                      <a:pt x="742" y="966"/>
                    </a:lnTo>
                    <a:lnTo>
                      <a:pt x="753" y="944"/>
                    </a:lnTo>
                    <a:lnTo>
                      <a:pt x="763" y="921"/>
                    </a:lnTo>
                    <a:lnTo>
                      <a:pt x="773" y="896"/>
                    </a:lnTo>
                    <a:lnTo>
                      <a:pt x="783" y="873"/>
                    </a:lnTo>
                    <a:lnTo>
                      <a:pt x="792" y="846"/>
                    </a:lnTo>
                    <a:lnTo>
                      <a:pt x="800" y="821"/>
                    </a:lnTo>
                    <a:lnTo>
                      <a:pt x="807" y="793"/>
                    </a:lnTo>
                    <a:lnTo>
                      <a:pt x="811" y="767"/>
                    </a:lnTo>
                    <a:lnTo>
                      <a:pt x="820" y="708"/>
                    </a:lnTo>
                    <a:lnTo>
                      <a:pt x="826" y="649"/>
                    </a:lnTo>
                    <a:lnTo>
                      <a:pt x="828" y="586"/>
                    </a:lnTo>
                    <a:lnTo>
                      <a:pt x="826" y="526"/>
                    </a:lnTo>
                    <a:lnTo>
                      <a:pt x="820" y="468"/>
                    </a:lnTo>
                    <a:lnTo>
                      <a:pt x="811" y="413"/>
                    </a:lnTo>
                    <a:lnTo>
                      <a:pt x="805" y="387"/>
                    </a:lnTo>
                    <a:lnTo>
                      <a:pt x="798" y="360"/>
                    </a:lnTo>
                    <a:lnTo>
                      <a:pt x="792" y="334"/>
                    </a:lnTo>
                    <a:lnTo>
                      <a:pt x="782" y="309"/>
                    </a:lnTo>
                    <a:lnTo>
                      <a:pt x="773" y="285"/>
                    </a:lnTo>
                    <a:lnTo>
                      <a:pt x="762" y="261"/>
                    </a:lnTo>
                    <a:lnTo>
                      <a:pt x="752" y="237"/>
                    </a:lnTo>
                    <a:lnTo>
                      <a:pt x="738" y="216"/>
                    </a:lnTo>
                    <a:lnTo>
                      <a:pt x="725" y="194"/>
                    </a:lnTo>
                    <a:lnTo>
                      <a:pt x="712" y="173"/>
                    </a:lnTo>
                    <a:lnTo>
                      <a:pt x="697" y="151"/>
                    </a:lnTo>
                    <a:lnTo>
                      <a:pt x="680" y="133"/>
                    </a:lnTo>
                    <a:lnTo>
                      <a:pt x="665" y="115"/>
                    </a:lnTo>
                    <a:lnTo>
                      <a:pt x="649" y="98"/>
                    </a:lnTo>
                    <a:lnTo>
                      <a:pt x="632" y="81"/>
                    </a:lnTo>
                    <a:lnTo>
                      <a:pt x="614" y="68"/>
                    </a:lnTo>
                    <a:lnTo>
                      <a:pt x="596" y="55"/>
                    </a:lnTo>
                    <a:lnTo>
                      <a:pt x="578" y="43"/>
                    </a:lnTo>
                    <a:lnTo>
                      <a:pt x="559" y="33"/>
                    </a:lnTo>
                    <a:lnTo>
                      <a:pt x="539" y="25"/>
                    </a:lnTo>
                    <a:lnTo>
                      <a:pt x="519" y="17"/>
                    </a:lnTo>
                    <a:lnTo>
                      <a:pt x="500" y="12"/>
                    </a:lnTo>
                    <a:lnTo>
                      <a:pt x="480" y="7"/>
                    </a:lnTo>
                    <a:lnTo>
                      <a:pt x="458" y="3"/>
                    </a:lnTo>
                    <a:lnTo>
                      <a:pt x="436" y="2"/>
                    </a:lnTo>
                    <a:lnTo>
                      <a:pt x="415" y="0"/>
                    </a:lnTo>
                    <a:close/>
                    <a:moveTo>
                      <a:pt x="413" y="977"/>
                    </a:moveTo>
                    <a:lnTo>
                      <a:pt x="413" y="977"/>
                    </a:lnTo>
                    <a:lnTo>
                      <a:pt x="390" y="976"/>
                    </a:lnTo>
                    <a:lnTo>
                      <a:pt x="370" y="972"/>
                    </a:lnTo>
                    <a:lnTo>
                      <a:pt x="350" y="964"/>
                    </a:lnTo>
                    <a:lnTo>
                      <a:pt x="330" y="954"/>
                    </a:lnTo>
                    <a:lnTo>
                      <a:pt x="314" y="941"/>
                    </a:lnTo>
                    <a:lnTo>
                      <a:pt x="297" y="924"/>
                    </a:lnTo>
                    <a:lnTo>
                      <a:pt x="282" y="906"/>
                    </a:lnTo>
                    <a:lnTo>
                      <a:pt x="269" y="883"/>
                    </a:lnTo>
                    <a:lnTo>
                      <a:pt x="256" y="856"/>
                    </a:lnTo>
                    <a:lnTo>
                      <a:pt x="244" y="826"/>
                    </a:lnTo>
                    <a:lnTo>
                      <a:pt x="234" y="795"/>
                    </a:lnTo>
                    <a:lnTo>
                      <a:pt x="227" y="760"/>
                    </a:lnTo>
                    <a:lnTo>
                      <a:pt x="221" y="723"/>
                    </a:lnTo>
                    <a:lnTo>
                      <a:pt x="216" y="684"/>
                    </a:lnTo>
                    <a:lnTo>
                      <a:pt x="214" y="640"/>
                    </a:lnTo>
                    <a:lnTo>
                      <a:pt x="212" y="596"/>
                    </a:lnTo>
                    <a:lnTo>
                      <a:pt x="214" y="546"/>
                    </a:lnTo>
                    <a:lnTo>
                      <a:pt x="216" y="499"/>
                    </a:lnTo>
                    <a:lnTo>
                      <a:pt x="222" y="456"/>
                    </a:lnTo>
                    <a:lnTo>
                      <a:pt x="229" y="415"/>
                    </a:lnTo>
                    <a:lnTo>
                      <a:pt x="237" y="377"/>
                    </a:lnTo>
                    <a:lnTo>
                      <a:pt x="249" y="342"/>
                    </a:lnTo>
                    <a:lnTo>
                      <a:pt x="262" y="310"/>
                    </a:lnTo>
                    <a:lnTo>
                      <a:pt x="277" y="280"/>
                    </a:lnTo>
                    <a:lnTo>
                      <a:pt x="290" y="261"/>
                    </a:lnTo>
                    <a:lnTo>
                      <a:pt x="304" y="244"/>
                    </a:lnTo>
                    <a:lnTo>
                      <a:pt x="319" y="231"/>
                    </a:lnTo>
                    <a:lnTo>
                      <a:pt x="335" y="219"/>
                    </a:lnTo>
                    <a:lnTo>
                      <a:pt x="354" y="211"/>
                    </a:lnTo>
                    <a:lnTo>
                      <a:pt x="372" y="204"/>
                    </a:lnTo>
                    <a:lnTo>
                      <a:pt x="393" y="201"/>
                    </a:lnTo>
                    <a:lnTo>
                      <a:pt x="415" y="199"/>
                    </a:lnTo>
                    <a:lnTo>
                      <a:pt x="436" y="201"/>
                    </a:lnTo>
                    <a:lnTo>
                      <a:pt x="456" y="206"/>
                    </a:lnTo>
                    <a:lnTo>
                      <a:pt x="476" y="212"/>
                    </a:lnTo>
                    <a:lnTo>
                      <a:pt x="495" y="224"/>
                    </a:lnTo>
                    <a:lnTo>
                      <a:pt x="511" y="237"/>
                    </a:lnTo>
                    <a:lnTo>
                      <a:pt x="528" y="254"/>
                    </a:lnTo>
                    <a:lnTo>
                      <a:pt x="543" y="274"/>
                    </a:lnTo>
                    <a:lnTo>
                      <a:pt x="558" y="297"/>
                    </a:lnTo>
                    <a:lnTo>
                      <a:pt x="571" y="325"/>
                    </a:lnTo>
                    <a:lnTo>
                      <a:pt x="583" y="355"/>
                    </a:lnTo>
                    <a:lnTo>
                      <a:pt x="592" y="388"/>
                    </a:lnTo>
                    <a:lnTo>
                      <a:pt x="601" y="421"/>
                    </a:lnTo>
                    <a:lnTo>
                      <a:pt x="607" y="460"/>
                    </a:lnTo>
                    <a:lnTo>
                      <a:pt x="611" y="499"/>
                    </a:lnTo>
                    <a:lnTo>
                      <a:pt x="614" y="541"/>
                    </a:lnTo>
                    <a:lnTo>
                      <a:pt x="616" y="584"/>
                    </a:lnTo>
                    <a:lnTo>
                      <a:pt x="614" y="630"/>
                    </a:lnTo>
                    <a:lnTo>
                      <a:pt x="611" y="674"/>
                    </a:lnTo>
                    <a:lnTo>
                      <a:pt x="607" y="715"/>
                    </a:lnTo>
                    <a:lnTo>
                      <a:pt x="601" y="753"/>
                    </a:lnTo>
                    <a:lnTo>
                      <a:pt x="592" y="790"/>
                    </a:lnTo>
                    <a:lnTo>
                      <a:pt x="583" y="823"/>
                    </a:lnTo>
                    <a:lnTo>
                      <a:pt x="571" y="853"/>
                    </a:lnTo>
                    <a:lnTo>
                      <a:pt x="558" y="881"/>
                    </a:lnTo>
                    <a:lnTo>
                      <a:pt x="544" y="903"/>
                    </a:lnTo>
                    <a:lnTo>
                      <a:pt x="529" y="922"/>
                    </a:lnTo>
                    <a:lnTo>
                      <a:pt x="513" y="939"/>
                    </a:lnTo>
                    <a:lnTo>
                      <a:pt x="495" y="954"/>
                    </a:lnTo>
                    <a:lnTo>
                      <a:pt x="476" y="964"/>
                    </a:lnTo>
                    <a:lnTo>
                      <a:pt x="456" y="971"/>
                    </a:lnTo>
                    <a:lnTo>
                      <a:pt x="436" y="976"/>
                    </a:lnTo>
                    <a:lnTo>
                      <a:pt x="413" y="9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9"/>
              <p:cNvSpPr/>
              <p:nvPr/>
            </p:nvSpPr>
            <p:spPr>
              <a:xfrm>
                <a:off x="4594680" y="2053080"/>
                <a:ext cx="440280" cy="647640"/>
              </a:xfrm>
              <a:custGeom>
                <a:avLst/>
                <a:gdLst>
                  <a:gd name="textAreaLeft" fmla="*/ 0 w 440280"/>
                  <a:gd name="textAreaRight" fmla="*/ 440640 w 440280"/>
                  <a:gd name="textAreaTop" fmla="*/ 0 h 647640"/>
                  <a:gd name="textAreaBottom" fmla="*/ 648000 h 647640"/>
                </a:gdLst>
                <a:ahLst/>
                <a:rect l="textAreaLeft" t="textAreaTop" r="textAreaRight" b="textAreaBottom"/>
                <a:pathLst>
                  <a:path w="780" h="1146">
                    <a:moveTo>
                      <a:pt x="607" y="0"/>
                    </a:moveTo>
                    <a:lnTo>
                      <a:pt x="582" y="0"/>
                    </a:lnTo>
                    <a:lnTo>
                      <a:pt x="582" y="25"/>
                    </a:lnTo>
                    <a:lnTo>
                      <a:pt x="582" y="718"/>
                    </a:lnTo>
                    <a:lnTo>
                      <a:pt x="242" y="13"/>
                    </a:lnTo>
                    <a:lnTo>
                      <a:pt x="235" y="0"/>
                    </a:lnTo>
                    <a:lnTo>
                      <a:pt x="219" y="0"/>
                    </a:lnTo>
                    <a:lnTo>
                      <a:pt x="26" y="0"/>
                    </a:lnTo>
                    <a:lnTo>
                      <a:pt x="0" y="0"/>
                    </a:lnTo>
                    <a:lnTo>
                      <a:pt x="0" y="25"/>
                    </a:lnTo>
                    <a:lnTo>
                      <a:pt x="0" y="1121"/>
                    </a:lnTo>
                    <a:lnTo>
                      <a:pt x="0" y="1146"/>
                    </a:lnTo>
                    <a:lnTo>
                      <a:pt x="26" y="1146"/>
                    </a:lnTo>
                    <a:lnTo>
                      <a:pt x="174" y="1146"/>
                    </a:lnTo>
                    <a:lnTo>
                      <a:pt x="199" y="1146"/>
                    </a:lnTo>
                    <a:lnTo>
                      <a:pt x="199" y="1121"/>
                    </a:lnTo>
                    <a:lnTo>
                      <a:pt x="199" y="392"/>
                    </a:lnTo>
                    <a:lnTo>
                      <a:pt x="552" y="1133"/>
                    </a:lnTo>
                    <a:lnTo>
                      <a:pt x="561" y="1146"/>
                    </a:lnTo>
                    <a:lnTo>
                      <a:pt x="575" y="1146"/>
                    </a:lnTo>
                    <a:lnTo>
                      <a:pt x="755" y="1146"/>
                    </a:lnTo>
                    <a:lnTo>
                      <a:pt x="780" y="1146"/>
                    </a:lnTo>
                    <a:lnTo>
                      <a:pt x="780" y="1121"/>
                    </a:lnTo>
                    <a:lnTo>
                      <a:pt x="780" y="25"/>
                    </a:lnTo>
                    <a:lnTo>
                      <a:pt x="780" y="0"/>
                    </a:lnTo>
                    <a:lnTo>
                      <a:pt x="755" y="0"/>
                    </a:lnTo>
                    <a:lnTo>
                      <a:pt x="60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0"/>
              <p:cNvSpPr/>
              <p:nvPr/>
            </p:nvSpPr>
            <p:spPr>
              <a:xfrm>
                <a:off x="5133240" y="2045160"/>
                <a:ext cx="467280" cy="663480"/>
              </a:xfrm>
              <a:custGeom>
                <a:avLst/>
                <a:gdLst>
                  <a:gd name="textAreaLeft" fmla="*/ 0 w 467280"/>
                  <a:gd name="textAreaRight" fmla="*/ 467640 w 467280"/>
                  <a:gd name="textAreaTop" fmla="*/ 0 h 663480"/>
                  <a:gd name="textAreaBottom" fmla="*/ 663840 h 663480"/>
                </a:gdLst>
                <a:ahLst/>
                <a:rect l="textAreaLeft" t="textAreaTop" r="textAreaRight" b="textAreaBottom"/>
                <a:pathLst>
                  <a:path w="828" h="1176">
                    <a:moveTo>
                      <a:pt x="415" y="0"/>
                    </a:moveTo>
                    <a:lnTo>
                      <a:pt x="415" y="0"/>
                    </a:lnTo>
                    <a:lnTo>
                      <a:pt x="393" y="2"/>
                    </a:lnTo>
                    <a:lnTo>
                      <a:pt x="371" y="3"/>
                    </a:lnTo>
                    <a:lnTo>
                      <a:pt x="350" y="7"/>
                    </a:lnTo>
                    <a:lnTo>
                      <a:pt x="328" y="12"/>
                    </a:lnTo>
                    <a:lnTo>
                      <a:pt x="308" y="18"/>
                    </a:lnTo>
                    <a:lnTo>
                      <a:pt x="288" y="25"/>
                    </a:lnTo>
                    <a:lnTo>
                      <a:pt x="269" y="33"/>
                    </a:lnTo>
                    <a:lnTo>
                      <a:pt x="250" y="45"/>
                    </a:lnTo>
                    <a:lnTo>
                      <a:pt x="232" y="56"/>
                    </a:lnTo>
                    <a:lnTo>
                      <a:pt x="214" y="68"/>
                    </a:lnTo>
                    <a:lnTo>
                      <a:pt x="196" y="83"/>
                    </a:lnTo>
                    <a:lnTo>
                      <a:pt x="179" y="98"/>
                    </a:lnTo>
                    <a:lnTo>
                      <a:pt x="162" y="116"/>
                    </a:lnTo>
                    <a:lnTo>
                      <a:pt x="146" y="134"/>
                    </a:lnTo>
                    <a:lnTo>
                      <a:pt x="131" y="153"/>
                    </a:lnTo>
                    <a:lnTo>
                      <a:pt x="116" y="174"/>
                    </a:lnTo>
                    <a:lnTo>
                      <a:pt x="101" y="196"/>
                    </a:lnTo>
                    <a:lnTo>
                      <a:pt x="89" y="217"/>
                    </a:lnTo>
                    <a:lnTo>
                      <a:pt x="76" y="241"/>
                    </a:lnTo>
                    <a:lnTo>
                      <a:pt x="66" y="264"/>
                    </a:lnTo>
                    <a:lnTo>
                      <a:pt x="55" y="289"/>
                    </a:lnTo>
                    <a:lnTo>
                      <a:pt x="46" y="314"/>
                    </a:lnTo>
                    <a:lnTo>
                      <a:pt x="36" y="338"/>
                    </a:lnTo>
                    <a:lnTo>
                      <a:pt x="30" y="365"/>
                    </a:lnTo>
                    <a:lnTo>
                      <a:pt x="23" y="392"/>
                    </a:lnTo>
                    <a:lnTo>
                      <a:pt x="16" y="418"/>
                    </a:lnTo>
                    <a:lnTo>
                      <a:pt x="8" y="476"/>
                    </a:lnTo>
                    <a:lnTo>
                      <a:pt x="1" y="536"/>
                    </a:lnTo>
                    <a:lnTo>
                      <a:pt x="0" y="597"/>
                    </a:lnTo>
                    <a:lnTo>
                      <a:pt x="1" y="657"/>
                    </a:lnTo>
                    <a:lnTo>
                      <a:pt x="8" y="717"/>
                    </a:lnTo>
                    <a:lnTo>
                      <a:pt x="16" y="771"/>
                    </a:lnTo>
                    <a:lnTo>
                      <a:pt x="23" y="798"/>
                    </a:lnTo>
                    <a:lnTo>
                      <a:pt x="30" y="825"/>
                    </a:lnTo>
                    <a:lnTo>
                      <a:pt x="36" y="849"/>
                    </a:lnTo>
                    <a:lnTo>
                      <a:pt x="45" y="874"/>
                    </a:lnTo>
                    <a:lnTo>
                      <a:pt x="55" y="899"/>
                    </a:lnTo>
                    <a:lnTo>
                      <a:pt x="64" y="922"/>
                    </a:lnTo>
                    <a:lnTo>
                      <a:pt x="76" y="946"/>
                    </a:lnTo>
                    <a:lnTo>
                      <a:pt x="88" y="967"/>
                    </a:lnTo>
                    <a:lnTo>
                      <a:pt x="101" y="989"/>
                    </a:lnTo>
                    <a:lnTo>
                      <a:pt x="114" y="1009"/>
                    </a:lnTo>
                    <a:lnTo>
                      <a:pt x="129" y="1029"/>
                    </a:lnTo>
                    <a:lnTo>
                      <a:pt x="144" y="1049"/>
                    </a:lnTo>
                    <a:lnTo>
                      <a:pt x="161" y="1065"/>
                    </a:lnTo>
                    <a:lnTo>
                      <a:pt x="177" y="1082"/>
                    </a:lnTo>
                    <a:lnTo>
                      <a:pt x="194" y="1097"/>
                    </a:lnTo>
                    <a:lnTo>
                      <a:pt x="210" y="1110"/>
                    </a:lnTo>
                    <a:lnTo>
                      <a:pt x="229" y="1123"/>
                    </a:lnTo>
                    <a:lnTo>
                      <a:pt x="247" y="1135"/>
                    </a:lnTo>
                    <a:lnTo>
                      <a:pt x="267" y="1143"/>
                    </a:lnTo>
                    <a:lnTo>
                      <a:pt x="285" y="1153"/>
                    </a:lnTo>
                    <a:lnTo>
                      <a:pt x="305" y="1160"/>
                    </a:lnTo>
                    <a:lnTo>
                      <a:pt x="327" y="1165"/>
                    </a:lnTo>
                    <a:lnTo>
                      <a:pt x="347" y="1170"/>
                    </a:lnTo>
                    <a:lnTo>
                      <a:pt x="368" y="1173"/>
                    </a:lnTo>
                    <a:lnTo>
                      <a:pt x="390" y="1175"/>
                    </a:lnTo>
                    <a:lnTo>
                      <a:pt x="413" y="1176"/>
                    </a:lnTo>
                    <a:lnTo>
                      <a:pt x="436" y="1175"/>
                    </a:lnTo>
                    <a:lnTo>
                      <a:pt x="458" y="1173"/>
                    </a:lnTo>
                    <a:lnTo>
                      <a:pt x="479" y="1170"/>
                    </a:lnTo>
                    <a:lnTo>
                      <a:pt x="501" y="1165"/>
                    </a:lnTo>
                    <a:lnTo>
                      <a:pt x="522" y="1160"/>
                    </a:lnTo>
                    <a:lnTo>
                      <a:pt x="542" y="1151"/>
                    </a:lnTo>
                    <a:lnTo>
                      <a:pt x="562" y="1143"/>
                    </a:lnTo>
                    <a:lnTo>
                      <a:pt x="581" y="1133"/>
                    </a:lnTo>
                    <a:lnTo>
                      <a:pt x="600" y="1123"/>
                    </a:lnTo>
                    <a:lnTo>
                      <a:pt x="619" y="1110"/>
                    </a:lnTo>
                    <a:lnTo>
                      <a:pt x="635" y="1097"/>
                    </a:lnTo>
                    <a:lnTo>
                      <a:pt x="652" y="1082"/>
                    </a:lnTo>
                    <a:lnTo>
                      <a:pt x="668" y="1065"/>
                    </a:lnTo>
                    <a:lnTo>
                      <a:pt x="685" y="1047"/>
                    </a:lnTo>
                    <a:lnTo>
                      <a:pt x="700" y="1029"/>
                    </a:lnTo>
                    <a:lnTo>
                      <a:pt x="715" y="1009"/>
                    </a:lnTo>
                    <a:lnTo>
                      <a:pt x="728" y="987"/>
                    </a:lnTo>
                    <a:lnTo>
                      <a:pt x="741" y="966"/>
                    </a:lnTo>
                    <a:lnTo>
                      <a:pt x="753" y="944"/>
                    </a:lnTo>
                    <a:lnTo>
                      <a:pt x="765" y="921"/>
                    </a:lnTo>
                    <a:lnTo>
                      <a:pt x="775" y="896"/>
                    </a:lnTo>
                    <a:lnTo>
                      <a:pt x="783" y="873"/>
                    </a:lnTo>
                    <a:lnTo>
                      <a:pt x="791" y="846"/>
                    </a:lnTo>
                    <a:lnTo>
                      <a:pt x="800" y="821"/>
                    </a:lnTo>
                    <a:lnTo>
                      <a:pt x="806" y="793"/>
                    </a:lnTo>
                    <a:lnTo>
                      <a:pt x="811" y="767"/>
                    </a:lnTo>
                    <a:lnTo>
                      <a:pt x="821" y="708"/>
                    </a:lnTo>
                    <a:lnTo>
                      <a:pt x="826" y="649"/>
                    </a:lnTo>
                    <a:lnTo>
                      <a:pt x="828" y="586"/>
                    </a:lnTo>
                    <a:lnTo>
                      <a:pt x="826" y="526"/>
                    </a:lnTo>
                    <a:lnTo>
                      <a:pt x="821" y="468"/>
                    </a:lnTo>
                    <a:lnTo>
                      <a:pt x="811" y="413"/>
                    </a:lnTo>
                    <a:lnTo>
                      <a:pt x="806" y="387"/>
                    </a:lnTo>
                    <a:lnTo>
                      <a:pt x="800" y="360"/>
                    </a:lnTo>
                    <a:lnTo>
                      <a:pt x="791" y="334"/>
                    </a:lnTo>
                    <a:lnTo>
                      <a:pt x="783" y="309"/>
                    </a:lnTo>
                    <a:lnTo>
                      <a:pt x="773" y="285"/>
                    </a:lnTo>
                    <a:lnTo>
                      <a:pt x="763" y="261"/>
                    </a:lnTo>
                    <a:lnTo>
                      <a:pt x="751" y="237"/>
                    </a:lnTo>
                    <a:lnTo>
                      <a:pt x="740" y="216"/>
                    </a:lnTo>
                    <a:lnTo>
                      <a:pt x="727" y="194"/>
                    </a:lnTo>
                    <a:lnTo>
                      <a:pt x="712" y="173"/>
                    </a:lnTo>
                    <a:lnTo>
                      <a:pt x="697" y="151"/>
                    </a:lnTo>
                    <a:lnTo>
                      <a:pt x="682" y="133"/>
                    </a:lnTo>
                    <a:lnTo>
                      <a:pt x="665" y="115"/>
                    </a:lnTo>
                    <a:lnTo>
                      <a:pt x="649" y="98"/>
                    </a:lnTo>
                    <a:lnTo>
                      <a:pt x="632" y="81"/>
                    </a:lnTo>
                    <a:lnTo>
                      <a:pt x="615" y="68"/>
                    </a:lnTo>
                    <a:lnTo>
                      <a:pt x="597" y="55"/>
                    </a:lnTo>
                    <a:lnTo>
                      <a:pt x="579" y="43"/>
                    </a:lnTo>
                    <a:lnTo>
                      <a:pt x="559" y="33"/>
                    </a:lnTo>
                    <a:lnTo>
                      <a:pt x="541" y="25"/>
                    </a:lnTo>
                    <a:lnTo>
                      <a:pt x="521" y="17"/>
                    </a:lnTo>
                    <a:lnTo>
                      <a:pt x="501" y="12"/>
                    </a:lnTo>
                    <a:lnTo>
                      <a:pt x="479" y="7"/>
                    </a:lnTo>
                    <a:lnTo>
                      <a:pt x="459" y="3"/>
                    </a:lnTo>
                    <a:lnTo>
                      <a:pt x="438" y="2"/>
                    </a:lnTo>
                    <a:lnTo>
                      <a:pt x="415" y="0"/>
                    </a:lnTo>
                    <a:close/>
                    <a:moveTo>
                      <a:pt x="413" y="977"/>
                    </a:moveTo>
                    <a:lnTo>
                      <a:pt x="413" y="977"/>
                    </a:lnTo>
                    <a:lnTo>
                      <a:pt x="391" y="976"/>
                    </a:lnTo>
                    <a:lnTo>
                      <a:pt x="370" y="972"/>
                    </a:lnTo>
                    <a:lnTo>
                      <a:pt x="350" y="964"/>
                    </a:lnTo>
                    <a:lnTo>
                      <a:pt x="332" y="954"/>
                    </a:lnTo>
                    <a:lnTo>
                      <a:pt x="313" y="941"/>
                    </a:lnTo>
                    <a:lnTo>
                      <a:pt x="298" y="924"/>
                    </a:lnTo>
                    <a:lnTo>
                      <a:pt x="284" y="906"/>
                    </a:lnTo>
                    <a:lnTo>
                      <a:pt x="269" y="883"/>
                    </a:lnTo>
                    <a:lnTo>
                      <a:pt x="255" y="856"/>
                    </a:lnTo>
                    <a:lnTo>
                      <a:pt x="245" y="826"/>
                    </a:lnTo>
                    <a:lnTo>
                      <a:pt x="235" y="795"/>
                    </a:lnTo>
                    <a:lnTo>
                      <a:pt x="227" y="760"/>
                    </a:lnTo>
                    <a:lnTo>
                      <a:pt x="220" y="723"/>
                    </a:lnTo>
                    <a:lnTo>
                      <a:pt x="217" y="684"/>
                    </a:lnTo>
                    <a:lnTo>
                      <a:pt x="214" y="640"/>
                    </a:lnTo>
                    <a:lnTo>
                      <a:pt x="212" y="596"/>
                    </a:lnTo>
                    <a:lnTo>
                      <a:pt x="214" y="546"/>
                    </a:lnTo>
                    <a:lnTo>
                      <a:pt x="217" y="499"/>
                    </a:lnTo>
                    <a:lnTo>
                      <a:pt x="222" y="456"/>
                    </a:lnTo>
                    <a:lnTo>
                      <a:pt x="229" y="415"/>
                    </a:lnTo>
                    <a:lnTo>
                      <a:pt x="239" y="377"/>
                    </a:lnTo>
                    <a:lnTo>
                      <a:pt x="249" y="342"/>
                    </a:lnTo>
                    <a:lnTo>
                      <a:pt x="262" y="310"/>
                    </a:lnTo>
                    <a:lnTo>
                      <a:pt x="277" y="280"/>
                    </a:lnTo>
                    <a:lnTo>
                      <a:pt x="290" y="261"/>
                    </a:lnTo>
                    <a:lnTo>
                      <a:pt x="303" y="244"/>
                    </a:lnTo>
                    <a:lnTo>
                      <a:pt x="318" y="231"/>
                    </a:lnTo>
                    <a:lnTo>
                      <a:pt x="335" y="219"/>
                    </a:lnTo>
                    <a:lnTo>
                      <a:pt x="353" y="211"/>
                    </a:lnTo>
                    <a:lnTo>
                      <a:pt x="373" y="204"/>
                    </a:lnTo>
                    <a:lnTo>
                      <a:pt x="393" y="201"/>
                    </a:lnTo>
                    <a:lnTo>
                      <a:pt x="415" y="199"/>
                    </a:lnTo>
                    <a:lnTo>
                      <a:pt x="436" y="201"/>
                    </a:lnTo>
                    <a:lnTo>
                      <a:pt x="458" y="206"/>
                    </a:lnTo>
                    <a:lnTo>
                      <a:pt x="476" y="212"/>
                    </a:lnTo>
                    <a:lnTo>
                      <a:pt x="494" y="224"/>
                    </a:lnTo>
                    <a:lnTo>
                      <a:pt x="512" y="237"/>
                    </a:lnTo>
                    <a:lnTo>
                      <a:pt x="527" y="254"/>
                    </a:lnTo>
                    <a:lnTo>
                      <a:pt x="544" y="274"/>
                    </a:lnTo>
                    <a:lnTo>
                      <a:pt x="557" y="297"/>
                    </a:lnTo>
                    <a:lnTo>
                      <a:pt x="571" y="325"/>
                    </a:lnTo>
                    <a:lnTo>
                      <a:pt x="582" y="355"/>
                    </a:lnTo>
                    <a:lnTo>
                      <a:pt x="592" y="388"/>
                    </a:lnTo>
                    <a:lnTo>
                      <a:pt x="600" y="421"/>
                    </a:lnTo>
                    <a:lnTo>
                      <a:pt x="607" y="460"/>
                    </a:lnTo>
                    <a:lnTo>
                      <a:pt x="612" y="499"/>
                    </a:lnTo>
                    <a:lnTo>
                      <a:pt x="614" y="541"/>
                    </a:lnTo>
                    <a:lnTo>
                      <a:pt x="615" y="584"/>
                    </a:lnTo>
                    <a:lnTo>
                      <a:pt x="614" y="630"/>
                    </a:lnTo>
                    <a:lnTo>
                      <a:pt x="612" y="674"/>
                    </a:lnTo>
                    <a:lnTo>
                      <a:pt x="607" y="715"/>
                    </a:lnTo>
                    <a:lnTo>
                      <a:pt x="600" y="753"/>
                    </a:lnTo>
                    <a:lnTo>
                      <a:pt x="594" y="790"/>
                    </a:lnTo>
                    <a:lnTo>
                      <a:pt x="584" y="823"/>
                    </a:lnTo>
                    <a:lnTo>
                      <a:pt x="572" y="853"/>
                    </a:lnTo>
                    <a:lnTo>
                      <a:pt x="559" y="881"/>
                    </a:lnTo>
                    <a:lnTo>
                      <a:pt x="544" y="903"/>
                    </a:lnTo>
                    <a:lnTo>
                      <a:pt x="529" y="922"/>
                    </a:lnTo>
                    <a:lnTo>
                      <a:pt x="512" y="939"/>
                    </a:lnTo>
                    <a:lnTo>
                      <a:pt x="496" y="954"/>
                    </a:lnTo>
                    <a:lnTo>
                      <a:pt x="478" y="964"/>
                    </a:lnTo>
                    <a:lnTo>
                      <a:pt x="458" y="971"/>
                    </a:lnTo>
                    <a:lnTo>
                      <a:pt x="436" y="976"/>
                    </a:lnTo>
                    <a:lnTo>
                      <a:pt x="413" y="9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1"/>
              <p:cNvSpPr/>
              <p:nvPr/>
            </p:nvSpPr>
            <p:spPr>
              <a:xfrm>
                <a:off x="5651640" y="2053080"/>
                <a:ext cx="458280" cy="647640"/>
              </a:xfrm>
              <a:custGeom>
                <a:avLst/>
                <a:gdLst>
                  <a:gd name="textAreaLeft" fmla="*/ 0 w 458280"/>
                  <a:gd name="textAreaRight" fmla="*/ 458640 w 458280"/>
                  <a:gd name="textAreaTop" fmla="*/ 0 h 647640"/>
                  <a:gd name="textAreaBottom" fmla="*/ 648000 h 647640"/>
                </a:gdLst>
                <a:ahLst/>
                <a:rect l="textAreaLeft" t="textAreaTop" r="textAreaRight" b="textAreaBottom"/>
                <a:pathLst>
                  <a:path w="812" h="1146">
                    <a:moveTo>
                      <a:pt x="785" y="0"/>
                    </a:moveTo>
                    <a:lnTo>
                      <a:pt x="27" y="0"/>
                    </a:lnTo>
                    <a:lnTo>
                      <a:pt x="0" y="0"/>
                    </a:lnTo>
                    <a:lnTo>
                      <a:pt x="0" y="25"/>
                    </a:lnTo>
                    <a:lnTo>
                      <a:pt x="0" y="173"/>
                    </a:lnTo>
                    <a:lnTo>
                      <a:pt x="0" y="197"/>
                    </a:lnTo>
                    <a:lnTo>
                      <a:pt x="27" y="197"/>
                    </a:lnTo>
                    <a:lnTo>
                      <a:pt x="297" y="197"/>
                    </a:lnTo>
                    <a:lnTo>
                      <a:pt x="297" y="1121"/>
                    </a:lnTo>
                    <a:lnTo>
                      <a:pt x="297" y="1146"/>
                    </a:lnTo>
                    <a:lnTo>
                      <a:pt x="324" y="1146"/>
                    </a:lnTo>
                    <a:lnTo>
                      <a:pt x="483" y="1146"/>
                    </a:lnTo>
                    <a:lnTo>
                      <a:pt x="510" y="1146"/>
                    </a:lnTo>
                    <a:lnTo>
                      <a:pt x="510" y="1121"/>
                    </a:lnTo>
                    <a:lnTo>
                      <a:pt x="510" y="197"/>
                    </a:lnTo>
                    <a:lnTo>
                      <a:pt x="785" y="197"/>
                    </a:lnTo>
                    <a:lnTo>
                      <a:pt x="812" y="197"/>
                    </a:lnTo>
                    <a:lnTo>
                      <a:pt x="812" y="173"/>
                    </a:lnTo>
                    <a:lnTo>
                      <a:pt x="812" y="25"/>
                    </a:lnTo>
                    <a:lnTo>
                      <a:pt x="812" y="0"/>
                    </a:lnTo>
                    <a:lnTo>
                      <a:pt x="78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2"/>
              <p:cNvSpPr/>
              <p:nvPr/>
            </p:nvSpPr>
            <p:spPr>
              <a:xfrm>
                <a:off x="3369240" y="4015080"/>
                <a:ext cx="400680" cy="638640"/>
              </a:xfrm>
              <a:custGeom>
                <a:avLst/>
                <a:gdLst>
                  <a:gd name="textAreaLeft" fmla="*/ 0 w 400680"/>
                  <a:gd name="textAreaRight" fmla="*/ 401040 w 400680"/>
                  <a:gd name="textAreaTop" fmla="*/ 0 h 638640"/>
                  <a:gd name="textAreaBottom" fmla="*/ 639000 h 638640"/>
                </a:gdLst>
                <a:ahLst/>
                <a:rect l="textAreaLeft" t="textAreaTop" r="textAreaRight" b="textAreaBottom"/>
                <a:pathLst>
                  <a:path w="710" h="1131">
                    <a:moveTo>
                      <a:pt x="194" y="949"/>
                    </a:moveTo>
                    <a:lnTo>
                      <a:pt x="194" y="633"/>
                    </a:lnTo>
                    <a:lnTo>
                      <a:pt x="611" y="633"/>
                    </a:lnTo>
                    <a:lnTo>
                      <a:pt x="627" y="633"/>
                    </a:lnTo>
                    <a:lnTo>
                      <a:pt x="627" y="617"/>
                    </a:lnTo>
                    <a:lnTo>
                      <a:pt x="627" y="469"/>
                    </a:lnTo>
                    <a:lnTo>
                      <a:pt x="627" y="451"/>
                    </a:lnTo>
                    <a:lnTo>
                      <a:pt x="611" y="451"/>
                    </a:lnTo>
                    <a:lnTo>
                      <a:pt x="194" y="451"/>
                    </a:lnTo>
                    <a:lnTo>
                      <a:pt x="194" y="182"/>
                    </a:lnTo>
                    <a:lnTo>
                      <a:pt x="676" y="182"/>
                    </a:lnTo>
                    <a:lnTo>
                      <a:pt x="692" y="182"/>
                    </a:lnTo>
                    <a:lnTo>
                      <a:pt x="692" y="164"/>
                    </a:lnTo>
                    <a:lnTo>
                      <a:pt x="692" y="16"/>
                    </a:lnTo>
                    <a:lnTo>
                      <a:pt x="692" y="0"/>
                    </a:lnTo>
                    <a:lnTo>
                      <a:pt x="676" y="0"/>
                    </a:lnTo>
                    <a:lnTo>
                      <a:pt x="17" y="0"/>
                    </a:lnTo>
                    <a:lnTo>
                      <a:pt x="0" y="0"/>
                    </a:lnTo>
                    <a:lnTo>
                      <a:pt x="0" y="16"/>
                    </a:lnTo>
                    <a:lnTo>
                      <a:pt x="0" y="1113"/>
                    </a:lnTo>
                    <a:lnTo>
                      <a:pt x="0" y="1131"/>
                    </a:lnTo>
                    <a:lnTo>
                      <a:pt x="17" y="1131"/>
                    </a:lnTo>
                    <a:lnTo>
                      <a:pt x="694" y="1131"/>
                    </a:lnTo>
                    <a:lnTo>
                      <a:pt x="710" y="1131"/>
                    </a:lnTo>
                    <a:lnTo>
                      <a:pt x="710" y="1113"/>
                    </a:lnTo>
                    <a:lnTo>
                      <a:pt x="710" y="967"/>
                    </a:lnTo>
                    <a:lnTo>
                      <a:pt x="710" y="949"/>
                    </a:lnTo>
                    <a:lnTo>
                      <a:pt x="694" y="949"/>
                    </a:lnTo>
                    <a:lnTo>
                      <a:pt x="194" y="9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
              <p:cNvSpPr/>
              <p:nvPr/>
            </p:nvSpPr>
            <p:spPr>
              <a:xfrm>
                <a:off x="3862800" y="4015080"/>
                <a:ext cx="430200" cy="638640"/>
              </a:xfrm>
              <a:custGeom>
                <a:avLst/>
                <a:gdLst>
                  <a:gd name="textAreaLeft" fmla="*/ 0 w 430200"/>
                  <a:gd name="textAreaRight" fmla="*/ 430560 w 430200"/>
                  <a:gd name="textAreaTop" fmla="*/ 0 h 638640"/>
                  <a:gd name="textAreaBottom" fmla="*/ 639000 h 638640"/>
                </a:gdLst>
                <a:ahLst/>
                <a:rect l="textAreaLeft" t="textAreaTop" r="textAreaRight" b="textAreaBottom"/>
                <a:pathLst>
                  <a:path w="761" h="1131">
                    <a:moveTo>
                      <a:pt x="597" y="0"/>
                    </a:moveTo>
                    <a:lnTo>
                      <a:pt x="580" y="0"/>
                    </a:lnTo>
                    <a:lnTo>
                      <a:pt x="580" y="16"/>
                    </a:lnTo>
                    <a:lnTo>
                      <a:pt x="580" y="748"/>
                    </a:lnTo>
                    <a:lnTo>
                      <a:pt x="225" y="10"/>
                    </a:lnTo>
                    <a:lnTo>
                      <a:pt x="220" y="0"/>
                    </a:lnTo>
                    <a:lnTo>
                      <a:pt x="209" y="0"/>
                    </a:lnTo>
                    <a:lnTo>
                      <a:pt x="16" y="0"/>
                    </a:lnTo>
                    <a:lnTo>
                      <a:pt x="0" y="0"/>
                    </a:lnTo>
                    <a:lnTo>
                      <a:pt x="0" y="16"/>
                    </a:lnTo>
                    <a:lnTo>
                      <a:pt x="0" y="1113"/>
                    </a:lnTo>
                    <a:lnTo>
                      <a:pt x="0" y="1131"/>
                    </a:lnTo>
                    <a:lnTo>
                      <a:pt x="16" y="1131"/>
                    </a:lnTo>
                    <a:lnTo>
                      <a:pt x="164" y="1131"/>
                    </a:lnTo>
                    <a:lnTo>
                      <a:pt x="181" y="1131"/>
                    </a:lnTo>
                    <a:lnTo>
                      <a:pt x="181" y="1113"/>
                    </a:lnTo>
                    <a:lnTo>
                      <a:pt x="181" y="346"/>
                    </a:lnTo>
                    <a:lnTo>
                      <a:pt x="551" y="1121"/>
                    </a:lnTo>
                    <a:lnTo>
                      <a:pt x="556" y="1131"/>
                    </a:lnTo>
                    <a:lnTo>
                      <a:pt x="567" y="1131"/>
                    </a:lnTo>
                    <a:lnTo>
                      <a:pt x="745" y="1131"/>
                    </a:lnTo>
                    <a:lnTo>
                      <a:pt x="761" y="1131"/>
                    </a:lnTo>
                    <a:lnTo>
                      <a:pt x="761" y="1113"/>
                    </a:lnTo>
                    <a:lnTo>
                      <a:pt x="761" y="16"/>
                    </a:lnTo>
                    <a:lnTo>
                      <a:pt x="761" y="0"/>
                    </a:lnTo>
                    <a:lnTo>
                      <a:pt x="745" y="0"/>
                    </a:lnTo>
                    <a:lnTo>
                      <a:pt x="5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
              <p:cNvSpPr/>
              <p:nvPr/>
            </p:nvSpPr>
            <p:spPr>
              <a:xfrm>
                <a:off x="4368600" y="4015080"/>
                <a:ext cx="447120" cy="638640"/>
              </a:xfrm>
              <a:custGeom>
                <a:avLst/>
                <a:gdLst>
                  <a:gd name="textAreaLeft" fmla="*/ 0 w 447120"/>
                  <a:gd name="textAreaRight" fmla="*/ 447480 w 447120"/>
                  <a:gd name="textAreaTop" fmla="*/ 0 h 638640"/>
                  <a:gd name="textAreaBottom" fmla="*/ 639000 h 638640"/>
                </a:gdLst>
                <a:ahLst/>
                <a:rect l="textAreaLeft" t="textAreaTop" r="textAreaRight" b="textAreaBottom"/>
                <a:pathLst>
                  <a:path w="793" h="1131">
                    <a:moveTo>
                      <a:pt x="17" y="0"/>
                    </a:moveTo>
                    <a:lnTo>
                      <a:pt x="0" y="0"/>
                    </a:lnTo>
                    <a:lnTo>
                      <a:pt x="0" y="16"/>
                    </a:lnTo>
                    <a:lnTo>
                      <a:pt x="0" y="164"/>
                    </a:lnTo>
                    <a:lnTo>
                      <a:pt x="0" y="182"/>
                    </a:lnTo>
                    <a:lnTo>
                      <a:pt x="17" y="182"/>
                    </a:lnTo>
                    <a:lnTo>
                      <a:pt x="295" y="182"/>
                    </a:lnTo>
                    <a:lnTo>
                      <a:pt x="295" y="1113"/>
                    </a:lnTo>
                    <a:lnTo>
                      <a:pt x="295" y="1131"/>
                    </a:lnTo>
                    <a:lnTo>
                      <a:pt x="314" y="1131"/>
                    </a:lnTo>
                    <a:lnTo>
                      <a:pt x="473" y="1131"/>
                    </a:lnTo>
                    <a:lnTo>
                      <a:pt x="491" y="1131"/>
                    </a:lnTo>
                    <a:lnTo>
                      <a:pt x="491" y="1113"/>
                    </a:lnTo>
                    <a:lnTo>
                      <a:pt x="491" y="182"/>
                    </a:lnTo>
                    <a:lnTo>
                      <a:pt x="775" y="182"/>
                    </a:lnTo>
                    <a:lnTo>
                      <a:pt x="793" y="182"/>
                    </a:lnTo>
                    <a:lnTo>
                      <a:pt x="793" y="164"/>
                    </a:lnTo>
                    <a:lnTo>
                      <a:pt x="793" y="16"/>
                    </a:lnTo>
                    <a:lnTo>
                      <a:pt x="793" y="0"/>
                    </a:lnTo>
                    <a:lnTo>
                      <a:pt x="775"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5"/>
              <p:cNvSpPr/>
              <p:nvPr/>
            </p:nvSpPr>
            <p:spPr>
              <a:xfrm>
                <a:off x="4861080" y="4015080"/>
                <a:ext cx="400680" cy="638640"/>
              </a:xfrm>
              <a:custGeom>
                <a:avLst/>
                <a:gdLst>
                  <a:gd name="textAreaLeft" fmla="*/ 0 w 400680"/>
                  <a:gd name="textAreaRight" fmla="*/ 401040 w 400680"/>
                  <a:gd name="textAreaTop" fmla="*/ 0 h 638640"/>
                  <a:gd name="textAreaBottom" fmla="*/ 639000 h 638640"/>
                </a:gdLst>
                <a:ahLst/>
                <a:rect l="textAreaLeft" t="textAreaTop" r="textAreaRight" b="textAreaBottom"/>
                <a:pathLst>
                  <a:path w="710" h="1131">
                    <a:moveTo>
                      <a:pt x="194" y="949"/>
                    </a:moveTo>
                    <a:lnTo>
                      <a:pt x="194" y="633"/>
                    </a:lnTo>
                    <a:lnTo>
                      <a:pt x="611" y="633"/>
                    </a:lnTo>
                    <a:lnTo>
                      <a:pt x="629" y="633"/>
                    </a:lnTo>
                    <a:lnTo>
                      <a:pt x="629" y="617"/>
                    </a:lnTo>
                    <a:lnTo>
                      <a:pt x="629" y="469"/>
                    </a:lnTo>
                    <a:lnTo>
                      <a:pt x="629" y="451"/>
                    </a:lnTo>
                    <a:lnTo>
                      <a:pt x="611" y="451"/>
                    </a:lnTo>
                    <a:lnTo>
                      <a:pt x="194" y="451"/>
                    </a:lnTo>
                    <a:lnTo>
                      <a:pt x="194" y="182"/>
                    </a:lnTo>
                    <a:lnTo>
                      <a:pt x="675" y="182"/>
                    </a:lnTo>
                    <a:lnTo>
                      <a:pt x="692" y="182"/>
                    </a:lnTo>
                    <a:lnTo>
                      <a:pt x="692" y="164"/>
                    </a:lnTo>
                    <a:lnTo>
                      <a:pt x="692" y="16"/>
                    </a:lnTo>
                    <a:lnTo>
                      <a:pt x="692" y="0"/>
                    </a:lnTo>
                    <a:lnTo>
                      <a:pt x="675" y="0"/>
                    </a:lnTo>
                    <a:lnTo>
                      <a:pt x="18" y="0"/>
                    </a:lnTo>
                    <a:lnTo>
                      <a:pt x="0" y="0"/>
                    </a:lnTo>
                    <a:lnTo>
                      <a:pt x="0" y="16"/>
                    </a:lnTo>
                    <a:lnTo>
                      <a:pt x="0" y="1113"/>
                    </a:lnTo>
                    <a:lnTo>
                      <a:pt x="0" y="1131"/>
                    </a:lnTo>
                    <a:lnTo>
                      <a:pt x="18" y="1131"/>
                    </a:lnTo>
                    <a:lnTo>
                      <a:pt x="693" y="1131"/>
                    </a:lnTo>
                    <a:lnTo>
                      <a:pt x="710" y="1131"/>
                    </a:lnTo>
                    <a:lnTo>
                      <a:pt x="710" y="1113"/>
                    </a:lnTo>
                    <a:lnTo>
                      <a:pt x="710" y="967"/>
                    </a:lnTo>
                    <a:lnTo>
                      <a:pt x="710" y="949"/>
                    </a:lnTo>
                    <a:lnTo>
                      <a:pt x="693" y="949"/>
                    </a:lnTo>
                    <a:lnTo>
                      <a:pt x="194" y="9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16"/>
              <p:cNvSpPr/>
              <p:nvPr/>
            </p:nvSpPr>
            <p:spPr>
              <a:xfrm>
                <a:off x="5355720" y="4015080"/>
                <a:ext cx="443520" cy="638640"/>
              </a:xfrm>
              <a:custGeom>
                <a:avLst/>
                <a:gdLst>
                  <a:gd name="textAreaLeft" fmla="*/ 0 w 443520"/>
                  <a:gd name="textAreaRight" fmla="*/ 443880 w 443520"/>
                  <a:gd name="textAreaTop" fmla="*/ 0 h 638640"/>
                  <a:gd name="textAreaBottom" fmla="*/ 639000 h 638640"/>
                </a:gdLst>
                <a:ahLst/>
                <a:rect l="textAreaLeft" t="textAreaTop" r="textAreaRight" b="textAreaBottom"/>
                <a:pathLst>
                  <a:path w="787" h="1131">
                    <a:moveTo>
                      <a:pt x="772" y="1104"/>
                    </a:moveTo>
                    <a:lnTo>
                      <a:pt x="495" y="633"/>
                    </a:lnTo>
                    <a:lnTo>
                      <a:pt x="518" y="627"/>
                    </a:lnTo>
                    <a:lnTo>
                      <a:pt x="539" y="618"/>
                    </a:lnTo>
                    <a:lnTo>
                      <a:pt x="561" y="607"/>
                    </a:lnTo>
                    <a:lnTo>
                      <a:pt x="581" y="595"/>
                    </a:lnTo>
                    <a:lnTo>
                      <a:pt x="599" y="584"/>
                    </a:lnTo>
                    <a:lnTo>
                      <a:pt x="616" y="569"/>
                    </a:lnTo>
                    <a:lnTo>
                      <a:pt x="632" y="552"/>
                    </a:lnTo>
                    <a:lnTo>
                      <a:pt x="645" y="535"/>
                    </a:lnTo>
                    <a:lnTo>
                      <a:pt x="660" y="516"/>
                    </a:lnTo>
                    <a:lnTo>
                      <a:pt x="674" y="492"/>
                    </a:lnTo>
                    <a:lnTo>
                      <a:pt x="684" y="469"/>
                    </a:lnTo>
                    <a:lnTo>
                      <a:pt x="692" y="446"/>
                    </a:lnTo>
                    <a:lnTo>
                      <a:pt x="700" y="419"/>
                    </a:lnTo>
                    <a:lnTo>
                      <a:pt x="705" y="393"/>
                    </a:lnTo>
                    <a:lnTo>
                      <a:pt x="707" y="365"/>
                    </a:lnTo>
                    <a:lnTo>
                      <a:pt x="709" y="335"/>
                    </a:lnTo>
                    <a:lnTo>
                      <a:pt x="707" y="298"/>
                    </a:lnTo>
                    <a:lnTo>
                      <a:pt x="702" y="262"/>
                    </a:lnTo>
                    <a:lnTo>
                      <a:pt x="695" y="229"/>
                    </a:lnTo>
                    <a:lnTo>
                      <a:pt x="684" y="197"/>
                    </a:lnTo>
                    <a:lnTo>
                      <a:pt x="670" y="167"/>
                    </a:lnTo>
                    <a:lnTo>
                      <a:pt x="654" y="139"/>
                    </a:lnTo>
                    <a:lnTo>
                      <a:pt x="634" y="114"/>
                    </a:lnTo>
                    <a:lnTo>
                      <a:pt x="611" y="91"/>
                    </a:lnTo>
                    <a:lnTo>
                      <a:pt x="586" y="69"/>
                    </a:lnTo>
                    <a:lnTo>
                      <a:pt x="559" y="51"/>
                    </a:lnTo>
                    <a:lnTo>
                      <a:pt x="529" y="36"/>
                    </a:lnTo>
                    <a:lnTo>
                      <a:pt x="498" y="23"/>
                    </a:lnTo>
                    <a:lnTo>
                      <a:pt x="465" y="13"/>
                    </a:lnTo>
                    <a:lnTo>
                      <a:pt x="430" y="6"/>
                    </a:lnTo>
                    <a:lnTo>
                      <a:pt x="392" y="1"/>
                    </a:lnTo>
                    <a:lnTo>
                      <a:pt x="352" y="0"/>
                    </a:lnTo>
                    <a:lnTo>
                      <a:pt x="17" y="0"/>
                    </a:lnTo>
                    <a:lnTo>
                      <a:pt x="0" y="0"/>
                    </a:lnTo>
                    <a:lnTo>
                      <a:pt x="0" y="16"/>
                    </a:lnTo>
                    <a:lnTo>
                      <a:pt x="0" y="1113"/>
                    </a:lnTo>
                    <a:lnTo>
                      <a:pt x="0" y="1131"/>
                    </a:lnTo>
                    <a:lnTo>
                      <a:pt x="17" y="1131"/>
                    </a:lnTo>
                    <a:lnTo>
                      <a:pt x="178" y="1131"/>
                    </a:lnTo>
                    <a:lnTo>
                      <a:pt x="194" y="1131"/>
                    </a:lnTo>
                    <a:lnTo>
                      <a:pt x="194" y="1113"/>
                    </a:lnTo>
                    <a:lnTo>
                      <a:pt x="194" y="673"/>
                    </a:lnTo>
                    <a:lnTo>
                      <a:pt x="307" y="673"/>
                    </a:lnTo>
                    <a:lnTo>
                      <a:pt x="556" y="1121"/>
                    </a:lnTo>
                    <a:lnTo>
                      <a:pt x="561" y="1131"/>
                    </a:lnTo>
                    <a:lnTo>
                      <a:pt x="571" y="1131"/>
                    </a:lnTo>
                    <a:lnTo>
                      <a:pt x="757" y="1131"/>
                    </a:lnTo>
                    <a:lnTo>
                      <a:pt x="787" y="1131"/>
                    </a:lnTo>
                    <a:lnTo>
                      <a:pt x="772" y="1104"/>
                    </a:lnTo>
                    <a:close/>
                    <a:moveTo>
                      <a:pt x="513" y="338"/>
                    </a:moveTo>
                    <a:lnTo>
                      <a:pt x="513" y="338"/>
                    </a:lnTo>
                    <a:lnTo>
                      <a:pt x="513" y="356"/>
                    </a:lnTo>
                    <a:lnTo>
                      <a:pt x="509" y="374"/>
                    </a:lnTo>
                    <a:lnTo>
                      <a:pt x="506" y="391"/>
                    </a:lnTo>
                    <a:lnTo>
                      <a:pt x="501" y="406"/>
                    </a:lnTo>
                    <a:lnTo>
                      <a:pt x="495" y="419"/>
                    </a:lnTo>
                    <a:lnTo>
                      <a:pt x="486" y="431"/>
                    </a:lnTo>
                    <a:lnTo>
                      <a:pt x="478" y="443"/>
                    </a:lnTo>
                    <a:lnTo>
                      <a:pt x="466" y="452"/>
                    </a:lnTo>
                    <a:lnTo>
                      <a:pt x="453" y="462"/>
                    </a:lnTo>
                    <a:lnTo>
                      <a:pt x="440" y="469"/>
                    </a:lnTo>
                    <a:lnTo>
                      <a:pt x="425" y="476"/>
                    </a:lnTo>
                    <a:lnTo>
                      <a:pt x="407" y="482"/>
                    </a:lnTo>
                    <a:lnTo>
                      <a:pt x="388" y="486"/>
                    </a:lnTo>
                    <a:lnTo>
                      <a:pt x="368" y="489"/>
                    </a:lnTo>
                    <a:lnTo>
                      <a:pt x="347" y="491"/>
                    </a:lnTo>
                    <a:lnTo>
                      <a:pt x="324" y="491"/>
                    </a:lnTo>
                    <a:lnTo>
                      <a:pt x="194" y="491"/>
                    </a:lnTo>
                    <a:lnTo>
                      <a:pt x="194" y="182"/>
                    </a:lnTo>
                    <a:lnTo>
                      <a:pt x="324" y="182"/>
                    </a:lnTo>
                    <a:lnTo>
                      <a:pt x="345" y="182"/>
                    </a:lnTo>
                    <a:lnTo>
                      <a:pt x="368" y="184"/>
                    </a:lnTo>
                    <a:lnTo>
                      <a:pt x="388" y="187"/>
                    </a:lnTo>
                    <a:lnTo>
                      <a:pt x="407" y="190"/>
                    </a:lnTo>
                    <a:lnTo>
                      <a:pt x="423" y="197"/>
                    </a:lnTo>
                    <a:lnTo>
                      <a:pt x="440" y="204"/>
                    </a:lnTo>
                    <a:lnTo>
                      <a:pt x="453" y="210"/>
                    </a:lnTo>
                    <a:lnTo>
                      <a:pt x="466" y="220"/>
                    </a:lnTo>
                    <a:lnTo>
                      <a:pt x="476" y="230"/>
                    </a:lnTo>
                    <a:lnTo>
                      <a:pt x="486" y="242"/>
                    </a:lnTo>
                    <a:lnTo>
                      <a:pt x="495" y="255"/>
                    </a:lnTo>
                    <a:lnTo>
                      <a:pt x="501" y="270"/>
                    </a:lnTo>
                    <a:lnTo>
                      <a:pt x="506" y="285"/>
                    </a:lnTo>
                    <a:lnTo>
                      <a:pt x="509" y="301"/>
                    </a:lnTo>
                    <a:lnTo>
                      <a:pt x="513" y="320"/>
                    </a:lnTo>
                    <a:lnTo>
                      <a:pt x="513"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Freeform 17"/>
              <p:cNvSpPr/>
              <p:nvPr/>
            </p:nvSpPr>
            <p:spPr>
              <a:xfrm>
                <a:off x="2701800" y="2979720"/>
                <a:ext cx="3754800" cy="745920"/>
              </a:xfrm>
              <a:custGeom>
                <a:avLst/>
                <a:gdLst>
                  <a:gd name="textAreaLeft" fmla="*/ 0 w 3754800"/>
                  <a:gd name="textAreaRight" fmla="*/ 3755160 w 3754800"/>
                  <a:gd name="textAreaTop" fmla="*/ 0 h 745920"/>
                  <a:gd name="textAreaBottom" fmla="*/ 746280 h 745920"/>
                </a:gdLst>
                <a:ahLst/>
                <a:rect l="textAreaLeft" t="textAreaTop" r="textAreaRight" b="textAreaBottom"/>
                <a:pathLst>
                  <a:path w="6649" h="1322">
                    <a:moveTo>
                      <a:pt x="6649" y="899"/>
                    </a:moveTo>
                    <a:lnTo>
                      <a:pt x="6649" y="899"/>
                    </a:lnTo>
                    <a:lnTo>
                      <a:pt x="6647" y="920"/>
                    </a:lnTo>
                    <a:lnTo>
                      <a:pt x="6645" y="942"/>
                    </a:lnTo>
                    <a:lnTo>
                      <a:pt x="6644" y="962"/>
                    </a:lnTo>
                    <a:lnTo>
                      <a:pt x="6640" y="984"/>
                    </a:lnTo>
                    <a:lnTo>
                      <a:pt x="6635" y="1003"/>
                    </a:lnTo>
                    <a:lnTo>
                      <a:pt x="6629" y="1023"/>
                    </a:lnTo>
                    <a:lnTo>
                      <a:pt x="6622" y="1043"/>
                    </a:lnTo>
                    <a:lnTo>
                      <a:pt x="6616" y="1063"/>
                    </a:lnTo>
                    <a:lnTo>
                      <a:pt x="6607" y="1081"/>
                    </a:lnTo>
                    <a:lnTo>
                      <a:pt x="6597" y="1100"/>
                    </a:lnTo>
                    <a:lnTo>
                      <a:pt x="6576" y="1134"/>
                    </a:lnTo>
                    <a:lnTo>
                      <a:pt x="6551" y="1168"/>
                    </a:lnTo>
                    <a:lnTo>
                      <a:pt x="6524" y="1198"/>
                    </a:lnTo>
                    <a:lnTo>
                      <a:pt x="6494" y="1224"/>
                    </a:lnTo>
                    <a:lnTo>
                      <a:pt x="6461" y="1249"/>
                    </a:lnTo>
                    <a:lnTo>
                      <a:pt x="6426" y="1271"/>
                    </a:lnTo>
                    <a:lnTo>
                      <a:pt x="6408" y="1279"/>
                    </a:lnTo>
                    <a:lnTo>
                      <a:pt x="6390" y="1289"/>
                    </a:lnTo>
                    <a:lnTo>
                      <a:pt x="6370" y="1295"/>
                    </a:lnTo>
                    <a:lnTo>
                      <a:pt x="6350" y="1302"/>
                    </a:lnTo>
                    <a:lnTo>
                      <a:pt x="6330" y="1309"/>
                    </a:lnTo>
                    <a:lnTo>
                      <a:pt x="6310" y="1312"/>
                    </a:lnTo>
                    <a:lnTo>
                      <a:pt x="6289" y="1317"/>
                    </a:lnTo>
                    <a:lnTo>
                      <a:pt x="6269" y="1319"/>
                    </a:lnTo>
                    <a:lnTo>
                      <a:pt x="6247" y="1320"/>
                    </a:lnTo>
                    <a:lnTo>
                      <a:pt x="6226" y="1322"/>
                    </a:lnTo>
                    <a:lnTo>
                      <a:pt x="423" y="1322"/>
                    </a:lnTo>
                    <a:lnTo>
                      <a:pt x="401" y="1320"/>
                    </a:lnTo>
                    <a:lnTo>
                      <a:pt x="380" y="1319"/>
                    </a:lnTo>
                    <a:lnTo>
                      <a:pt x="358" y="1317"/>
                    </a:lnTo>
                    <a:lnTo>
                      <a:pt x="338" y="1312"/>
                    </a:lnTo>
                    <a:lnTo>
                      <a:pt x="317" y="1309"/>
                    </a:lnTo>
                    <a:lnTo>
                      <a:pt x="297" y="1302"/>
                    </a:lnTo>
                    <a:lnTo>
                      <a:pt x="277" y="1295"/>
                    </a:lnTo>
                    <a:lnTo>
                      <a:pt x="259" y="1289"/>
                    </a:lnTo>
                    <a:lnTo>
                      <a:pt x="240" y="1279"/>
                    </a:lnTo>
                    <a:lnTo>
                      <a:pt x="222" y="1271"/>
                    </a:lnTo>
                    <a:lnTo>
                      <a:pt x="187" y="1249"/>
                    </a:lnTo>
                    <a:lnTo>
                      <a:pt x="154" y="1224"/>
                    </a:lnTo>
                    <a:lnTo>
                      <a:pt x="124" y="1198"/>
                    </a:lnTo>
                    <a:lnTo>
                      <a:pt x="96" y="1168"/>
                    </a:lnTo>
                    <a:lnTo>
                      <a:pt x="73" y="1134"/>
                    </a:lnTo>
                    <a:lnTo>
                      <a:pt x="51" y="1100"/>
                    </a:lnTo>
                    <a:lnTo>
                      <a:pt x="41" y="1081"/>
                    </a:lnTo>
                    <a:lnTo>
                      <a:pt x="33" y="1063"/>
                    </a:lnTo>
                    <a:lnTo>
                      <a:pt x="26" y="1043"/>
                    </a:lnTo>
                    <a:lnTo>
                      <a:pt x="20" y="1023"/>
                    </a:lnTo>
                    <a:lnTo>
                      <a:pt x="13" y="1003"/>
                    </a:lnTo>
                    <a:lnTo>
                      <a:pt x="8" y="984"/>
                    </a:lnTo>
                    <a:lnTo>
                      <a:pt x="5" y="962"/>
                    </a:lnTo>
                    <a:lnTo>
                      <a:pt x="1" y="942"/>
                    </a:lnTo>
                    <a:lnTo>
                      <a:pt x="0" y="920"/>
                    </a:lnTo>
                    <a:lnTo>
                      <a:pt x="0" y="899"/>
                    </a:lnTo>
                    <a:lnTo>
                      <a:pt x="0" y="423"/>
                    </a:lnTo>
                    <a:lnTo>
                      <a:pt x="0" y="401"/>
                    </a:lnTo>
                    <a:lnTo>
                      <a:pt x="1" y="380"/>
                    </a:lnTo>
                    <a:lnTo>
                      <a:pt x="5" y="358"/>
                    </a:lnTo>
                    <a:lnTo>
                      <a:pt x="8" y="336"/>
                    </a:lnTo>
                    <a:lnTo>
                      <a:pt x="13" y="317"/>
                    </a:lnTo>
                    <a:lnTo>
                      <a:pt x="20" y="297"/>
                    </a:lnTo>
                    <a:lnTo>
                      <a:pt x="26" y="277"/>
                    </a:lnTo>
                    <a:lnTo>
                      <a:pt x="33" y="257"/>
                    </a:lnTo>
                    <a:lnTo>
                      <a:pt x="41" y="239"/>
                    </a:lnTo>
                    <a:lnTo>
                      <a:pt x="51" y="220"/>
                    </a:lnTo>
                    <a:lnTo>
                      <a:pt x="73" y="186"/>
                    </a:lnTo>
                    <a:lnTo>
                      <a:pt x="96" y="152"/>
                    </a:lnTo>
                    <a:lnTo>
                      <a:pt x="124" y="122"/>
                    </a:lnTo>
                    <a:lnTo>
                      <a:pt x="154" y="96"/>
                    </a:lnTo>
                    <a:lnTo>
                      <a:pt x="187" y="71"/>
                    </a:lnTo>
                    <a:lnTo>
                      <a:pt x="222" y="49"/>
                    </a:lnTo>
                    <a:lnTo>
                      <a:pt x="240" y="41"/>
                    </a:lnTo>
                    <a:lnTo>
                      <a:pt x="259" y="33"/>
                    </a:lnTo>
                    <a:lnTo>
                      <a:pt x="277" y="25"/>
                    </a:lnTo>
                    <a:lnTo>
                      <a:pt x="297" y="18"/>
                    </a:lnTo>
                    <a:lnTo>
                      <a:pt x="317" y="13"/>
                    </a:lnTo>
                    <a:lnTo>
                      <a:pt x="338" y="8"/>
                    </a:lnTo>
                    <a:lnTo>
                      <a:pt x="358" y="5"/>
                    </a:lnTo>
                    <a:lnTo>
                      <a:pt x="380" y="1"/>
                    </a:lnTo>
                    <a:lnTo>
                      <a:pt x="401" y="0"/>
                    </a:lnTo>
                    <a:lnTo>
                      <a:pt x="423" y="0"/>
                    </a:lnTo>
                    <a:lnTo>
                      <a:pt x="6226" y="0"/>
                    </a:lnTo>
                    <a:lnTo>
                      <a:pt x="6247" y="0"/>
                    </a:lnTo>
                    <a:lnTo>
                      <a:pt x="6269" y="1"/>
                    </a:lnTo>
                    <a:lnTo>
                      <a:pt x="6289" y="5"/>
                    </a:lnTo>
                    <a:lnTo>
                      <a:pt x="6310" y="8"/>
                    </a:lnTo>
                    <a:lnTo>
                      <a:pt x="6330" y="13"/>
                    </a:lnTo>
                    <a:lnTo>
                      <a:pt x="6350" y="18"/>
                    </a:lnTo>
                    <a:lnTo>
                      <a:pt x="6370" y="25"/>
                    </a:lnTo>
                    <a:lnTo>
                      <a:pt x="6390" y="33"/>
                    </a:lnTo>
                    <a:lnTo>
                      <a:pt x="6408" y="41"/>
                    </a:lnTo>
                    <a:lnTo>
                      <a:pt x="6426" y="49"/>
                    </a:lnTo>
                    <a:lnTo>
                      <a:pt x="6461" y="71"/>
                    </a:lnTo>
                    <a:lnTo>
                      <a:pt x="6494" y="96"/>
                    </a:lnTo>
                    <a:lnTo>
                      <a:pt x="6524" y="122"/>
                    </a:lnTo>
                    <a:lnTo>
                      <a:pt x="6551" y="152"/>
                    </a:lnTo>
                    <a:lnTo>
                      <a:pt x="6576" y="186"/>
                    </a:lnTo>
                    <a:lnTo>
                      <a:pt x="6597" y="220"/>
                    </a:lnTo>
                    <a:lnTo>
                      <a:pt x="6607" y="239"/>
                    </a:lnTo>
                    <a:lnTo>
                      <a:pt x="6616" y="257"/>
                    </a:lnTo>
                    <a:lnTo>
                      <a:pt x="6622" y="277"/>
                    </a:lnTo>
                    <a:lnTo>
                      <a:pt x="6629" y="297"/>
                    </a:lnTo>
                    <a:lnTo>
                      <a:pt x="6635" y="317"/>
                    </a:lnTo>
                    <a:lnTo>
                      <a:pt x="6640" y="336"/>
                    </a:lnTo>
                    <a:lnTo>
                      <a:pt x="6644" y="358"/>
                    </a:lnTo>
                    <a:lnTo>
                      <a:pt x="6645" y="380"/>
                    </a:lnTo>
                    <a:lnTo>
                      <a:pt x="6647" y="401"/>
                    </a:lnTo>
                    <a:lnTo>
                      <a:pt x="6649" y="423"/>
                    </a:lnTo>
                    <a:lnTo>
                      <a:pt x="6649" y="899"/>
                    </a:lnTo>
                    <a:close/>
                  </a:path>
                </a:pathLst>
              </a:custGeom>
              <a:gradFill rotWithShape="0">
                <a:gsLst>
                  <a:gs pos="0">
                    <a:srgbClr val="e6e6e6"/>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29"/>
            <p:cNvGrpSpPr/>
            <p:nvPr/>
          </p:nvGrpSpPr>
          <p:grpSpPr>
            <a:xfrm>
              <a:off x="4523400" y="981000"/>
              <a:ext cx="109440" cy="109440"/>
              <a:chOff x="4523400" y="981000"/>
              <a:chExt cx="109440" cy="109440"/>
            </a:xfrm>
          </p:grpSpPr>
          <p:pic>
            <p:nvPicPr>
              <p:cNvPr id="1106" name="Oval 47" descr=""/>
              <p:cNvPicPr/>
              <p:nvPr/>
            </p:nvPicPr>
            <p:blipFill>
              <a:blip r:embed="rId1"/>
              <a:stretch/>
            </p:blipFill>
            <p:spPr>
              <a:xfrm>
                <a:off x="4523400" y="981000"/>
                <a:ext cx="109440" cy="109440"/>
              </a:xfrm>
              <a:prstGeom prst="rect">
                <a:avLst/>
              </a:prstGeom>
              <a:ln w="0">
                <a:noFill/>
              </a:ln>
            </p:spPr>
          </p:pic>
          <p:sp>
            <p:nvSpPr>
              <p:cNvPr id="1107" name="Text Box 31"/>
              <p:cNvSpPr/>
              <p:nvPr/>
            </p:nvSpPr>
            <p:spPr>
              <a:xfrm>
                <a:off x="4540680" y="1001160"/>
                <a:ext cx="53640" cy="53640"/>
              </a:xfrm>
              <a:prstGeom prst="rect">
                <a:avLst/>
              </a:prstGeom>
              <a:noFill/>
              <a:ln w="0">
                <a:noFill/>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8" name="Group 32"/>
            <p:cNvGrpSpPr/>
            <p:nvPr/>
          </p:nvGrpSpPr>
          <p:grpSpPr>
            <a:xfrm>
              <a:off x="4529160" y="5608080"/>
              <a:ext cx="109440" cy="103320"/>
              <a:chOff x="4529160" y="5608080"/>
              <a:chExt cx="109440" cy="103320"/>
            </a:xfrm>
          </p:grpSpPr>
          <p:pic>
            <p:nvPicPr>
              <p:cNvPr id="1109" name="Oval 48" descr=""/>
              <p:cNvPicPr/>
              <p:nvPr/>
            </p:nvPicPr>
            <p:blipFill>
              <a:blip r:embed="rId2"/>
              <a:stretch/>
            </p:blipFill>
            <p:spPr>
              <a:xfrm>
                <a:off x="4529160" y="5608080"/>
                <a:ext cx="109440" cy="103320"/>
              </a:xfrm>
              <a:prstGeom prst="rect">
                <a:avLst/>
              </a:prstGeom>
              <a:ln w="0">
                <a:noFill/>
              </a:ln>
            </p:spPr>
          </p:pic>
          <p:sp>
            <p:nvSpPr>
              <p:cNvPr id="1110" name="Text Box 34"/>
              <p:cNvSpPr/>
              <p:nvPr/>
            </p:nvSpPr>
            <p:spPr>
              <a:xfrm>
                <a:off x="4548960" y="5623920"/>
                <a:ext cx="53640" cy="53640"/>
              </a:xfrm>
              <a:prstGeom prst="rect">
                <a:avLst/>
              </a:prstGeom>
              <a:noFill/>
              <a:ln w="0">
                <a:noFill/>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11" name="TextBox 38">
            <a:hlinkClick r:id="rId3"/>
          </p:cNvPr>
          <p:cNvSpPr/>
          <p:nvPr/>
        </p:nvSpPr>
        <p:spPr>
          <a:xfrm>
            <a:off x="4255920" y="6456240"/>
            <a:ext cx="488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Arial"/>
                <a:ea typeface="MS PGothic"/>
              </a:rPr>
              <a:t>锐普</a:t>
            </a:r>
            <a:r>
              <a:rPr b="0" lang="en-US" sz="1800" spc="-1" strike="noStrike">
                <a:solidFill>
                  <a:srgbClr val="000000"/>
                </a:solidFill>
                <a:latin typeface="Arial"/>
                <a:ea typeface="MS PGothic"/>
              </a:rPr>
              <a:t>PPT</a:t>
            </a:r>
            <a:r>
              <a:rPr b="0" lang="zh-CN" sz="1800" spc="-1" strike="noStrike">
                <a:solidFill>
                  <a:srgbClr val="000000"/>
                </a:solidFill>
                <a:latin typeface="Arial"/>
                <a:ea typeface="MS PGothic"/>
              </a:rPr>
              <a:t>论坛</a:t>
            </a:r>
            <a:r>
              <a:rPr b="0" lang="en-US" sz="1800" spc="-1" strike="noStrike">
                <a:solidFill>
                  <a:srgbClr val="000000"/>
                </a:solidFill>
                <a:latin typeface="Arial"/>
                <a:ea typeface="MS PGothic"/>
              </a:rPr>
              <a:t>sxt66329</a:t>
            </a:r>
            <a:r>
              <a:rPr b="0" lang="zh-CN" sz="1800" spc="-1" strike="noStrike">
                <a:solidFill>
                  <a:srgbClr val="000000"/>
                </a:solidFill>
                <a:latin typeface="Arial"/>
                <a:ea typeface="MS PGothic"/>
              </a:rPr>
              <a:t>首发：</a:t>
            </a:r>
            <a:r>
              <a:rPr b="0" lang="en-US" sz="1800" spc="-1" strike="noStrike">
                <a:solidFill>
                  <a:srgbClr val="000000"/>
                </a:solidFill>
                <a:latin typeface="Arial"/>
                <a:ea typeface="MS PGothic"/>
              </a:rPr>
              <a:t>www.rapidbbs.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Rectangle 42"/>
          <p:cNvSpPr/>
          <p:nvPr/>
        </p:nvSpPr>
        <p:spPr>
          <a:xfrm>
            <a:off x="152280" y="1523880"/>
            <a:ext cx="4343400" cy="1295640"/>
          </a:xfrm>
          <a:prstGeom prst="pie">
            <a:avLst/>
          </a:prstGeom>
          <a:gradFill rotWithShape="0">
            <a:gsLst>
              <a:gs pos="0">
                <a:srgbClr val="f7dad9"/>
              </a:gs>
              <a:gs pos="100000">
                <a:srgbClr val="ffffff">
                  <a:alpha val="0"/>
                </a:srgbClr>
              </a:gs>
            </a:gsLst>
            <a:lin ang="5400000"/>
          </a:gradFill>
          <a:ln w="0">
            <a:noFill/>
          </a:ln>
        </p:spPr>
        <p:style>
          <a:lnRef idx="0"/>
          <a:fillRef idx="0"/>
          <a:effectRef idx="0"/>
          <a:fontRef idx="minor"/>
        </p:style>
        <p:txBody>
          <a:bodyPr lIns="45720" rIns="27360" tIns="18360" bIns="18360" anchor="t">
            <a:normAutofit/>
          </a:bodyPr>
          <a:p>
            <a:pPr marL="111240" indent="-111240"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 1</a:t>
            </a:r>
            <a:endParaRPr b="0" lang="en-US" sz="2800" spc="-1" strike="noStrike">
              <a:solidFill>
                <a:srgbClr val="000000"/>
              </a:solidFill>
              <a:latin typeface="Arial"/>
            </a:endParaRPr>
          </a:p>
        </p:txBody>
      </p:sp>
      <p:sp>
        <p:nvSpPr>
          <p:cNvPr id="1113" name="Rectangle 42"/>
          <p:cNvSpPr/>
          <p:nvPr/>
        </p:nvSpPr>
        <p:spPr>
          <a:xfrm>
            <a:off x="4648320" y="1523880"/>
            <a:ext cx="4343400" cy="1295640"/>
          </a:xfrm>
          <a:prstGeom prst="pie">
            <a:avLst/>
          </a:prstGeom>
          <a:gradFill rotWithShape="0">
            <a:gsLst>
              <a:gs pos="0">
                <a:srgbClr val="f7dad9"/>
              </a:gs>
              <a:gs pos="100000">
                <a:srgbClr val="ffffff">
                  <a:alpha val="0"/>
                </a:srgbClr>
              </a:gs>
            </a:gsLst>
            <a:lin ang="5400000"/>
          </a:gradFill>
          <a:ln w="0">
            <a:noFill/>
          </a:ln>
        </p:spPr>
        <p:style>
          <a:lnRef idx="0"/>
          <a:fillRef idx="0"/>
          <a:effectRef idx="0"/>
          <a:fontRef idx="minor"/>
        </p:style>
        <p:txBody>
          <a:bodyPr lIns="45720" rIns="27360" tIns="18360" bIns="18360" anchor="t">
            <a:normAutofit/>
          </a:bodyPr>
          <a:p>
            <a:pPr marL="111240" indent="-111240"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 2</a:t>
            </a:r>
            <a:endParaRPr b="0" lang="en-US" sz="2800" spc="-1" strike="noStrike">
              <a:solidFill>
                <a:srgbClr val="000000"/>
              </a:solidFill>
              <a:latin typeface="Arial"/>
            </a:endParaRPr>
          </a:p>
        </p:txBody>
      </p:sp>
      <p:grpSp>
        <p:nvGrpSpPr>
          <p:cNvPr id="1114" name="Group 4"/>
          <p:cNvGrpSpPr/>
          <p:nvPr/>
        </p:nvGrpSpPr>
        <p:grpSpPr>
          <a:xfrm>
            <a:off x="2282760" y="2286000"/>
            <a:ext cx="4578480" cy="1828800"/>
            <a:chOff x="2282760" y="2286000"/>
            <a:chExt cx="4578480" cy="1828800"/>
          </a:xfrm>
        </p:grpSpPr>
        <p:sp>
          <p:nvSpPr>
            <p:cNvPr id="1115" name="Freeform 5"/>
            <p:cNvSpPr/>
            <p:nvPr/>
          </p:nvSpPr>
          <p:spPr>
            <a:xfrm rot="16200000">
              <a:off x="3069360" y="1499400"/>
              <a:ext cx="1099800" cy="2673000"/>
            </a:xfrm>
            <a:custGeom>
              <a:avLst/>
              <a:gdLst>
                <a:gd name="textAreaLeft" fmla="*/ 0 w 1099800"/>
                <a:gd name="textAreaRight" fmla="*/ 1100160 w 1099800"/>
                <a:gd name="textAreaTop" fmla="*/ 0 h 2673000"/>
                <a:gd name="textAreaBottom" fmla="*/ 2673360 h 2673000"/>
              </a:gdLst>
              <a:ahLst/>
              <a:rect l="textAreaLeft" t="textAreaTop" r="textAreaRight" b="textAreaBottom"/>
              <a:pathLst>
                <a:path w="1038" h="2522">
                  <a:moveTo>
                    <a:pt x="1038" y="330"/>
                  </a:moveTo>
                  <a:lnTo>
                    <a:pt x="1038" y="328"/>
                  </a:lnTo>
                  <a:lnTo>
                    <a:pt x="518" y="0"/>
                  </a:lnTo>
                  <a:lnTo>
                    <a:pt x="0" y="328"/>
                  </a:lnTo>
                  <a:lnTo>
                    <a:pt x="0" y="330"/>
                  </a:lnTo>
                  <a:lnTo>
                    <a:pt x="268" y="330"/>
                  </a:lnTo>
                  <a:lnTo>
                    <a:pt x="268" y="2196"/>
                  </a:lnTo>
                  <a:lnTo>
                    <a:pt x="268" y="2210"/>
                  </a:lnTo>
                  <a:lnTo>
                    <a:pt x="267" y="2247"/>
                  </a:lnTo>
                  <a:lnTo>
                    <a:pt x="265" y="2272"/>
                  </a:lnTo>
                  <a:lnTo>
                    <a:pt x="262" y="2300"/>
                  </a:lnTo>
                  <a:lnTo>
                    <a:pt x="256" y="2329"/>
                  </a:lnTo>
                  <a:lnTo>
                    <a:pt x="249" y="2360"/>
                  </a:lnTo>
                  <a:lnTo>
                    <a:pt x="240" y="2389"/>
                  </a:lnTo>
                  <a:lnTo>
                    <a:pt x="234" y="2404"/>
                  </a:lnTo>
                  <a:lnTo>
                    <a:pt x="228" y="2419"/>
                  </a:lnTo>
                  <a:lnTo>
                    <a:pt x="221" y="2433"/>
                  </a:lnTo>
                  <a:lnTo>
                    <a:pt x="213" y="2447"/>
                  </a:lnTo>
                  <a:lnTo>
                    <a:pt x="205" y="2459"/>
                  </a:lnTo>
                  <a:lnTo>
                    <a:pt x="196" y="2472"/>
                  </a:lnTo>
                  <a:lnTo>
                    <a:pt x="187" y="2482"/>
                  </a:lnTo>
                  <a:lnTo>
                    <a:pt x="176" y="2493"/>
                  </a:lnTo>
                  <a:lnTo>
                    <a:pt x="164" y="2502"/>
                  </a:lnTo>
                  <a:lnTo>
                    <a:pt x="151" y="2509"/>
                  </a:lnTo>
                  <a:lnTo>
                    <a:pt x="138" y="2514"/>
                  </a:lnTo>
                  <a:lnTo>
                    <a:pt x="124" y="2519"/>
                  </a:lnTo>
                  <a:lnTo>
                    <a:pt x="108" y="2521"/>
                  </a:lnTo>
                  <a:lnTo>
                    <a:pt x="92" y="2522"/>
                  </a:lnTo>
                  <a:lnTo>
                    <a:pt x="592" y="2522"/>
                  </a:lnTo>
                  <a:lnTo>
                    <a:pt x="608" y="2521"/>
                  </a:lnTo>
                  <a:lnTo>
                    <a:pt x="624" y="2519"/>
                  </a:lnTo>
                  <a:lnTo>
                    <a:pt x="639" y="2514"/>
                  </a:lnTo>
                  <a:lnTo>
                    <a:pt x="652" y="2509"/>
                  </a:lnTo>
                  <a:lnTo>
                    <a:pt x="664" y="2502"/>
                  </a:lnTo>
                  <a:lnTo>
                    <a:pt x="677" y="2493"/>
                  </a:lnTo>
                  <a:lnTo>
                    <a:pt x="687" y="2482"/>
                  </a:lnTo>
                  <a:lnTo>
                    <a:pt x="697" y="2472"/>
                  </a:lnTo>
                  <a:lnTo>
                    <a:pt x="705" y="2459"/>
                  </a:lnTo>
                  <a:lnTo>
                    <a:pt x="715" y="2447"/>
                  </a:lnTo>
                  <a:lnTo>
                    <a:pt x="721" y="2433"/>
                  </a:lnTo>
                  <a:lnTo>
                    <a:pt x="728" y="2419"/>
                  </a:lnTo>
                  <a:lnTo>
                    <a:pt x="734" y="2404"/>
                  </a:lnTo>
                  <a:lnTo>
                    <a:pt x="740" y="2389"/>
                  </a:lnTo>
                  <a:lnTo>
                    <a:pt x="749" y="2360"/>
                  </a:lnTo>
                  <a:lnTo>
                    <a:pt x="756" y="2329"/>
                  </a:lnTo>
                  <a:lnTo>
                    <a:pt x="762" y="2300"/>
                  </a:lnTo>
                  <a:lnTo>
                    <a:pt x="765" y="2272"/>
                  </a:lnTo>
                  <a:lnTo>
                    <a:pt x="767" y="2247"/>
                  </a:lnTo>
                  <a:lnTo>
                    <a:pt x="770" y="2210"/>
                  </a:lnTo>
                  <a:lnTo>
                    <a:pt x="770" y="2196"/>
                  </a:lnTo>
                  <a:lnTo>
                    <a:pt x="770" y="330"/>
                  </a:lnTo>
                  <a:lnTo>
                    <a:pt x="1038" y="330"/>
                  </a:lnTo>
                  <a:close/>
                </a:path>
              </a:pathLst>
            </a:custGeom>
            <a:gradFill rotWithShape="0">
              <a:gsLst>
                <a:gs pos="0">
                  <a:srgbClr val="f3c3c1"/>
                </a:gs>
                <a:gs pos="100000">
                  <a:srgbClr val="e49c9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6"/>
            <p:cNvSpPr/>
            <p:nvPr/>
          </p:nvSpPr>
          <p:spPr>
            <a:xfrm rot="16200000">
              <a:off x="4135320" y="2822400"/>
              <a:ext cx="876240" cy="763920"/>
            </a:xfrm>
            <a:custGeom>
              <a:avLst/>
              <a:gdLst>
                <a:gd name="textAreaLeft" fmla="*/ 0 w 876240"/>
                <a:gd name="textAreaRight" fmla="*/ 876600 w 876240"/>
                <a:gd name="textAreaTop" fmla="*/ 0 h 763920"/>
                <a:gd name="textAreaBottom" fmla="*/ 764280 h 763920"/>
              </a:gdLst>
              <a:ahLst/>
              <a:rect l="textAreaLeft" t="textAreaTop" r="textAreaRight" b="textAreaBottom"/>
              <a:pathLst>
                <a:path w="827" h="721">
                  <a:moveTo>
                    <a:pt x="327" y="721"/>
                  </a:moveTo>
                  <a:lnTo>
                    <a:pt x="327" y="721"/>
                  </a:lnTo>
                  <a:lnTo>
                    <a:pt x="310" y="720"/>
                  </a:lnTo>
                  <a:lnTo>
                    <a:pt x="295" y="718"/>
                  </a:lnTo>
                  <a:lnTo>
                    <a:pt x="280" y="713"/>
                  </a:lnTo>
                  <a:lnTo>
                    <a:pt x="266" y="708"/>
                  </a:lnTo>
                  <a:lnTo>
                    <a:pt x="255" y="700"/>
                  </a:lnTo>
                  <a:lnTo>
                    <a:pt x="243" y="691"/>
                  </a:lnTo>
                  <a:lnTo>
                    <a:pt x="233" y="680"/>
                  </a:lnTo>
                  <a:lnTo>
                    <a:pt x="224" y="669"/>
                  </a:lnTo>
                  <a:lnTo>
                    <a:pt x="215" y="656"/>
                  </a:lnTo>
                  <a:lnTo>
                    <a:pt x="208" y="642"/>
                  </a:lnTo>
                  <a:lnTo>
                    <a:pt x="201" y="629"/>
                  </a:lnTo>
                  <a:lnTo>
                    <a:pt x="194" y="614"/>
                  </a:lnTo>
                  <a:lnTo>
                    <a:pt x="189" y="599"/>
                  </a:lnTo>
                  <a:lnTo>
                    <a:pt x="185" y="584"/>
                  </a:lnTo>
                  <a:lnTo>
                    <a:pt x="177" y="552"/>
                  </a:lnTo>
                  <a:lnTo>
                    <a:pt x="171" y="520"/>
                  </a:lnTo>
                  <a:lnTo>
                    <a:pt x="168" y="489"/>
                  </a:lnTo>
                  <a:lnTo>
                    <a:pt x="165" y="460"/>
                  </a:lnTo>
                  <a:lnTo>
                    <a:pt x="164" y="435"/>
                  </a:lnTo>
                  <a:lnTo>
                    <a:pt x="165" y="396"/>
                  </a:lnTo>
                  <a:lnTo>
                    <a:pt x="165" y="382"/>
                  </a:lnTo>
                  <a:lnTo>
                    <a:pt x="166" y="365"/>
                  </a:lnTo>
                  <a:lnTo>
                    <a:pt x="166" y="322"/>
                  </a:lnTo>
                  <a:lnTo>
                    <a:pt x="165" y="294"/>
                  </a:lnTo>
                  <a:lnTo>
                    <a:pt x="163" y="261"/>
                  </a:lnTo>
                  <a:lnTo>
                    <a:pt x="160" y="226"/>
                  </a:lnTo>
                  <a:lnTo>
                    <a:pt x="155" y="192"/>
                  </a:lnTo>
                  <a:lnTo>
                    <a:pt x="147" y="156"/>
                  </a:lnTo>
                  <a:lnTo>
                    <a:pt x="142" y="138"/>
                  </a:lnTo>
                  <a:lnTo>
                    <a:pt x="137" y="122"/>
                  </a:lnTo>
                  <a:lnTo>
                    <a:pt x="130" y="104"/>
                  </a:lnTo>
                  <a:lnTo>
                    <a:pt x="123" y="88"/>
                  </a:lnTo>
                  <a:lnTo>
                    <a:pt x="115" y="73"/>
                  </a:lnTo>
                  <a:lnTo>
                    <a:pt x="107" y="60"/>
                  </a:lnTo>
                  <a:lnTo>
                    <a:pt x="96" y="47"/>
                  </a:lnTo>
                  <a:lnTo>
                    <a:pt x="86" y="36"/>
                  </a:lnTo>
                  <a:lnTo>
                    <a:pt x="75" y="25"/>
                  </a:lnTo>
                  <a:lnTo>
                    <a:pt x="62" y="17"/>
                  </a:lnTo>
                  <a:lnTo>
                    <a:pt x="48" y="10"/>
                  </a:lnTo>
                  <a:lnTo>
                    <a:pt x="33" y="5"/>
                  </a:lnTo>
                  <a:lnTo>
                    <a:pt x="17" y="1"/>
                  </a:lnTo>
                  <a:lnTo>
                    <a:pt x="0" y="0"/>
                  </a:lnTo>
                  <a:lnTo>
                    <a:pt x="501" y="0"/>
                  </a:lnTo>
                  <a:lnTo>
                    <a:pt x="518" y="1"/>
                  </a:lnTo>
                  <a:lnTo>
                    <a:pt x="535" y="5"/>
                  </a:lnTo>
                  <a:lnTo>
                    <a:pt x="549" y="10"/>
                  </a:lnTo>
                  <a:lnTo>
                    <a:pt x="562" y="17"/>
                  </a:lnTo>
                  <a:lnTo>
                    <a:pt x="575" y="25"/>
                  </a:lnTo>
                  <a:lnTo>
                    <a:pt x="587" y="36"/>
                  </a:lnTo>
                  <a:lnTo>
                    <a:pt x="598" y="47"/>
                  </a:lnTo>
                  <a:lnTo>
                    <a:pt x="607" y="60"/>
                  </a:lnTo>
                  <a:lnTo>
                    <a:pt x="616" y="73"/>
                  </a:lnTo>
                  <a:lnTo>
                    <a:pt x="624" y="88"/>
                  </a:lnTo>
                  <a:lnTo>
                    <a:pt x="631" y="104"/>
                  </a:lnTo>
                  <a:lnTo>
                    <a:pt x="637" y="122"/>
                  </a:lnTo>
                  <a:lnTo>
                    <a:pt x="642" y="138"/>
                  </a:lnTo>
                  <a:lnTo>
                    <a:pt x="647" y="156"/>
                  </a:lnTo>
                  <a:lnTo>
                    <a:pt x="655" y="192"/>
                  </a:lnTo>
                  <a:lnTo>
                    <a:pt x="661" y="226"/>
                  </a:lnTo>
                  <a:lnTo>
                    <a:pt x="664" y="261"/>
                  </a:lnTo>
                  <a:lnTo>
                    <a:pt x="665" y="294"/>
                  </a:lnTo>
                  <a:lnTo>
                    <a:pt x="666" y="322"/>
                  </a:lnTo>
                  <a:lnTo>
                    <a:pt x="666" y="365"/>
                  </a:lnTo>
                  <a:lnTo>
                    <a:pt x="665" y="382"/>
                  </a:lnTo>
                  <a:lnTo>
                    <a:pt x="665" y="396"/>
                  </a:lnTo>
                  <a:lnTo>
                    <a:pt x="665" y="435"/>
                  </a:lnTo>
                  <a:lnTo>
                    <a:pt x="666" y="460"/>
                  </a:lnTo>
                  <a:lnTo>
                    <a:pt x="668" y="489"/>
                  </a:lnTo>
                  <a:lnTo>
                    <a:pt x="672" y="520"/>
                  </a:lnTo>
                  <a:lnTo>
                    <a:pt x="677" y="552"/>
                  </a:lnTo>
                  <a:lnTo>
                    <a:pt x="685" y="584"/>
                  </a:lnTo>
                  <a:lnTo>
                    <a:pt x="689" y="599"/>
                  </a:lnTo>
                  <a:lnTo>
                    <a:pt x="695" y="614"/>
                  </a:lnTo>
                  <a:lnTo>
                    <a:pt x="701" y="629"/>
                  </a:lnTo>
                  <a:lnTo>
                    <a:pt x="708" y="642"/>
                  </a:lnTo>
                  <a:lnTo>
                    <a:pt x="716" y="656"/>
                  </a:lnTo>
                  <a:lnTo>
                    <a:pt x="724" y="669"/>
                  </a:lnTo>
                  <a:lnTo>
                    <a:pt x="733" y="680"/>
                  </a:lnTo>
                  <a:lnTo>
                    <a:pt x="743" y="691"/>
                  </a:lnTo>
                  <a:lnTo>
                    <a:pt x="755" y="700"/>
                  </a:lnTo>
                  <a:lnTo>
                    <a:pt x="767" y="708"/>
                  </a:lnTo>
                  <a:lnTo>
                    <a:pt x="780" y="713"/>
                  </a:lnTo>
                  <a:lnTo>
                    <a:pt x="795" y="718"/>
                  </a:lnTo>
                  <a:lnTo>
                    <a:pt x="810" y="720"/>
                  </a:lnTo>
                  <a:lnTo>
                    <a:pt x="827" y="721"/>
                  </a:lnTo>
                  <a:lnTo>
                    <a:pt x="327" y="721"/>
                  </a:lnTo>
                  <a:close/>
                </a:path>
              </a:pathLst>
            </a:custGeom>
            <a:gradFill rotWithShape="0">
              <a:gsLst>
                <a:gs pos="0">
                  <a:srgbClr val="5c221e"/>
                </a:gs>
                <a:gs pos="100000">
                  <a:srgbClr val="b7676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7"/>
            <p:cNvSpPr/>
            <p:nvPr/>
          </p:nvSpPr>
          <p:spPr>
            <a:xfrm rot="16200000">
              <a:off x="4977000" y="2230560"/>
              <a:ext cx="1098720" cy="2669760"/>
            </a:xfrm>
            <a:custGeom>
              <a:avLst/>
              <a:gdLst>
                <a:gd name="textAreaLeft" fmla="*/ 0 w 1098720"/>
                <a:gd name="textAreaRight" fmla="*/ 1099080 w 1098720"/>
                <a:gd name="textAreaTop" fmla="*/ 0 h 2669760"/>
                <a:gd name="textAreaBottom" fmla="*/ 2670120 h 2669760"/>
              </a:gdLst>
              <a:ahLst/>
              <a:rect l="textAreaLeft" t="textAreaTop" r="textAreaRight" b="textAreaBottom"/>
              <a:pathLst>
                <a:path w="1037" h="2519">
                  <a:moveTo>
                    <a:pt x="771" y="2187"/>
                  </a:moveTo>
                  <a:lnTo>
                    <a:pt x="771" y="395"/>
                  </a:lnTo>
                  <a:lnTo>
                    <a:pt x="770" y="379"/>
                  </a:lnTo>
                  <a:lnTo>
                    <a:pt x="771" y="334"/>
                  </a:lnTo>
                  <a:lnTo>
                    <a:pt x="772" y="304"/>
                  </a:lnTo>
                  <a:lnTo>
                    <a:pt x="775" y="271"/>
                  </a:lnTo>
                  <a:lnTo>
                    <a:pt x="780" y="235"/>
                  </a:lnTo>
                  <a:lnTo>
                    <a:pt x="786" y="197"/>
                  </a:lnTo>
                  <a:lnTo>
                    <a:pt x="795" y="161"/>
                  </a:lnTo>
                  <a:lnTo>
                    <a:pt x="799" y="143"/>
                  </a:lnTo>
                  <a:lnTo>
                    <a:pt x="806" y="125"/>
                  </a:lnTo>
                  <a:lnTo>
                    <a:pt x="812" y="108"/>
                  </a:lnTo>
                  <a:lnTo>
                    <a:pt x="820" y="92"/>
                  </a:lnTo>
                  <a:lnTo>
                    <a:pt x="828" y="77"/>
                  </a:lnTo>
                  <a:lnTo>
                    <a:pt x="837" y="62"/>
                  </a:lnTo>
                  <a:lnTo>
                    <a:pt x="846" y="49"/>
                  </a:lnTo>
                  <a:lnTo>
                    <a:pt x="858" y="37"/>
                  </a:lnTo>
                  <a:lnTo>
                    <a:pt x="869" y="26"/>
                  </a:lnTo>
                  <a:lnTo>
                    <a:pt x="882" y="17"/>
                  </a:lnTo>
                  <a:lnTo>
                    <a:pt x="897" y="10"/>
                  </a:lnTo>
                  <a:lnTo>
                    <a:pt x="912" y="5"/>
                  </a:lnTo>
                  <a:lnTo>
                    <a:pt x="928" y="1"/>
                  </a:lnTo>
                  <a:lnTo>
                    <a:pt x="945" y="0"/>
                  </a:lnTo>
                  <a:lnTo>
                    <a:pt x="444" y="0"/>
                  </a:lnTo>
                  <a:lnTo>
                    <a:pt x="427" y="1"/>
                  </a:lnTo>
                  <a:lnTo>
                    <a:pt x="411" y="5"/>
                  </a:lnTo>
                  <a:lnTo>
                    <a:pt x="396" y="10"/>
                  </a:lnTo>
                  <a:lnTo>
                    <a:pt x="382" y="17"/>
                  </a:lnTo>
                  <a:lnTo>
                    <a:pt x="369" y="26"/>
                  </a:lnTo>
                  <a:lnTo>
                    <a:pt x="358" y="37"/>
                  </a:lnTo>
                  <a:lnTo>
                    <a:pt x="346" y="49"/>
                  </a:lnTo>
                  <a:lnTo>
                    <a:pt x="337" y="62"/>
                  </a:lnTo>
                  <a:lnTo>
                    <a:pt x="328" y="77"/>
                  </a:lnTo>
                  <a:lnTo>
                    <a:pt x="320" y="92"/>
                  </a:lnTo>
                  <a:lnTo>
                    <a:pt x="312" y="108"/>
                  </a:lnTo>
                  <a:lnTo>
                    <a:pt x="305" y="125"/>
                  </a:lnTo>
                  <a:lnTo>
                    <a:pt x="299" y="143"/>
                  </a:lnTo>
                  <a:lnTo>
                    <a:pt x="295" y="161"/>
                  </a:lnTo>
                  <a:lnTo>
                    <a:pt x="286" y="197"/>
                  </a:lnTo>
                  <a:lnTo>
                    <a:pt x="280" y="235"/>
                  </a:lnTo>
                  <a:lnTo>
                    <a:pt x="275" y="271"/>
                  </a:lnTo>
                  <a:lnTo>
                    <a:pt x="272" y="304"/>
                  </a:lnTo>
                  <a:lnTo>
                    <a:pt x="271" y="334"/>
                  </a:lnTo>
                  <a:lnTo>
                    <a:pt x="270" y="379"/>
                  </a:lnTo>
                  <a:lnTo>
                    <a:pt x="270" y="395"/>
                  </a:lnTo>
                  <a:lnTo>
                    <a:pt x="270" y="2187"/>
                  </a:lnTo>
                  <a:lnTo>
                    <a:pt x="0" y="2187"/>
                  </a:lnTo>
                  <a:lnTo>
                    <a:pt x="0" y="2191"/>
                  </a:lnTo>
                  <a:lnTo>
                    <a:pt x="518" y="2519"/>
                  </a:lnTo>
                  <a:lnTo>
                    <a:pt x="1037" y="2191"/>
                  </a:lnTo>
                  <a:lnTo>
                    <a:pt x="1037" y="2187"/>
                  </a:lnTo>
                  <a:lnTo>
                    <a:pt x="771" y="2187"/>
                  </a:lnTo>
                  <a:close/>
                </a:path>
              </a:pathLst>
            </a:custGeom>
            <a:gradFill rotWithShape="0">
              <a:gsLst>
                <a:gs pos="0">
                  <a:srgbClr val="d08682"/>
                </a:gs>
                <a:gs pos="100000">
                  <a:srgbClr val="c867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8" name="Group 8"/>
          <p:cNvGrpSpPr/>
          <p:nvPr/>
        </p:nvGrpSpPr>
        <p:grpSpPr>
          <a:xfrm>
            <a:off x="228600" y="2119320"/>
            <a:ext cx="1981080" cy="2112840"/>
            <a:chOff x="228600" y="2119320"/>
            <a:chExt cx="1981080" cy="2112840"/>
          </a:xfrm>
        </p:grpSpPr>
        <p:sp>
          <p:nvSpPr>
            <p:cNvPr id="1119" name="Freeform 8"/>
            <p:cNvSpPr/>
            <p:nvPr/>
          </p:nvSpPr>
          <p:spPr>
            <a:xfrm>
              <a:off x="228600" y="2119320"/>
              <a:ext cx="1981080" cy="839880"/>
            </a:xfrm>
            <a:custGeom>
              <a:avLst/>
              <a:gdLst>
                <a:gd name="textAreaLeft" fmla="*/ 0 w 1981080"/>
                <a:gd name="textAreaRight" fmla="*/ 1981440 w 1981080"/>
                <a:gd name="textAreaTop" fmla="*/ 0 h 839880"/>
                <a:gd name="textAreaBottom" fmla="*/ 840240 h 83988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120" name="Freeform 9"/>
            <p:cNvSpPr/>
            <p:nvPr/>
          </p:nvSpPr>
          <p:spPr>
            <a:xfrm>
              <a:off x="228600" y="2539080"/>
              <a:ext cx="990360" cy="1693080"/>
            </a:xfrm>
            <a:custGeom>
              <a:avLst/>
              <a:gdLst>
                <a:gd name="textAreaLeft" fmla="*/ 0 w 990360"/>
                <a:gd name="textAreaRight" fmla="*/ 990720 w 990360"/>
                <a:gd name="textAreaTop" fmla="*/ 0 h 1693080"/>
                <a:gd name="textAreaBottom" fmla="*/ 1693440 h 169308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121" name="Freeform 10"/>
            <p:cNvSpPr/>
            <p:nvPr/>
          </p:nvSpPr>
          <p:spPr>
            <a:xfrm>
              <a:off x="1218960" y="2539080"/>
              <a:ext cx="990360" cy="1693080"/>
            </a:xfrm>
            <a:custGeom>
              <a:avLst/>
              <a:gdLst>
                <a:gd name="textAreaLeft" fmla="*/ 0 w 990360"/>
                <a:gd name="textAreaRight" fmla="*/ 990720 w 990360"/>
                <a:gd name="textAreaTop" fmla="*/ 0 h 1693080"/>
                <a:gd name="textAreaBottom" fmla="*/ 1693440 h 169308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1122" name="Group 12"/>
          <p:cNvGrpSpPr/>
          <p:nvPr/>
        </p:nvGrpSpPr>
        <p:grpSpPr>
          <a:xfrm>
            <a:off x="6934320" y="2119320"/>
            <a:ext cx="1981080" cy="2112840"/>
            <a:chOff x="6934320" y="2119320"/>
            <a:chExt cx="1981080" cy="2112840"/>
          </a:xfrm>
        </p:grpSpPr>
        <p:sp>
          <p:nvSpPr>
            <p:cNvPr id="1123" name="Freeform 8"/>
            <p:cNvSpPr/>
            <p:nvPr/>
          </p:nvSpPr>
          <p:spPr>
            <a:xfrm>
              <a:off x="6934320" y="2119320"/>
              <a:ext cx="1981080" cy="839880"/>
            </a:xfrm>
            <a:custGeom>
              <a:avLst/>
              <a:gdLst>
                <a:gd name="textAreaLeft" fmla="*/ 0 w 1981080"/>
                <a:gd name="textAreaRight" fmla="*/ 1981440 w 1981080"/>
                <a:gd name="textAreaTop" fmla="*/ 0 h 839880"/>
                <a:gd name="textAreaBottom" fmla="*/ 840240 h 83988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124" name="Freeform 9"/>
            <p:cNvSpPr/>
            <p:nvPr/>
          </p:nvSpPr>
          <p:spPr>
            <a:xfrm>
              <a:off x="6934320" y="2539080"/>
              <a:ext cx="990360" cy="1693080"/>
            </a:xfrm>
            <a:custGeom>
              <a:avLst/>
              <a:gdLst>
                <a:gd name="textAreaLeft" fmla="*/ 0 w 990360"/>
                <a:gd name="textAreaRight" fmla="*/ 990720 w 990360"/>
                <a:gd name="textAreaTop" fmla="*/ 0 h 1693080"/>
                <a:gd name="textAreaBottom" fmla="*/ 1693440 h 169308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125" name="Freeform 10"/>
            <p:cNvSpPr/>
            <p:nvPr/>
          </p:nvSpPr>
          <p:spPr>
            <a:xfrm>
              <a:off x="7924680" y="2539080"/>
              <a:ext cx="990360" cy="1693080"/>
            </a:xfrm>
            <a:custGeom>
              <a:avLst/>
              <a:gdLst>
                <a:gd name="textAreaLeft" fmla="*/ 0 w 990360"/>
                <a:gd name="textAreaRight" fmla="*/ 990720 w 990360"/>
                <a:gd name="textAreaTop" fmla="*/ 0 h 1693080"/>
                <a:gd name="textAreaBottom" fmla="*/ 1693440 h 169308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1126" name="TextBox 29" descr=""/>
          <p:cNvPicPr/>
          <p:nvPr/>
        </p:nvPicPr>
        <p:blipFill>
          <a:blip r:embed="rId1"/>
          <a:stretch/>
        </p:blipFill>
        <p:spPr>
          <a:xfrm>
            <a:off x="6950160" y="2798640"/>
            <a:ext cx="1023840" cy="1206720"/>
          </a:xfrm>
          <a:prstGeom prst="rect">
            <a:avLst/>
          </a:prstGeom>
          <a:ln w="0">
            <a:noFill/>
          </a:ln>
        </p:spPr>
      </p:pic>
      <p:pic>
        <p:nvPicPr>
          <p:cNvPr id="1127" name="TextBox 30" descr=""/>
          <p:cNvPicPr/>
          <p:nvPr/>
        </p:nvPicPr>
        <p:blipFill>
          <a:blip r:embed="rId2"/>
          <a:stretch/>
        </p:blipFill>
        <p:spPr>
          <a:xfrm>
            <a:off x="1249200" y="2786040"/>
            <a:ext cx="1017720" cy="1182600"/>
          </a:xfrm>
          <a:prstGeom prst="rect">
            <a:avLst/>
          </a:prstGeom>
          <a:ln w="0">
            <a:noFill/>
          </a:ln>
        </p:spPr>
      </p:pic>
      <p:sp>
        <p:nvSpPr>
          <p:cNvPr id="1128" name="Rectangle 31"/>
          <p:cNvSpPr/>
          <p:nvPr/>
        </p:nvSpPr>
        <p:spPr>
          <a:xfrm>
            <a:off x="228600" y="4246560"/>
            <a:ext cx="1928880" cy="79704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Place your text here</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Sample text 2</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More sample text</a:t>
            </a:r>
            <a:endParaRPr b="0" lang="en-US" sz="1800" spc="-1" strike="noStrike">
              <a:solidFill>
                <a:srgbClr val="000000"/>
              </a:solidFill>
              <a:latin typeface="Arial"/>
            </a:endParaRPr>
          </a:p>
        </p:txBody>
      </p:sp>
      <p:sp>
        <p:nvSpPr>
          <p:cNvPr id="1129" name="Rectangle 32"/>
          <p:cNvSpPr/>
          <p:nvPr/>
        </p:nvSpPr>
        <p:spPr>
          <a:xfrm>
            <a:off x="6934320" y="4246560"/>
            <a:ext cx="1927080" cy="79704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Place your text here</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Sample text 2</a:t>
            </a:r>
            <a:endParaRPr b="0" lang="en-US" sz="1800" spc="-1" strike="noStrike">
              <a:solidFill>
                <a:srgbClr val="000000"/>
              </a:solidFill>
              <a:latin typeface="Arial"/>
            </a:endParaRPr>
          </a:p>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Narrow"/>
              </a:rPr>
              <a:t>More sample text</a:t>
            </a:r>
            <a:endParaRPr b="0" lang="en-US" sz="1800" spc="-1" strike="noStrike">
              <a:solidFill>
                <a:srgbClr val="000000"/>
              </a:solidFill>
              <a:latin typeface="Arial"/>
            </a:endParaRPr>
          </a:p>
        </p:txBody>
      </p:sp>
      <p:sp>
        <p:nvSpPr>
          <p:cNvPr id="1130" name="TextBox 34"/>
          <p:cNvSpPr/>
          <p:nvPr/>
        </p:nvSpPr>
        <p:spPr>
          <a:xfrm>
            <a:off x="4876920" y="3301920"/>
            <a:ext cx="16002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wap</a:t>
            </a:r>
            <a:endParaRPr b="0" lang="en-US" sz="3200" spc="-1" strike="noStrike">
              <a:solidFill>
                <a:srgbClr val="000000"/>
              </a:solidFill>
              <a:latin typeface="Arial"/>
            </a:endParaRPr>
          </a:p>
        </p:txBody>
      </p:sp>
      <p:sp>
        <p:nvSpPr>
          <p:cNvPr id="1131" name="TextBox 35"/>
          <p:cNvSpPr/>
          <p:nvPr/>
        </p:nvSpPr>
        <p:spPr>
          <a:xfrm>
            <a:off x="2666880" y="2577960"/>
            <a:ext cx="16002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wap</a:t>
            </a:r>
            <a:endParaRPr b="0" lang="en-US" sz="3200" spc="-1" strike="noStrike">
              <a:solidFill>
                <a:srgbClr val="000000"/>
              </a:solidFill>
              <a:latin typeface="Arial"/>
            </a:endParaRPr>
          </a:p>
        </p:txBody>
      </p:sp>
      <p:sp>
        <p:nvSpPr>
          <p:cNvPr id="1132" name="Rectangle 70"/>
          <p:cNvSpPr/>
          <p:nvPr/>
        </p:nvSpPr>
        <p:spPr>
          <a:xfrm>
            <a:off x="2946240" y="4038480"/>
            <a:ext cx="3225960" cy="990720"/>
          </a:xfrm>
          <a:prstGeom prst="rect">
            <a:avLst/>
          </a:prstGeom>
          <a:noFill/>
          <a:ln w="0">
            <a:noFill/>
          </a:ln>
        </p:spPr>
        <p:style>
          <a:lnRef idx="0"/>
          <a:fillRef idx="0"/>
          <a:effectRef idx="0"/>
          <a:fontRef idx="minor"/>
        </p:style>
        <p:txBody>
          <a:bodyPr lIns="45720" rIns="27360" tIns="18360" bIns="18360" anchor="t">
            <a:norm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rrow Information</a:t>
            </a:r>
            <a:endParaRPr b="0" lang="en-US" sz="18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baba"/>
                </a:solidFill>
                <a:latin typeface="Arial Narrow"/>
              </a:rPr>
              <a:t>Place additional content here. Your content can be placed in this area. Place additional content here.</a:t>
            </a:r>
            <a:endParaRPr b="0" lang="en-US" sz="1600" spc="-1" strike="noStrike">
              <a:solidFill>
                <a:srgbClr val="000000"/>
              </a:solidFill>
              <a:latin typeface="Arial"/>
            </a:endParaRPr>
          </a:p>
        </p:txBody>
      </p:sp>
      <p:cxnSp>
        <p:nvCxnSpPr>
          <p:cNvPr id="1133" name="Straight Arrow Connector 39"/>
          <p:cNvCxnSpPr/>
          <p:nvPr/>
        </p:nvCxnSpPr>
        <p:spPr>
          <a:xfrm flipV="1">
            <a:off x="4570920" y="3725280"/>
            <a:ext cx="1080" cy="268920"/>
          </a:xfrm>
          <a:prstGeom prst="straightConnector1">
            <a:avLst/>
          </a:prstGeom>
          <a:ln w="6480">
            <a:solidFill>
              <a:srgbClr val="000000"/>
            </a:solidFill>
            <a:miter/>
            <a:tailEnd len="lg" type="oval" w="lg"/>
          </a:ln>
        </p:spPr>
      </p:cxnSp>
      <p:sp>
        <p:nvSpPr>
          <p:cNvPr id="1134" name=""/>
          <p:cNvSpPr/>
          <p:nvPr/>
        </p:nvSpPr>
        <p:spPr>
          <a:xfrm>
            <a:off x="684360" y="765000"/>
            <a:ext cx="63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endParaRPr b="0" lang="en-US" sz="1600" spc="-1" strike="noStrike">
              <a:solidFill>
                <a:srgbClr val="000000"/>
              </a:solidFill>
              <a:latin typeface="Arial"/>
            </a:endParaRPr>
          </a:p>
        </p:txBody>
      </p:sp>
      <p:sp>
        <p:nvSpPr>
          <p:cNvPr id="1135" name=""/>
          <p:cNvSpPr/>
          <p:nvPr/>
        </p:nvSpPr>
        <p:spPr>
          <a:xfrm>
            <a:off x="539640" y="692280"/>
            <a:ext cx="62517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3"/>
              </a:rPr>
              <a:t>商务ppt模板</a:t>
            </a:r>
            <a:r>
              <a:rPr b="0" lang="en-US" sz="1800" spc="-1" strike="noStrike">
                <a:solidFill>
                  <a:srgbClr val="000000"/>
                </a:solidFill>
                <a:latin typeface="Arial"/>
              </a:rPr>
              <a:t>http://www.eeppt.com/moban/shangw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13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r>
              <a:rPr b="1" lang="zh-TW" sz="1500" spc="-1" strike="noStrike">
                <a:solidFill>
                  <a:srgbClr val="ededed"/>
                </a:solidFill>
                <a:latin typeface="Calibri"/>
              </a:rPr>
              <a:t>：</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alibri"/>
              </a:rPr>
              <a:t>PPT</a:t>
            </a:r>
            <a:r>
              <a:rPr b="1" lang="zh-TW" sz="1400" spc="-1" strike="noStrike">
                <a:solidFill>
                  <a:srgbClr val="ededed"/>
                </a:solidFill>
                <a:latin typeface="Calibri"/>
              </a:rPr>
              <a:t>模板下载网站</a:t>
            </a:r>
            <a:r>
              <a:rPr b="1" lang="zh-CN" sz="1400" spc="-1" strike="noStrike">
                <a:solidFill>
                  <a:srgbClr val="e8eff7"/>
                </a:solidFill>
                <a:latin typeface="Calibri"/>
              </a:rPr>
              <a:t>www.eeppt.com</a:t>
            </a:r>
            <a:r>
              <a:rPr b="1" lang="zh-TW" sz="1400" spc="-1" strike="noStrike">
                <a:solidFill>
                  <a:srgbClr val="ededed"/>
                </a:solidFill>
                <a:latin typeface="Calibri"/>
              </a:rPr>
              <a:t>为您提供免费</a:t>
            </a:r>
            <a:r>
              <a:rPr b="1" lang="zh-TW" sz="1400" spc="-1" strike="noStrike">
                <a:solidFill>
                  <a:srgbClr val="ededed"/>
                </a:solidFill>
                <a:latin typeface="Calibri"/>
              </a:rPr>
              <a:t>ppt</a:t>
            </a:r>
            <a:r>
              <a:rPr b="1" lang="zh-TW" sz="1400" spc="-1" strike="noStrike">
                <a:solidFill>
                  <a:srgbClr val="ededed"/>
                </a:solidFill>
                <a:latin typeface="Calibri"/>
              </a:rPr>
              <a:t>模板下载，有好看的</a:t>
            </a:r>
            <a:r>
              <a:rPr b="1" lang="zh-TW" sz="1400" spc="-1" strike="noStrike">
                <a:solidFill>
                  <a:srgbClr val="ededed"/>
                </a:solidFill>
                <a:latin typeface="Calibri"/>
              </a:rPr>
              <a:t>ppt</a:t>
            </a:r>
            <a:r>
              <a:rPr b="1" lang="zh-TW" sz="1400" spc="-1" strike="noStrike">
                <a:solidFill>
                  <a:srgbClr val="ededed"/>
                </a:solidFill>
                <a:latin typeface="Calibri"/>
              </a:rPr>
              <a:t>模板，</a:t>
            </a:r>
            <a:r>
              <a:rPr b="1" lang="zh-TW" sz="1400" spc="-1" strike="noStrike">
                <a:solidFill>
                  <a:srgbClr val="ededed"/>
                </a:solidFill>
                <a:latin typeface="Calibri"/>
              </a:rPr>
              <a:t>ppt</a:t>
            </a:r>
            <a:r>
              <a:rPr b="1" lang="zh-TW" sz="1400" spc="-1" strike="noStrike">
                <a:solidFill>
                  <a:srgbClr val="ededed"/>
                </a:solidFill>
                <a:latin typeface="Calibri"/>
              </a:rPr>
              <a:t>背景图片，</a:t>
            </a:r>
            <a:r>
              <a:rPr b="1" lang="zh-TW" sz="1400" spc="-1" strike="noStrike">
                <a:solidFill>
                  <a:srgbClr val="ededed"/>
                </a:solidFill>
                <a:latin typeface="Calibri"/>
              </a:rPr>
              <a:t>ppt</a:t>
            </a:r>
            <a:r>
              <a:rPr b="1" lang="zh-TW" sz="1400" spc="-1" strike="noStrike">
                <a:solidFill>
                  <a:srgbClr val="ededed"/>
                </a:solidFill>
                <a:latin typeface="Calibri"/>
              </a:rPr>
              <a:t>素材，</a:t>
            </a:r>
            <a:r>
              <a:rPr b="1" lang="zh-TW" sz="1400" spc="-1" strike="noStrike">
                <a:solidFill>
                  <a:srgbClr val="ededed"/>
                </a:solidFill>
                <a:latin typeface="Calibri"/>
              </a:rPr>
              <a:t>ppt</a:t>
            </a:r>
            <a:r>
              <a:rPr b="1" lang="zh-TW" sz="1400" spc="-1" strike="noStrike">
                <a:solidFill>
                  <a:srgbClr val="ededed"/>
                </a:solidFill>
                <a:latin typeface="Calibri"/>
              </a:rPr>
              <a:t>图表，动态</a:t>
            </a:r>
            <a:r>
              <a:rPr b="1" lang="zh-TW" sz="1400" spc="-1" strike="noStrike">
                <a:solidFill>
                  <a:srgbClr val="ededed"/>
                </a:solidFill>
                <a:latin typeface="Calibri"/>
              </a:rPr>
              <a:t>ppt</a:t>
            </a:r>
            <a:r>
              <a:rPr b="1" lang="zh-TW" sz="1400" spc="-1" strike="noStrike">
                <a:solidFill>
                  <a:srgbClr val="ededed"/>
                </a:solidFill>
                <a:latin typeface="Calibri"/>
              </a:rPr>
              <a:t>模板大全，幻灯片模板，</a:t>
            </a:r>
            <a:r>
              <a:rPr b="1" lang="zh-TW" sz="1400" spc="-1" strike="noStrike">
                <a:solidFill>
                  <a:srgbClr val="ededed"/>
                </a:solidFill>
                <a:latin typeface="Calibri"/>
              </a:rPr>
              <a:t>Powe</a:t>
            </a:r>
            <a:r>
              <a:rPr b="1" lang="zh-TW" sz="1400" spc="-1" strike="noStrike">
                <a:solidFill>
                  <a:srgbClr val="e8eff7"/>
                </a:solidFill>
                <a:latin typeface="Calibri"/>
              </a:rPr>
              <a:t>rPoint</a:t>
            </a:r>
            <a:r>
              <a:rPr b="1" lang="zh-TW" sz="1400" spc="-1" strike="noStrike">
                <a:solidFill>
                  <a:srgbClr val="e8eff7"/>
                </a:solidFill>
                <a:latin typeface="Calibri"/>
              </a:rPr>
              <a:t>模板等各类</a:t>
            </a:r>
            <a:r>
              <a:rPr b="1" lang="zh-TW" sz="1400" spc="-1" strike="noStrike">
                <a:solidFill>
                  <a:srgbClr val="e8eff7"/>
                </a:solidFill>
                <a:latin typeface="Calibri"/>
              </a:rPr>
              <a:t>ppt</a:t>
            </a:r>
            <a:r>
              <a:rPr b="1" lang="zh-TW" sz="1400" spc="-1" strike="noStrike">
                <a:solidFill>
                  <a:srgbClr val="e8eff7"/>
                </a:solidFill>
                <a:latin typeface="Calibri"/>
              </a:rPr>
              <a:t>模板免费下载。</a:t>
            </a:r>
            <a:r>
              <a:rPr b="1" lang="zh-CN" sz="1400" spc="-1" strike="noStrike">
                <a:solidFill>
                  <a:srgbClr val="e8eff7"/>
                </a:solidFill>
                <a:latin typeface="Calibri"/>
              </a:rPr>
              <a:t>助</a:t>
            </a:r>
            <a:r>
              <a:rPr b="1" lang="zh-TW" sz="1400" spc="-1" strike="noStrike">
                <a:solidFill>
                  <a:srgbClr val="e8eff7"/>
                </a:solidFill>
                <a:latin typeface="Calibri"/>
              </a:rPr>
              <a:t>您轻松制作出精美</a:t>
            </a:r>
            <a:r>
              <a:rPr b="1" lang="zh-TW" sz="1400" spc="-1" strike="noStrike">
                <a:solidFill>
                  <a:srgbClr val="e8eff7"/>
                </a:solidFill>
                <a:latin typeface="Calibri"/>
              </a:rPr>
              <a:t>PPT</a:t>
            </a:r>
            <a:r>
              <a:rPr b="1" lang="zh-TW"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zh-TW"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r>
              <a:rPr b="1" lang="zh-TW" sz="1500" spc="-1" strike="noStrike">
                <a:solidFill>
                  <a:srgbClr val="ededed"/>
                </a:solidFill>
                <a:latin typeface="Calibri"/>
              </a:rPr>
              <a:t>：</a:t>
            </a:r>
            <a:endParaRPr b="0" lang="en-US" sz="15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36B1322-F1E8-4A06-8068-FC050C6FE2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TextBox 7"/>
          <p:cNvSpPr/>
          <p:nvPr/>
        </p:nvSpPr>
        <p:spPr>
          <a:xfrm>
            <a:off x="0" y="6400800"/>
            <a:ext cx="914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ea typeface="Arial"/>
              </a:rPr>
              <a:t>This chart is data-driven. Choose “edit data” to modify content and tweak as needed in PowerPoint. </a:t>
            </a:r>
            <a:br>
              <a:rPr sz="1200"/>
            </a:br>
            <a:r>
              <a:rPr b="0" lang="en-US" sz="1200" spc="-1" strike="noStrike">
                <a:solidFill>
                  <a:srgbClr val="b2b2b2"/>
                </a:solidFill>
                <a:latin typeface="Arial"/>
                <a:ea typeface="Arial"/>
              </a:rPr>
              <a:t>Use the “Increase Font Size,” “Decrease Font Size” buttons or manually change the font size for the editable text.</a:t>
            </a:r>
            <a:endParaRPr b="0" lang="en-US" sz="1200" spc="-1" strike="noStrike">
              <a:solidFill>
                <a:srgbClr val="000000"/>
              </a:solidFill>
              <a:latin typeface="Arial"/>
            </a:endParaRPr>
          </a:p>
        </p:txBody>
      </p:sp>
      <p:pic>
        <p:nvPicPr>
          <p:cNvPr id="1140" name="Object 3" descr=""/>
          <p:cNvPicPr/>
          <p:nvPr/>
        </p:nvPicPr>
        <p:blipFill>
          <a:blip r:embed="rId1"/>
          <a:stretch/>
        </p:blipFill>
        <p:spPr>
          <a:xfrm>
            <a:off x="684360" y="1125360"/>
            <a:ext cx="7850160" cy="439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Rectangle 67"/>
          <p:cNvSpPr/>
          <p:nvPr/>
        </p:nvSpPr>
        <p:spPr>
          <a:xfrm>
            <a:off x="0" y="2819520"/>
            <a:ext cx="9144000" cy="1828800"/>
          </a:xfrm>
          <a:prstGeom prst="rect">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2" name="Group 3"/>
          <p:cNvGrpSpPr/>
          <p:nvPr/>
        </p:nvGrpSpPr>
        <p:grpSpPr>
          <a:xfrm>
            <a:off x="457200" y="3809880"/>
            <a:ext cx="3097080" cy="822240"/>
            <a:chOff x="457200" y="3809880"/>
            <a:chExt cx="3097080" cy="822240"/>
          </a:xfrm>
        </p:grpSpPr>
        <p:pic>
          <p:nvPicPr>
            <p:cNvPr id="1143" name="Parallelogram 73" descr=""/>
            <p:cNvPicPr/>
            <p:nvPr/>
          </p:nvPicPr>
          <p:blipFill>
            <a:blip r:embed="rId1"/>
            <a:stretch/>
          </p:blipFill>
          <p:spPr>
            <a:xfrm>
              <a:off x="457200" y="3809880"/>
              <a:ext cx="3097080" cy="822240"/>
            </a:xfrm>
            <a:prstGeom prst="rect">
              <a:avLst/>
            </a:prstGeom>
            <a:ln w="0">
              <a:noFill/>
            </a:ln>
          </p:spPr>
        </p:pic>
        <p:sp>
          <p:nvSpPr>
            <p:cNvPr id="1144" name="Text Box 5"/>
            <p:cNvSpPr/>
            <p:nvPr/>
          </p:nvSpPr>
          <p:spPr>
            <a:xfrm>
              <a:off x="1460520" y="4076640"/>
              <a:ext cx="1092240" cy="291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5" name="Group 6"/>
          <p:cNvGrpSpPr/>
          <p:nvPr/>
        </p:nvGrpSpPr>
        <p:grpSpPr>
          <a:xfrm>
            <a:off x="5510160" y="3809880"/>
            <a:ext cx="3103560" cy="822240"/>
            <a:chOff x="5510160" y="3809880"/>
            <a:chExt cx="3103560" cy="822240"/>
          </a:xfrm>
        </p:grpSpPr>
        <p:pic>
          <p:nvPicPr>
            <p:cNvPr id="1146" name="Parallelogram 70" descr=""/>
            <p:cNvPicPr/>
            <p:nvPr/>
          </p:nvPicPr>
          <p:blipFill>
            <a:blip r:embed="rId2"/>
            <a:stretch/>
          </p:blipFill>
          <p:spPr>
            <a:xfrm>
              <a:off x="5510160" y="3809880"/>
              <a:ext cx="3103560" cy="822240"/>
            </a:xfrm>
            <a:prstGeom prst="rect">
              <a:avLst/>
            </a:prstGeom>
            <a:ln w="0">
              <a:noFill/>
            </a:ln>
          </p:spPr>
        </p:pic>
        <p:sp>
          <p:nvSpPr>
            <p:cNvPr id="1147" name="Text Box 8"/>
            <p:cNvSpPr/>
            <p:nvPr/>
          </p:nvSpPr>
          <p:spPr>
            <a:xfrm>
              <a:off x="6514920" y="4076640"/>
              <a:ext cx="1092240" cy="291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8" name="Group 9"/>
          <p:cNvGrpSpPr/>
          <p:nvPr/>
        </p:nvGrpSpPr>
        <p:grpSpPr>
          <a:xfrm>
            <a:off x="2401920" y="3809880"/>
            <a:ext cx="1749240" cy="822240"/>
            <a:chOff x="2401920" y="3809880"/>
            <a:chExt cx="1749240" cy="822240"/>
          </a:xfrm>
        </p:grpSpPr>
        <p:pic>
          <p:nvPicPr>
            <p:cNvPr id="1149" name="Parallelogram 71" descr=""/>
            <p:cNvPicPr/>
            <p:nvPr/>
          </p:nvPicPr>
          <p:blipFill>
            <a:blip r:embed="rId3"/>
            <a:stretch/>
          </p:blipFill>
          <p:spPr>
            <a:xfrm>
              <a:off x="2401920" y="3809880"/>
              <a:ext cx="1749240" cy="822240"/>
            </a:xfrm>
            <a:prstGeom prst="rect">
              <a:avLst/>
            </a:prstGeom>
            <a:ln w="0">
              <a:noFill/>
            </a:ln>
          </p:spPr>
        </p:pic>
        <p:sp>
          <p:nvSpPr>
            <p:cNvPr id="1150" name="Text Box 11"/>
            <p:cNvSpPr/>
            <p:nvPr/>
          </p:nvSpPr>
          <p:spPr>
            <a:xfrm>
              <a:off x="2925360" y="4057560"/>
              <a:ext cx="701280" cy="330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1" name="Group 12"/>
          <p:cNvGrpSpPr/>
          <p:nvPr/>
        </p:nvGrpSpPr>
        <p:grpSpPr>
          <a:xfrm>
            <a:off x="4956120" y="3809880"/>
            <a:ext cx="1749600" cy="822240"/>
            <a:chOff x="4956120" y="3809880"/>
            <a:chExt cx="1749600" cy="822240"/>
          </a:xfrm>
        </p:grpSpPr>
        <p:pic>
          <p:nvPicPr>
            <p:cNvPr id="1152" name="Parallelogram 72" descr=""/>
            <p:cNvPicPr/>
            <p:nvPr/>
          </p:nvPicPr>
          <p:blipFill>
            <a:blip r:embed="rId4"/>
            <a:stretch/>
          </p:blipFill>
          <p:spPr>
            <a:xfrm>
              <a:off x="4956120" y="3809880"/>
              <a:ext cx="1749600" cy="822240"/>
            </a:xfrm>
            <a:prstGeom prst="rect">
              <a:avLst/>
            </a:prstGeom>
            <a:ln w="0">
              <a:noFill/>
            </a:ln>
          </p:spPr>
        </p:pic>
        <p:sp>
          <p:nvSpPr>
            <p:cNvPr id="1153" name="Text Box 14"/>
            <p:cNvSpPr/>
            <p:nvPr/>
          </p:nvSpPr>
          <p:spPr>
            <a:xfrm>
              <a:off x="5478480" y="4057560"/>
              <a:ext cx="701640" cy="330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4" name="Group 15"/>
          <p:cNvGrpSpPr/>
          <p:nvPr/>
        </p:nvGrpSpPr>
        <p:grpSpPr>
          <a:xfrm>
            <a:off x="720720" y="1562040"/>
            <a:ext cx="7702560" cy="3124440"/>
            <a:chOff x="720720" y="1562040"/>
            <a:chExt cx="7702560" cy="3124440"/>
          </a:xfrm>
        </p:grpSpPr>
        <p:grpSp>
          <p:nvGrpSpPr>
            <p:cNvPr id="1155" name="Group 16"/>
            <p:cNvGrpSpPr/>
            <p:nvPr/>
          </p:nvGrpSpPr>
          <p:grpSpPr>
            <a:xfrm>
              <a:off x="720720" y="1562040"/>
              <a:ext cx="2356560" cy="3124440"/>
              <a:chOff x="720720" y="1562040"/>
              <a:chExt cx="2356560" cy="3124440"/>
            </a:xfrm>
          </p:grpSpPr>
          <p:sp>
            <p:nvSpPr>
              <p:cNvPr id="1156" name="Freeform 5"/>
              <p:cNvSpPr/>
              <p:nvPr/>
            </p:nvSpPr>
            <p:spPr>
              <a:xfrm>
                <a:off x="2367720" y="1562040"/>
                <a:ext cx="709560" cy="2426760"/>
              </a:xfrm>
              <a:custGeom>
                <a:avLst/>
                <a:gdLst>
                  <a:gd name="textAreaLeft" fmla="*/ 0 w 709560"/>
                  <a:gd name="textAreaRight" fmla="*/ 709920 w 709560"/>
                  <a:gd name="textAreaTop" fmla="*/ 0 h 2426760"/>
                  <a:gd name="textAreaBottom" fmla="*/ 2427120 h 2426760"/>
                </a:gdLst>
                <a:ahLst/>
                <a:rect l="textAreaLeft" t="textAreaTop" r="textAreaRight" b="textAreaBottom"/>
                <a:pathLst>
                  <a:path w="981" h="3355">
                    <a:moveTo>
                      <a:pt x="683" y="3355"/>
                    </a:moveTo>
                    <a:lnTo>
                      <a:pt x="683" y="3355"/>
                    </a:lnTo>
                    <a:lnTo>
                      <a:pt x="707" y="3354"/>
                    </a:lnTo>
                    <a:lnTo>
                      <a:pt x="727" y="3350"/>
                    </a:lnTo>
                    <a:lnTo>
                      <a:pt x="748" y="3344"/>
                    </a:lnTo>
                    <a:lnTo>
                      <a:pt x="766" y="3336"/>
                    </a:lnTo>
                    <a:lnTo>
                      <a:pt x="785" y="3325"/>
                    </a:lnTo>
                    <a:lnTo>
                      <a:pt x="801" y="3314"/>
                    </a:lnTo>
                    <a:lnTo>
                      <a:pt x="817" y="3300"/>
                    </a:lnTo>
                    <a:lnTo>
                      <a:pt x="831" y="3286"/>
                    </a:lnTo>
                    <a:lnTo>
                      <a:pt x="845" y="3269"/>
                    </a:lnTo>
                    <a:lnTo>
                      <a:pt x="857" y="3252"/>
                    </a:lnTo>
                    <a:lnTo>
                      <a:pt x="868" y="3233"/>
                    </a:lnTo>
                    <a:lnTo>
                      <a:pt x="879" y="3214"/>
                    </a:lnTo>
                    <a:lnTo>
                      <a:pt x="889" y="3194"/>
                    </a:lnTo>
                    <a:lnTo>
                      <a:pt x="896" y="3173"/>
                    </a:lnTo>
                    <a:lnTo>
                      <a:pt x="912" y="3133"/>
                    </a:lnTo>
                    <a:lnTo>
                      <a:pt x="925" y="3090"/>
                    </a:lnTo>
                    <a:lnTo>
                      <a:pt x="934" y="3050"/>
                    </a:lnTo>
                    <a:lnTo>
                      <a:pt x="940" y="3012"/>
                    </a:lnTo>
                    <a:lnTo>
                      <a:pt x="947" y="2979"/>
                    </a:lnTo>
                    <a:lnTo>
                      <a:pt x="951" y="2928"/>
                    </a:lnTo>
                    <a:lnTo>
                      <a:pt x="953" y="2909"/>
                    </a:lnTo>
                    <a:lnTo>
                      <a:pt x="981" y="0"/>
                    </a:lnTo>
                    <a:lnTo>
                      <a:pt x="353" y="0"/>
                    </a:lnTo>
                    <a:lnTo>
                      <a:pt x="270" y="2909"/>
                    </a:lnTo>
                    <a:lnTo>
                      <a:pt x="268" y="2928"/>
                    </a:lnTo>
                    <a:lnTo>
                      <a:pt x="264" y="2979"/>
                    </a:lnTo>
                    <a:lnTo>
                      <a:pt x="257" y="3012"/>
                    </a:lnTo>
                    <a:lnTo>
                      <a:pt x="251" y="3050"/>
                    </a:lnTo>
                    <a:lnTo>
                      <a:pt x="242" y="3090"/>
                    </a:lnTo>
                    <a:lnTo>
                      <a:pt x="229" y="3133"/>
                    </a:lnTo>
                    <a:lnTo>
                      <a:pt x="213" y="3173"/>
                    </a:lnTo>
                    <a:lnTo>
                      <a:pt x="206" y="3194"/>
                    </a:lnTo>
                    <a:lnTo>
                      <a:pt x="195" y="3214"/>
                    </a:lnTo>
                    <a:lnTo>
                      <a:pt x="185" y="3233"/>
                    </a:lnTo>
                    <a:lnTo>
                      <a:pt x="174" y="3252"/>
                    </a:lnTo>
                    <a:lnTo>
                      <a:pt x="162" y="3269"/>
                    </a:lnTo>
                    <a:lnTo>
                      <a:pt x="148" y="3286"/>
                    </a:lnTo>
                    <a:lnTo>
                      <a:pt x="134" y="3300"/>
                    </a:lnTo>
                    <a:lnTo>
                      <a:pt x="118" y="3314"/>
                    </a:lnTo>
                    <a:lnTo>
                      <a:pt x="101" y="3325"/>
                    </a:lnTo>
                    <a:lnTo>
                      <a:pt x="83" y="3336"/>
                    </a:lnTo>
                    <a:lnTo>
                      <a:pt x="65" y="3344"/>
                    </a:lnTo>
                    <a:lnTo>
                      <a:pt x="44" y="3350"/>
                    </a:lnTo>
                    <a:lnTo>
                      <a:pt x="22" y="3354"/>
                    </a:lnTo>
                    <a:lnTo>
                      <a:pt x="0" y="3355"/>
                    </a:lnTo>
                    <a:lnTo>
                      <a:pt x="683" y="3355"/>
                    </a:lnTo>
                    <a:close/>
                  </a:path>
                </a:pathLst>
              </a:cu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6"/>
              <p:cNvSpPr/>
              <p:nvPr/>
            </p:nvSpPr>
            <p:spPr>
              <a:xfrm>
                <a:off x="1759320" y="3276000"/>
                <a:ext cx="1095840" cy="712440"/>
              </a:xfrm>
              <a:custGeom>
                <a:avLst/>
                <a:gdLst>
                  <a:gd name="textAreaLeft" fmla="*/ 0 w 1095840"/>
                  <a:gd name="textAreaRight" fmla="*/ 1096200 w 1095840"/>
                  <a:gd name="textAreaTop" fmla="*/ 0 h 712440"/>
                  <a:gd name="textAreaBottom" fmla="*/ 712440 h 712440"/>
                </a:gdLst>
                <a:ahLst/>
                <a:rect l="textAreaLeft" t="textAreaTop" r="textAreaRight" b="textAreaBottom"/>
                <a:pathLst>
                  <a:path w="1515" h="985">
                    <a:moveTo>
                      <a:pt x="877" y="985"/>
                    </a:moveTo>
                    <a:lnTo>
                      <a:pt x="877" y="985"/>
                    </a:lnTo>
                    <a:lnTo>
                      <a:pt x="851" y="984"/>
                    </a:lnTo>
                    <a:lnTo>
                      <a:pt x="826" y="980"/>
                    </a:lnTo>
                    <a:lnTo>
                      <a:pt x="802" y="974"/>
                    </a:lnTo>
                    <a:lnTo>
                      <a:pt x="780" y="965"/>
                    </a:lnTo>
                    <a:lnTo>
                      <a:pt x="758" y="955"/>
                    </a:lnTo>
                    <a:lnTo>
                      <a:pt x="740" y="943"/>
                    </a:lnTo>
                    <a:lnTo>
                      <a:pt x="721" y="929"/>
                    </a:lnTo>
                    <a:lnTo>
                      <a:pt x="704" y="913"/>
                    </a:lnTo>
                    <a:lnTo>
                      <a:pt x="686" y="896"/>
                    </a:lnTo>
                    <a:lnTo>
                      <a:pt x="672" y="877"/>
                    </a:lnTo>
                    <a:lnTo>
                      <a:pt x="658" y="858"/>
                    </a:lnTo>
                    <a:lnTo>
                      <a:pt x="644" y="838"/>
                    </a:lnTo>
                    <a:lnTo>
                      <a:pt x="632" y="818"/>
                    </a:lnTo>
                    <a:lnTo>
                      <a:pt x="621" y="796"/>
                    </a:lnTo>
                    <a:lnTo>
                      <a:pt x="602" y="753"/>
                    </a:lnTo>
                    <a:lnTo>
                      <a:pt x="585" y="709"/>
                    </a:lnTo>
                    <a:lnTo>
                      <a:pt x="572" y="667"/>
                    </a:lnTo>
                    <a:lnTo>
                      <a:pt x="561" y="628"/>
                    </a:lnTo>
                    <a:lnTo>
                      <a:pt x="553" y="594"/>
                    </a:lnTo>
                    <a:lnTo>
                      <a:pt x="545" y="540"/>
                    </a:lnTo>
                    <a:lnTo>
                      <a:pt x="542" y="520"/>
                    </a:lnTo>
                    <a:lnTo>
                      <a:pt x="539" y="498"/>
                    </a:lnTo>
                    <a:lnTo>
                      <a:pt x="534" y="473"/>
                    </a:lnTo>
                    <a:lnTo>
                      <a:pt x="528" y="438"/>
                    </a:lnTo>
                    <a:lnTo>
                      <a:pt x="517" y="399"/>
                    </a:lnTo>
                    <a:lnTo>
                      <a:pt x="503" y="355"/>
                    </a:lnTo>
                    <a:lnTo>
                      <a:pt x="494" y="332"/>
                    </a:lnTo>
                    <a:lnTo>
                      <a:pt x="483" y="308"/>
                    </a:lnTo>
                    <a:lnTo>
                      <a:pt x="472" y="285"/>
                    </a:lnTo>
                    <a:lnTo>
                      <a:pt x="459" y="260"/>
                    </a:lnTo>
                    <a:lnTo>
                      <a:pt x="445" y="236"/>
                    </a:lnTo>
                    <a:lnTo>
                      <a:pt x="428" y="211"/>
                    </a:lnTo>
                    <a:lnTo>
                      <a:pt x="411" y="188"/>
                    </a:lnTo>
                    <a:lnTo>
                      <a:pt x="392" y="164"/>
                    </a:lnTo>
                    <a:lnTo>
                      <a:pt x="372" y="142"/>
                    </a:lnTo>
                    <a:lnTo>
                      <a:pt x="348" y="121"/>
                    </a:lnTo>
                    <a:lnTo>
                      <a:pt x="323" y="100"/>
                    </a:lnTo>
                    <a:lnTo>
                      <a:pt x="296" y="81"/>
                    </a:lnTo>
                    <a:lnTo>
                      <a:pt x="268" y="64"/>
                    </a:lnTo>
                    <a:lnTo>
                      <a:pt x="237" y="48"/>
                    </a:lnTo>
                    <a:lnTo>
                      <a:pt x="204" y="34"/>
                    </a:lnTo>
                    <a:lnTo>
                      <a:pt x="168" y="22"/>
                    </a:lnTo>
                    <a:lnTo>
                      <a:pt x="130" y="12"/>
                    </a:lnTo>
                    <a:lnTo>
                      <a:pt x="90" y="6"/>
                    </a:lnTo>
                    <a:lnTo>
                      <a:pt x="47" y="1"/>
                    </a:lnTo>
                    <a:lnTo>
                      <a:pt x="0" y="0"/>
                    </a:lnTo>
                    <a:lnTo>
                      <a:pt x="823" y="0"/>
                    </a:lnTo>
                    <a:lnTo>
                      <a:pt x="856" y="1"/>
                    </a:lnTo>
                    <a:lnTo>
                      <a:pt x="888" y="6"/>
                    </a:lnTo>
                    <a:lnTo>
                      <a:pt x="918" y="12"/>
                    </a:lnTo>
                    <a:lnTo>
                      <a:pt x="946" y="22"/>
                    </a:lnTo>
                    <a:lnTo>
                      <a:pt x="973" y="34"/>
                    </a:lnTo>
                    <a:lnTo>
                      <a:pt x="998" y="48"/>
                    </a:lnTo>
                    <a:lnTo>
                      <a:pt x="1022" y="64"/>
                    </a:lnTo>
                    <a:lnTo>
                      <a:pt x="1044" y="81"/>
                    </a:lnTo>
                    <a:lnTo>
                      <a:pt x="1064" y="100"/>
                    </a:lnTo>
                    <a:lnTo>
                      <a:pt x="1083" y="121"/>
                    </a:lnTo>
                    <a:lnTo>
                      <a:pt x="1101" y="142"/>
                    </a:lnTo>
                    <a:lnTo>
                      <a:pt x="1117" y="164"/>
                    </a:lnTo>
                    <a:lnTo>
                      <a:pt x="1133" y="188"/>
                    </a:lnTo>
                    <a:lnTo>
                      <a:pt x="1147" y="211"/>
                    </a:lnTo>
                    <a:lnTo>
                      <a:pt x="1159" y="236"/>
                    </a:lnTo>
                    <a:lnTo>
                      <a:pt x="1170" y="260"/>
                    </a:lnTo>
                    <a:lnTo>
                      <a:pt x="1189" y="308"/>
                    </a:lnTo>
                    <a:lnTo>
                      <a:pt x="1205" y="355"/>
                    </a:lnTo>
                    <a:lnTo>
                      <a:pt x="1217" y="399"/>
                    </a:lnTo>
                    <a:lnTo>
                      <a:pt x="1227" y="438"/>
                    </a:lnTo>
                    <a:lnTo>
                      <a:pt x="1233" y="473"/>
                    </a:lnTo>
                    <a:lnTo>
                      <a:pt x="1238" y="498"/>
                    </a:lnTo>
                    <a:lnTo>
                      <a:pt x="1239" y="520"/>
                    </a:lnTo>
                    <a:lnTo>
                      <a:pt x="1244" y="540"/>
                    </a:lnTo>
                    <a:lnTo>
                      <a:pt x="1255" y="594"/>
                    </a:lnTo>
                    <a:lnTo>
                      <a:pt x="1263" y="628"/>
                    </a:lnTo>
                    <a:lnTo>
                      <a:pt x="1274" y="667"/>
                    </a:lnTo>
                    <a:lnTo>
                      <a:pt x="1286" y="709"/>
                    </a:lnTo>
                    <a:lnTo>
                      <a:pt x="1302" y="753"/>
                    </a:lnTo>
                    <a:lnTo>
                      <a:pt x="1319" y="796"/>
                    </a:lnTo>
                    <a:lnTo>
                      <a:pt x="1340" y="838"/>
                    </a:lnTo>
                    <a:lnTo>
                      <a:pt x="1351" y="858"/>
                    </a:lnTo>
                    <a:lnTo>
                      <a:pt x="1361" y="877"/>
                    </a:lnTo>
                    <a:lnTo>
                      <a:pt x="1374" y="896"/>
                    </a:lnTo>
                    <a:lnTo>
                      <a:pt x="1387" y="913"/>
                    </a:lnTo>
                    <a:lnTo>
                      <a:pt x="1401" y="929"/>
                    </a:lnTo>
                    <a:lnTo>
                      <a:pt x="1415" y="943"/>
                    </a:lnTo>
                    <a:lnTo>
                      <a:pt x="1429" y="955"/>
                    </a:lnTo>
                    <a:lnTo>
                      <a:pt x="1445" y="965"/>
                    </a:lnTo>
                    <a:lnTo>
                      <a:pt x="1462" y="974"/>
                    </a:lnTo>
                    <a:lnTo>
                      <a:pt x="1479" y="980"/>
                    </a:lnTo>
                    <a:lnTo>
                      <a:pt x="1496" y="984"/>
                    </a:lnTo>
                    <a:lnTo>
                      <a:pt x="1515" y="985"/>
                    </a:lnTo>
                    <a:lnTo>
                      <a:pt x="877" y="985"/>
                    </a:lnTo>
                    <a:close/>
                  </a:path>
                </a:pathLst>
              </a:cu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7"/>
              <p:cNvSpPr/>
              <p:nvPr/>
            </p:nvSpPr>
            <p:spPr>
              <a:xfrm>
                <a:off x="720720" y="3276000"/>
                <a:ext cx="1610280" cy="1410480"/>
              </a:xfrm>
              <a:custGeom>
                <a:avLst/>
                <a:gdLst>
                  <a:gd name="textAreaLeft" fmla="*/ 0 w 1610280"/>
                  <a:gd name="textAreaRight" fmla="*/ 1610640 w 1610280"/>
                  <a:gd name="textAreaTop" fmla="*/ 0 h 1410480"/>
                  <a:gd name="textAreaBottom" fmla="*/ 1410840 h 1410480"/>
                </a:gdLst>
                <a:ahLst/>
                <a:rect l="textAreaLeft" t="textAreaTop" r="textAreaRight" b="textAreaBottom"/>
                <a:pathLst>
                  <a:path w="2226" h="1950">
                    <a:moveTo>
                      <a:pt x="2226" y="0"/>
                    </a:moveTo>
                    <a:lnTo>
                      <a:pt x="1460" y="0"/>
                    </a:lnTo>
                    <a:lnTo>
                      <a:pt x="1418" y="1"/>
                    </a:lnTo>
                    <a:lnTo>
                      <a:pt x="1377" y="3"/>
                    </a:lnTo>
                    <a:lnTo>
                      <a:pt x="1336" y="8"/>
                    </a:lnTo>
                    <a:lnTo>
                      <a:pt x="1297" y="14"/>
                    </a:lnTo>
                    <a:lnTo>
                      <a:pt x="1258" y="22"/>
                    </a:lnTo>
                    <a:lnTo>
                      <a:pt x="1220" y="31"/>
                    </a:lnTo>
                    <a:lnTo>
                      <a:pt x="1184" y="42"/>
                    </a:lnTo>
                    <a:lnTo>
                      <a:pt x="1150" y="55"/>
                    </a:lnTo>
                    <a:lnTo>
                      <a:pt x="1115" y="69"/>
                    </a:lnTo>
                    <a:lnTo>
                      <a:pt x="1081" y="83"/>
                    </a:lnTo>
                    <a:lnTo>
                      <a:pt x="1049" y="100"/>
                    </a:lnTo>
                    <a:lnTo>
                      <a:pt x="1018" y="117"/>
                    </a:lnTo>
                    <a:lnTo>
                      <a:pt x="987" y="136"/>
                    </a:lnTo>
                    <a:lnTo>
                      <a:pt x="959" y="157"/>
                    </a:lnTo>
                    <a:lnTo>
                      <a:pt x="929" y="177"/>
                    </a:lnTo>
                    <a:lnTo>
                      <a:pt x="902" y="199"/>
                    </a:lnTo>
                    <a:lnTo>
                      <a:pt x="876" y="222"/>
                    </a:lnTo>
                    <a:lnTo>
                      <a:pt x="849" y="246"/>
                    </a:lnTo>
                    <a:lnTo>
                      <a:pt x="824" y="269"/>
                    </a:lnTo>
                    <a:lnTo>
                      <a:pt x="800" y="296"/>
                    </a:lnTo>
                    <a:lnTo>
                      <a:pt x="777" y="321"/>
                    </a:lnTo>
                    <a:lnTo>
                      <a:pt x="755" y="348"/>
                    </a:lnTo>
                    <a:lnTo>
                      <a:pt x="733" y="376"/>
                    </a:lnTo>
                    <a:lnTo>
                      <a:pt x="711" y="402"/>
                    </a:lnTo>
                    <a:lnTo>
                      <a:pt x="672" y="459"/>
                    </a:lnTo>
                    <a:lnTo>
                      <a:pt x="636" y="518"/>
                    </a:lnTo>
                    <a:lnTo>
                      <a:pt x="603" y="576"/>
                    </a:lnTo>
                    <a:lnTo>
                      <a:pt x="572" y="636"/>
                    </a:lnTo>
                    <a:lnTo>
                      <a:pt x="544" y="695"/>
                    </a:lnTo>
                    <a:lnTo>
                      <a:pt x="518" y="755"/>
                    </a:lnTo>
                    <a:lnTo>
                      <a:pt x="495" y="813"/>
                    </a:lnTo>
                    <a:lnTo>
                      <a:pt x="475" y="871"/>
                    </a:lnTo>
                    <a:lnTo>
                      <a:pt x="457" y="926"/>
                    </a:lnTo>
                    <a:lnTo>
                      <a:pt x="440" y="977"/>
                    </a:lnTo>
                    <a:lnTo>
                      <a:pt x="426" y="1027"/>
                    </a:lnTo>
                    <a:lnTo>
                      <a:pt x="415" y="1074"/>
                    </a:lnTo>
                    <a:lnTo>
                      <a:pt x="396" y="1156"/>
                    </a:lnTo>
                    <a:lnTo>
                      <a:pt x="384" y="1219"/>
                    </a:lnTo>
                    <a:lnTo>
                      <a:pt x="376" y="1258"/>
                    </a:lnTo>
                    <a:lnTo>
                      <a:pt x="374" y="1273"/>
                    </a:lnTo>
                    <a:lnTo>
                      <a:pt x="348" y="1428"/>
                    </a:lnTo>
                    <a:lnTo>
                      <a:pt x="0" y="1428"/>
                    </a:lnTo>
                    <a:lnTo>
                      <a:pt x="0" y="1433"/>
                    </a:lnTo>
                    <a:lnTo>
                      <a:pt x="710" y="1950"/>
                    </a:lnTo>
                    <a:lnTo>
                      <a:pt x="1637" y="1433"/>
                    </a:lnTo>
                    <a:lnTo>
                      <a:pt x="1637" y="1428"/>
                    </a:lnTo>
                    <a:lnTo>
                      <a:pt x="1245" y="1428"/>
                    </a:lnTo>
                    <a:lnTo>
                      <a:pt x="1278" y="1273"/>
                    </a:lnTo>
                    <a:lnTo>
                      <a:pt x="1291" y="1219"/>
                    </a:lnTo>
                    <a:lnTo>
                      <a:pt x="1306" y="1156"/>
                    </a:lnTo>
                    <a:lnTo>
                      <a:pt x="1330" y="1074"/>
                    </a:lnTo>
                    <a:lnTo>
                      <a:pt x="1360" y="977"/>
                    </a:lnTo>
                    <a:lnTo>
                      <a:pt x="1378" y="926"/>
                    </a:lnTo>
                    <a:lnTo>
                      <a:pt x="1397" y="871"/>
                    </a:lnTo>
                    <a:lnTo>
                      <a:pt x="1419" y="813"/>
                    </a:lnTo>
                    <a:lnTo>
                      <a:pt x="1443" y="755"/>
                    </a:lnTo>
                    <a:lnTo>
                      <a:pt x="1468" y="695"/>
                    </a:lnTo>
                    <a:lnTo>
                      <a:pt x="1496" y="636"/>
                    </a:lnTo>
                    <a:lnTo>
                      <a:pt x="1526" y="576"/>
                    </a:lnTo>
                    <a:lnTo>
                      <a:pt x="1557" y="518"/>
                    </a:lnTo>
                    <a:lnTo>
                      <a:pt x="1590" y="459"/>
                    </a:lnTo>
                    <a:lnTo>
                      <a:pt x="1626" y="402"/>
                    </a:lnTo>
                    <a:lnTo>
                      <a:pt x="1663" y="348"/>
                    </a:lnTo>
                    <a:lnTo>
                      <a:pt x="1703" y="296"/>
                    </a:lnTo>
                    <a:lnTo>
                      <a:pt x="1745" y="246"/>
                    </a:lnTo>
                    <a:lnTo>
                      <a:pt x="1767" y="222"/>
                    </a:lnTo>
                    <a:lnTo>
                      <a:pt x="1790" y="199"/>
                    </a:lnTo>
                    <a:lnTo>
                      <a:pt x="1812" y="177"/>
                    </a:lnTo>
                    <a:lnTo>
                      <a:pt x="1836" y="157"/>
                    </a:lnTo>
                    <a:lnTo>
                      <a:pt x="1861" y="136"/>
                    </a:lnTo>
                    <a:lnTo>
                      <a:pt x="1884" y="117"/>
                    </a:lnTo>
                    <a:lnTo>
                      <a:pt x="1909" y="100"/>
                    </a:lnTo>
                    <a:lnTo>
                      <a:pt x="1936" y="83"/>
                    </a:lnTo>
                    <a:lnTo>
                      <a:pt x="1963" y="69"/>
                    </a:lnTo>
                    <a:lnTo>
                      <a:pt x="1989" y="55"/>
                    </a:lnTo>
                    <a:lnTo>
                      <a:pt x="2017" y="42"/>
                    </a:lnTo>
                    <a:lnTo>
                      <a:pt x="2044" y="31"/>
                    </a:lnTo>
                    <a:lnTo>
                      <a:pt x="2074" y="22"/>
                    </a:lnTo>
                    <a:lnTo>
                      <a:pt x="2104" y="14"/>
                    </a:lnTo>
                    <a:lnTo>
                      <a:pt x="2133" y="8"/>
                    </a:lnTo>
                    <a:lnTo>
                      <a:pt x="2163" y="3"/>
                    </a:lnTo>
                    <a:lnTo>
                      <a:pt x="2194" y="1"/>
                    </a:lnTo>
                    <a:lnTo>
                      <a:pt x="2226" y="0"/>
                    </a:lnTo>
                    <a:close/>
                  </a:path>
                </a:pathLst>
              </a:cu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9" name="Group 20"/>
            <p:cNvGrpSpPr/>
            <p:nvPr/>
          </p:nvGrpSpPr>
          <p:grpSpPr>
            <a:xfrm>
              <a:off x="3981960" y="1562040"/>
              <a:ext cx="1183320" cy="3124440"/>
              <a:chOff x="3981960" y="1562040"/>
              <a:chExt cx="1183320" cy="3124440"/>
            </a:xfrm>
          </p:grpSpPr>
          <p:sp>
            <p:nvSpPr>
              <p:cNvPr id="1160" name="Freeform 5"/>
              <p:cNvSpPr/>
              <p:nvPr/>
            </p:nvSpPr>
            <p:spPr>
              <a:xfrm>
                <a:off x="4324680" y="1562040"/>
                <a:ext cx="497520" cy="2405520"/>
              </a:xfrm>
              <a:custGeom>
                <a:avLst/>
                <a:gdLst>
                  <a:gd name="textAreaLeft" fmla="*/ 0 w 497520"/>
                  <a:gd name="textAreaRight" fmla="*/ 497880 w 497520"/>
                  <a:gd name="textAreaTop" fmla="*/ 0 h 2405520"/>
                  <a:gd name="textAreaBottom" fmla="*/ 2405880 h 2405520"/>
                </a:gdLst>
                <a:ahLst/>
                <a:rect l="textAreaLeft" t="textAreaTop" r="textAreaRight" b="textAreaBottom"/>
                <a:pathLst>
                  <a:path w="688" h="3326">
                    <a:moveTo>
                      <a:pt x="688" y="3326"/>
                    </a:moveTo>
                    <a:lnTo>
                      <a:pt x="0" y="3326"/>
                    </a:lnTo>
                    <a:lnTo>
                      <a:pt x="29" y="0"/>
                    </a:lnTo>
                    <a:lnTo>
                      <a:pt x="661" y="0"/>
                    </a:lnTo>
                    <a:lnTo>
                      <a:pt x="688" y="3326"/>
                    </a:lnTo>
                    <a:close/>
                  </a:path>
                </a:pathLst>
              </a:cu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6"/>
              <p:cNvSpPr/>
              <p:nvPr/>
            </p:nvSpPr>
            <p:spPr>
              <a:xfrm>
                <a:off x="3981960" y="3285000"/>
                <a:ext cx="1183320" cy="1401480"/>
              </a:xfrm>
              <a:custGeom>
                <a:avLst/>
                <a:gdLst>
                  <a:gd name="textAreaLeft" fmla="*/ 0 w 1183320"/>
                  <a:gd name="textAreaRight" fmla="*/ 1183320 w 1183320"/>
                  <a:gd name="textAreaTop" fmla="*/ 0 h 1401480"/>
                  <a:gd name="textAreaBottom" fmla="*/ 1401840 h 1401480"/>
                </a:gdLst>
                <a:ahLst/>
                <a:rect l="textAreaLeft" t="textAreaTop" r="textAreaRight" b="textAreaBottom"/>
                <a:pathLst>
                  <a:path w="1636" h="1938">
                    <a:moveTo>
                      <a:pt x="1323" y="1417"/>
                    </a:moveTo>
                    <a:lnTo>
                      <a:pt x="1323" y="980"/>
                    </a:lnTo>
                    <a:lnTo>
                      <a:pt x="1321" y="808"/>
                    </a:lnTo>
                    <a:lnTo>
                      <a:pt x="1317" y="656"/>
                    </a:lnTo>
                    <a:lnTo>
                      <a:pt x="1309" y="526"/>
                    </a:lnTo>
                    <a:lnTo>
                      <a:pt x="1299" y="413"/>
                    </a:lnTo>
                    <a:lnTo>
                      <a:pt x="1288" y="318"/>
                    </a:lnTo>
                    <a:lnTo>
                      <a:pt x="1276" y="240"/>
                    </a:lnTo>
                    <a:lnTo>
                      <a:pt x="1263" y="174"/>
                    </a:lnTo>
                    <a:lnTo>
                      <a:pt x="1249" y="122"/>
                    </a:lnTo>
                    <a:lnTo>
                      <a:pt x="1235" y="82"/>
                    </a:lnTo>
                    <a:lnTo>
                      <a:pt x="1223" y="52"/>
                    </a:lnTo>
                    <a:lnTo>
                      <a:pt x="1210" y="30"/>
                    </a:lnTo>
                    <a:lnTo>
                      <a:pt x="1199" y="16"/>
                    </a:lnTo>
                    <a:lnTo>
                      <a:pt x="1190" y="7"/>
                    </a:lnTo>
                    <a:lnTo>
                      <a:pt x="1182" y="2"/>
                    </a:lnTo>
                    <a:lnTo>
                      <a:pt x="1177" y="0"/>
                    </a:lnTo>
                    <a:lnTo>
                      <a:pt x="1176" y="0"/>
                    </a:lnTo>
                    <a:lnTo>
                      <a:pt x="460" y="0"/>
                    </a:lnTo>
                    <a:lnTo>
                      <a:pt x="459" y="0"/>
                    </a:lnTo>
                    <a:lnTo>
                      <a:pt x="454" y="2"/>
                    </a:lnTo>
                    <a:lnTo>
                      <a:pt x="448" y="7"/>
                    </a:lnTo>
                    <a:lnTo>
                      <a:pt x="438" y="16"/>
                    </a:lnTo>
                    <a:lnTo>
                      <a:pt x="427" y="30"/>
                    </a:lnTo>
                    <a:lnTo>
                      <a:pt x="415" y="52"/>
                    </a:lnTo>
                    <a:lnTo>
                      <a:pt x="401" y="82"/>
                    </a:lnTo>
                    <a:lnTo>
                      <a:pt x="388" y="122"/>
                    </a:lnTo>
                    <a:lnTo>
                      <a:pt x="374" y="174"/>
                    </a:lnTo>
                    <a:lnTo>
                      <a:pt x="360" y="240"/>
                    </a:lnTo>
                    <a:lnTo>
                      <a:pt x="349" y="318"/>
                    </a:lnTo>
                    <a:lnTo>
                      <a:pt x="337" y="413"/>
                    </a:lnTo>
                    <a:lnTo>
                      <a:pt x="327" y="526"/>
                    </a:lnTo>
                    <a:lnTo>
                      <a:pt x="321" y="656"/>
                    </a:lnTo>
                    <a:lnTo>
                      <a:pt x="316" y="808"/>
                    </a:lnTo>
                    <a:lnTo>
                      <a:pt x="315" y="980"/>
                    </a:lnTo>
                    <a:lnTo>
                      <a:pt x="315" y="1417"/>
                    </a:lnTo>
                    <a:lnTo>
                      <a:pt x="0" y="1417"/>
                    </a:lnTo>
                    <a:lnTo>
                      <a:pt x="0" y="1421"/>
                    </a:lnTo>
                    <a:lnTo>
                      <a:pt x="819" y="1938"/>
                    </a:lnTo>
                    <a:lnTo>
                      <a:pt x="1636" y="1421"/>
                    </a:lnTo>
                    <a:lnTo>
                      <a:pt x="1636" y="1417"/>
                    </a:lnTo>
                    <a:lnTo>
                      <a:pt x="1323" y="1417"/>
                    </a:lnTo>
                    <a:close/>
                  </a:path>
                </a:pathLst>
              </a:cu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2" name="Group 23"/>
            <p:cNvGrpSpPr/>
            <p:nvPr/>
          </p:nvGrpSpPr>
          <p:grpSpPr>
            <a:xfrm>
              <a:off x="2278440" y="1562040"/>
              <a:ext cx="1675080" cy="3124440"/>
              <a:chOff x="2278440" y="1562040"/>
              <a:chExt cx="1675080" cy="3124440"/>
            </a:xfrm>
          </p:grpSpPr>
          <p:sp>
            <p:nvSpPr>
              <p:cNvPr id="1163" name="Freeform 5"/>
              <p:cNvSpPr/>
              <p:nvPr/>
            </p:nvSpPr>
            <p:spPr>
              <a:xfrm>
                <a:off x="3263400" y="1562040"/>
                <a:ext cx="690120" cy="2426760"/>
              </a:xfrm>
              <a:custGeom>
                <a:avLst/>
                <a:gdLst>
                  <a:gd name="textAreaLeft" fmla="*/ 0 w 690120"/>
                  <a:gd name="textAreaRight" fmla="*/ 690480 w 690120"/>
                  <a:gd name="textAreaTop" fmla="*/ 0 h 2426760"/>
                  <a:gd name="textAreaBottom" fmla="*/ 2427120 h 2426760"/>
                </a:gdLst>
                <a:ahLst/>
                <a:rect l="textAreaLeft" t="textAreaTop" r="textAreaRight" b="textAreaBottom"/>
                <a:pathLst>
                  <a:path w="954" h="3355">
                    <a:moveTo>
                      <a:pt x="685" y="3355"/>
                    </a:moveTo>
                    <a:lnTo>
                      <a:pt x="685" y="3355"/>
                    </a:lnTo>
                    <a:lnTo>
                      <a:pt x="707" y="3354"/>
                    </a:lnTo>
                    <a:lnTo>
                      <a:pt x="729" y="3350"/>
                    </a:lnTo>
                    <a:lnTo>
                      <a:pt x="747" y="3344"/>
                    </a:lnTo>
                    <a:lnTo>
                      <a:pt x="766" y="3336"/>
                    </a:lnTo>
                    <a:lnTo>
                      <a:pt x="783" y="3325"/>
                    </a:lnTo>
                    <a:lnTo>
                      <a:pt x="799" y="3314"/>
                    </a:lnTo>
                    <a:lnTo>
                      <a:pt x="815" y="3300"/>
                    </a:lnTo>
                    <a:lnTo>
                      <a:pt x="827" y="3286"/>
                    </a:lnTo>
                    <a:lnTo>
                      <a:pt x="840" y="3269"/>
                    </a:lnTo>
                    <a:lnTo>
                      <a:pt x="851" y="3252"/>
                    </a:lnTo>
                    <a:lnTo>
                      <a:pt x="862" y="3233"/>
                    </a:lnTo>
                    <a:lnTo>
                      <a:pt x="871" y="3214"/>
                    </a:lnTo>
                    <a:lnTo>
                      <a:pt x="879" y="3194"/>
                    </a:lnTo>
                    <a:lnTo>
                      <a:pt x="887" y="3173"/>
                    </a:lnTo>
                    <a:lnTo>
                      <a:pt x="899" y="3133"/>
                    </a:lnTo>
                    <a:lnTo>
                      <a:pt x="909" y="3090"/>
                    </a:lnTo>
                    <a:lnTo>
                      <a:pt x="915" y="3050"/>
                    </a:lnTo>
                    <a:lnTo>
                      <a:pt x="921" y="3012"/>
                    </a:lnTo>
                    <a:lnTo>
                      <a:pt x="924" y="2979"/>
                    </a:lnTo>
                    <a:lnTo>
                      <a:pt x="926" y="2928"/>
                    </a:lnTo>
                    <a:lnTo>
                      <a:pt x="926" y="2909"/>
                    </a:lnTo>
                    <a:lnTo>
                      <a:pt x="954" y="0"/>
                    </a:lnTo>
                    <a:lnTo>
                      <a:pt x="326" y="0"/>
                    </a:lnTo>
                    <a:lnTo>
                      <a:pt x="243" y="2909"/>
                    </a:lnTo>
                    <a:lnTo>
                      <a:pt x="243" y="2928"/>
                    </a:lnTo>
                    <a:lnTo>
                      <a:pt x="240" y="2979"/>
                    </a:lnTo>
                    <a:lnTo>
                      <a:pt x="237" y="3012"/>
                    </a:lnTo>
                    <a:lnTo>
                      <a:pt x="232" y="3050"/>
                    </a:lnTo>
                    <a:lnTo>
                      <a:pt x="226" y="3090"/>
                    </a:lnTo>
                    <a:lnTo>
                      <a:pt x="216" y="3133"/>
                    </a:lnTo>
                    <a:lnTo>
                      <a:pt x="204" y="3173"/>
                    </a:lnTo>
                    <a:lnTo>
                      <a:pt x="196" y="3194"/>
                    </a:lnTo>
                    <a:lnTo>
                      <a:pt x="188" y="3214"/>
                    </a:lnTo>
                    <a:lnTo>
                      <a:pt x="179" y="3233"/>
                    </a:lnTo>
                    <a:lnTo>
                      <a:pt x="168" y="3252"/>
                    </a:lnTo>
                    <a:lnTo>
                      <a:pt x="157" y="3269"/>
                    </a:lnTo>
                    <a:lnTo>
                      <a:pt x="144" y="3286"/>
                    </a:lnTo>
                    <a:lnTo>
                      <a:pt x="130" y="3300"/>
                    </a:lnTo>
                    <a:lnTo>
                      <a:pt x="116" y="3314"/>
                    </a:lnTo>
                    <a:lnTo>
                      <a:pt x="101" y="3325"/>
                    </a:lnTo>
                    <a:lnTo>
                      <a:pt x="83" y="3336"/>
                    </a:lnTo>
                    <a:lnTo>
                      <a:pt x="65" y="3344"/>
                    </a:lnTo>
                    <a:lnTo>
                      <a:pt x="44" y="3350"/>
                    </a:lnTo>
                    <a:lnTo>
                      <a:pt x="24" y="3354"/>
                    </a:lnTo>
                    <a:lnTo>
                      <a:pt x="0" y="3355"/>
                    </a:lnTo>
                    <a:lnTo>
                      <a:pt x="685" y="3355"/>
                    </a:lnTo>
                    <a:close/>
                  </a:path>
                </a:pathLst>
              </a:cu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6"/>
              <p:cNvSpPr/>
              <p:nvPr/>
            </p:nvSpPr>
            <p:spPr>
              <a:xfrm>
                <a:off x="3016800" y="3276000"/>
                <a:ext cx="734760" cy="712440"/>
              </a:xfrm>
              <a:custGeom>
                <a:avLst/>
                <a:gdLst>
                  <a:gd name="textAreaLeft" fmla="*/ 0 w 734760"/>
                  <a:gd name="textAreaRight" fmla="*/ 735120 w 734760"/>
                  <a:gd name="textAreaTop" fmla="*/ 0 h 712440"/>
                  <a:gd name="textAreaBottom" fmla="*/ 712440 h 712440"/>
                </a:gdLst>
                <a:ahLst/>
                <a:rect l="textAreaLeft" t="textAreaTop" r="textAreaRight" b="textAreaBottom"/>
                <a:pathLst>
                  <a:path w="1016" h="985">
                    <a:moveTo>
                      <a:pt x="352" y="985"/>
                    </a:moveTo>
                    <a:lnTo>
                      <a:pt x="352" y="985"/>
                    </a:lnTo>
                    <a:lnTo>
                      <a:pt x="335" y="984"/>
                    </a:lnTo>
                    <a:lnTo>
                      <a:pt x="319" y="980"/>
                    </a:lnTo>
                    <a:lnTo>
                      <a:pt x="305" y="974"/>
                    </a:lnTo>
                    <a:lnTo>
                      <a:pt x="291" y="965"/>
                    </a:lnTo>
                    <a:lnTo>
                      <a:pt x="279" y="955"/>
                    </a:lnTo>
                    <a:lnTo>
                      <a:pt x="268" y="943"/>
                    </a:lnTo>
                    <a:lnTo>
                      <a:pt x="257" y="929"/>
                    </a:lnTo>
                    <a:lnTo>
                      <a:pt x="246" y="913"/>
                    </a:lnTo>
                    <a:lnTo>
                      <a:pt x="238" y="896"/>
                    </a:lnTo>
                    <a:lnTo>
                      <a:pt x="229" y="877"/>
                    </a:lnTo>
                    <a:lnTo>
                      <a:pt x="221" y="858"/>
                    </a:lnTo>
                    <a:lnTo>
                      <a:pt x="215" y="838"/>
                    </a:lnTo>
                    <a:lnTo>
                      <a:pt x="204" y="796"/>
                    </a:lnTo>
                    <a:lnTo>
                      <a:pt x="194" y="753"/>
                    </a:lnTo>
                    <a:lnTo>
                      <a:pt x="186" y="709"/>
                    </a:lnTo>
                    <a:lnTo>
                      <a:pt x="182" y="667"/>
                    </a:lnTo>
                    <a:lnTo>
                      <a:pt x="177" y="628"/>
                    </a:lnTo>
                    <a:lnTo>
                      <a:pt x="175" y="594"/>
                    </a:lnTo>
                    <a:lnTo>
                      <a:pt x="172" y="540"/>
                    </a:lnTo>
                    <a:lnTo>
                      <a:pt x="172" y="520"/>
                    </a:lnTo>
                    <a:lnTo>
                      <a:pt x="174" y="498"/>
                    </a:lnTo>
                    <a:lnTo>
                      <a:pt x="172" y="438"/>
                    </a:lnTo>
                    <a:lnTo>
                      <a:pt x="172" y="399"/>
                    </a:lnTo>
                    <a:lnTo>
                      <a:pt x="169" y="355"/>
                    </a:lnTo>
                    <a:lnTo>
                      <a:pt x="164" y="308"/>
                    </a:lnTo>
                    <a:lnTo>
                      <a:pt x="160" y="260"/>
                    </a:lnTo>
                    <a:lnTo>
                      <a:pt x="150" y="211"/>
                    </a:lnTo>
                    <a:lnTo>
                      <a:pt x="139" y="164"/>
                    </a:lnTo>
                    <a:lnTo>
                      <a:pt x="133" y="142"/>
                    </a:lnTo>
                    <a:lnTo>
                      <a:pt x="125" y="121"/>
                    </a:lnTo>
                    <a:lnTo>
                      <a:pt x="117" y="100"/>
                    </a:lnTo>
                    <a:lnTo>
                      <a:pt x="108" y="81"/>
                    </a:lnTo>
                    <a:lnTo>
                      <a:pt x="99" y="64"/>
                    </a:lnTo>
                    <a:lnTo>
                      <a:pt x="88" y="48"/>
                    </a:lnTo>
                    <a:lnTo>
                      <a:pt x="75" y="34"/>
                    </a:lnTo>
                    <a:lnTo>
                      <a:pt x="63" y="22"/>
                    </a:lnTo>
                    <a:lnTo>
                      <a:pt x="49" y="12"/>
                    </a:lnTo>
                    <a:lnTo>
                      <a:pt x="33" y="6"/>
                    </a:lnTo>
                    <a:lnTo>
                      <a:pt x="17" y="1"/>
                    </a:lnTo>
                    <a:lnTo>
                      <a:pt x="0" y="0"/>
                    </a:lnTo>
                    <a:lnTo>
                      <a:pt x="647" y="0"/>
                    </a:lnTo>
                    <a:lnTo>
                      <a:pt x="662" y="1"/>
                    </a:lnTo>
                    <a:lnTo>
                      <a:pt x="678" y="6"/>
                    </a:lnTo>
                    <a:lnTo>
                      <a:pt x="691" y="12"/>
                    </a:lnTo>
                    <a:lnTo>
                      <a:pt x="705" y="22"/>
                    </a:lnTo>
                    <a:lnTo>
                      <a:pt x="716" y="34"/>
                    </a:lnTo>
                    <a:lnTo>
                      <a:pt x="727" y="48"/>
                    </a:lnTo>
                    <a:lnTo>
                      <a:pt x="738" y="64"/>
                    </a:lnTo>
                    <a:lnTo>
                      <a:pt x="745" y="81"/>
                    </a:lnTo>
                    <a:lnTo>
                      <a:pt x="755" y="100"/>
                    </a:lnTo>
                    <a:lnTo>
                      <a:pt x="763" y="121"/>
                    </a:lnTo>
                    <a:lnTo>
                      <a:pt x="769" y="142"/>
                    </a:lnTo>
                    <a:lnTo>
                      <a:pt x="775" y="164"/>
                    </a:lnTo>
                    <a:lnTo>
                      <a:pt x="786" y="211"/>
                    </a:lnTo>
                    <a:lnTo>
                      <a:pt x="794" y="260"/>
                    </a:lnTo>
                    <a:lnTo>
                      <a:pt x="800" y="308"/>
                    </a:lnTo>
                    <a:lnTo>
                      <a:pt x="805" y="355"/>
                    </a:lnTo>
                    <a:lnTo>
                      <a:pt x="806" y="399"/>
                    </a:lnTo>
                    <a:lnTo>
                      <a:pt x="808" y="438"/>
                    </a:lnTo>
                    <a:lnTo>
                      <a:pt x="810" y="498"/>
                    </a:lnTo>
                    <a:lnTo>
                      <a:pt x="810" y="520"/>
                    </a:lnTo>
                    <a:lnTo>
                      <a:pt x="810" y="540"/>
                    </a:lnTo>
                    <a:lnTo>
                      <a:pt x="813" y="594"/>
                    </a:lnTo>
                    <a:lnTo>
                      <a:pt x="817" y="628"/>
                    </a:lnTo>
                    <a:lnTo>
                      <a:pt x="822" y="667"/>
                    </a:lnTo>
                    <a:lnTo>
                      <a:pt x="828" y="709"/>
                    </a:lnTo>
                    <a:lnTo>
                      <a:pt x="836" y="753"/>
                    </a:lnTo>
                    <a:lnTo>
                      <a:pt x="849" y="796"/>
                    </a:lnTo>
                    <a:lnTo>
                      <a:pt x="861" y="838"/>
                    </a:lnTo>
                    <a:lnTo>
                      <a:pt x="869" y="858"/>
                    </a:lnTo>
                    <a:lnTo>
                      <a:pt x="878" y="877"/>
                    </a:lnTo>
                    <a:lnTo>
                      <a:pt x="888" y="896"/>
                    </a:lnTo>
                    <a:lnTo>
                      <a:pt x="899" y="913"/>
                    </a:lnTo>
                    <a:lnTo>
                      <a:pt x="910" y="929"/>
                    </a:lnTo>
                    <a:lnTo>
                      <a:pt x="922" y="943"/>
                    </a:lnTo>
                    <a:lnTo>
                      <a:pt x="935" y="955"/>
                    </a:lnTo>
                    <a:lnTo>
                      <a:pt x="949" y="965"/>
                    </a:lnTo>
                    <a:lnTo>
                      <a:pt x="965" y="974"/>
                    </a:lnTo>
                    <a:lnTo>
                      <a:pt x="980" y="980"/>
                    </a:lnTo>
                    <a:lnTo>
                      <a:pt x="997" y="984"/>
                    </a:lnTo>
                    <a:lnTo>
                      <a:pt x="1016" y="985"/>
                    </a:lnTo>
                    <a:lnTo>
                      <a:pt x="352" y="985"/>
                    </a:lnTo>
                    <a:close/>
                  </a:path>
                </a:pathLst>
              </a:cu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7"/>
              <p:cNvSpPr/>
              <p:nvPr/>
            </p:nvSpPr>
            <p:spPr>
              <a:xfrm>
                <a:off x="2278440" y="3276000"/>
                <a:ext cx="1212120" cy="1410480"/>
              </a:xfrm>
              <a:custGeom>
                <a:avLst/>
                <a:gdLst>
                  <a:gd name="textAreaLeft" fmla="*/ 0 w 1212120"/>
                  <a:gd name="textAreaRight" fmla="*/ 1212480 w 1212120"/>
                  <a:gd name="textAreaTop" fmla="*/ 0 h 1410480"/>
                  <a:gd name="textAreaBottom" fmla="*/ 1410840 h 1410480"/>
                </a:gdLst>
                <a:ahLst/>
                <a:rect l="textAreaLeft" t="textAreaTop" r="textAreaRight" b="textAreaBottom"/>
                <a:pathLst>
                  <a:path w="1676" h="1950">
                    <a:moveTo>
                      <a:pt x="1278" y="1273"/>
                    </a:moveTo>
                    <a:lnTo>
                      <a:pt x="1278" y="1273"/>
                    </a:lnTo>
                    <a:lnTo>
                      <a:pt x="1276" y="1219"/>
                    </a:lnTo>
                    <a:lnTo>
                      <a:pt x="1278" y="1156"/>
                    </a:lnTo>
                    <a:lnTo>
                      <a:pt x="1279" y="1074"/>
                    </a:lnTo>
                    <a:lnTo>
                      <a:pt x="1284" y="977"/>
                    </a:lnTo>
                    <a:lnTo>
                      <a:pt x="1292" y="871"/>
                    </a:lnTo>
                    <a:lnTo>
                      <a:pt x="1303" y="755"/>
                    </a:lnTo>
                    <a:lnTo>
                      <a:pt x="1311" y="695"/>
                    </a:lnTo>
                    <a:lnTo>
                      <a:pt x="1319" y="636"/>
                    </a:lnTo>
                    <a:lnTo>
                      <a:pt x="1328" y="576"/>
                    </a:lnTo>
                    <a:lnTo>
                      <a:pt x="1339" y="518"/>
                    </a:lnTo>
                    <a:lnTo>
                      <a:pt x="1350" y="459"/>
                    </a:lnTo>
                    <a:lnTo>
                      <a:pt x="1364" y="402"/>
                    </a:lnTo>
                    <a:lnTo>
                      <a:pt x="1380" y="348"/>
                    </a:lnTo>
                    <a:lnTo>
                      <a:pt x="1397" y="296"/>
                    </a:lnTo>
                    <a:lnTo>
                      <a:pt x="1416" y="246"/>
                    </a:lnTo>
                    <a:lnTo>
                      <a:pt x="1436" y="199"/>
                    </a:lnTo>
                    <a:lnTo>
                      <a:pt x="1458" y="157"/>
                    </a:lnTo>
                    <a:lnTo>
                      <a:pt x="1470" y="136"/>
                    </a:lnTo>
                    <a:lnTo>
                      <a:pt x="1483" y="117"/>
                    </a:lnTo>
                    <a:lnTo>
                      <a:pt x="1495" y="100"/>
                    </a:lnTo>
                    <a:lnTo>
                      <a:pt x="1508" y="83"/>
                    </a:lnTo>
                    <a:lnTo>
                      <a:pt x="1522" y="69"/>
                    </a:lnTo>
                    <a:lnTo>
                      <a:pt x="1538" y="55"/>
                    </a:lnTo>
                    <a:lnTo>
                      <a:pt x="1552" y="42"/>
                    </a:lnTo>
                    <a:lnTo>
                      <a:pt x="1567" y="31"/>
                    </a:lnTo>
                    <a:lnTo>
                      <a:pt x="1585" y="22"/>
                    </a:lnTo>
                    <a:lnTo>
                      <a:pt x="1602" y="14"/>
                    </a:lnTo>
                    <a:lnTo>
                      <a:pt x="1619" y="8"/>
                    </a:lnTo>
                    <a:lnTo>
                      <a:pt x="1638" y="3"/>
                    </a:lnTo>
                    <a:lnTo>
                      <a:pt x="1657" y="1"/>
                    </a:lnTo>
                    <a:lnTo>
                      <a:pt x="1676" y="0"/>
                    </a:lnTo>
                    <a:lnTo>
                      <a:pt x="993" y="0"/>
                    </a:lnTo>
                    <a:lnTo>
                      <a:pt x="968" y="1"/>
                    </a:lnTo>
                    <a:lnTo>
                      <a:pt x="946" y="3"/>
                    </a:lnTo>
                    <a:lnTo>
                      <a:pt x="922" y="8"/>
                    </a:lnTo>
                    <a:lnTo>
                      <a:pt x="900" y="14"/>
                    </a:lnTo>
                    <a:lnTo>
                      <a:pt x="880" y="22"/>
                    </a:lnTo>
                    <a:lnTo>
                      <a:pt x="858" y="31"/>
                    </a:lnTo>
                    <a:lnTo>
                      <a:pt x="838" y="42"/>
                    </a:lnTo>
                    <a:lnTo>
                      <a:pt x="819" y="55"/>
                    </a:lnTo>
                    <a:lnTo>
                      <a:pt x="799" y="69"/>
                    </a:lnTo>
                    <a:lnTo>
                      <a:pt x="780" y="83"/>
                    </a:lnTo>
                    <a:lnTo>
                      <a:pt x="763" y="100"/>
                    </a:lnTo>
                    <a:lnTo>
                      <a:pt x="745" y="117"/>
                    </a:lnTo>
                    <a:lnTo>
                      <a:pt x="728" y="136"/>
                    </a:lnTo>
                    <a:lnTo>
                      <a:pt x="711" y="157"/>
                    </a:lnTo>
                    <a:lnTo>
                      <a:pt x="695" y="177"/>
                    </a:lnTo>
                    <a:lnTo>
                      <a:pt x="680" y="199"/>
                    </a:lnTo>
                    <a:lnTo>
                      <a:pt x="650" y="246"/>
                    </a:lnTo>
                    <a:lnTo>
                      <a:pt x="622" y="296"/>
                    </a:lnTo>
                    <a:lnTo>
                      <a:pt x="595" y="348"/>
                    </a:lnTo>
                    <a:lnTo>
                      <a:pt x="572" y="402"/>
                    </a:lnTo>
                    <a:lnTo>
                      <a:pt x="548" y="459"/>
                    </a:lnTo>
                    <a:lnTo>
                      <a:pt x="528" y="518"/>
                    </a:lnTo>
                    <a:lnTo>
                      <a:pt x="509" y="576"/>
                    </a:lnTo>
                    <a:lnTo>
                      <a:pt x="490" y="636"/>
                    </a:lnTo>
                    <a:lnTo>
                      <a:pt x="474" y="695"/>
                    </a:lnTo>
                    <a:lnTo>
                      <a:pt x="460" y="755"/>
                    </a:lnTo>
                    <a:lnTo>
                      <a:pt x="446" y="813"/>
                    </a:lnTo>
                    <a:lnTo>
                      <a:pt x="434" y="871"/>
                    </a:lnTo>
                    <a:lnTo>
                      <a:pt x="415" y="977"/>
                    </a:lnTo>
                    <a:lnTo>
                      <a:pt x="399" y="1074"/>
                    </a:lnTo>
                    <a:lnTo>
                      <a:pt x="387" y="1156"/>
                    </a:lnTo>
                    <a:lnTo>
                      <a:pt x="379" y="1219"/>
                    </a:lnTo>
                    <a:lnTo>
                      <a:pt x="374" y="1273"/>
                    </a:lnTo>
                    <a:lnTo>
                      <a:pt x="365" y="1428"/>
                    </a:lnTo>
                    <a:lnTo>
                      <a:pt x="0" y="1428"/>
                    </a:lnTo>
                    <a:lnTo>
                      <a:pt x="0" y="1433"/>
                    </a:lnTo>
                    <a:lnTo>
                      <a:pt x="736" y="1950"/>
                    </a:lnTo>
                    <a:lnTo>
                      <a:pt x="1636" y="1433"/>
                    </a:lnTo>
                    <a:lnTo>
                      <a:pt x="1636" y="1428"/>
                    </a:lnTo>
                    <a:lnTo>
                      <a:pt x="1275" y="1428"/>
                    </a:lnTo>
                    <a:lnTo>
                      <a:pt x="1278" y="1273"/>
                    </a:lnTo>
                    <a:close/>
                  </a:path>
                </a:pathLst>
              </a:cu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6" name="Group 27"/>
            <p:cNvGrpSpPr/>
            <p:nvPr/>
          </p:nvGrpSpPr>
          <p:grpSpPr>
            <a:xfrm>
              <a:off x="6066720" y="1562040"/>
              <a:ext cx="2356560" cy="3124440"/>
              <a:chOff x="6066720" y="1562040"/>
              <a:chExt cx="2356560" cy="3124440"/>
            </a:xfrm>
          </p:grpSpPr>
          <p:sp>
            <p:nvSpPr>
              <p:cNvPr id="1167" name="Freeform 5"/>
              <p:cNvSpPr/>
              <p:nvPr/>
            </p:nvSpPr>
            <p:spPr>
              <a:xfrm flipH="1">
                <a:off x="6066360" y="1562040"/>
                <a:ext cx="709560" cy="2426760"/>
              </a:xfrm>
              <a:custGeom>
                <a:avLst/>
                <a:gdLst>
                  <a:gd name="textAreaLeft" fmla="*/ -360 w 709560"/>
                  <a:gd name="textAreaRight" fmla="*/ 709560 w 709560"/>
                  <a:gd name="textAreaTop" fmla="*/ 0 h 2426760"/>
                  <a:gd name="textAreaBottom" fmla="*/ 2427120 h 2426760"/>
                </a:gdLst>
                <a:ahLst/>
                <a:rect l="textAreaLeft" t="textAreaTop" r="textAreaRight" b="textAreaBottom"/>
                <a:pathLst>
                  <a:path w="981" h="3355">
                    <a:moveTo>
                      <a:pt x="683" y="3355"/>
                    </a:moveTo>
                    <a:lnTo>
                      <a:pt x="683" y="3355"/>
                    </a:lnTo>
                    <a:lnTo>
                      <a:pt x="707" y="3354"/>
                    </a:lnTo>
                    <a:lnTo>
                      <a:pt x="727" y="3350"/>
                    </a:lnTo>
                    <a:lnTo>
                      <a:pt x="748" y="3344"/>
                    </a:lnTo>
                    <a:lnTo>
                      <a:pt x="766" y="3336"/>
                    </a:lnTo>
                    <a:lnTo>
                      <a:pt x="785" y="3325"/>
                    </a:lnTo>
                    <a:lnTo>
                      <a:pt x="801" y="3314"/>
                    </a:lnTo>
                    <a:lnTo>
                      <a:pt x="817" y="3300"/>
                    </a:lnTo>
                    <a:lnTo>
                      <a:pt x="831" y="3286"/>
                    </a:lnTo>
                    <a:lnTo>
                      <a:pt x="845" y="3269"/>
                    </a:lnTo>
                    <a:lnTo>
                      <a:pt x="857" y="3252"/>
                    </a:lnTo>
                    <a:lnTo>
                      <a:pt x="868" y="3233"/>
                    </a:lnTo>
                    <a:lnTo>
                      <a:pt x="879" y="3214"/>
                    </a:lnTo>
                    <a:lnTo>
                      <a:pt x="889" y="3194"/>
                    </a:lnTo>
                    <a:lnTo>
                      <a:pt x="896" y="3173"/>
                    </a:lnTo>
                    <a:lnTo>
                      <a:pt x="912" y="3133"/>
                    </a:lnTo>
                    <a:lnTo>
                      <a:pt x="925" y="3090"/>
                    </a:lnTo>
                    <a:lnTo>
                      <a:pt x="934" y="3050"/>
                    </a:lnTo>
                    <a:lnTo>
                      <a:pt x="940" y="3012"/>
                    </a:lnTo>
                    <a:lnTo>
                      <a:pt x="947" y="2979"/>
                    </a:lnTo>
                    <a:lnTo>
                      <a:pt x="951" y="2928"/>
                    </a:lnTo>
                    <a:lnTo>
                      <a:pt x="953" y="2909"/>
                    </a:lnTo>
                    <a:lnTo>
                      <a:pt x="981" y="0"/>
                    </a:lnTo>
                    <a:lnTo>
                      <a:pt x="353" y="0"/>
                    </a:lnTo>
                    <a:lnTo>
                      <a:pt x="270" y="2909"/>
                    </a:lnTo>
                    <a:lnTo>
                      <a:pt x="268" y="2928"/>
                    </a:lnTo>
                    <a:lnTo>
                      <a:pt x="264" y="2979"/>
                    </a:lnTo>
                    <a:lnTo>
                      <a:pt x="257" y="3012"/>
                    </a:lnTo>
                    <a:lnTo>
                      <a:pt x="251" y="3050"/>
                    </a:lnTo>
                    <a:lnTo>
                      <a:pt x="242" y="3090"/>
                    </a:lnTo>
                    <a:lnTo>
                      <a:pt x="229" y="3133"/>
                    </a:lnTo>
                    <a:lnTo>
                      <a:pt x="213" y="3173"/>
                    </a:lnTo>
                    <a:lnTo>
                      <a:pt x="206" y="3194"/>
                    </a:lnTo>
                    <a:lnTo>
                      <a:pt x="195" y="3214"/>
                    </a:lnTo>
                    <a:lnTo>
                      <a:pt x="185" y="3233"/>
                    </a:lnTo>
                    <a:lnTo>
                      <a:pt x="174" y="3252"/>
                    </a:lnTo>
                    <a:lnTo>
                      <a:pt x="162" y="3269"/>
                    </a:lnTo>
                    <a:lnTo>
                      <a:pt x="148" y="3286"/>
                    </a:lnTo>
                    <a:lnTo>
                      <a:pt x="134" y="3300"/>
                    </a:lnTo>
                    <a:lnTo>
                      <a:pt x="118" y="3314"/>
                    </a:lnTo>
                    <a:lnTo>
                      <a:pt x="101" y="3325"/>
                    </a:lnTo>
                    <a:lnTo>
                      <a:pt x="83" y="3336"/>
                    </a:lnTo>
                    <a:lnTo>
                      <a:pt x="65" y="3344"/>
                    </a:lnTo>
                    <a:lnTo>
                      <a:pt x="44" y="3350"/>
                    </a:lnTo>
                    <a:lnTo>
                      <a:pt x="22" y="3354"/>
                    </a:lnTo>
                    <a:lnTo>
                      <a:pt x="0" y="3355"/>
                    </a:lnTo>
                    <a:lnTo>
                      <a:pt x="683" y="3355"/>
                    </a:lnTo>
                    <a:close/>
                  </a:path>
                </a:pathLst>
              </a:cu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6"/>
              <p:cNvSpPr/>
              <p:nvPr/>
            </p:nvSpPr>
            <p:spPr>
              <a:xfrm flipH="1">
                <a:off x="6288840" y="3276000"/>
                <a:ext cx="1095840" cy="712440"/>
              </a:xfrm>
              <a:custGeom>
                <a:avLst/>
                <a:gdLst>
                  <a:gd name="textAreaLeft" fmla="*/ 360 w 1095840"/>
                  <a:gd name="textAreaRight" fmla="*/ 1096560 w 1095840"/>
                  <a:gd name="textAreaTop" fmla="*/ 0 h 712440"/>
                  <a:gd name="textAreaBottom" fmla="*/ 712440 h 712440"/>
                </a:gdLst>
                <a:ahLst/>
                <a:rect l="textAreaLeft" t="textAreaTop" r="textAreaRight" b="textAreaBottom"/>
                <a:pathLst>
                  <a:path w="1515" h="985">
                    <a:moveTo>
                      <a:pt x="877" y="985"/>
                    </a:moveTo>
                    <a:lnTo>
                      <a:pt x="877" y="985"/>
                    </a:lnTo>
                    <a:lnTo>
                      <a:pt x="851" y="984"/>
                    </a:lnTo>
                    <a:lnTo>
                      <a:pt x="826" y="980"/>
                    </a:lnTo>
                    <a:lnTo>
                      <a:pt x="802" y="974"/>
                    </a:lnTo>
                    <a:lnTo>
                      <a:pt x="780" y="965"/>
                    </a:lnTo>
                    <a:lnTo>
                      <a:pt x="758" y="955"/>
                    </a:lnTo>
                    <a:lnTo>
                      <a:pt x="740" y="943"/>
                    </a:lnTo>
                    <a:lnTo>
                      <a:pt x="721" y="929"/>
                    </a:lnTo>
                    <a:lnTo>
                      <a:pt x="704" y="913"/>
                    </a:lnTo>
                    <a:lnTo>
                      <a:pt x="686" y="896"/>
                    </a:lnTo>
                    <a:lnTo>
                      <a:pt x="672" y="877"/>
                    </a:lnTo>
                    <a:lnTo>
                      <a:pt x="658" y="858"/>
                    </a:lnTo>
                    <a:lnTo>
                      <a:pt x="644" y="838"/>
                    </a:lnTo>
                    <a:lnTo>
                      <a:pt x="632" y="818"/>
                    </a:lnTo>
                    <a:lnTo>
                      <a:pt x="621" y="796"/>
                    </a:lnTo>
                    <a:lnTo>
                      <a:pt x="602" y="753"/>
                    </a:lnTo>
                    <a:lnTo>
                      <a:pt x="585" y="709"/>
                    </a:lnTo>
                    <a:lnTo>
                      <a:pt x="572" y="667"/>
                    </a:lnTo>
                    <a:lnTo>
                      <a:pt x="561" y="628"/>
                    </a:lnTo>
                    <a:lnTo>
                      <a:pt x="553" y="594"/>
                    </a:lnTo>
                    <a:lnTo>
                      <a:pt x="545" y="540"/>
                    </a:lnTo>
                    <a:lnTo>
                      <a:pt x="542" y="520"/>
                    </a:lnTo>
                    <a:lnTo>
                      <a:pt x="539" y="498"/>
                    </a:lnTo>
                    <a:lnTo>
                      <a:pt x="534" y="473"/>
                    </a:lnTo>
                    <a:lnTo>
                      <a:pt x="528" y="438"/>
                    </a:lnTo>
                    <a:lnTo>
                      <a:pt x="517" y="399"/>
                    </a:lnTo>
                    <a:lnTo>
                      <a:pt x="503" y="355"/>
                    </a:lnTo>
                    <a:lnTo>
                      <a:pt x="494" y="332"/>
                    </a:lnTo>
                    <a:lnTo>
                      <a:pt x="483" y="308"/>
                    </a:lnTo>
                    <a:lnTo>
                      <a:pt x="472" y="285"/>
                    </a:lnTo>
                    <a:lnTo>
                      <a:pt x="459" y="260"/>
                    </a:lnTo>
                    <a:lnTo>
                      <a:pt x="445" y="236"/>
                    </a:lnTo>
                    <a:lnTo>
                      <a:pt x="428" y="211"/>
                    </a:lnTo>
                    <a:lnTo>
                      <a:pt x="411" y="188"/>
                    </a:lnTo>
                    <a:lnTo>
                      <a:pt x="392" y="164"/>
                    </a:lnTo>
                    <a:lnTo>
                      <a:pt x="372" y="142"/>
                    </a:lnTo>
                    <a:lnTo>
                      <a:pt x="348" y="121"/>
                    </a:lnTo>
                    <a:lnTo>
                      <a:pt x="323" y="100"/>
                    </a:lnTo>
                    <a:lnTo>
                      <a:pt x="296" y="81"/>
                    </a:lnTo>
                    <a:lnTo>
                      <a:pt x="268" y="64"/>
                    </a:lnTo>
                    <a:lnTo>
                      <a:pt x="237" y="48"/>
                    </a:lnTo>
                    <a:lnTo>
                      <a:pt x="204" y="34"/>
                    </a:lnTo>
                    <a:lnTo>
                      <a:pt x="168" y="22"/>
                    </a:lnTo>
                    <a:lnTo>
                      <a:pt x="130" y="12"/>
                    </a:lnTo>
                    <a:lnTo>
                      <a:pt x="90" y="6"/>
                    </a:lnTo>
                    <a:lnTo>
                      <a:pt x="47" y="1"/>
                    </a:lnTo>
                    <a:lnTo>
                      <a:pt x="0" y="0"/>
                    </a:lnTo>
                    <a:lnTo>
                      <a:pt x="823" y="0"/>
                    </a:lnTo>
                    <a:lnTo>
                      <a:pt x="856" y="1"/>
                    </a:lnTo>
                    <a:lnTo>
                      <a:pt x="888" y="6"/>
                    </a:lnTo>
                    <a:lnTo>
                      <a:pt x="918" y="12"/>
                    </a:lnTo>
                    <a:lnTo>
                      <a:pt x="946" y="22"/>
                    </a:lnTo>
                    <a:lnTo>
                      <a:pt x="973" y="34"/>
                    </a:lnTo>
                    <a:lnTo>
                      <a:pt x="998" y="48"/>
                    </a:lnTo>
                    <a:lnTo>
                      <a:pt x="1022" y="64"/>
                    </a:lnTo>
                    <a:lnTo>
                      <a:pt x="1044" y="81"/>
                    </a:lnTo>
                    <a:lnTo>
                      <a:pt x="1064" y="100"/>
                    </a:lnTo>
                    <a:lnTo>
                      <a:pt x="1083" y="121"/>
                    </a:lnTo>
                    <a:lnTo>
                      <a:pt x="1101" y="142"/>
                    </a:lnTo>
                    <a:lnTo>
                      <a:pt x="1117" y="164"/>
                    </a:lnTo>
                    <a:lnTo>
                      <a:pt x="1133" y="188"/>
                    </a:lnTo>
                    <a:lnTo>
                      <a:pt x="1147" y="211"/>
                    </a:lnTo>
                    <a:lnTo>
                      <a:pt x="1159" y="236"/>
                    </a:lnTo>
                    <a:lnTo>
                      <a:pt x="1170" y="260"/>
                    </a:lnTo>
                    <a:lnTo>
                      <a:pt x="1189" y="308"/>
                    </a:lnTo>
                    <a:lnTo>
                      <a:pt x="1205" y="355"/>
                    </a:lnTo>
                    <a:lnTo>
                      <a:pt x="1217" y="399"/>
                    </a:lnTo>
                    <a:lnTo>
                      <a:pt x="1227" y="438"/>
                    </a:lnTo>
                    <a:lnTo>
                      <a:pt x="1233" y="473"/>
                    </a:lnTo>
                    <a:lnTo>
                      <a:pt x="1238" y="498"/>
                    </a:lnTo>
                    <a:lnTo>
                      <a:pt x="1239" y="520"/>
                    </a:lnTo>
                    <a:lnTo>
                      <a:pt x="1244" y="540"/>
                    </a:lnTo>
                    <a:lnTo>
                      <a:pt x="1255" y="594"/>
                    </a:lnTo>
                    <a:lnTo>
                      <a:pt x="1263" y="628"/>
                    </a:lnTo>
                    <a:lnTo>
                      <a:pt x="1274" y="667"/>
                    </a:lnTo>
                    <a:lnTo>
                      <a:pt x="1286" y="709"/>
                    </a:lnTo>
                    <a:lnTo>
                      <a:pt x="1302" y="753"/>
                    </a:lnTo>
                    <a:lnTo>
                      <a:pt x="1319" y="796"/>
                    </a:lnTo>
                    <a:lnTo>
                      <a:pt x="1340" y="838"/>
                    </a:lnTo>
                    <a:lnTo>
                      <a:pt x="1351" y="858"/>
                    </a:lnTo>
                    <a:lnTo>
                      <a:pt x="1361" y="877"/>
                    </a:lnTo>
                    <a:lnTo>
                      <a:pt x="1374" y="896"/>
                    </a:lnTo>
                    <a:lnTo>
                      <a:pt x="1387" y="913"/>
                    </a:lnTo>
                    <a:lnTo>
                      <a:pt x="1401" y="929"/>
                    </a:lnTo>
                    <a:lnTo>
                      <a:pt x="1415" y="943"/>
                    </a:lnTo>
                    <a:lnTo>
                      <a:pt x="1429" y="955"/>
                    </a:lnTo>
                    <a:lnTo>
                      <a:pt x="1445" y="965"/>
                    </a:lnTo>
                    <a:lnTo>
                      <a:pt x="1462" y="974"/>
                    </a:lnTo>
                    <a:lnTo>
                      <a:pt x="1479" y="980"/>
                    </a:lnTo>
                    <a:lnTo>
                      <a:pt x="1496" y="984"/>
                    </a:lnTo>
                    <a:lnTo>
                      <a:pt x="1515" y="985"/>
                    </a:lnTo>
                    <a:lnTo>
                      <a:pt x="877" y="985"/>
                    </a:lnTo>
                    <a:close/>
                  </a:path>
                </a:pathLst>
              </a:cu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7"/>
              <p:cNvSpPr/>
              <p:nvPr/>
            </p:nvSpPr>
            <p:spPr>
              <a:xfrm flipH="1">
                <a:off x="6812640" y="3276000"/>
                <a:ext cx="1610280" cy="1410480"/>
              </a:xfrm>
              <a:custGeom>
                <a:avLst/>
                <a:gdLst>
                  <a:gd name="textAreaLeft" fmla="*/ -360 w 1610280"/>
                  <a:gd name="textAreaRight" fmla="*/ 1610280 w 1610280"/>
                  <a:gd name="textAreaTop" fmla="*/ 0 h 1410480"/>
                  <a:gd name="textAreaBottom" fmla="*/ 1410840 h 1410480"/>
                </a:gdLst>
                <a:ahLst/>
                <a:rect l="textAreaLeft" t="textAreaTop" r="textAreaRight" b="textAreaBottom"/>
                <a:pathLst>
                  <a:path w="2226" h="1950">
                    <a:moveTo>
                      <a:pt x="2226" y="0"/>
                    </a:moveTo>
                    <a:lnTo>
                      <a:pt x="1460" y="0"/>
                    </a:lnTo>
                    <a:lnTo>
                      <a:pt x="1418" y="1"/>
                    </a:lnTo>
                    <a:lnTo>
                      <a:pt x="1377" y="3"/>
                    </a:lnTo>
                    <a:lnTo>
                      <a:pt x="1336" y="8"/>
                    </a:lnTo>
                    <a:lnTo>
                      <a:pt x="1297" y="14"/>
                    </a:lnTo>
                    <a:lnTo>
                      <a:pt x="1258" y="22"/>
                    </a:lnTo>
                    <a:lnTo>
                      <a:pt x="1220" y="31"/>
                    </a:lnTo>
                    <a:lnTo>
                      <a:pt x="1184" y="42"/>
                    </a:lnTo>
                    <a:lnTo>
                      <a:pt x="1150" y="55"/>
                    </a:lnTo>
                    <a:lnTo>
                      <a:pt x="1115" y="69"/>
                    </a:lnTo>
                    <a:lnTo>
                      <a:pt x="1081" y="83"/>
                    </a:lnTo>
                    <a:lnTo>
                      <a:pt x="1049" y="100"/>
                    </a:lnTo>
                    <a:lnTo>
                      <a:pt x="1018" y="117"/>
                    </a:lnTo>
                    <a:lnTo>
                      <a:pt x="987" y="136"/>
                    </a:lnTo>
                    <a:lnTo>
                      <a:pt x="959" y="157"/>
                    </a:lnTo>
                    <a:lnTo>
                      <a:pt x="929" y="177"/>
                    </a:lnTo>
                    <a:lnTo>
                      <a:pt x="902" y="199"/>
                    </a:lnTo>
                    <a:lnTo>
                      <a:pt x="876" y="222"/>
                    </a:lnTo>
                    <a:lnTo>
                      <a:pt x="849" y="246"/>
                    </a:lnTo>
                    <a:lnTo>
                      <a:pt x="824" y="269"/>
                    </a:lnTo>
                    <a:lnTo>
                      <a:pt x="800" y="296"/>
                    </a:lnTo>
                    <a:lnTo>
                      <a:pt x="777" y="321"/>
                    </a:lnTo>
                    <a:lnTo>
                      <a:pt x="755" y="348"/>
                    </a:lnTo>
                    <a:lnTo>
                      <a:pt x="733" y="376"/>
                    </a:lnTo>
                    <a:lnTo>
                      <a:pt x="711" y="402"/>
                    </a:lnTo>
                    <a:lnTo>
                      <a:pt x="672" y="459"/>
                    </a:lnTo>
                    <a:lnTo>
                      <a:pt x="636" y="518"/>
                    </a:lnTo>
                    <a:lnTo>
                      <a:pt x="603" y="576"/>
                    </a:lnTo>
                    <a:lnTo>
                      <a:pt x="572" y="636"/>
                    </a:lnTo>
                    <a:lnTo>
                      <a:pt x="544" y="695"/>
                    </a:lnTo>
                    <a:lnTo>
                      <a:pt x="518" y="755"/>
                    </a:lnTo>
                    <a:lnTo>
                      <a:pt x="495" y="813"/>
                    </a:lnTo>
                    <a:lnTo>
                      <a:pt x="475" y="871"/>
                    </a:lnTo>
                    <a:lnTo>
                      <a:pt x="457" y="926"/>
                    </a:lnTo>
                    <a:lnTo>
                      <a:pt x="440" y="977"/>
                    </a:lnTo>
                    <a:lnTo>
                      <a:pt x="426" y="1027"/>
                    </a:lnTo>
                    <a:lnTo>
                      <a:pt x="415" y="1074"/>
                    </a:lnTo>
                    <a:lnTo>
                      <a:pt x="396" y="1156"/>
                    </a:lnTo>
                    <a:lnTo>
                      <a:pt x="384" y="1219"/>
                    </a:lnTo>
                    <a:lnTo>
                      <a:pt x="376" y="1258"/>
                    </a:lnTo>
                    <a:lnTo>
                      <a:pt x="374" y="1273"/>
                    </a:lnTo>
                    <a:lnTo>
                      <a:pt x="348" y="1428"/>
                    </a:lnTo>
                    <a:lnTo>
                      <a:pt x="0" y="1428"/>
                    </a:lnTo>
                    <a:lnTo>
                      <a:pt x="0" y="1433"/>
                    </a:lnTo>
                    <a:lnTo>
                      <a:pt x="710" y="1950"/>
                    </a:lnTo>
                    <a:lnTo>
                      <a:pt x="1637" y="1433"/>
                    </a:lnTo>
                    <a:lnTo>
                      <a:pt x="1637" y="1428"/>
                    </a:lnTo>
                    <a:lnTo>
                      <a:pt x="1245" y="1428"/>
                    </a:lnTo>
                    <a:lnTo>
                      <a:pt x="1278" y="1273"/>
                    </a:lnTo>
                    <a:lnTo>
                      <a:pt x="1291" y="1219"/>
                    </a:lnTo>
                    <a:lnTo>
                      <a:pt x="1306" y="1156"/>
                    </a:lnTo>
                    <a:lnTo>
                      <a:pt x="1330" y="1074"/>
                    </a:lnTo>
                    <a:lnTo>
                      <a:pt x="1360" y="977"/>
                    </a:lnTo>
                    <a:lnTo>
                      <a:pt x="1378" y="926"/>
                    </a:lnTo>
                    <a:lnTo>
                      <a:pt x="1397" y="871"/>
                    </a:lnTo>
                    <a:lnTo>
                      <a:pt x="1419" y="813"/>
                    </a:lnTo>
                    <a:lnTo>
                      <a:pt x="1443" y="755"/>
                    </a:lnTo>
                    <a:lnTo>
                      <a:pt x="1468" y="695"/>
                    </a:lnTo>
                    <a:lnTo>
                      <a:pt x="1496" y="636"/>
                    </a:lnTo>
                    <a:lnTo>
                      <a:pt x="1526" y="576"/>
                    </a:lnTo>
                    <a:lnTo>
                      <a:pt x="1557" y="518"/>
                    </a:lnTo>
                    <a:lnTo>
                      <a:pt x="1590" y="459"/>
                    </a:lnTo>
                    <a:lnTo>
                      <a:pt x="1626" y="402"/>
                    </a:lnTo>
                    <a:lnTo>
                      <a:pt x="1663" y="348"/>
                    </a:lnTo>
                    <a:lnTo>
                      <a:pt x="1703" y="296"/>
                    </a:lnTo>
                    <a:lnTo>
                      <a:pt x="1745" y="246"/>
                    </a:lnTo>
                    <a:lnTo>
                      <a:pt x="1767" y="222"/>
                    </a:lnTo>
                    <a:lnTo>
                      <a:pt x="1790" y="199"/>
                    </a:lnTo>
                    <a:lnTo>
                      <a:pt x="1812" y="177"/>
                    </a:lnTo>
                    <a:lnTo>
                      <a:pt x="1836" y="157"/>
                    </a:lnTo>
                    <a:lnTo>
                      <a:pt x="1861" y="136"/>
                    </a:lnTo>
                    <a:lnTo>
                      <a:pt x="1884" y="117"/>
                    </a:lnTo>
                    <a:lnTo>
                      <a:pt x="1909" y="100"/>
                    </a:lnTo>
                    <a:lnTo>
                      <a:pt x="1936" y="83"/>
                    </a:lnTo>
                    <a:lnTo>
                      <a:pt x="1963" y="69"/>
                    </a:lnTo>
                    <a:lnTo>
                      <a:pt x="1989" y="55"/>
                    </a:lnTo>
                    <a:lnTo>
                      <a:pt x="2017" y="42"/>
                    </a:lnTo>
                    <a:lnTo>
                      <a:pt x="2044" y="31"/>
                    </a:lnTo>
                    <a:lnTo>
                      <a:pt x="2074" y="22"/>
                    </a:lnTo>
                    <a:lnTo>
                      <a:pt x="2104" y="14"/>
                    </a:lnTo>
                    <a:lnTo>
                      <a:pt x="2133" y="8"/>
                    </a:lnTo>
                    <a:lnTo>
                      <a:pt x="2163" y="3"/>
                    </a:lnTo>
                    <a:lnTo>
                      <a:pt x="2194" y="1"/>
                    </a:lnTo>
                    <a:lnTo>
                      <a:pt x="2226" y="0"/>
                    </a:lnTo>
                    <a:close/>
                  </a:path>
                </a:pathLst>
              </a:cu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0" name="Group 31"/>
            <p:cNvGrpSpPr/>
            <p:nvPr/>
          </p:nvGrpSpPr>
          <p:grpSpPr>
            <a:xfrm>
              <a:off x="5189760" y="1562040"/>
              <a:ext cx="1675080" cy="3124440"/>
              <a:chOff x="5189760" y="1562040"/>
              <a:chExt cx="1675080" cy="3124440"/>
            </a:xfrm>
          </p:grpSpPr>
          <p:sp>
            <p:nvSpPr>
              <p:cNvPr id="1171" name="Freeform 61"/>
              <p:cNvSpPr/>
              <p:nvPr/>
            </p:nvSpPr>
            <p:spPr>
              <a:xfrm flipH="1">
                <a:off x="5189400" y="1562040"/>
                <a:ext cx="690120" cy="2426760"/>
              </a:xfrm>
              <a:custGeom>
                <a:avLst/>
                <a:gdLst>
                  <a:gd name="textAreaLeft" fmla="*/ -360 w 690120"/>
                  <a:gd name="textAreaRight" fmla="*/ 690120 w 690120"/>
                  <a:gd name="textAreaTop" fmla="*/ 0 h 2426760"/>
                  <a:gd name="textAreaBottom" fmla="*/ 2427120 h 2426760"/>
                </a:gdLst>
                <a:ahLst/>
                <a:rect l="textAreaLeft" t="textAreaTop" r="textAreaRight" b="textAreaBottom"/>
                <a:pathLst>
                  <a:path w="954" h="3355">
                    <a:moveTo>
                      <a:pt x="685" y="3355"/>
                    </a:moveTo>
                    <a:lnTo>
                      <a:pt x="685" y="3355"/>
                    </a:lnTo>
                    <a:lnTo>
                      <a:pt x="707" y="3354"/>
                    </a:lnTo>
                    <a:lnTo>
                      <a:pt x="729" y="3350"/>
                    </a:lnTo>
                    <a:lnTo>
                      <a:pt x="747" y="3344"/>
                    </a:lnTo>
                    <a:lnTo>
                      <a:pt x="766" y="3336"/>
                    </a:lnTo>
                    <a:lnTo>
                      <a:pt x="783" y="3325"/>
                    </a:lnTo>
                    <a:lnTo>
                      <a:pt x="799" y="3314"/>
                    </a:lnTo>
                    <a:lnTo>
                      <a:pt x="815" y="3300"/>
                    </a:lnTo>
                    <a:lnTo>
                      <a:pt x="827" y="3286"/>
                    </a:lnTo>
                    <a:lnTo>
                      <a:pt x="840" y="3269"/>
                    </a:lnTo>
                    <a:lnTo>
                      <a:pt x="851" y="3252"/>
                    </a:lnTo>
                    <a:lnTo>
                      <a:pt x="862" y="3233"/>
                    </a:lnTo>
                    <a:lnTo>
                      <a:pt x="871" y="3214"/>
                    </a:lnTo>
                    <a:lnTo>
                      <a:pt x="879" y="3194"/>
                    </a:lnTo>
                    <a:lnTo>
                      <a:pt x="887" y="3173"/>
                    </a:lnTo>
                    <a:lnTo>
                      <a:pt x="899" y="3133"/>
                    </a:lnTo>
                    <a:lnTo>
                      <a:pt x="909" y="3090"/>
                    </a:lnTo>
                    <a:lnTo>
                      <a:pt x="915" y="3050"/>
                    </a:lnTo>
                    <a:lnTo>
                      <a:pt x="921" y="3012"/>
                    </a:lnTo>
                    <a:lnTo>
                      <a:pt x="924" y="2979"/>
                    </a:lnTo>
                    <a:lnTo>
                      <a:pt x="926" y="2928"/>
                    </a:lnTo>
                    <a:lnTo>
                      <a:pt x="926" y="2909"/>
                    </a:lnTo>
                    <a:lnTo>
                      <a:pt x="954" y="0"/>
                    </a:lnTo>
                    <a:lnTo>
                      <a:pt x="326" y="0"/>
                    </a:lnTo>
                    <a:lnTo>
                      <a:pt x="243" y="2909"/>
                    </a:lnTo>
                    <a:lnTo>
                      <a:pt x="243" y="2928"/>
                    </a:lnTo>
                    <a:lnTo>
                      <a:pt x="240" y="2979"/>
                    </a:lnTo>
                    <a:lnTo>
                      <a:pt x="237" y="3012"/>
                    </a:lnTo>
                    <a:lnTo>
                      <a:pt x="232" y="3050"/>
                    </a:lnTo>
                    <a:lnTo>
                      <a:pt x="226" y="3090"/>
                    </a:lnTo>
                    <a:lnTo>
                      <a:pt x="216" y="3133"/>
                    </a:lnTo>
                    <a:lnTo>
                      <a:pt x="204" y="3173"/>
                    </a:lnTo>
                    <a:lnTo>
                      <a:pt x="196" y="3194"/>
                    </a:lnTo>
                    <a:lnTo>
                      <a:pt x="188" y="3214"/>
                    </a:lnTo>
                    <a:lnTo>
                      <a:pt x="179" y="3233"/>
                    </a:lnTo>
                    <a:lnTo>
                      <a:pt x="168" y="3252"/>
                    </a:lnTo>
                    <a:lnTo>
                      <a:pt x="157" y="3269"/>
                    </a:lnTo>
                    <a:lnTo>
                      <a:pt x="144" y="3286"/>
                    </a:lnTo>
                    <a:lnTo>
                      <a:pt x="130" y="3300"/>
                    </a:lnTo>
                    <a:lnTo>
                      <a:pt x="116" y="3314"/>
                    </a:lnTo>
                    <a:lnTo>
                      <a:pt x="101" y="3325"/>
                    </a:lnTo>
                    <a:lnTo>
                      <a:pt x="83" y="3336"/>
                    </a:lnTo>
                    <a:lnTo>
                      <a:pt x="65" y="3344"/>
                    </a:lnTo>
                    <a:lnTo>
                      <a:pt x="44" y="3350"/>
                    </a:lnTo>
                    <a:lnTo>
                      <a:pt x="24" y="3354"/>
                    </a:lnTo>
                    <a:lnTo>
                      <a:pt x="0" y="3355"/>
                    </a:lnTo>
                    <a:lnTo>
                      <a:pt x="685" y="3355"/>
                    </a:lnTo>
                    <a:close/>
                  </a:path>
                </a:pathLst>
              </a:custGeom>
              <a:gradFill rotWithShape="0">
                <a:gsLst>
                  <a:gs pos="0">
                    <a:srgbClr val="ebe374"/>
                  </a:gs>
                  <a:gs pos="100000">
                    <a:srgbClr val="d3cb5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62"/>
              <p:cNvSpPr/>
              <p:nvPr/>
            </p:nvSpPr>
            <p:spPr>
              <a:xfrm flipH="1">
                <a:off x="5391360" y="3276000"/>
                <a:ext cx="734760" cy="712440"/>
              </a:xfrm>
              <a:custGeom>
                <a:avLst/>
                <a:gdLst>
                  <a:gd name="textAreaLeft" fmla="*/ -360 w 734760"/>
                  <a:gd name="textAreaRight" fmla="*/ 734760 w 734760"/>
                  <a:gd name="textAreaTop" fmla="*/ 0 h 712440"/>
                  <a:gd name="textAreaBottom" fmla="*/ 712440 h 712440"/>
                </a:gdLst>
                <a:ahLst/>
                <a:rect l="textAreaLeft" t="textAreaTop" r="textAreaRight" b="textAreaBottom"/>
                <a:pathLst>
                  <a:path w="1016" h="985">
                    <a:moveTo>
                      <a:pt x="352" y="985"/>
                    </a:moveTo>
                    <a:lnTo>
                      <a:pt x="352" y="985"/>
                    </a:lnTo>
                    <a:lnTo>
                      <a:pt x="335" y="984"/>
                    </a:lnTo>
                    <a:lnTo>
                      <a:pt x="319" y="980"/>
                    </a:lnTo>
                    <a:lnTo>
                      <a:pt x="305" y="974"/>
                    </a:lnTo>
                    <a:lnTo>
                      <a:pt x="291" y="965"/>
                    </a:lnTo>
                    <a:lnTo>
                      <a:pt x="279" y="955"/>
                    </a:lnTo>
                    <a:lnTo>
                      <a:pt x="268" y="943"/>
                    </a:lnTo>
                    <a:lnTo>
                      <a:pt x="257" y="929"/>
                    </a:lnTo>
                    <a:lnTo>
                      <a:pt x="246" y="913"/>
                    </a:lnTo>
                    <a:lnTo>
                      <a:pt x="238" y="896"/>
                    </a:lnTo>
                    <a:lnTo>
                      <a:pt x="229" y="877"/>
                    </a:lnTo>
                    <a:lnTo>
                      <a:pt x="221" y="858"/>
                    </a:lnTo>
                    <a:lnTo>
                      <a:pt x="215" y="838"/>
                    </a:lnTo>
                    <a:lnTo>
                      <a:pt x="204" y="796"/>
                    </a:lnTo>
                    <a:lnTo>
                      <a:pt x="194" y="753"/>
                    </a:lnTo>
                    <a:lnTo>
                      <a:pt x="186" y="709"/>
                    </a:lnTo>
                    <a:lnTo>
                      <a:pt x="182" y="667"/>
                    </a:lnTo>
                    <a:lnTo>
                      <a:pt x="177" y="628"/>
                    </a:lnTo>
                    <a:lnTo>
                      <a:pt x="175" y="594"/>
                    </a:lnTo>
                    <a:lnTo>
                      <a:pt x="172" y="540"/>
                    </a:lnTo>
                    <a:lnTo>
                      <a:pt x="172" y="520"/>
                    </a:lnTo>
                    <a:lnTo>
                      <a:pt x="174" y="498"/>
                    </a:lnTo>
                    <a:lnTo>
                      <a:pt x="172" y="438"/>
                    </a:lnTo>
                    <a:lnTo>
                      <a:pt x="172" y="399"/>
                    </a:lnTo>
                    <a:lnTo>
                      <a:pt x="169" y="355"/>
                    </a:lnTo>
                    <a:lnTo>
                      <a:pt x="164" y="308"/>
                    </a:lnTo>
                    <a:lnTo>
                      <a:pt x="160" y="260"/>
                    </a:lnTo>
                    <a:lnTo>
                      <a:pt x="150" y="211"/>
                    </a:lnTo>
                    <a:lnTo>
                      <a:pt x="139" y="164"/>
                    </a:lnTo>
                    <a:lnTo>
                      <a:pt x="133" y="142"/>
                    </a:lnTo>
                    <a:lnTo>
                      <a:pt x="125" y="121"/>
                    </a:lnTo>
                    <a:lnTo>
                      <a:pt x="117" y="100"/>
                    </a:lnTo>
                    <a:lnTo>
                      <a:pt x="108" y="81"/>
                    </a:lnTo>
                    <a:lnTo>
                      <a:pt x="99" y="64"/>
                    </a:lnTo>
                    <a:lnTo>
                      <a:pt x="88" y="48"/>
                    </a:lnTo>
                    <a:lnTo>
                      <a:pt x="75" y="34"/>
                    </a:lnTo>
                    <a:lnTo>
                      <a:pt x="63" y="22"/>
                    </a:lnTo>
                    <a:lnTo>
                      <a:pt x="49" y="12"/>
                    </a:lnTo>
                    <a:lnTo>
                      <a:pt x="33" y="6"/>
                    </a:lnTo>
                    <a:lnTo>
                      <a:pt x="17" y="1"/>
                    </a:lnTo>
                    <a:lnTo>
                      <a:pt x="0" y="0"/>
                    </a:lnTo>
                    <a:lnTo>
                      <a:pt x="647" y="0"/>
                    </a:lnTo>
                    <a:lnTo>
                      <a:pt x="662" y="1"/>
                    </a:lnTo>
                    <a:lnTo>
                      <a:pt x="678" y="6"/>
                    </a:lnTo>
                    <a:lnTo>
                      <a:pt x="691" y="12"/>
                    </a:lnTo>
                    <a:lnTo>
                      <a:pt x="705" y="22"/>
                    </a:lnTo>
                    <a:lnTo>
                      <a:pt x="716" y="34"/>
                    </a:lnTo>
                    <a:lnTo>
                      <a:pt x="727" y="48"/>
                    </a:lnTo>
                    <a:lnTo>
                      <a:pt x="738" y="64"/>
                    </a:lnTo>
                    <a:lnTo>
                      <a:pt x="745" y="81"/>
                    </a:lnTo>
                    <a:lnTo>
                      <a:pt x="755" y="100"/>
                    </a:lnTo>
                    <a:lnTo>
                      <a:pt x="763" y="121"/>
                    </a:lnTo>
                    <a:lnTo>
                      <a:pt x="769" y="142"/>
                    </a:lnTo>
                    <a:lnTo>
                      <a:pt x="775" y="164"/>
                    </a:lnTo>
                    <a:lnTo>
                      <a:pt x="786" y="211"/>
                    </a:lnTo>
                    <a:lnTo>
                      <a:pt x="794" y="260"/>
                    </a:lnTo>
                    <a:lnTo>
                      <a:pt x="800" y="308"/>
                    </a:lnTo>
                    <a:lnTo>
                      <a:pt x="805" y="355"/>
                    </a:lnTo>
                    <a:lnTo>
                      <a:pt x="806" y="399"/>
                    </a:lnTo>
                    <a:lnTo>
                      <a:pt x="808" y="438"/>
                    </a:lnTo>
                    <a:lnTo>
                      <a:pt x="810" y="498"/>
                    </a:lnTo>
                    <a:lnTo>
                      <a:pt x="810" y="520"/>
                    </a:lnTo>
                    <a:lnTo>
                      <a:pt x="810" y="540"/>
                    </a:lnTo>
                    <a:lnTo>
                      <a:pt x="813" y="594"/>
                    </a:lnTo>
                    <a:lnTo>
                      <a:pt x="817" y="628"/>
                    </a:lnTo>
                    <a:lnTo>
                      <a:pt x="822" y="667"/>
                    </a:lnTo>
                    <a:lnTo>
                      <a:pt x="828" y="709"/>
                    </a:lnTo>
                    <a:lnTo>
                      <a:pt x="836" y="753"/>
                    </a:lnTo>
                    <a:lnTo>
                      <a:pt x="849" y="796"/>
                    </a:lnTo>
                    <a:lnTo>
                      <a:pt x="861" y="838"/>
                    </a:lnTo>
                    <a:lnTo>
                      <a:pt x="869" y="858"/>
                    </a:lnTo>
                    <a:lnTo>
                      <a:pt x="878" y="877"/>
                    </a:lnTo>
                    <a:lnTo>
                      <a:pt x="888" y="896"/>
                    </a:lnTo>
                    <a:lnTo>
                      <a:pt x="899" y="913"/>
                    </a:lnTo>
                    <a:lnTo>
                      <a:pt x="910" y="929"/>
                    </a:lnTo>
                    <a:lnTo>
                      <a:pt x="922" y="943"/>
                    </a:lnTo>
                    <a:lnTo>
                      <a:pt x="935" y="955"/>
                    </a:lnTo>
                    <a:lnTo>
                      <a:pt x="949" y="965"/>
                    </a:lnTo>
                    <a:lnTo>
                      <a:pt x="965" y="974"/>
                    </a:lnTo>
                    <a:lnTo>
                      <a:pt x="980" y="980"/>
                    </a:lnTo>
                    <a:lnTo>
                      <a:pt x="997" y="984"/>
                    </a:lnTo>
                    <a:lnTo>
                      <a:pt x="1016" y="985"/>
                    </a:lnTo>
                    <a:lnTo>
                      <a:pt x="352" y="985"/>
                    </a:lnTo>
                    <a:close/>
                  </a:path>
                </a:pathLst>
              </a:custGeom>
              <a:gradFill rotWithShape="0">
                <a:gsLst>
                  <a:gs pos="0">
                    <a:srgbClr val="544f0d"/>
                  </a:gs>
                  <a:gs pos="100000">
                    <a:srgbClr val="a0972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63"/>
              <p:cNvSpPr/>
              <p:nvPr/>
            </p:nvSpPr>
            <p:spPr>
              <a:xfrm flipH="1">
                <a:off x="5652360" y="3276000"/>
                <a:ext cx="1212120" cy="1410480"/>
              </a:xfrm>
              <a:custGeom>
                <a:avLst/>
                <a:gdLst>
                  <a:gd name="textAreaLeft" fmla="*/ -360 w 1212120"/>
                  <a:gd name="textAreaRight" fmla="*/ 1212120 w 1212120"/>
                  <a:gd name="textAreaTop" fmla="*/ 0 h 1410480"/>
                  <a:gd name="textAreaBottom" fmla="*/ 1410840 h 1410480"/>
                </a:gdLst>
                <a:ahLst/>
                <a:rect l="textAreaLeft" t="textAreaTop" r="textAreaRight" b="textAreaBottom"/>
                <a:pathLst>
                  <a:path w="1676" h="1950">
                    <a:moveTo>
                      <a:pt x="1278" y="1273"/>
                    </a:moveTo>
                    <a:lnTo>
                      <a:pt x="1278" y="1273"/>
                    </a:lnTo>
                    <a:lnTo>
                      <a:pt x="1276" y="1219"/>
                    </a:lnTo>
                    <a:lnTo>
                      <a:pt x="1278" y="1156"/>
                    </a:lnTo>
                    <a:lnTo>
                      <a:pt x="1279" y="1074"/>
                    </a:lnTo>
                    <a:lnTo>
                      <a:pt x="1284" y="977"/>
                    </a:lnTo>
                    <a:lnTo>
                      <a:pt x="1292" y="871"/>
                    </a:lnTo>
                    <a:lnTo>
                      <a:pt x="1303" y="755"/>
                    </a:lnTo>
                    <a:lnTo>
                      <a:pt x="1311" y="695"/>
                    </a:lnTo>
                    <a:lnTo>
                      <a:pt x="1319" y="636"/>
                    </a:lnTo>
                    <a:lnTo>
                      <a:pt x="1328" y="576"/>
                    </a:lnTo>
                    <a:lnTo>
                      <a:pt x="1339" y="518"/>
                    </a:lnTo>
                    <a:lnTo>
                      <a:pt x="1350" y="459"/>
                    </a:lnTo>
                    <a:lnTo>
                      <a:pt x="1364" y="402"/>
                    </a:lnTo>
                    <a:lnTo>
                      <a:pt x="1380" y="348"/>
                    </a:lnTo>
                    <a:lnTo>
                      <a:pt x="1397" y="296"/>
                    </a:lnTo>
                    <a:lnTo>
                      <a:pt x="1416" y="246"/>
                    </a:lnTo>
                    <a:lnTo>
                      <a:pt x="1436" y="199"/>
                    </a:lnTo>
                    <a:lnTo>
                      <a:pt x="1458" y="157"/>
                    </a:lnTo>
                    <a:lnTo>
                      <a:pt x="1470" y="136"/>
                    </a:lnTo>
                    <a:lnTo>
                      <a:pt x="1483" y="117"/>
                    </a:lnTo>
                    <a:lnTo>
                      <a:pt x="1495" y="100"/>
                    </a:lnTo>
                    <a:lnTo>
                      <a:pt x="1508" y="83"/>
                    </a:lnTo>
                    <a:lnTo>
                      <a:pt x="1522" y="69"/>
                    </a:lnTo>
                    <a:lnTo>
                      <a:pt x="1538" y="55"/>
                    </a:lnTo>
                    <a:lnTo>
                      <a:pt x="1552" y="42"/>
                    </a:lnTo>
                    <a:lnTo>
                      <a:pt x="1567" y="31"/>
                    </a:lnTo>
                    <a:lnTo>
                      <a:pt x="1585" y="22"/>
                    </a:lnTo>
                    <a:lnTo>
                      <a:pt x="1602" y="14"/>
                    </a:lnTo>
                    <a:lnTo>
                      <a:pt x="1619" y="8"/>
                    </a:lnTo>
                    <a:lnTo>
                      <a:pt x="1638" y="3"/>
                    </a:lnTo>
                    <a:lnTo>
                      <a:pt x="1657" y="1"/>
                    </a:lnTo>
                    <a:lnTo>
                      <a:pt x="1676" y="0"/>
                    </a:lnTo>
                    <a:lnTo>
                      <a:pt x="993" y="0"/>
                    </a:lnTo>
                    <a:lnTo>
                      <a:pt x="968" y="1"/>
                    </a:lnTo>
                    <a:lnTo>
                      <a:pt x="946" y="3"/>
                    </a:lnTo>
                    <a:lnTo>
                      <a:pt x="922" y="8"/>
                    </a:lnTo>
                    <a:lnTo>
                      <a:pt x="900" y="14"/>
                    </a:lnTo>
                    <a:lnTo>
                      <a:pt x="880" y="22"/>
                    </a:lnTo>
                    <a:lnTo>
                      <a:pt x="858" y="31"/>
                    </a:lnTo>
                    <a:lnTo>
                      <a:pt x="838" y="42"/>
                    </a:lnTo>
                    <a:lnTo>
                      <a:pt x="819" y="55"/>
                    </a:lnTo>
                    <a:lnTo>
                      <a:pt x="799" y="69"/>
                    </a:lnTo>
                    <a:lnTo>
                      <a:pt x="780" y="83"/>
                    </a:lnTo>
                    <a:lnTo>
                      <a:pt x="763" y="100"/>
                    </a:lnTo>
                    <a:lnTo>
                      <a:pt x="745" y="117"/>
                    </a:lnTo>
                    <a:lnTo>
                      <a:pt x="728" y="136"/>
                    </a:lnTo>
                    <a:lnTo>
                      <a:pt x="711" y="157"/>
                    </a:lnTo>
                    <a:lnTo>
                      <a:pt x="695" y="177"/>
                    </a:lnTo>
                    <a:lnTo>
                      <a:pt x="680" y="199"/>
                    </a:lnTo>
                    <a:lnTo>
                      <a:pt x="650" y="246"/>
                    </a:lnTo>
                    <a:lnTo>
                      <a:pt x="622" y="296"/>
                    </a:lnTo>
                    <a:lnTo>
                      <a:pt x="595" y="348"/>
                    </a:lnTo>
                    <a:lnTo>
                      <a:pt x="572" y="402"/>
                    </a:lnTo>
                    <a:lnTo>
                      <a:pt x="548" y="459"/>
                    </a:lnTo>
                    <a:lnTo>
                      <a:pt x="528" y="518"/>
                    </a:lnTo>
                    <a:lnTo>
                      <a:pt x="509" y="576"/>
                    </a:lnTo>
                    <a:lnTo>
                      <a:pt x="490" y="636"/>
                    </a:lnTo>
                    <a:lnTo>
                      <a:pt x="474" y="695"/>
                    </a:lnTo>
                    <a:lnTo>
                      <a:pt x="460" y="755"/>
                    </a:lnTo>
                    <a:lnTo>
                      <a:pt x="446" y="813"/>
                    </a:lnTo>
                    <a:lnTo>
                      <a:pt x="434" y="871"/>
                    </a:lnTo>
                    <a:lnTo>
                      <a:pt x="415" y="977"/>
                    </a:lnTo>
                    <a:lnTo>
                      <a:pt x="399" y="1074"/>
                    </a:lnTo>
                    <a:lnTo>
                      <a:pt x="387" y="1156"/>
                    </a:lnTo>
                    <a:lnTo>
                      <a:pt x="379" y="1219"/>
                    </a:lnTo>
                    <a:lnTo>
                      <a:pt x="374" y="1273"/>
                    </a:lnTo>
                    <a:lnTo>
                      <a:pt x="365" y="1428"/>
                    </a:lnTo>
                    <a:lnTo>
                      <a:pt x="0" y="1428"/>
                    </a:lnTo>
                    <a:lnTo>
                      <a:pt x="0" y="1433"/>
                    </a:lnTo>
                    <a:lnTo>
                      <a:pt x="736" y="1950"/>
                    </a:lnTo>
                    <a:lnTo>
                      <a:pt x="1636" y="1433"/>
                    </a:lnTo>
                    <a:lnTo>
                      <a:pt x="1636" y="1428"/>
                    </a:lnTo>
                    <a:lnTo>
                      <a:pt x="1275" y="1428"/>
                    </a:lnTo>
                    <a:lnTo>
                      <a:pt x="1278" y="1273"/>
                    </a:lnTo>
                    <a:close/>
                  </a:path>
                </a:pathLst>
              </a:custGeom>
              <a:gradFill rotWithShape="0">
                <a:gsLst>
                  <a:gs pos="0">
                    <a:srgbClr val="bdb431"/>
                  </a:gs>
                  <a:gs pos="100000">
                    <a:srgbClr val="aca32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74" name="Group 35"/>
          <p:cNvGrpSpPr/>
          <p:nvPr/>
        </p:nvGrpSpPr>
        <p:grpSpPr>
          <a:xfrm>
            <a:off x="2541600" y="1116000"/>
            <a:ext cx="4060800" cy="615960"/>
            <a:chOff x="2541600" y="1116000"/>
            <a:chExt cx="4060800" cy="615960"/>
          </a:xfrm>
        </p:grpSpPr>
        <p:pic>
          <p:nvPicPr>
            <p:cNvPr id="1175" name="Rectangle 71" descr=""/>
            <p:cNvPicPr/>
            <p:nvPr/>
          </p:nvPicPr>
          <p:blipFill>
            <a:blip r:embed="rId5"/>
            <a:stretch/>
          </p:blipFill>
          <p:spPr>
            <a:xfrm>
              <a:off x="2541600" y="1116000"/>
              <a:ext cx="4060800" cy="615960"/>
            </a:xfrm>
            <a:prstGeom prst="rect">
              <a:avLst/>
            </a:prstGeom>
            <a:ln w="0">
              <a:noFill/>
            </a:ln>
          </p:spPr>
        </p:pic>
        <p:sp>
          <p:nvSpPr>
            <p:cNvPr id="1176" name="Text Box 37"/>
            <p:cNvSpPr/>
            <p:nvPr/>
          </p:nvSpPr>
          <p:spPr>
            <a:xfrm>
              <a:off x="2608200" y="1236600"/>
              <a:ext cx="3927600" cy="3254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itial Element</a:t>
              </a:r>
              <a:endParaRPr b="0" lang="en-US" sz="2000" spc="-1" strike="noStrike">
                <a:solidFill>
                  <a:srgbClr val="000000"/>
                </a:solidFill>
                <a:latin typeface="Arial"/>
              </a:endParaRPr>
            </a:p>
          </p:txBody>
        </p:sp>
      </p:grpSp>
      <p:sp>
        <p:nvSpPr>
          <p:cNvPr id="1177" name="Rectangle 70"/>
          <p:cNvSpPr/>
          <p:nvPr/>
        </p:nvSpPr>
        <p:spPr>
          <a:xfrm>
            <a:off x="1727280" y="228600"/>
            <a:ext cx="5664240" cy="990720"/>
          </a:xfrm>
          <a:prstGeom prst="rect">
            <a:avLst/>
          </a:prstGeom>
          <a:noFill/>
          <a:ln w="0">
            <a:noFill/>
          </a:ln>
        </p:spPr>
        <p:style>
          <a:lnRef idx="0"/>
          <a:fillRef idx="0"/>
          <a:effectRef idx="0"/>
          <a:fontRef idx="minor"/>
        </p:style>
        <p:txBody>
          <a:bodyPr lIns="45720" rIns="27360" tIns="18360" bIns="18360" anchor="t">
            <a:norm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aba"/>
                </a:solidFill>
                <a:latin typeface="Arial Narrow"/>
              </a:rPr>
              <a:t>Start</a:t>
            </a:r>
            <a:endParaRPr b="0" lang="en-US" sz="28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baba"/>
                </a:solidFill>
                <a:latin typeface="Arial Narrow"/>
              </a:rPr>
              <a:t>Place additional content here. Your content can be placed in this area. Place additional content here.</a:t>
            </a:r>
            <a:endParaRPr b="0" lang="en-US" sz="1600" spc="-1" strike="noStrike">
              <a:solidFill>
                <a:srgbClr val="000000"/>
              </a:solidFill>
              <a:latin typeface="Arial"/>
            </a:endParaRPr>
          </a:p>
        </p:txBody>
      </p:sp>
      <p:grpSp>
        <p:nvGrpSpPr>
          <p:cNvPr id="1178" name="Group 39"/>
          <p:cNvGrpSpPr/>
          <p:nvPr/>
        </p:nvGrpSpPr>
        <p:grpSpPr>
          <a:xfrm>
            <a:off x="177840" y="4762440"/>
            <a:ext cx="8800920" cy="838440"/>
            <a:chOff x="177840" y="4762440"/>
            <a:chExt cx="8800920" cy="838440"/>
          </a:xfrm>
        </p:grpSpPr>
        <p:grpSp>
          <p:nvGrpSpPr>
            <p:cNvPr id="1179" name="Group 40"/>
            <p:cNvGrpSpPr/>
            <p:nvPr/>
          </p:nvGrpSpPr>
          <p:grpSpPr>
            <a:xfrm>
              <a:off x="177840" y="4762440"/>
              <a:ext cx="1511280" cy="838440"/>
              <a:chOff x="177840" y="4762440"/>
              <a:chExt cx="1511280" cy="838440"/>
            </a:xfrm>
          </p:grpSpPr>
          <p:sp>
            <p:nvSpPr>
              <p:cNvPr id="1180" name="Rectangle 36"/>
              <p:cNvSpPr/>
              <p:nvPr/>
            </p:nvSpPr>
            <p:spPr>
              <a:xfrm>
                <a:off x="224280" y="5167080"/>
                <a:ext cx="14194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rmAutofit fontScale="90000"/>
              </a:bodyPr>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81" name="Group 42"/>
              <p:cNvGrpSpPr/>
              <p:nvPr/>
            </p:nvGrpSpPr>
            <p:grpSpPr>
              <a:xfrm>
                <a:off x="177840" y="4762440"/>
                <a:ext cx="1511280" cy="543600"/>
                <a:chOff x="177840" y="4762440"/>
                <a:chExt cx="1511280" cy="543600"/>
              </a:xfrm>
            </p:grpSpPr>
            <p:pic>
              <p:nvPicPr>
                <p:cNvPr id="1182" name="Rectangle 90" descr=""/>
                <p:cNvPicPr/>
                <p:nvPr/>
              </p:nvPicPr>
              <p:blipFill>
                <a:blip r:embed="rId6"/>
                <a:stretch/>
              </p:blipFill>
              <p:spPr>
                <a:xfrm>
                  <a:off x="177840" y="4762440"/>
                  <a:ext cx="1511280" cy="543600"/>
                </a:xfrm>
                <a:prstGeom prst="rect">
                  <a:avLst/>
                </a:prstGeom>
                <a:ln w="0">
                  <a:noFill/>
                </a:ln>
              </p:spPr>
            </p:pic>
            <p:sp>
              <p:nvSpPr>
                <p:cNvPr id="1183" name="Text Box 44"/>
                <p:cNvSpPr/>
                <p:nvPr/>
              </p:nvSpPr>
              <p:spPr>
                <a:xfrm>
                  <a:off x="225360" y="4860720"/>
                  <a:ext cx="1417680" cy="3027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1</a:t>
                  </a:r>
                  <a:endParaRPr b="0" lang="en-US" sz="2000" spc="-1" strike="noStrike">
                    <a:solidFill>
                      <a:srgbClr val="000000"/>
                    </a:solidFill>
                    <a:latin typeface="Arial"/>
                  </a:endParaRPr>
                </a:p>
              </p:txBody>
            </p:sp>
          </p:grpSp>
        </p:grpSp>
        <p:grpSp>
          <p:nvGrpSpPr>
            <p:cNvPr id="1184" name="Group 45"/>
            <p:cNvGrpSpPr/>
            <p:nvPr/>
          </p:nvGrpSpPr>
          <p:grpSpPr>
            <a:xfrm>
              <a:off x="2000160" y="4762440"/>
              <a:ext cx="1511280" cy="838440"/>
              <a:chOff x="2000160" y="4762440"/>
              <a:chExt cx="1511280" cy="838440"/>
            </a:xfrm>
          </p:grpSpPr>
          <p:sp>
            <p:nvSpPr>
              <p:cNvPr id="1185" name="Rectangle 36"/>
              <p:cNvSpPr/>
              <p:nvPr/>
            </p:nvSpPr>
            <p:spPr>
              <a:xfrm>
                <a:off x="2046600" y="5167080"/>
                <a:ext cx="14194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rmAutofit fontScale="90000"/>
              </a:bodyPr>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86" name="Group 47"/>
              <p:cNvGrpSpPr/>
              <p:nvPr/>
            </p:nvGrpSpPr>
            <p:grpSpPr>
              <a:xfrm>
                <a:off x="2000160" y="4762440"/>
                <a:ext cx="1511280" cy="543600"/>
                <a:chOff x="2000160" y="4762440"/>
                <a:chExt cx="1511280" cy="543600"/>
              </a:xfrm>
            </p:grpSpPr>
            <p:pic>
              <p:nvPicPr>
                <p:cNvPr id="1187" name="Rectangle 88" descr=""/>
                <p:cNvPicPr/>
                <p:nvPr/>
              </p:nvPicPr>
              <p:blipFill>
                <a:blip r:embed="rId7"/>
                <a:stretch/>
              </p:blipFill>
              <p:spPr>
                <a:xfrm>
                  <a:off x="2000160" y="4762440"/>
                  <a:ext cx="1511280" cy="543600"/>
                </a:xfrm>
                <a:prstGeom prst="rect">
                  <a:avLst/>
                </a:prstGeom>
                <a:ln w="0">
                  <a:noFill/>
                </a:ln>
              </p:spPr>
            </p:pic>
            <p:sp>
              <p:nvSpPr>
                <p:cNvPr id="1188" name="Text Box 49"/>
                <p:cNvSpPr/>
                <p:nvPr/>
              </p:nvSpPr>
              <p:spPr>
                <a:xfrm>
                  <a:off x="2047320" y="4860720"/>
                  <a:ext cx="1417680" cy="3027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2</a:t>
                  </a:r>
                  <a:endParaRPr b="0" lang="en-US" sz="2000" spc="-1" strike="noStrike">
                    <a:solidFill>
                      <a:srgbClr val="000000"/>
                    </a:solidFill>
                    <a:latin typeface="Arial"/>
                  </a:endParaRPr>
                </a:p>
              </p:txBody>
            </p:sp>
          </p:grpSp>
        </p:grpSp>
        <p:grpSp>
          <p:nvGrpSpPr>
            <p:cNvPr id="1189" name="Group 50"/>
            <p:cNvGrpSpPr/>
            <p:nvPr/>
          </p:nvGrpSpPr>
          <p:grpSpPr>
            <a:xfrm>
              <a:off x="3822480" y="4762440"/>
              <a:ext cx="1511280" cy="838440"/>
              <a:chOff x="3822480" y="4762440"/>
              <a:chExt cx="1511280" cy="838440"/>
            </a:xfrm>
          </p:grpSpPr>
          <p:sp>
            <p:nvSpPr>
              <p:cNvPr id="1190" name="Rectangle 36"/>
              <p:cNvSpPr/>
              <p:nvPr/>
            </p:nvSpPr>
            <p:spPr>
              <a:xfrm>
                <a:off x="3868560" y="5167080"/>
                <a:ext cx="14194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rmAutofit fontScale="90000"/>
              </a:bodyPr>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91" name="Group 52"/>
              <p:cNvGrpSpPr/>
              <p:nvPr/>
            </p:nvGrpSpPr>
            <p:grpSpPr>
              <a:xfrm>
                <a:off x="3822480" y="4762440"/>
                <a:ext cx="1511280" cy="543600"/>
                <a:chOff x="3822480" y="4762440"/>
                <a:chExt cx="1511280" cy="543600"/>
              </a:xfrm>
            </p:grpSpPr>
            <p:pic>
              <p:nvPicPr>
                <p:cNvPr id="1192" name="Rectangle 86" descr=""/>
                <p:cNvPicPr/>
                <p:nvPr/>
              </p:nvPicPr>
              <p:blipFill>
                <a:blip r:embed="rId8"/>
                <a:stretch/>
              </p:blipFill>
              <p:spPr>
                <a:xfrm>
                  <a:off x="3822480" y="4762440"/>
                  <a:ext cx="1511280" cy="543600"/>
                </a:xfrm>
                <a:prstGeom prst="rect">
                  <a:avLst/>
                </a:prstGeom>
                <a:ln w="0">
                  <a:noFill/>
                </a:ln>
              </p:spPr>
            </p:pic>
            <p:sp>
              <p:nvSpPr>
                <p:cNvPr id="1193" name="Text Box 54"/>
                <p:cNvSpPr/>
                <p:nvPr/>
              </p:nvSpPr>
              <p:spPr>
                <a:xfrm>
                  <a:off x="3869280" y="4860720"/>
                  <a:ext cx="1417680" cy="3027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3</a:t>
                  </a:r>
                  <a:endParaRPr b="0" lang="en-US" sz="2000" spc="-1" strike="noStrike">
                    <a:solidFill>
                      <a:srgbClr val="000000"/>
                    </a:solidFill>
                    <a:latin typeface="Arial"/>
                  </a:endParaRPr>
                </a:p>
              </p:txBody>
            </p:sp>
          </p:grpSp>
        </p:grpSp>
        <p:grpSp>
          <p:nvGrpSpPr>
            <p:cNvPr id="1194" name="Group 55"/>
            <p:cNvGrpSpPr/>
            <p:nvPr/>
          </p:nvGrpSpPr>
          <p:grpSpPr>
            <a:xfrm>
              <a:off x="5645160" y="4762440"/>
              <a:ext cx="1511280" cy="838440"/>
              <a:chOff x="5645160" y="4762440"/>
              <a:chExt cx="1511280" cy="838440"/>
            </a:xfrm>
          </p:grpSpPr>
          <p:sp>
            <p:nvSpPr>
              <p:cNvPr id="1195" name="Rectangle 36"/>
              <p:cNvSpPr/>
              <p:nvPr/>
            </p:nvSpPr>
            <p:spPr>
              <a:xfrm>
                <a:off x="5690880" y="5167080"/>
                <a:ext cx="14194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rmAutofit fontScale="90000"/>
              </a:bodyPr>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196" name="Group 57"/>
              <p:cNvGrpSpPr/>
              <p:nvPr/>
            </p:nvGrpSpPr>
            <p:grpSpPr>
              <a:xfrm>
                <a:off x="5645160" y="4762440"/>
                <a:ext cx="1511280" cy="543600"/>
                <a:chOff x="5645160" y="4762440"/>
                <a:chExt cx="1511280" cy="543600"/>
              </a:xfrm>
            </p:grpSpPr>
            <p:pic>
              <p:nvPicPr>
                <p:cNvPr id="1197" name="Rectangle 84" descr=""/>
                <p:cNvPicPr/>
                <p:nvPr/>
              </p:nvPicPr>
              <p:blipFill>
                <a:blip r:embed="rId9"/>
                <a:stretch/>
              </p:blipFill>
              <p:spPr>
                <a:xfrm>
                  <a:off x="5645160" y="4762440"/>
                  <a:ext cx="1511280" cy="543600"/>
                </a:xfrm>
                <a:prstGeom prst="rect">
                  <a:avLst/>
                </a:prstGeom>
                <a:ln w="0">
                  <a:noFill/>
                </a:ln>
              </p:spPr>
            </p:pic>
            <p:sp>
              <p:nvSpPr>
                <p:cNvPr id="1198" name="Text Box 59"/>
                <p:cNvSpPr/>
                <p:nvPr/>
              </p:nvSpPr>
              <p:spPr>
                <a:xfrm>
                  <a:off x="5691960" y="4860720"/>
                  <a:ext cx="1417680" cy="3027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4</a:t>
                  </a:r>
                  <a:endParaRPr b="0" lang="en-US" sz="2000" spc="-1" strike="noStrike">
                    <a:solidFill>
                      <a:srgbClr val="000000"/>
                    </a:solidFill>
                    <a:latin typeface="Arial"/>
                  </a:endParaRPr>
                </a:p>
              </p:txBody>
            </p:sp>
          </p:grpSp>
        </p:grpSp>
        <p:grpSp>
          <p:nvGrpSpPr>
            <p:cNvPr id="1199" name="Group 60"/>
            <p:cNvGrpSpPr/>
            <p:nvPr/>
          </p:nvGrpSpPr>
          <p:grpSpPr>
            <a:xfrm>
              <a:off x="7467480" y="4762440"/>
              <a:ext cx="1511280" cy="838440"/>
              <a:chOff x="7467480" y="4762440"/>
              <a:chExt cx="1511280" cy="838440"/>
            </a:xfrm>
          </p:grpSpPr>
          <p:sp>
            <p:nvSpPr>
              <p:cNvPr id="1200" name="Rectangle 36"/>
              <p:cNvSpPr/>
              <p:nvPr/>
            </p:nvSpPr>
            <p:spPr>
              <a:xfrm>
                <a:off x="7513200" y="5167080"/>
                <a:ext cx="1419480" cy="433800"/>
              </a:xfrm>
              <a:prstGeom prst="rect">
                <a:avLst/>
              </a:prstGeom>
              <a:gradFill rotWithShape="0">
                <a:gsLst>
                  <a:gs pos="0">
                    <a:srgbClr val="f9f073"/>
                  </a:gs>
                  <a:gs pos="100000">
                    <a:srgbClr val="ffffff">
                      <a:alpha val="0"/>
                    </a:srgbClr>
                  </a:gs>
                </a:gsLst>
                <a:lin ang="5400000"/>
              </a:gradFill>
              <a:ln w="0">
                <a:noFill/>
              </a:ln>
            </p:spPr>
            <p:style>
              <a:lnRef idx="0"/>
              <a:fillRef idx="0"/>
              <a:effectRef idx="0"/>
              <a:fontRef idx="minor"/>
            </p:style>
            <p:txBody>
              <a:bodyPr lIns="45720" rIns="27360" tIns="18360" bIns="18360" anchor="t">
                <a:normAutofit fontScale="90000"/>
              </a:bodyPr>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a:t>
                </a:r>
                <a:endParaRPr b="0" lang="en-US" sz="1600" spc="-1" strike="noStrike">
                  <a:solidFill>
                    <a:srgbClr val="000000"/>
                  </a:solidFill>
                  <a:latin typeface="Arial"/>
                </a:endParaRPr>
              </a:p>
              <a:p>
                <a:pPr marL="100080" indent="-10008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Narrow"/>
                  </a:rPr>
                  <a:t>Sample text 2</a:t>
                </a:r>
                <a:endParaRPr b="0" lang="en-US" sz="1600" spc="-1" strike="noStrike">
                  <a:solidFill>
                    <a:srgbClr val="000000"/>
                  </a:solidFill>
                  <a:latin typeface="Arial"/>
                </a:endParaRPr>
              </a:p>
            </p:txBody>
          </p:sp>
          <p:grpSp>
            <p:nvGrpSpPr>
              <p:cNvPr id="1201" name="Group 62"/>
              <p:cNvGrpSpPr/>
              <p:nvPr/>
            </p:nvGrpSpPr>
            <p:grpSpPr>
              <a:xfrm>
                <a:off x="7467480" y="4762440"/>
                <a:ext cx="1511280" cy="543600"/>
                <a:chOff x="7467480" y="4762440"/>
                <a:chExt cx="1511280" cy="543600"/>
              </a:xfrm>
            </p:grpSpPr>
            <p:pic>
              <p:nvPicPr>
                <p:cNvPr id="1202" name="Rectangle 82" descr=""/>
                <p:cNvPicPr/>
                <p:nvPr/>
              </p:nvPicPr>
              <p:blipFill>
                <a:blip r:embed="rId10"/>
                <a:stretch/>
              </p:blipFill>
              <p:spPr>
                <a:xfrm>
                  <a:off x="7467480" y="4762440"/>
                  <a:ext cx="1511280" cy="543600"/>
                </a:xfrm>
                <a:prstGeom prst="rect">
                  <a:avLst/>
                </a:prstGeom>
                <a:ln w="0">
                  <a:noFill/>
                </a:ln>
              </p:spPr>
            </p:pic>
            <p:sp>
              <p:nvSpPr>
                <p:cNvPr id="1203" name="Text Box 64"/>
                <p:cNvSpPr/>
                <p:nvPr/>
              </p:nvSpPr>
              <p:spPr>
                <a:xfrm>
                  <a:off x="7513920" y="4860720"/>
                  <a:ext cx="1417680" cy="30276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utput 5</a:t>
                  </a:r>
                  <a:endParaRPr b="0" lang="en-US" sz="2000" spc="-1" strike="noStrike">
                    <a:solidFill>
                      <a:srgbClr val="000000"/>
                    </a:solidFill>
                    <a:latin typeface="Arial"/>
                  </a:endParaRPr>
                </a:p>
              </p:txBody>
            </p:sp>
          </p:grpSp>
        </p:grpSp>
      </p:grpSp>
      <p:sp>
        <p:nvSpPr>
          <p:cNvPr id="1204" name="Rectangle 70"/>
          <p:cNvSpPr/>
          <p:nvPr/>
        </p:nvSpPr>
        <p:spPr>
          <a:xfrm>
            <a:off x="304920" y="5715000"/>
            <a:ext cx="8432640" cy="990720"/>
          </a:xfrm>
          <a:prstGeom prst="rect">
            <a:avLst/>
          </a:prstGeom>
          <a:noFill/>
          <a:ln w="0">
            <a:noFill/>
          </a:ln>
        </p:spPr>
        <p:style>
          <a:lnRef idx="0"/>
          <a:fillRef idx="0"/>
          <a:effectRef idx="0"/>
          <a:fontRef idx="minor"/>
        </p:style>
        <p:txBody>
          <a:bodyPr lIns="45720" rIns="27360" tIns="18360" bIns="18360" anchor="t">
            <a:norm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aba"/>
                </a:solidFill>
                <a:latin typeface="Arial Narrow"/>
              </a:rPr>
              <a:t>Finish</a:t>
            </a:r>
            <a:endParaRPr b="0" lang="en-US" sz="28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baba"/>
                </a:solidFill>
                <a:latin typeface="Arial Narrow"/>
              </a:rPr>
              <a:t>Place additional content here. Your content can be placed in this area. Place additional content here. </a:t>
            </a:r>
            <a:br>
              <a:rPr sz="1600"/>
            </a:br>
            <a:r>
              <a:rPr b="0" lang="en-US" sz="1600" spc="-1" strike="noStrike">
                <a:solidFill>
                  <a:srgbClr val="bababa"/>
                </a:solidFill>
                <a:latin typeface="Arial Narrow"/>
              </a:rPr>
              <a:t>Your content can be placed in this area. Place additional content he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AutoShape 110"/>
          <p:cNvSpPr/>
          <p:nvPr/>
        </p:nvSpPr>
        <p:spPr>
          <a:xfrm>
            <a:off x="1143000" y="1617840"/>
            <a:ext cx="4267080" cy="3429000"/>
          </a:xfrm>
          <a:prstGeom prst="rightArrow">
            <a:avLst>
              <a:gd name="adj1" fmla="val 55843"/>
              <a:gd name="adj2" fmla="val 34526"/>
            </a:avLst>
          </a:prstGeom>
          <a:gradFill rotWithShape="0">
            <a:gsLst>
              <a:gs pos="0">
                <a:srgbClr val="9bc4f5"/>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2"/>
          <p:cNvSpPr/>
          <p:nvPr/>
        </p:nvSpPr>
        <p:spPr>
          <a:xfrm>
            <a:off x="5562720" y="1692360"/>
            <a:ext cx="3047760" cy="4040280"/>
          </a:xfrm>
          <a:prstGeom prst="rect">
            <a:avLst/>
          </a:prstGeom>
          <a:gradFill rotWithShape="0">
            <a:gsLst>
              <a:gs pos="0">
                <a:srgbClr val="ddedfe"/>
              </a:gs>
              <a:gs pos="100000">
                <a:srgbClr val="ffffff">
                  <a:alpha val="0"/>
                </a:srgbClr>
              </a:gs>
            </a:gsLst>
            <a:lin ang="5400000"/>
          </a:gradFill>
          <a:ln w="0">
            <a:noFill/>
          </a:ln>
        </p:spPr>
        <p:style>
          <a:lnRef idx="0"/>
          <a:fillRef idx="0"/>
          <a:effectRef idx="0"/>
          <a:fontRef idx="minor"/>
        </p:style>
        <p:txBody>
          <a:bodyPr lIns="45720" rIns="27360" tIns="18360" bIns="18360" anchor="t">
            <a:normAutofit/>
          </a:bodyPr>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Place your content-specific text here</a:t>
            </a:r>
            <a:endParaRPr b="0" lang="en-US" sz="1800" spc="-1" strike="noStrike">
              <a:solidFill>
                <a:srgbClr val="000000"/>
              </a:solidFill>
              <a:latin typeface="Arial"/>
            </a:endParaRPr>
          </a:p>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Your text can be placed here</a:t>
            </a:r>
            <a:endParaRPr b="0" lang="en-US" sz="1800" spc="-1" strike="noStrike">
              <a:solidFill>
                <a:srgbClr val="000000"/>
              </a:solidFill>
              <a:latin typeface="Arial"/>
            </a:endParaRPr>
          </a:p>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Add your content here if needed</a:t>
            </a:r>
            <a:endParaRPr b="0" lang="en-US" sz="1800" spc="-1" strike="noStrike">
              <a:solidFill>
                <a:srgbClr val="000000"/>
              </a:solidFill>
              <a:latin typeface="Arial"/>
            </a:endParaRPr>
          </a:p>
          <a:p>
            <a:pPr marL="228600" indent="-228600">
              <a:lnSpc>
                <a:spcPct val="85000"/>
              </a:lnSpc>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Narrow"/>
              </a:rPr>
              <a:t>Place your content-specific text here</a:t>
            </a:r>
            <a:endParaRPr b="0" lang="en-US" sz="1800" spc="-1" strike="noStrike">
              <a:solidFill>
                <a:srgbClr val="000000"/>
              </a:solidFill>
              <a:latin typeface="Arial"/>
            </a:endParaRPr>
          </a:p>
        </p:txBody>
      </p:sp>
      <p:grpSp>
        <p:nvGrpSpPr>
          <p:cNvPr id="57" name="Group 4"/>
          <p:cNvGrpSpPr/>
          <p:nvPr/>
        </p:nvGrpSpPr>
        <p:grpSpPr>
          <a:xfrm>
            <a:off x="5516640" y="1182600"/>
            <a:ext cx="3146400" cy="719280"/>
            <a:chOff x="5516640" y="1182600"/>
            <a:chExt cx="3146400" cy="719280"/>
          </a:xfrm>
        </p:grpSpPr>
        <p:pic>
          <p:nvPicPr>
            <p:cNvPr id="58" name="Rectangle 43" descr=""/>
            <p:cNvPicPr/>
            <p:nvPr/>
          </p:nvPicPr>
          <p:blipFill>
            <a:blip r:embed="rId1"/>
            <a:stretch/>
          </p:blipFill>
          <p:spPr>
            <a:xfrm>
              <a:off x="5516640" y="1182600"/>
              <a:ext cx="3146400" cy="719280"/>
            </a:xfrm>
            <a:prstGeom prst="rect">
              <a:avLst/>
            </a:prstGeom>
            <a:ln w="0">
              <a:noFill/>
            </a:ln>
          </p:spPr>
        </p:pic>
        <p:sp>
          <p:nvSpPr>
            <p:cNvPr id="59" name="Text Box 6"/>
            <p:cNvSpPr/>
            <p:nvPr/>
          </p:nvSpPr>
          <p:spPr>
            <a:xfrm>
              <a:off x="5562720" y="1312920"/>
              <a:ext cx="3048120" cy="38088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tcome Here</a:t>
              </a:r>
              <a:endParaRPr b="0" lang="en-US" sz="2400" spc="-1" strike="noStrike">
                <a:solidFill>
                  <a:srgbClr val="000000"/>
                </a:solidFill>
                <a:latin typeface="Arial"/>
              </a:endParaRPr>
            </a:p>
          </p:txBody>
        </p:sp>
      </p:grpSp>
      <p:grpSp>
        <p:nvGrpSpPr>
          <p:cNvPr id="60" name="Group 7"/>
          <p:cNvGrpSpPr/>
          <p:nvPr/>
        </p:nvGrpSpPr>
        <p:grpSpPr>
          <a:xfrm>
            <a:off x="5334120" y="3294000"/>
            <a:ext cx="3200400" cy="2387520"/>
            <a:chOff x="5334120" y="3294000"/>
            <a:chExt cx="3200400" cy="2387520"/>
          </a:xfrm>
        </p:grpSpPr>
        <p:sp>
          <p:nvSpPr>
            <p:cNvPr id="61" name="Rectangle 129"/>
            <p:cNvSpPr/>
            <p:nvPr/>
          </p:nvSpPr>
          <p:spPr>
            <a:xfrm rot="10800000">
              <a:off x="7254000" y="3488400"/>
              <a:ext cx="547560" cy="1436040"/>
            </a:xfrm>
            <a:prstGeom prst="rect">
              <a:avLst/>
            </a:prstGeom>
            <a:gradFill rotWithShape="0">
              <a:gsLst>
                <a:gs pos="0">
                  <a:srgbClr val="b6d0f8"/>
                </a:gs>
                <a:gs pos="100000">
                  <a:srgbClr val="ffffff">
                    <a:alpha val="0"/>
                  </a:srgbClr>
                </a:gs>
              </a:gsLst>
              <a:lin ang="16200000"/>
            </a:grad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0"/>
            <p:cNvSpPr/>
            <p:nvPr/>
          </p:nvSpPr>
          <p:spPr>
            <a:xfrm rot="10800000">
              <a:off x="6176880" y="3488400"/>
              <a:ext cx="547560" cy="1436040"/>
            </a:xfrm>
            <a:prstGeom prst="rect">
              <a:avLst/>
            </a:prstGeom>
            <a:gradFill rotWithShape="0">
              <a:gsLst>
                <a:gs pos="0">
                  <a:srgbClr val="b6d0f8"/>
                </a:gs>
                <a:gs pos="100000">
                  <a:srgbClr val="ffffff">
                    <a:alpha val="0"/>
                  </a:srgbClr>
                </a:gs>
              </a:gsLst>
              <a:lin ang="16200000"/>
            </a:grad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Chart 131" descr=""/>
            <p:cNvPicPr/>
            <p:nvPr/>
          </p:nvPicPr>
          <p:blipFill>
            <a:blip r:embed="rId2"/>
            <a:stretch/>
          </p:blipFill>
          <p:spPr>
            <a:xfrm>
              <a:off x="5334120" y="3294000"/>
              <a:ext cx="3200400" cy="2387520"/>
            </a:xfrm>
            <a:prstGeom prst="rect">
              <a:avLst/>
            </a:prstGeom>
            <a:ln w="0">
              <a:noFill/>
            </a:ln>
          </p:spPr>
        </p:pic>
      </p:grpSp>
      <p:sp>
        <p:nvSpPr>
          <p:cNvPr id="64" name="Rectangle 70"/>
          <p:cNvSpPr/>
          <p:nvPr/>
        </p:nvSpPr>
        <p:spPr>
          <a:xfrm>
            <a:off x="2743200" y="3048120"/>
            <a:ext cx="2514600" cy="838080"/>
          </a:xfrm>
          <a:prstGeom prst="rect">
            <a:avLst/>
          </a:prstGeom>
          <a:noFill/>
          <a:ln w="0">
            <a:noFill/>
          </a:ln>
        </p:spPr>
        <p:style>
          <a:lnRef idx="0"/>
          <a:fillRef idx="0"/>
          <a:effectRef idx="0"/>
          <a:fontRef idx="minor"/>
        </p:style>
        <p:txBody>
          <a:bodyPr lIns="45720" rIns="27360" tIns="18360" bIns="18360" anchor="t">
            <a:norm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f497d"/>
                </a:solidFill>
                <a:latin typeface="Arial Narrow"/>
              </a:rPr>
              <a:t>Results</a:t>
            </a:r>
            <a:endParaRPr b="0" lang="en-US" sz="3600" spc="-1" strike="noStrike">
              <a:solidFill>
                <a:srgbClr val="000000"/>
              </a:solidFill>
              <a:latin typeface="Arial"/>
            </a:endParaRPr>
          </a:p>
        </p:txBody>
      </p:sp>
      <p:grpSp>
        <p:nvGrpSpPr>
          <p:cNvPr id="65" name="Group 12"/>
          <p:cNvGrpSpPr/>
          <p:nvPr/>
        </p:nvGrpSpPr>
        <p:grpSpPr>
          <a:xfrm>
            <a:off x="439560" y="606600"/>
            <a:ext cx="1549440" cy="1549080"/>
            <a:chOff x="439560" y="606600"/>
            <a:chExt cx="1549440" cy="1549080"/>
          </a:xfrm>
        </p:grpSpPr>
        <p:grpSp>
          <p:nvGrpSpPr>
            <p:cNvPr id="66" name="Group 13"/>
            <p:cNvGrpSpPr/>
            <p:nvPr/>
          </p:nvGrpSpPr>
          <p:grpSpPr>
            <a:xfrm>
              <a:off x="439560" y="606600"/>
              <a:ext cx="1549440" cy="1549080"/>
              <a:chOff x="439560" y="606600"/>
              <a:chExt cx="1549440" cy="1549080"/>
            </a:xfrm>
          </p:grpSpPr>
          <p:sp>
            <p:nvSpPr>
              <p:cNvPr id="67" name="Freeform 5"/>
              <p:cNvSpPr/>
              <p:nvPr/>
            </p:nvSpPr>
            <p:spPr>
              <a:xfrm>
                <a:off x="439560" y="606600"/>
                <a:ext cx="1549440" cy="1549080"/>
              </a:xfrm>
              <a:custGeom>
                <a:avLst/>
                <a:gdLst/>
                <a:ahLst/>
                <a:rect l="l" t="t" r="r" b="b"/>
                <a:pathLst>
                  <a:path w="5950" h="5950">
                    <a:moveTo>
                      <a:pt x="5840" y="3106"/>
                    </a:moveTo>
                    <a:lnTo>
                      <a:pt x="5840" y="3106"/>
                    </a:lnTo>
                    <a:lnTo>
                      <a:pt x="5808" y="3091"/>
                    </a:lnTo>
                    <a:lnTo>
                      <a:pt x="5780" y="3078"/>
                    </a:lnTo>
                    <a:lnTo>
                      <a:pt x="5727" y="3058"/>
                    </a:lnTo>
                    <a:lnTo>
                      <a:pt x="5685" y="3044"/>
                    </a:lnTo>
                    <a:lnTo>
                      <a:pt x="5650" y="3034"/>
                    </a:lnTo>
                    <a:lnTo>
                      <a:pt x="5650" y="2976"/>
                    </a:lnTo>
                    <a:lnTo>
                      <a:pt x="5650" y="2917"/>
                    </a:lnTo>
                    <a:lnTo>
                      <a:pt x="5685" y="2908"/>
                    </a:lnTo>
                    <a:lnTo>
                      <a:pt x="5727" y="2894"/>
                    </a:lnTo>
                    <a:lnTo>
                      <a:pt x="5780" y="2872"/>
                    </a:lnTo>
                    <a:lnTo>
                      <a:pt x="5808" y="2859"/>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785" y="2597"/>
                    </a:lnTo>
                    <a:lnTo>
                      <a:pt x="5755" y="2590"/>
                    </a:lnTo>
                    <a:lnTo>
                      <a:pt x="5699" y="2579"/>
                    </a:lnTo>
                    <a:lnTo>
                      <a:pt x="5655" y="2572"/>
                    </a:lnTo>
                    <a:lnTo>
                      <a:pt x="5619" y="2569"/>
                    </a:lnTo>
                    <a:lnTo>
                      <a:pt x="5609" y="2511"/>
                    </a:lnTo>
                    <a:lnTo>
                      <a:pt x="5599" y="2453"/>
                    </a:lnTo>
                    <a:lnTo>
                      <a:pt x="5630" y="2439"/>
                    </a:lnTo>
                    <a:lnTo>
                      <a:pt x="5671" y="2417"/>
                    </a:lnTo>
                    <a:lnTo>
                      <a:pt x="5719" y="2387"/>
                    </a:lnTo>
                    <a:lnTo>
                      <a:pt x="5746" y="236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676" y="2115"/>
                    </a:lnTo>
                    <a:lnTo>
                      <a:pt x="5645" y="2112"/>
                    </a:lnTo>
                    <a:lnTo>
                      <a:pt x="5589" y="2110"/>
                    </a:lnTo>
                    <a:lnTo>
                      <a:pt x="5543" y="2112"/>
                    </a:lnTo>
                    <a:lnTo>
                      <a:pt x="5508" y="2115"/>
                    </a:lnTo>
                    <a:lnTo>
                      <a:pt x="5488" y="2061"/>
                    </a:lnTo>
                    <a:lnTo>
                      <a:pt x="5467" y="2007"/>
                    </a:lnTo>
                    <a:lnTo>
                      <a:pt x="5497" y="1987"/>
                    </a:lnTo>
                    <a:lnTo>
                      <a:pt x="5533" y="1957"/>
                    </a:lnTo>
                    <a:lnTo>
                      <a:pt x="5574" y="1921"/>
                    </a:lnTo>
                    <a:lnTo>
                      <a:pt x="5597" y="1898"/>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487" y="1659"/>
                    </a:lnTo>
                    <a:lnTo>
                      <a:pt x="5454" y="1662"/>
                    </a:lnTo>
                    <a:lnTo>
                      <a:pt x="5398" y="1670"/>
                    </a:lnTo>
                    <a:lnTo>
                      <a:pt x="5353" y="1680"/>
                    </a:lnTo>
                    <a:lnTo>
                      <a:pt x="5319" y="1690"/>
                    </a:lnTo>
                    <a:lnTo>
                      <a:pt x="5290" y="1639"/>
                    </a:lnTo>
                    <a:lnTo>
                      <a:pt x="5261" y="1589"/>
                    </a:lnTo>
                    <a:lnTo>
                      <a:pt x="5286" y="1563"/>
                    </a:lnTo>
                    <a:lnTo>
                      <a:pt x="5317" y="1530"/>
                    </a:lnTo>
                    <a:lnTo>
                      <a:pt x="5352" y="1486"/>
                    </a:lnTo>
                    <a:lnTo>
                      <a:pt x="5371" y="145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20" y="1243"/>
                    </a:lnTo>
                    <a:lnTo>
                      <a:pt x="5188" y="1251"/>
                    </a:lnTo>
                    <a:lnTo>
                      <a:pt x="5134" y="1270"/>
                    </a:lnTo>
                    <a:lnTo>
                      <a:pt x="5091" y="1286"/>
                    </a:lnTo>
                    <a:lnTo>
                      <a:pt x="5060" y="1303"/>
                    </a:lnTo>
                    <a:lnTo>
                      <a:pt x="5022" y="1256"/>
                    </a:lnTo>
                    <a:lnTo>
                      <a:pt x="4985" y="1213"/>
                    </a:lnTo>
                    <a:lnTo>
                      <a:pt x="5005" y="1184"/>
                    </a:lnTo>
                    <a:lnTo>
                      <a:pt x="5030" y="1144"/>
                    </a:lnTo>
                    <a:lnTo>
                      <a:pt x="5056" y="1095"/>
                    </a:lnTo>
                    <a:lnTo>
                      <a:pt x="5071" y="1065"/>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885" y="879"/>
                    </a:lnTo>
                    <a:lnTo>
                      <a:pt x="4855" y="894"/>
                    </a:lnTo>
                    <a:lnTo>
                      <a:pt x="4806" y="920"/>
                    </a:lnTo>
                    <a:lnTo>
                      <a:pt x="4766" y="945"/>
                    </a:lnTo>
                    <a:lnTo>
                      <a:pt x="4737" y="965"/>
                    </a:lnTo>
                    <a:lnTo>
                      <a:pt x="4694" y="928"/>
                    </a:lnTo>
                    <a:lnTo>
                      <a:pt x="4647" y="890"/>
                    </a:lnTo>
                    <a:lnTo>
                      <a:pt x="4664" y="859"/>
                    </a:lnTo>
                    <a:lnTo>
                      <a:pt x="4680" y="816"/>
                    </a:lnTo>
                    <a:lnTo>
                      <a:pt x="4699" y="762"/>
                    </a:lnTo>
                    <a:lnTo>
                      <a:pt x="4707" y="730"/>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491" y="579"/>
                    </a:lnTo>
                    <a:lnTo>
                      <a:pt x="4464" y="598"/>
                    </a:lnTo>
                    <a:lnTo>
                      <a:pt x="4420" y="633"/>
                    </a:lnTo>
                    <a:lnTo>
                      <a:pt x="4385" y="664"/>
                    </a:lnTo>
                    <a:lnTo>
                      <a:pt x="4361" y="691"/>
                    </a:lnTo>
                    <a:lnTo>
                      <a:pt x="4311" y="661"/>
                    </a:lnTo>
                    <a:lnTo>
                      <a:pt x="4260" y="633"/>
                    </a:lnTo>
                    <a:lnTo>
                      <a:pt x="4270" y="598"/>
                    </a:lnTo>
                    <a:lnTo>
                      <a:pt x="4280" y="552"/>
                    </a:lnTo>
                    <a:lnTo>
                      <a:pt x="4288" y="496"/>
                    </a:lnTo>
                    <a:lnTo>
                      <a:pt x="4291" y="463"/>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52" y="353"/>
                    </a:lnTo>
                    <a:lnTo>
                      <a:pt x="4029" y="376"/>
                    </a:lnTo>
                    <a:lnTo>
                      <a:pt x="3991" y="419"/>
                    </a:lnTo>
                    <a:lnTo>
                      <a:pt x="3963" y="455"/>
                    </a:lnTo>
                    <a:lnTo>
                      <a:pt x="3942" y="485"/>
                    </a:lnTo>
                    <a:lnTo>
                      <a:pt x="3889" y="465"/>
                    </a:lnTo>
                    <a:lnTo>
                      <a:pt x="3835" y="445"/>
                    </a:lnTo>
                    <a:lnTo>
                      <a:pt x="3838" y="411"/>
                    </a:lnTo>
                    <a:lnTo>
                      <a:pt x="3840" y="364"/>
                    </a:lnTo>
                    <a:lnTo>
                      <a:pt x="3838" y="307"/>
                    </a:lnTo>
                    <a:lnTo>
                      <a:pt x="3835" y="274"/>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581" y="206"/>
                    </a:lnTo>
                    <a:lnTo>
                      <a:pt x="3561" y="232"/>
                    </a:lnTo>
                    <a:lnTo>
                      <a:pt x="3531" y="282"/>
                    </a:lnTo>
                    <a:lnTo>
                      <a:pt x="3510" y="323"/>
                    </a:lnTo>
                    <a:lnTo>
                      <a:pt x="3495" y="354"/>
                    </a:lnTo>
                    <a:lnTo>
                      <a:pt x="3439" y="345"/>
                    </a:lnTo>
                    <a:lnTo>
                      <a:pt x="3381" y="335"/>
                    </a:lnTo>
                    <a:lnTo>
                      <a:pt x="3380" y="300"/>
                    </a:lnTo>
                    <a:lnTo>
                      <a:pt x="3373" y="254"/>
                    </a:lnTo>
                    <a:lnTo>
                      <a:pt x="3361" y="198"/>
                    </a:lnTo>
                    <a:lnTo>
                      <a:pt x="3353" y="165"/>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089" y="142"/>
                    </a:lnTo>
                    <a:lnTo>
                      <a:pt x="3076" y="171"/>
                    </a:lnTo>
                    <a:lnTo>
                      <a:pt x="3055" y="226"/>
                    </a:lnTo>
                    <a:lnTo>
                      <a:pt x="3042" y="270"/>
                    </a:lnTo>
                    <a:lnTo>
                      <a:pt x="3032" y="305"/>
                    </a:lnTo>
                    <a:lnTo>
                      <a:pt x="2974" y="303"/>
                    </a:lnTo>
                    <a:lnTo>
                      <a:pt x="2916" y="305"/>
                    </a:lnTo>
                    <a:lnTo>
                      <a:pt x="2908" y="270"/>
                    </a:lnTo>
                    <a:lnTo>
                      <a:pt x="2893" y="226"/>
                    </a:lnTo>
                    <a:lnTo>
                      <a:pt x="2872" y="171"/>
                    </a:lnTo>
                    <a:lnTo>
                      <a:pt x="2859" y="142"/>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596" y="165"/>
                    </a:lnTo>
                    <a:lnTo>
                      <a:pt x="2588" y="198"/>
                    </a:lnTo>
                    <a:lnTo>
                      <a:pt x="2577" y="254"/>
                    </a:lnTo>
                    <a:lnTo>
                      <a:pt x="2570" y="300"/>
                    </a:lnTo>
                    <a:lnTo>
                      <a:pt x="2567" y="335"/>
                    </a:lnTo>
                    <a:lnTo>
                      <a:pt x="2511" y="345"/>
                    </a:lnTo>
                    <a:lnTo>
                      <a:pt x="2455" y="354"/>
                    </a:lnTo>
                    <a:lnTo>
                      <a:pt x="2440" y="323"/>
                    </a:lnTo>
                    <a:lnTo>
                      <a:pt x="2417" y="282"/>
                    </a:lnTo>
                    <a:lnTo>
                      <a:pt x="2387" y="232"/>
                    </a:lnTo>
                    <a:lnTo>
                      <a:pt x="2369" y="20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3" y="274"/>
                    </a:lnTo>
                    <a:lnTo>
                      <a:pt x="2112" y="307"/>
                    </a:lnTo>
                    <a:lnTo>
                      <a:pt x="2110" y="364"/>
                    </a:lnTo>
                    <a:lnTo>
                      <a:pt x="2112" y="411"/>
                    </a:lnTo>
                    <a:lnTo>
                      <a:pt x="2115" y="447"/>
                    </a:lnTo>
                    <a:lnTo>
                      <a:pt x="2061" y="465"/>
                    </a:lnTo>
                    <a:lnTo>
                      <a:pt x="2008" y="486"/>
                    </a:lnTo>
                    <a:lnTo>
                      <a:pt x="1986" y="457"/>
                    </a:lnTo>
                    <a:lnTo>
                      <a:pt x="1958" y="419"/>
                    </a:lnTo>
                    <a:lnTo>
                      <a:pt x="1920" y="376"/>
                    </a:lnTo>
                    <a:lnTo>
                      <a:pt x="1897" y="353"/>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8" y="465"/>
                    </a:lnTo>
                    <a:lnTo>
                      <a:pt x="1662" y="498"/>
                    </a:lnTo>
                    <a:lnTo>
                      <a:pt x="1670" y="554"/>
                    </a:lnTo>
                    <a:lnTo>
                      <a:pt x="1680" y="600"/>
                    </a:lnTo>
                    <a:lnTo>
                      <a:pt x="1690" y="635"/>
                    </a:lnTo>
                    <a:lnTo>
                      <a:pt x="1639" y="663"/>
                    </a:lnTo>
                    <a:lnTo>
                      <a:pt x="1591" y="692"/>
                    </a:lnTo>
                    <a:lnTo>
                      <a:pt x="1564" y="666"/>
                    </a:lnTo>
                    <a:lnTo>
                      <a:pt x="1530" y="635"/>
                    </a:lnTo>
                    <a:lnTo>
                      <a:pt x="1485" y="598"/>
                    </a:lnTo>
                    <a:lnTo>
                      <a:pt x="1459" y="580"/>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41" y="732"/>
                    </a:lnTo>
                    <a:lnTo>
                      <a:pt x="1251" y="763"/>
                    </a:lnTo>
                    <a:lnTo>
                      <a:pt x="1269" y="818"/>
                    </a:lnTo>
                    <a:lnTo>
                      <a:pt x="1287" y="861"/>
                    </a:lnTo>
                    <a:lnTo>
                      <a:pt x="1302" y="894"/>
                    </a:lnTo>
                    <a:lnTo>
                      <a:pt x="1258" y="930"/>
                    </a:lnTo>
                    <a:lnTo>
                      <a:pt x="1213" y="966"/>
                    </a:lnTo>
                    <a:lnTo>
                      <a:pt x="1185" y="946"/>
                    </a:lnTo>
                    <a:lnTo>
                      <a:pt x="1146" y="922"/>
                    </a:lnTo>
                    <a:lnTo>
                      <a:pt x="1094" y="894"/>
                    </a:lnTo>
                    <a:lnTo>
                      <a:pt x="1065" y="879"/>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78" y="1067"/>
                    </a:lnTo>
                    <a:lnTo>
                      <a:pt x="893" y="1095"/>
                    </a:lnTo>
                    <a:lnTo>
                      <a:pt x="920" y="1146"/>
                    </a:lnTo>
                    <a:lnTo>
                      <a:pt x="944" y="1185"/>
                    </a:lnTo>
                    <a:lnTo>
                      <a:pt x="966" y="1215"/>
                    </a:lnTo>
                    <a:lnTo>
                      <a:pt x="928" y="1258"/>
                    </a:lnTo>
                    <a:lnTo>
                      <a:pt x="892" y="1303"/>
                    </a:lnTo>
                    <a:lnTo>
                      <a:pt x="859" y="1288"/>
                    </a:lnTo>
                    <a:lnTo>
                      <a:pt x="816" y="1270"/>
                    </a:lnTo>
                    <a:lnTo>
                      <a:pt x="761" y="1251"/>
                    </a:lnTo>
                    <a:lnTo>
                      <a:pt x="730" y="1243"/>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78" y="1459"/>
                    </a:lnTo>
                    <a:lnTo>
                      <a:pt x="598" y="1486"/>
                    </a:lnTo>
                    <a:lnTo>
                      <a:pt x="633" y="1530"/>
                    </a:lnTo>
                    <a:lnTo>
                      <a:pt x="664" y="1565"/>
                    </a:lnTo>
                    <a:lnTo>
                      <a:pt x="690" y="1589"/>
                    </a:lnTo>
                    <a:lnTo>
                      <a:pt x="661" y="1639"/>
                    </a:lnTo>
                    <a:lnTo>
                      <a:pt x="633" y="1690"/>
                    </a:lnTo>
                    <a:lnTo>
                      <a:pt x="598" y="1680"/>
                    </a:lnTo>
                    <a:lnTo>
                      <a:pt x="552" y="1670"/>
                    </a:lnTo>
                    <a:lnTo>
                      <a:pt x="496" y="1662"/>
                    </a:lnTo>
                    <a:lnTo>
                      <a:pt x="463" y="1659"/>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51" y="1898"/>
                    </a:lnTo>
                    <a:lnTo>
                      <a:pt x="376" y="1921"/>
                    </a:lnTo>
                    <a:lnTo>
                      <a:pt x="418" y="1959"/>
                    </a:lnTo>
                    <a:lnTo>
                      <a:pt x="455" y="1987"/>
                    </a:lnTo>
                    <a:lnTo>
                      <a:pt x="484" y="2008"/>
                    </a:lnTo>
                    <a:lnTo>
                      <a:pt x="465" y="2061"/>
                    </a:lnTo>
                    <a:lnTo>
                      <a:pt x="445" y="2115"/>
                    </a:lnTo>
                    <a:lnTo>
                      <a:pt x="410" y="2112"/>
                    </a:lnTo>
                    <a:lnTo>
                      <a:pt x="362" y="2110"/>
                    </a:lnTo>
                    <a:lnTo>
                      <a:pt x="306" y="2112"/>
                    </a:lnTo>
                    <a:lnTo>
                      <a:pt x="273" y="2115"/>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204" y="2369"/>
                    </a:lnTo>
                    <a:lnTo>
                      <a:pt x="232" y="2389"/>
                    </a:lnTo>
                    <a:lnTo>
                      <a:pt x="280" y="2419"/>
                    </a:lnTo>
                    <a:lnTo>
                      <a:pt x="321" y="2440"/>
                    </a:lnTo>
                    <a:lnTo>
                      <a:pt x="354" y="2455"/>
                    </a:lnTo>
                    <a:lnTo>
                      <a:pt x="343" y="2511"/>
                    </a:lnTo>
                    <a:lnTo>
                      <a:pt x="333" y="2569"/>
                    </a:lnTo>
                    <a:lnTo>
                      <a:pt x="298" y="2572"/>
                    </a:lnTo>
                    <a:lnTo>
                      <a:pt x="252" y="2579"/>
                    </a:lnTo>
                    <a:lnTo>
                      <a:pt x="196" y="2589"/>
                    </a:lnTo>
                    <a:lnTo>
                      <a:pt x="165" y="259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41" y="2861"/>
                    </a:lnTo>
                    <a:lnTo>
                      <a:pt x="171" y="2874"/>
                    </a:lnTo>
                    <a:lnTo>
                      <a:pt x="224" y="2894"/>
                    </a:lnTo>
                    <a:lnTo>
                      <a:pt x="268" y="2908"/>
                    </a:lnTo>
                    <a:lnTo>
                      <a:pt x="303" y="2918"/>
                    </a:lnTo>
                    <a:lnTo>
                      <a:pt x="301" y="2976"/>
                    </a:lnTo>
                    <a:lnTo>
                      <a:pt x="303" y="3034"/>
                    </a:lnTo>
                    <a:lnTo>
                      <a:pt x="268" y="3042"/>
                    </a:lnTo>
                    <a:lnTo>
                      <a:pt x="224" y="3057"/>
                    </a:lnTo>
                    <a:lnTo>
                      <a:pt x="171" y="3078"/>
                    </a:lnTo>
                    <a:lnTo>
                      <a:pt x="141" y="3091"/>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65" y="3354"/>
                    </a:lnTo>
                    <a:lnTo>
                      <a:pt x="196" y="3362"/>
                    </a:lnTo>
                    <a:lnTo>
                      <a:pt x="250" y="3373"/>
                    </a:lnTo>
                    <a:lnTo>
                      <a:pt x="296" y="3380"/>
                    </a:lnTo>
                    <a:lnTo>
                      <a:pt x="333" y="3383"/>
                    </a:lnTo>
                    <a:lnTo>
                      <a:pt x="343" y="3439"/>
                    </a:lnTo>
                    <a:lnTo>
                      <a:pt x="352" y="3497"/>
                    </a:lnTo>
                    <a:lnTo>
                      <a:pt x="320" y="3512"/>
                    </a:lnTo>
                    <a:lnTo>
                      <a:pt x="280" y="3533"/>
                    </a:lnTo>
                    <a:lnTo>
                      <a:pt x="230" y="3563"/>
                    </a:lnTo>
                    <a:lnTo>
                      <a:pt x="204" y="3581"/>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72" y="3837"/>
                    </a:lnTo>
                    <a:lnTo>
                      <a:pt x="305" y="3838"/>
                    </a:lnTo>
                    <a:lnTo>
                      <a:pt x="361" y="3840"/>
                    </a:lnTo>
                    <a:lnTo>
                      <a:pt x="407" y="3838"/>
                    </a:lnTo>
                    <a:lnTo>
                      <a:pt x="443" y="3835"/>
                    </a:lnTo>
                    <a:lnTo>
                      <a:pt x="463" y="3889"/>
                    </a:lnTo>
                    <a:lnTo>
                      <a:pt x="483" y="3944"/>
                    </a:lnTo>
                    <a:lnTo>
                      <a:pt x="453" y="3965"/>
                    </a:lnTo>
                    <a:lnTo>
                      <a:pt x="417" y="3993"/>
                    </a:lnTo>
                    <a:lnTo>
                      <a:pt x="374" y="4031"/>
                    </a:lnTo>
                    <a:lnTo>
                      <a:pt x="351" y="4053"/>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63" y="4292"/>
                    </a:lnTo>
                    <a:lnTo>
                      <a:pt x="494" y="4288"/>
                    </a:lnTo>
                    <a:lnTo>
                      <a:pt x="550" y="4280"/>
                    </a:lnTo>
                    <a:lnTo>
                      <a:pt x="596" y="4272"/>
                    </a:lnTo>
                    <a:lnTo>
                      <a:pt x="631" y="4262"/>
                    </a:lnTo>
                    <a:lnTo>
                      <a:pt x="659" y="4311"/>
                    </a:lnTo>
                    <a:lnTo>
                      <a:pt x="689" y="4363"/>
                    </a:lnTo>
                    <a:lnTo>
                      <a:pt x="664" y="4387"/>
                    </a:lnTo>
                    <a:lnTo>
                      <a:pt x="633" y="4422"/>
                    </a:lnTo>
                    <a:lnTo>
                      <a:pt x="596" y="4466"/>
                    </a:lnTo>
                    <a:lnTo>
                      <a:pt x="578" y="4493"/>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730" y="4709"/>
                    </a:lnTo>
                    <a:lnTo>
                      <a:pt x="760" y="4699"/>
                    </a:lnTo>
                    <a:lnTo>
                      <a:pt x="814" y="4682"/>
                    </a:lnTo>
                    <a:lnTo>
                      <a:pt x="857" y="4664"/>
                    </a:lnTo>
                    <a:lnTo>
                      <a:pt x="888" y="4649"/>
                    </a:lnTo>
                    <a:lnTo>
                      <a:pt x="926" y="4694"/>
                    </a:lnTo>
                    <a:lnTo>
                      <a:pt x="964" y="4739"/>
                    </a:lnTo>
                    <a:lnTo>
                      <a:pt x="943" y="4768"/>
                    </a:lnTo>
                    <a:lnTo>
                      <a:pt x="918" y="4808"/>
                    </a:lnTo>
                    <a:lnTo>
                      <a:pt x="892" y="4857"/>
                    </a:lnTo>
                    <a:lnTo>
                      <a:pt x="878" y="4885"/>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65" y="5072"/>
                    </a:lnTo>
                    <a:lnTo>
                      <a:pt x="1093" y="5058"/>
                    </a:lnTo>
                    <a:lnTo>
                      <a:pt x="1142" y="5032"/>
                    </a:lnTo>
                    <a:lnTo>
                      <a:pt x="1182" y="5007"/>
                    </a:lnTo>
                    <a:lnTo>
                      <a:pt x="1211" y="4987"/>
                    </a:lnTo>
                    <a:lnTo>
                      <a:pt x="1254" y="5025"/>
                    </a:lnTo>
                    <a:lnTo>
                      <a:pt x="1301" y="5062"/>
                    </a:lnTo>
                    <a:lnTo>
                      <a:pt x="1286" y="5095"/>
                    </a:lnTo>
                    <a:lnTo>
                      <a:pt x="1268" y="5138"/>
                    </a:lnTo>
                    <a:lnTo>
                      <a:pt x="1249" y="5190"/>
                    </a:lnTo>
                    <a:lnTo>
                      <a:pt x="1241" y="5222"/>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57" y="5372"/>
                    </a:lnTo>
                    <a:lnTo>
                      <a:pt x="1484" y="5354"/>
                    </a:lnTo>
                    <a:lnTo>
                      <a:pt x="1526" y="5319"/>
                    </a:lnTo>
                    <a:lnTo>
                      <a:pt x="1561" y="5288"/>
                    </a:lnTo>
                    <a:lnTo>
                      <a:pt x="1586" y="5263"/>
                    </a:lnTo>
                    <a:lnTo>
                      <a:pt x="1637" y="5292"/>
                    </a:lnTo>
                    <a:lnTo>
                      <a:pt x="1688" y="5322"/>
                    </a:lnTo>
                    <a:lnTo>
                      <a:pt x="1678" y="5355"/>
                    </a:lnTo>
                    <a:lnTo>
                      <a:pt x="1670" y="5401"/>
                    </a:lnTo>
                    <a:lnTo>
                      <a:pt x="1662" y="5456"/>
                    </a:lnTo>
                    <a:lnTo>
                      <a:pt x="1658" y="5487"/>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96" y="5599"/>
                    </a:lnTo>
                    <a:lnTo>
                      <a:pt x="1919" y="5576"/>
                    </a:lnTo>
                    <a:lnTo>
                      <a:pt x="1955" y="5535"/>
                    </a:lnTo>
                    <a:lnTo>
                      <a:pt x="1985" y="5499"/>
                    </a:lnTo>
                    <a:lnTo>
                      <a:pt x="2005" y="5469"/>
                    </a:lnTo>
                    <a:lnTo>
                      <a:pt x="2059" y="5490"/>
                    </a:lnTo>
                    <a:lnTo>
                      <a:pt x="2115" y="5508"/>
                    </a:lnTo>
                    <a:lnTo>
                      <a:pt x="2112" y="5545"/>
                    </a:lnTo>
                    <a:lnTo>
                      <a:pt x="2110" y="5591"/>
                    </a:lnTo>
                    <a:lnTo>
                      <a:pt x="2112" y="5647"/>
                    </a:lnTo>
                    <a:lnTo>
                      <a:pt x="2113" y="5678"/>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69" y="5746"/>
                    </a:lnTo>
                    <a:lnTo>
                      <a:pt x="2385" y="5720"/>
                    </a:lnTo>
                    <a:lnTo>
                      <a:pt x="2415" y="5673"/>
                    </a:lnTo>
                    <a:lnTo>
                      <a:pt x="2437" y="5632"/>
                    </a:lnTo>
                    <a:lnTo>
                      <a:pt x="2453" y="5599"/>
                    </a:lnTo>
                    <a:lnTo>
                      <a:pt x="2511" y="5611"/>
                    </a:lnTo>
                    <a:lnTo>
                      <a:pt x="2568" y="5621"/>
                    </a:lnTo>
                    <a:lnTo>
                      <a:pt x="2570" y="5657"/>
                    </a:lnTo>
                    <a:lnTo>
                      <a:pt x="2577" y="5701"/>
                    </a:lnTo>
                    <a:lnTo>
                      <a:pt x="2588" y="5756"/>
                    </a:lnTo>
                    <a:lnTo>
                      <a:pt x="2596" y="5787"/>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59" y="5810"/>
                    </a:lnTo>
                    <a:lnTo>
                      <a:pt x="2872" y="5781"/>
                    </a:lnTo>
                    <a:lnTo>
                      <a:pt x="2892" y="5729"/>
                    </a:lnTo>
                    <a:lnTo>
                      <a:pt x="2906" y="5687"/>
                    </a:lnTo>
                    <a:lnTo>
                      <a:pt x="2916" y="5652"/>
                    </a:lnTo>
                    <a:lnTo>
                      <a:pt x="2974" y="5652"/>
                    </a:lnTo>
                    <a:lnTo>
                      <a:pt x="3033" y="5652"/>
                    </a:lnTo>
                    <a:lnTo>
                      <a:pt x="3043" y="5687"/>
                    </a:lnTo>
                    <a:lnTo>
                      <a:pt x="3056" y="5729"/>
                    </a:lnTo>
                    <a:lnTo>
                      <a:pt x="3078" y="5781"/>
                    </a:lnTo>
                    <a:lnTo>
                      <a:pt x="3091" y="581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53" y="5787"/>
                    </a:lnTo>
                    <a:lnTo>
                      <a:pt x="3360" y="5756"/>
                    </a:lnTo>
                    <a:lnTo>
                      <a:pt x="3371" y="5701"/>
                    </a:lnTo>
                    <a:lnTo>
                      <a:pt x="3378" y="5657"/>
                    </a:lnTo>
                    <a:lnTo>
                      <a:pt x="3381" y="5621"/>
                    </a:lnTo>
                    <a:lnTo>
                      <a:pt x="3439" y="5612"/>
                    </a:lnTo>
                    <a:lnTo>
                      <a:pt x="3497" y="5601"/>
                    </a:lnTo>
                    <a:lnTo>
                      <a:pt x="3511" y="5634"/>
                    </a:lnTo>
                    <a:lnTo>
                      <a:pt x="3535" y="5673"/>
                    </a:lnTo>
                    <a:lnTo>
                      <a:pt x="3563" y="5721"/>
                    </a:lnTo>
                    <a:lnTo>
                      <a:pt x="3581" y="5748"/>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5" y="5678"/>
                    </a:lnTo>
                    <a:lnTo>
                      <a:pt x="3838" y="5647"/>
                    </a:lnTo>
                    <a:lnTo>
                      <a:pt x="3840" y="5593"/>
                    </a:lnTo>
                    <a:lnTo>
                      <a:pt x="3838" y="5546"/>
                    </a:lnTo>
                    <a:lnTo>
                      <a:pt x="3835" y="5510"/>
                    </a:lnTo>
                    <a:lnTo>
                      <a:pt x="3891" y="5490"/>
                    </a:lnTo>
                    <a:lnTo>
                      <a:pt x="3945" y="5471"/>
                    </a:lnTo>
                    <a:lnTo>
                      <a:pt x="3965" y="5499"/>
                    </a:lnTo>
                    <a:lnTo>
                      <a:pt x="3995" y="5535"/>
                    </a:lnTo>
                    <a:lnTo>
                      <a:pt x="4031" y="5576"/>
                    </a:lnTo>
                    <a:lnTo>
                      <a:pt x="4052" y="5599"/>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1" y="5489"/>
                    </a:lnTo>
                    <a:lnTo>
                      <a:pt x="4288" y="5457"/>
                    </a:lnTo>
                    <a:lnTo>
                      <a:pt x="4280" y="5401"/>
                    </a:lnTo>
                    <a:lnTo>
                      <a:pt x="4272" y="5357"/>
                    </a:lnTo>
                    <a:lnTo>
                      <a:pt x="4262" y="5322"/>
                    </a:lnTo>
                    <a:lnTo>
                      <a:pt x="4313" y="5292"/>
                    </a:lnTo>
                    <a:lnTo>
                      <a:pt x="4364" y="5263"/>
                    </a:lnTo>
                    <a:lnTo>
                      <a:pt x="4389" y="5289"/>
                    </a:lnTo>
                    <a:lnTo>
                      <a:pt x="4423" y="5319"/>
                    </a:lnTo>
                    <a:lnTo>
                      <a:pt x="4466" y="5354"/>
                    </a:lnTo>
                    <a:lnTo>
                      <a:pt x="4493" y="5372"/>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07" y="5222"/>
                    </a:lnTo>
                    <a:lnTo>
                      <a:pt x="4699" y="5190"/>
                    </a:lnTo>
                    <a:lnTo>
                      <a:pt x="4682" y="5138"/>
                    </a:lnTo>
                    <a:lnTo>
                      <a:pt x="4664" y="5096"/>
                    </a:lnTo>
                    <a:lnTo>
                      <a:pt x="4649" y="5063"/>
                    </a:lnTo>
                    <a:lnTo>
                      <a:pt x="4695" y="5025"/>
                    </a:lnTo>
                    <a:lnTo>
                      <a:pt x="4740" y="4987"/>
                    </a:lnTo>
                    <a:lnTo>
                      <a:pt x="4769" y="5009"/>
                    </a:lnTo>
                    <a:lnTo>
                      <a:pt x="4807" y="5032"/>
                    </a:lnTo>
                    <a:lnTo>
                      <a:pt x="4857" y="5058"/>
                    </a:lnTo>
                    <a:lnTo>
                      <a:pt x="4885" y="5072"/>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71" y="4887"/>
                    </a:lnTo>
                    <a:lnTo>
                      <a:pt x="5058" y="4857"/>
                    </a:lnTo>
                    <a:lnTo>
                      <a:pt x="5032" y="4809"/>
                    </a:lnTo>
                    <a:lnTo>
                      <a:pt x="5007" y="4770"/>
                    </a:lnTo>
                    <a:lnTo>
                      <a:pt x="4987" y="4740"/>
                    </a:lnTo>
                    <a:lnTo>
                      <a:pt x="5025" y="4696"/>
                    </a:lnTo>
                    <a:lnTo>
                      <a:pt x="5063" y="4651"/>
                    </a:lnTo>
                    <a:lnTo>
                      <a:pt x="5094" y="4666"/>
                    </a:lnTo>
                    <a:lnTo>
                      <a:pt x="5137" y="4682"/>
                    </a:lnTo>
                    <a:lnTo>
                      <a:pt x="5190" y="4701"/>
                    </a:lnTo>
                    <a:lnTo>
                      <a:pt x="5220" y="4709"/>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71" y="4493"/>
                    </a:lnTo>
                    <a:lnTo>
                      <a:pt x="5353" y="4468"/>
                    </a:lnTo>
                    <a:lnTo>
                      <a:pt x="5319" y="4424"/>
                    </a:lnTo>
                    <a:lnTo>
                      <a:pt x="5287" y="4389"/>
                    </a:lnTo>
                    <a:lnTo>
                      <a:pt x="5262" y="4364"/>
                    </a:lnTo>
                    <a:lnTo>
                      <a:pt x="5292" y="4313"/>
                    </a:lnTo>
                    <a:lnTo>
                      <a:pt x="5322" y="4262"/>
                    </a:lnTo>
                    <a:lnTo>
                      <a:pt x="5356" y="4272"/>
                    </a:lnTo>
                    <a:lnTo>
                      <a:pt x="5401" y="4282"/>
                    </a:lnTo>
                    <a:lnTo>
                      <a:pt x="5455" y="4288"/>
                    </a:lnTo>
                    <a:lnTo>
                      <a:pt x="5487" y="4292"/>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599" y="4054"/>
                    </a:lnTo>
                    <a:lnTo>
                      <a:pt x="5576" y="4031"/>
                    </a:lnTo>
                    <a:lnTo>
                      <a:pt x="5535" y="3995"/>
                    </a:lnTo>
                    <a:lnTo>
                      <a:pt x="5498" y="3967"/>
                    </a:lnTo>
                    <a:lnTo>
                      <a:pt x="5469" y="3945"/>
                    </a:lnTo>
                    <a:lnTo>
                      <a:pt x="5488" y="3891"/>
                    </a:lnTo>
                    <a:lnTo>
                      <a:pt x="5508" y="3835"/>
                    </a:lnTo>
                    <a:lnTo>
                      <a:pt x="5544" y="3838"/>
                    </a:lnTo>
                    <a:lnTo>
                      <a:pt x="5591" y="3840"/>
                    </a:lnTo>
                    <a:lnTo>
                      <a:pt x="5645" y="3838"/>
                    </a:lnTo>
                    <a:lnTo>
                      <a:pt x="5678" y="3837"/>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46" y="3581"/>
                    </a:lnTo>
                    <a:lnTo>
                      <a:pt x="5719" y="3565"/>
                    </a:lnTo>
                    <a:lnTo>
                      <a:pt x="5671" y="3535"/>
                    </a:lnTo>
                    <a:lnTo>
                      <a:pt x="5630" y="3512"/>
                    </a:lnTo>
                    <a:lnTo>
                      <a:pt x="5599" y="3497"/>
                    </a:lnTo>
                    <a:lnTo>
                      <a:pt x="5609" y="3439"/>
                    </a:lnTo>
                    <a:lnTo>
                      <a:pt x="5619" y="3383"/>
                    </a:lnTo>
                    <a:lnTo>
                      <a:pt x="5655" y="3380"/>
                    </a:lnTo>
                    <a:lnTo>
                      <a:pt x="5699" y="3373"/>
                    </a:lnTo>
                    <a:lnTo>
                      <a:pt x="5755" y="3362"/>
                    </a:lnTo>
                    <a:lnTo>
                      <a:pt x="5785" y="335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close/>
                  </a:path>
                </a:pathLst>
              </a:custGeom>
              <a:gradFill rotWithShape="0">
                <a:gsLst>
                  <a:gs pos="0">
                    <a:srgbClr val="284b76"/>
                  </a:gs>
                  <a:gs pos="100000">
                    <a:srgbClr val="5989c3"/>
                  </a:gs>
                </a:gsLst>
                <a:lin ang="10800000"/>
              </a:gradFill>
              <a:ln w="0">
                <a:noFill/>
              </a:ln>
              <a:effectLst>
                <a:outerShdw dist="38183" dir="2700000" blurRad="0" rotWithShape="0">
                  <a:srgbClr val="000000">
                    <a:alpha val="13000"/>
                  </a:srgbClr>
                </a:outerShdw>
              </a:effectLst>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68" name="Freeform 6"/>
              <p:cNvSpPr/>
              <p:nvPr/>
            </p:nvSpPr>
            <p:spPr>
              <a:xfrm>
                <a:off x="439560" y="606600"/>
                <a:ext cx="1549440" cy="1549080"/>
              </a:xfrm>
              <a:custGeom>
                <a:avLst/>
                <a:gdLst>
                  <a:gd name="textAreaLeft" fmla="*/ 0 w 1549440"/>
                  <a:gd name="textAreaRight" fmla="*/ 1549800 w 1549440"/>
                  <a:gd name="textAreaTop" fmla="*/ 0 h 1549080"/>
                  <a:gd name="textAreaBottom" fmla="*/ 1549440 h 1549080"/>
                </a:gdLst>
                <a:ahLst/>
                <a:rect l="textAreaLeft" t="textAreaTop" r="textAreaRight" b="textAreaBottom"/>
                <a:pathLst>
                  <a:path w="5950" h="5950">
                    <a:moveTo>
                      <a:pt x="5904" y="2636"/>
                    </a:moveTo>
                    <a:lnTo>
                      <a:pt x="5904" y="2636"/>
                    </a:lnTo>
                    <a:lnTo>
                      <a:pt x="5912" y="2719"/>
                    </a:lnTo>
                    <a:lnTo>
                      <a:pt x="5919" y="2800"/>
                    </a:lnTo>
                    <a:lnTo>
                      <a:pt x="5930" y="2791"/>
                    </a:lnTo>
                    <a:lnTo>
                      <a:pt x="5938" y="2781"/>
                    </a:lnTo>
                    <a:lnTo>
                      <a:pt x="5945" y="2773"/>
                    </a:lnTo>
                    <a:lnTo>
                      <a:pt x="5948" y="2763"/>
                    </a:lnTo>
                    <a:lnTo>
                      <a:pt x="5950" y="2753"/>
                    </a:lnTo>
                    <a:lnTo>
                      <a:pt x="5950" y="2742"/>
                    </a:lnTo>
                    <a:lnTo>
                      <a:pt x="5948" y="2715"/>
                    </a:lnTo>
                    <a:lnTo>
                      <a:pt x="5945" y="2689"/>
                    </a:lnTo>
                    <a:lnTo>
                      <a:pt x="5943" y="2678"/>
                    </a:lnTo>
                    <a:lnTo>
                      <a:pt x="5940" y="2668"/>
                    </a:lnTo>
                    <a:lnTo>
                      <a:pt x="5935" y="2659"/>
                    </a:lnTo>
                    <a:lnTo>
                      <a:pt x="5927" y="2651"/>
                    </a:lnTo>
                    <a:lnTo>
                      <a:pt x="5917" y="2645"/>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212" y="132"/>
                    </a:lnTo>
                    <a:lnTo>
                      <a:pt x="2295" y="110"/>
                    </a:lnTo>
                    <a:lnTo>
                      <a:pt x="2282" y="99"/>
                    </a:lnTo>
                    <a:lnTo>
                      <a:pt x="2272" y="91"/>
                    </a:lnTo>
                    <a:lnTo>
                      <a:pt x="2260" y="86"/>
                    </a:lnTo>
                    <a:lnTo>
                      <a:pt x="2250" y="84"/>
                    </a:lnTo>
                    <a:lnTo>
                      <a:pt x="2240" y="84"/>
                    </a:lnTo>
                    <a:lnTo>
                      <a:pt x="2229" y="86"/>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88" y="1286"/>
                    </a:lnTo>
                    <a:lnTo>
                      <a:pt x="5436" y="1354"/>
                    </a:lnTo>
                    <a:lnTo>
                      <a:pt x="5441" y="1339"/>
                    </a:lnTo>
                    <a:lnTo>
                      <a:pt x="5444" y="1327"/>
                    </a:lnTo>
                    <a:lnTo>
                      <a:pt x="5445" y="1316"/>
                    </a:lnTo>
                    <a:lnTo>
                      <a:pt x="5444" y="1306"/>
                    </a:lnTo>
                    <a:lnTo>
                      <a:pt x="5441" y="1296"/>
                    </a:lnTo>
                    <a:lnTo>
                      <a:pt x="5436" y="1286"/>
                    </a:lnTo>
                    <a:lnTo>
                      <a:pt x="5419" y="1263"/>
                    </a:lnTo>
                    <a:close/>
                    <a:moveTo>
                      <a:pt x="5919" y="3151"/>
                    </a:moveTo>
                    <a:lnTo>
                      <a:pt x="5919" y="3151"/>
                    </a:lnTo>
                    <a:lnTo>
                      <a:pt x="5912" y="3233"/>
                    </a:lnTo>
                    <a:lnTo>
                      <a:pt x="5904" y="3314"/>
                    </a:lnTo>
                    <a:lnTo>
                      <a:pt x="5917" y="3307"/>
                    </a:lnTo>
                    <a:lnTo>
                      <a:pt x="5927" y="3299"/>
                    </a:lnTo>
                    <a:lnTo>
                      <a:pt x="5935" y="3291"/>
                    </a:lnTo>
                    <a:lnTo>
                      <a:pt x="5940" y="3283"/>
                    </a:lnTo>
                    <a:lnTo>
                      <a:pt x="5943" y="3273"/>
                    </a:lnTo>
                    <a:lnTo>
                      <a:pt x="5945" y="3263"/>
                    </a:lnTo>
                    <a:lnTo>
                      <a:pt x="5948" y="3237"/>
                    </a:lnTo>
                    <a:lnTo>
                      <a:pt x="5950" y="3208"/>
                    </a:lnTo>
                    <a:lnTo>
                      <a:pt x="5950" y="3199"/>
                    </a:lnTo>
                    <a:lnTo>
                      <a:pt x="5948" y="3187"/>
                    </a:lnTo>
                    <a:lnTo>
                      <a:pt x="5945" y="3179"/>
                    </a:lnTo>
                    <a:lnTo>
                      <a:pt x="5938" y="3169"/>
                    </a:lnTo>
                    <a:lnTo>
                      <a:pt x="5930" y="3161"/>
                    </a:lnTo>
                    <a:lnTo>
                      <a:pt x="5919" y="3151"/>
                    </a:lnTo>
                    <a:close/>
                    <a:moveTo>
                      <a:pt x="5800" y="2133"/>
                    </a:moveTo>
                    <a:lnTo>
                      <a:pt x="5800" y="2133"/>
                    </a:lnTo>
                    <a:lnTo>
                      <a:pt x="5821" y="2213"/>
                    </a:lnTo>
                    <a:lnTo>
                      <a:pt x="5843" y="2292"/>
                    </a:lnTo>
                    <a:lnTo>
                      <a:pt x="5853" y="2280"/>
                    </a:lnTo>
                    <a:lnTo>
                      <a:pt x="5859" y="2270"/>
                    </a:lnTo>
                    <a:lnTo>
                      <a:pt x="5864" y="2260"/>
                    </a:lnTo>
                    <a:lnTo>
                      <a:pt x="5866" y="2251"/>
                    </a:lnTo>
                    <a:lnTo>
                      <a:pt x="5866" y="2241"/>
                    </a:lnTo>
                    <a:lnTo>
                      <a:pt x="5864" y="2229"/>
                    </a:lnTo>
                    <a:lnTo>
                      <a:pt x="5858" y="2203"/>
                    </a:lnTo>
                    <a:lnTo>
                      <a:pt x="5851" y="2176"/>
                    </a:lnTo>
                    <a:lnTo>
                      <a:pt x="5846" y="2166"/>
                    </a:lnTo>
                    <a:lnTo>
                      <a:pt x="5841" y="2158"/>
                    </a:lnTo>
                    <a:lnTo>
                      <a:pt x="5835" y="2150"/>
                    </a:lnTo>
                    <a:lnTo>
                      <a:pt x="5826" y="2143"/>
                    </a:lnTo>
                    <a:lnTo>
                      <a:pt x="5815" y="2138"/>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718" y="41"/>
                    </a:lnTo>
                    <a:lnTo>
                      <a:pt x="2803" y="36"/>
                    </a:lnTo>
                    <a:lnTo>
                      <a:pt x="2791" y="21"/>
                    </a:lnTo>
                    <a:lnTo>
                      <a:pt x="2783" y="13"/>
                    </a:lnTo>
                    <a:lnTo>
                      <a:pt x="2773" y="7"/>
                    </a:lnTo>
                    <a:lnTo>
                      <a:pt x="2763" y="2"/>
                    </a:lnTo>
                    <a:lnTo>
                      <a:pt x="2753" y="0"/>
                    </a:lnTo>
                    <a:lnTo>
                      <a:pt x="2742" y="0"/>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664" y="562"/>
                    </a:lnTo>
                    <a:lnTo>
                      <a:pt x="4732" y="610"/>
                    </a:lnTo>
                    <a:lnTo>
                      <a:pt x="4733" y="595"/>
                    </a:lnTo>
                    <a:lnTo>
                      <a:pt x="4732" y="582"/>
                    </a:lnTo>
                    <a:lnTo>
                      <a:pt x="4728" y="570"/>
                    </a:lnTo>
                    <a:lnTo>
                      <a:pt x="4723" y="562"/>
                    </a:lnTo>
                    <a:lnTo>
                      <a:pt x="4717" y="554"/>
                    </a:lnTo>
                    <a:lnTo>
                      <a:pt x="4708" y="546"/>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5058" y="892"/>
                    </a:lnTo>
                    <a:lnTo>
                      <a:pt x="5116" y="951"/>
                    </a:lnTo>
                    <a:lnTo>
                      <a:pt x="5119" y="936"/>
                    </a:lnTo>
                    <a:lnTo>
                      <a:pt x="5121" y="923"/>
                    </a:lnTo>
                    <a:lnTo>
                      <a:pt x="5119" y="912"/>
                    </a:lnTo>
                    <a:lnTo>
                      <a:pt x="5116" y="902"/>
                    </a:lnTo>
                    <a:lnTo>
                      <a:pt x="5111" y="894"/>
                    </a:lnTo>
                    <a:lnTo>
                      <a:pt x="5104" y="884"/>
                    </a:lnTo>
                    <a:lnTo>
                      <a:pt x="5084" y="866"/>
                    </a:lnTo>
                    <a:close/>
                    <a:moveTo>
                      <a:pt x="5681" y="4148"/>
                    </a:moveTo>
                    <a:lnTo>
                      <a:pt x="5681" y="4148"/>
                    </a:lnTo>
                    <a:lnTo>
                      <a:pt x="5648" y="4222"/>
                    </a:lnTo>
                    <a:lnTo>
                      <a:pt x="5612" y="4295"/>
                    </a:lnTo>
                    <a:lnTo>
                      <a:pt x="5627" y="4293"/>
                    </a:lnTo>
                    <a:lnTo>
                      <a:pt x="5640" y="4290"/>
                    </a:lnTo>
                    <a:lnTo>
                      <a:pt x="5648" y="4285"/>
                    </a:lnTo>
                    <a:lnTo>
                      <a:pt x="5657" y="4279"/>
                    </a:lnTo>
                    <a:lnTo>
                      <a:pt x="5663" y="4270"/>
                    </a:lnTo>
                    <a:lnTo>
                      <a:pt x="5668" y="4260"/>
                    </a:lnTo>
                    <a:lnTo>
                      <a:pt x="5680" y="4237"/>
                    </a:lnTo>
                    <a:lnTo>
                      <a:pt x="5691" y="4213"/>
                    </a:lnTo>
                    <a:lnTo>
                      <a:pt x="5694" y="4203"/>
                    </a:lnTo>
                    <a:lnTo>
                      <a:pt x="5696" y="4193"/>
                    </a:lnTo>
                    <a:lnTo>
                      <a:pt x="5696" y="4183"/>
                    </a:lnTo>
                    <a:lnTo>
                      <a:pt x="5694" y="4171"/>
                    </a:lnTo>
                    <a:lnTo>
                      <a:pt x="5689" y="4160"/>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60" y="5668"/>
                    </a:lnTo>
                    <a:lnTo>
                      <a:pt x="4270" y="5663"/>
                    </a:lnTo>
                    <a:lnTo>
                      <a:pt x="4278" y="5657"/>
                    </a:lnTo>
                    <a:lnTo>
                      <a:pt x="4283" y="5650"/>
                    </a:lnTo>
                    <a:lnTo>
                      <a:pt x="4288" y="5640"/>
                    </a:lnTo>
                    <a:lnTo>
                      <a:pt x="4291" y="5629"/>
                    </a:lnTo>
                    <a:lnTo>
                      <a:pt x="4295" y="5614"/>
                    </a:lnTo>
                    <a:lnTo>
                      <a:pt x="4220" y="5649"/>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41" y="2719"/>
                    </a:lnTo>
                    <a:lnTo>
                      <a:pt x="49" y="2635"/>
                    </a:lnTo>
                    <a:lnTo>
                      <a:pt x="34" y="2643"/>
                    </a:lnTo>
                    <a:lnTo>
                      <a:pt x="23" y="2651"/>
                    </a:lnTo>
                    <a:lnTo>
                      <a:pt x="14" y="2658"/>
                    </a:lnTo>
                    <a:lnTo>
                      <a:pt x="10" y="2668"/>
                    </a:lnTo>
                    <a:lnTo>
                      <a:pt x="6" y="2678"/>
                    </a:lnTo>
                    <a:lnTo>
                      <a:pt x="3" y="2687"/>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731" y="307"/>
                    </a:lnTo>
                    <a:lnTo>
                      <a:pt x="1808" y="272"/>
                    </a:lnTo>
                    <a:lnTo>
                      <a:pt x="1793" y="264"/>
                    </a:lnTo>
                    <a:lnTo>
                      <a:pt x="1780" y="257"/>
                    </a:lnTo>
                    <a:lnTo>
                      <a:pt x="1770" y="254"/>
                    </a:lnTo>
                    <a:lnTo>
                      <a:pt x="1759" y="254"/>
                    </a:lnTo>
                    <a:lnTo>
                      <a:pt x="1749" y="256"/>
                    </a:lnTo>
                    <a:lnTo>
                      <a:pt x="1739" y="259"/>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34" y="4666"/>
                    </a:lnTo>
                    <a:lnTo>
                      <a:pt x="5441" y="4656"/>
                    </a:lnTo>
                    <a:lnTo>
                      <a:pt x="5444" y="4646"/>
                    </a:lnTo>
                    <a:lnTo>
                      <a:pt x="5445" y="4636"/>
                    </a:lnTo>
                    <a:lnTo>
                      <a:pt x="5445" y="4626"/>
                    </a:lnTo>
                    <a:lnTo>
                      <a:pt x="5442" y="4615"/>
                    </a:lnTo>
                    <a:lnTo>
                      <a:pt x="5437" y="4600"/>
                    </a:lnTo>
                    <a:lnTo>
                      <a:pt x="5391" y="4668"/>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104" y="5067"/>
                    </a:lnTo>
                    <a:lnTo>
                      <a:pt x="5111" y="5058"/>
                    </a:lnTo>
                    <a:lnTo>
                      <a:pt x="5116" y="5050"/>
                    </a:lnTo>
                    <a:lnTo>
                      <a:pt x="5119" y="5040"/>
                    </a:lnTo>
                    <a:lnTo>
                      <a:pt x="5121" y="5030"/>
                    </a:lnTo>
                    <a:lnTo>
                      <a:pt x="5121" y="5019"/>
                    </a:lnTo>
                    <a:lnTo>
                      <a:pt x="5117" y="5004"/>
                    </a:lnTo>
                    <a:lnTo>
                      <a:pt x="5060" y="5062"/>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39" y="3233"/>
                    </a:lnTo>
                    <a:lnTo>
                      <a:pt x="33" y="3149"/>
                    </a:lnTo>
                    <a:lnTo>
                      <a:pt x="21" y="3159"/>
                    </a:lnTo>
                    <a:lnTo>
                      <a:pt x="11" y="3169"/>
                    </a:lnTo>
                    <a:lnTo>
                      <a:pt x="5" y="3177"/>
                    </a:lnTo>
                    <a:lnTo>
                      <a:pt x="1" y="3187"/>
                    </a:lnTo>
                    <a:lnTo>
                      <a:pt x="0" y="3197"/>
                    </a:lnTo>
                    <a:lnTo>
                      <a:pt x="0" y="3208"/>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306" y="1731"/>
                    </a:lnTo>
                    <a:lnTo>
                      <a:pt x="343" y="1655"/>
                    </a:lnTo>
                    <a:lnTo>
                      <a:pt x="326" y="1657"/>
                    </a:lnTo>
                    <a:lnTo>
                      <a:pt x="313" y="1660"/>
                    </a:lnTo>
                    <a:lnTo>
                      <a:pt x="301" y="1665"/>
                    </a:lnTo>
                    <a:lnTo>
                      <a:pt x="293" y="1672"/>
                    </a:lnTo>
                    <a:lnTo>
                      <a:pt x="287" y="1680"/>
                    </a:lnTo>
                    <a:lnTo>
                      <a:pt x="282" y="1688"/>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62" y="1286"/>
                    </a:lnTo>
                    <a:lnTo>
                      <a:pt x="611" y="1218"/>
                    </a:lnTo>
                    <a:lnTo>
                      <a:pt x="595" y="1217"/>
                    </a:lnTo>
                    <a:lnTo>
                      <a:pt x="582" y="1218"/>
                    </a:lnTo>
                    <a:lnTo>
                      <a:pt x="570" y="1222"/>
                    </a:lnTo>
                    <a:lnTo>
                      <a:pt x="560" y="1225"/>
                    </a:lnTo>
                    <a:lnTo>
                      <a:pt x="554" y="1233"/>
                    </a:lnTo>
                    <a:lnTo>
                      <a:pt x="545" y="1242"/>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93" y="894"/>
                    </a:lnTo>
                    <a:lnTo>
                      <a:pt x="953" y="834"/>
                    </a:lnTo>
                    <a:lnTo>
                      <a:pt x="936" y="831"/>
                    </a:lnTo>
                    <a:lnTo>
                      <a:pt x="923" y="829"/>
                    </a:lnTo>
                    <a:lnTo>
                      <a:pt x="911" y="831"/>
                    </a:lnTo>
                    <a:lnTo>
                      <a:pt x="902" y="833"/>
                    </a:lnTo>
                    <a:lnTo>
                      <a:pt x="893" y="839"/>
                    </a:lnTo>
                    <a:lnTo>
                      <a:pt x="883" y="84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86" y="564"/>
                    </a:lnTo>
                    <a:lnTo>
                      <a:pt x="1357" y="516"/>
                    </a:lnTo>
                    <a:lnTo>
                      <a:pt x="1340" y="509"/>
                    </a:lnTo>
                    <a:lnTo>
                      <a:pt x="1327" y="506"/>
                    </a:lnTo>
                    <a:lnTo>
                      <a:pt x="1315" y="505"/>
                    </a:lnTo>
                    <a:lnTo>
                      <a:pt x="1305" y="506"/>
                    </a:lnTo>
                    <a:lnTo>
                      <a:pt x="1296" y="509"/>
                    </a:lnTo>
                    <a:lnTo>
                      <a:pt x="1286" y="514"/>
                    </a:lnTo>
                    <a:lnTo>
                      <a:pt x="1263" y="531"/>
                    </a:lnTo>
                    <a:close/>
                    <a:moveTo>
                      <a:pt x="5609" y="1655"/>
                    </a:moveTo>
                    <a:lnTo>
                      <a:pt x="5609" y="1655"/>
                    </a:lnTo>
                    <a:lnTo>
                      <a:pt x="5645" y="1730"/>
                    </a:lnTo>
                    <a:lnTo>
                      <a:pt x="5680" y="1805"/>
                    </a:lnTo>
                    <a:lnTo>
                      <a:pt x="5688" y="1792"/>
                    </a:lnTo>
                    <a:lnTo>
                      <a:pt x="5693" y="1781"/>
                    </a:lnTo>
                    <a:lnTo>
                      <a:pt x="5696" y="1769"/>
                    </a:lnTo>
                    <a:lnTo>
                      <a:pt x="5696" y="1759"/>
                    </a:lnTo>
                    <a:lnTo>
                      <a:pt x="5694" y="1749"/>
                    </a:lnTo>
                    <a:lnTo>
                      <a:pt x="5691" y="1739"/>
                    </a:lnTo>
                    <a:lnTo>
                      <a:pt x="5680" y="1715"/>
                    </a:lnTo>
                    <a:lnTo>
                      <a:pt x="5668" y="1690"/>
                    </a:lnTo>
                    <a:lnTo>
                      <a:pt x="5661" y="1680"/>
                    </a:lnTo>
                    <a:lnTo>
                      <a:pt x="5655" y="1672"/>
                    </a:lnTo>
                    <a:lnTo>
                      <a:pt x="5648" y="1665"/>
                    </a:lnTo>
                    <a:lnTo>
                      <a:pt x="5638" y="1660"/>
                    </a:lnTo>
                    <a:lnTo>
                      <a:pt x="5625" y="1657"/>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737" y="5825"/>
                    </a:lnTo>
                    <a:lnTo>
                      <a:pt x="3660" y="5845"/>
                    </a:lnTo>
                    <a:lnTo>
                      <a:pt x="3671" y="5855"/>
                    </a:lnTo>
                    <a:lnTo>
                      <a:pt x="3681" y="5861"/>
                    </a:lnTo>
                    <a:lnTo>
                      <a:pt x="3691" y="5866"/>
                    </a:lnTo>
                    <a:lnTo>
                      <a:pt x="3701" y="5868"/>
                    </a:lnTo>
                    <a:lnTo>
                      <a:pt x="3711" y="5868"/>
                    </a:lnTo>
                    <a:lnTo>
                      <a:pt x="3721" y="5865"/>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23" y="3741"/>
                    </a:lnTo>
                    <a:lnTo>
                      <a:pt x="5800" y="3817"/>
                    </a:lnTo>
                    <a:lnTo>
                      <a:pt x="5815" y="3814"/>
                    </a:lnTo>
                    <a:lnTo>
                      <a:pt x="5826" y="3807"/>
                    </a:lnTo>
                    <a:lnTo>
                      <a:pt x="5835" y="3800"/>
                    </a:lnTo>
                    <a:lnTo>
                      <a:pt x="5841" y="3794"/>
                    </a:lnTo>
                    <a:lnTo>
                      <a:pt x="5846" y="3784"/>
                    </a:lnTo>
                    <a:lnTo>
                      <a:pt x="5851" y="3774"/>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739" y="132"/>
                    </a:lnTo>
                    <a:lnTo>
                      <a:pt x="3818" y="153"/>
                    </a:lnTo>
                    <a:lnTo>
                      <a:pt x="3813" y="138"/>
                    </a:lnTo>
                    <a:lnTo>
                      <a:pt x="3807" y="125"/>
                    </a:lnTo>
                    <a:lnTo>
                      <a:pt x="3802" y="115"/>
                    </a:lnTo>
                    <a:lnTo>
                      <a:pt x="3793" y="109"/>
                    </a:lnTo>
                    <a:lnTo>
                      <a:pt x="3784" y="104"/>
                    </a:lnTo>
                    <a:lnTo>
                      <a:pt x="3774" y="101"/>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29" y="5865"/>
                    </a:lnTo>
                    <a:lnTo>
                      <a:pt x="2239" y="5868"/>
                    </a:lnTo>
                    <a:lnTo>
                      <a:pt x="2249" y="5868"/>
                    </a:lnTo>
                    <a:lnTo>
                      <a:pt x="2258" y="5866"/>
                    </a:lnTo>
                    <a:lnTo>
                      <a:pt x="2268" y="5861"/>
                    </a:lnTo>
                    <a:lnTo>
                      <a:pt x="2280" y="5855"/>
                    </a:lnTo>
                    <a:lnTo>
                      <a:pt x="2291" y="5845"/>
                    </a:lnTo>
                    <a:lnTo>
                      <a:pt x="2214" y="5825"/>
                    </a:lnTo>
                    <a:lnTo>
                      <a:pt x="2133" y="5802"/>
                    </a:lnTo>
                    <a:close/>
                    <a:moveTo>
                      <a:pt x="130" y="2216"/>
                    </a:moveTo>
                    <a:lnTo>
                      <a:pt x="130" y="2216"/>
                    </a:lnTo>
                    <a:lnTo>
                      <a:pt x="153" y="2132"/>
                    </a:lnTo>
                    <a:lnTo>
                      <a:pt x="136" y="2137"/>
                    </a:lnTo>
                    <a:lnTo>
                      <a:pt x="125" y="2143"/>
                    </a:lnTo>
                    <a:lnTo>
                      <a:pt x="115" y="2148"/>
                    </a:lnTo>
                    <a:lnTo>
                      <a:pt x="108" y="2157"/>
                    </a:lnTo>
                    <a:lnTo>
                      <a:pt x="104" y="2166"/>
                    </a:lnTo>
                    <a:lnTo>
                      <a:pt x="99" y="2176"/>
                    </a:lnTo>
                    <a:lnTo>
                      <a:pt x="92" y="2203"/>
                    </a:lnTo>
                    <a:lnTo>
                      <a:pt x="84" y="2229"/>
                    </a:lnTo>
                    <a:lnTo>
                      <a:pt x="82" y="2241"/>
                    </a:lnTo>
                    <a:lnTo>
                      <a:pt x="82" y="2252"/>
                    </a:lnTo>
                    <a:lnTo>
                      <a:pt x="85" y="2262"/>
                    </a:lnTo>
                    <a:lnTo>
                      <a:pt x="90" y="2272"/>
                    </a:lnTo>
                    <a:lnTo>
                      <a:pt x="99" y="2284"/>
                    </a:lnTo>
                    <a:lnTo>
                      <a:pt x="110" y="2295"/>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708" y="5405"/>
                    </a:lnTo>
                    <a:lnTo>
                      <a:pt x="4717" y="5398"/>
                    </a:lnTo>
                    <a:lnTo>
                      <a:pt x="4723" y="5390"/>
                    </a:lnTo>
                    <a:lnTo>
                      <a:pt x="4728" y="5382"/>
                    </a:lnTo>
                    <a:lnTo>
                      <a:pt x="4732" y="5372"/>
                    </a:lnTo>
                    <a:lnTo>
                      <a:pt x="4733" y="5358"/>
                    </a:lnTo>
                    <a:lnTo>
                      <a:pt x="4733" y="5344"/>
                    </a:lnTo>
                    <a:lnTo>
                      <a:pt x="4666" y="5391"/>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05" y="4221"/>
                    </a:lnTo>
                    <a:lnTo>
                      <a:pt x="270" y="4145"/>
                    </a:lnTo>
                    <a:lnTo>
                      <a:pt x="262" y="4158"/>
                    </a:lnTo>
                    <a:lnTo>
                      <a:pt x="255" y="4170"/>
                    </a:lnTo>
                    <a:lnTo>
                      <a:pt x="254" y="4181"/>
                    </a:lnTo>
                    <a:lnTo>
                      <a:pt x="252" y="4191"/>
                    </a:lnTo>
                    <a:lnTo>
                      <a:pt x="254" y="4201"/>
                    </a:lnTo>
                    <a:lnTo>
                      <a:pt x="259" y="4213"/>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28" y="3738"/>
                    </a:lnTo>
                    <a:lnTo>
                      <a:pt x="108" y="3657"/>
                    </a:lnTo>
                    <a:lnTo>
                      <a:pt x="97" y="3670"/>
                    </a:lnTo>
                    <a:lnTo>
                      <a:pt x="89" y="3680"/>
                    </a:lnTo>
                    <a:lnTo>
                      <a:pt x="85" y="3690"/>
                    </a:lnTo>
                    <a:lnTo>
                      <a:pt x="82" y="3700"/>
                    </a:lnTo>
                    <a:lnTo>
                      <a:pt x="82" y="3710"/>
                    </a:lnTo>
                    <a:lnTo>
                      <a:pt x="84" y="3721"/>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890" y="5060"/>
                    </a:lnTo>
                    <a:lnTo>
                      <a:pt x="832" y="5001"/>
                    </a:lnTo>
                    <a:lnTo>
                      <a:pt x="829" y="5016"/>
                    </a:lnTo>
                    <a:lnTo>
                      <a:pt x="829" y="5029"/>
                    </a:lnTo>
                    <a:lnTo>
                      <a:pt x="829" y="5040"/>
                    </a:lnTo>
                    <a:lnTo>
                      <a:pt x="832" y="5050"/>
                    </a:lnTo>
                    <a:lnTo>
                      <a:pt x="837" y="5058"/>
                    </a:lnTo>
                    <a:lnTo>
                      <a:pt x="845" y="5067"/>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282" y="5391"/>
                    </a:lnTo>
                    <a:lnTo>
                      <a:pt x="1216" y="5344"/>
                    </a:lnTo>
                    <a:lnTo>
                      <a:pt x="1216" y="5358"/>
                    </a:lnTo>
                    <a:lnTo>
                      <a:pt x="1218" y="5372"/>
                    </a:lnTo>
                    <a:lnTo>
                      <a:pt x="1221" y="5382"/>
                    </a:lnTo>
                    <a:lnTo>
                      <a:pt x="1226" y="5390"/>
                    </a:lnTo>
                    <a:lnTo>
                      <a:pt x="1233" y="5398"/>
                    </a:lnTo>
                    <a:lnTo>
                      <a:pt x="1241" y="5405"/>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728" y="5649"/>
                    </a:lnTo>
                    <a:lnTo>
                      <a:pt x="1655" y="5612"/>
                    </a:lnTo>
                    <a:lnTo>
                      <a:pt x="1657" y="5627"/>
                    </a:lnTo>
                    <a:lnTo>
                      <a:pt x="1660" y="5640"/>
                    </a:lnTo>
                    <a:lnTo>
                      <a:pt x="1665" y="5650"/>
                    </a:lnTo>
                    <a:lnTo>
                      <a:pt x="1671" y="5657"/>
                    </a:lnTo>
                    <a:lnTo>
                      <a:pt x="1680" y="5663"/>
                    </a:lnTo>
                    <a:lnTo>
                      <a:pt x="1688" y="5668"/>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560" y="4666"/>
                    </a:lnTo>
                    <a:lnTo>
                      <a:pt x="514" y="4597"/>
                    </a:lnTo>
                    <a:lnTo>
                      <a:pt x="507" y="4612"/>
                    </a:lnTo>
                    <a:lnTo>
                      <a:pt x="504" y="4625"/>
                    </a:lnTo>
                    <a:lnTo>
                      <a:pt x="504" y="4636"/>
                    </a:lnTo>
                    <a:lnTo>
                      <a:pt x="506" y="4646"/>
                    </a:lnTo>
                    <a:lnTo>
                      <a:pt x="509" y="4656"/>
                    </a:lnTo>
                    <a:lnTo>
                      <a:pt x="514" y="4664"/>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231" y="5914"/>
                    </a:lnTo>
                    <a:lnTo>
                      <a:pt x="3150" y="5921"/>
                    </a:lnTo>
                    <a:lnTo>
                      <a:pt x="3160" y="5932"/>
                    </a:lnTo>
                    <a:lnTo>
                      <a:pt x="3169" y="5940"/>
                    </a:lnTo>
                    <a:lnTo>
                      <a:pt x="3178" y="5945"/>
                    </a:lnTo>
                    <a:lnTo>
                      <a:pt x="3187" y="5949"/>
                    </a:lnTo>
                    <a:lnTo>
                      <a:pt x="3197" y="5950"/>
                    </a:lnTo>
                    <a:lnTo>
                      <a:pt x="3208" y="5950"/>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231" y="41"/>
                    </a:lnTo>
                    <a:lnTo>
                      <a:pt x="3315" y="51"/>
                    </a:lnTo>
                    <a:lnTo>
                      <a:pt x="3307" y="36"/>
                    </a:lnTo>
                    <a:lnTo>
                      <a:pt x="3300" y="25"/>
                    </a:lnTo>
                    <a:lnTo>
                      <a:pt x="3292" y="16"/>
                    </a:lnTo>
                    <a:lnTo>
                      <a:pt x="3282" y="10"/>
                    </a:lnTo>
                    <a:lnTo>
                      <a:pt x="3274" y="7"/>
                    </a:lnTo>
                    <a:lnTo>
                      <a:pt x="3263" y="5"/>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219" y="307"/>
                    </a:lnTo>
                    <a:lnTo>
                      <a:pt x="4295" y="343"/>
                    </a:lnTo>
                    <a:lnTo>
                      <a:pt x="4293" y="326"/>
                    </a:lnTo>
                    <a:lnTo>
                      <a:pt x="4290" y="313"/>
                    </a:lnTo>
                    <a:lnTo>
                      <a:pt x="4285" y="303"/>
                    </a:lnTo>
                    <a:lnTo>
                      <a:pt x="4278" y="295"/>
                    </a:lnTo>
                    <a:lnTo>
                      <a:pt x="4270" y="289"/>
                    </a:lnTo>
                    <a:lnTo>
                      <a:pt x="4260" y="282"/>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17" y="5914"/>
                    </a:lnTo>
                    <a:lnTo>
                      <a:pt x="2636" y="5906"/>
                    </a:lnTo>
                    <a:lnTo>
                      <a:pt x="2644" y="5919"/>
                    </a:lnTo>
                    <a:lnTo>
                      <a:pt x="2651" y="5929"/>
                    </a:lnTo>
                    <a:lnTo>
                      <a:pt x="2659" y="5936"/>
                    </a:lnTo>
                    <a:lnTo>
                      <a:pt x="2667" y="5940"/>
                    </a:lnTo>
                    <a:lnTo>
                      <a:pt x="2677" y="5944"/>
                    </a:lnTo>
                    <a:lnTo>
                      <a:pt x="2687" y="5947"/>
                    </a:lnTo>
                    <a:lnTo>
                      <a:pt x="2715" y="5949"/>
                    </a:lnTo>
                    <a:close/>
                  </a:path>
                </a:pathLst>
              </a:custGeom>
              <a:gradFill rotWithShape="0">
                <a:gsLst>
                  <a:gs pos="0">
                    <a:srgbClr val="193360"/>
                  </a:gs>
                  <a:gs pos="100000">
                    <a:srgbClr val="afcafd"/>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69" name="Freeform 5"/>
              <p:cNvSpPr/>
              <p:nvPr/>
            </p:nvSpPr>
            <p:spPr>
              <a:xfrm>
                <a:off x="567000" y="734040"/>
                <a:ext cx="1294200" cy="1294200"/>
              </a:xfrm>
              <a:custGeom>
                <a:avLst/>
                <a:gdLst>
                  <a:gd name="textAreaLeft" fmla="*/ 0 w 1294200"/>
                  <a:gd name="textAreaRight" fmla="*/ 1294560 w 1294200"/>
                  <a:gd name="textAreaTop" fmla="*/ 0 h 1294200"/>
                  <a:gd name="textAreaBottom" fmla="*/ 1294560 h 129420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close/>
                  </a:path>
                </a:pathLst>
              </a:custGeom>
              <a:gradFill rotWithShape="0">
                <a:gsLst>
                  <a:gs pos="0">
                    <a:srgbClr val="83a7d3"/>
                  </a:gs>
                  <a:gs pos="100000">
                    <a:srgbClr val="182e48"/>
                  </a:gs>
                </a:gsLst>
                <a:lin ang="228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70" name="Freeform 9"/>
              <p:cNvSpPr/>
              <p:nvPr/>
            </p:nvSpPr>
            <p:spPr>
              <a:xfrm flipV="1" rot="10800000">
                <a:off x="1068840" y="1235160"/>
                <a:ext cx="289800" cy="289800"/>
              </a:xfrm>
              <a:custGeom>
                <a:avLst/>
                <a:gdLst>
                  <a:gd name="textAreaLeft" fmla="*/ 0 w 289800"/>
                  <a:gd name="textAreaRight" fmla="*/ 290160 w 289800"/>
                  <a:gd name="textAreaTop" fmla="*/ -360 h 289800"/>
                  <a:gd name="textAreaBottom" fmla="*/ 289800 h 28980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close/>
                  </a:path>
                </a:pathLst>
              </a:custGeom>
              <a:gradFill rotWithShape="0">
                <a:gsLst>
                  <a:gs pos="0">
                    <a:srgbClr val="83a7d3"/>
                  </a:gs>
                  <a:gs pos="100000">
                    <a:srgbClr val="182e48"/>
                  </a:gs>
                </a:gsLst>
                <a:lin ang="1344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71" name="TextBox 103" descr=""/>
            <p:cNvPicPr/>
            <p:nvPr/>
          </p:nvPicPr>
          <p:blipFill>
            <a:blip r:embed="rId3"/>
            <a:stretch/>
          </p:blipFill>
          <p:spPr>
            <a:xfrm>
              <a:off x="688680" y="756000"/>
              <a:ext cx="1060920" cy="1115280"/>
            </a:xfrm>
            <a:prstGeom prst="rect">
              <a:avLst/>
            </a:prstGeom>
            <a:ln w="0">
              <a:noFill/>
            </a:ln>
          </p:spPr>
        </p:pic>
        <p:pic>
          <p:nvPicPr>
            <p:cNvPr id="72" name="Rectangle 70" descr=""/>
            <p:cNvPicPr/>
            <p:nvPr/>
          </p:nvPicPr>
          <p:blipFill>
            <a:blip r:embed="rId4"/>
            <a:stretch/>
          </p:blipFill>
          <p:spPr>
            <a:xfrm>
              <a:off x="566640" y="1444680"/>
              <a:ext cx="1274040" cy="481320"/>
            </a:xfrm>
            <a:prstGeom prst="rect">
              <a:avLst/>
            </a:prstGeom>
            <a:ln w="0">
              <a:noFill/>
            </a:ln>
          </p:spPr>
        </p:pic>
      </p:grpSp>
      <p:grpSp>
        <p:nvGrpSpPr>
          <p:cNvPr id="73" name="Group 20"/>
          <p:cNvGrpSpPr/>
          <p:nvPr/>
        </p:nvGrpSpPr>
        <p:grpSpPr>
          <a:xfrm>
            <a:off x="1535040" y="1598760"/>
            <a:ext cx="1549440" cy="1549080"/>
            <a:chOff x="1535040" y="1598760"/>
            <a:chExt cx="1549440" cy="1549080"/>
          </a:xfrm>
        </p:grpSpPr>
        <p:grpSp>
          <p:nvGrpSpPr>
            <p:cNvPr id="74" name="Group 21"/>
            <p:cNvGrpSpPr/>
            <p:nvPr/>
          </p:nvGrpSpPr>
          <p:grpSpPr>
            <a:xfrm>
              <a:off x="1535040" y="1598760"/>
              <a:ext cx="1549440" cy="1549080"/>
              <a:chOff x="1535040" y="1598760"/>
              <a:chExt cx="1549440" cy="1549080"/>
            </a:xfrm>
          </p:grpSpPr>
          <p:sp>
            <p:nvSpPr>
              <p:cNvPr id="75" name="Freeform 5"/>
              <p:cNvSpPr/>
              <p:nvPr/>
            </p:nvSpPr>
            <p:spPr>
              <a:xfrm>
                <a:off x="1535040" y="1598760"/>
                <a:ext cx="1549440" cy="1549080"/>
              </a:xfrm>
              <a:custGeom>
                <a:avLst/>
                <a:gdLst/>
                <a:ahLst/>
                <a:rect l="l" t="t" r="r" b="b"/>
                <a:pathLst>
                  <a:path w="5950" h="5950">
                    <a:moveTo>
                      <a:pt x="5840" y="3106"/>
                    </a:moveTo>
                    <a:lnTo>
                      <a:pt x="5840" y="3106"/>
                    </a:lnTo>
                    <a:lnTo>
                      <a:pt x="5808" y="3091"/>
                    </a:lnTo>
                    <a:lnTo>
                      <a:pt x="5780" y="3078"/>
                    </a:lnTo>
                    <a:lnTo>
                      <a:pt x="5727" y="3058"/>
                    </a:lnTo>
                    <a:lnTo>
                      <a:pt x="5685" y="3044"/>
                    </a:lnTo>
                    <a:lnTo>
                      <a:pt x="5650" y="3034"/>
                    </a:lnTo>
                    <a:lnTo>
                      <a:pt x="5650" y="2976"/>
                    </a:lnTo>
                    <a:lnTo>
                      <a:pt x="5650" y="2917"/>
                    </a:lnTo>
                    <a:lnTo>
                      <a:pt x="5685" y="2908"/>
                    </a:lnTo>
                    <a:lnTo>
                      <a:pt x="5727" y="2894"/>
                    </a:lnTo>
                    <a:lnTo>
                      <a:pt x="5780" y="2872"/>
                    </a:lnTo>
                    <a:lnTo>
                      <a:pt x="5808" y="2859"/>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785" y="2597"/>
                    </a:lnTo>
                    <a:lnTo>
                      <a:pt x="5755" y="2590"/>
                    </a:lnTo>
                    <a:lnTo>
                      <a:pt x="5699" y="2579"/>
                    </a:lnTo>
                    <a:lnTo>
                      <a:pt x="5655" y="2572"/>
                    </a:lnTo>
                    <a:lnTo>
                      <a:pt x="5619" y="2569"/>
                    </a:lnTo>
                    <a:lnTo>
                      <a:pt x="5609" y="2511"/>
                    </a:lnTo>
                    <a:lnTo>
                      <a:pt x="5599" y="2453"/>
                    </a:lnTo>
                    <a:lnTo>
                      <a:pt x="5630" y="2439"/>
                    </a:lnTo>
                    <a:lnTo>
                      <a:pt x="5671" y="2417"/>
                    </a:lnTo>
                    <a:lnTo>
                      <a:pt x="5719" y="2387"/>
                    </a:lnTo>
                    <a:lnTo>
                      <a:pt x="5746" y="236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676" y="2115"/>
                    </a:lnTo>
                    <a:lnTo>
                      <a:pt x="5645" y="2112"/>
                    </a:lnTo>
                    <a:lnTo>
                      <a:pt x="5589" y="2110"/>
                    </a:lnTo>
                    <a:lnTo>
                      <a:pt x="5543" y="2112"/>
                    </a:lnTo>
                    <a:lnTo>
                      <a:pt x="5508" y="2115"/>
                    </a:lnTo>
                    <a:lnTo>
                      <a:pt x="5488" y="2061"/>
                    </a:lnTo>
                    <a:lnTo>
                      <a:pt x="5467" y="2007"/>
                    </a:lnTo>
                    <a:lnTo>
                      <a:pt x="5497" y="1987"/>
                    </a:lnTo>
                    <a:lnTo>
                      <a:pt x="5533" y="1957"/>
                    </a:lnTo>
                    <a:lnTo>
                      <a:pt x="5574" y="1921"/>
                    </a:lnTo>
                    <a:lnTo>
                      <a:pt x="5597" y="1898"/>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487" y="1659"/>
                    </a:lnTo>
                    <a:lnTo>
                      <a:pt x="5454" y="1662"/>
                    </a:lnTo>
                    <a:lnTo>
                      <a:pt x="5398" y="1670"/>
                    </a:lnTo>
                    <a:lnTo>
                      <a:pt x="5353" y="1680"/>
                    </a:lnTo>
                    <a:lnTo>
                      <a:pt x="5319" y="1690"/>
                    </a:lnTo>
                    <a:lnTo>
                      <a:pt x="5290" y="1639"/>
                    </a:lnTo>
                    <a:lnTo>
                      <a:pt x="5261" y="1589"/>
                    </a:lnTo>
                    <a:lnTo>
                      <a:pt x="5286" y="1563"/>
                    </a:lnTo>
                    <a:lnTo>
                      <a:pt x="5317" y="1530"/>
                    </a:lnTo>
                    <a:lnTo>
                      <a:pt x="5352" y="1486"/>
                    </a:lnTo>
                    <a:lnTo>
                      <a:pt x="5371" y="145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20" y="1243"/>
                    </a:lnTo>
                    <a:lnTo>
                      <a:pt x="5188" y="1251"/>
                    </a:lnTo>
                    <a:lnTo>
                      <a:pt x="5134" y="1270"/>
                    </a:lnTo>
                    <a:lnTo>
                      <a:pt x="5091" y="1286"/>
                    </a:lnTo>
                    <a:lnTo>
                      <a:pt x="5060" y="1303"/>
                    </a:lnTo>
                    <a:lnTo>
                      <a:pt x="5022" y="1256"/>
                    </a:lnTo>
                    <a:lnTo>
                      <a:pt x="4985" y="1213"/>
                    </a:lnTo>
                    <a:lnTo>
                      <a:pt x="5005" y="1184"/>
                    </a:lnTo>
                    <a:lnTo>
                      <a:pt x="5030" y="1144"/>
                    </a:lnTo>
                    <a:lnTo>
                      <a:pt x="5056" y="1095"/>
                    </a:lnTo>
                    <a:lnTo>
                      <a:pt x="5071" y="1065"/>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885" y="879"/>
                    </a:lnTo>
                    <a:lnTo>
                      <a:pt x="4855" y="894"/>
                    </a:lnTo>
                    <a:lnTo>
                      <a:pt x="4806" y="920"/>
                    </a:lnTo>
                    <a:lnTo>
                      <a:pt x="4766" y="945"/>
                    </a:lnTo>
                    <a:lnTo>
                      <a:pt x="4737" y="965"/>
                    </a:lnTo>
                    <a:lnTo>
                      <a:pt x="4694" y="928"/>
                    </a:lnTo>
                    <a:lnTo>
                      <a:pt x="4647" y="890"/>
                    </a:lnTo>
                    <a:lnTo>
                      <a:pt x="4664" y="859"/>
                    </a:lnTo>
                    <a:lnTo>
                      <a:pt x="4680" y="816"/>
                    </a:lnTo>
                    <a:lnTo>
                      <a:pt x="4699" y="762"/>
                    </a:lnTo>
                    <a:lnTo>
                      <a:pt x="4707" y="730"/>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491" y="579"/>
                    </a:lnTo>
                    <a:lnTo>
                      <a:pt x="4464" y="598"/>
                    </a:lnTo>
                    <a:lnTo>
                      <a:pt x="4420" y="633"/>
                    </a:lnTo>
                    <a:lnTo>
                      <a:pt x="4385" y="664"/>
                    </a:lnTo>
                    <a:lnTo>
                      <a:pt x="4361" y="691"/>
                    </a:lnTo>
                    <a:lnTo>
                      <a:pt x="4311" y="661"/>
                    </a:lnTo>
                    <a:lnTo>
                      <a:pt x="4260" y="633"/>
                    </a:lnTo>
                    <a:lnTo>
                      <a:pt x="4270" y="598"/>
                    </a:lnTo>
                    <a:lnTo>
                      <a:pt x="4280" y="552"/>
                    </a:lnTo>
                    <a:lnTo>
                      <a:pt x="4288" y="496"/>
                    </a:lnTo>
                    <a:lnTo>
                      <a:pt x="4291" y="463"/>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52" y="353"/>
                    </a:lnTo>
                    <a:lnTo>
                      <a:pt x="4029" y="376"/>
                    </a:lnTo>
                    <a:lnTo>
                      <a:pt x="3991" y="419"/>
                    </a:lnTo>
                    <a:lnTo>
                      <a:pt x="3963" y="455"/>
                    </a:lnTo>
                    <a:lnTo>
                      <a:pt x="3942" y="485"/>
                    </a:lnTo>
                    <a:lnTo>
                      <a:pt x="3889" y="465"/>
                    </a:lnTo>
                    <a:lnTo>
                      <a:pt x="3835" y="445"/>
                    </a:lnTo>
                    <a:lnTo>
                      <a:pt x="3838" y="411"/>
                    </a:lnTo>
                    <a:lnTo>
                      <a:pt x="3840" y="364"/>
                    </a:lnTo>
                    <a:lnTo>
                      <a:pt x="3838" y="307"/>
                    </a:lnTo>
                    <a:lnTo>
                      <a:pt x="3835" y="274"/>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581" y="206"/>
                    </a:lnTo>
                    <a:lnTo>
                      <a:pt x="3561" y="232"/>
                    </a:lnTo>
                    <a:lnTo>
                      <a:pt x="3531" y="282"/>
                    </a:lnTo>
                    <a:lnTo>
                      <a:pt x="3510" y="323"/>
                    </a:lnTo>
                    <a:lnTo>
                      <a:pt x="3495" y="354"/>
                    </a:lnTo>
                    <a:lnTo>
                      <a:pt x="3439" y="345"/>
                    </a:lnTo>
                    <a:lnTo>
                      <a:pt x="3381" y="335"/>
                    </a:lnTo>
                    <a:lnTo>
                      <a:pt x="3380" y="300"/>
                    </a:lnTo>
                    <a:lnTo>
                      <a:pt x="3373" y="254"/>
                    </a:lnTo>
                    <a:lnTo>
                      <a:pt x="3361" y="198"/>
                    </a:lnTo>
                    <a:lnTo>
                      <a:pt x="3353" y="165"/>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089" y="142"/>
                    </a:lnTo>
                    <a:lnTo>
                      <a:pt x="3076" y="171"/>
                    </a:lnTo>
                    <a:lnTo>
                      <a:pt x="3055" y="226"/>
                    </a:lnTo>
                    <a:lnTo>
                      <a:pt x="3042" y="270"/>
                    </a:lnTo>
                    <a:lnTo>
                      <a:pt x="3032" y="305"/>
                    </a:lnTo>
                    <a:lnTo>
                      <a:pt x="2974" y="303"/>
                    </a:lnTo>
                    <a:lnTo>
                      <a:pt x="2916" y="305"/>
                    </a:lnTo>
                    <a:lnTo>
                      <a:pt x="2908" y="270"/>
                    </a:lnTo>
                    <a:lnTo>
                      <a:pt x="2893" y="226"/>
                    </a:lnTo>
                    <a:lnTo>
                      <a:pt x="2872" y="171"/>
                    </a:lnTo>
                    <a:lnTo>
                      <a:pt x="2859" y="142"/>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596" y="165"/>
                    </a:lnTo>
                    <a:lnTo>
                      <a:pt x="2588" y="198"/>
                    </a:lnTo>
                    <a:lnTo>
                      <a:pt x="2577" y="254"/>
                    </a:lnTo>
                    <a:lnTo>
                      <a:pt x="2570" y="300"/>
                    </a:lnTo>
                    <a:lnTo>
                      <a:pt x="2567" y="335"/>
                    </a:lnTo>
                    <a:lnTo>
                      <a:pt x="2511" y="345"/>
                    </a:lnTo>
                    <a:lnTo>
                      <a:pt x="2455" y="354"/>
                    </a:lnTo>
                    <a:lnTo>
                      <a:pt x="2440" y="323"/>
                    </a:lnTo>
                    <a:lnTo>
                      <a:pt x="2417" y="282"/>
                    </a:lnTo>
                    <a:lnTo>
                      <a:pt x="2387" y="232"/>
                    </a:lnTo>
                    <a:lnTo>
                      <a:pt x="2369" y="20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3" y="274"/>
                    </a:lnTo>
                    <a:lnTo>
                      <a:pt x="2112" y="307"/>
                    </a:lnTo>
                    <a:lnTo>
                      <a:pt x="2110" y="364"/>
                    </a:lnTo>
                    <a:lnTo>
                      <a:pt x="2112" y="411"/>
                    </a:lnTo>
                    <a:lnTo>
                      <a:pt x="2115" y="447"/>
                    </a:lnTo>
                    <a:lnTo>
                      <a:pt x="2061" y="465"/>
                    </a:lnTo>
                    <a:lnTo>
                      <a:pt x="2008" y="486"/>
                    </a:lnTo>
                    <a:lnTo>
                      <a:pt x="1986" y="457"/>
                    </a:lnTo>
                    <a:lnTo>
                      <a:pt x="1958" y="419"/>
                    </a:lnTo>
                    <a:lnTo>
                      <a:pt x="1920" y="376"/>
                    </a:lnTo>
                    <a:lnTo>
                      <a:pt x="1897" y="353"/>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8" y="465"/>
                    </a:lnTo>
                    <a:lnTo>
                      <a:pt x="1662" y="498"/>
                    </a:lnTo>
                    <a:lnTo>
                      <a:pt x="1670" y="554"/>
                    </a:lnTo>
                    <a:lnTo>
                      <a:pt x="1680" y="600"/>
                    </a:lnTo>
                    <a:lnTo>
                      <a:pt x="1690" y="635"/>
                    </a:lnTo>
                    <a:lnTo>
                      <a:pt x="1639" y="663"/>
                    </a:lnTo>
                    <a:lnTo>
                      <a:pt x="1591" y="692"/>
                    </a:lnTo>
                    <a:lnTo>
                      <a:pt x="1564" y="666"/>
                    </a:lnTo>
                    <a:lnTo>
                      <a:pt x="1530" y="635"/>
                    </a:lnTo>
                    <a:lnTo>
                      <a:pt x="1485" y="598"/>
                    </a:lnTo>
                    <a:lnTo>
                      <a:pt x="1459" y="580"/>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41" y="732"/>
                    </a:lnTo>
                    <a:lnTo>
                      <a:pt x="1251" y="763"/>
                    </a:lnTo>
                    <a:lnTo>
                      <a:pt x="1269" y="818"/>
                    </a:lnTo>
                    <a:lnTo>
                      <a:pt x="1287" y="861"/>
                    </a:lnTo>
                    <a:lnTo>
                      <a:pt x="1302" y="894"/>
                    </a:lnTo>
                    <a:lnTo>
                      <a:pt x="1258" y="930"/>
                    </a:lnTo>
                    <a:lnTo>
                      <a:pt x="1213" y="966"/>
                    </a:lnTo>
                    <a:lnTo>
                      <a:pt x="1185" y="946"/>
                    </a:lnTo>
                    <a:lnTo>
                      <a:pt x="1146" y="922"/>
                    </a:lnTo>
                    <a:lnTo>
                      <a:pt x="1094" y="894"/>
                    </a:lnTo>
                    <a:lnTo>
                      <a:pt x="1065" y="879"/>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78" y="1067"/>
                    </a:lnTo>
                    <a:lnTo>
                      <a:pt x="893" y="1095"/>
                    </a:lnTo>
                    <a:lnTo>
                      <a:pt x="920" y="1146"/>
                    </a:lnTo>
                    <a:lnTo>
                      <a:pt x="944" y="1185"/>
                    </a:lnTo>
                    <a:lnTo>
                      <a:pt x="966" y="1215"/>
                    </a:lnTo>
                    <a:lnTo>
                      <a:pt x="928" y="1258"/>
                    </a:lnTo>
                    <a:lnTo>
                      <a:pt x="892" y="1303"/>
                    </a:lnTo>
                    <a:lnTo>
                      <a:pt x="859" y="1288"/>
                    </a:lnTo>
                    <a:lnTo>
                      <a:pt x="816" y="1270"/>
                    </a:lnTo>
                    <a:lnTo>
                      <a:pt x="761" y="1251"/>
                    </a:lnTo>
                    <a:lnTo>
                      <a:pt x="730" y="1243"/>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78" y="1459"/>
                    </a:lnTo>
                    <a:lnTo>
                      <a:pt x="598" y="1486"/>
                    </a:lnTo>
                    <a:lnTo>
                      <a:pt x="633" y="1530"/>
                    </a:lnTo>
                    <a:lnTo>
                      <a:pt x="664" y="1565"/>
                    </a:lnTo>
                    <a:lnTo>
                      <a:pt x="690" y="1589"/>
                    </a:lnTo>
                    <a:lnTo>
                      <a:pt x="661" y="1639"/>
                    </a:lnTo>
                    <a:lnTo>
                      <a:pt x="633" y="1690"/>
                    </a:lnTo>
                    <a:lnTo>
                      <a:pt x="598" y="1680"/>
                    </a:lnTo>
                    <a:lnTo>
                      <a:pt x="552" y="1670"/>
                    </a:lnTo>
                    <a:lnTo>
                      <a:pt x="496" y="1662"/>
                    </a:lnTo>
                    <a:lnTo>
                      <a:pt x="463" y="1659"/>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51" y="1898"/>
                    </a:lnTo>
                    <a:lnTo>
                      <a:pt x="376" y="1921"/>
                    </a:lnTo>
                    <a:lnTo>
                      <a:pt x="418" y="1959"/>
                    </a:lnTo>
                    <a:lnTo>
                      <a:pt x="455" y="1987"/>
                    </a:lnTo>
                    <a:lnTo>
                      <a:pt x="484" y="2008"/>
                    </a:lnTo>
                    <a:lnTo>
                      <a:pt x="465" y="2061"/>
                    </a:lnTo>
                    <a:lnTo>
                      <a:pt x="445" y="2115"/>
                    </a:lnTo>
                    <a:lnTo>
                      <a:pt x="410" y="2112"/>
                    </a:lnTo>
                    <a:lnTo>
                      <a:pt x="362" y="2110"/>
                    </a:lnTo>
                    <a:lnTo>
                      <a:pt x="306" y="2112"/>
                    </a:lnTo>
                    <a:lnTo>
                      <a:pt x="273" y="2115"/>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204" y="2369"/>
                    </a:lnTo>
                    <a:lnTo>
                      <a:pt x="232" y="2389"/>
                    </a:lnTo>
                    <a:lnTo>
                      <a:pt x="280" y="2419"/>
                    </a:lnTo>
                    <a:lnTo>
                      <a:pt x="321" y="2440"/>
                    </a:lnTo>
                    <a:lnTo>
                      <a:pt x="354" y="2455"/>
                    </a:lnTo>
                    <a:lnTo>
                      <a:pt x="343" y="2511"/>
                    </a:lnTo>
                    <a:lnTo>
                      <a:pt x="333" y="2569"/>
                    </a:lnTo>
                    <a:lnTo>
                      <a:pt x="298" y="2572"/>
                    </a:lnTo>
                    <a:lnTo>
                      <a:pt x="252" y="2579"/>
                    </a:lnTo>
                    <a:lnTo>
                      <a:pt x="196" y="2589"/>
                    </a:lnTo>
                    <a:lnTo>
                      <a:pt x="165" y="259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41" y="2861"/>
                    </a:lnTo>
                    <a:lnTo>
                      <a:pt x="171" y="2874"/>
                    </a:lnTo>
                    <a:lnTo>
                      <a:pt x="224" y="2894"/>
                    </a:lnTo>
                    <a:lnTo>
                      <a:pt x="268" y="2908"/>
                    </a:lnTo>
                    <a:lnTo>
                      <a:pt x="303" y="2918"/>
                    </a:lnTo>
                    <a:lnTo>
                      <a:pt x="301" y="2976"/>
                    </a:lnTo>
                    <a:lnTo>
                      <a:pt x="303" y="3034"/>
                    </a:lnTo>
                    <a:lnTo>
                      <a:pt x="268" y="3042"/>
                    </a:lnTo>
                    <a:lnTo>
                      <a:pt x="224" y="3057"/>
                    </a:lnTo>
                    <a:lnTo>
                      <a:pt x="171" y="3078"/>
                    </a:lnTo>
                    <a:lnTo>
                      <a:pt x="141" y="3091"/>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65" y="3354"/>
                    </a:lnTo>
                    <a:lnTo>
                      <a:pt x="196" y="3362"/>
                    </a:lnTo>
                    <a:lnTo>
                      <a:pt x="250" y="3373"/>
                    </a:lnTo>
                    <a:lnTo>
                      <a:pt x="296" y="3380"/>
                    </a:lnTo>
                    <a:lnTo>
                      <a:pt x="333" y="3383"/>
                    </a:lnTo>
                    <a:lnTo>
                      <a:pt x="343" y="3439"/>
                    </a:lnTo>
                    <a:lnTo>
                      <a:pt x="352" y="3497"/>
                    </a:lnTo>
                    <a:lnTo>
                      <a:pt x="320" y="3512"/>
                    </a:lnTo>
                    <a:lnTo>
                      <a:pt x="280" y="3533"/>
                    </a:lnTo>
                    <a:lnTo>
                      <a:pt x="230" y="3563"/>
                    </a:lnTo>
                    <a:lnTo>
                      <a:pt x="204" y="3581"/>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72" y="3837"/>
                    </a:lnTo>
                    <a:lnTo>
                      <a:pt x="305" y="3838"/>
                    </a:lnTo>
                    <a:lnTo>
                      <a:pt x="361" y="3840"/>
                    </a:lnTo>
                    <a:lnTo>
                      <a:pt x="407" y="3838"/>
                    </a:lnTo>
                    <a:lnTo>
                      <a:pt x="443" y="3835"/>
                    </a:lnTo>
                    <a:lnTo>
                      <a:pt x="463" y="3889"/>
                    </a:lnTo>
                    <a:lnTo>
                      <a:pt x="483" y="3944"/>
                    </a:lnTo>
                    <a:lnTo>
                      <a:pt x="453" y="3965"/>
                    </a:lnTo>
                    <a:lnTo>
                      <a:pt x="417" y="3993"/>
                    </a:lnTo>
                    <a:lnTo>
                      <a:pt x="374" y="4031"/>
                    </a:lnTo>
                    <a:lnTo>
                      <a:pt x="351" y="4053"/>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63" y="4292"/>
                    </a:lnTo>
                    <a:lnTo>
                      <a:pt x="494" y="4288"/>
                    </a:lnTo>
                    <a:lnTo>
                      <a:pt x="550" y="4280"/>
                    </a:lnTo>
                    <a:lnTo>
                      <a:pt x="596" y="4272"/>
                    </a:lnTo>
                    <a:lnTo>
                      <a:pt x="631" y="4262"/>
                    </a:lnTo>
                    <a:lnTo>
                      <a:pt x="659" y="4311"/>
                    </a:lnTo>
                    <a:lnTo>
                      <a:pt x="689" y="4363"/>
                    </a:lnTo>
                    <a:lnTo>
                      <a:pt x="664" y="4387"/>
                    </a:lnTo>
                    <a:lnTo>
                      <a:pt x="633" y="4422"/>
                    </a:lnTo>
                    <a:lnTo>
                      <a:pt x="596" y="4466"/>
                    </a:lnTo>
                    <a:lnTo>
                      <a:pt x="578" y="4493"/>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730" y="4709"/>
                    </a:lnTo>
                    <a:lnTo>
                      <a:pt x="760" y="4699"/>
                    </a:lnTo>
                    <a:lnTo>
                      <a:pt x="814" y="4682"/>
                    </a:lnTo>
                    <a:lnTo>
                      <a:pt x="857" y="4664"/>
                    </a:lnTo>
                    <a:lnTo>
                      <a:pt x="888" y="4649"/>
                    </a:lnTo>
                    <a:lnTo>
                      <a:pt x="926" y="4694"/>
                    </a:lnTo>
                    <a:lnTo>
                      <a:pt x="964" y="4739"/>
                    </a:lnTo>
                    <a:lnTo>
                      <a:pt x="943" y="4768"/>
                    </a:lnTo>
                    <a:lnTo>
                      <a:pt x="918" y="4808"/>
                    </a:lnTo>
                    <a:lnTo>
                      <a:pt x="892" y="4857"/>
                    </a:lnTo>
                    <a:lnTo>
                      <a:pt x="878" y="4885"/>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65" y="5072"/>
                    </a:lnTo>
                    <a:lnTo>
                      <a:pt x="1093" y="5058"/>
                    </a:lnTo>
                    <a:lnTo>
                      <a:pt x="1142" y="5032"/>
                    </a:lnTo>
                    <a:lnTo>
                      <a:pt x="1182" y="5007"/>
                    </a:lnTo>
                    <a:lnTo>
                      <a:pt x="1211" y="4987"/>
                    </a:lnTo>
                    <a:lnTo>
                      <a:pt x="1254" y="5025"/>
                    </a:lnTo>
                    <a:lnTo>
                      <a:pt x="1301" y="5062"/>
                    </a:lnTo>
                    <a:lnTo>
                      <a:pt x="1286" y="5095"/>
                    </a:lnTo>
                    <a:lnTo>
                      <a:pt x="1268" y="5138"/>
                    </a:lnTo>
                    <a:lnTo>
                      <a:pt x="1249" y="5190"/>
                    </a:lnTo>
                    <a:lnTo>
                      <a:pt x="1241" y="5222"/>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57" y="5372"/>
                    </a:lnTo>
                    <a:lnTo>
                      <a:pt x="1484" y="5354"/>
                    </a:lnTo>
                    <a:lnTo>
                      <a:pt x="1526" y="5319"/>
                    </a:lnTo>
                    <a:lnTo>
                      <a:pt x="1561" y="5288"/>
                    </a:lnTo>
                    <a:lnTo>
                      <a:pt x="1586" y="5263"/>
                    </a:lnTo>
                    <a:lnTo>
                      <a:pt x="1637" y="5292"/>
                    </a:lnTo>
                    <a:lnTo>
                      <a:pt x="1688" y="5322"/>
                    </a:lnTo>
                    <a:lnTo>
                      <a:pt x="1678" y="5355"/>
                    </a:lnTo>
                    <a:lnTo>
                      <a:pt x="1670" y="5401"/>
                    </a:lnTo>
                    <a:lnTo>
                      <a:pt x="1662" y="5456"/>
                    </a:lnTo>
                    <a:lnTo>
                      <a:pt x="1658" y="5487"/>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96" y="5599"/>
                    </a:lnTo>
                    <a:lnTo>
                      <a:pt x="1919" y="5576"/>
                    </a:lnTo>
                    <a:lnTo>
                      <a:pt x="1955" y="5535"/>
                    </a:lnTo>
                    <a:lnTo>
                      <a:pt x="1985" y="5499"/>
                    </a:lnTo>
                    <a:lnTo>
                      <a:pt x="2005" y="5469"/>
                    </a:lnTo>
                    <a:lnTo>
                      <a:pt x="2059" y="5490"/>
                    </a:lnTo>
                    <a:lnTo>
                      <a:pt x="2115" y="5508"/>
                    </a:lnTo>
                    <a:lnTo>
                      <a:pt x="2112" y="5545"/>
                    </a:lnTo>
                    <a:lnTo>
                      <a:pt x="2110" y="5591"/>
                    </a:lnTo>
                    <a:lnTo>
                      <a:pt x="2112" y="5647"/>
                    </a:lnTo>
                    <a:lnTo>
                      <a:pt x="2113" y="5678"/>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69" y="5746"/>
                    </a:lnTo>
                    <a:lnTo>
                      <a:pt x="2385" y="5720"/>
                    </a:lnTo>
                    <a:lnTo>
                      <a:pt x="2415" y="5673"/>
                    </a:lnTo>
                    <a:lnTo>
                      <a:pt x="2437" y="5632"/>
                    </a:lnTo>
                    <a:lnTo>
                      <a:pt x="2453" y="5599"/>
                    </a:lnTo>
                    <a:lnTo>
                      <a:pt x="2511" y="5611"/>
                    </a:lnTo>
                    <a:lnTo>
                      <a:pt x="2568" y="5621"/>
                    </a:lnTo>
                    <a:lnTo>
                      <a:pt x="2570" y="5657"/>
                    </a:lnTo>
                    <a:lnTo>
                      <a:pt x="2577" y="5701"/>
                    </a:lnTo>
                    <a:lnTo>
                      <a:pt x="2588" y="5756"/>
                    </a:lnTo>
                    <a:lnTo>
                      <a:pt x="2596" y="5787"/>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59" y="5810"/>
                    </a:lnTo>
                    <a:lnTo>
                      <a:pt x="2872" y="5781"/>
                    </a:lnTo>
                    <a:lnTo>
                      <a:pt x="2892" y="5729"/>
                    </a:lnTo>
                    <a:lnTo>
                      <a:pt x="2906" y="5687"/>
                    </a:lnTo>
                    <a:lnTo>
                      <a:pt x="2916" y="5652"/>
                    </a:lnTo>
                    <a:lnTo>
                      <a:pt x="2974" y="5652"/>
                    </a:lnTo>
                    <a:lnTo>
                      <a:pt x="3033" y="5652"/>
                    </a:lnTo>
                    <a:lnTo>
                      <a:pt x="3043" y="5687"/>
                    </a:lnTo>
                    <a:lnTo>
                      <a:pt x="3056" y="5729"/>
                    </a:lnTo>
                    <a:lnTo>
                      <a:pt x="3078" y="5781"/>
                    </a:lnTo>
                    <a:lnTo>
                      <a:pt x="3091" y="581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53" y="5787"/>
                    </a:lnTo>
                    <a:lnTo>
                      <a:pt x="3360" y="5756"/>
                    </a:lnTo>
                    <a:lnTo>
                      <a:pt x="3371" y="5701"/>
                    </a:lnTo>
                    <a:lnTo>
                      <a:pt x="3378" y="5657"/>
                    </a:lnTo>
                    <a:lnTo>
                      <a:pt x="3381" y="5621"/>
                    </a:lnTo>
                    <a:lnTo>
                      <a:pt x="3439" y="5612"/>
                    </a:lnTo>
                    <a:lnTo>
                      <a:pt x="3497" y="5601"/>
                    </a:lnTo>
                    <a:lnTo>
                      <a:pt x="3511" y="5634"/>
                    </a:lnTo>
                    <a:lnTo>
                      <a:pt x="3535" y="5673"/>
                    </a:lnTo>
                    <a:lnTo>
                      <a:pt x="3563" y="5721"/>
                    </a:lnTo>
                    <a:lnTo>
                      <a:pt x="3581" y="5748"/>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5" y="5678"/>
                    </a:lnTo>
                    <a:lnTo>
                      <a:pt x="3838" y="5647"/>
                    </a:lnTo>
                    <a:lnTo>
                      <a:pt x="3840" y="5593"/>
                    </a:lnTo>
                    <a:lnTo>
                      <a:pt x="3838" y="5546"/>
                    </a:lnTo>
                    <a:lnTo>
                      <a:pt x="3835" y="5510"/>
                    </a:lnTo>
                    <a:lnTo>
                      <a:pt x="3891" y="5490"/>
                    </a:lnTo>
                    <a:lnTo>
                      <a:pt x="3945" y="5471"/>
                    </a:lnTo>
                    <a:lnTo>
                      <a:pt x="3965" y="5499"/>
                    </a:lnTo>
                    <a:lnTo>
                      <a:pt x="3995" y="5535"/>
                    </a:lnTo>
                    <a:lnTo>
                      <a:pt x="4031" y="5576"/>
                    </a:lnTo>
                    <a:lnTo>
                      <a:pt x="4052" y="5599"/>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1" y="5489"/>
                    </a:lnTo>
                    <a:lnTo>
                      <a:pt x="4288" y="5457"/>
                    </a:lnTo>
                    <a:lnTo>
                      <a:pt x="4280" y="5401"/>
                    </a:lnTo>
                    <a:lnTo>
                      <a:pt x="4272" y="5357"/>
                    </a:lnTo>
                    <a:lnTo>
                      <a:pt x="4262" y="5322"/>
                    </a:lnTo>
                    <a:lnTo>
                      <a:pt x="4313" y="5292"/>
                    </a:lnTo>
                    <a:lnTo>
                      <a:pt x="4364" y="5263"/>
                    </a:lnTo>
                    <a:lnTo>
                      <a:pt x="4389" y="5289"/>
                    </a:lnTo>
                    <a:lnTo>
                      <a:pt x="4423" y="5319"/>
                    </a:lnTo>
                    <a:lnTo>
                      <a:pt x="4466" y="5354"/>
                    </a:lnTo>
                    <a:lnTo>
                      <a:pt x="4493" y="5372"/>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07" y="5222"/>
                    </a:lnTo>
                    <a:lnTo>
                      <a:pt x="4699" y="5190"/>
                    </a:lnTo>
                    <a:lnTo>
                      <a:pt x="4682" y="5138"/>
                    </a:lnTo>
                    <a:lnTo>
                      <a:pt x="4664" y="5096"/>
                    </a:lnTo>
                    <a:lnTo>
                      <a:pt x="4649" y="5063"/>
                    </a:lnTo>
                    <a:lnTo>
                      <a:pt x="4695" y="5025"/>
                    </a:lnTo>
                    <a:lnTo>
                      <a:pt x="4740" y="4987"/>
                    </a:lnTo>
                    <a:lnTo>
                      <a:pt x="4769" y="5009"/>
                    </a:lnTo>
                    <a:lnTo>
                      <a:pt x="4807" y="5032"/>
                    </a:lnTo>
                    <a:lnTo>
                      <a:pt x="4857" y="5058"/>
                    </a:lnTo>
                    <a:lnTo>
                      <a:pt x="4885" y="5072"/>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71" y="4887"/>
                    </a:lnTo>
                    <a:lnTo>
                      <a:pt x="5058" y="4857"/>
                    </a:lnTo>
                    <a:lnTo>
                      <a:pt x="5032" y="4809"/>
                    </a:lnTo>
                    <a:lnTo>
                      <a:pt x="5007" y="4770"/>
                    </a:lnTo>
                    <a:lnTo>
                      <a:pt x="4987" y="4740"/>
                    </a:lnTo>
                    <a:lnTo>
                      <a:pt x="5025" y="4696"/>
                    </a:lnTo>
                    <a:lnTo>
                      <a:pt x="5063" y="4651"/>
                    </a:lnTo>
                    <a:lnTo>
                      <a:pt x="5094" y="4666"/>
                    </a:lnTo>
                    <a:lnTo>
                      <a:pt x="5137" y="4682"/>
                    </a:lnTo>
                    <a:lnTo>
                      <a:pt x="5190" y="4701"/>
                    </a:lnTo>
                    <a:lnTo>
                      <a:pt x="5220" y="4709"/>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71" y="4493"/>
                    </a:lnTo>
                    <a:lnTo>
                      <a:pt x="5353" y="4468"/>
                    </a:lnTo>
                    <a:lnTo>
                      <a:pt x="5319" y="4424"/>
                    </a:lnTo>
                    <a:lnTo>
                      <a:pt x="5287" y="4389"/>
                    </a:lnTo>
                    <a:lnTo>
                      <a:pt x="5262" y="4364"/>
                    </a:lnTo>
                    <a:lnTo>
                      <a:pt x="5292" y="4313"/>
                    </a:lnTo>
                    <a:lnTo>
                      <a:pt x="5322" y="4262"/>
                    </a:lnTo>
                    <a:lnTo>
                      <a:pt x="5356" y="4272"/>
                    </a:lnTo>
                    <a:lnTo>
                      <a:pt x="5401" y="4282"/>
                    </a:lnTo>
                    <a:lnTo>
                      <a:pt x="5455" y="4288"/>
                    </a:lnTo>
                    <a:lnTo>
                      <a:pt x="5487" y="4292"/>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599" y="4054"/>
                    </a:lnTo>
                    <a:lnTo>
                      <a:pt x="5576" y="4031"/>
                    </a:lnTo>
                    <a:lnTo>
                      <a:pt x="5535" y="3995"/>
                    </a:lnTo>
                    <a:lnTo>
                      <a:pt x="5498" y="3967"/>
                    </a:lnTo>
                    <a:lnTo>
                      <a:pt x="5469" y="3945"/>
                    </a:lnTo>
                    <a:lnTo>
                      <a:pt x="5488" y="3891"/>
                    </a:lnTo>
                    <a:lnTo>
                      <a:pt x="5508" y="3835"/>
                    </a:lnTo>
                    <a:lnTo>
                      <a:pt x="5544" y="3838"/>
                    </a:lnTo>
                    <a:lnTo>
                      <a:pt x="5591" y="3840"/>
                    </a:lnTo>
                    <a:lnTo>
                      <a:pt x="5645" y="3838"/>
                    </a:lnTo>
                    <a:lnTo>
                      <a:pt x="5678" y="3837"/>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46" y="3581"/>
                    </a:lnTo>
                    <a:lnTo>
                      <a:pt x="5719" y="3565"/>
                    </a:lnTo>
                    <a:lnTo>
                      <a:pt x="5671" y="3535"/>
                    </a:lnTo>
                    <a:lnTo>
                      <a:pt x="5630" y="3512"/>
                    </a:lnTo>
                    <a:lnTo>
                      <a:pt x="5599" y="3497"/>
                    </a:lnTo>
                    <a:lnTo>
                      <a:pt x="5609" y="3439"/>
                    </a:lnTo>
                    <a:lnTo>
                      <a:pt x="5619" y="3383"/>
                    </a:lnTo>
                    <a:lnTo>
                      <a:pt x="5655" y="3380"/>
                    </a:lnTo>
                    <a:lnTo>
                      <a:pt x="5699" y="3373"/>
                    </a:lnTo>
                    <a:lnTo>
                      <a:pt x="5755" y="3362"/>
                    </a:lnTo>
                    <a:lnTo>
                      <a:pt x="5785" y="335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close/>
                  </a:path>
                </a:pathLst>
              </a:custGeom>
              <a:gradFill rotWithShape="0">
                <a:gsLst>
                  <a:gs pos="0">
                    <a:srgbClr val="284b76"/>
                  </a:gs>
                  <a:gs pos="100000">
                    <a:srgbClr val="5989c3"/>
                  </a:gs>
                </a:gsLst>
                <a:lin ang="10800000"/>
              </a:gradFill>
              <a:ln w="0">
                <a:noFill/>
              </a:ln>
              <a:effectLst>
                <a:outerShdw dist="38183" dir="2700000" blurRad="0" rotWithShape="0">
                  <a:srgbClr val="000000">
                    <a:alpha val="13000"/>
                  </a:srgbClr>
                </a:outerShdw>
              </a:effectLst>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76" name="Freeform 6"/>
              <p:cNvSpPr/>
              <p:nvPr/>
            </p:nvSpPr>
            <p:spPr>
              <a:xfrm>
                <a:off x="1535040" y="1598760"/>
                <a:ext cx="1549440" cy="1549080"/>
              </a:xfrm>
              <a:custGeom>
                <a:avLst/>
                <a:gdLst>
                  <a:gd name="textAreaLeft" fmla="*/ 0 w 1549440"/>
                  <a:gd name="textAreaRight" fmla="*/ 1549800 w 1549440"/>
                  <a:gd name="textAreaTop" fmla="*/ 0 h 1549080"/>
                  <a:gd name="textAreaBottom" fmla="*/ 1549440 h 1549080"/>
                </a:gdLst>
                <a:ahLst/>
                <a:rect l="textAreaLeft" t="textAreaTop" r="textAreaRight" b="textAreaBottom"/>
                <a:pathLst>
                  <a:path w="5950" h="5950">
                    <a:moveTo>
                      <a:pt x="5904" y="2636"/>
                    </a:moveTo>
                    <a:lnTo>
                      <a:pt x="5904" y="2636"/>
                    </a:lnTo>
                    <a:lnTo>
                      <a:pt x="5912" y="2719"/>
                    </a:lnTo>
                    <a:lnTo>
                      <a:pt x="5919" y="2800"/>
                    </a:lnTo>
                    <a:lnTo>
                      <a:pt x="5930" y="2791"/>
                    </a:lnTo>
                    <a:lnTo>
                      <a:pt x="5938" y="2781"/>
                    </a:lnTo>
                    <a:lnTo>
                      <a:pt x="5945" y="2773"/>
                    </a:lnTo>
                    <a:lnTo>
                      <a:pt x="5948" y="2763"/>
                    </a:lnTo>
                    <a:lnTo>
                      <a:pt x="5950" y="2753"/>
                    </a:lnTo>
                    <a:lnTo>
                      <a:pt x="5950" y="2742"/>
                    </a:lnTo>
                    <a:lnTo>
                      <a:pt x="5948" y="2715"/>
                    </a:lnTo>
                    <a:lnTo>
                      <a:pt x="5945" y="2689"/>
                    </a:lnTo>
                    <a:lnTo>
                      <a:pt x="5943" y="2678"/>
                    </a:lnTo>
                    <a:lnTo>
                      <a:pt x="5940" y="2668"/>
                    </a:lnTo>
                    <a:lnTo>
                      <a:pt x="5935" y="2659"/>
                    </a:lnTo>
                    <a:lnTo>
                      <a:pt x="5927" y="2651"/>
                    </a:lnTo>
                    <a:lnTo>
                      <a:pt x="5917" y="2645"/>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212" y="132"/>
                    </a:lnTo>
                    <a:lnTo>
                      <a:pt x="2295" y="110"/>
                    </a:lnTo>
                    <a:lnTo>
                      <a:pt x="2282" y="99"/>
                    </a:lnTo>
                    <a:lnTo>
                      <a:pt x="2272" y="91"/>
                    </a:lnTo>
                    <a:lnTo>
                      <a:pt x="2260" y="86"/>
                    </a:lnTo>
                    <a:lnTo>
                      <a:pt x="2250" y="84"/>
                    </a:lnTo>
                    <a:lnTo>
                      <a:pt x="2240" y="84"/>
                    </a:lnTo>
                    <a:lnTo>
                      <a:pt x="2229" y="86"/>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88" y="1286"/>
                    </a:lnTo>
                    <a:lnTo>
                      <a:pt x="5436" y="1354"/>
                    </a:lnTo>
                    <a:lnTo>
                      <a:pt x="5441" y="1339"/>
                    </a:lnTo>
                    <a:lnTo>
                      <a:pt x="5444" y="1327"/>
                    </a:lnTo>
                    <a:lnTo>
                      <a:pt x="5445" y="1316"/>
                    </a:lnTo>
                    <a:lnTo>
                      <a:pt x="5444" y="1306"/>
                    </a:lnTo>
                    <a:lnTo>
                      <a:pt x="5441" y="1296"/>
                    </a:lnTo>
                    <a:lnTo>
                      <a:pt x="5436" y="1286"/>
                    </a:lnTo>
                    <a:lnTo>
                      <a:pt x="5419" y="1263"/>
                    </a:lnTo>
                    <a:close/>
                    <a:moveTo>
                      <a:pt x="5919" y="3151"/>
                    </a:moveTo>
                    <a:lnTo>
                      <a:pt x="5919" y="3151"/>
                    </a:lnTo>
                    <a:lnTo>
                      <a:pt x="5912" y="3233"/>
                    </a:lnTo>
                    <a:lnTo>
                      <a:pt x="5904" y="3314"/>
                    </a:lnTo>
                    <a:lnTo>
                      <a:pt x="5917" y="3307"/>
                    </a:lnTo>
                    <a:lnTo>
                      <a:pt x="5927" y="3299"/>
                    </a:lnTo>
                    <a:lnTo>
                      <a:pt x="5935" y="3291"/>
                    </a:lnTo>
                    <a:lnTo>
                      <a:pt x="5940" y="3283"/>
                    </a:lnTo>
                    <a:lnTo>
                      <a:pt x="5943" y="3273"/>
                    </a:lnTo>
                    <a:lnTo>
                      <a:pt x="5945" y="3263"/>
                    </a:lnTo>
                    <a:lnTo>
                      <a:pt x="5948" y="3237"/>
                    </a:lnTo>
                    <a:lnTo>
                      <a:pt x="5950" y="3208"/>
                    </a:lnTo>
                    <a:lnTo>
                      <a:pt x="5950" y="3199"/>
                    </a:lnTo>
                    <a:lnTo>
                      <a:pt x="5948" y="3187"/>
                    </a:lnTo>
                    <a:lnTo>
                      <a:pt x="5945" y="3179"/>
                    </a:lnTo>
                    <a:lnTo>
                      <a:pt x="5938" y="3169"/>
                    </a:lnTo>
                    <a:lnTo>
                      <a:pt x="5930" y="3161"/>
                    </a:lnTo>
                    <a:lnTo>
                      <a:pt x="5919" y="3151"/>
                    </a:lnTo>
                    <a:close/>
                    <a:moveTo>
                      <a:pt x="5800" y="2133"/>
                    </a:moveTo>
                    <a:lnTo>
                      <a:pt x="5800" y="2133"/>
                    </a:lnTo>
                    <a:lnTo>
                      <a:pt x="5821" y="2213"/>
                    </a:lnTo>
                    <a:lnTo>
                      <a:pt x="5843" y="2292"/>
                    </a:lnTo>
                    <a:lnTo>
                      <a:pt x="5853" y="2280"/>
                    </a:lnTo>
                    <a:lnTo>
                      <a:pt x="5859" y="2270"/>
                    </a:lnTo>
                    <a:lnTo>
                      <a:pt x="5864" y="2260"/>
                    </a:lnTo>
                    <a:lnTo>
                      <a:pt x="5866" y="2251"/>
                    </a:lnTo>
                    <a:lnTo>
                      <a:pt x="5866" y="2241"/>
                    </a:lnTo>
                    <a:lnTo>
                      <a:pt x="5864" y="2229"/>
                    </a:lnTo>
                    <a:lnTo>
                      <a:pt x="5858" y="2203"/>
                    </a:lnTo>
                    <a:lnTo>
                      <a:pt x="5851" y="2176"/>
                    </a:lnTo>
                    <a:lnTo>
                      <a:pt x="5846" y="2166"/>
                    </a:lnTo>
                    <a:lnTo>
                      <a:pt x="5841" y="2158"/>
                    </a:lnTo>
                    <a:lnTo>
                      <a:pt x="5835" y="2150"/>
                    </a:lnTo>
                    <a:lnTo>
                      <a:pt x="5826" y="2143"/>
                    </a:lnTo>
                    <a:lnTo>
                      <a:pt x="5815" y="2138"/>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718" y="41"/>
                    </a:lnTo>
                    <a:lnTo>
                      <a:pt x="2803" y="36"/>
                    </a:lnTo>
                    <a:lnTo>
                      <a:pt x="2791" y="21"/>
                    </a:lnTo>
                    <a:lnTo>
                      <a:pt x="2783" y="13"/>
                    </a:lnTo>
                    <a:lnTo>
                      <a:pt x="2773" y="7"/>
                    </a:lnTo>
                    <a:lnTo>
                      <a:pt x="2763" y="2"/>
                    </a:lnTo>
                    <a:lnTo>
                      <a:pt x="2753" y="0"/>
                    </a:lnTo>
                    <a:lnTo>
                      <a:pt x="2742" y="0"/>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664" y="562"/>
                    </a:lnTo>
                    <a:lnTo>
                      <a:pt x="4732" y="610"/>
                    </a:lnTo>
                    <a:lnTo>
                      <a:pt x="4733" y="595"/>
                    </a:lnTo>
                    <a:lnTo>
                      <a:pt x="4732" y="582"/>
                    </a:lnTo>
                    <a:lnTo>
                      <a:pt x="4728" y="570"/>
                    </a:lnTo>
                    <a:lnTo>
                      <a:pt x="4723" y="562"/>
                    </a:lnTo>
                    <a:lnTo>
                      <a:pt x="4717" y="554"/>
                    </a:lnTo>
                    <a:lnTo>
                      <a:pt x="4708" y="546"/>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5058" y="892"/>
                    </a:lnTo>
                    <a:lnTo>
                      <a:pt x="5116" y="951"/>
                    </a:lnTo>
                    <a:lnTo>
                      <a:pt x="5119" y="936"/>
                    </a:lnTo>
                    <a:lnTo>
                      <a:pt x="5121" y="923"/>
                    </a:lnTo>
                    <a:lnTo>
                      <a:pt x="5119" y="912"/>
                    </a:lnTo>
                    <a:lnTo>
                      <a:pt x="5116" y="902"/>
                    </a:lnTo>
                    <a:lnTo>
                      <a:pt x="5111" y="894"/>
                    </a:lnTo>
                    <a:lnTo>
                      <a:pt x="5104" y="884"/>
                    </a:lnTo>
                    <a:lnTo>
                      <a:pt x="5084" y="866"/>
                    </a:lnTo>
                    <a:close/>
                    <a:moveTo>
                      <a:pt x="5681" y="4148"/>
                    </a:moveTo>
                    <a:lnTo>
                      <a:pt x="5681" y="4148"/>
                    </a:lnTo>
                    <a:lnTo>
                      <a:pt x="5648" y="4222"/>
                    </a:lnTo>
                    <a:lnTo>
                      <a:pt x="5612" y="4295"/>
                    </a:lnTo>
                    <a:lnTo>
                      <a:pt x="5627" y="4293"/>
                    </a:lnTo>
                    <a:lnTo>
                      <a:pt x="5640" y="4290"/>
                    </a:lnTo>
                    <a:lnTo>
                      <a:pt x="5648" y="4285"/>
                    </a:lnTo>
                    <a:lnTo>
                      <a:pt x="5657" y="4279"/>
                    </a:lnTo>
                    <a:lnTo>
                      <a:pt x="5663" y="4270"/>
                    </a:lnTo>
                    <a:lnTo>
                      <a:pt x="5668" y="4260"/>
                    </a:lnTo>
                    <a:lnTo>
                      <a:pt x="5680" y="4237"/>
                    </a:lnTo>
                    <a:lnTo>
                      <a:pt x="5691" y="4213"/>
                    </a:lnTo>
                    <a:lnTo>
                      <a:pt x="5694" y="4203"/>
                    </a:lnTo>
                    <a:lnTo>
                      <a:pt x="5696" y="4193"/>
                    </a:lnTo>
                    <a:lnTo>
                      <a:pt x="5696" y="4183"/>
                    </a:lnTo>
                    <a:lnTo>
                      <a:pt x="5694" y="4171"/>
                    </a:lnTo>
                    <a:lnTo>
                      <a:pt x="5689" y="4160"/>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60" y="5668"/>
                    </a:lnTo>
                    <a:lnTo>
                      <a:pt x="4270" y="5663"/>
                    </a:lnTo>
                    <a:lnTo>
                      <a:pt x="4278" y="5657"/>
                    </a:lnTo>
                    <a:lnTo>
                      <a:pt x="4283" y="5650"/>
                    </a:lnTo>
                    <a:lnTo>
                      <a:pt x="4288" y="5640"/>
                    </a:lnTo>
                    <a:lnTo>
                      <a:pt x="4291" y="5629"/>
                    </a:lnTo>
                    <a:lnTo>
                      <a:pt x="4295" y="5614"/>
                    </a:lnTo>
                    <a:lnTo>
                      <a:pt x="4220" y="5649"/>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41" y="2719"/>
                    </a:lnTo>
                    <a:lnTo>
                      <a:pt x="49" y="2635"/>
                    </a:lnTo>
                    <a:lnTo>
                      <a:pt x="34" y="2643"/>
                    </a:lnTo>
                    <a:lnTo>
                      <a:pt x="23" y="2651"/>
                    </a:lnTo>
                    <a:lnTo>
                      <a:pt x="14" y="2658"/>
                    </a:lnTo>
                    <a:lnTo>
                      <a:pt x="10" y="2668"/>
                    </a:lnTo>
                    <a:lnTo>
                      <a:pt x="6" y="2678"/>
                    </a:lnTo>
                    <a:lnTo>
                      <a:pt x="3" y="2687"/>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731" y="307"/>
                    </a:lnTo>
                    <a:lnTo>
                      <a:pt x="1808" y="272"/>
                    </a:lnTo>
                    <a:lnTo>
                      <a:pt x="1793" y="264"/>
                    </a:lnTo>
                    <a:lnTo>
                      <a:pt x="1780" y="257"/>
                    </a:lnTo>
                    <a:lnTo>
                      <a:pt x="1770" y="254"/>
                    </a:lnTo>
                    <a:lnTo>
                      <a:pt x="1759" y="254"/>
                    </a:lnTo>
                    <a:lnTo>
                      <a:pt x="1749" y="256"/>
                    </a:lnTo>
                    <a:lnTo>
                      <a:pt x="1739" y="259"/>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34" y="4666"/>
                    </a:lnTo>
                    <a:lnTo>
                      <a:pt x="5441" y="4656"/>
                    </a:lnTo>
                    <a:lnTo>
                      <a:pt x="5444" y="4646"/>
                    </a:lnTo>
                    <a:lnTo>
                      <a:pt x="5445" y="4636"/>
                    </a:lnTo>
                    <a:lnTo>
                      <a:pt x="5445" y="4626"/>
                    </a:lnTo>
                    <a:lnTo>
                      <a:pt x="5442" y="4615"/>
                    </a:lnTo>
                    <a:lnTo>
                      <a:pt x="5437" y="4600"/>
                    </a:lnTo>
                    <a:lnTo>
                      <a:pt x="5391" y="4668"/>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104" y="5067"/>
                    </a:lnTo>
                    <a:lnTo>
                      <a:pt x="5111" y="5058"/>
                    </a:lnTo>
                    <a:lnTo>
                      <a:pt x="5116" y="5050"/>
                    </a:lnTo>
                    <a:lnTo>
                      <a:pt x="5119" y="5040"/>
                    </a:lnTo>
                    <a:lnTo>
                      <a:pt x="5121" y="5030"/>
                    </a:lnTo>
                    <a:lnTo>
                      <a:pt x="5121" y="5019"/>
                    </a:lnTo>
                    <a:lnTo>
                      <a:pt x="5117" y="5004"/>
                    </a:lnTo>
                    <a:lnTo>
                      <a:pt x="5060" y="5062"/>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39" y="3233"/>
                    </a:lnTo>
                    <a:lnTo>
                      <a:pt x="33" y="3149"/>
                    </a:lnTo>
                    <a:lnTo>
                      <a:pt x="21" y="3159"/>
                    </a:lnTo>
                    <a:lnTo>
                      <a:pt x="11" y="3169"/>
                    </a:lnTo>
                    <a:lnTo>
                      <a:pt x="5" y="3177"/>
                    </a:lnTo>
                    <a:lnTo>
                      <a:pt x="1" y="3187"/>
                    </a:lnTo>
                    <a:lnTo>
                      <a:pt x="0" y="3197"/>
                    </a:lnTo>
                    <a:lnTo>
                      <a:pt x="0" y="3208"/>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306" y="1731"/>
                    </a:lnTo>
                    <a:lnTo>
                      <a:pt x="343" y="1655"/>
                    </a:lnTo>
                    <a:lnTo>
                      <a:pt x="326" y="1657"/>
                    </a:lnTo>
                    <a:lnTo>
                      <a:pt x="313" y="1660"/>
                    </a:lnTo>
                    <a:lnTo>
                      <a:pt x="301" y="1665"/>
                    </a:lnTo>
                    <a:lnTo>
                      <a:pt x="293" y="1672"/>
                    </a:lnTo>
                    <a:lnTo>
                      <a:pt x="287" y="1680"/>
                    </a:lnTo>
                    <a:lnTo>
                      <a:pt x="282" y="1688"/>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62" y="1286"/>
                    </a:lnTo>
                    <a:lnTo>
                      <a:pt x="611" y="1218"/>
                    </a:lnTo>
                    <a:lnTo>
                      <a:pt x="595" y="1217"/>
                    </a:lnTo>
                    <a:lnTo>
                      <a:pt x="582" y="1218"/>
                    </a:lnTo>
                    <a:lnTo>
                      <a:pt x="570" y="1222"/>
                    </a:lnTo>
                    <a:lnTo>
                      <a:pt x="560" y="1225"/>
                    </a:lnTo>
                    <a:lnTo>
                      <a:pt x="554" y="1233"/>
                    </a:lnTo>
                    <a:lnTo>
                      <a:pt x="545" y="1242"/>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93" y="894"/>
                    </a:lnTo>
                    <a:lnTo>
                      <a:pt x="953" y="834"/>
                    </a:lnTo>
                    <a:lnTo>
                      <a:pt x="936" y="831"/>
                    </a:lnTo>
                    <a:lnTo>
                      <a:pt x="923" y="829"/>
                    </a:lnTo>
                    <a:lnTo>
                      <a:pt x="911" y="831"/>
                    </a:lnTo>
                    <a:lnTo>
                      <a:pt x="902" y="833"/>
                    </a:lnTo>
                    <a:lnTo>
                      <a:pt x="893" y="839"/>
                    </a:lnTo>
                    <a:lnTo>
                      <a:pt x="883" y="84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86" y="564"/>
                    </a:lnTo>
                    <a:lnTo>
                      <a:pt x="1357" y="516"/>
                    </a:lnTo>
                    <a:lnTo>
                      <a:pt x="1340" y="509"/>
                    </a:lnTo>
                    <a:lnTo>
                      <a:pt x="1327" y="506"/>
                    </a:lnTo>
                    <a:lnTo>
                      <a:pt x="1315" y="505"/>
                    </a:lnTo>
                    <a:lnTo>
                      <a:pt x="1305" y="506"/>
                    </a:lnTo>
                    <a:lnTo>
                      <a:pt x="1296" y="509"/>
                    </a:lnTo>
                    <a:lnTo>
                      <a:pt x="1286" y="514"/>
                    </a:lnTo>
                    <a:lnTo>
                      <a:pt x="1263" y="531"/>
                    </a:lnTo>
                    <a:close/>
                    <a:moveTo>
                      <a:pt x="5609" y="1655"/>
                    </a:moveTo>
                    <a:lnTo>
                      <a:pt x="5609" y="1655"/>
                    </a:lnTo>
                    <a:lnTo>
                      <a:pt x="5645" y="1730"/>
                    </a:lnTo>
                    <a:lnTo>
                      <a:pt x="5680" y="1805"/>
                    </a:lnTo>
                    <a:lnTo>
                      <a:pt x="5688" y="1792"/>
                    </a:lnTo>
                    <a:lnTo>
                      <a:pt x="5693" y="1781"/>
                    </a:lnTo>
                    <a:lnTo>
                      <a:pt x="5696" y="1769"/>
                    </a:lnTo>
                    <a:lnTo>
                      <a:pt x="5696" y="1759"/>
                    </a:lnTo>
                    <a:lnTo>
                      <a:pt x="5694" y="1749"/>
                    </a:lnTo>
                    <a:lnTo>
                      <a:pt x="5691" y="1739"/>
                    </a:lnTo>
                    <a:lnTo>
                      <a:pt x="5680" y="1715"/>
                    </a:lnTo>
                    <a:lnTo>
                      <a:pt x="5668" y="1690"/>
                    </a:lnTo>
                    <a:lnTo>
                      <a:pt x="5661" y="1680"/>
                    </a:lnTo>
                    <a:lnTo>
                      <a:pt x="5655" y="1672"/>
                    </a:lnTo>
                    <a:lnTo>
                      <a:pt x="5648" y="1665"/>
                    </a:lnTo>
                    <a:lnTo>
                      <a:pt x="5638" y="1660"/>
                    </a:lnTo>
                    <a:lnTo>
                      <a:pt x="5625" y="1657"/>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737" y="5825"/>
                    </a:lnTo>
                    <a:lnTo>
                      <a:pt x="3660" y="5845"/>
                    </a:lnTo>
                    <a:lnTo>
                      <a:pt x="3671" y="5855"/>
                    </a:lnTo>
                    <a:lnTo>
                      <a:pt x="3681" y="5861"/>
                    </a:lnTo>
                    <a:lnTo>
                      <a:pt x="3691" y="5866"/>
                    </a:lnTo>
                    <a:lnTo>
                      <a:pt x="3701" y="5868"/>
                    </a:lnTo>
                    <a:lnTo>
                      <a:pt x="3711" y="5868"/>
                    </a:lnTo>
                    <a:lnTo>
                      <a:pt x="3721" y="5865"/>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23" y="3741"/>
                    </a:lnTo>
                    <a:lnTo>
                      <a:pt x="5800" y="3817"/>
                    </a:lnTo>
                    <a:lnTo>
                      <a:pt x="5815" y="3814"/>
                    </a:lnTo>
                    <a:lnTo>
                      <a:pt x="5826" y="3807"/>
                    </a:lnTo>
                    <a:lnTo>
                      <a:pt x="5835" y="3800"/>
                    </a:lnTo>
                    <a:lnTo>
                      <a:pt x="5841" y="3794"/>
                    </a:lnTo>
                    <a:lnTo>
                      <a:pt x="5846" y="3784"/>
                    </a:lnTo>
                    <a:lnTo>
                      <a:pt x="5851" y="3774"/>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739" y="132"/>
                    </a:lnTo>
                    <a:lnTo>
                      <a:pt x="3818" y="153"/>
                    </a:lnTo>
                    <a:lnTo>
                      <a:pt x="3813" y="138"/>
                    </a:lnTo>
                    <a:lnTo>
                      <a:pt x="3807" y="125"/>
                    </a:lnTo>
                    <a:lnTo>
                      <a:pt x="3802" y="115"/>
                    </a:lnTo>
                    <a:lnTo>
                      <a:pt x="3793" y="109"/>
                    </a:lnTo>
                    <a:lnTo>
                      <a:pt x="3784" y="104"/>
                    </a:lnTo>
                    <a:lnTo>
                      <a:pt x="3774" y="101"/>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29" y="5865"/>
                    </a:lnTo>
                    <a:lnTo>
                      <a:pt x="2239" y="5868"/>
                    </a:lnTo>
                    <a:lnTo>
                      <a:pt x="2249" y="5868"/>
                    </a:lnTo>
                    <a:lnTo>
                      <a:pt x="2258" y="5866"/>
                    </a:lnTo>
                    <a:lnTo>
                      <a:pt x="2268" y="5861"/>
                    </a:lnTo>
                    <a:lnTo>
                      <a:pt x="2280" y="5855"/>
                    </a:lnTo>
                    <a:lnTo>
                      <a:pt x="2291" y="5845"/>
                    </a:lnTo>
                    <a:lnTo>
                      <a:pt x="2214" y="5825"/>
                    </a:lnTo>
                    <a:lnTo>
                      <a:pt x="2133" y="5802"/>
                    </a:lnTo>
                    <a:close/>
                    <a:moveTo>
                      <a:pt x="130" y="2216"/>
                    </a:moveTo>
                    <a:lnTo>
                      <a:pt x="130" y="2216"/>
                    </a:lnTo>
                    <a:lnTo>
                      <a:pt x="153" y="2132"/>
                    </a:lnTo>
                    <a:lnTo>
                      <a:pt x="136" y="2137"/>
                    </a:lnTo>
                    <a:lnTo>
                      <a:pt x="125" y="2143"/>
                    </a:lnTo>
                    <a:lnTo>
                      <a:pt x="115" y="2148"/>
                    </a:lnTo>
                    <a:lnTo>
                      <a:pt x="108" y="2157"/>
                    </a:lnTo>
                    <a:lnTo>
                      <a:pt x="104" y="2166"/>
                    </a:lnTo>
                    <a:lnTo>
                      <a:pt x="99" y="2176"/>
                    </a:lnTo>
                    <a:lnTo>
                      <a:pt x="92" y="2203"/>
                    </a:lnTo>
                    <a:lnTo>
                      <a:pt x="84" y="2229"/>
                    </a:lnTo>
                    <a:lnTo>
                      <a:pt x="82" y="2241"/>
                    </a:lnTo>
                    <a:lnTo>
                      <a:pt x="82" y="2252"/>
                    </a:lnTo>
                    <a:lnTo>
                      <a:pt x="85" y="2262"/>
                    </a:lnTo>
                    <a:lnTo>
                      <a:pt x="90" y="2272"/>
                    </a:lnTo>
                    <a:lnTo>
                      <a:pt x="99" y="2284"/>
                    </a:lnTo>
                    <a:lnTo>
                      <a:pt x="110" y="2295"/>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708" y="5405"/>
                    </a:lnTo>
                    <a:lnTo>
                      <a:pt x="4717" y="5398"/>
                    </a:lnTo>
                    <a:lnTo>
                      <a:pt x="4723" y="5390"/>
                    </a:lnTo>
                    <a:lnTo>
                      <a:pt x="4728" y="5382"/>
                    </a:lnTo>
                    <a:lnTo>
                      <a:pt x="4732" y="5372"/>
                    </a:lnTo>
                    <a:lnTo>
                      <a:pt x="4733" y="5358"/>
                    </a:lnTo>
                    <a:lnTo>
                      <a:pt x="4733" y="5344"/>
                    </a:lnTo>
                    <a:lnTo>
                      <a:pt x="4666" y="5391"/>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05" y="4221"/>
                    </a:lnTo>
                    <a:lnTo>
                      <a:pt x="270" y="4145"/>
                    </a:lnTo>
                    <a:lnTo>
                      <a:pt x="262" y="4158"/>
                    </a:lnTo>
                    <a:lnTo>
                      <a:pt x="255" y="4170"/>
                    </a:lnTo>
                    <a:lnTo>
                      <a:pt x="254" y="4181"/>
                    </a:lnTo>
                    <a:lnTo>
                      <a:pt x="252" y="4191"/>
                    </a:lnTo>
                    <a:lnTo>
                      <a:pt x="254" y="4201"/>
                    </a:lnTo>
                    <a:lnTo>
                      <a:pt x="259" y="4213"/>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28" y="3738"/>
                    </a:lnTo>
                    <a:lnTo>
                      <a:pt x="108" y="3657"/>
                    </a:lnTo>
                    <a:lnTo>
                      <a:pt x="97" y="3670"/>
                    </a:lnTo>
                    <a:lnTo>
                      <a:pt x="89" y="3680"/>
                    </a:lnTo>
                    <a:lnTo>
                      <a:pt x="85" y="3690"/>
                    </a:lnTo>
                    <a:lnTo>
                      <a:pt x="82" y="3700"/>
                    </a:lnTo>
                    <a:lnTo>
                      <a:pt x="82" y="3710"/>
                    </a:lnTo>
                    <a:lnTo>
                      <a:pt x="84" y="3721"/>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890" y="5060"/>
                    </a:lnTo>
                    <a:lnTo>
                      <a:pt x="832" y="5001"/>
                    </a:lnTo>
                    <a:lnTo>
                      <a:pt x="829" y="5016"/>
                    </a:lnTo>
                    <a:lnTo>
                      <a:pt x="829" y="5029"/>
                    </a:lnTo>
                    <a:lnTo>
                      <a:pt x="829" y="5040"/>
                    </a:lnTo>
                    <a:lnTo>
                      <a:pt x="832" y="5050"/>
                    </a:lnTo>
                    <a:lnTo>
                      <a:pt x="837" y="5058"/>
                    </a:lnTo>
                    <a:lnTo>
                      <a:pt x="845" y="5067"/>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282" y="5391"/>
                    </a:lnTo>
                    <a:lnTo>
                      <a:pt x="1216" y="5344"/>
                    </a:lnTo>
                    <a:lnTo>
                      <a:pt x="1216" y="5358"/>
                    </a:lnTo>
                    <a:lnTo>
                      <a:pt x="1218" y="5372"/>
                    </a:lnTo>
                    <a:lnTo>
                      <a:pt x="1221" y="5382"/>
                    </a:lnTo>
                    <a:lnTo>
                      <a:pt x="1226" y="5390"/>
                    </a:lnTo>
                    <a:lnTo>
                      <a:pt x="1233" y="5398"/>
                    </a:lnTo>
                    <a:lnTo>
                      <a:pt x="1241" y="5405"/>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728" y="5649"/>
                    </a:lnTo>
                    <a:lnTo>
                      <a:pt x="1655" y="5612"/>
                    </a:lnTo>
                    <a:lnTo>
                      <a:pt x="1657" y="5627"/>
                    </a:lnTo>
                    <a:lnTo>
                      <a:pt x="1660" y="5640"/>
                    </a:lnTo>
                    <a:lnTo>
                      <a:pt x="1665" y="5650"/>
                    </a:lnTo>
                    <a:lnTo>
                      <a:pt x="1671" y="5657"/>
                    </a:lnTo>
                    <a:lnTo>
                      <a:pt x="1680" y="5663"/>
                    </a:lnTo>
                    <a:lnTo>
                      <a:pt x="1688" y="5668"/>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560" y="4666"/>
                    </a:lnTo>
                    <a:lnTo>
                      <a:pt x="514" y="4597"/>
                    </a:lnTo>
                    <a:lnTo>
                      <a:pt x="507" y="4612"/>
                    </a:lnTo>
                    <a:lnTo>
                      <a:pt x="504" y="4625"/>
                    </a:lnTo>
                    <a:lnTo>
                      <a:pt x="504" y="4636"/>
                    </a:lnTo>
                    <a:lnTo>
                      <a:pt x="506" y="4646"/>
                    </a:lnTo>
                    <a:lnTo>
                      <a:pt x="509" y="4656"/>
                    </a:lnTo>
                    <a:lnTo>
                      <a:pt x="514" y="4664"/>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231" y="5914"/>
                    </a:lnTo>
                    <a:lnTo>
                      <a:pt x="3150" y="5921"/>
                    </a:lnTo>
                    <a:lnTo>
                      <a:pt x="3160" y="5932"/>
                    </a:lnTo>
                    <a:lnTo>
                      <a:pt x="3169" y="5940"/>
                    </a:lnTo>
                    <a:lnTo>
                      <a:pt x="3178" y="5945"/>
                    </a:lnTo>
                    <a:lnTo>
                      <a:pt x="3187" y="5949"/>
                    </a:lnTo>
                    <a:lnTo>
                      <a:pt x="3197" y="5950"/>
                    </a:lnTo>
                    <a:lnTo>
                      <a:pt x="3208" y="5950"/>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231" y="41"/>
                    </a:lnTo>
                    <a:lnTo>
                      <a:pt x="3315" y="51"/>
                    </a:lnTo>
                    <a:lnTo>
                      <a:pt x="3307" y="36"/>
                    </a:lnTo>
                    <a:lnTo>
                      <a:pt x="3300" y="25"/>
                    </a:lnTo>
                    <a:lnTo>
                      <a:pt x="3292" y="16"/>
                    </a:lnTo>
                    <a:lnTo>
                      <a:pt x="3282" y="10"/>
                    </a:lnTo>
                    <a:lnTo>
                      <a:pt x="3274" y="7"/>
                    </a:lnTo>
                    <a:lnTo>
                      <a:pt x="3263" y="5"/>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219" y="307"/>
                    </a:lnTo>
                    <a:lnTo>
                      <a:pt x="4295" y="343"/>
                    </a:lnTo>
                    <a:lnTo>
                      <a:pt x="4293" y="326"/>
                    </a:lnTo>
                    <a:lnTo>
                      <a:pt x="4290" y="313"/>
                    </a:lnTo>
                    <a:lnTo>
                      <a:pt x="4285" y="303"/>
                    </a:lnTo>
                    <a:lnTo>
                      <a:pt x="4278" y="295"/>
                    </a:lnTo>
                    <a:lnTo>
                      <a:pt x="4270" y="289"/>
                    </a:lnTo>
                    <a:lnTo>
                      <a:pt x="4260" y="282"/>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17" y="5914"/>
                    </a:lnTo>
                    <a:lnTo>
                      <a:pt x="2636" y="5906"/>
                    </a:lnTo>
                    <a:lnTo>
                      <a:pt x="2644" y="5919"/>
                    </a:lnTo>
                    <a:lnTo>
                      <a:pt x="2651" y="5929"/>
                    </a:lnTo>
                    <a:lnTo>
                      <a:pt x="2659" y="5936"/>
                    </a:lnTo>
                    <a:lnTo>
                      <a:pt x="2667" y="5940"/>
                    </a:lnTo>
                    <a:lnTo>
                      <a:pt x="2677" y="5944"/>
                    </a:lnTo>
                    <a:lnTo>
                      <a:pt x="2687" y="5947"/>
                    </a:lnTo>
                    <a:lnTo>
                      <a:pt x="2715" y="5949"/>
                    </a:lnTo>
                    <a:close/>
                  </a:path>
                </a:pathLst>
              </a:custGeom>
              <a:gradFill rotWithShape="0">
                <a:gsLst>
                  <a:gs pos="0">
                    <a:srgbClr val="193360"/>
                  </a:gs>
                  <a:gs pos="100000">
                    <a:srgbClr val="afcafd"/>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77" name="Freeform 5"/>
              <p:cNvSpPr/>
              <p:nvPr/>
            </p:nvSpPr>
            <p:spPr>
              <a:xfrm>
                <a:off x="1662480" y="1726200"/>
                <a:ext cx="1294200" cy="1294200"/>
              </a:xfrm>
              <a:custGeom>
                <a:avLst/>
                <a:gdLst>
                  <a:gd name="textAreaLeft" fmla="*/ 0 w 1294200"/>
                  <a:gd name="textAreaRight" fmla="*/ 1294560 w 1294200"/>
                  <a:gd name="textAreaTop" fmla="*/ 0 h 1294200"/>
                  <a:gd name="textAreaBottom" fmla="*/ 1294560 h 129420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close/>
                  </a:path>
                </a:pathLst>
              </a:custGeom>
              <a:gradFill rotWithShape="0">
                <a:gsLst>
                  <a:gs pos="0">
                    <a:srgbClr val="83a7d3"/>
                  </a:gs>
                  <a:gs pos="100000">
                    <a:srgbClr val="182e48"/>
                  </a:gs>
                </a:gsLst>
                <a:lin ang="228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78" name="Freeform 9"/>
              <p:cNvSpPr/>
              <p:nvPr/>
            </p:nvSpPr>
            <p:spPr>
              <a:xfrm flipV="1" rot="10800000">
                <a:off x="2164320" y="2227320"/>
                <a:ext cx="289800" cy="289800"/>
              </a:xfrm>
              <a:custGeom>
                <a:avLst/>
                <a:gdLst>
                  <a:gd name="textAreaLeft" fmla="*/ 0 w 289800"/>
                  <a:gd name="textAreaRight" fmla="*/ 290160 w 289800"/>
                  <a:gd name="textAreaTop" fmla="*/ -360 h 289800"/>
                  <a:gd name="textAreaBottom" fmla="*/ 289800 h 28980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close/>
                  </a:path>
                </a:pathLst>
              </a:custGeom>
              <a:gradFill rotWithShape="0">
                <a:gsLst>
                  <a:gs pos="0">
                    <a:srgbClr val="83a7d3"/>
                  </a:gs>
                  <a:gs pos="100000">
                    <a:srgbClr val="182e48"/>
                  </a:gs>
                </a:gsLst>
                <a:lin ang="1344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79" name="TextBox 117" descr=""/>
            <p:cNvPicPr/>
            <p:nvPr/>
          </p:nvPicPr>
          <p:blipFill>
            <a:blip r:embed="rId5"/>
            <a:stretch/>
          </p:blipFill>
          <p:spPr>
            <a:xfrm>
              <a:off x="1779840" y="1749600"/>
              <a:ext cx="1067040" cy="1115280"/>
            </a:xfrm>
            <a:prstGeom prst="rect">
              <a:avLst/>
            </a:prstGeom>
            <a:ln w="0">
              <a:noFill/>
            </a:ln>
          </p:spPr>
        </p:pic>
        <p:pic>
          <p:nvPicPr>
            <p:cNvPr id="80" name="Rectangle 70" descr=""/>
            <p:cNvPicPr/>
            <p:nvPr/>
          </p:nvPicPr>
          <p:blipFill>
            <a:blip r:embed="rId6"/>
            <a:stretch/>
          </p:blipFill>
          <p:spPr>
            <a:xfrm>
              <a:off x="1657800" y="2438280"/>
              <a:ext cx="1280160" cy="475200"/>
            </a:xfrm>
            <a:prstGeom prst="rect">
              <a:avLst/>
            </a:prstGeom>
            <a:ln w="0">
              <a:noFill/>
            </a:ln>
          </p:spPr>
        </p:pic>
      </p:grpSp>
      <p:grpSp>
        <p:nvGrpSpPr>
          <p:cNvPr id="81" name="Group 28"/>
          <p:cNvGrpSpPr/>
          <p:nvPr/>
        </p:nvGrpSpPr>
        <p:grpSpPr>
          <a:xfrm>
            <a:off x="446040" y="2583000"/>
            <a:ext cx="1549440" cy="1547640"/>
            <a:chOff x="446040" y="2583000"/>
            <a:chExt cx="1549440" cy="1547640"/>
          </a:xfrm>
        </p:grpSpPr>
        <p:grpSp>
          <p:nvGrpSpPr>
            <p:cNvPr id="82" name="Group 29"/>
            <p:cNvGrpSpPr/>
            <p:nvPr/>
          </p:nvGrpSpPr>
          <p:grpSpPr>
            <a:xfrm>
              <a:off x="446040" y="2583000"/>
              <a:ext cx="1549440" cy="1547640"/>
              <a:chOff x="446040" y="2583000"/>
              <a:chExt cx="1549440" cy="1547640"/>
            </a:xfrm>
          </p:grpSpPr>
          <p:sp>
            <p:nvSpPr>
              <p:cNvPr id="83" name="Freeform 5"/>
              <p:cNvSpPr/>
              <p:nvPr/>
            </p:nvSpPr>
            <p:spPr>
              <a:xfrm>
                <a:off x="446040" y="2583000"/>
                <a:ext cx="1549440" cy="1547640"/>
              </a:xfrm>
              <a:custGeom>
                <a:avLst/>
                <a:gdLst/>
                <a:ahLst/>
                <a:rect l="l" t="t" r="r" b="b"/>
                <a:pathLst>
                  <a:path w="5950" h="5950">
                    <a:moveTo>
                      <a:pt x="5840" y="3106"/>
                    </a:moveTo>
                    <a:lnTo>
                      <a:pt x="5840" y="3106"/>
                    </a:lnTo>
                    <a:lnTo>
                      <a:pt x="5808" y="3091"/>
                    </a:lnTo>
                    <a:lnTo>
                      <a:pt x="5780" y="3078"/>
                    </a:lnTo>
                    <a:lnTo>
                      <a:pt x="5727" y="3058"/>
                    </a:lnTo>
                    <a:lnTo>
                      <a:pt x="5685" y="3044"/>
                    </a:lnTo>
                    <a:lnTo>
                      <a:pt x="5650" y="3034"/>
                    </a:lnTo>
                    <a:lnTo>
                      <a:pt x="5650" y="2976"/>
                    </a:lnTo>
                    <a:lnTo>
                      <a:pt x="5650" y="2917"/>
                    </a:lnTo>
                    <a:lnTo>
                      <a:pt x="5685" y="2908"/>
                    </a:lnTo>
                    <a:lnTo>
                      <a:pt x="5727" y="2894"/>
                    </a:lnTo>
                    <a:lnTo>
                      <a:pt x="5780" y="2872"/>
                    </a:lnTo>
                    <a:lnTo>
                      <a:pt x="5808" y="2859"/>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785" y="2597"/>
                    </a:lnTo>
                    <a:lnTo>
                      <a:pt x="5755" y="2590"/>
                    </a:lnTo>
                    <a:lnTo>
                      <a:pt x="5699" y="2579"/>
                    </a:lnTo>
                    <a:lnTo>
                      <a:pt x="5655" y="2572"/>
                    </a:lnTo>
                    <a:lnTo>
                      <a:pt x="5619" y="2569"/>
                    </a:lnTo>
                    <a:lnTo>
                      <a:pt x="5609" y="2511"/>
                    </a:lnTo>
                    <a:lnTo>
                      <a:pt x="5599" y="2453"/>
                    </a:lnTo>
                    <a:lnTo>
                      <a:pt x="5630" y="2439"/>
                    </a:lnTo>
                    <a:lnTo>
                      <a:pt x="5671" y="2417"/>
                    </a:lnTo>
                    <a:lnTo>
                      <a:pt x="5719" y="2387"/>
                    </a:lnTo>
                    <a:lnTo>
                      <a:pt x="5746" y="236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676" y="2115"/>
                    </a:lnTo>
                    <a:lnTo>
                      <a:pt x="5645" y="2112"/>
                    </a:lnTo>
                    <a:lnTo>
                      <a:pt x="5589" y="2110"/>
                    </a:lnTo>
                    <a:lnTo>
                      <a:pt x="5543" y="2112"/>
                    </a:lnTo>
                    <a:lnTo>
                      <a:pt x="5508" y="2115"/>
                    </a:lnTo>
                    <a:lnTo>
                      <a:pt x="5488" y="2061"/>
                    </a:lnTo>
                    <a:lnTo>
                      <a:pt x="5467" y="2007"/>
                    </a:lnTo>
                    <a:lnTo>
                      <a:pt x="5497" y="1987"/>
                    </a:lnTo>
                    <a:lnTo>
                      <a:pt x="5533" y="1957"/>
                    </a:lnTo>
                    <a:lnTo>
                      <a:pt x="5574" y="1921"/>
                    </a:lnTo>
                    <a:lnTo>
                      <a:pt x="5597" y="1898"/>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487" y="1659"/>
                    </a:lnTo>
                    <a:lnTo>
                      <a:pt x="5454" y="1662"/>
                    </a:lnTo>
                    <a:lnTo>
                      <a:pt x="5398" y="1670"/>
                    </a:lnTo>
                    <a:lnTo>
                      <a:pt x="5353" y="1680"/>
                    </a:lnTo>
                    <a:lnTo>
                      <a:pt x="5319" y="1690"/>
                    </a:lnTo>
                    <a:lnTo>
                      <a:pt x="5290" y="1639"/>
                    </a:lnTo>
                    <a:lnTo>
                      <a:pt x="5261" y="1589"/>
                    </a:lnTo>
                    <a:lnTo>
                      <a:pt x="5286" y="1563"/>
                    </a:lnTo>
                    <a:lnTo>
                      <a:pt x="5317" y="1530"/>
                    </a:lnTo>
                    <a:lnTo>
                      <a:pt x="5352" y="1486"/>
                    </a:lnTo>
                    <a:lnTo>
                      <a:pt x="5371" y="145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20" y="1243"/>
                    </a:lnTo>
                    <a:lnTo>
                      <a:pt x="5188" y="1251"/>
                    </a:lnTo>
                    <a:lnTo>
                      <a:pt x="5134" y="1270"/>
                    </a:lnTo>
                    <a:lnTo>
                      <a:pt x="5091" y="1286"/>
                    </a:lnTo>
                    <a:lnTo>
                      <a:pt x="5060" y="1303"/>
                    </a:lnTo>
                    <a:lnTo>
                      <a:pt x="5022" y="1256"/>
                    </a:lnTo>
                    <a:lnTo>
                      <a:pt x="4985" y="1213"/>
                    </a:lnTo>
                    <a:lnTo>
                      <a:pt x="5005" y="1184"/>
                    </a:lnTo>
                    <a:lnTo>
                      <a:pt x="5030" y="1144"/>
                    </a:lnTo>
                    <a:lnTo>
                      <a:pt x="5056" y="1095"/>
                    </a:lnTo>
                    <a:lnTo>
                      <a:pt x="5071" y="1065"/>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885" y="879"/>
                    </a:lnTo>
                    <a:lnTo>
                      <a:pt x="4855" y="894"/>
                    </a:lnTo>
                    <a:lnTo>
                      <a:pt x="4806" y="920"/>
                    </a:lnTo>
                    <a:lnTo>
                      <a:pt x="4766" y="945"/>
                    </a:lnTo>
                    <a:lnTo>
                      <a:pt x="4737" y="965"/>
                    </a:lnTo>
                    <a:lnTo>
                      <a:pt x="4694" y="928"/>
                    </a:lnTo>
                    <a:lnTo>
                      <a:pt x="4647" y="890"/>
                    </a:lnTo>
                    <a:lnTo>
                      <a:pt x="4664" y="859"/>
                    </a:lnTo>
                    <a:lnTo>
                      <a:pt x="4680" y="816"/>
                    </a:lnTo>
                    <a:lnTo>
                      <a:pt x="4699" y="762"/>
                    </a:lnTo>
                    <a:lnTo>
                      <a:pt x="4707" y="730"/>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491" y="579"/>
                    </a:lnTo>
                    <a:lnTo>
                      <a:pt x="4464" y="598"/>
                    </a:lnTo>
                    <a:lnTo>
                      <a:pt x="4420" y="633"/>
                    </a:lnTo>
                    <a:lnTo>
                      <a:pt x="4385" y="664"/>
                    </a:lnTo>
                    <a:lnTo>
                      <a:pt x="4361" y="691"/>
                    </a:lnTo>
                    <a:lnTo>
                      <a:pt x="4311" y="661"/>
                    </a:lnTo>
                    <a:lnTo>
                      <a:pt x="4260" y="633"/>
                    </a:lnTo>
                    <a:lnTo>
                      <a:pt x="4270" y="598"/>
                    </a:lnTo>
                    <a:lnTo>
                      <a:pt x="4280" y="552"/>
                    </a:lnTo>
                    <a:lnTo>
                      <a:pt x="4288" y="496"/>
                    </a:lnTo>
                    <a:lnTo>
                      <a:pt x="4291" y="463"/>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52" y="353"/>
                    </a:lnTo>
                    <a:lnTo>
                      <a:pt x="4029" y="376"/>
                    </a:lnTo>
                    <a:lnTo>
                      <a:pt x="3991" y="419"/>
                    </a:lnTo>
                    <a:lnTo>
                      <a:pt x="3963" y="455"/>
                    </a:lnTo>
                    <a:lnTo>
                      <a:pt x="3942" y="485"/>
                    </a:lnTo>
                    <a:lnTo>
                      <a:pt x="3889" y="465"/>
                    </a:lnTo>
                    <a:lnTo>
                      <a:pt x="3835" y="445"/>
                    </a:lnTo>
                    <a:lnTo>
                      <a:pt x="3838" y="411"/>
                    </a:lnTo>
                    <a:lnTo>
                      <a:pt x="3840" y="364"/>
                    </a:lnTo>
                    <a:lnTo>
                      <a:pt x="3838" y="307"/>
                    </a:lnTo>
                    <a:lnTo>
                      <a:pt x="3835" y="274"/>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581" y="206"/>
                    </a:lnTo>
                    <a:lnTo>
                      <a:pt x="3561" y="232"/>
                    </a:lnTo>
                    <a:lnTo>
                      <a:pt x="3531" y="282"/>
                    </a:lnTo>
                    <a:lnTo>
                      <a:pt x="3510" y="323"/>
                    </a:lnTo>
                    <a:lnTo>
                      <a:pt x="3495" y="354"/>
                    </a:lnTo>
                    <a:lnTo>
                      <a:pt x="3439" y="345"/>
                    </a:lnTo>
                    <a:lnTo>
                      <a:pt x="3381" y="335"/>
                    </a:lnTo>
                    <a:lnTo>
                      <a:pt x="3380" y="300"/>
                    </a:lnTo>
                    <a:lnTo>
                      <a:pt x="3373" y="254"/>
                    </a:lnTo>
                    <a:lnTo>
                      <a:pt x="3361" y="198"/>
                    </a:lnTo>
                    <a:lnTo>
                      <a:pt x="3353" y="165"/>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089" y="142"/>
                    </a:lnTo>
                    <a:lnTo>
                      <a:pt x="3076" y="171"/>
                    </a:lnTo>
                    <a:lnTo>
                      <a:pt x="3055" y="226"/>
                    </a:lnTo>
                    <a:lnTo>
                      <a:pt x="3042" y="270"/>
                    </a:lnTo>
                    <a:lnTo>
                      <a:pt x="3032" y="305"/>
                    </a:lnTo>
                    <a:lnTo>
                      <a:pt x="2974" y="303"/>
                    </a:lnTo>
                    <a:lnTo>
                      <a:pt x="2916" y="305"/>
                    </a:lnTo>
                    <a:lnTo>
                      <a:pt x="2908" y="270"/>
                    </a:lnTo>
                    <a:lnTo>
                      <a:pt x="2893" y="226"/>
                    </a:lnTo>
                    <a:lnTo>
                      <a:pt x="2872" y="171"/>
                    </a:lnTo>
                    <a:lnTo>
                      <a:pt x="2859" y="142"/>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596" y="165"/>
                    </a:lnTo>
                    <a:lnTo>
                      <a:pt x="2588" y="198"/>
                    </a:lnTo>
                    <a:lnTo>
                      <a:pt x="2577" y="254"/>
                    </a:lnTo>
                    <a:lnTo>
                      <a:pt x="2570" y="300"/>
                    </a:lnTo>
                    <a:lnTo>
                      <a:pt x="2567" y="335"/>
                    </a:lnTo>
                    <a:lnTo>
                      <a:pt x="2511" y="345"/>
                    </a:lnTo>
                    <a:lnTo>
                      <a:pt x="2455" y="354"/>
                    </a:lnTo>
                    <a:lnTo>
                      <a:pt x="2440" y="323"/>
                    </a:lnTo>
                    <a:lnTo>
                      <a:pt x="2417" y="282"/>
                    </a:lnTo>
                    <a:lnTo>
                      <a:pt x="2387" y="232"/>
                    </a:lnTo>
                    <a:lnTo>
                      <a:pt x="2369" y="20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3" y="274"/>
                    </a:lnTo>
                    <a:lnTo>
                      <a:pt x="2112" y="307"/>
                    </a:lnTo>
                    <a:lnTo>
                      <a:pt x="2110" y="364"/>
                    </a:lnTo>
                    <a:lnTo>
                      <a:pt x="2112" y="411"/>
                    </a:lnTo>
                    <a:lnTo>
                      <a:pt x="2115" y="447"/>
                    </a:lnTo>
                    <a:lnTo>
                      <a:pt x="2061" y="465"/>
                    </a:lnTo>
                    <a:lnTo>
                      <a:pt x="2008" y="486"/>
                    </a:lnTo>
                    <a:lnTo>
                      <a:pt x="1986" y="457"/>
                    </a:lnTo>
                    <a:lnTo>
                      <a:pt x="1958" y="419"/>
                    </a:lnTo>
                    <a:lnTo>
                      <a:pt x="1920" y="376"/>
                    </a:lnTo>
                    <a:lnTo>
                      <a:pt x="1897" y="353"/>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8" y="465"/>
                    </a:lnTo>
                    <a:lnTo>
                      <a:pt x="1662" y="498"/>
                    </a:lnTo>
                    <a:lnTo>
                      <a:pt x="1670" y="554"/>
                    </a:lnTo>
                    <a:lnTo>
                      <a:pt x="1680" y="600"/>
                    </a:lnTo>
                    <a:lnTo>
                      <a:pt x="1690" y="635"/>
                    </a:lnTo>
                    <a:lnTo>
                      <a:pt x="1639" y="663"/>
                    </a:lnTo>
                    <a:lnTo>
                      <a:pt x="1591" y="692"/>
                    </a:lnTo>
                    <a:lnTo>
                      <a:pt x="1564" y="666"/>
                    </a:lnTo>
                    <a:lnTo>
                      <a:pt x="1530" y="635"/>
                    </a:lnTo>
                    <a:lnTo>
                      <a:pt x="1485" y="598"/>
                    </a:lnTo>
                    <a:lnTo>
                      <a:pt x="1459" y="580"/>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41" y="732"/>
                    </a:lnTo>
                    <a:lnTo>
                      <a:pt x="1251" y="763"/>
                    </a:lnTo>
                    <a:lnTo>
                      <a:pt x="1269" y="818"/>
                    </a:lnTo>
                    <a:lnTo>
                      <a:pt x="1287" y="861"/>
                    </a:lnTo>
                    <a:lnTo>
                      <a:pt x="1302" y="894"/>
                    </a:lnTo>
                    <a:lnTo>
                      <a:pt x="1258" y="930"/>
                    </a:lnTo>
                    <a:lnTo>
                      <a:pt x="1213" y="966"/>
                    </a:lnTo>
                    <a:lnTo>
                      <a:pt x="1185" y="946"/>
                    </a:lnTo>
                    <a:lnTo>
                      <a:pt x="1146" y="922"/>
                    </a:lnTo>
                    <a:lnTo>
                      <a:pt x="1094" y="894"/>
                    </a:lnTo>
                    <a:lnTo>
                      <a:pt x="1065" y="879"/>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78" y="1067"/>
                    </a:lnTo>
                    <a:lnTo>
                      <a:pt x="893" y="1095"/>
                    </a:lnTo>
                    <a:lnTo>
                      <a:pt x="920" y="1146"/>
                    </a:lnTo>
                    <a:lnTo>
                      <a:pt x="944" y="1185"/>
                    </a:lnTo>
                    <a:lnTo>
                      <a:pt x="966" y="1215"/>
                    </a:lnTo>
                    <a:lnTo>
                      <a:pt x="928" y="1258"/>
                    </a:lnTo>
                    <a:lnTo>
                      <a:pt x="892" y="1303"/>
                    </a:lnTo>
                    <a:lnTo>
                      <a:pt x="859" y="1288"/>
                    </a:lnTo>
                    <a:lnTo>
                      <a:pt x="816" y="1270"/>
                    </a:lnTo>
                    <a:lnTo>
                      <a:pt x="761" y="1251"/>
                    </a:lnTo>
                    <a:lnTo>
                      <a:pt x="730" y="1243"/>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78" y="1459"/>
                    </a:lnTo>
                    <a:lnTo>
                      <a:pt x="598" y="1486"/>
                    </a:lnTo>
                    <a:lnTo>
                      <a:pt x="633" y="1530"/>
                    </a:lnTo>
                    <a:lnTo>
                      <a:pt x="664" y="1565"/>
                    </a:lnTo>
                    <a:lnTo>
                      <a:pt x="690" y="1589"/>
                    </a:lnTo>
                    <a:lnTo>
                      <a:pt x="661" y="1639"/>
                    </a:lnTo>
                    <a:lnTo>
                      <a:pt x="633" y="1690"/>
                    </a:lnTo>
                    <a:lnTo>
                      <a:pt x="598" y="1680"/>
                    </a:lnTo>
                    <a:lnTo>
                      <a:pt x="552" y="1670"/>
                    </a:lnTo>
                    <a:lnTo>
                      <a:pt x="496" y="1662"/>
                    </a:lnTo>
                    <a:lnTo>
                      <a:pt x="463" y="1659"/>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51" y="1898"/>
                    </a:lnTo>
                    <a:lnTo>
                      <a:pt x="376" y="1921"/>
                    </a:lnTo>
                    <a:lnTo>
                      <a:pt x="418" y="1959"/>
                    </a:lnTo>
                    <a:lnTo>
                      <a:pt x="455" y="1987"/>
                    </a:lnTo>
                    <a:lnTo>
                      <a:pt x="484" y="2008"/>
                    </a:lnTo>
                    <a:lnTo>
                      <a:pt x="465" y="2061"/>
                    </a:lnTo>
                    <a:lnTo>
                      <a:pt x="445" y="2115"/>
                    </a:lnTo>
                    <a:lnTo>
                      <a:pt x="410" y="2112"/>
                    </a:lnTo>
                    <a:lnTo>
                      <a:pt x="362" y="2110"/>
                    </a:lnTo>
                    <a:lnTo>
                      <a:pt x="306" y="2112"/>
                    </a:lnTo>
                    <a:lnTo>
                      <a:pt x="273" y="2115"/>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204" y="2369"/>
                    </a:lnTo>
                    <a:lnTo>
                      <a:pt x="232" y="2389"/>
                    </a:lnTo>
                    <a:lnTo>
                      <a:pt x="280" y="2419"/>
                    </a:lnTo>
                    <a:lnTo>
                      <a:pt x="321" y="2440"/>
                    </a:lnTo>
                    <a:lnTo>
                      <a:pt x="354" y="2455"/>
                    </a:lnTo>
                    <a:lnTo>
                      <a:pt x="343" y="2511"/>
                    </a:lnTo>
                    <a:lnTo>
                      <a:pt x="333" y="2569"/>
                    </a:lnTo>
                    <a:lnTo>
                      <a:pt x="298" y="2572"/>
                    </a:lnTo>
                    <a:lnTo>
                      <a:pt x="252" y="2579"/>
                    </a:lnTo>
                    <a:lnTo>
                      <a:pt x="196" y="2589"/>
                    </a:lnTo>
                    <a:lnTo>
                      <a:pt x="165" y="259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41" y="2861"/>
                    </a:lnTo>
                    <a:lnTo>
                      <a:pt x="171" y="2874"/>
                    </a:lnTo>
                    <a:lnTo>
                      <a:pt x="224" y="2894"/>
                    </a:lnTo>
                    <a:lnTo>
                      <a:pt x="268" y="2908"/>
                    </a:lnTo>
                    <a:lnTo>
                      <a:pt x="303" y="2918"/>
                    </a:lnTo>
                    <a:lnTo>
                      <a:pt x="301" y="2976"/>
                    </a:lnTo>
                    <a:lnTo>
                      <a:pt x="303" y="3034"/>
                    </a:lnTo>
                    <a:lnTo>
                      <a:pt x="268" y="3042"/>
                    </a:lnTo>
                    <a:lnTo>
                      <a:pt x="224" y="3057"/>
                    </a:lnTo>
                    <a:lnTo>
                      <a:pt x="171" y="3078"/>
                    </a:lnTo>
                    <a:lnTo>
                      <a:pt x="141" y="3091"/>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65" y="3354"/>
                    </a:lnTo>
                    <a:lnTo>
                      <a:pt x="196" y="3362"/>
                    </a:lnTo>
                    <a:lnTo>
                      <a:pt x="250" y="3373"/>
                    </a:lnTo>
                    <a:lnTo>
                      <a:pt x="296" y="3380"/>
                    </a:lnTo>
                    <a:lnTo>
                      <a:pt x="333" y="3383"/>
                    </a:lnTo>
                    <a:lnTo>
                      <a:pt x="343" y="3439"/>
                    </a:lnTo>
                    <a:lnTo>
                      <a:pt x="352" y="3497"/>
                    </a:lnTo>
                    <a:lnTo>
                      <a:pt x="320" y="3512"/>
                    </a:lnTo>
                    <a:lnTo>
                      <a:pt x="280" y="3533"/>
                    </a:lnTo>
                    <a:lnTo>
                      <a:pt x="230" y="3563"/>
                    </a:lnTo>
                    <a:lnTo>
                      <a:pt x="204" y="3581"/>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72" y="3837"/>
                    </a:lnTo>
                    <a:lnTo>
                      <a:pt x="305" y="3838"/>
                    </a:lnTo>
                    <a:lnTo>
                      <a:pt x="361" y="3840"/>
                    </a:lnTo>
                    <a:lnTo>
                      <a:pt x="407" y="3838"/>
                    </a:lnTo>
                    <a:lnTo>
                      <a:pt x="443" y="3835"/>
                    </a:lnTo>
                    <a:lnTo>
                      <a:pt x="463" y="3889"/>
                    </a:lnTo>
                    <a:lnTo>
                      <a:pt x="483" y="3944"/>
                    </a:lnTo>
                    <a:lnTo>
                      <a:pt x="453" y="3965"/>
                    </a:lnTo>
                    <a:lnTo>
                      <a:pt x="417" y="3993"/>
                    </a:lnTo>
                    <a:lnTo>
                      <a:pt x="374" y="4031"/>
                    </a:lnTo>
                    <a:lnTo>
                      <a:pt x="351" y="4053"/>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63" y="4292"/>
                    </a:lnTo>
                    <a:lnTo>
                      <a:pt x="494" y="4288"/>
                    </a:lnTo>
                    <a:lnTo>
                      <a:pt x="550" y="4280"/>
                    </a:lnTo>
                    <a:lnTo>
                      <a:pt x="596" y="4272"/>
                    </a:lnTo>
                    <a:lnTo>
                      <a:pt x="631" y="4262"/>
                    </a:lnTo>
                    <a:lnTo>
                      <a:pt x="659" y="4311"/>
                    </a:lnTo>
                    <a:lnTo>
                      <a:pt x="689" y="4363"/>
                    </a:lnTo>
                    <a:lnTo>
                      <a:pt x="664" y="4387"/>
                    </a:lnTo>
                    <a:lnTo>
                      <a:pt x="633" y="4422"/>
                    </a:lnTo>
                    <a:lnTo>
                      <a:pt x="596" y="4466"/>
                    </a:lnTo>
                    <a:lnTo>
                      <a:pt x="578" y="4493"/>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730" y="4709"/>
                    </a:lnTo>
                    <a:lnTo>
                      <a:pt x="760" y="4699"/>
                    </a:lnTo>
                    <a:lnTo>
                      <a:pt x="814" y="4682"/>
                    </a:lnTo>
                    <a:lnTo>
                      <a:pt x="857" y="4664"/>
                    </a:lnTo>
                    <a:lnTo>
                      <a:pt x="888" y="4649"/>
                    </a:lnTo>
                    <a:lnTo>
                      <a:pt x="926" y="4694"/>
                    </a:lnTo>
                    <a:lnTo>
                      <a:pt x="964" y="4739"/>
                    </a:lnTo>
                    <a:lnTo>
                      <a:pt x="943" y="4768"/>
                    </a:lnTo>
                    <a:lnTo>
                      <a:pt x="918" y="4808"/>
                    </a:lnTo>
                    <a:lnTo>
                      <a:pt x="892" y="4857"/>
                    </a:lnTo>
                    <a:lnTo>
                      <a:pt x="878" y="4885"/>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65" y="5072"/>
                    </a:lnTo>
                    <a:lnTo>
                      <a:pt x="1093" y="5058"/>
                    </a:lnTo>
                    <a:lnTo>
                      <a:pt x="1142" y="5032"/>
                    </a:lnTo>
                    <a:lnTo>
                      <a:pt x="1182" y="5007"/>
                    </a:lnTo>
                    <a:lnTo>
                      <a:pt x="1211" y="4987"/>
                    </a:lnTo>
                    <a:lnTo>
                      <a:pt x="1254" y="5025"/>
                    </a:lnTo>
                    <a:lnTo>
                      <a:pt x="1301" y="5062"/>
                    </a:lnTo>
                    <a:lnTo>
                      <a:pt x="1286" y="5095"/>
                    </a:lnTo>
                    <a:lnTo>
                      <a:pt x="1268" y="5138"/>
                    </a:lnTo>
                    <a:lnTo>
                      <a:pt x="1249" y="5190"/>
                    </a:lnTo>
                    <a:lnTo>
                      <a:pt x="1241" y="5222"/>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57" y="5372"/>
                    </a:lnTo>
                    <a:lnTo>
                      <a:pt x="1484" y="5354"/>
                    </a:lnTo>
                    <a:lnTo>
                      <a:pt x="1526" y="5319"/>
                    </a:lnTo>
                    <a:lnTo>
                      <a:pt x="1561" y="5288"/>
                    </a:lnTo>
                    <a:lnTo>
                      <a:pt x="1586" y="5263"/>
                    </a:lnTo>
                    <a:lnTo>
                      <a:pt x="1637" y="5292"/>
                    </a:lnTo>
                    <a:lnTo>
                      <a:pt x="1688" y="5322"/>
                    </a:lnTo>
                    <a:lnTo>
                      <a:pt x="1678" y="5355"/>
                    </a:lnTo>
                    <a:lnTo>
                      <a:pt x="1670" y="5401"/>
                    </a:lnTo>
                    <a:lnTo>
                      <a:pt x="1662" y="5456"/>
                    </a:lnTo>
                    <a:lnTo>
                      <a:pt x="1658" y="5487"/>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96" y="5599"/>
                    </a:lnTo>
                    <a:lnTo>
                      <a:pt x="1919" y="5576"/>
                    </a:lnTo>
                    <a:lnTo>
                      <a:pt x="1955" y="5535"/>
                    </a:lnTo>
                    <a:lnTo>
                      <a:pt x="1985" y="5499"/>
                    </a:lnTo>
                    <a:lnTo>
                      <a:pt x="2005" y="5469"/>
                    </a:lnTo>
                    <a:lnTo>
                      <a:pt x="2059" y="5490"/>
                    </a:lnTo>
                    <a:lnTo>
                      <a:pt x="2115" y="5508"/>
                    </a:lnTo>
                    <a:lnTo>
                      <a:pt x="2112" y="5545"/>
                    </a:lnTo>
                    <a:lnTo>
                      <a:pt x="2110" y="5591"/>
                    </a:lnTo>
                    <a:lnTo>
                      <a:pt x="2112" y="5647"/>
                    </a:lnTo>
                    <a:lnTo>
                      <a:pt x="2113" y="5678"/>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69" y="5746"/>
                    </a:lnTo>
                    <a:lnTo>
                      <a:pt x="2385" y="5720"/>
                    </a:lnTo>
                    <a:lnTo>
                      <a:pt x="2415" y="5673"/>
                    </a:lnTo>
                    <a:lnTo>
                      <a:pt x="2437" y="5632"/>
                    </a:lnTo>
                    <a:lnTo>
                      <a:pt x="2453" y="5599"/>
                    </a:lnTo>
                    <a:lnTo>
                      <a:pt x="2511" y="5611"/>
                    </a:lnTo>
                    <a:lnTo>
                      <a:pt x="2568" y="5621"/>
                    </a:lnTo>
                    <a:lnTo>
                      <a:pt x="2570" y="5657"/>
                    </a:lnTo>
                    <a:lnTo>
                      <a:pt x="2577" y="5701"/>
                    </a:lnTo>
                    <a:lnTo>
                      <a:pt x="2588" y="5756"/>
                    </a:lnTo>
                    <a:lnTo>
                      <a:pt x="2596" y="5787"/>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59" y="5810"/>
                    </a:lnTo>
                    <a:lnTo>
                      <a:pt x="2872" y="5781"/>
                    </a:lnTo>
                    <a:lnTo>
                      <a:pt x="2892" y="5729"/>
                    </a:lnTo>
                    <a:lnTo>
                      <a:pt x="2906" y="5687"/>
                    </a:lnTo>
                    <a:lnTo>
                      <a:pt x="2916" y="5652"/>
                    </a:lnTo>
                    <a:lnTo>
                      <a:pt x="2974" y="5652"/>
                    </a:lnTo>
                    <a:lnTo>
                      <a:pt x="3033" y="5652"/>
                    </a:lnTo>
                    <a:lnTo>
                      <a:pt x="3043" y="5687"/>
                    </a:lnTo>
                    <a:lnTo>
                      <a:pt x="3056" y="5729"/>
                    </a:lnTo>
                    <a:lnTo>
                      <a:pt x="3078" y="5781"/>
                    </a:lnTo>
                    <a:lnTo>
                      <a:pt x="3091" y="581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53" y="5787"/>
                    </a:lnTo>
                    <a:lnTo>
                      <a:pt x="3360" y="5756"/>
                    </a:lnTo>
                    <a:lnTo>
                      <a:pt x="3371" y="5701"/>
                    </a:lnTo>
                    <a:lnTo>
                      <a:pt x="3378" y="5657"/>
                    </a:lnTo>
                    <a:lnTo>
                      <a:pt x="3381" y="5621"/>
                    </a:lnTo>
                    <a:lnTo>
                      <a:pt x="3439" y="5612"/>
                    </a:lnTo>
                    <a:lnTo>
                      <a:pt x="3497" y="5601"/>
                    </a:lnTo>
                    <a:lnTo>
                      <a:pt x="3511" y="5634"/>
                    </a:lnTo>
                    <a:lnTo>
                      <a:pt x="3535" y="5673"/>
                    </a:lnTo>
                    <a:lnTo>
                      <a:pt x="3563" y="5721"/>
                    </a:lnTo>
                    <a:lnTo>
                      <a:pt x="3581" y="5748"/>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5" y="5678"/>
                    </a:lnTo>
                    <a:lnTo>
                      <a:pt x="3838" y="5647"/>
                    </a:lnTo>
                    <a:lnTo>
                      <a:pt x="3840" y="5593"/>
                    </a:lnTo>
                    <a:lnTo>
                      <a:pt x="3838" y="5546"/>
                    </a:lnTo>
                    <a:lnTo>
                      <a:pt x="3835" y="5510"/>
                    </a:lnTo>
                    <a:lnTo>
                      <a:pt x="3891" y="5490"/>
                    </a:lnTo>
                    <a:lnTo>
                      <a:pt x="3945" y="5471"/>
                    </a:lnTo>
                    <a:lnTo>
                      <a:pt x="3965" y="5499"/>
                    </a:lnTo>
                    <a:lnTo>
                      <a:pt x="3995" y="5535"/>
                    </a:lnTo>
                    <a:lnTo>
                      <a:pt x="4031" y="5576"/>
                    </a:lnTo>
                    <a:lnTo>
                      <a:pt x="4052" y="5599"/>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1" y="5489"/>
                    </a:lnTo>
                    <a:lnTo>
                      <a:pt x="4288" y="5457"/>
                    </a:lnTo>
                    <a:lnTo>
                      <a:pt x="4280" y="5401"/>
                    </a:lnTo>
                    <a:lnTo>
                      <a:pt x="4272" y="5357"/>
                    </a:lnTo>
                    <a:lnTo>
                      <a:pt x="4262" y="5322"/>
                    </a:lnTo>
                    <a:lnTo>
                      <a:pt x="4313" y="5292"/>
                    </a:lnTo>
                    <a:lnTo>
                      <a:pt x="4364" y="5263"/>
                    </a:lnTo>
                    <a:lnTo>
                      <a:pt x="4389" y="5289"/>
                    </a:lnTo>
                    <a:lnTo>
                      <a:pt x="4423" y="5319"/>
                    </a:lnTo>
                    <a:lnTo>
                      <a:pt x="4466" y="5354"/>
                    </a:lnTo>
                    <a:lnTo>
                      <a:pt x="4493" y="5372"/>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07" y="5222"/>
                    </a:lnTo>
                    <a:lnTo>
                      <a:pt x="4699" y="5190"/>
                    </a:lnTo>
                    <a:lnTo>
                      <a:pt x="4682" y="5138"/>
                    </a:lnTo>
                    <a:lnTo>
                      <a:pt x="4664" y="5096"/>
                    </a:lnTo>
                    <a:lnTo>
                      <a:pt x="4649" y="5063"/>
                    </a:lnTo>
                    <a:lnTo>
                      <a:pt x="4695" y="5025"/>
                    </a:lnTo>
                    <a:lnTo>
                      <a:pt x="4740" y="4987"/>
                    </a:lnTo>
                    <a:lnTo>
                      <a:pt x="4769" y="5009"/>
                    </a:lnTo>
                    <a:lnTo>
                      <a:pt x="4807" y="5032"/>
                    </a:lnTo>
                    <a:lnTo>
                      <a:pt x="4857" y="5058"/>
                    </a:lnTo>
                    <a:lnTo>
                      <a:pt x="4885" y="5072"/>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71" y="4887"/>
                    </a:lnTo>
                    <a:lnTo>
                      <a:pt x="5058" y="4857"/>
                    </a:lnTo>
                    <a:lnTo>
                      <a:pt x="5032" y="4809"/>
                    </a:lnTo>
                    <a:lnTo>
                      <a:pt x="5007" y="4770"/>
                    </a:lnTo>
                    <a:lnTo>
                      <a:pt x="4987" y="4740"/>
                    </a:lnTo>
                    <a:lnTo>
                      <a:pt x="5025" y="4696"/>
                    </a:lnTo>
                    <a:lnTo>
                      <a:pt x="5063" y="4651"/>
                    </a:lnTo>
                    <a:lnTo>
                      <a:pt x="5094" y="4666"/>
                    </a:lnTo>
                    <a:lnTo>
                      <a:pt x="5137" y="4682"/>
                    </a:lnTo>
                    <a:lnTo>
                      <a:pt x="5190" y="4701"/>
                    </a:lnTo>
                    <a:lnTo>
                      <a:pt x="5220" y="4709"/>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71" y="4493"/>
                    </a:lnTo>
                    <a:lnTo>
                      <a:pt x="5353" y="4468"/>
                    </a:lnTo>
                    <a:lnTo>
                      <a:pt x="5319" y="4424"/>
                    </a:lnTo>
                    <a:lnTo>
                      <a:pt x="5287" y="4389"/>
                    </a:lnTo>
                    <a:lnTo>
                      <a:pt x="5262" y="4364"/>
                    </a:lnTo>
                    <a:lnTo>
                      <a:pt x="5292" y="4313"/>
                    </a:lnTo>
                    <a:lnTo>
                      <a:pt x="5322" y="4262"/>
                    </a:lnTo>
                    <a:lnTo>
                      <a:pt x="5356" y="4272"/>
                    </a:lnTo>
                    <a:lnTo>
                      <a:pt x="5401" y="4282"/>
                    </a:lnTo>
                    <a:lnTo>
                      <a:pt x="5455" y="4288"/>
                    </a:lnTo>
                    <a:lnTo>
                      <a:pt x="5487" y="4292"/>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599" y="4054"/>
                    </a:lnTo>
                    <a:lnTo>
                      <a:pt x="5576" y="4031"/>
                    </a:lnTo>
                    <a:lnTo>
                      <a:pt x="5535" y="3995"/>
                    </a:lnTo>
                    <a:lnTo>
                      <a:pt x="5498" y="3967"/>
                    </a:lnTo>
                    <a:lnTo>
                      <a:pt x="5469" y="3945"/>
                    </a:lnTo>
                    <a:lnTo>
                      <a:pt x="5488" y="3891"/>
                    </a:lnTo>
                    <a:lnTo>
                      <a:pt x="5508" y="3835"/>
                    </a:lnTo>
                    <a:lnTo>
                      <a:pt x="5544" y="3838"/>
                    </a:lnTo>
                    <a:lnTo>
                      <a:pt x="5591" y="3840"/>
                    </a:lnTo>
                    <a:lnTo>
                      <a:pt x="5645" y="3838"/>
                    </a:lnTo>
                    <a:lnTo>
                      <a:pt x="5678" y="3837"/>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46" y="3581"/>
                    </a:lnTo>
                    <a:lnTo>
                      <a:pt x="5719" y="3565"/>
                    </a:lnTo>
                    <a:lnTo>
                      <a:pt x="5671" y="3535"/>
                    </a:lnTo>
                    <a:lnTo>
                      <a:pt x="5630" y="3512"/>
                    </a:lnTo>
                    <a:lnTo>
                      <a:pt x="5599" y="3497"/>
                    </a:lnTo>
                    <a:lnTo>
                      <a:pt x="5609" y="3439"/>
                    </a:lnTo>
                    <a:lnTo>
                      <a:pt x="5619" y="3383"/>
                    </a:lnTo>
                    <a:lnTo>
                      <a:pt x="5655" y="3380"/>
                    </a:lnTo>
                    <a:lnTo>
                      <a:pt x="5699" y="3373"/>
                    </a:lnTo>
                    <a:lnTo>
                      <a:pt x="5755" y="3362"/>
                    </a:lnTo>
                    <a:lnTo>
                      <a:pt x="5785" y="335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close/>
                  </a:path>
                </a:pathLst>
              </a:custGeom>
              <a:gradFill rotWithShape="0">
                <a:gsLst>
                  <a:gs pos="0">
                    <a:srgbClr val="284b76"/>
                  </a:gs>
                  <a:gs pos="100000">
                    <a:srgbClr val="5989c3"/>
                  </a:gs>
                </a:gsLst>
                <a:lin ang="10800000"/>
              </a:gradFill>
              <a:ln w="0">
                <a:noFill/>
              </a:ln>
              <a:effectLst>
                <a:outerShdw dist="38183" dir="2700000" blurRad="0" rotWithShape="0">
                  <a:srgbClr val="000000">
                    <a:alpha val="13000"/>
                  </a:srgbClr>
                </a:outerShdw>
              </a:effectLst>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84" name="Freeform 6"/>
              <p:cNvSpPr/>
              <p:nvPr/>
            </p:nvSpPr>
            <p:spPr>
              <a:xfrm>
                <a:off x="446040" y="2583000"/>
                <a:ext cx="1549440" cy="1547640"/>
              </a:xfrm>
              <a:custGeom>
                <a:avLst/>
                <a:gdLst>
                  <a:gd name="textAreaLeft" fmla="*/ 0 w 1549440"/>
                  <a:gd name="textAreaRight" fmla="*/ 1549800 w 1549440"/>
                  <a:gd name="textAreaTop" fmla="*/ 0 h 1547640"/>
                  <a:gd name="textAreaBottom" fmla="*/ 1548000 h 1547640"/>
                </a:gdLst>
                <a:ahLst/>
                <a:rect l="textAreaLeft" t="textAreaTop" r="textAreaRight" b="textAreaBottom"/>
                <a:pathLst>
                  <a:path w="5950" h="5950">
                    <a:moveTo>
                      <a:pt x="5904" y="2636"/>
                    </a:moveTo>
                    <a:lnTo>
                      <a:pt x="5904" y="2636"/>
                    </a:lnTo>
                    <a:lnTo>
                      <a:pt x="5912" y="2719"/>
                    </a:lnTo>
                    <a:lnTo>
                      <a:pt x="5919" y="2800"/>
                    </a:lnTo>
                    <a:lnTo>
                      <a:pt x="5930" y="2791"/>
                    </a:lnTo>
                    <a:lnTo>
                      <a:pt x="5938" y="2781"/>
                    </a:lnTo>
                    <a:lnTo>
                      <a:pt x="5945" y="2773"/>
                    </a:lnTo>
                    <a:lnTo>
                      <a:pt x="5948" y="2763"/>
                    </a:lnTo>
                    <a:lnTo>
                      <a:pt x="5950" y="2753"/>
                    </a:lnTo>
                    <a:lnTo>
                      <a:pt x="5950" y="2742"/>
                    </a:lnTo>
                    <a:lnTo>
                      <a:pt x="5948" y="2715"/>
                    </a:lnTo>
                    <a:lnTo>
                      <a:pt x="5945" y="2689"/>
                    </a:lnTo>
                    <a:lnTo>
                      <a:pt x="5943" y="2678"/>
                    </a:lnTo>
                    <a:lnTo>
                      <a:pt x="5940" y="2668"/>
                    </a:lnTo>
                    <a:lnTo>
                      <a:pt x="5935" y="2659"/>
                    </a:lnTo>
                    <a:lnTo>
                      <a:pt x="5927" y="2651"/>
                    </a:lnTo>
                    <a:lnTo>
                      <a:pt x="5917" y="2645"/>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212" y="132"/>
                    </a:lnTo>
                    <a:lnTo>
                      <a:pt x="2295" y="110"/>
                    </a:lnTo>
                    <a:lnTo>
                      <a:pt x="2282" y="99"/>
                    </a:lnTo>
                    <a:lnTo>
                      <a:pt x="2272" y="91"/>
                    </a:lnTo>
                    <a:lnTo>
                      <a:pt x="2260" y="86"/>
                    </a:lnTo>
                    <a:lnTo>
                      <a:pt x="2250" y="84"/>
                    </a:lnTo>
                    <a:lnTo>
                      <a:pt x="2240" y="84"/>
                    </a:lnTo>
                    <a:lnTo>
                      <a:pt x="2229" y="86"/>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88" y="1286"/>
                    </a:lnTo>
                    <a:lnTo>
                      <a:pt x="5436" y="1354"/>
                    </a:lnTo>
                    <a:lnTo>
                      <a:pt x="5441" y="1339"/>
                    </a:lnTo>
                    <a:lnTo>
                      <a:pt x="5444" y="1327"/>
                    </a:lnTo>
                    <a:lnTo>
                      <a:pt x="5445" y="1316"/>
                    </a:lnTo>
                    <a:lnTo>
                      <a:pt x="5444" y="1306"/>
                    </a:lnTo>
                    <a:lnTo>
                      <a:pt x="5441" y="1296"/>
                    </a:lnTo>
                    <a:lnTo>
                      <a:pt x="5436" y="1286"/>
                    </a:lnTo>
                    <a:lnTo>
                      <a:pt x="5419" y="1263"/>
                    </a:lnTo>
                    <a:close/>
                    <a:moveTo>
                      <a:pt x="5919" y="3151"/>
                    </a:moveTo>
                    <a:lnTo>
                      <a:pt x="5919" y="3151"/>
                    </a:lnTo>
                    <a:lnTo>
                      <a:pt x="5912" y="3233"/>
                    </a:lnTo>
                    <a:lnTo>
                      <a:pt x="5904" y="3314"/>
                    </a:lnTo>
                    <a:lnTo>
                      <a:pt x="5917" y="3307"/>
                    </a:lnTo>
                    <a:lnTo>
                      <a:pt x="5927" y="3299"/>
                    </a:lnTo>
                    <a:lnTo>
                      <a:pt x="5935" y="3291"/>
                    </a:lnTo>
                    <a:lnTo>
                      <a:pt x="5940" y="3283"/>
                    </a:lnTo>
                    <a:lnTo>
                      <a:pt x="5943" y="3273"/>
                    </a:lnTo>
                    <a:lnTo>
                      <a:pt x="5945" y="3263"/>
                    </a:lnTo>
                    <a:lnTo>
                      <a:pt x="5948" y="3237"/>
                    </a:lnTo>
                    <a:lnTo>
                      <a:pt x="5950" y="3208"/>
                    </a:lnTo>
                    <a:lnTo>
                      <a:pt x="5950" y="3199"/>
                    </a:lnTo>
                    <a:lnTo>
                      <a:pt x="5948" y="3187"/>
                    </a:lnTo>
                    <a:lnTo>
                      <a:pt x="5945" y="3179"/>
                    </a:lnTo>
                    <a:lnTo>
                      <a:pt x="5938" y="3169"/>
                    </a:lnTo>
                    <a:lnTo>
                      <a:pt x="5930" y="3161"/>
                    </a:lnTo>
                    <a:lnTo>
                      <a:pt x="5919" y="3151"/>
                    </a:lnTo>
                    <a:close/>
                    <a:moveTo>
                      <a:pt x="5800" y="2133"/>
                    </a:moveTo>
                    <a:lnTo>
                      <a:pt x="5800" y="2133"/>
                    </a:lnTo>
                    <a:lnTo>
                      <a:pt x="5821" y="2213"/>
                    </a:lnTo>
                    <a:lnTo>
                      <a:pt x="5843" y="2292"/>
                    </a:lnTo>
                    <a:lnTo>
                      <a:pt x="5853" y="2280"/>
                    </a:lnTo>
                    <a:lnTo>
                      <a:pt x="5859" y="2270"/>
                    </a:lnTo>
                    <a:lnTo>
                      <a:pt x="5864" y="2260"/>
                    </a:lnTo>
                    <a:lnTo>
                      <a:pt x="5866" y="2251"/>
                    </a:lnTo>
                    <a:lnTo>
                      <a:pt x="5866" y="2241"/>
                    </a:lnTo>
                    <a:lnTo>
                      <a:pt x="5864" y="2229"/>
                    </a:lnTo>
                    <a:lnTo>
                      <a:pt x="5858" y="2203"/>
                    </a:lnTo>
                    <a:lnTo>
                      <a:pt x="5851" y="2176"/>
                    </a:lnTo>
                    <a:lnTo>
                      <a:pt x="5846" y="2166"/>
                    </a:lnTo>
                    <a:lnTo>
                      <a:pt x="5841" y="2158"/>
                    </a:lnTo>
                    <a:lnTo>
                      <a:pt x="5835" y="2150"/>
                    </a:lnTo>
                    <a:lnTo>
                      <a:pt x="5826" y="2143"/>
                    </a:lnTo>
                    <a:lnTo>
                      <a:pt x="5815" y="2138"/>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718" y="41"/>
                    </a:lnTo>
                    <a:lnTo>
                      <a:pt x="2803" y="36"/>
                    </a:lnTo>
                    <a:lnTo>
                      <a:pt x="2791" y="21"/>
                    </a:lnTo>
                    <a:lnTo>
                      <a:pt x="2783" y="13"/>
                    </a:lnTo>
                    <a:lnTo>
                      <a:pt x="2773" y="7"/>
                    </a:lnTo>
                    <a:lnTo>
                      <a:pt x="2763" y="2"/>
                    </a:lnTo>
                    <a:lnTo>
                      <a:pt x="2753" y="0"/>
                    </a:lnTo>
                    <a:lnTo>
                      <a:pt x="2742" y="0"/>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664" y="562"/>
                    </a:lnTo>
                    <a:lnTo>
                      <a:pt x="4732" y="610"/>
                    </a:lnTo>
                    <a:lnTo>
                      <a:pt x="4733" y="595"/>
                    </a:lnTo>
                    <a:lnTo>
                      <a:pt x="4732" y="582"/>
                    </a:lnTo>
                    <a:lnTo>
                      <a:pt x="4728" y="570"/>
                    </a:lnTo>
                    <a:lnTo>
                      <a:pt x="4723" y="562"/>
                    </a:lnTo>
                    <a:lnTo>
                      <a:pt x="4717" y="554"/>
                    </a:lnTo>
                    <a:lnTo>
                      <a:pt x="4708" y="546"/>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5058" y="892"/>
                    </a:lnTo>
                    <a:lnTo>
                      <a:pt x="5116" y="951"/>
                    </a:lnTo>
                    <a:lnTo>
                      <a:pt x="5119" y="936"/>
                    </a:lnTo>
                    <a:lnTo>
                      <a:pt x="5121" y="923"/>
                    </a:lnTo>
                    <a:lnTo>
                      <a:pt x="5119" y="912"/>
                    </a:lnTo>
                    <a:lnTo>
                      <a:pt x="5116" y="902"/>
                    </a:lnTo>
                    <a:lnTo>
                      <a:pt x="5111" y="894"/>
                    </a:lnTo>
                    <a:lnTo>
                      <a:pt x="5104" y="884"/>
                    </a:lnTo>
                    <a:lnTo>
                      <a:pt x="5084" y="866"/>
                    </a:lnTo>
                    <a:close/>
                    <a:moveTo>
                      <a:pt x="5681" y="4148"/>
                    </a:moveTo>
                    <a:lnTo>
                      <a:pt x="5681" y="4148"/>
                    </a:lnTo>
                    <a:lnTo>
                      <a:pt x="5648" y="4222"/>
                    </a:lnTo>
                    <a:lnTo>
                      <a:pt x="5612" y="4295"/>
                    </a:lnTo>
                    <a:lnTo>
                      <a:pt x="5627" y="4293"/>
                    </a:lnTo>
                    <a:lnTo>
                      <a:pt x="5640" y="4290"/>
                    </a:lnTo>
                    <a:lnTo>
                      <a:pt x="5648" y="4285"/>
                    </a:lnTo>
                    <a:lnTo>
                      <a:pt x="5657" y="4279"/>
                    </a:lnTo>
                    <a:lnTo>
                      <a:pt x="5663" y="4270"/>
                    </a:lnTo>
                    <a:lnTo>
                      <a:pt x="5668" y="4260"/>
                    </a:lnTo>
                    <a:lnTo>
                      <a:pt x="5680" y="4237"/>
                    </a:lnTo>
                    <a:lnTo>
                      <a:pt x="5691" y="4213"/>
                    </a:lnTo>
                    <a:lnTo>
                      <a:pt x="5694" y="4203"/>
                    </a:lnTo>
                    <a:lnTo>
                      <a:pt x="5696" y="4193"/>
                    </a:lnTo>
                    <a:lnTo>
                      <a:pt x="5696" y="4183"/>
                    </a:lnTo>
                    <a:lnTo>
                      <a:pt x="5694" y="4171"/>
                    </a:lnTo>
                    <a:lnTo>
                      <a:pt x="5689" y="4160"/>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60" y="5668"/>
                    </a:lnTo>
                    <a:lnTo>
                      <a:pt x="4270" y="5663"/>
                    </a:lnTo>
                    <a:lnTo>
                      <a:pt x="4278" y="5657"/>
                    </a:lnTo>
                    <a:lnTo>
                      <a:pt x="4283" y="5650"/>
                    </a:lnTo>
                    <a:lnTo>
                      <a:pt x="4288" y="5640"/>
                    </a:lnTo>
                    <a:lnTo>
                      <a:pt x="4291" y="5629"/>
                    </a:lnTo>
                    <a:lnTo>
                      <a:pt x="4295" y="5614"/>
                    </a:lnTo>
                    <a:lnTo>
                      <a:pt x="4220" y="5649"/>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41" y="2719"/>
                    </a:lnTo>
                    <a:lnTo>
                      <a:pt x="49" y="2635"/>
                    </a:lnTo>
                    <a:lnTo>
                      <a:pt x="34" y="2643"/>
                    </a:lnTo>
                    <a:lnTo>
                      <a:pt x="23" y="2651"/>
                    </a:lnTo>
                    <a:lnTo>
                      <a:pt x="14" y="2658"/>
                    </a:lnTo>
                    <a:lnTo>
                      <a:pt x="10" y="2668"/>
                    </a:lnTo>
                    <a:lnTo>
                      <a:pt x="6" y="2678"/>
                    </a:lnTo>
                    <a:lnTo>
                      <a:pt x="3" y="2687"/>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731" y="307"/>
                    </a:lnTo>
                    <a:lnTo>
                      <a:pt x="1808" y="272"/>
                    </a:lnTo>
                    <a:lnTo>
                      <a:pt x="1793" y="264"/>
                    </a:lnTo>
                    <a:lnTo>
                      <a:pt x="1780" y="257"/>
                    </a:lnTo>
                    <a:lnTo>
                      <a:pt x="1770" y="254"/>
                    </a:lnTo>
                    <a:lnTo>
                      <a:pt x="1759" y="254"/>
                    </a:lnTo>
                    <a:lnTo>
                      <a:pt x="1749" y="256"/>
                    </a:lnTo>
                    <a:lnTo>
                      <a:pt x="1739" y="259"/>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34" y="4666"/>
                    </a:lnTo>
                    <a:lnTo>
                      <a:pt x="5441" y="4656"/>
                    </a:lnTo>
                    <a:lnTo>
                      <a:pt x="5444" y="4646"/>
                    </a:lnTo>
                    <a:lnTo>
                      <a:pt x="5445" y="4636"/>
                    </a:lnTo>
                    <a:lnTo>
                      <a:pt x="5445" y="4626"/>
                    </a:lnTo>
                    <a:lnTo>
                      <a:pt x="5442" y="4615"/>
                    </a:lnTo>
                    <a:lnTo>
                      <a:pt x="5437" y="4600"/>
                    </a:lnTo>
                    <a:lnTo>
                      <a:pt x="5391" y="4668"/>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104" y="5067"/>
                    </a:lnTo>
                    <a:lnTo>
                      <a:pt x="5111" y="5058"/>
                    </a:lnTo>
                    <a:lnTo>
                      <a:pt x="5116" y="5050"/>
                    </a:lnTo>
                    <a:lnTo>
                      <a:pt x="5119" y="5040"/>
                    </a:lnTo>
                    <a:lnTo>
                      <a:pt x="5121" y="5030"/>
                    </a:lnTo>
                    <a:lnTo>
                      <a:pt x="5121" y="5019"/>
                    </a:lnTo>
                    <a:lnTo>
                      <a:pt x="5117" y="5004"/>
                    </a:lnTo>
                    <a:lnTo>
                      <a:pt x="5060" y="5062"/>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39" y="3233"/>
                    </a:lnTo>
                    <a:lnTo>
                      <a:pt x="33" y="3149"/>
                    </a:lnTo>
                    <a:lnTo>
                      <a:pt x="21" y="3159"/>
                    </a:lnTo>
                    <a:lnTo>
                      <a:pt x="11" y="3169"/>
                    </a:lnTo>
                    <a:lnTo>
                      <a:pt x="5" y="3177"/>
                    </a:lnTo>
                    <a:lnTo>
                      <a:pt x="1" y="3187"/>
                    </a:lnTo>
                    <a:lnTo>
                      <a:pt x="0" y="3197"/>
                    </a:lnTo>
                    <a:lnTo>
                      <a:pt x="0" y="3208"/>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306" y="1731"/>
                    </a:lnTo>
                    <a:lnTo>
                      <a:pt x="343" y="1655"/>
                    </a:lnTo>
                    <a:lnTo>
                      <a:pt x="326" y="1657"/>
                    </a:lnTo>
                    <a:lnTo>
                      <a:pt x="313" y="1660"/>
                    </a:lnTo>
                    <a:lnTo>
                      <a:pt x="301" y="1665"/>
                    </a:lnTo>
                    <a:lnTo>
                      <a:pt x="293" y="1672"/>
                    </a:lnTo>
                    <a:lnTo>
                      <a:pt x="287" y="1680"/>
                    </a:lnTo>
                    <a:lnTo>
                      <a:pt x="282" y="1688"/>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62" y="1286"/>
                    </a:lnTo>
                    <a:lnTo>
                      <a:pt x="611" y="1218"/>
                    </a:lnTo>
                    <a:lnTo>
                      <a:pt x="595" y="1217"/>
                    </a:lnTo>
                    <a:lnTo>
                      <a:pt x="582" y="1218"/>
                    </a:lnTo>
                    <a:lnTo>
                      <a:pt x="570" y="1222"/>
                    </a:lnTo>
                    <a:lnTo>
                      <a:pt x="560" y="1225"/>
                    </a:lnTo>
                    <a:lnTo>
                      <a:pt x="554" y="1233"/>
                    </a:lnTo>
                    <a:lnTo>
                      <a:pt x="545" y="1242"/>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93" y="894"/>
                    </a:lnTo>
                    <a:lnTo>
                      <a:pt x="953" y="834"/>
                    </a:lnTo>
                    <a:lnTo>
                      <a:pt x="936" y="831"/>
                    </a:lnTo>
                    <a:lnTo>
                      <a:pt x="923" y="829"/>
                    </a:lnTo>
                    <a:lnTo>
                      <a:pt x="911" y="831"/>
                    </a:lnTo>
                    <a:lnTo>
                      <a:pt x="902" y="833"/>
                    </a:lnTo>
                    <a:lnTo>
                      <a:pt x="893" y="839"/>
                    </a:lnTo>
                    <a:lnTo>
                      <a:pt x="883" y="84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86" y="564"/>
                    </a:lnTo>
                    <a:lnTo>
                      <a:pt x="1357" y="516"/>
                    </a:lnTo>
                    <a:lnTo>
                      <a:pt x="1340" y="509"/>
                    </a:lnTo>
                    <a:lnTo>
                      <a:pt x="1327" y="506"/>
                    </a:lnTo>
                    <a:lnTo>
                      <a:pt x="1315" y="505"/>
                    </a:lnTo>
                    <a:lnTo>
                      <a:pt x="1305" y="506"/>
                    </a:lnTo>
                    <a:lnTo>
                      <a:pt x="1296" y="509"/>
                    </a:lnTo>
                    <a:lnTo>
                      <a:pt x="1286" y="514"/>
                    </a:lnTo>
                    <a:lnTo>
                      <a:pt x="1263" y="531"/>
                    </a:lnTo>
                    <a:close/>
                    <a:moveTo>
                      <a:pt x="5609" y="1655"/>
                    </a:moveTo>
                    <a:lnTo>
                      <a:pt x="5609" y="1655"/>
                    </a:lnTo>
                    <a:lnTo>
                      <a:pt x="5645" y="1730"/>
                    </a:lnTo>
                    <a:lnTo>
                      <a:pt x="5680" y="1805"/>
                    </a:lnTo>
                    <a:lnTo>
                      <a:pt x="5688" y="1792"/>
                    </a:lnTo>
                    <a:lnTo>
                      <a:pt x="5693" y="1781"/>
                    </a:lnTo>
                    <a:lnTo>
                      <a:pt x="5696" y="1769"/>
                    </a:lnTo>
                    <a:lnTo>
                      <a:pt x="5696" y="1759"/>
                    </a:lnTo>
                    <a:lnTo>
                      <a:pt x="5694" y="1749"/>
                    </a:lnTo>
                    <a:lnTo>
                      <a:pt x="5691" y="1739"/>
                    </a:lnTo>
                    <a:lnTo>
                      <a:pt x="5680" y="1715"/>
                    </a:lnTo>
                    <a:lnTo>
                      <a:pt x="5668" y="1690"/>
                    </a:lnTo>
                    <a:lnTo>
                      <a:pt x="5661" y="1680"/>
                    </a:lnTo>
                    <a:lnTo>
                      <a:pt x="5655" y="1672"/>
                    </a:lnTo>
                    <a:lnTo>
                      <a:pt x="5648" y="1665"/>
                    </a:lnTo>
                    <a:lnTo>
                      <a:pt x="5638" y="1660"/>
                    </a:lnTo>
                    <a:lnTo>
                      <a:pt x="5625" y="1657"/>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737" y="5825"/>
                    </a:lnTo>
                    <a:lnTo>
                      <a:pt x="3660" y="5845"/>
                    </a:lnTo>
                    <a:lnTo>
                      <a:pt x="3671" y="5855"/>
                    </a:lnTo>
                    <a:lnTo>
                      <a:pt x="3681" y="5861"/>
                    </a:lnTo>
                    <a:lnTo>
                      <a:pt x="3691" y="5866"/>
                    </a:lnTo>
                    <a:lnTo>
                      <a:pt x="3701" y="5868"/>
                    </a:lnTo>
                    <a:lnTo>
                      <a:pt x="3711" y="5868"/>
                    </a:lnTo>
                    <a:lnTo>
                      <a:pt x="3721" y="5865"/>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23" y="3741"/>
                    </a:lnTo>
                    <a:lnTo>
                      <a:pt x="5800" y="3817"/>
                    </a:lnTo>
                    <a:lnTo>
                      <a:pt x="5815" y="3814"/>
                    </a:lnTo>
                    <a:lnTo>
                      <a:pt x="5826" y="3807"/>
                    </a:lnTo>
                    <a:lnTo>
                      <a:pt x="5835" y="3800"/>
                    </a:lnTo>
                    <a:lnTo>
                      <a:pt x="5841" y="3794"/>
                    </a:lnTo>
                    <a:lnTo>
                      <a:pt x="5846" y="3784"/>
                    </a:lnTo>
                    <a:lnTo>
                      <a:pt x="5851" y="3774"/>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739" y="132"/>
                    </a:lnTo>
                    <a:lnTo>
                      <a:pt x="3818" y="153"/>
                    </a:lnTo>
                    <a:lnTo>
                      <a:pt x="3813" y="138"/>
                    </a:lnTo>
                    <a:lnTo>
                      <a:pt x="3807" y="125"/>
                    </a:lnTo>
                    <a:lnTo>
                      <a:pt x="3802" y="115"/>
                    </a:lnTo>
                    <a:lnTo>
                      <a:pt x="3793" y="109"/>
                    </a:lnTo>
                    <a:lnTo>
                      <a:pt x="3784" y="104"/>
                    </a:lnTo>
                    <a:lnTo>
                      <a:pt x="3774" y="101"/>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29" y="5865"/>
                    </a:lnTo>
                    <a:lnTo>
                      <a:pt x="2239" y="5868"/>
                    </a:lnTo>
                    <a:lnTo>
                      <a:pt x="2249" y="5868"/>
                    </a:lnTo>
                    <a:lnTo>
                      <a:pt x="2258" y="5866"/>
                    </a:lnTo>
                    <a:lnTo>
                      <a:pt x="2268" y="5861"/>
                    </a:lnTo>
                    <a:lnTo>
                      <a:pt x="2280" y="5855"/>
                    </a:lnTo>
                    <a:lnTo>
                      <a:pt x="2291" y="5845"/>
                    </a:lnTo>
                    <a:lnTo>
                      <a:pt x="2214" y="5825"/>
                    </a:lnTo>
                    <a:lnTo>
                      <a:pt x="2133" y="5802"/>
                    </a:lnTo>
                    <a:close/>
                    <a:moveTo>
                      <a:pt x="130" y="2216"/>
                    </a:moveTo>
                    <a:lnTo>
                      <a:pt x="130" y="2216"/>
                    </a:lnTo>
                    <a:lnTo>
                      <a:pt x="153" y="2132"/>
                    </a:lnTo>
                    <a:lnTo>
                      <a:pt x="136" y="2137"/>
                    </a:lnTo>
                    <a:lnTo>
                      <a:pt x="125" y="2143"/>
                    </a:lnTo>
                    <a:lnTo>
                      <a:pt x="115" y="2148"/>
                    </a:lnTo>
                    <a:lnTo>
                      <a:pt x="108" y="2157"/>
                    </a:lnTo>
                    <a:lnTo>
                      <a:pt x="104" y="2166"/>
                    </a:lnTo>
                    <a:lnTo>
                      <a:pt x="99" y="2176"/>
                    </a:lnTo>
                    <a:lnTo>
                      <a:pt x="92" y="2203"/>
                    </a:lnTo>
                    <a:lnTo>
                      <a:pt x="84" y="2229"/>
                    </a:lnTo>
                    <a:lnTo>
                      <a:pt x="82" y="2241"/>
                    </a:lnTo>
                    <a:lnTo>
                      <a:pt x="82" y="2252"/>
                    </a:lnTo>
                    <a:lnTo>
                      <a:pt x="85" y="2262"/>
                    </a:lnTo>
                    <a:lnTo>
                      <a:pt x="90" y="2272"/>
                    </a:lnTo>
                    <a:lnTo>
                      <a:pt x="99" y="2284"/>
                    </a:lnTo>
                    <a:lnTo>
                      <a:pt x="110" y="2295"/>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708" y="5405"/>
                    </a:lnTo>
                    <a:lnTo>
                      <a:pt x="4717" y="5398"/>
                    </a:lnTo>
                    <a:lnTo>
                      <a:pt x="4723" y="5390"/>
                    </a:lnTo>
                    <a:lnTo>
                      <a:pt x="4728" y="5382"/>
                    </a:lnTo>
                    <a:lnTo>
                      <a:pt x="4732" y="5372"/>
                    </a:lnTo>
                    <a:lnTo>
                      <a:pt x="4733" y="5358"/>
                    </a:lnTo>
                    <a:lnTo>
                      <a:pt x="4733" y="5344"/>
                    </a:lnTo>
                    <a:lnTo>
                      <a:pt x="4666" y="5391"/>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05" y="4221"/>
                    </a:lnTo>
                    <a:lnTo>
                      <a:pt x="270" y="4145"/>
                    </a:lnTo>
                    <a:lnTo>
                      <a:pt x="262" y="4158"/>
                    </a:lnTo>
                    <a:lnTo>
                      <a:pt x="255" y="4170"/>
                    </a:lnTo>
                    <a:lnTo>
                      <a:pt x="254" y="4181"/>
                    </a:lnTo>
                    <a:lnTo>
                      <a:pt x="252" y="4191"/>
                    </a:lnTo>
                    <a:lnTo>
                      <a:pt x="254" y="4201"/>
                    </a:lnTo>
                    <a:lnTo>
                      <a:pt x="259" y="4213"/>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28" y="3738"/>
                    </a:lnTo>
                    <a:lnTo>
                      <a:pt x="108" y="3657"/>
                    </a:lnTo>
                    <a:lnTo>
                      <a:pt x="97" y="3670"/>
                    </a:lnTo>
                    <a:lnTo>
                      <a:pt x="89" y="3680"/>
                    </a:lnTo>
                    <a:lnTo>
                      <a:pt x="85" y="3690"/>
                    </a:lnTo>
                    <a:lnTo>
                      <a:pt x="82" y="3700"/>
                    </a:lnTo>
                    <a:lnTo>
                      <a:pt x="82" y="3710"/>
                    </a:lnTo>
                    <a:lnTo>
                      <a:pt x="84" y="3721"/>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890" y="5060"/>
                    </a:lnTo>
                    <a:lnTo>
                      <a:pt x="832" y="5001"/>
                    </a:lnTo>
                    <a:lnTo>
                      <a:pt x="829" y="5016"/>
                    </a:lnTo>
                    <a:lnTo>
                      <a:pt x="829" y="5029"/>
                    </a:lnTo>
                    <a:lnTo>
                      <a:pt x="829" y="5040"/>
                    </a:lnTo>
                    <a:lnTo>
                      <a:pt x="832" y="5050"/>
                    </a:lnTo>
                    <a:lnTo>
                      <a:pt x="837" y="5058"/>
                    </a:lnTo>
                    <a:lnTo>
                      <a:pt x="845" y="5067"/>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282" y="5391"/>
                    </a:lnTo>
                    <a:lnTo>
                      <a:pt x="1216" y="5344"/>
                    </a:lnTo>
                    <a:lnTo>
                      <a:pt x="1216" y="5358"/>
                    </a:lnTo>
                    <a:lnTo>
                      <a:pt x="1218" y="5372"/>
                    </a:lnTo>
                    <a:lnTo>
                      <a:pt x="1221" y="5382"/>
                    </a:lnTo>
                    <a:lnTo>
                      <a:pt x="1226" y="5390"/>
                    </a:lnTo>
                    <a:lnTo>
                      <a:pt x="1233" y="5398"/>
                    </a:lnTo>
                    <a:lnTo>
                      <a:pt x="1241" y="5405"/>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728" y="5649"/>
                    </a:lnTo>
                    <a:lnTo>
                      <a:pt x="1655" y="5612"/>
                    </a:lnTo>
                    <a:lnTo>
                      <a:pt x="1657" y="5627"/>
                    </a:lnTo>
                    <a:lnTo>
                      <a:pt x="1660" y="5640"/>
                    </a:lnTo>
                    <a:lnTo>
                      <a:pt x="1665" y="5650"/>
                    </a:lnTo>
                    <a:lnTo>
                      <a:pt x="1671" y="5657"/>
                    </a:lnTo>
                    <a:lnTo>
                      <a:pt x="1680" y="5663"/>
                    </a:lnTo>
                    <a:lnTo>
                      <a:pt x="1688" y="5668"/>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560" y="4666"/>
                    </a:lnTo>
                    <a:lnTo>
                      <a:pt x="514" y="4597"/>
                    </a:lnTo>
                    <a:lnTo>
                      <a:pt x="507" y="4612"/>
                    </a:lnTo>
                    <a:lnTo>
                      <a:pt x="504" y="4625"/>
                    </a:lnTo>
                    <a:lnTo>
                      <a:pt x="504" y="4636"/>
                    </a:lnTo>
                    <a:lnTo>
                      <a:pt x="506" y="4646"/>
                    </a:lnTo>
                    <a:lnTo>
                      <a:pt x="509" y="4656"/>
                    </a:lnTo>
                    <a:lnTo>
                      <a:pt x="514" y="4664"/>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231" y="5914"/>
                    </a:lnTo>
                    <a:lnTo>
                      <a:pt x="3150" y="5921"/>
                    </a:lnTo>
                    <a:lnTo>
                      <a:pt x="3160" y="5932"/>
                    </a:lnTo>
                    <a:lnTo>
                      <a:pt x="3169" y="5940"/>
                    </a:lnTo>
                    <a:lnTo>
                      <a:pt x="3178" y="5945"/>
                    </a:lnTo>
                    <a:lnTo>
                      <a:pt x="3187" y="5949"/>
                    </a:lnTo>
                    <a:lnTo>
                      <a:pt x="3197" y="5950"/>
                    </a:lnTo>
                    <a:lnTo>
                      <a:pt x="3208" y="5950"/>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231" y="41"/>
                    </a:lnTo>
                    <a:lnTo>
                      <a:pt x="3315" y="51"/>
                    </a:lnTo>
                    <a:lnTo>
                      <a:pt x="3307" y="36"/>
                    </a:lnTo>
                    <a:lnTo>
                      <a:pt x="3300" y="25"/>
                    </a:lnTo>
                    <a:lnTo>
                      <a:pt x="3292" y="16"/>
                    </a:lnTo>
                    <a:lnTo>
                      <a:pt x="3282" y="10"/>
                    </a:lnTo>
                    <a:lnTo>
                      <a:pt x="3274" y="7"/>
                    </a:lnTo>
                    <a:lnTo>
                      <a:pt x="3263" y="5"/>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219" y="307"/>
                    </a:lnTo>
                    <a:lnTo>
                      <a:pt x="4295" y="343"/>
                    </a:lnTo>
                    <a:lnTo>
                      <a:pt x="4293" y="326"/>
                    </a:lnTo>
                    <a:lnTo>
                      <a:pt x="4290" y="313"/>
                    </a:lnTo>
                    <a:lnTo>
                      <a:pt x="4285" y="303"/>
                    </a:lnTo>
                    <a:lnTo>
                      <a:pt x="4278" y="295"/>
                    </a:lnTo>
                    <a:lnTo>
                      <a:pt x="4270" y="289"/>
                    </a:lnTo>
                    <a:lnTo>
                      <a:pt x="4260" y="282"/>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17" y="5914"/>
                    </a:lnTo>
                    <a:lnTo>
                      <a:pt x="2636" y="5906"/>
                    </a:lnTo>
                    <a:lnTo>
                      <a:pt x="2644" y="5919"/>
                    </a:lnTo>
                    <a:lnTo>
                      <a:pt x="2651" y="5929"/>
                    </a:lnTo>
                    <a:lnTo>
                      <a:pt x="2659" y="5936"/>
                    </a:lnTo>
                    <a:lnTo>
                      <a:pt x="2667" y="5940"/>
                    </a:lnTo>
                    <a:lnTo>
                      <a:pt x="2677" y="5944"/>
                    </a:lnTo>
                    <a:lnTo>
                      <a:pt x="2687" y="5947"/>
                    </a:lnTo>
                    <a:lnTo>
                      <a:pt x="2715" y="5949"/>
                    </a:lnTo>
                    <a:close/>
                  </a:path>
                </a:pathLst>
              </a:custGeom>
              <a:gradFill rotWithShape="0">
                <a:gsLst>
                  <a:gs pos="0">
                    <a:srgbClr val="193360"/>
                  </a:gs>
                  <a:gs pos="100000">
                    <a:srgbClr val="afcafd"/>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85" name="Freeform 5"/>
              <p:cNvSpPr/>
              <p:nvPr/>
            </p:nvSpPr>
            <p:spPr>
              <a:xfrm>
                <a:off x="573480" y="2710080"/>
                <a:ext cx="1294200" cy="1293120"/>
              </a:xfrm>
              <a:custGeom>
                <a:avLst/>
                <a:gdLst>
                  <a:gd name="textAreaLeft" fmla="*/ 0 w 1294200"/>
                  <a:gd name="textAreaRight" fmla="*/ 1294560 w 1294200"/>
                  <a:gd name="textAreaTop" fmla="*/ 0 h 1293120"/>
                  <a:gd name="textAreaBottom" fmla="*/ 1293480 h 129312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close/>
                  </a:path>
                </a:pathLst>
              </a:custGeom>
              <a:gradFill rotWithShape="0">
                <a:gsLst>
                  <a:gs pos="0">
                    <a:srgbClr val="83a7d3"/>
                  </a:gs>
                  <a:gs pos="100000">
                    <a:srgbClr val="182e48"/>
                  </a:gs>
                </a:gsLst>
                <a:lin ang="228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86" name="Freeform 9"/>
              <p:cNvSpPr/>
              <p:nvPr/>
            </p:nvSpPr>
            <p:spPr>
              <a:xfrm flipV="1" rot="10800000">
                <a:off x="1075320" y="3211920"/>
                <a:ext cx="289800" cy="289440"/>
              </a:xfrm>
              <a:custGeom>
                <a:avLst/>
                <a:gdLst>
                  <a:gd name="textAreaLeft" fmla="*/ 0 w 289800"/>
                  <a:gd name="textAreaRight" fmla="*/ 290160 w 289800"/>
                  <a:gd name="textAreaTop" fmla="*/ 360 h 289440"/>
                  <a:gd name="textAreaBottom" fmla="*/ 290160 h 28944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close/>
                  </a:path>
                </a:pathLst>
              </a:custGeom>
              <a:gradFill rotWithShape="0">
                <a:gsLst>
                  <a:gs pos="0">
                    <a:srgbClr val="83a7d3"/>
                  </a:gs>
                  <a:gs pos="100000">
                    <a:srgbClr val="182e48"/>
                  </a:gs>
                </a:gsLst>
                <a:lin ang="1344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87" name="TextBox 136" descr=""/>
            <p:cNvPicPr/>
            <p:nvPr/>
          </p:nvPicPr>
          <p:blipFill>
            <a:blip r:embed="rId7"/>
            <a:stretch/>
          </p:blipFill>
          <p:spPr>
            <a:xfrm>
              <a:off x="694800" y="2730960"/>
              <a:ext cx="1060920" cy="1115640"/>
            </a:xfrm>
            <a:prstGeom prst="rect">
              <a:avLst/>
            </a:prstGeom>
            <a:ln w="0">
              <a:noFill/>
            </a:ln>
          </p:spPr>
        </p:pic>
        <p:pic>
          <p:nvPicPr>
            <p:cNvPr id="88" name="Rectangle 70" descr=""/>
            <p:cNvPicPr/>
            <p:nvPr/>
          </p:nvPicPr>
          <p:blipFill>
            <a:blip r:embed="rId8"/>
            <a:stretch/>
          </p:blipFill>
          <p:spPr>
            <a:xfrm>
              <a:off x="572760" y="3420000"/>
              <a:ext cx="1274040" cy="481320"/>
            </a:xfrm>
            <a:prstGeom prst="rect">
              <a:avLst/>
            </a:prstGeom>
            <a:ln w="0">
              <a:noFill/>
            </a:ln>
          </p:spPr>
        </p:pic>
      </p:grpSp>
      <p:grpSp>
        <p:nvGrpSpPr>
          <p:cNvPr id="89" name="Group 36"/>
          <p:cNvGrpSpPr/>
          <p:nvPr/>
        </p:nvGrpSpPr>
        <p:grpSpPr>
          <a:xfrm>
            <a:off x="1538280" y="3584520"/>
            <a:ext cx="1549440" cy="1549440"/>
            <a:chOff x="1538280" y="3584520"/>
            <a:chExt cx="1549440" cy="1549440"/>
          </a:xfrm>
        </p:grpSpPr>
        <p:grpSp>
          <p:nvGrpSpPr>
            <p:cNvPr id="90" name="Group 37"/>
            <p:cNvGrpSpPr/>
            <p:nvPr/>
          </p:nvGrpSpPr>
          <p:grpSpPr>
            <a:xfrm>
              <a:off x="1538280" y="3584520"/>
              <a:ext cx="1549440" cy="1549440"/>
              <a:chOff x="1538280" y="3584520"/>
              <a:chExt cx="1549440" cy="1549440"/>
            </a:xfrm>
          </p:grpSpPr>
          <p:sp>
            <p:nvSpPr>
              <p:cNvPr id="91" name="Freeform 5"/>
              <p:cNvSpPr/>
              <p:nvPr/>
            </p:nvSpPr>
            <p:spPr>
              <a:xfrm>
                <a:off x="1538280" y="3584520"/>
                <a:ext cx="1549440" cy="1549440"/>
              </a:xfrm>
              <a:custGeom>
                <a:avLst/>
                <a:gdLst/>
                <a:ahLst/>
                <a:rect l="l" t="t" r="r" b="b"/>
                <a:pathLst>
                  <a:path w="5950" h="5950">
                    <a:moveTo>
                      <a:pt x="5840" y="3106"/>
                    </a:moveTo>
                    <a:lnTo>
                      <a:pt x="5840" y="3106"/>
                    </a:lnTo>
                    <a:lnTo>
                      <a:pt x="5808" y="3091"/>
                    </a:lnTo>
                    <a:lnTo>
                      <a:pt x="5780" y="3078"/>
                    </a:lnTo>
                    <a:lnTo>
                      <a:pt x="5727" y="3058"/>
                    </a:lnTo>
                    <a:lnTo>
                      <a:pt x="5685" y="3044"/>
                    </a:lnTo>
                    <a:lnTo>
                      <a:pt x="5650" y="3034"/>
                    </a:lnTo>
                    <a:lnTo>
                      <a:pt x="5650" y="2976"/>
                    </a:lnTo>
                    <a:lnTo>
                      <a:pt x="5650" y="2917"/>
                    </a:lnTo>
                    <a:lnTo>
                      <a:pt x="5685" y="2908"/>
                    </a:lnTo>
                    <a:lnTo>
                      <a:pt x="5727" y="2894"/>
                    </a:lnTo>
                    <a:lnTo>
                      <a:pt x="5780" y="2872"/>
                    </a:lnTo>
                    <a:lnTo>
                      <a:pt x="5808" y="2859"/>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785" y="2597"/>
                    </a:lnTo>
                    <a:lnTo>
                      <a:pt x="5755" y="2590"/>
                    </a:lnTo>
                    <a:lnTo>
                      <a:pt x="5699" y="2579"/>
                    </a:lnTo>
                    <a:lnTo>
                      <a:pt x="5655" y="2572"/>
                    </a:lnTo>
                    <a:lnTo>
                      <a:pt x="5619" y="2569"/>
                    </a:lnTo>
                    <a:lnTo>
                      <a:pt x="5609" y="2511"/>
                    </a:lnTo>
                    <a:lnTo>
                      <a:pt x="5599" y="2453"/>
                    </a:lnTo>
                    <a:lnTo>
                      <a:pt x="5630" y="2439"/>
                    </a:lnTo>
                    <a:lnTo>
                      <a:pt x="5671" y="2417"/>
                    </a:lnTo>
                    <a:lnTo>
                      <a:pt x="5719" y="2387"/>
                    </a:lnTo>
                    <a:lnTo>
                      <a:pt x="5746" y="236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676" y="2115"/>
                    </a:lnTo>
                    <a:lnTo>
                      <a:pt x="5645" y="2112"/>
                    </a:lnTo>
                    <a:lnTo>
                      <a:pt x="5589" y="2110"/>
                    </a:lnTo>
                    <a:lnTo>
                      <a:pt x="5543" y="2112"/>
                    </a:lnTo>
                    <a:lnTo>
                      <a:pt x="5508" y="2115"/>
                    </a:lnTo>
                    <a:lnTo>
                      <a:pt x="5488" y="2061"/>
                    </a:lnTo>
                    <a:lnTo>
                      <a:pt x="5467" y="2007"/>
                    </a:lnTo>
                    <a:lnTo>
                      <a:pt x="5497" y="1987"/>
                    </a:lnTo>
                    <a:lnTo>
                      <a:pt x="5533" y="1957"/>
                    </a:lnTo>
                    <a:lnTo>
                      <a:pt x="5574" y="1921"/>
                    </a:lnTo>
                    <a:lnTo>
                      <a:pt x="5597" y="1898"/>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487" y="1659"/>
                    </a:lnTo>
                    <a:lnTo>
                      <a:pt x="5454" y="1662"/>
                    </a:lnTo>
                    <a:lnTo>
                      <a:pt x="5398" y="1670"/>
                    </a:lnTo>
                    <a:lnTo>
                      <a:pt x="5353" y="1680"/>
                    </a:lnTo>
                    <a:lnTo>
                      <a:pt x="5319" y="1690"/>
                    </a:lnTo>
                    <a:lnTo>
                      <a:pt x="5290" y="1639"/>
                    </a:lnTo>
                    <a:lnTo>
                      <a:pt x="5261" y="1589"/>
                    </a:lnTo>
                    <a:lnTo>
                      <a:pt x="5286" y="1563"/>
                    </a:lnTo>
                    <a:lnTo>
                      <a:pt x="5317" y="1530"/>
                    </a:lnTo>
                    <a:lnTo>
                      <a:pt x="5352" y="1486"/>
                    </a:lnTo>
                    <a:lnTo>
                      <a:pt x="5371" y="145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20" y="1243"/>
                    </a:lnTo>
                    <a:lnTo>
                      <a:pt x="5188" y="1251"/>
                    </a:lnTo>
                    <a:lnTo>
                      <a:pt x="5134" y="1270"/>
                    </a:lnTo>
                    <a:lnTo>
                      <a:pt x="5091" y="1286"/>
                    </a:lnTo>
                    <a:lnTo>
                      <a:pt x="5060" y="1303"/>
                    </a:lnTo>
                    <a:lnTo>
                      <a:pt x="5022" y="1256"/>
                    </a:lnTo>
                    <a:lnTo>
                      <a:pt x="4985" y="1213"/>
                    </a:lnTo>
                    <a:lnTo>
                      <a:pt x="5005" y="1184"/>
                    </a:lnTo>
                    <a:lnTo>
                      <a:pt x="5030" y="1144"/>
                    </a:lnTo>
                    <a:lnTo>
                      <a:pt x="5056" y="1095"/>
                    </a:lnTo>
                    <a:lnTo>
                      <a:pt x="5071" y="1065"/>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885" y="879"/>
                    </a:lnTo>
                    <a:lnTo>
                      <a:pt x="4855" y="894"/>
                    </a:lnTo>
                    <a:lnTo>
                      <a:pt x="4806" y="920"/>
                    </a:lnTo>
                    <a:lnTo>
                      <a:pt x="4766" y="945"/>
                    </a:lnTo>
                    <a:lnTo>
                      <a:pt x="4737" y="965"/>
                    </a:lnTo>
                    <a:lnTo>
                      <a:pt x="4694" y="928"/>
                    </a:lnTo>
                    <a:lnTo>
                      <a:pt x="4647" y="890"/>
                    </a:lnTo>
                    <a:lnTo>
                      <a:pt x="4664" y="859"/>
                    </a:lnTo>
                    <a:lnTo>
                      <a:pt x="4680" y="816"/>
                    </a:lnTo>
                    <a:lnTo>
                      <a:pt x="4699" y="762"/>
                    </a:lnTo>
                    <a:lnTo>
                      <a:pt x="4707" y="730"/>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491" y="579"/>
                    </a:lnTo>
                    <a:lnTo>
                      <a:pt x="4464" y="598"/>
                    </a:lnTo>
                    <a:lnTo>
                      <a:pt x="4420" y="633"/>
                    </a:lnTo>
                    <a:lnTo>
                      <a:pt x="4385" y="664"/>
                    </a:lnTo>
                    <a:lnTo>
                      <a:pt x="4361" y="691"/>
                    </a:lnTo>
                    <a:lnTo>
                      <a:pt x="4311" y="661"/>
                    </a:lnTo>
                    <a:lnTo>
                      <a:pt x="4260" y="633"/>
                    </a:lnTo>
                    <a:lnTo>
                      <a:pt x="4270" y="598"/>
                    </a:lnTo>
                    <a:lnTo>
                      <a:pt x="4280" y="552"/>
                    </a:lnTo>
                    <a:lnTo>
                      <a:pt x="4288" y="496"/>
                    </a:lnTo>
                    <a:lnTo>
                      <a:pt x="4291" y="463"/>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52" y="353"/>
                    </a:lnTo>
                    <a:lnTo>
                      <a:pt x="4029" y="376"/>
                    </a:lnTo>
                    <a:lnTo>
                      <a:pt x="3991" y="419"/>
                    </a:lnTo>
                    <a:lnTo>
                      <a:pt x="3963" y="455"/>
                    </a:lnTo>
                    <a:lnTo>
                      <a:pt x="3942" y="485"/>
                    </a:lnTo>
                    <a:lnTo>
                      <a:pt x="3889" y="465"/>
                    </a:lnTo>
                    <a:lnTo>
                      <a:pt x="3835" y="445"/>
                    </a:lnTo>
                    <a:lnTo>
                      <a:pt x="3838" y="411"/>
                    </a:lnTo>
                    <a:lnTo>
                      <a:pt x="3840" y="364"/>
                    </a:lnTo>
                    <a:lnTo>
                      <a:pt x="3838" y="307"/>
                    </a:lnTo>
                    <a:lnTo>
                      <a:pt x="3835" y="274"/>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581" y="206"/>
                    </a:lnTo>
                    <a:lnTo>
                      <a:pt x="3561" y="232"/>
                    </a:lnTo>
                    <a:lnTo>
                      <a:pt x="3531" y="282"/>
                    </a:lnTo>
                    <a:lnTo>
                      <a:pt x="3510" y="323"/>
                    </a:lnTo>
                    <a:lnTo>
                      <a:pt x="3495" y="354"/>
                    </a:lnTo>
                    <a:lnTo>
                      <a:pt x="3439" y="345"/>
                    </a:lnTo>
                    <a:lnTo>
                      <a:pt x="3381" y="335"/>
                    </a:lnTo>
                    <a:lnTo>
                      <a:pt x="3380" y="300"/>
                    </a:lnTo>
                    <a:lnTo>
                      <a:pt x="3373" y="254"/>
                    </a:lnTo>
                    <a:lnTo>
                      <a:pt x="3361" y="198"/>
                    </a:lnTo>
                    <a:lnTo>
                      <a:pt x="3353" y="165"/>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089" y="142"/>
                    </a:lnTo>
                    <a:lnTo>
                      <a:pt x="3076" y="171"/>
                    </a:lnTo>
                    <a:lnTo>
                      <a:pt x="3055" y="226"/>
                    </a:lnTo>
                    <a:lnTo>
                      <a:pt x="3042" y="270"/>
                    </a:lnTo>
                    <a:lnTo>
                      <a:pt x="3032" y="305"/>
                    </a:lnTo>
                    <a:lnTo>
                      <a:pt x="2974" y="303"/>
                    </a:lnTo>
                    <a:lnTo>
                      <a:pt x="2916" y="305"/>
                    </a:lnTo>
                    <a:lnTo>
                      <a:pt x="2908" y="270"/>
                    </a:lnTo>
                    <a:lnTo>
                      <a:pt x="2893" y="226"/>
                    </a:lnTo>
                    <a:lnTo>
                      <a:pt x="2872" y="171"/>
                    </a:lnTo>
                    <a:lnTo>
                      <a:pt x="2859" y="142"/>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596" y="165"/>
                    </a:lnTo>
                    <a:lnTo>
                      <a:pt x="2588" y="198"/>
                    </a:lnTo>
                    <a:lnTo>
                      <a:pt x="2577" y="254"/>
                    </a:lnTo>
                    <a:lnTo>
                      <a:pt x="2570" y="300"/>
                    </a:lnTo>
                    <a:lnTo>
                      <a:pt x="2567" y="335"/>
                    </a:lnTo>
                    <a:lnTo>
                      <a:pt x="2511" y="345"/>
                    </a:lnTo>
                    <a:lnTo>
                      <a:pt x="2455" y="354"/>
                    </a:lnTo>
                    <a:lnTo>
                      <a:pt x="2440" y="323"/>
                    </a:lnTo>
                    <a:lnTo>
                      <a:pt x="2417" y="282"/>
                    </a:lnTo>
                    <a:lnTo>
                      <a:pt x="2387" y="232"/>
                    </a:lnTo>
                    <a:lnTo>
                      <a:pt x="2369" y="20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3" y="274"/>
                    </a:lnTo>
                    <a:lnTo>
                      <a:pt x="2112" y="307"/>
                    </a:lnTo>
                    <a:lnTo>
                      <a:pt x="2110" y="364"/>
                    </a:lnTo>
                    <a:lnTo>
                      <a:pt x="2112" y="411"/>
                    </a:lnTo>
                    <a:lnTo>
                      <a:pt x="2115" y="447"/>
                    </a:lnTo>
                    <a:lnTo>
                      <a:pt x="2061" y="465"/>
                    </a:lnTo>
                    <a:lnTo>
                      <a:pt x="2008" y="486"/>
                    </a:lnTo>
                    <a:lnTo>
                      <a:pt x="1986" y="457"/>
                    </a:lnTo>
                    <a:lnTo>
                      <a:pt x="1958" y="419"/>
                    </a:lnTo>
                    <a:lnTo>
                      <a:pt x="1920" y="376"/>
                    </a:lnTo>
                    <a:lnTo>
                      <a:pt x="1897" y="353"/>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8" y="465"/>
                    </a:lnTo>
                    <a:lnTo>
                      <a:pt x="1662" y="498"/>
                    </a:lnTo>
                    <a:lnTo>
                      <a:pt x="1670" y="554"/>
                    </a:lnTo>
                    <a:lnTo>
                      <a:pt x="1680" y="600"/>
                    </a:lnTo>
                    <a:lnTo>
                      <a:pt x="1690" y="635"/>
                    </a:lnTo>
                    <a:lnTo>
                      <a:pt x="1639" y="663"/>
                    </a:lnTo>
                    <a:lnTo>
                      <a:pt x="1591" y="692"/>
                    </a:lnTo>
                    <a:lnTo>
                      <a:pt x="1564" y="666"/>
                    </a:lnTo>
                    <a:lnTo>
                      <a:pt x="1530" y="635"/>
                    </a:lnTo>
                    <a:lnTo>
                      <a:pt x="1485" y="598"/>
                    </a:lnTo>
                    <a:lnTo>
                      <a:pt x="1459" y="580"/>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41" y="732"/>
                    </a:lnTo>
                    <a:lnTo>
                      <a:pt x="1251" y="763"/>
                    </a:lnTo>
                    <a:lnTo>
                      <a:pt x="1269" y="818"/>
                    </a:lnTo>
                    <a:lnTo>
                      <a:pt x="1287" y="861"/>
                    </a:lnTo>
                    <a:lnTo>
                      <a:pt x="1302" y="894"/>
                    </a:lnTo>
                    <a:lnTo>
                      <a:pt x="1258" y="930"/>
                    </a:lnTo>
                    <a:lnTo>
                      <a:pt x="1213" y="966"/>
                    </a:lnTo>
                    <a:lnTo>
                      <a:pt x="1185" y="946"/>
                    </a:lnTo>
                    <a:lnTo>
                      <a:pt x="1146" y="922"/>
                    </a:lnTo>
                    <a:lnTo>
                      <a:pt x="1094" y="894"/>
                    </a:lnTo>
                    <a:lnTo>
                      <a:pt x="1065" y="879"/>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78" y="1067"/>
                    </a:lnTo>
                    <a:lnTo>
                      <a:pt x="893" y="1095"/>
                    </a:lnTo>
                    <a:lnTo>
                      <a:pt x="920" y="1146"/>
                    </a:lnTo>
                    <a:lnTo>
                      <a:pt x="944" y="1185"/>
                    </a:lnTo>
                    <a:lnTo>
                      <a:pt x="966" y="1215"/>
                    </a:lnTo>
                    <a:lnTo>
                      <a:pt x="928" y="1258"/>
                    </a:lnTo>
                    <a:lnTo>
                      <a:pt x="892" y="1303"/>
                    </a:lnTo>
                    <a:lnTo>
                      <a:pt x="859" y="1288"/>
                    </a:lnTo>
                    <a:lnTo>
                      <a:pt x="816" y="1270"/>
                    </a:lnTo>
                    <a:lnTo>
                      <a:pt x="761" y="1251"/>
                    </a:lnTo>
                    <a:lnTo>
                      <a:pt x="730" y="1243"/>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78" y="1459"/>
                    </a:lnTo>
                    <a:lnTo>
                      <a:pt x="598" y="1486"/>
                    </a:lnTo>
                    <a:lnTo>
                      <a:pt x="633" y="1530"/>
                    </a:lnTo>
                    <a:lnTo>
                      <a:pt x="664" y="1565"/>
                    </a:lnTo>
                    <a:lnTo>
                      <a:pt x="690" y="1589"/>
                    </a:lnTo>
                    <a:lnTo>
                      <a:pt x="661" y="1639"/>
                    </a:lnTo>
                    <a:lnTo>
                      <a:pt x="633" y="1690"/>
                    </a:lnTo>
                    <a:lnTo>
                      <a:pt x="598" y="1680"/>
                    </a:lnTo>
                    <a:lnTo>
                      <a:pt x="552" y="1670"/>
                    </a:lnTo>
                    <a:lnTo>
                      <a:pt x="496" y="1662"/>
                    </a:lnTo>
                    <a:lnTo>
                      <a:pt x="463" y="1659"/>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51" y="1898"/>
                    </a:lnTo>
                    <a:lnTo>
                      <a:pt x="376" y="1921"/>
                    </a:lnTo>
                    <a:lnTo>
                      <a:pt x="418" y="1959"/>
                    </a:lnTo>
                    <a:lnTo>
                      <a:pt x="455" y="1987"/>
                    </a:lnTo>
                    <a:lnTo>
                      <a:pt x="484" y="2008"/>
                    </a:lnTo>
                    <a:lnTo>
                      <a:pt x="465" y="2061"/>
                    </a:lnTo>
                    <a:lnTo>
                      <a:pt x="445" y="2115"/>
                    </a:lnTo>
                    <a:lnTo>
                      <a:pt x="410" y="2112"/>
                    </a:lnTo>
                    <a:lnTo>
                      <a:pt x="362" y="2110"/>
                    </a:lnTo>
                    <a:lnTo>
                      <a:pt x="306" y="2112"/>
                    </a:lnTo>
                    <a:lnTo>
                      <a:pt x="273" y="2115"/>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204" y="2369"/>
                    </a:lnTo>
                    <a:lnTo>
                      <a:pt x="232" y="2389"/>
                    </a:lnTo>
                    <a:lnTo>
                      <a:pt x="280" y="2419"/>
                    </a:lnTo>
                    <a:lnTo>
                      <a:pt x="321" y="2440"/>
                    </a:lnTo>
                    <a:lnTo>
                      <a:pt x="354" y="2455"/>
                    </a:lnTo>
                    <a:lnTo>
                      <a:pt x="343" y="2511"/>
                    </a:lnTo>
                    <a:lnTo>
                      <a:pt x="333" y="2569"/>
                    </a:lnTo>
                    <a:lnTo>
                      <a:pt x="298" y="2572"/>
                    </a:lnTo>
                    <a:lnTo>
                      <a:pt x="252" y="2579"/>
                    </a:lnTo>
                    <a:lnTo>
                      <a:pt x="196" y="2589"/>
                    </a:lnTo>
                    <a:lnTo>
                      <a:pt x="165" y="259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41" y="2861"/>
                    </a:lnTo>
                    <a:lnTo>
                      <a:pt x="171" y="2874"/>
                    </a:lnTo>
                    <a:lnTo>
                      <a:pt x="224" y="2894"/>
                    </a:lnTo>
                    <a:lnTo>
                      <a:pt x="268" y="2908"/>
                    </a:lnTo>
                    <a:lnTo>
                      <a:pt x="303" y="2918"/>
                    </a:lnTo>
                    <a:lnTo>
                      <a:pt x="301" y="2976"/>
                    </a:lnTo>
                    <a:lnTo>
                      <a:pt x="303" y="3034"/>
                    </a:lnTo>
                    <a:lnTo>
                      <a:pt x="268" y="3042"/>
                    </a:lnTo>
                    <a:lnTo>
                      <a:pt x="224" y="3057"/>
                    </a:lnTo>
                    <a:lnTo>
                      <a:pt x="171" y="3078"/>
                    </a:lnTo>
                    <a:lnTo>
                      <a:pt x="141" y="3091"/>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65" y="3354"/>
                    </a:lnTo>
                    <a:lnTo>
                      <a:pt x="196" y="3362"/>
                    </a:lnTo>
                    <a:lnTo>
                      <a:pt x="250" y="3373"/>
                    </a:lnTo>
                    <a:lnTo>
                      <a:pt x="296" y="3380"/>
                    </a:lnTo>
                    <a:lnTo>
                      <a:pt x="333" y="3383"/>
                    </a:lnTo>
                    <a:lnTo>
                      <a:pt x="343" y="3439"/>
                    </a:lnTo>
                    <a:lnTo>
                      <a:pt x="352" y="3497"/>
                    </a:lnTo>
                    <a:lnTo>
                      <a:pt x="320" y="3512"/>
                    </a:lnTo>
                    <a:lnTo>
                      <a:pt x="280" y="3533"/>
                    </a:lnTo>
                    <a:lnTo>
                      <a:pt x="230" y="3563"/>
                    </a:lnTo>
                    <a:lnTo>
                      <a:pt x="204" y="3581"/>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72" y="3837"/>
                    </a:lnTo>
                    <a:lnTo>
                      <a:pt x="305" y="3838"/>
                    </a:lnTo>
                    <a:lnTo>
                      <a:pt x="361" y="3840"/>
                    </a:lnTo>
                    <a:lnTo>
                      <a:pt x="407" y="3838"/>
                    </a:lnTo>
                    <a:lnTo>
                      <a:pt x="443" y="3835"/>
                    </a:lnTo>
                    <a:lnTo>
                      <a:pt x="463" y="3889"/>
                    </a:lnTo>
                    <a:lnTo>
                      <a:pt x="483" y="3944"/>
                    </a:lnTo>
                    <a:lnTo>
                      <a:pt x="453" y="3965"/>
                    </a:lnTo>
                    <a:lnTo>
                      <a:pt x="417" y="3993"/>
                    </a:lnTo>
                    <a:lnTo>
                      <a:pt x="374" y="4031"/>
                    </a:lnTo>
                    <a:lnTo>
                      <a:pt x="351" y="4053"/>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63" y="4292"/>
                    </a:lnTo>
                    <a:lnTo>
                      <a:pt x="494" y="4288"/>
                    </a:lnTo>
                    <a:lnTo>
                      <a:pt x="550" y="4280"/>
                    </a:lnTo>
                    <a:lnTo>
                      <a:pt x="596" y="4272"/>
                    </a:lnTo>
                    <a:lnTo>
                      <a:pt x="631" y="4262"/>
                    </a:lnTo>
                    <a:lnTo>
                      <a:pt x="659" y="4311"/>
                    </a:lnTo>
                    <a:lnTo>
                      <a:pt x="689" y="4363"/>
                    </a:lnTo>
                    <a:lnTo>
                      <a:pt x="664" y="4387"/>
                    </a:lnTo>
                    <a:lnTo>
                      <a:pt x="633" y="4422"/>
                    </a:lnTo>
                    <a:lnTo>
                      <a:pt x="596" y="4466"/>
                    </a:lnTo>
                    <a:lnTo>
                      <a:pt x="578" y="4493"/>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730" y="4709"/>
                    </a:lnTo>
                    <a:lnTo>
                      <a:pt x="760" y="4699"/>
                    </a:lnTo>
                    <a:lnTo>
                      <a:pt x="814" y="4682"/>
                    </a:lnTo>
                    <a:lnTo>
                      <a:pt x="857" y="4664"/>
                    </a:lnTo>
                    <a:lnTo>
                      <a:pt x="888" y="4649"/>
                    </a:lnTo>
                    <a:lnTo>
                      <a:pt x="926" y="4694"/>
                    </a:lnTo>
                    <a:lnTo>
                      <a:pt x="964" y="4739"/>
                    </a:lnTo>
                    <a:lnTo>
                      <a:pt x="943" y="4768"/>
                    </a:lnTo>
                    <a:lnTo>
                      <a:pt x="918" y="4808"/>
                    </a:lnTo>
                    <a:lnTo>
                      <a:pt x="892" y="4857"/>
                    </a:lnTo>
                    <a:lnTo>
                      <a:pt x="878" y="4885"/>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65" y="5072"/>
                    </a:lnTo>
                    <a:lnTo>
                      <a:pt x="1093" y="5058"/>
                    </a:lnTo>
                    <a:lnTo>
                      <a:pt x="1142" y="5032"/>
                    </a:lnTo>
                    <a:lnTo>
                      <a:pt x="1182" y="5007"/>
                    </a:lnTo>
                    <a:lnTo>
                      <a:pt x="1211" y="4987"/>
                    </a:lnTo>
                    <a:lnTo>
                      <a:pt x="1254" y="5025"/>
                    </a:lnTo>
                    <a:lnTo>
                      <a:pt x="1301" y="5062"/>
                    </a:lnTo>
                    <a:lnTo>
                      <a:pt x="1286" y="5095"/>
                    </a:lnTo>
                    <a:lnTo>
                      <a:pt x="1268" y="5138"/>
                    </a:lnTo>
                    <a:lnTo>
                      <a:pt x="1249" y="5190"/>
                    </a:lnTo>
                    <a:lnTo>
                      <a:pt x="1241" y="5222"/>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57" y="5372"/>
                    </a:lnTo>
                    <a:lnTo>
                      <a:pt x="1484" y="5354"/>
                    </a:lnTo>
                    <a:lnTo>
                      <a:pt x="1526" y="5319"/>
                    </a:lnTo>
                    <a:lnTo>
                      <a:pt x="1561" y="5288"/>
                    </a:lnTo>
                    <a:lnTo>
                      <a:pt x="1586" y="5263"/>
                    </a:lnTo>
                    <a:lnTo>
                      <a:pt x="1637" y="5292"/>
                    </a:lnTo>
                    <a:lnTo>
                      <a:pt x="1688" y="5322"/>
                    </a:lnTo>
                    <a:lnTo>
                      <a:pt x="1678" y="5355"/>
                    </a:lnTo>
                    <a:lnTo>
                      <a:pt x="1670" y="5401"/>
                    </a:lnTo>
                    <a:lnTo>
                      <a:pt x="1662" y="5456"/>
                    </a:lnTo>
                    <a:lnTo>
                      <a:pt x="1658" y="5487"/>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96" y="5599"/>
                    </a:lnTo>
                    <a:lnTo>
                      <a:pt x="1919" y="5576"/>
                    </a:lnTo>
                    <a:lnTo>
                      <a:pt x="1955" y="5535"/>
                    </a:lnTo>
                    <a:lnTo>
                      <a:pt x="1985" y="5499"/>
                    </a:lnTo>
                    <a:lnTo>
                      <a:pt x="2005" y="5469"/>
                    </a:lnTo>
                    <a:lnTo>
                      <a:pt x="2059" y="5490"/>
                    </a:lnTo>
                    <a:lnTo>
                      <a:pt x="2115" y="5508"/>
                    </a:lnTo>
                    <a:lnTo>
                      <a:pt x="2112" y="5545"/>
                    </a:lnTo>
                    <a:lnTo>
                      <a:pt x="2110" y="5591"/>
                    </a:lnTo>
                    <a:lnTo>
                      <a:pt x="2112" y="5647"/>
                    </a:lnTo>
                    <a:lnTo>
                      <a:pt x="2113" y="5678"/>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69" y="5746"/>
                    </a:lnTo>
                    <a:lnTo>
                      <a:pt x="2385" y="5720"/>
                    </a:lnTo>
                    <a:lnTo>
                      <a:pt x="2415" y="5673"/>
                    </a:lnTo>
                    <a:lnTo>
                      <a:pt x="2437" y="5632"/>
                    </a:lnTo>
                    <a:lnTo>
                      <a:pt x="2453" y="5599"/>
                    </a:lnTo>
                    <a:lnTo>
                      <a:pt x="2511" y="5611"/>
                    </a:lnTo>
                    <a:lnTo>
                      <a:pt x="2568" y="5621"/>
                    </a:lnTo>
                    <a:lnTo>
                      <a:pt x="2570" y="5657"/>
                    </a:lnTo>
                    <a:lnTo>
                      <a:pt x="2577" y="5701"/>
                    </a:lnTo>
                    <a:lnTo>
                      <a:pt x="2588" y="5756"/>
                    </a:lnTo>
                    <a:lnTo>
                      <a:pt x="2596" y="5787"/>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59" y="5810"/>
                    </a:lnTo>
                    <a:lnTo>
                      <a:pt x="2872" y="5781"/>
                    </a:lnTo>
                    <a:lnTo>
                      <a:pt x="2892" y="5729"/>
                    </a:lnTo>
                    <a:lnTo>
                      <a:pt x="2906" y="5687"/>
                    </a:lnTo>
                    <a:lnTo>
                      <a:pt x="2916" y="5652"/>
                    </a:lnTo>
                    <a:lnTo>
                      <a:pt x="2974" y="5652"/>
                    </a:lnTo>
                    <a:lnTo>
                      <a:pt x="3033" y="5652"/>
                    </a:lnTo>
                    <a:lnTo>
                      <a:pt x="3043" y="5687"/>
                    </a:lnTo>
                    <a:lnTo>
                      <a:pt x="3056" y="5729"/>
                    </a:lnTo>
                    <a:lnTo>
                      <a:pt x="3078" y="5781"/>
                    </a:lnTo>
                    <a:lnTo>
                      <a:pt x="3091" y="581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53" y="5787"/>
                    </a:lnTo>
                    <a:lnTo>
                      <a:pt x="3360" y="5756"/>
                    </a:lnTo>
                    <a:lnTo>
                      <a:pt x="3371" y="5701"/>
                    </a:lnTo>
                    <a:lnTo>
                      <a:pt x="3378" y="5657"/>
                    </a:lnTo>
                    <a:lnTo>
                      <a:pt x="3381" y="5621"/>
                    </a:lnTo>
                    <a:lnTo>
                      <a:pt x="3439" y="5612"/>
                    </a:lnTo>
                    <a:lnTo>
                      <a:pt x="3497" y="5601"/>
                    </a:lnTo>
                    <a:lnTo>
                      <a:pt x="3511" y="5634"/>
                    </a:lnTo>
                    <a:lnTo>
                      <a:pt x="3535" y="5673"/>
                    </a:lnTo>
                    <a:lnTo>
                      <a:pt x="3563" y="5721"/>
                    </a:lnTo>
                    <a:lnTo>
                      <a:pt x="3581" y="5748"/>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5" y="5678"/>
                    </a:lnTo>
                    <a:lnTo>
                      <a:pt x="3838" y="5647"/>
                    </a:lnTo>
                    <a:lnTo>
                      <a:pt x="3840" y="5593"/>
                    </a:lnTo>
                    <a:lnTo>
                      <a:pt x="3838" y="5546"/>
                    </a:lnTo>
                    <a:lnTo>
                      <a:pt x="3835" y="5510"/>
                    </a:lnTo>
                    <a:lnTo>
                      <a:pt x="3891" y="5490"/>
                    </a:lnTo>
                    <a:lnTo>
                      <a:pt x="3945" y="5471"/>
                    </a:lnTo>
                    <a:lnTo>
                      <a:pt x="3965" y="5499"/>
                    </a:lnTo>
                    <a:lnTo>
                      <a:pt x="3995" y="5535"/>
                    </a:lnTo>
                    <a:lnTo>
                      <a:pt x="4031" y="5576"/>
                    </a:lnTo>
                    <a:lnTo>
                      <a:pt x="4052" y="5599"/>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1" y="5489"/>
                    </a:lnTo>
                    <a:lnTo>
                      <a:pt x="4288" y="5457"/>
                    </a:lnTo>
                    <a:lnTo>
                      <a:pt x="4280" y="5401"/>
                    </a:lnTo>
                    <a:lnTo>
                      <a:pt x="4272" y="5357"/>
                    </a:lnTo>
                    <a:lnTo>
                      <a:pt x="4262" y="5322"/>
                    </a:lnTo>
                    <a:lnTo>
                      <a:pt x="4313" y="5292"/>
                    </a:lnTo>
                    <a:lnTo>
                      <a:pt x="4364" y="5263"/>
                    </a:lnTo>
                    <a:lnTo>
                      <a:pt x="4389" y="5289"/>
                    </a:lnTo>
                    <a:lnTo>
                      <a:pt x="4423" y="5319"/>
                    </a:lnTo>
                    <a:lnTo>
                      <a:pt x="4466" y="5354"/>
                    </a:lnTo>
                    <a:lnTo>
                      <a:pt x="4493" y="5372"/>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07" y="5222"/>
                    </a:lnTo>
                    <a:lnTo>
                      <a:pt x="4699" y="5190"/>
                    </a:lnTo>
                    <a:lnTo>
                      <a:pt x="4682" y="5138"/>
                    </a:lnTo>
                    <a:lnTo>
                      <a:pt x="4664" y="5096"/>
                    </a:lnTo>
                    <a:lnTo>
                      <a:pt x="4649" y="5063"/>
                    </a:lnTo>
                    <a:lnTo>
                      <a:pt x="4695" y="5025"/>
                    </a:lnTo>
                    <a:lnTo>
                      <a:pt x="4740" y="4987"/>
                    </a:lnTo>
                    <a:lnTo>
                      <a:pt x="4769" y="5009"/>
                    </a:lnTo>
                    <a:lnTo>
                      <a:pt x="4807" y="5032"/>
                    </a:lnTo>
                    <a:lnTo>
                      <a:pt x="4857" y="5058"/>
                    </a:lnTo>
                    <a:lnTo>
                      <a:pt x="4885" y="5072"/>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71" y="4887"/>
                    </a:lnTo>
                    <a:lnTo>
                      <a:pt x="5058" y="4857"/>
                    </a:lnTo>
                    <a:lnTo>
                      <a:pt x="5032" y="4809"/>
                    </a:lnTo>
                    <a:lnTo>
                      <a:pt x="5007" y="4770"/>
                    </a:lnTo>
                    <a:lnTo>
                      <a:pt x="4987" y="4740"/>
                    </a:lnTo>
                    <a:lnTo>
                      <a:pt x="5025" y="4696"/>
                    </a:lnTo>
                    <a:lnTo>
                      <a:pt x="5063" y="4651"/>
                    </a:lnTo>
                    <a:lnTo>
                      <a:pt x="5094" y="4666"/>
                    </a:lnTo>
                    <a:lnTo>
                      <a:pt x="5137" y="4682"/>
                    </a:lnTo>
                    <a:lnTo>
                      <a:pt x="5190" y="4701"/>
                    </a:lnTo>
                    <a:lnTo>
                      <a:pt x="5220" y="4709"/>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71" y="4493"/>
                    </a:lnTo>
                    <a:lnTo>
                      <a:pt x="5353" y="4468"/>
                    </a:lnTo>
                    <a:lnTo>
                      <a:pt x="5319" y="4424"/>
                    </a:lnTo>
                    <a:lnTo>
                      <a:pt x="5287" y="4389"/>
                    </a:lnTo>
                    <a:lnTo>
                      <a:pt x="5262" y="4364"/>
                    </a:lnTo>
                    <a:lnTo>
                      <a:pt x="5292" y="4313"/>
                    </a:lnTo>
                    <a:lnTo>
                      <a:pt x="5322" y="4262"/>
                    </a:lnTo>
                    <a:lnTo>
                      <a:pt x="5356" y="4272"/>
                    </a:lnTo>
                    <a:lnTo>
                      <a:pt x="5401" y="4282"/>
                    </a:lnTo>
                    <a:lnTo>
                      <a:pt x="5455" y="4288"/>
                    </a:lnTo>
                    <a:lnTo>
                      <a:pt x="5487" y="4292"/>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599" y="4054"/>
                    </a:lnTo>
                    <a:lnTo>
                      <a:pt x="5576" y="4031"/>
                    </a:lnTo>
                    <a:lnTo>
                      <a:pt x="5535" y="3995"/>
                    </a:lnTo>
                    <a:lnTo>
                      <a:pt x="5498" y="3967"/>
                    </a:lnTo>
                    <a:lnTo>
                      <a:pt x="5469" y="3945"/>
                    </a:lnTo>
                    <a:lnTo>
                      <a:pt x="5488" y="3891"/>
                    </a:lnTo>
                    <a:lnTo>
                      <a:pt x="5508" y="3835"/>
                    </a:lnTo>
                    <a:lnTo>
                      <a:pt x="5544" y="3838"/>
                    </a:lnTo>
                    <a:lnTo>
                      <a:pt x="5591" y="3840"/>
                    </a:lnTo>
                    <a:lnTo>
                      <a:pt x="5645" y="3838"/>
                    </a:lnTo>
                    <a:lnTo>
                      <a:pt x="5678" y="3837"/>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46" y="3581"/>
                    </a:lnTo>
                    <a:lnTo>
                      <a:pt x="5719" y="3565"/>
                    </a:lnTo>
                    <a:lnTo>
                      <a:pt x="5671" y="3535"/>
                    </a:lnTo>
                    <a:lnTo>
                      <a:pt x="5630" y="3512"/>
                    </a:lnTo>
                    <a:lnTo>
                      <a:pt x="5599" y="3497"/>
                    </a:lnTo>
                    <a:lnTo>
                      <a:pt x="5609" y="3439"/>
                    </a:lnTo>
                    <a:lnTo>
                      <a:pt x="5619" y="3383"/>
                    </a:lnTo>
                    <a:lnTo>
                      <a:pt x="5655" y="3380"/>
                    </a:lnTo>
                    <a:lnTo>
                      <a:pt x="5699" y="3373"/>
                    </a:lnTo>
                    <a:lnTo>
                      <a:pt x="5755" y="3362"/>
                    </a:lnTo>
                    <a:lnTo>
                      <a:pt x="5785" y="335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close/>
                  </a:path>
                </a:pathLst>
              </a:custGeom>
              <a:gradFill rotWithShape="0">
                <a:gsLst>
                  <a:gs pos="0">
                    <a:srgbClr val="284b76"/>
                  </a:gs>
                  <a:gs pos="100000">
                    <a:srgbClr val="5989c3"/>
                  </a:gs>
                </a:gsLst>
                <a:lin ang="10800000"/>
              </a:gradFill>
              <a:ln w="0">
                <a:noFill/>
              </a:ln>
              <a:effectLst>
                <a:outerShdw dist="38183" dir="2700000" blurRad="0" rotWithShape="0">
                  <a:srgbClr val="000000">
                    <a:alpha val="13000"/>
                  </a:srgbClr>
                </a:outerShdw>
              </a:effectLst>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92" name="Freeform 6"/>
              <p:cNvSpPr/>
              <p:nvPr/>
            </p:nvSpPr>
            <p:spPr>
              <a:xfrm>
                <a:off x="1538280" y="3584520"/>
                <a:ext cx="1549440" cy="1549440"/>
              </a:xfrm>
              <a:custGeom>
                <a:avLst/>
                <a:gdLst>
                  <a:gd name="textAreaLeft" fmla="*/ 0 w 1549440"/>
                  <a:gd name="textAreaRight" fmla="*/ 1549800 w 1549440"/>
                  <a:gd name="textAreaTop" fmla="*/ 0 h 1549440"/>
                  <a:gd name="textAreaBottom" fmla="*/ 1549800 h 1549440"/>
                </a:gdLst>
                <a:ahLst/>
                <a:rect l="textAreaLeft" t="textAreaTop" r="textAreaRight" b="textAreaBottom"/>
                <a:pathLst>
                  <a:path w="5950" h="5950">
                    <a:moveTo>
                      <a:pt x="5904" y="2636"/>
                    </a:moveTo>
                    <a:lnTo>
                      <a:pt x="5904" y="2636"/>
                    </a:lnTo>
                    <a:lnTo>
                      <a:pt x="5912" y="2719"/>
                    </a:lnTo>
                    <a:lnTo>
                      <a:pt x="5919" y="2800"/>
                    </a:lnTo>
                    <a:lnTo>
                      <a:pt x="5930" y="2791"/>
                    </a:lnTo>
                    <a:lnTo>
                      <a:pt x="5938" y="2781"/>
                    </a:lnTo>
                    <a:lnTo>
                      <a:pt x="5945" y="2773"/>
                    </a:lnTo>
                    <a:lnTo>
                      <a:pt x="5948" y="2763"/>
                    </a:lnTo>
                    <a:lnTo>
                      <a:pt x="5950" y="2753"/>
                    </a:lnTo>
                    <a:lnTo>
                      <a:pt x="5950" y="2742"/>
                    </a:lnTo>
                    <a:lnTo>
                      <a:pt x="5948" y="2715"/>
                    </a:lnTo>
                    <a:lnTo>
                      <a:pt x="5945" y="2689"/>
                    </a:lnTo>
                    <a:lnTo>
                      <a:pt x="5943" y="2678"/>
                    </a:lnTo>
                    <a:lnTo>
                      <a:pt x="5940" y="2668"/>
                    </a:lnTo>
                    <a:lnTo>
                      <a:pt x="5935" y="2659"/>
                    </a:lnTo>
                    <a:lnTo>
                      <a:pt x="5927" y="2651"/>
                    </a:lnTo>
                    <a:lnTo>
                      <a:pt x="5917" y="2645"/>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212" y="132"/>
                    </a:lnTo>
                    <a:lnTo>
                      <a:pt x="2295" y="110"/>
                    </a:lnTo>
                    <a:lnTo>
                      <a:pt x="2282" y="99"/>
                    </a:lnTo>
                    <a:lnTo>
                      <a:pt x="2272" y="91"/>
                    </a:lnTo>
                    <a:lnTo>
                      <a:pt x="2260" y="86"/>
                    </a:lnTo>
                    <a:lnTo>
                      <a:pt x="2250" y="84"/>
                    </a:lnTo>
                    <a:lnTo>
                      <a:pt x="2240" y="84"/>
                    </a:lnTo>
                    <a:lnTo>
                      <a:pt x="2229" y="86"/>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88" y="1286"/>
                    </a:lnTo>
                    <a:lnTo>
                      <a:pt x="5436" y="1354"/>
                    </a:lnTo>
                    <a:lnTo>
                      <a:pt x="5441" y="1339"/>
                    </a:lnTo>
                    <a:lnTo>
                      <a:pt x="5444" y="1327"/>
                    </a:lnTo>
                    <a:lnTo>
                      <a:pt x="5445" y="1316"/>
                    </a:lnTo>
                    <a:lnTo>
                      <a:pt x="5444" y="1306"/>
                    </a:lnTo>
                    <a:lnTo>
                      <a:pt x="5441" y="1296"/>
                    </a:lnTo>
                    <a:lnTo>
                      <a:pt x="5436" y="1286"/>
                    </a:lnTo>
                    <a:lnTo>
                      <a:pt x="5419" y="1263"/>
                    </a:lnTo>
                    <a:close/>
                    <a:moveTo>
                      <a:pt x="5919" y="3151"/>
                    </a:moveTo>
                    <a:lnTo>
                      <a:pt x="5919" y="3151"/>
                    </a:lnTo>
                    <a:lnTo>
                      <a:pt x="5912" y="3233"/>
                    </a:lnTo>
                    <a:lnTo>
                      <a:pt x="5904" y="3314"/>
                    </a:lnTo>
                    <a:lnTo>
                      <a:pt x="5917" y="3307"/>
                    </a:lnTo>
                    <a:lnTo>
                      <a:pt x="5927" y="3299"/>
                    </a:lnTo>
                    <a:lnTo>
                      <a:pt x="5935" y="3291"/>
                    </a:lnTo>
                    <a:lnTo>
                      <a:pt x="5940" y="3283"/>
                    </a:lnTo>
                    <a:lnTo>
                      <a:pt x="5943" y="3273"/>
                    </a:lnTo>
                    <a:lnTo>
                      <a:pt x="5945" y="3263"/>
                    </a:lnTo>
                    <a:lnTo>
                      <a:pt x="5948" y="3237"/>
                    </a:lnTo>
                    <a:lnTo>
                      <a:pt x="5950" y="3208"/>
                    </a:lnTo>
                    <a:lnTo>
                      <a:pt x="5950" y="3199"/>
                    </a:lnTo>
                    <a:lnTo>
                      <a:pt x="5948" y="3187"/>
                    </a:lnTo>
                    <a:lnTo>
                      <a:pt x="5945" y="3179"/>
                    </a:lnTo>
                    <a:lnTo>
                      <a:pt x="5938" y="3169"/>
                    </a:lnTo>
                    <a:lnTo>
                      <a:pt x="5930" y="3161"/>
                    </a:lnTo>
                    <a:lnTo>
                      <a:pt x="5919" y="3151"/>
                    </a:lnTo>
                    <a:close/>
                    <a:moveTo>
                      <a:pt x="5800" y="2133"/>
                    </a:moveTo>
                    <a:lnTo>
                      <a:pt x="5800" y="2133"/>
                    </a:lnTo>
                    <a:lnTo>
                      <a:pt x="5821" y="2213"/>
                    </a:lnTo>
                    <a:lnTo>
                      <a:pt x="5843" y="2292"/>
                    </a:lnTo>
                    <a:lnTo>
                      <a:pt x="5853" y="2280"/>
                    </a:lnTo>
                    <a:lnTo>
                      <a:pt x="5859" y="2270"/>
                    </a:lnTo>
                    <a:lnTo>
                      <a:pt x="5864" y="2260"/>
                    </a:lnTo>
                    <a:lnTo>
                      <a:pt x="5866" y="2251"/>
                    </a:lnTo>
                    <a:lnTo>
                      <a:pt x="5866" y="2241"/>
                    </a:lnTo>
                    <a:lnTo>
                      <a:pt x="5864" y="2229"/>
                    </a:lnTo>
                    <a:lnTo>
                      <a:pt x="5858" y="2203"/>
                    </a:lnTo>
                    <a:lnTo>
                      <a:pt x="5851" y="2176"/>
                    </a:lnTo>
                    <a:lnTo>
                      <a:pt x="5846" y="2166"/>
                    </a:lnTo>
                    <a:lnTo>
                      <a:pt x="5841" y="2158"/>
                    </a:lnTo>
                    <a:lnTo>
                      <a:pt x="5835" y="2150"/>
                    </a:lnTo>
                    <a:lnTo>
                      <a:pt x="5826" y="2143"/>
                    </a:lnTo>
                    <a:lnTo>
                      <a:pt x="5815" y="2138"/>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718" y="41"/>
                    </a:lnTo>
                    <a:lnTo>
                      <a:pt x="2803" y="36"/>
                    </a:lnTo>
                    <a:lnTo>
                      <a:pt x="2791" y="21"/>
                    </a:lnTo>
                    <a:lnTo>
                      <a:pt x="2783" y="13"/>
                    </a:lnTo>
                    <a:lnTo>
                      <a:pt x="2773" y="7"/>
                    </a:lnTo>
                    <a:lnTo>
                      <a:pt x="2763" y="2"/>
                    </a:lnTo>
                    <a:lnTo>
                      <a:pt x="2753" y="0"/>
                    </a:lnTo>
                    <a:lnTo>
                      <a:pt x="2742" y="0"/>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664" y="562"/>
                    </a:lnTo>
                    <a:lnTo>
                      <a:pt x="4732" y="610"/>
                    </a:lnTo>
                    <a:lnTo>
                      <a:pt x="4733" y="595"/>
                    </a:lnTo>
                    <a:lnTo>
                      <a:pt x="4732" y="582"/>
                    </a:lnTo>
                    <a:lnTo>
                      <a:pt x="4728" y="570"/>
                    </a:lnTo>
                    <a:lnTo>
                      <a:pt x="4723" y="562"/>
                    </a:lnTo>
                    <a:lnTo>
                      <a:pt x="4717" y="554"/>
                    </a:lnTo>
                    <a:lnTo>
                      <a:pt x="4708" y="546"/>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5058" y="892"/>
                    </a:lnTo>
                    <a:lnTo>
                      <a:pt x="5116" y="951"/>
                    </a:lnTo>
                    <a:lnTo>
                      <a:pt x="5119" y="936"/>
                    </a:lnTo>
                    <a:lnTo>
                      <a:pt x="5121" y="923"/>
                    </a:lnTo>
                    <a:lnTo>
                      <a:pt x="5119" y="912"/>
                    </a:lnTo>
                    <a:lnTo>
                      <a:pt x="5116" y="902"/>
                    </a:lnTo>
                    <a:lnTo>
                      <a:pt x="5111" y="894"/>
                    </a:lnTo>
                    <a:lnTo>
                      <a:pt x="5104" y="884"/>
                    </a:lnTo>
                    <a:lnTo>
                      <a:pt x="5084" y="866"/>
                    </a:lnTo>
                    <a:close/>
                    <a:moveTo>
                      <a:pt x="5681" y="4148"/>
                    </a:moveTo>
                    <a:lnTo>
                      <a:pt x="5681" y="4148"/>
                    </a:lnTo>
                    <a:lnTo>
                      <a:pt x="5648" y="4222"/>
                    </a:lnTo>
                    <a:lnTo>
                      <a:pt x="5612" y="4295"/>
                    </a:lnTo>
                    <a:lnTo>
                      <a:pt x="5627" y="4293"/>
                    </a:lnTo>
                    <a:lnTo>
                      <a:pt x="5640" y="4290"/>
                    </a:lnTo>
                    <a:lnTo>
                      <a:pt x="5648" y="4285"/>
                    </a:lnTo>
                    <a:lnTo>
                      <a:pt x="5657" y="4279"/>
                    </a:lnTo>
                    <a:lnTo>
                      <a:pt x="5663" y="4270"/>
                    </a:lnTo>
                    <a:lnTo>
                      <a:pt x="5668" y="4260"/>
                    </a:lnTo>
                    <a:lnTo>
                      <a:pt x="5680" y="4237"/>
                    </a:lnTo>
                    <a:lnTo>
                      <a:pt x="5691" y="4213"/>
                    </a:lnTo>
                    <a:lnTo>
                      <a:pt x="5694" y="4203"/>
                    </a:lnTo>
                    <a:lnTo>
                      <a:pt x="5696" y="4193"/>
                    </a:lnTo>
                    <a:lnTo>
                      <a:pt x="5696" y="4183"/>
                    </a:lnTo>
                    <a:lnTo>
                      <a:pt x="5694" y="4171"/>
                    </a:lnTo>
                    <a:lnTo>
                      <a:pt x="5689" y="4160"/>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60" y="5668"/>
                    </a:lnTo>
                    <a:lnTo>
                      <a:pt x="4270" y="5663"/>
                    </a:lnTo>
                    <a:lnTo>
                      <a:pt x="4278" y="5657"/>
                    </a:lnTo>
                    <a:lnTo>
                      <a:pt x="4283" y="5650"/>
                    </a:lnTo>
                    <a:lnTo>
                      <a:pt x="4288" y="5640"/>
                    </a:lnTo>
                    <a:lnTo>
                      <a:pt x="4291" y="5629"/>
                    </a:lnTo>
                    <a:lnTo>
                      <a:pt x="4295" y="5614"/>
                    </a:lnTo>
                    <a:lnTo>
                      <a:pt x="4220" y="5649"/>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41" y="2719"/>
                    </a:lnTo>
                    <a:lnTo>
                      <a:pt x="49" y="2635"/>
                    </a:lnTo>
                    <a:lnTo>
                      <a:pt x="34" y="2643"/>
                    </a:lnTo>
                    <a:lnTo>
                      <a:pt x="23" y="2651"/>
                    </a:lnTo>
                    <a:lnTo>
                      <a:pt x="14" y="2658"/>
                    </a:lnTo>
                    <a:lnTo>
                      <a:pt x="10" y="2668"/>
                    </a:lnTo>
                    <a:lnTo>
                      <a:pt x="6" y="2678"/>
                    </a:lnTo>
                    <a:lnTo>
                      <a:pt x="3" y="2687"/>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731" y="307"/>
                    </a:lnTo>
                    <a:lnTo>
                      <a:pt x="1808" y="272"/>
                    </a:lnTo>
                    <a:lnTo>
                      <a:pt x="1793" y="264"/>
                    </a:lnTo>
                    <a:lnTo>
                      <a:pt x="1780" y="257"/>
                    </a:lnTo>
                    <a:lnTo>
                      <a:pt x="1770" y="254"/>
                    </a:lnTo>
                    <a:lnTo>
                      <a:pt x="1759" y="254"/>
                    </a:lnTo>
                    <a:lnTo>
                      <a:pt x="1749" y="256"/>
                    </a:lnTo>
                    <a:lnTo>
                      <a:pt x="1739" y="259"/>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34" y="4666"/>
                    </a:lnTo>
                    <a:lnTo>
                      <a:pt x="5441" y="4656"/>
                    </a:lnTo>
                    <a:lnTo>
                      <a:pt x="5444" y="4646"/>
                    </a:lnTo>
                    <a:lnTo>
                      <a:pt x="5445" y="4636"/>
                    </a:lnTo>
                    <a:lnTo>
                      <a:pt x="5445" y="4626"/>
                    </a:lnTo>
                    <a:lnTo>
                      <a:pt x="5442" y="4615"/>
                    </a:lnTo>
                    <a:lnTo>
                      <a:pt x="5437" y="4600"/>
                    </a:lnTo>
                    <a:lnTo>
                      <a:pt x="5391" y="4668"/>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104" y="5067"/>
                    </a:lnTo>
                    <a:lnTo>
                      <a:pt x="5111" y="5058"/>
                    </a:lnTo>
                    <a:lnTo>
                      <a:pt x="5116" y="5050"/>
                    </a:lnTo>
                    <a:lnTo>
                      <a:pt x="5119" y="5040"/>
                    </a:lnTo>
                    <a:lnTo>
                      <a:pt x="5121" y="5030"/>
                    </a:lnTo>
                    <a:lnTo>
                      <a:pt x="5121" y="5019"/>
                    </a:lnTo>
                    <a:lnTo>
                      <a:pt x="5117" y="5004"/>
                    </a:lnTo>
                    <a:lnTo>
                      <a:pt x="5060" y="5062"/>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39" y="3233"/>
                    </a:lnTo>
                    <a:lnTo>
                      <a:pt x="33" y="3149"/>
                    </a:lnTo>
                    <a:lnTo>
                      <a:pt x="21" y="3159"/>
                    </a:lnTo>
                    <a:lnTo>
                      <a:pt x="11" y="3169"/>
                    </a:lnTo>
                    <a:lnTo>
                      <a:pt x="5" y="3177"/>
                    </a:lnTo>
                    <a:lnTo>
                      <a:pt x="1" y="3187"/>
                    </a:lnTo>
                    <a:lnTo>
                      <a:pt x="0" y="3197"/>
                    </a:lnTo>
                    <a:lnTo>
                      <a:pt x="0" y="3208"/>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306" y="1731"/>
                    </a:lnTo>
                    <a:lnTo>
                      <a:pt x="343" y="1655"/>
                    </a:lnTo>
                    <a:lnTo>
                      <a:pt x="326" y="1657"/>
                    </a:lnTo>
                    <a:lnTo>
                      <a:pt x="313" y="1660"/>
                    </a:lnTo>
                    <a:lnTo>
                      <a:pt x="301" y="1665"/>
                    </a:lnTo>
                    <a:lnTo>
                      <a:pt x="293" y="1672"/>
                    </a:lnTo>
                    <a:lnTo>
                      <a:pt x="287" y="1680"/>
                    </a:lnTo>
                    <a:lnTo>
                      <a:pt x="282" y="1688"/>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62" y="1286"/>
                    </a:lnTo>
                    <a:lnTo>
                      <a:pt x="611" y="1218"/>
                    </a:lnTo>
                    <a:lnTo>
                      <a:pt x="595" y="1217"/>
                    </a:lnTo>
                    <a:lnTo>
                      <a:pt x="582" y="1218"/>
                    </a:lnTo>
                    <a:lnTo>
                      <a:pt x="570" y="1222"/>
                    </a:lnTo>
                    <a:lnTo>
                      <a:pt x="560" y="1225"/>
                    </a:lnTo>
                    <a:lnTo>
                      <a:pt x="554" y="1233"/>
                    </a:lnTo>
                    <a:lnTo>
                      <a:pt x="545" y="1242"/>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93" y="894"/>
                    </a:lnTo>
                    <a:lnTo>
                      <a:pt x="953" y="834"/>
                    </a:lnTo>
                    <a:lnTo>
                      <a:pt x="936" y="831"/>
                    </a:lnTo>
                    <a:lnTo>
                      <a:pt x="923" y="829"/>
                    </a:lnTo>
                    <a:lnTo>
                      <a:pt x="911" y="831"/>
                    </a:lnTo>
                    <a:lnTo>
                      <a:pt x="902" y="833"/>
                    </a:lnTo>
                    <a:lnTo>
                      <a:pt x="893" y="839"/>
                    </a:lnTo>
                    <a:lnTo>
                      <a:pt x="883" y="84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86" y="564"/>
                    </a:lnTo>
                    <a:lnTo>
                      <a:pt x="1357" y="516"/>
                    </a:lnTo>
                    <a:lnTo>
                      <a:pt x="1340" y="509"/>
                    </a:lnTo>
                    <a:lnTo>
                      <a:pt x="1327" y="506"/>
                    </a:lnTo>
                    <a:lnTo>
                      <a:pt x="1315" y="505"/>
                    </a:lnTo>
                    <a:lnTo>
                      <a:pt x="1305" y="506"/>
                    </a:lnTo>
                    <a:lnTo>
                      <a:pt x="1296" y="509"/>
                    </a:lnTo>
                    <a:lnTo>
                      <a:pt x="1286" y="514"/>
                    </a:lnTo>
                    <a:lnTo>
                      <a:pt x="1263" y="531"/>
                    </a:lnTo>
                    <a:close/>
                    <a:moveTo>
                      <a:pt x="5609" y="1655"/>
                    </a:moveTo>
                    <a:lnTo>
                      <a:pt x="5609" y="1655"/>
                    </a:lnTo>
                    <a:lnTo>
                      <a:pt x="5645" y="1730"/>
                    </a:lnTo>
                    <a:lnTo>
                      <a:pt x="5680" y="1805"/>
                    </a:lnTo>
                    <a:lnTo>
                      <a:pt x="5688" y="1792"/>
                    </a:lnTo>
                    <a:lnTo>
                      <a:pt x="5693" y="1781"/>
                    </a:lnTo>
                    <a:lnTo>
                      <a:pt x="5696" y="1769"/>
                    </a:lnTo>
                    <a:lnTo>
                      <a:pt x="5696" y="1759"/>
                    </a:lnTo>
                    <a:lnTo>
                      <a:pt x="5694" y="1749"/>
                    </a:lnTo>
                    <a:lnTo>
                      <a:pt x="5691" y="1739"/>
                    </a:lnTo>
                    <a:lnTo>
                      <a:pt x="5680" y="1715"/>
                    </a:lnTo>
                    <a:lnTo>
                      <a:pt x="5668" y="1690"/>
                    </a:lnTo>
                    <a:lnTo>
                      <a:pt x="5661" y="1680"/>
                    </a:lnTo>
                    <a:lnTo>
                      <a:pt x="5655" y="1672"/>
                    </a:lnTo>
                    <a:lnTo>
                      <a:pt x="5648" y="1665"/>
                    </a:lnTo>
                    <a:lnTo>
                      <a:pt x="5638" y="1660"/>
                    </a:lnTo>
                    <a:lnTo>
                      <a:pt x="5625" y="1657"/>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737" y="5825"/>
                    </a:lnTo>
                    <a:lnTo>
                      <a:pt x="3660" y="5845"/>
                    </a:lnTo>
                    <a:lnTo>
                      <a:pt x="3671" y="5855"/>
                    </a:lnTo>
                    <a:lnTo>
                      <a:pt x="3681" y="5861"/>
                    </a:lnTo>
                    <a:lnTo>
                      <a:pt x="3691" y="5866"/>
                    </a:lnTo>
                    <a:lnTo>
                      <a:pt x="3701" y="5868"/>
                    </a:lnTo>
                    <a:lnTo>
                      <a:pt x="3711" y="5868"/>
                    </a:lnTo>
                    <a:lnTo>
                      <a:pt x="3721" y="5865"/>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23" y="3741"/>
                    </a:lnTo>
                    <a:lnTo>
                      <a:pt x="5800" y="3817"/>
                    </a:lnTo>
                    <a:lnTo>
                      <a:pt x="5815" y="3814"/>
                    </a:lnTo>
                    <a:lnTo>
                      <a:pt x="5826" y="3807"/>
                    </a:lnTo>
                    <a:lnTo>
                      <a:pt x="5835" y="3800"/>
                    </a:lnTo>
                    <a:lnTo>
                      <a:pt x="5841" y="3794"/>
                    </a:lnTo>
                    <a:lnTo>
                      <a:pt x="5846" y="3784"/>
                    </a:lnTo>
                    <a:lnTo>
                      <a:pt x="5851" y="3774"/>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739" y="132"/>
                    </a:lnTo>
                    <a:lnTo>
                      <a:pt x="3818" y="153"/>
                    </a:lnTo>
                    <a:lnTo>
                      <a:pt x="3813" y="138"/>
                    </a:lnTo>
                    <a:lnTo>
                      <a:pt x="3807" y="125"/>
                    </a:lnTo>
                    <a:lnTo>
                      <a:pt x="3802" y="115"/>
                    </a:lnTo>
                    <a:lnTo>
                      <a:pt x="3793" y="109"/>
                    </a:lnTo>
                    <a:lnTo>
                      <a:pt x="3784" y="104"/>
                    </a:lnTo>
                    <a:lnTo>
                      <a:pt x="3774" y="101"/>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29" y="5865"/>
                    </a:lnTo>
                    <a:lnTo>
                      <a:pt x="2239" y="5868"/>
                    </a:lnTo>
                    <a:lnTo>
                      <a:pt x="2249" y="5868"/>
                    </a:lnTo>
                    <a:lnTo>
                      <a:pt x="2258" y="5866"/>
                    </a:lnTo>
                    <a:lnTo>
                      <a:pt x="2268" y="5861"/>
                    </a:lnTo>
                    <a:lnTo>
                      <a:pt x="2280" y="5855"/>
                    </a:lnTo>
                    <a:lnTo>
                      <a:pt x="2291" y="5845"/>
                    </a:lnTo>
                    <a:lnTo>
                      <a:pt x="2214" y="5825"/>
                    </a:lnTo>
                    <a:lnTo>
                      <a:pt x="2133" y="5802"/>
                    </a:lnTo>
                    <a:close/>
                    <a:moveTo>
                      <a:pt x="130" y="2216"/>
                    </a:moveTo>
                    <a:lnTo>
                      <a:pt x="130" y="2216"/>
                    </a:lnTo>
                    <a:lnTo>
                      <a:pt x="153" y="2132"/>
                    </a:lnTo>
                    <a:lnTo>
                      <a:pt x="136" y="2137"/>
                    </a:lnTo>
                    <a:lnTo>
                      <a:pt x="125" y="2143"/>
                    </a:lnTo>
                    <a:lnTo>
                      <a:pt x="115" y="2148"/>
                    </a:lnTo>
                    <a:lnTo>
                      <a:pt x="108" y="2157"/>
                    </a:lnTo>
                    <a:lnTo>
                      <a:pt x="104" y="2166"/>
                    </a:lnTo>
                    <a:lnTo>
                      <a:pt x="99" y="2176"/>
                    </a:lnTo>
                    <a:lnTo>
                      <a:pt x="92" y="2203"/>
                    </a:lnTo>
                    <a:lnTo>
                      <a:pt x="84" y="2229"/>
                    </a:lnTo>
                    <a:lnTo>
                      <a:pt x="82" y="2241"/>
                    </a:lnTo>
                    <a:lnTo>
                      <a:pt x="82" y="2252"/>
                    </a:lnTo>
                    <a:lnTo>
                      <a:pt x="85" y="2262"/>
                    </a:lnTo>
                    <a:lnTo>
                      <a:pt x="90" y="2272"/>
                    </a:lnTo>
                    <a:lnTo>
                      <a:pt x="99" y="2284"/>
                    </a:lnTo>
                    <a:lnTo>
                      <a:pt x="110" y="2295"/>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708" y="5405"/>
                    </a:lnTo>
                    <a:lnTo>
                      <a:pt x="4717" y="5398"/>
                    </a:lnTo>
                    <a:lnTo>
                      <a:pt x="4723" y="5390"/>
                    </a:lnTo>
                    <a:lnTo>
                      <a:pt x="4728" y="5382"/>
                    </a:lnTo>
                    <a:lnTo>
                      <a:pt x="4732" y="5372"/>
                    </a:lnTo>
                    <a:lnTo>
                      <a:pt x="4733" y="5358"/>
                    </a:lnTo>
                    <a:lnTo>
                      <a:pt x="4733" y="5344"/>
                    </a:lnTo>
                    <a:lnTo>
                      <a:pt x="4666" y="5391"/>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05" y="4221"/>
                    </a:lnTo>
                    <a:lnTo>
                      <a:pt x="270" y="4145"/>
                    </a:lnTo>
                    <a:lnTo>
                      <a:pt x="262" y="4158"/>
                    </a:lnTo>
                    <a:lnTo>
                      <a:pt x="255" y="4170"/>
                    </a:lnTo>
                    <a:lnTo>
                      <a:pt x="254" y="4181"/>
                    </a:lnTo>
                    <a:lnTo>
                      <a:pt x="252" y="4191"/>
                    </a:lnTo>
                    <a:lnTo>
                      <a:pt x="254" y="4201"/>
                    </a:lnTo>
                    <a:lnTo>
                      <a:pt x="259" y="4213"/>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28" y="3738"/>
                    </a:lnTo>
                    <a:lnTo>
                      <a:pt x="108" y="3657"/>
                    </a:lnTo>
                    <a:lnTo>
                      <a:pt x="97" y="3670"/>
                    </a:lnTo>
                    <a:lnTo>
                      <a:pt x="89" y="3680"/>
                    </a:lnTo>
                    <a:lnTo>
                      <a:pt x="85" y="3690"/>
                    </a:lnTo>
                    <a:lnTo>
                      <a:pt x="82" y="3700"/>
                    </a:lnTo>
                    <a:lnTo>
                      <a:pt x="82" y="3710"/>
                    </a:lnTo>
                    <a:lnTo>
                      <a:pt x="84" y="3721"/>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890" y="5060"/>
                    </a:lnTo>
                    <a:lnTo>
                      <a:pt x="832" y="5001"/>
                    </a:lnTo>
                    <a:lnTo>
                      <a:pt x="829" y="5016"/>
                    </a:lnTo>
                    <a:lnTo>
                      <a:pt x="829" y="5029"/>
                    </a:lnTo>
                    <a:lnTo>
                      <a:pt x="829" y="5040"/>
                    </a:lnTo>
                    <a:lnTo>
                      <a:pt x="832" y="5050"/>
                    </a:lnTo>
                    <a:lnTo>
                      <a:pt x="837" y="5058"/>
                    </a:lnTo>
                    <a:lnTo>
                      <a:pt x="845" y="5067"/>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282" y="5391"/>
                    </a:lnTo>
                    <a:lnTo>
                      <a:pt x="1216" y="5344"/>
                    </a:lnTo>
                    <a:lnTo>
                      <a:pt x="1216" y="5358"/>
                    </a:lnTo>
                    <a:lnTo>
                      <a:pt x="1218" y="5372"/>
                    </a:lnTo>
                    <a:lnTo>
                      <a:pt x="1221" y="5382"/>
                    </a:lnTo>
                    <a:lnTo>
                      <a:pt x="1226" y="5390"/>
                    </a:lnTo>
                    <a:lnTo>
                      <a:pt x="1233" y="5398"/>
                    </a:lnTo>
                    <a:lnTo>
                      <a:pt x="1241" y="5405"/>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728" y="5649"/>
                    </a:lnTo>
                    <a:lnTo>
                      <a:pt x="1655" y="5612"/>
                    </a:lnTo>
                    <a:lnTo>
                      <a:pt x="1657" y="5627"/>
                    </a:lnTo>
                    <a:lnTo>
                      <a:pt x="1660" y="5640"/>
                    </a:lnTo>
                    <a:lnTo>
                      <a:pt x="1665" y="5650"/>
                    </a:lnTo>
                    <a:lnTo>
                      <a:pt x="1671" y="5657"/>
                    </a:lnTo>
                    <a:lnTo>
                      <a:pt x="1680" y="5663"/>
                    </a:lnTo>
                    <a:lnTo>
                      <a:pt x="1688" y="5668"/>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560" y="4666"/>
                    </a:lnTo>
                    <a:lnTo>
                      <a:pt x="514" y="4597"/>
                    </a:lnTo>
                    <a:lnTo>
                      <a:pt x="507" y="4612"/>
                    </a:lnTo>
                    <a:lnTo>
                      <a:pt x="504" y="4625"/>
                    </a:lnTo>
                    <a:lnTo>
                      <a:pt x="504" y="4636"/>
                    </a:lnTo>
                    <a:lnTo>
                      <a:pt x="506" y="4646"/>
                    </a:lnTo>
                    <a:lnTo>
                      <a:pt x="509" y="4656"/>
                    </a:lnTo>
                    <a:lnTo>
                      <a:pt x="514" y="4664"/>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231" y="5914"/>
                    </a:lnTo>
                    <a:lnTo>
                      <a:pt x="3150" y="5921"/>
                    </a:lnTo>
                    <a:lnTo>
                      <a:pt x="3160" y="5932"/>
                    </a:lnTo>
                    <a:lnTo>
                      <a:pt x="3169" y="5940"/>
                    </a:lnTo>
                    <a:lnTo>
                      <a:pt x="3178" y="5945"/>
                    </a:lnTo>
                    <a:lnTo>
                      <a:pt x="3187" y="5949"/>
                    </a:lnTo>
                    <a:lnTo>
                      <a:pt x="3197" y="5950"/>
                    </a:lnTo>
                    <a:lnTo>
                      <a:pt x="3208" y="5950"/>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231" y="41"/>
                    </a:lnTo>
                    <a:lnTo>
                      <a:pt x="3315" y="51"/>
                    </a:lnTo>
                    <a:lnTo>
                      <a:pt x="3307" y="36"/>
                    </a:lnTo>
                    <a:lnTo>
                      <a:pt x="3300" y="25"/>
                    </a:lnTo>
                    <a:lnTo>
                      <a:pt x="3292" y="16"/>
                    </a:lnTo>
                    <a:lnTo>
                      <a:pt x="3282" y="10"/>
                    </a:lnTo>
                    <a:lnTo>
                      <a:pt x="3274" y="7"/>
                    </a:lnTo>
                    <a:lnTo>
                      <a:pt x="3263" y="5"/>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219" y="307"/>
                    </a:lnTo>
                    <a:lnTo>
                      <a:pt x="4295" y="343"/>
                    </a:lnTo>
                    <a:lnTo>
                      <a:pt x="4293" y="326"/>
                    </a:lnTo>
                    <a:lnTo>
                      <a:pt x="4290" y="313"/>
                    </a:lnTo>
                    <a:lnTo>
                      <a:pt x="4285" y="303"/>
                    </a:lnTo>
                    <a:lnTo>
                      <a:pt x="4278" y="295"/>
                    </a:lnTo>
                    <a:lnTo>
                      <a:pt x="4270" y="289"/>
                    </a:lnTo>
                    <a:lnTo>
                      <a:pt x="4260" y="282"/>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17" y="5914"/>
                    </a:lnTo>
                    <a:lnTo>
                      <a:pt x="2636" y="5906"/>
                    </a:lnTo>
                    <a:lnTo>
                      <a:pt x="2644" y="5919"/>
                    </a:lnTo>
                    <a:lnTo>
                      <a:pt x="2651" y="5929"/>
                    </a:lnTo>
                    <a:lnTo>
                      <a:pt x="2659" y="5936"/>
                    </a:lnTo>
                    <a:lnTo>
                      <a:pt x="2667" y="5940"/>
                    </a:lnTo>
                    <a:lnTo>
                      <a:pt x="2677" y="5944"/>
                    </a:lnTo>
                    <a:lnTo>
                      <a:pt x="2687" y="5947"/>
                    </a:lnTo>
                    <a:lnTo>
                      <a:pt x="2715" y="5949"/>
                    </a:lnTo>
                    <a:close/>
                  </a:path>
                </a:pathLst>
              </a:custGeom>
              <a:gradFill rotWithShape="0">
                <a:gsLst>
                  <a:gs pos="0">
                    <a:srgbClr val="193360"/>
                  </a:gs>
                  <a:gs pos="100000">
                    <a:srgbClr val="afcafd"/>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93" name="Freeform 5"/>
              <p:cNvSpPr/>
              <p:nvPr/>
            </p:nvSpPr>
            <p:spPr>
              <a:xfrm>
                <a:off x="1665720" y="3711960"/>
                <a:ext cx="1294200" cy="1294560"/>
              </a:xfrm>
              <a:custGeom>
                <a:avLst/>
                <a:gdLst>
                  <a:gd name="textAreaLeft" fmla="*/ 0 w 1294200"/>
                  <a:gd name="textAreaRight" fmla="*/ 1294560 w 1294200"/>
                  <a:gd name="textAreaTop" fmla="*/ 0 h 1294560"/>
                  <a:gd name="textAreaBottom" fmla="*/ 1294920 h 129456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close/>
                  </a:path>
                </a:pathLst>
              </a:custGeom>
              <a:gradFill rotWithShape="0">
                <a:gsLst>
                  <a:gs pos="0">
                    <a:srgbClr val="83a7d3"/>
                  </a:gs>
                  <a:gs pos="100000">
                    <a:srgbClr val="182e48"/>
                  </a:gs>
                </a:gsLst>
                <a:lin ang="228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94" name="Freeform 9"/>
              <p:cNvSpPr/>
              <p:nvPr/>
            </p:nvSpPr>
            <p:spPr>
              <a:xfrm flipV="1" rot="10800000">
                <a:off x="2167560" y="4213080"/>
                <a:ext cx="289800" cy="289800"/>
              </a:xfrm>
              <a:custGeom>
                <a:avLst/>
                <a:gdLst>
                  <a:gd name="textAreaLeft" fmla="*/ 0 w 289800"/>
                  <a:gd name="textAreaRight" fmla="*/ 290160 w 289800"/>
                  <a:gd name="textAreaTop" fmla="*/ -360 h 289800"/>
                  <a:gd name="textAreaBottom" fmla="*/ 289800 h 28980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close/>
                  </a:path>
                </a:pathLst>
              </a:custGeom>
              <a:gradFill rotWithShape="0">
                <a:gsLst>
                  <a:gs pos="0">
                    <a:srgbClr val="83a7d3"/>
                  </a:gs>
                  <a:gs pos="100000">
                    <a:srgbClr val="182e48"/>
                  </a:gs>
                </a:gsLst>
                <a:lin ang="1344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95" name="TextBox 144" descr=""/>
            <p:cNvPicPr/>
            <p:nvPr/>
          </p:nvPicPr>
          <p:blipFill>
            <a:blip r:embed="rId9"/>
            <a:stretch/>
          </p:blipFill>
          <p:spPr>
            <a:xfrm>
              <a:off x="1785960" y="3736800"/>
              <a:ext cx="1060920" cy="1109520"/>
            </a:xfrm>
            <a:prstGeom prst="rect">
              <a:avLst/>
            </a:prstGeom>
            <a:ln w="0">
              <a:noFill/>
            </a:ln>
          </p:spPr>
        </p:pic>
        <p:pic>
          <p:nvPicPr>
            <p:cNvPr id="96" name="Rectangle 70" descr=""/>
            <p:cNvPicPr/>
            <p:nvPr/>
          </p:nvPicPr>
          <p:blipFill>
            <a:blip r:embed="rId10"/>
            <a:stretch/>
          </p:blipFill>
          <p:spPr>
            <a:xfrm>
              <a:off x="1663920" y="4425840"/>
              <a:ext cx="1274040" cy="475560"/>
            </a:xfrm>
            <a:prstGeom prst="rect">
              <a:avLst/>
            </a:prstGeom>
            <a:ln w="0">
              <a:noFill/>
            </a:ln>
          </p:spPr>
        </p:pic>
      </p:grpSp>
      <p:grpSp>
        <p:nvGrpSpPr>
          <p:cNvPr id="97" name="Group 44"/>
          <p:cNvGrpSpPr/>
          <p:nvPr/>
        </p:nvGrpSpPr>
        <p:grpSpPr>
          <a:xfrm>
            <a:off x="438120" y="4589640"/>
            <a:ext cx="1549440" cy="1549080"/>
            <a:chOff x="438120" y="4589640"/>
            <a:chExt cx="1549440" cy="1549080"/>
          </a:xfrm>
        </p:grpSpPr>
        <p:grpSp>
          <p:nvGrpSpPr>
            <p:cNvPr id="98" name="Group 45"/>
            <p:cNvGrpSpPr/>
            <p:nvPr/>
          </p:nvGrpSpPr>
          <p:grpSpPr>
            <a:xfrm>
              <a:off x="438120" y="4589640"/>
              <a:ext cx="1549440" cy="1549080"/>
              <a:chOff x="438120" y="4589640"/>
              <a:chExt cx="1549440" cy="1549080"/>
            </a:xfrm>
          </p:grpSpPr>
          <p:sp>
            <p:nvSpPr>
              <p:cNvPr id="99" name="Freeform 5"/>
              <p:cNvSpPr/>
              <p:nvPr/>
            </p:nvSpPr>
            <p:spPr>
              <a:xfrm>
                <a:off x="438120" y="4589640"/>
                <a:ext cx="1549440" cy="1549080"/>
              </a:xfrm>
              <a:custGeom>
                <a:avLst/>
                <a:gdLst/>
                <a:ahLst/>
                <a:rect l="l" t="t" r="r" b="b"/>
                <a:pathLst>
                  <a:path w="5950" h="5950">
                    <a:moveTo>
                      <a:pt x="5840" y="3106"/>
                    </a:moveTo>
                    <a:lnTo>
                      <a:pt x="5840" y="3106"/>
                    </a:lnTo>
                    <a:lnTo>
                      <a:pt x="5808" y="3091"/>
                    </a:lnTo>
                    <a:lnTo>
                      <a:pt x="5780" y="3078"/>
                    </a:lnTo>
                    <a:lnTo>
                      <a:pt x="5727" y="3058"/>
                    </a:lnTo>
                    <a:lnTo>
                      <a:pt x="5685" y="3044"/>
                    </a:lnTo>
                    <a:lnTo>
                      <a:pt x="5650" y="3034"/>
                    </a:lnTo>
                    <a:lnTo>
                      <a:pt x="5650" y="2976"/>
                    </a:lnTo>
                    <a:lnTo>
                      <a:pt x="5650" y="2917"/>
                    </a:lnTo>
                    <a:lnTo>
                      <a:pt x="5685" y="2908"/>
                    </a:lnTo>
                    <a:lnTo>
                      <a:pt x="5727" y="2894"/>
                    </a:lnTo>
                    <a:lnTo>
                      <a:pt x="5780" y="2872"/>
                    </a:lnTo>
                    <a:lnTo>
                      <a:pt x="5808" y="2859"/>
                    </a:lnTo>
                    <a:lnTo>
                      <a:pt x="5840" y="2844"/>
                    </a:lnTo>
                    <a:lnTo>
                      <a:pt x="5879" y="2824"/>
                    </a:lnTo>
                    <a:lnTo>
                      <a:pt x="5907" y="2808"/>
                    </a:lnTo>
                    <a:lnTo>
                      <a:pt x="5927" y="2793"/>
                    </a:lnTo>
                    <a:lnTo>
                      <a:pt x="5935" y="2786"/>
                    </a:lnTo>
                    <a:lnTo>
                      <a:pt x="5940" y="2780"/>
                    </a:lnTo>
                    <a:lnTo>
                      <a:pt x="5945" y="2773"/>
                    </a:lnTo>
                    <a:lnTo>
                      <a:pt x="5947" y="2767"/>
                    </a:lnTo>
                    <a:lnTo>
                      <a:pt x="5950" y="2760"/>
                    </a:lnTo>
                    <a:lnTo>
                      <a:pt x="5950" y="2752"/>
                    </a:lnTo>
                    <a:lnTo>
                      <a:pt x="5950" y="2735"/>
                    </a:lnTo>
                    <a:lnTo>
                      <a:pt x="5948" y="2715"/>
                    </a:lnTo>
                    <a:lnTo>
                      <a:pt x="5947" y="2696"/>
                    </a:lnTo>
                    <a:lnTo>
                      <a:pt x="5943" y="2679"/>
                    </a:lnTo>
                    <a:lnTo>
                      <a:pt x="5942" y="2671"/>
                    </a:lnTo>
                    <a:lnTo>
                      <a:pt x="5938" y="2664"/>
                    </a:lnTo>
                    <a:lnTo>
                      <a:pt x="5935" y="2659"/>
                    </a:lnTo>
                    <a:lnTo>
                      <a:pt x="5929" y="2653"/>
                    </a:lnTo>
                    <a:lnTo>
                      <a:pt x="5922" y="2648"/>
                    </a:lnTo>
                    <a:lnTo>
                      <a:pt x="5914" y="2643"/>
                    </a:lnTo>
                    <a:lnTo>
                      <a:pt x="5892" y="2631"/>
                    </a:lnTo>
                    <a:lnTo>
                      <a:pt x="5861" y="2620"/>
                    </a:lnTo>
                    <a:lnTo>
                      <a:pt x="5818" y="2607"/>
                    </a:lnTo>
                    <a:lnTo>
                      <a:pt x="5785" y="2597"/>
                    </a:lnTo>
                    <a:lnTo>
                      <a:pt x="5755" y="2590"/>
                    </a:lnTo>
                    <a:lnTo>
                      <a:pt x="5699" y="2579"/>
                    </a:lnTo>
                    <a:lnTo>
                      <a:pt x="5655" y="2572"/>
                    </a:lnTo>
                    <a:lnTo>
                      <a:pt x="5619" y="2569"/>
                    </a:lnTo>
                    <a:lnTo>
                      <a:pt x="5609" y="2511"/>
                    </a:lnTo>
                    <a:lnTo>
                      <a:pt x="5599" y="2453"/>
                    </a:lnTo>
                    <a:lnTo>
                      <a:pt x="5630" y="2439"/>
                    </a:lnTo>
                    <a:lnTo>
                      <a:pt x="5671" y="2417"/>
                    </a:lnTo>
                    <a:lnTo>
                      <a:pt x="5719" y="2387"/>
                    </a:lnTo>
                    <a:lnTo>
                      <a:pt x="5746" y="2369"/>
                    </a:lnTo>
                    <a:lnTo>
                      <a:pt x="5774" y="2349"/>
                    </a:lnTo>
                    <a:lnTo>
                      <a:pt x="5808" y="2323"/>
                    </a:lnTo>
                    <a:lnTo>
                      <a:pt x="5833" y="2300"/>
                    </a:lnTo>
                    <a:lnTo>
                      <a:pt x="5851" y="2284"/>
                    </a:lnTo>
                    <a:lnTo>
                      <a:pt x="5858" y="2275"/>
                    </a:lnTo>
                    <a:lnTo>
                      <a:pt x="5861" y="2267"/>
                    </a:lnTo>
                    <a:lnTo>
                      <a:pt x="5864" y="2260"/>
                    </a:lnTo>
                    <a:lnTo>
                      <a:pt x="5866" y="2254"/>
                    </a:lnTo>
                    <a:lnTo>
                      <a:pt x="5866" y="2246"/>
                    </a:lnTo>
                    <a:lnTo>
                      <a:pt x="5866" y="2239"/>
                    </a:lnTo>
                    <a:lnTo>
                      <a:pt x="5863" y="2223"/>
                    </a:lnTo>
                    <a:lnTo>
                      <a:pt x="5858" y="2203"/>
                    </a:lnTo>
                    <a:lnTo>
                      <a:pt x="5853" y="2183"/>
                    </a:lnTo>
                    <a:lnTo>
                      <a:pt x="5848" y="2168"/>
                    </a:lnTo>
                    <a:lnTo>
                      <a:pt x="5843" y="2162"/>
                    </a:lnTo>
                    <a:lnTo>
                      <a:pt x="5840" y="2155"/>
                    </a:lnTo>
                    <a:lnTo>
                      <a:pt x="5835" y="2150"/>
                    </a:lnTo>
                    <a:lnTo>
                      <a:pt x="5828" y="2145"/>
                    </a:lnTo>
                    <a:lnTo>
                      <a:pt x="5821" y="2140"/>
                    </a:lnTo>
                    <a:lnTo>
                      <a:pt x="5812" y="2137"/>
                    </a:lnTo>
                    <a:lnTo>
                      <a:pt x="5788" y="2130"/>
                    </a:lnTo>
                    <a:lnTo>
                      <a:pt x="5755" y="2124"/>
                    </a:lnTo>
                    <a:lnTo>
                      <a:pt x="5711" y="2119"/>
                    </a:lnTo>
                    <a:lnTo>
                      <a:pt x="5676" y="2115"/>
                    </a:lnTo>
                    <a:lnTo>
                      <a:pt x="5645" y="2112"/>
                    </a:lnTo>
                    <a:lnTo>
                      <a:pt x="5589" y="2110"/>
                    </a:lnTo>
                    <a:lnTo>
                      <a:pt x="5543" y="2112"/>
                    </a:lnTo>
                    <a:lnTo>
                      <a:pt x="5508" y="2115"/>
                    </a:lnTo>
                    <a:lnTo>
                      <a:pt x="5488" y="2061"/>
                    </a:lnTo>
                    <a:lnTo>
                      <a:pt x="5467" y="2007"/>
                    </a:lnTo>
                    <a:lnTo>
                      <a:pt x="5497" y="1987"/>
                    </a:lnTo>
                    <a:lnTo>
                      <a:pt x="5533" y="1957"/>
                    </a:lnTo>
                    <a:lnTo>
                      <a:pt x="5574" y="1921"/>
                    </a:lnTo>
                    <a:lnTo>
                      <a:pt x="5597" y="1898"/>
                    </a:lnTo>
                    <a:lnTo>
                      <a:pt x="5622" y="1873"/>
                    </a:lnTo>
                    <a:lnTo>
                      <a:pt x="5652" y="1840"/>
                    </a:lnTo>
                    <a:lnTo>
                      <a:pt x="5673" y="1815"/>
                    </a:lnTo>
                    <a:lnTo>
                      <a:pt x="5688" y="1794"/>
                    </a:lnTo>
                    <a:lnTo>
                      <a:pt x="5691" y="1786"/>
                    </a:lnTo>
                    <a:lnTo>
                      <a:pt x="5694" y="1777"/>
                    </a:lnTo>
                    <a:lnTo>
                      <a:pt x="5696" y="1769"/>
                    </a:lnTo>
                    <a:lnTo>
                      <a:pt x="5696" y="1763"/>
                    </a:lnTo>
                    <a:lnTo>
                      <a:pt x="5696" y="1756"/>
                    </a:lnTo>
                    <a:lnTo>
                      <a:pt x="5694" y="1748"/>
                    </a:lnTo>
                    <a:lnTo>
                      <a:pt x="5688" y="1733"/>
                    </a:lnTo>
                    <a:lnTo>
                      <a:pt x="5680" y="1715"/>
                    </a:lnTo>
                    <a:lnTo>
                      <a:pt x="5671" y="1695"/>
                    </a:lnTo>
                    <a:lnTo>
                      <a:pt x="5663" y="1682"/>
                    </a:lnTo>
                    <a:lnTo>
                      <a:pt x="5658" y="1675"/>
                    </a:lnTo>
                    <a:lnTo>
                      <a:pt x="5653" y="1670"/>
                    </a:lnTo>
                    <a:lnTo>
                      <a:pt x="5648" y="1665"/>
                    </a:lnTo>
                    <a:lnTo>
                      <a:pt x="5642" y="1662"/>
                    </a:lnTo>
                    <a:lnTo>
                      <a:pt x="5633" y="1659"/>
                    </a:lnTo>
                    <a:lnTo>
                      <a:pt x="5624" y="1657"/>
                    </a:lnTo>
                    <a:lnTo>
                      <a:pt x="5599" y="1655"/>
                    </a:lnTo>
                    <a:lnTo>
                      <a:pt x="5566" y="1654"/>
                    </a:lnTo>
                    <a:lnTo>
                      <a:pt x="5521" y="1657"/>
                    </a:lnTo>
                    <a:lnTo>
                      <a:pt x="5487" y="1659"/>
                    </a:lnTo>
                    <a:lnTo>
                      <a:pt x="5454" y="1662"/>
                    </a:lnTo>
                    <a:lnTo>
                      <a:pt x="5398" y="1670"/>
                    </a:lnTo>
                    <a:lnTo>
                      <a:pt x="5353" y="1680"/>
                    </a:lnTo>
                    <a:lnTo>
                      <a:pt x="5319" y="1690"/>
                    </a:lnTo>
                    <a:lnTo>
                      <a:pt x="5290" y="1639"/>
                    </a:lnTo>
                    <a:lnTo>
                      <a:pt x="5261" y="1589"/>
                    </a:lnTo>
                    <a:lnTo>
                      <a:pt x="5286" y="1563"/>
                    </a:lnTo>
                    <a:lnTo>
                      <a:pt x="5317" y="1530"/>
                    </a:lnTo>
                    <a:lnTo>
                      <a:pt x="5352" y="1486"/>
                    </a:lnTo>
                    <a:lnTo>
                      <a:pt x="5371" y="1459"/>
                    </a:lnTo>
                    <a:lnTo>
                      <a:pt x="5391" y="1429"/>
                    </a:lnTo>
                    <a:lnTo>
                      <a:pt x="5414" y="1393"/>
                    </a:lnTo>
                    <a:lnTo>
                      <a:pt x="5431" y="1364"/>
                    </a:lnTo>
                    <a:lnTo>
                      <a:pt x="5441" y="1340"/>
                    </a:lnTo>
                    <a:lnTo>
                      <a:pt x="5444" y="1332"/>
                    </a:lnTo>
                    <a:lnTo>
                      <a:pt x="5445" y="1322"/>
                    </a:lnTo>
                    <a:lnTo>
                      <a:pt x="5445" y="1316"/>
                    </a:lnTo>
                    <a:lnTo>
                      <a:pt x="5444" y="1307"/>
                    </a:lnTo>
                    <a:lnTo>
                      <a:pt x="5442" y="1301"/>
                    </a:lnTo>
                    <a:lnTo>
                      <a:pt x="5441" y="1294"/>
                    </a:lnTo>
                    <a:lnTo>
                      <a:pt x="5431" y="1279"/>
                    </a:lnTo>
                    <a:lnTo>
                      <a:pt x="5419" y="1263"/>
                    </a:lnTo>
                    <a:lnTo>
                      <a:pt x="5408" y="1246"/>
                    </a:lnTo>
                    <a:lnTo>
                      <a:pt x="5398" y="1233"/>
                    </a:lnTo>
                    <a:lnTo>
                      <a:pt x="5393" y="1228"/>
                    </a:lnTo>
                    <a:lnTo>
                      <a:pt x="5386" y="1225"/>
                    </a:lnTo>
                    <a:lnTo>
                      <a:pt x="5380" y="1222"/>
                    </a:lnTo>
                    <a:lnTo>
                      <a:pt x="5373" y="1218"/>
                    </a:lnTo>
                    <a:lnTo>
                      <a:pt x="5363" y="1218"/>
                    </a:lnTo>
                    <a:lnTo>
                      <a:pt x="5355" y="1217"/>
                    </a:lnTo>
                    <a:lnTo>
                      <a:pt x="5330" y="1218"/>
                    </a:lnTo>
                    <a:lnTo>
                      <a:pt x="5297" y="1225"/>
                    </a:lnTo>
                    <a:lnTo>
                      <a:pt x="5253" y="1235"/>
                    </a:lnTo>
                    <a:lnTo>
                      <a:pt x="5220" y="1243"/>
                    </a:lnTo>
                    <a:lnTo>
                      <a:pt x="5188" y="1251"/>
                    </a:lnTo>
                    <a:lnTo>
                      <a:pt x="5134" y="1270"/>
                    </a:lnTo>
                    <a:lnTo>
                      <a:pt x="5091" y="1286"/>
                    </a:lnTo>
                    <a:lnTo>
                      <a:pt x="5060" y="1303"/>
                    </a:lnTo>
                    <a:lnTo>
                      <a:pt x="5022" y="1256"/>
                    </a:lnTo>
                    <a:lnTo>
                      <a:pt x="4985" y="1213"/>
                    </a:lnTo>
                    <a:lnTo>
                      <a:pt x="5005" y="1184"/>
                    </a:lnTo>
                    <a:lnTo>
                      <a:pt x="5030" y="1144"/>
                    </a:lnTo>
                    <a:lnTo>
                      <a:pt x="5056" y="1095"/>
                    </a:lnTo>
                    <a:lnTo>
                      <a:pt x="5071" y="1065"/>
                    </a:lnTo>
                    <a:lnTo>
                      <a:pt x="5084" y="1034"/>
                    </a:lnTo>
                    <a:lnTo>
                      <a:pt x="5103" y="993"/>
                    </a:lnTo>
                    <a:lnTo>
                      <a:pt x="5114" y="961"/>
                    </a:lnTo>
                    <a:lnTo>
                      <a:pt x="5119" y="938"/>
                    </a:lnTo>
                    <a:lnTo>
                      <a:pt x="5121" y="928"/>
                    </a:lnTo>
                    <a:lnTo>
                      <a:pt x="5121" y="918"/>
                    </a:lnTo>
                    <a:lnTo>
                      <a:pt x="5119" y="912"/>
                    </a:lnTo>
                    <a:lnTo>
                      <a:pt x="5117" y="905"/>
                    </a:lnTo>
                    <a:lnTo>
                      <a:pt x="5114" y="899"/>
                    </a:lnTo>
                    <a:lnTo>
                      <a:pt x="5111" y="892"/>
                    </a:lnTo>
                    <a:lnTo>
                      <a:pt x="5099" y="879"/>
                    </a:lnTo>
                    <a:lnTo>
                      <a:pt x="5084" y="866"/>
                    </a:lnTo>
                    <a:lnTo>
                      <a:pt x="5071" y="851"/>
                    </a:lnTo>
                    <a:lnTo>
                      <a:pt x="5058" y="839"/>
                    </a:lnTo>
                    <a:lnTo>
                      <a:pt x="5051" y="836"/>
                    </a:lnTo>
                    <a:lnTo>
                      <a:pt x="5045" y="833"/>
                    </a:lnTo>
                    <a:lnTo>
                      <a:pt x="5038" y="831"/>
                    </a:lnTo>
                    <a:lnTo>
                      <a:pt x="5032" y="829"/>
                    </a:lnTo>
                    <a:lnTo>
                      <a:pt x="5022" y="829"/>
                    </a:lnTo>
                    <a:lnTo>
                      <a:pt x="5012" y="831"/>
                    </a:lnTo>
                    <a:lnTo>
                      <a:pt x="4989" y="838"/>
                    </a:lnTo>
                    <a:lnTo>
                      <a:pt x="4957" y="847"/>
                    </a:lnTo>
                    <a:lnTo>
                      <a:pt x="4916" y="866"/>
                    </a:lnTo>
                    <a:lnTo>
                      <a:pt x="4885" y="879"/>
                    </a:lnTo>
                    <a:lnTo>
                      <a:pt x="4855" y="894"/>
                    </a:lnTo>
                    <a:lnTo>
                      <a:pt x="4806" y="920"/>
                    </a:lnTo>
                    <a:lnTo>
                      <a:pt x="4766" y="945"/>
                    </a:lnTo>
                    <a:lnTo>
                      <a:pt x="4737" y="965"/>
                    </a:lnTo>
                    <a:lnTo>
                      <a:pt x="4694" y="928"/>
                    </a:lnTo>
                    <a:lnTo>
                      <a:pt x="4647" y="890"/>
                    </a:lnTo>
                    <a:lnTo>
                      <a:pt x="4664" y="859"/>
                    </a:lnTo>
                    <a:lnTo>
                      <a:pt x="4680" y="816"/>
                    </a:lnTo>
                    <a:lnTo>
                      <a:pt x="4699" y="762"/>
                    </a:lnTo>
                    <a:lnTo>
                      <a:pt x="4707" y="730"/>
                    </a:lnTo>
                    <a:lnTo>
                      <a:pt x="4717" y="697"/>
                    </a:lnTo>
                    <a:lnTo>
                      <a:pt x="4725" y="653"/>
                    </a:lnTo>
                    <a:lnTo>
                      <a:pt x="4732" y="620"/>
                    </a:lnTo>
                    <a:lnTo>
                      <a:pt x="4733" y="597"/>
                    </a:lnTo>
                    <a:lnTo>
                      <a:pt x="4733" y="587"/>
                    </a:lnTo>
                    <a:lnTo>
                      <a:pt x="4732" y="577"/>
                    </a:lnTo>
                    <a:lnTo>
                      <a:pt x="4728" y="570"/>
                    </a:lnTo>
                    <a:lnTo>
                      <a:pt x="4725" y="564"/>
                    </a:lnTo>
                    <a:lnTo>
                      <a:pt x="4722" y="557"/>
                    </a:lnTo>
                    <a:lnTo>
                      <a:pt x="4717" y="552"/>
                    </a:lnTo>
                    <a:lnTo>
                      <a:pt x="4704" y="542"/>
                    </a:lnTo>
                    <a:lnTo>
                      <a:pt x="4687" y="531"/>
                    </a:lnTo>
                    <a:lnTo>
                      <a:pt x="4671" y="519"/>
                    </a:lnTo>
                    <a:lnTo>
                      <a:pt x="4656" y="511"/>
                    </a:lnTo>
                    <a:lnTo>
                      <a:pt x="4649" y="508"/>
                    </a:lnTo>
                    <a:lnTo>
                      <a:pt x="4643" y="506"/>
                    </a:lnTo>
                    <a:lnTo>
                      <a:pt x="4634" y="505"/>
                    </a:lnTo>
                    <a:lnTo>
                      <a:pt x="4628" y="505"/>
                    </a:lnTo>
                    <a:lnTo>
                      <a:pt x="4618" y="506"/>
                    </a:lnTo>
                    <a:lnTo>
                      <a:pt x="4610" y="509"/>
                    </a:lnTo>
                    <a:lnTo>
                      <a:pt x="4586" y="519"/>
                    </a:lnTo>
                    <a:lnTo>
                      <a:pt x="4557" y="536"/>
                    </a:lnTo>
                    <a:lnTo>
                      <a:pt x="4521" y="559"/>
                    </a:lnTo>
                    <a:lnTo>
                      <a:pt x="4491" y="579"/>
                    </a:lnTo>
                    <a:lnTo>
                      <a:pt x="4464" y="598"/>
                    </a:lnTo>
                    <a:lnTo>
                      <a:pt x="4420" y="633"/>
                    </a:lnTo>
                    <a:lnTo>
                      <a:pt x="4385" y="664"/>
                    </a:lnTo>
                    <a:lnTo>
                      <a:pt x="4361" y="691"/>
                    </a:lnTo>
                    <a:lnTo>
                      <a:pt x="4311" y="661"/>
                    </a:lnTo>
                    <a:lnTo>
                      <a:pt x="4260" y="633"/>
                    </a:lnTo>
                    <a:lnTo>
                      <a:pt x="4270" y="598"/>
                    </a:lnTo>
                    <a:lnTo>
                      <a:pt x="4280" y="552"/>
                    </a:lnTo>
                    <a:lnTo>
                      <a:pt x="4288" y="496"/>
                    </a:lnTo>
                    <a:lnTo>
                      <a:pt x="4291" y="463"/>
                    </a:lnTo>
                    <a:lnTo>
                      <a:pt x="4293" y="429"/>
                    </a:lnTo>
                    <a:lnTo>
                      <a:pt x="4296" y="384"/>
                    </a:lnTo>
                    <a:lnTo>
                      <a:pt x="4295" y="351"/>
                    </a:lnTo>
                    <a:lnTo>
                      <a:pt x="4293" y="326"/>
                    </a:lnTo>
                    <a:lnTo>
                      <a:pt x="4291" y="317"/>
                    </a:lnTo>
                    <a:lnTo>
                      <a:pt x="4288" y="308"/>
                    </a:lnTo>
                    <a:lnTo>
                      <a:pt x="4285" y="302"/>
                    </a:lnTo>
                    <a:lnTo>
                      <a:pt x="4280" y="297"/>
                    </a:lnTo>
                    <a:lnTo>
                      <a:pt x="4275" y="292"/>
                    </a:lnTo>
                    <a:lnTo>
                      <a:pt x="4268" y="287"/>
                    </a:lnTo>
                    <a:lnTo>
                      <a:pt x="4255" y="279"/>
                    </a:lnTo>
                    <a:lnTo>
                      <a:pt x="4235" y="270"/>
                    </a:lnTo>
                    <a:lnTo>
                      <a:pt x="4217" y="262"/>
                    </a:lnTo>
                    <a:lnTo>
                      <a:pt x="4202" y="256"/>
                    </a:lnTo>
                    <a:lnTo>
                      <a:pt x="4194" y="254"/>
                    </a:lnTo>
                    <a:lnTo>
                      <a:pt x="4187" y="254"/>
                    </a:lnTo>
                    <a:lnTo>
                      <a:pt x="4181" y="254"/>
                    </a:lnTo>
                    <a:lnTo>
                      <a:pt x="4173" y="256"/>
                    </a:lnTo>
                    <a:lnTo>
                      <a:pt x="4164" y="259"/>
                    </a:lnTo>
                    <a:lnTo>
                      <a:pt x="4156" y="262"/>
                    </a:lnTo>
                    <a:lnTo>
                      <a:pt x="4136" y="277"/>
                    </a:lnTo>
                    <a:lnTo>
                      <a:pt x="4110" y="298"/>
                    </a:lnTo>
                    <a:lnTo>
                      <a:pt x="4077" y="328"/>
                    </a:lnTo>
                    <a:lnTo>
                      <a:pt x="4052" y="353"/>
                    </a:lnTo>
                    <a:lnTo>
                      <a:pt x="4029" y="376"/>
                    </a:lnTo>
                    <a:lnTo>
                      <a:pt x="3991" y="419"/>
                    </a:lnTo>
                    <a:lnTo>
                      <a:pt x="3963" y="455"/>
                    </a:lnTo>
                    <a:lnTo>
                      <a:pt x="3942" y="485"/>
                    </a:lnTo>
                    <a:lnTo>
                      <a:pt x="3889" y="465"/>
                    </a:lnTo>
                    <a:lnTo>
                      <a:pt x="3835" y="445"/>
                    </a:lnTo>
                    <a:lnTo>
                      <a:pt x="3838" y="411"/>
                    </a:lnTo>
                    <a:lnTo>
                      <a:pt x="3840" y="364"/>
                    </a:lnTo>
                    <a:lnTo>
                      <a:pt x="3838" y="307"/>
                    </a:lnTo>
                    <a:lnTo>
                      <a:pt x="3835" y="274"/>
                    </a:lnTo>
                    <a:lnTo>
                      <a:pt x="3831" y="239"/>
                    </a:lnTo>
                    <a:lnTo>
                      <a:pt x="3826" y="195"/>
                    </a:lnTo>
                    <a:lnTo>
                      <a:pt x="3820" y="162"/>
                    </a:lnTo>
                    <a:lnTo>
                      <a:pt x="3813" y="138"/>
                    </a:lnTo>
                    <a:lnTo>
                      <a:pt x="3810" y="129"/>
                    </a:lnTo>
                    <a:lnTo>
                      <a:pt x="3805" y="122"/>
                    </a:lnTo>
                    <a:lnTo>
                      <a:pt x="3800" y="115"/>
                    </a:lnTo>
                    <a:lnTo>
                      <a:pt x="3795" y="110"/>
                    </a:lnTo>
                    <a:lnTo>
                      <a:pt x="3788" y="107"/>
                    </a:lnTo>
                    <a:lnTo>
                      <a:pt x="3782" y="104"/>
                    </a:lnTo>
                    <a:lnTo>
                      <a:pt x="3767" y="97"/>
                    </a:lnTo>
                    <a:lnTo>
                      <a:pt x="3747" y="92"/>
                    </a:lnTo>
                    <a:lnTo>
                      <a:pt x="3727" y="87"/>
                    </a:lnTo>
                    <a:lnTo>
                      <a:pt x="3711" y="84"/>
                    </a:lnTo>
                    <a:lnTo>
                      <a:pt x="3704" y="84"/>
                    </a:lnTo>
                    <a:lnTo>
                      <a:pt x="3696" y="84"/>
                    </a:lnTo>
                    <a:lnTo>
                      <a:pt x="3690" y="86"/>
                    </a:lnTo>
                    <a:lnTo>
                      <a:pt x="3683" y="89"/>
                    </a:lnTo>
                    <a:lnTo>
                      <a:pt x="3675" y="92"/>
                    </a:lnTo>
                    <a:lnTo>
                      <a:pt x="3666" y="99"/>
                    </a:lnTo>
                    <a:lnTo>
                      <a:pt x="3650" y="117"/>
                    </a:lnTo>
                    <a:lnTo>
                      <a:pt x="3627" y="142"/>
                    </a:lnTo>
                    <a:lnTo>
                      <a:pt x="3601" y="176"/>
                    </a:lnTo>
                    <a:lnTo>
                      <a:pt x="3581" y="206"/>
                    </a:lnTo>
                    <a:lnTo>
                      <a:pt x="3561" y="232"/>
                    </a:lnTo>
                    <a:lnTo>
                      <a:pt x="3531" y="282"/>
                    </a:lnTo>
                    <a:lnTo>
                      <a:pt x="3510" y="323"/>
                    </a:lnTo>
                    <a:lnTo>
                      <a:pt x="3495" y="354"/>
                    </a:lnTo>
                    <a:lnTo>
                      <a:pt x="3439" y="345"/>
                    </a:lnTo>
                    <a:lnTo>
                      <a:pt x="3381" y="335"/>
                    </a:lnTo>
                    <a:lnTo>
                      <a:pt x="3380" y="300"/>
                    </a:lnTo>
                    <a:lnTo>
                      <a:pt x="3373" y="254"/>
                    </a:lnTo>
                    <a:lnTo>
                      <a:pt x="3361" y="198"/>
                    </a:lnTo>
                    <a:lnTo>
                      <a:pt x="3353" y="165"/>
                    </a:lnTo>
                    <a:lnTo>
                      <a:pt x="3343" y="132"/>
                    </a:lnTo>
                    <a:lnTo>
                      <a:pt x="3330" y="89"/>
                    </a:lnTo>
                    <a:lnTo>
                      <a:pt x="3319" y="58"/>
                    </a:lnTo>
                    <a:lnTo>
                      <a:pt x="3307" y="36"/>
                    </a:lnTo>
                    <a:lnTo>
                      <a:pt x="3302" y="28"/>
                    </a:lnTo>
                    <a:lnTo>
                      <a:pt x="3297" y="21"/>
                    </a:lnTo>
                    <a:lnTo>
                      <a:pt x="3291" y="15"/>
                    </a:lnTo>
                    <a:lnTo>
                      <a:pt x="3286" y="12"/>
                    </a:lnTo>
                    <a:lnTo>
                      <a:pt x="3279" y="8"/>
                    </a:lnTo>
                    <a:lnTo>
                      <a:pt x="3271" y="7"/>
                    </a:lnTo>
                    <a:lnTo>
                      <a:pt x="3254" y="3"/>
                    </a:lnTo>
                    <a:lnTo>
                      <a:pt x="3235" y="2"/>
                    </a:lnTo>
                    <a:lnTo>
                      <a:pt x="3215" y="0"/>
                    </a:lnTo>
                    <a:lnTo>
                      <a:pt x="3198" y="0"/>
                    </a:lnTo>
                    <a:lnTo>
                      <a:pt x="3190" y="2"/>
                    </a:lnTo>
                    <a:lnTo>
                      <a:pt x="3183" y="3"/>
                    </a:lnTo>
                    <a:lnTo>
                      <a:pt x="3177" y="5"/>
                    </a:lnTo>
                    <a:lnTo>
                      <a:pt x="3170" y="10"/>
                    </a:lnTo>
                    <a:lnTo>
                      <a:pt x="3164" y="15"/>
                    </a:lnTo>
                    <a:lnTo>
                      <a:pt x="3157" y="23"/>
                    </a:lnTo>
                    <a:lnTo>
                      <a:pt x="3142" y="43"/>
                    </a:lnTo>
                    <a:lnTo>
                      <a:pt x="3126" y="71"/>
                    </a:lnTo>
                    <a:lnTo>
                      <a:pt x="3106" y="110"/>
                    </a:lnTo>
                    <a:lnTo>
                      <a:pt x="3089" y="142"/>
                    </a:lnTo>
                    <a:lnTo>
                      <a:pt x="3076" y="171"/>
                    </a:lnTo>
                    <a:lnTo>
                      <a:pt x="3055" y="226"/>
                    </a:lnTo>
                    <a:lnTo>
                      <a:pt x="3042" y="270"/>
                    </a:lnTo>
                    <a:lnTo>
                      <a:pt x="3032" y="305"/>
                    </a:lnTo>
                    <a:lnTo>
                      <a:pt x="2974" y="303"/>
                    </a:lnTo>
                    <a:lnTo>
                      <a:pt x="2916" y="305"/>
                    </a:lnTo>
                    <a:lnTo>
                      <a:pt x="2908" y="270"/>
                    </a:lnTo>
                    <a:lnTo>
                      <a:pt x="2893" y="226"/>
                    </a:lnTo>
                    <a:lnTo>
                      <a:pt x="2872" y="171"/>
                    </a:lnTo>
                    <a:lnTo>
                      <a:pt x="2859" y="142"/>
                    </a:lnTo>
                    <a:lnTo>
                      <a:pt x="2844" y="110"/>
                    </a:lnTo>
                    <a:lnTo>
                      <a:pt x="2824" y="71"/>
                    </a:lnTo>
                    <a:lnTo>
                      <a:pt x="2806" y="43"/>
                    </a:lnTo>
                    <a:lnTo>
                      <a:pt x="2793" y="23"/>
                    </a:lnTo>
                    <a:lnTo>
                      <a:pt x="2786" y="15"/>
                    </a:lnTo>
                    <a:lnTo>
                      <a:pt x="2779" y="10"/>
                    </a:lnTo>
                    <a:lnTo>
                      <a:pt x="2773" y="5"/>
                    </a:lnTo>
                    <a:lnTo>
                      <a:pt x="2766" y="3"/>
                    </a:lnTo>
                    <a:lnTo>
                      <a:pt x="2758" y="2"/>
                    </a:lnTo>
                    <a:lnTo>
                      <a:pt x="2751" y="0"/>
                    </a:lnTo>
                    <a:lnTo>
                      <a:pt x="2735" y="0"/>
                    </a:lnTo>
                    <a:lnTo>
                      <a:pt x="2715" y="2"/>
                    </a:lnTo>
                    <a:lnTo>
                      <a:pt x="2694" y="3"/>
                    </a:lnTo>
                    <a:lnTo>
                      <a:pt x="2677" y="7"/>
                    </a:lnTo>
                    <a:lnTo>
                      <a:pt x="2671" y="8"/>
                    </a:lnTo>
                    <a:lnTo>
                      <a:pt x="2664" y="12"/>
                    </a:lnTo>
                    <a:lnTo>
                      <a:pt x="2657" y="15"/>
                    </a:lnTo>
                    <a:lnTo>
                      <a:pt x="2652" y="21"/>
                    </a:lnTo>
                    <a:lnTo>
                      <a:pt x="2648" y="28"/>
                    </a:lnTo>
                    <a:lnTo>
                      <a:pt x="2641" y="36"/>
                    </a:lnTo>
                    <a:lnTo>
                      <a:pt x="2631" y="58"/>
                    </a:lnTo>
                    <a:lnTo>
                      <a:pt x="2620" y="89"/>
                    </a:lnTo>
                    <a:lnTo>
                      <a:pt x="2606" y="132"/>
                    </a:lnTo>
                    <a:lnTo>
                      <a:pt x="2596" y="165"/>
                    </a:lnTo>
                    <a:lnTo>
                      <a:pt x="2588" y="198"/>
                    </a:lnTo>
                    <a:lnTo>
                      <a:pt x="2577" y="254"/>
                    </a:lnTo>
                    <a:lnTo>
                      <a:pt x="2570" y="300"/>
                    </a:lnTo>
                    <a:lnTo>
                      <a:pt x="2567" y="335"/>
                    </a:lnTo>
                    <a:lnTo>
                      <a:pt x="2511" y="345"/>
                    </a:lnTo>
                    <a:lnTo>
                      <a:pt x="2455" y="354"/>
                    </a:lnTo>
                    <a:lnTo>
                      <a:pt x="2440" y="323"/>
                    </a:lnTo>
                    <a:lnTo>
                      <a:pt x="2417" y="282"/>
                    </a:lnTo>
                    <a:lnTo>
                      <a:pt x="2387" y="232"/>
                    </a:lnTo>
                    <a:lnTo>
                      <a:pt x="2369" y="206"/>
                    </a:lnTo>
                    <a:lnTo>
                      <a:pt x="2347" y="176"/>
                    </a:lnTo>
                    <a:lnTo>
                      <a:pt x="2321" y="142"/>
                    </a:lnTo>
                    <a:lnTo>
                      <a:pt x="2300" y="117"/>
                    </a:lnTo>
                    <a:lnTo>
                      <a:pt x="2282" y="99"/>
                    </a:lnTo>
                    <a:lnTo>
                      <a:pt x="2275" y="92"/>
                    </a:lnTo>
                    <a:lnTo>
                      <a:pt x="2267" y="89"/>
                    </a:lnTo>
                    <a:lnTo>
                      <a:pt x="2260" y="86"/>
                    </a:lnTo>
                    <a:lnTo>
                      <a:pt x="2252" y="84"/>
                    </a:lnTo>
                    <a:lnTo>
                      <a:pt x="2245" y="84"/>
                    </a:lnTo>
                    <a:lnTo>
                      <a:pt x="2239" y="84"/>
                    </a:lnTo>
                    <a:lnTo>
                      <a:pt x="2222" y="87"/>
                    </a:lnTo>
                    <a:lnTo>
                      <a:pt x="2202" y="92"/>
                    </a:lnTo>
                    <a:lnTo>
                      <a:pt x="2183" y="97"/>
                    </a:lnTo>
                    <a:lnTo>
                      <a:pt x="2166" y="104"/>
                    </a:lnTo>
                    <a:lnTo>
                      <a:pt x="2160" y="107"/>
                    </a:lnTo>
                    <a:lnTo>
                      <a:pt x="2155" y="110"/>
                    </a:lnTo>
                    <a:lnTo>
                      <a:pt x="2148" y="115"/>
                    </a:lnTo>
                    <a:lnTo>
                      <a:pt x="2145" y="122"/>
                    </a:lnTo>
                    <a:lnTo>
                      <a:pt x="2140" y="129"/>
                    </a:lnTo>
                    <a:lnTo>
                      <a:pt x="2136" y="138"/>
                    </a:lnTo>
                    <a:lnTo>
                      <a:pt x="2130" y="162"/>
                    </a:lnTo>
                    <a:lnTo>
                      <a:pt x="2123" y="195"/>
                    </a:lnTo>
                    <a:lnTo>
                      <a:pt x="2118" y="239"/>
                    </a:lnTo>
                    <a:lnTo>
                      <a:pt x="2113" y="274"/>
                    </a:lnTo>
                    <a:lnTo>
                      <a:pt x="2112" y="307"/>
                    </a:lnTo>
                    <a:lnTo>
                      <a:pt x="2110" y="364"/>
                    </a:lnTo>
                    <a:lnTo>
                      <a:pt x="2112" y="411"/>
                    </a:lnTo>
                    <a:lnTo>
                      <a:pt x="2115" y="447"/>
                    </a:lnTo>
                    <a:lnTo>
                      <a:pt x="2061" y="465"/>
                    </a:lnTo>
                    <a:lnTo>
                      <a:pt x="2008" y="486"/>
                    </a:lnTo>
                    <a:lnTo>
                      <a:pt x="1986" y="457"/>
                    </a:lnTo>
                    <a:lnTo>
                      <a:pt x="1958" y="419"/>
                    </a:lnTo>
                    <a:lnTo>
                      <a:pt x="1920" y="376"/>
                    </a:lnTo>
                    <a:lnTo>
                      <a:pt x="1897" y="353"/>
                    </a:lnTo>
                    <a:lnTo>
                      <a:pt x="1871" y="328"/>
                    </a:lnTo>
                    <a:lnTo>
                      <a:pt x="1840" y="298"/>
                    </a:lnTo>
                    <a:lnTo>
                      <a:pt x="1813" y="277"/>
                    </a:lnTo>
                    <a:lnTo>
                      <a:pt x="1793" y="262"/>
                    </a:lnTo>
                    <a:lnTo>
                      <a:pt x="1784" y="259"/>
                    </a:lnTo>
                    <a:lnTo>
                      <a:pt x="1775" y="256"/>
                    </a:lnTo>
                    <a:lnTo>
                      <a:pt x="1769" y="254"/>
                    </a:lnTo>
                    <a:lnTo>
                      <a:pt x="1762" y="254"/>
                    </a:lnTo>
                    <a:lnTo>
                      <a:pt x="1754" y="254"/>
                    </a:lnTo>
                    <a:lnTo>
                      <a:pt x="1747" y="256"/>
                    </a:lnTo>
                    <a:lnTo>
                      <a:pt x="1731" y="262"/>
                    </a:lnTo>
                    <a:lnTo>
                      <a:pt x="1713" y="270"/>
                    </a:lnTo>
                    <a:lnTo>
                      <a:pt x="1695" y="279"/>
                    </a:lnTo>
                    <a:lnTo>
                      <a:pt x="1680" y="287"/>
                    </a:lnTo>
                    <a:lnTo>
                      <a:pt x="1675" y="292"/>
                    </a:lnTo>
                    <a:lnTo>
                      <a:pt x="1670" y="297"/>
                    </a:lnTo>
                    <a:lnTo>
                      <a:pt x="1665" y="302"/>
                    </a:lnTo>
                    <a:lnTo>
                      <a:pt x="1662" y="308"/>
                    </a:lnTo>
                    <a:lnTo>
                      <a:pt x="1658" y="317"/>
                    </a:lnTo>
                    <a:lnTo>
                      <a:pt x="1657" y="326"/>
                    </a:lnTo>
                    <a:lnTo>
                      <a:pt x="1653" y="351"/>
                    </a:lnTo>
                    <a:lnTo>
                      <a:pt x="1653" y="384"/>
                    </a:lnTo>
                    <a:lnTo>
                      <a:pt x="1655" y="429"/>
                    </a:lnTo>
                    <a:lnTo>
                      <a:pt x="1658" y="465"/>
                    </a:lnTo>
                    <a:lnTo>
                      <a:pt x="1662" y="498"/>
                    </a:lnTo>
                    <a:lnTo>
                      <a:pt x="1670" y="554"/>
                    </a:lnTo>
                    <a:lnTo>
                      <a:pt x="1680" y="600"/>
                    </a:lnTo>
                    <a:lnTo>
                      <a:pt x="1690" y="635"/>
                    </a:lnTo>
                    <a:lnTo>
                      <a:pt x="1639" y="663"/>
                    </a:lnTo>
                    <a:lnTo>
                      <a:pt x="1591" y="692"/>
                    </a:lnTo>
                    <a:lnTo>
                      <a:pt x="1564" y="666"/>
                    </a:lnTo>
                    <a:lnTo>
                      <a:pt x="1530" y="635"/>
                    </a:lnTo>
                    <a:lnTo>
                      <a:pt x="1485" y="598"/>
                    </a:lnTo>
                    <a:lnTo>
                      <a:pt x="1459" y="580"/>
                    </a:lnTo>
                    <a:lnTo>
                      <a:pt x="1429" y="559"/>
                    </a:lnTo>
                    <a:lnTo>
                      <a:pt x="1391" y="536"/>
                    </a:lnTo>
                    <a:lnTo>
                      <a:pt x="1363" y="519"/>
                    </a:lnTo>
                    <a:lnTo>
                      <a:pt x="1340" y="509"/>
                    </a:lnTo>
                    <a:lnTo>
                      <a:pt x="1330" y="506"/>
                    </a:lnTo>
                    <a:lnTo>
                      <a:pt x="1322" y="505"/>
                    </a:lnTo>
                    <a:lnTo>
                      <a:pt x="1314" y="505"/>
                    </a:lnTo>
                    <a:lnTo>
                      <a:pt x="1307" y="506"/>
                    </a:lnTo>
                    <a:lnTo>
                      <a:pt x="1301" y="508"/>
                    </a:lnTo>
                    <a:lnTo>
                      <a:pt x="1294" y="511"/>
                    </a:lnTo>
                    <a:lnTo>
                      <a:pt x="1279" y="519"/>
                    </a:lnTo>
                    <a:lnTo>
                      <a:pt x="1263" y="531"/>
                    </a:lnTo>
                    <a:lnTo>
                      <a:pt x="1246" y="542"/>
                    </a:lnTo>
                    <a:lnTo>
                      <a:pt x="1233" y="552"/>
                    </a:lnTo>
                    <a:lnTo>
                      <a:pt x="1228" y="557"/>
                    </a:lnTo>
                    <a:lnTo>
                      <a:pt x="1223" y="564"/>
                    </a:lnTo>
                    <a:lnTo>
                      <a:pt x="1220" y="570"/>
                    </a:lnTo>
                    <a:lnTo>
                      <a:pt x="1218" y="577"/>
                    </a:lnTo>
                    <a:lnTo>
                      <a:pt x="1216" y="587"/>
                    </a:lnTo>
                    <a:lnTo>
                      <a:pt x="1216" y="595"/>
                    </a:lnTo>
                    <a:lnTo>
                      <a:pt x="1218" y="620"/>
                    </a:lnTo>
                    <a:lnTo>
                      <a:pt x="1223" y="653"/>
                    </a:lnTo>
                    <a:lnTo>
                      <a:pt x="1233" y="697"/>
                    </a:lnTo>
                    <a:lnTo>
                      <a:pt x="1241" y="732"/>
                    </a:lnTo>
                    <a:lnTo>
                      <a:pt x="1251" y="763"/>
                    </a:lnTo>
                    <a:lnTo>
                      <a:pt x="1269" y="818"/>
                    </a:lnTo>
                    <a:lnTo>
                      <a:pt x="1287" y="861"/>
                    </a:lnTo>
                    <a:lnTo>
                      <a:pt x="1302" y="894"/>
                    </a:lnTo>
                    <a:lnTo>
                      <a:pt x="1258" y="930"/>
                    </a:lnTo>
                    <a:lnTo>
                      <a:pt x="1213" y="966"/>
                    </a:lnTo>
                    <a:lnTo>
                      <a:pt x="1185" y="946"/>
                    </a:lnTo>
                    <a:lnTo>
                      <a:pt x="1146" y="922"/>
                    </a:lnTo>
                    <a:lnTo>
                      <a:pt x="1094" y="894"/>
                    </a:lnTo>
                    <a:lnTo>
                      <a:pt x="1065" y="879"/>
                    </a:lnTo>
                    <a:lnTo>
                      <a:pt x="1033" y="866"/>
                    </a:lnTo>
                    <a:lnTo>
                      <a:pt x="992" y="847"/>
                    </a:lnTo>
                    <a:lnTo>
                      <a:pt x="961" y="838"/>
                    </a:lnTo>
                    <a:lnTo>
                      <a:pt x="936" y="831"/>
                    </a:lnTo>
                    <a:lnTo>
                      <a:pt x="926" y="829"/>
                    </a:lnTo>
                    <a:lnTo>
                      <a:pt x="918" y="829"/>
                    </a:lnTo>
                    <a:lnTo>
                      <a:pt x="910" y="831"/>
                    </a:lnTo>
                    <a:lnTo>
                      <a:pt x="903" y="833"/>
                    </a:lnTo>
                    <a:lnTo>
                      <a:pt x="897" y="836"/>
                    </a:lnTo>
                    <a:lnTo>
                      <a:pt x="892" y="839"/>
                    </a:lnTo>
                    <a:lnTo>
                      <a:pt x="878" y="851"/>
                    </a:lnTo>
                    <a:lnTo>
                      <a:pt x="864" y="866"/>
                    </a:lnTo>
                    <a:lnTo>
                      <a:pt x="850" y="879"/>
                    </a:lnTo>
                    <a:lnTo>
                      <a:pt x="839" y="892"/>
                    </a:lnTo>
                    <a:lnTo>
                      <a:pt x="834" y="899"/>
                    </a:lnTo>
                    <a:lnTo>
                      <a:pt x="832" y="905"/>
                    </a:lnTo>
                    <a:lnTo>
                      <a:pt x="829" y="912"/>
                    </a:lnTo>
                    <a:lnTo>
                      <a:pt x="829" y="918"/>
                    </a:lnTo>
                    <a:lnTo>
                      <a:pt x="829" y="928"/>
                    </a:lnTo>
                    <a:lnTo>
                      <a:pt x="829" y="938"/>
                    </a:lnTo>
                    <a:lnTo>
                      <a:pt x="836" y="961"/>
                    </a:lnTo>
                    <a:lnTo>
                      <a:pt x="847" y="993"/>
                    </a:lnTo>
                    <a:lnTo>
                      <a:pt x="864" y="1034"/>
                    </a:lnTo>
                    <a:lnTo>
                      <a:pt x="878" y="1067"/>
                    </a:lnTo>
                    <a:lnTo>
                      <a:pt x="893" y="1095"/>
                    </a:lnTo>
                    <a:lnTo>
                      <a:pt x="920" y="1146"/>
                    </a:lnTo>
                    <a:lnTo>
                      <a:pt x="944" y="1185"/>
                    </a:lnTo>
                    <a:lnTo>
                      <a:pt x="966" y="1215"/>
                    </a:lnTo>
                    <a:lnTo>
                      <a:pt x="928" y="1258"/>
                    </a:lnTo>
                    <a:lnTo>
                      <a:pt x="892" y="1303"/>
                    </a:lnTo>
                    <a:lnTo>
                      <a:pt x="859" y="1288"/>
                    </a:lnTo>
                    <a:lnTo>
                      <a:pt x="816" y="1270"/>
                    </a:lnTo>
                    <a:lnTo>
                      <a:pt x="761" y="1251"/>
                    </a:lnTo>
                    <a:lnTo>
                      <a:pt x="730" y="1243"/>
                    </a:lnTo>
                    <a:lnTo>
                      <a:pt x="695" y="1235"/>
                    </a:lnTo>
                    <a:lnTo>
                      <a:pt x="653" y="1225"/>
                    </a:lnTo>
                    <a:lnTo>
                      <a:pt x="620" y="1218"/>
                    </a:lnTo>
                    <a:lnTo>
                      <a:pt x="595" y="1217"/>
                    </a:lnTo>
                    <a:lnTo>
                      <a:pt x="585" y="1218"/>
                    </a:lnTo>
                    <a:lnTo>
                      <a:pt x="577" y="1218"/>
                    </a:lnTo>
                    <a:lnTo>
                      <a:pt x="570" y="1222"/>
                    </a:lnTo>
                    <a:lnTo>
                      <a:pt x="564" y="1225"/>
                    </a:lnTo>
                    <a:lnTo>
                      <a:pt x="557" y="1228"/>
                    </a:lnTo>
                    <a:lnTo>
                      <a:pt x="552" y="1233"/>
                    </a:lnTo>
                    <a:lnTo>
                      <a:pt x="540" y="1246"/>
                    </a:lnTo>
                    <a:lnTo>
                      <a:pt x="529" y="1263"/>
                    </a:lnTo>
                    <a:lnTo>
                      <a:pt x="517" y="1279"/>
                    </a:lnTo>
                    <a:lnTo>
                      <a:pt x="509" y="1294"/>
                    </a:lnTo>
                    <a:lnTo>
                      <a:pt x="506" y="1301"/>
                    </a:lnTo>
                    <a:lnTo>
                      <a:pt x="504" y="1307"/>
                    </a:lnTo>
                    <a:lnTo>
                      <a:pt x="504" y="1316"/>
                    </a:lnTo>
                    <a:lnTo>
                      <a:pt x="504" y="1322"/>
                    </a:lnTo>
                    <a:lnTo>
                      <a:pt x="506" y="1332"/>
                    </a:lnTo>
                    <a:lnTo>
                      <a:pt x="509" y="1340"/>
                    </a:lnTo>
                    <a:lnTo>
                      <a:pt x="519" y="1364"/>
                    </a:lnTo>
                    <a:lnTo>
                      <a:pt x="535" y="1393"/>
                    </a:lnTo>
                    <a:lnTo>
                      <a:pt x="559" y="1429"/>
                    </a:lnTo>
                    <a:lnTo>
                      <a:pt x="578" y="1459"/>
                    </a:lnTo>
                    <a:lnTo>
                      <a:pt x="598" y="1486"/>
                    </a:lnTo>
                    <a:lnTo>
                      <a:pt x="633" y="1530"/>
                    </a:lnTo>
                    <a:lnTo>
                      <a:pt x="664" y="1565"/>
                    </a:lnTo>
                    <a:lnTo>
                      <a:pt x="690" y="1589"/>
                    </a:lnTo>
                    <a:lnTo>
                      <a:pt x="661" y="1639"/>
                    </a:lnTo>
                    <a:lnTo>
                      <a:pt x="633" y="1690"/>
                    </a:lnTo>
                    <a:lnTo>
                      <a:pt x="598" y="1680"/>
                    </a:lnTo>
                    <a:lnTo>
                      <a:pt x="552" y="1670"/>
                    </a:lnTo>
                    <a:lnTo>
                      <a:pt x="496" y="1662"/>
                    </a:lnTo>
                    <a:lnTo>
                      <a:pt x="463" y="1659"/>
                    </a:lnTo>
                    <a:lnTo>
                      <a:pt x="428" y="1657"/>
                    </a:lnTo>
                    <a:lnTo>
                      <a:pt x="384" y="1654"/>
                    </a:lnTo>
                    <a:lnTo>
                      <a:pt x="351" y="1655"/>
                    </a:lnTo>
                    <a:lnTo>
                      <a:pt x="326" y="1657"/>
                    </a:lnTo>
                    <a:lnTo>
                      <a:pt x="316" y="1659"/>
                    </a:lnTo>
                    <a:lnTo>
                      <a:pt x="308" y="1662"/>
                    </a:lnTo>
                    <a:lnTo>
                      <a:pt x="301" y="1665"/>
                    </a:lnTo>
                    <a:lnTo>
                      <a:pt x="295" y="1670"/>
                    </a:lnTo>
                    <a:lnTo>
                      <a:pt x="290" y="1675"/>
                    </a:lnTo>
                    <a:lnTo>
                      <a:pt x="287" y="1682"/>
                    </a:lnTo>
                    <a:lnTo>
                      <a:pt x="278" y="1695"/>
                    </a:lnTo>
                    <a:lnTo>
                      <a:pt x="270" y="1715"/>
                    </a:lnTo>
                    <a:lnTo>
                      <a:pt x="260" y="1733"/>
                    </a:lnTo>
                    <a:lnTo>
                      <a:pt x="255" y="1748"/>
                    </a:lnTo>
                    <a:lnTo>
                      <a:pt x="254" y="1756"/>
                    </a:lnTo>
                    <a:lnTo>
                      <a:pt x="252" y="1763"/>
                    </a:lnTo>
                    <a:lnTo>
                      <a:pt x="254" y="1769"/>
                    </a:lnTo>
                    <a:lnTo>
                      <a:pt x="255" y="1777"/>
                    </a:lnTo>
                    <a:lnTo>
                      <a:pt x="257" y="1786"/>
                    </a:lnTo>
                    <a:lnTo>
                      <a:pt x="262" y="1794"/>
                    </a:lnTo>
                    <a:lnTo>
                      <a:pt x="277" y="1815"/>
                    </a:lnTo>
                    <a:lnTo>
                      <a:pt x="298" y="1840"/>
                    </a:lnTo>
                    <a:lnTo>
                      <a:pt x="328" y="1873"/>
                    </a:lnTo>
                    <a:lnTo>
                      <a:pt x="351" y="1898"/>
                    </a:lnTo>
                    <a:lnTo>
                      <a:pt x="376" y="1921"/>
                    </a:lnTo>
                    <a:lnTo>
                      <a:pt x="418" y="1959"/>
                    </a:lnTo>
                    <a:lnTo>
                      <a:pt x="455" y="1987"/>
                    </a:lnTo>
                    <a:lnTo>
                      <a:pt x="484" y="2008"/>
                    </a:lnTo>
                    <a:lnTo>
                      <a:pt x="465" y="2061"/>
                    </a:lnTo>
                    <a:lnTo>
                      <a:pt x="445" y="2115"/>
                    </a:lnTo>
                    <a:lnTo>
                      <a:pt x="410" y="2112"/>
                    </a:lnTo>
                    <a:lnTo>
                      <a:pt x="362" y="2110"/>
                    </a:lnTo>
                    <a:lnTo>
                      <a:pt x="306" y="2112"/>
                    </a:lnTo>
                    <a:lnTo>
                      <a:pt x="273" y="2115"/>
                    </a:lnTo>
                    <a:lnTo>
                      <a:pt x="237" y="2119"/>
                    </a:lnTo>
                    <a:lnTo>
                      <a:pt x="194" y="2124"/>
                    </a:lnTo>
                    <a:lnTo>
                      <a:pt x="161" y="2130"/>
                    </a:lnTo>
                    <a:lnTo>
                      <a:pt x="136" y="2137"/>
                    </a:lnTo>
                    <a:lnTo>
                      <a:pt x="128" y="2140"/>
                    </a:lnTo>
                    <a:lnTo>
                      <a:pt x="120" y="2145"/>
                    </a:lnTo>
                    <a:lnTo>
                      <a:pt x="115" y="2150"/>
                    </a:lnTo>
                    <a:lnTo>
                      <a:pt x="110" y="2155"/>
                    </a:lnTo>
                    <a:lnTo>
                      <a:pt x="105" y="2162"/>
                    </a:lnTo>
                    <a:lnTo>
                      <a:pt x="102" y="2168"/>
                    </a:lnTo>
                    <a:lnTo>
                      <a:pt x="97" y="2183"/>
                    </a:lnTo>
                    <a:lnTo>
                      <a:pt x="92" y="2203"/>
                    </a:lnTo>
                    <a:lnTo>
                      <a:pt x="85" y="2223"/>
                    </a:lnTo>
                    <a:lnTo>
                      <a:pt x="84" y="2239"/>
                    </a:lnTo>
                    <a:lnTo>
                      <a:pt x="82" y="2246"/>
                    </a:lnTo>
                    <a:lnTo>
                      <a:pt x="84" y="2254"/>
                    </a:lnTo>
                    <a:lnTo>
                      <a:pt x="85" y="2260"/>
                    </a:lnTo>
                    <a:lnTo>
                      <a:pt x="87" y="2267"/>
                    </a:lnTo>
                    <a:lnTo>
                      <a:pt x="92" y="2275"/>
                    </a:lnTo>
                    <a:lnTo>
                      <a:pt x="99" y="2284"/>
                    </a:lnTo>
                    <a:lnTo>
                      <a:pt x="115" y="2300"/>
                    </a:lnTo>
                    <a:lnTo>
                      <a:pt x="141" y="2323"/>
                    </a:lnTo>
                    <a:lnTo>
                      <a:pt x="176" y="2349"/>
                    </a:lnTo>
                    <a:lnTo>
                      <a:pt x="204" y="2369"/>
                    </a:lnTo>
                    <a:lnTo>
                      <a:pt x="232" y="2389"/>
                    </a:lnTo>
                    <a:lnTo>
                      <a:pt x="280" y="2419"/>
                    </a:lnTo>
                    <a:lnTo>
                      <a:pt x="321" y="2440"/>
                    </a:lnTo>
                    <a:lnTo>
                      <a:pt x="354" y="2455"/>
                    </a:lnTo>
                    <a:lnTo>
                      <a:pt x="343" y="2511"/>
                    </a:lnTo>
                    <a:lnTo>
                      <a:pt x="333" y="2569"/>
                    </a:lnTo>
                    <a:lnTo>
                      <a:pt x="298" y="2572"/>
                    </a:lnTo>
                    <a:lnTo>
                      <a:pt x="252" y="2579"/>
                    </a:lnTo>
                    <a:lnTo>
                      <a:pt x="196" y="2589"/>
                    </a:lnTo>
                    <a:lnTo>
                      <a:pt x="165" y="2597"/>
                    </a:lnTo>
                    <a:lnTo>
                      <a:pt x="130" y="2607"/>
                    </a:lnTo>
                    <a:lnTo>
                      <a:pt x="89" y="2620"/>
                    </a:lnTo>
                    <a:lnTo>
                      <a:pt x="57" y="2631"/>
                    </a:lnTo>
                    <a:lnTo>
                      <a:pt x="34" y="2643"/>
                    </a:lnTo>
                    <a:lnTo>
                      <a:pt x="26" y="2648"/>
                    </a:lnTo>
                    <a:lnTo>
                      <a:pt x="19" y="2653"/>
                    </a:lnTo>
                    <a:lnTo>
                      <a:pt x="14" y="2659"/>
                    </a:lnTo>
                    <a:lnTo>
                      <a:pt x="11" y="2664"/>
                    </a:lnTo>
                    <a:lnTo>
                      <a:pt x="8" y="2671"/>
                    </a:lnTo>
                    <a:lnTo>
                      <a:pt x="5" y="2679"/>
                    </a:lnTo>
                    <a:lnTo>
                      <a:pt x="3" y="2696"/>
                    </a:lnTo>
                    <a:lnTo>
                      <a:pt x="1" y="2715"/>
                    </a:lnTo>
                    <a:lnTo>
                      <a:pt x="0" y="2735"/>
                    </a:lnTo>
                    <a:lnTo>
                      <a:pt x="0" y="2752"/>
                    </a:lnTo>
                    <a:lnTo>
                      <a:pt x="0" y="2760"/>
                    </a:lnTo>
                    <a:lnTo>
                      <a:pt x="1" y="2767"/>
                    </a:lnTo>
                    <a:lnTo>
                      <a:pt x="5" y="2773"/>
                    </a:lnTo>
                    <a:lnTo>
                      <a:pt x="8" y="2780"/>
                    </a:lnTo>
                    <a:lnTo>
                      <a:pt x="14" y="2786"/>
                    </a:lnTo>
                    <a:lnTo>
                      <a:pt x="21" y="2793"/>
                    </a:lnTo>
                    <a:lnTo>
                      <a:pt x="41" y="2808"/>
                    </a:lnTo>
                    <a:lnTo>
                      <a:pt x="71" y="2824"/>
                    </a:lnTo>
                    <a:lnTo>
                      <a:pt x="110" y="2844"/>
                    </a:lnTo>
                    <a:lnTo>
                      <a:pt x="141" y="2861"/>
                    </a:lnTo>
                    <a:lnTo>
                      <a:pt x="171" y="2874"/>
                    </a:lnTo>
                    <a:lnTo>
                      <a:pt x="224" y="2894"/>
                    </a:lnTo>
                    <a:lnTo>
                      <a:pt x="268" y="2908"/>
                    </a:lnTo>
                    <a:lnTo>
                      <a:pt x="303" y="2918"/>
                    </a:lnTo>
                    <a:lnTo>
                      <a:pt x="301" y="2976"/>
                    </a:lnTo>
                    <a:lnTo>
                      <a:pt x="303" y="3034"/>
                    </a:lnTo>
                    <a:lnTo>
                      <a:pt x="268" y="3042"/>
                    </a:lnTo>
                    <a:lnTo>
                      <a:pt x="224" y="3057"/>
                    </a:lnTo>
                    <a:lnTo>
                      <a:pt x="171" y="3078"/>
                    </a:lnTo>
                    <a:lnTo>
                      <a:pt x="141" y="3091"/>
                    </a:lnTo>
                    <a:lnTo>
                      <a:pt x="110" y="3106"/>
                    </a:lnTo>
                    <a:lnTo>
                      <a:pt x="71" y="3126"/>
                    </a:lnTo>
                    <a:lnTo>
                      <a:pt x="41" y="3144"/>
                    </a:lnTo>
                    <a:lnTo>
                      <a:pt x="21" y="3157"/>
                    </a:lnTo>
                    <a:lnTo>
                      <a:pt x="14" y="3164"/>
                    </a:lnTo>
                    <a:lnTo>
                      <a:pt x="8" y="3171"/>
                    </a:lnTo>
                    <a:lnTo>
                      <a:pt x="5" y="3177"/>
                    </a:lnTo>
                    <a:lnTo>
                      <a:pt x="1" y="3184"/>
                    </a:lnTo>
                    <a:lnTo>
                      <a:pt x="0" y="3192"/>
                    </a:lnTo>
                    <a:lnTo>
                      <a:pt x="0" y="3199"/>
                    </a:lnTo>
                    <a:lnTo>
                      <a:pt x="0" y="3215"/>
                    </a:lnTo>
                    <a:lnTo>
                      <a:pt x="1" y="3237"/>
                    </a:lnTo>
                    <a:lnTo>
                      <a:pt x="3" y="3256"/>
                    </a:lnTo>
                    <a:lnTo>
                      <a:pt x="5" y="3273"/>
                    </a:lnTo>
                    <a:lnTo>
                      <a:pt x="8" y="3279"/>
                    </a:lnTo>
                    <a:lnTo>
                      <a:pt x="11" y="3286"/>
                    </a:lnTo>
                    <a:lnTo>
                      <a:pt x="14" y="3293"/>
                    </a:lnTo>
                    <a:lnTo>
                      <a:pt x="19" y="3298"/>
                    </a:lnTo>
                    <a:lnTo>
                      <a:pt x="26" y="3302"/>
                    </a:lnTo>
                    <a:lnTo>
                      <a:pt x="34" y="3309"/>
                    </a:lnTo>
                    <a:lnTo>
                      <a:pt x="57" y="3319"/>
                    </a:lnTo>
                    <a:lnTo>
                      <a:pt x="89" y="3330"/>
                    </a:lnTo>
                    <a:lnTo>
                      <a:pt x="130" y="3344"/>
                    </a:lnTo>
                    <a:lnTo>
                      <a:pt x="165" y="3354"/>
                    </a:lnTo>
                    <a:lnTo>
                      <a:pt x="196" y="3362"/>
                    </a:lnTo>
                    <a:lnTo>
                      <a:pt x="250" y="3373"/>
                    </a:lnTo>
                    <a:lnTo>
                      <a:pt x="296" y="3380"/>
                    </a:lnTo>
                    <a:lnTo>
                      <a:pt x="333" y="3383"/>
                    </a:lnTo>
                    <a:lnTo>
                      <a:pt x="343" y="3439"/>
                    </a:lnTo>
                    <a:lnTo>
                      <a:pt x="352" y="3497"/>
                    </a:lnTo>
                    <a:lnTo>
                      <a:pt x="320" y="3512"/>
                    </a:lnTo>
                    <a:lnTo>
                      <a:pt x="280" y="3533"/>
                    </a:lnTo>
                    <a:lnTo>
                      <a:pt x="230" y="3563"/>
                    </a:lnTo>
                    <a:lnTo>
                      <a:pt x="204" y="3581"/>
                    </a:lnTo>
                    <a:lnTo>
                      <a:pt x="176" y="3603"/>
                    </a:lnTo>
                    <a:lnTo>
                      <a:pt x="141" y="3629"/>
                    </a:lnTo>
                    <a:lnTo>
                      <a:pt x="115" y="3650"/>
                    </a:lnTo>
                    <a:lnTo>
                      <a:pt x="99" y="3668"/>
                    </a:lnTo>
                    <a:lnTo>
                      <a:pt x="92" y="3677"/>
                    </a:lnTo>
                    <a:lnTo>
                      <a:pt x="87" y="3683"/>
                    </a:lnTo>
                    <a:lnTo>
                      <a:pt x="85" y="3690"/>
                    </a:lnTo>
                    <a:lnTo>
                      <a:pt x="84" y="3698"/>
                    </a:lnTo>
                    <a:lnTo>
                      <a:pt x="82" y="3705"/>
                    </a:lnTo>
                    <a:lnTo>
                      <a:pt x="84" y="3711"/>
                    </a:lnTo>
                    <a:lnTo>
                      <a:pt x="85" y="3728"/>
                    </a:lnTo>
                    <a:lnTo>
                      <a:pt x="92" y="3748"/>
                    </a:lnTo>
                    <a:lnTo>
                      <a:pt x="97" y="3767"/>
                    </a:lnTo>
                    <a:lnTo>
                      <a:pt x="102" y="3784"/>
                    </a:lnTo>
                    <a:lnTo>
                      <a:pt x="105" y="3790"/>
                    </a:lnTo>
                    <a:lnTo>
                      <a:pt x="110" y="3795"/>
                    </a:lnTo>
                    <a:lnTo>
                      <a:pt x="115" y="3802"/>
                    </a:lnTo>
                    <a:lnTo>
                      <a:pt x="120" y="3805"/>
                    </a:lnTo>
                    <a:lnTo>
                      <a:pt x="128" y="3810"/>
                    </a:lnTo>
                    <a:lnTo>
                      <a:pt x="136" y="3814"/>
                    </a:lnTo>
                    <a:lnTo>
                      <a:pt x="161" y="3820"/>
                    </a:lnTo>
                    <a:lnTo>
                      <a:pt x="194" y="3827"/>
                    </a:lnTo>
                    <a:lnTo>
                      <a:pt x="237" y="3832"/>
                    </a:lnTo>
                    <a:lnTo>
                      <a:pt x="272" y="3837"/>
                    </a:lnTo>
                    <a:lnTo>
                      <a:pt x="305" y="3838"/>
                    </a:lnTo>
                    <a:lnTo>
                      <a:pt x="361" y="3840"/>
                    </a:lnTo>
                    <a:lnTo>
                      <a:pt x="407" y="3838"/>
                    </a:lnTo>
                    <a:lnTo>
                      <a:pt x="443" y="3835"/>
                    </a:lnTo>
                    <a:lnTo>
                      <a:pt x="463" y="3889"/>
                    </a:lnTo>
                    <a:lnTo>
                      <a:pt x="483" y="3944"/>
                    </a:lnTo>
                    <a:lnTo>
                      <a:pt x="453" y="3965"/>
                    </a:lnTo>
                    <a:lnTo>
                      <a:pt x="417" y="3993"/>
                    </a:lnTo>
                    <a:lnTo>
                      <a:pt x="374" y="4031"/>
                    </a:lnTo>
                    <a:lnTo>
                      <a:pt x="351" y="4053"/>
                    </a:lnTo>
                    <a:lnTo>
                      <a:pt x="328" y="4079"/>
                    </a:lnTo>
                    <a:lnTo>
                      <a:pt x="298" y="4110"/>
                    </a:lnTo>
                    <a:lnTo>
                      <a:pt x="277" y="4137"/>
                    </a:lnTo>
                    <a:lnTo>
                      <a:pt x="262" y="4157"/>
                    </a:lnTo>
                    <a:lnTo>
                      <a:pt x="257" y="4166"/>
                    </a:lnTo>
                    <a:lnTo>
                      <a:pt x="255" y="4175"/>
                    </a:lnTo>
                    <a:lnTo>
                      <a:pt x="254" y="4181"/>
                    </a:lnTo>
                    <a:lnTo>
                      <a:pt x="252" y="4189"/>
                    </a:lnTo>
                    <a:lnTo>
                      <a:pt x="254" y="4196"/>
                    </a:lnTo>
                    <a:lnTo>
                      <a:pt x="255" y="4203"/>
                    </a:lnTo>
                    <a:lnTo>
                      <a:pt x="260" y="4219"/>
                    </a:lnTo>
                    <a:lnTo>
                      <a:pt x="270" y="4237"/>
                    </a:lnTo>
                    <a:lnTo>
                      <a:pt x="278" y="4255"/>
                    </a:lnTo>
                    <a:lnTo>
                      <a:pt x="287" y="4270"/>
                    </a:lnTo>
                    <a:lnTo>
                      <a:pt x="290" y="4275"/>
                    </a:lnTo>
                    <a:lnTo>
                      <a:pt x="295" y="4282"/>
                    </a:lnTo>
                    <a:lnTo>
                      <a:pt x="301" y="4285"/>
                    </a:lnTo>
                    <a:lnTo>
                      <a:pt x="308" y="4288"/>
                    </a:lnTo>
                    <a:lnTo>
                      <a:pt x="316" y="4292"/>
                    </a:lnTo>
                    <a:lnTo>
                      <a:pt x="326" y="4293"/>
                    </a:lnTo>
                    <a:lnTo>
                      <a:pt x="351" y="4297"/>
                    </a:lnTo>
                    <a:lnTo>
                      <a:pt x="384" y="4297"/>
                    </a:lnTo>
                    <a:lnTo>
                      <a:pt x="428" y="4295"/>
                    </a:lnTo>
                    <a:lnTo>
                      <a:pt x="463" y="4292"/>
                    </a:lnTo>
                    <a:lnTo>
                      <a:pt x="494" y="4288"/>
                    </a:lnTo>
                    <a:lnTo>
                      <a:pt x="550" y="4280"/>
                    </a:lnTo>
                    <a:lnTo>
                      <a:pt x="596" y="4272"/>
                    </a:lnTo>
                    <a:lnTo>
                      <a:pt x="631" y="4262"/>
                    </a:lnTo>
                    <a:lnTo>
                      <a:pt x="659" y="4311"/>
                    </a:lnTo>
                    <a:lnTo>
                      <a:pt x="689" y="4363"/>
                    </a:lnTo>
                    <a:lnTo>
                      <a:pt x="664" y="4387"/>
                    </a:lnTo>
                    <a:lnTo>
                      <a:pt x="633" y="4422"/>
                    </a:lnTo>
                    <a:lnTo>
                      <a:pt x="596" y="4466"/>
                    </a:lnTo>
                    <a:lnTo>
                      <a:pt x="578" y="4493"/>
                    </a:lnTo>
                    <a:lnTo>
                      <a:pt x="559" y="4521"/>
                    </a:lnTo>
                    <a:lnTo>
                      <a:pt x="535" y="4559"/>
                    </a:lnTo>
                    <a:lnTo>
                      <a:pt x="519" y="4587"/>
                    </a:lnTo>
                    <a:lnTo>
                      <a:pt x="509" y="4610"/>
                    </a:lnTo>
                    <a:lnTo>
                      <a:pt x="506" y="4620"/>
                    </a:lnTo>
                    <a:lnTo>
                      <a:pt x="504" y="4628"/>
                    </a:lnTo>
                    <a:lnTo>
                      <a:pt x="504" y="4636"/>
                    </a:lnTo>
                    <a:lnTo>
                      <a:pt x="504" y="4643"/>
                    </a:lnTo>
                    <a:lnTo>
                      <a:pt x="506" y="4649"/>
                    </a:lnTo>
                    <a:lnTo>
                      <a:pt x="509" y="4656"/>
                    </a:lnTo>
                    <a:lnTo>
                      <a:pt x="517" y="4671"/>
                    </a:lnTo>
                    <a:lnTo>
                      <a:pt x="529" y="4687"/>
                    </a:lnTo>
                    <a:lnTo>
                      <a:pt x="540" y="4704"/>
                    </a:lnTo>
                    <a:lnTo>
                      <a:pt x="552" y="4717"/>
                    </a:lnTo>
                    <a:lnTo>
                      <a:pt x="557" y="4722"/>
                    </a:lnTo>
                    <a:lnTo>
                      <a:pt x="564" y="4727"/>
                    </a:lnTo>
                    <a:lnTo>
                      <a:pt x="570" y="4730"/>
                    </a:lnTo>
                    <a:lnTo>
                      <a:pt x="577" y="4732"/>
                    </a:lnTo>
                    <a:lnTo>
                      <a:pt x="585" y="4734"/>
                    </a:lnTo>
                    <a:lnTo>
                      <a:pt x="595" y="4734"/>
                    </a:lnTo>
                    <a:lnTo>
                      <a:pt x="620" y="4732"/>
                    </a:lnTo>
                    <a:lnTo>
                      <a:pt x="653" y="4727"/>
                    </a:lnTo>
                    <a:lnTo>
                      <a:pt x="695" y="4717"/>
                    </a:lnTo>
                    <a:lnTo>
                      <a:pt x="730" y="4709"/>
                    </a:lnTo>
                    <a:lnTo>
                      <a:pt x="760" y="4699"/>
                    </a:lnTo>
                    <a:lnTo>
                      <a:pt x="814" y="4682"/>
                    </a:lnTo>
                    <a:lnTo>
                      <a:pt x="857" y="4664"/>
                    </a:lnTo>
                    <a:lnTo>
                      <a:pt x="888" y="4649"/>
                    </a:lnTo>
                    <a:lnTo>
                      <a:pt x="926" y="4694"/>
                    </a:lnTo>
                    <a:lnTo>
                      <a:pt x="964" y="4739"/>
                    </a:lnTo>
                    <a:lnTo>
                      <a:pt x="943" y="4768"/>
                    </a:lnTo>
                    <a:lnTo>
                      <a:pt x="918" y="4808"/>
                    </a:lnTo>
                    <a:lnTo>
                      <a:pt x="892" y="4857"/>
                    </a:lnTo>
                    <a:lnTo>
                      <a:pt x="878" y="4885"/>
                    </a:lnTo>
                    <a:lnTo>
                      <a:pt x="864" y="4917"/>
                    </a:lnTo>
                    <a:lnTo>
                      <a:pt x="847" y="4958"/>
                    </a:lnTo>
                    <a:lnTo>
                      <a:pt x="836" y="4989"/>
                    </a:lnTo>
                    <a:lnTo>
                      <a:pt x="829" y="5014"/>
                    </a:lnTo>
                    <a:lnTo>
                      <a:pt x="829" y="5024"/>
                    </a:lnTo>
                    <a:lnTo>
                      <a:pt x="829" y="5032"/>
                    </a:lnTo>
                    <a:lnTo>
                      <a:pt x="829" y="5040"/>
                    </a:lnTo>
                    <a:lnTo>
                      <a:pt x="832" y="5047"/>
                    </a:lnTo>
                    <a:lnTo>
                      <a:pt x="834" y="5053"/>
                    </a:lnTo>
                    <a:lnTo>
                      <a:pt x="839" y="5060"/>
                    </a:lnTo>
                    <a:lnTo>
                      <a:pt x="850" y="5072"/>
                    </a:lnTo>
                    <a:lnTo>
                      <a:pt x="864" y="5086"/>
                    </a:lnTo>
                    <a:lnTo>
                      <a:pt x="878" y="5101"/>
                    </a:lnTo>
                    <a:lnTo>
                      <a:pt x="892" y="5111"/>
                    </a:lnTo>
                    <a:lnTo>
                      <a:pt x="897" y="5116"/>
                    </a:lnTo>
                    <a:lnTo>
                      <a:pt x="903" y="5119"/>
                    </a:lnTo>
                    <a:lnTo>
                      <a:pt x="910" y="5121"/>
                    </a:lnTo>
                    <a:lnTo>
                      <a:pt x="918" y="5121"/>
                    </a:lnTo>
                    <a:lnTo>
                      <a:pt x="926" y="5121"/>
                    </a:lnTo>
                    <a:lnTo>
                      <a:pt x="936" y="5121"/>
                    </a:lnTo>
                    <a:lnTo>
                      <a:pt x="961" y="5114"/>
                    </a:lnTo>
                    <a:lnTo>
                      <a:pt x="992" y="5103"/>
                    </a:lnTo>
                    <a:lnTo>
                      <a:pt x="1033" y="5086"/>
                    </a:lnTo>
                    <a:lnTo>
                      <a:pt x="1065" y="5072"/>
                    </a:lnTo>
                    <a:lnTo>
                      <a:pt x="1093" y="5058"/>
                    </a:lnTo>
                    <a:lnTo>
                      <a:pt x="1142" y="5032"/>
                    </a:lnTo>
                    <a:lnTo>
                      <a:pt x="1182" y="5007"/>
                    </a:lnTo>
                    <a:lnTo>
                      <a:pt x="1211" y="4987"/>
                    </a:lnTo>
                    <a:lnTo>
                      <a:pt x="1254" y="5025"/>
                    </a:lnTo>
                    <a:lnTo>
                      <a:pt x="1301" y="5062"/>
                    </a:lnTo>
                    <a:lnTo>
                      <a:pt x="1286" y="5095"/>
                    </a:lnTo>
                    <a:lnTo>
                      <a:pt x="1268" y="5138"/>
                    </a:lnTo>
                    <a:lnTo>
                      <a:pt x="1249" y="5190"/>
                    </a:lnTo>
                    <a:lnTo>
                      <a:pt x="1241" y="5222"/>
                    </a:lnTo>
                    <a:lnTo>
                      <a:pt x="1233" y="5255"/>
                    </a:lnTo>
                    <a:lnTo>
                      <a:pt x="1223" y="5297"/>
                    </a:lnTo>
                    <a:lnTo>
                      <a:pt x="1218" y="5330"/>
                    </a:lnTo>
                    <a:lnTo>
                      <a:pt x="1216" y="5355"/>
                    </a:lnTo>
                    <a:lnTo>
                      <a:pt x="1216" y="5365"/>
                    </a:lnTo>
                    <a:lnTo>
                      <a:pt x="1218" y="5373"/>
                    </a:lnTo>
                    <a:lnTo>
                      <a:pt x="1220" y="5382"/>
                    </a:lnTo>
                    <a:lnTo>
                      <a:pt x="1223" y="5386"/>
                    </a:lnTo>
                    <a:lnTo>
                      <a:pt x="1228" y="5393"/>
                    </a:lnTo>
                    <a:lnTo>
                      <a:pt x="1233" y="5398"/>
                    </a:lnTo>
                    <a:lnTo>
                      <a:pt x="1246" y="5410"/>
                    </a:lnTo>
                    <a:lnTo>
                      <a:pt x="1263" y="5421"/>
                    </a:lnTo>
                    <a:lnTo>
                      <a:pt x="1279" y="5433"/>
                    </a:lnTo>
                    <a:lnTo>
                      <a:pt x="1294" y="5441"/>
                    </a:lnTo>
                    <a:lnTo>
                      <a:pt x="1301" y="5444"/>
                    </a:lnTo>
                    <a:lnTo>
                      <a:pt x="1307" y="5446"/>
                    </a:lnTo>
                    <a:lnTo>
                      <a:pt x="1314" y="5446"/>
                    </a:lnTo>
                    <a:lnTo>
                      <a:pt x="1322" y="5446"/>
                    </a:lnTo>
                    <a:lnTo>
                      <a:pt x="1330" y="5444"/>
                    </a:lnTo>
                    <a:lnTo>
                      <a:pt x="1340" y="5441"/>
                    </a:lnTo>
                    <a:lnTo>
                      <a:pt x="1363" y="5431"/>
                    </a:lnTo>
                    <a:lnTo>
                      <a:pt x="1391" y="5415"/>
                    </a:lnTo>
                    <a:lnTo>
                      <a:pt x="1429" y="5391"/>
                    </a:lnTo>
                    <a:lnTo>
                      <a:pt x="1457" y="5372"/>
                    </a:lnTo>
                    <a:lnTo>
                      <a:pt x="1484" y="5354"/>
                    </a:lnTo>
                    <a:lnTo>
                      <a:pt x="1526" y="5319"/>
                    </a:lnTo>
                    <a:lnTo>
                      <a:pt x="1561" y="5288"/>
                    </a:lnTo>
                    <a:lnTo>
                      <a:pt x="1586" y="5263"/>
                    </a:lnTo>
                    <a:lnTo>
                      <a:pt x="1637" y="5292"/>
                    </a:lnTo>
                    <a:lnTo>
                      <a:pt x="1688" y="5322"/>
                    </a:lnTo>
                    <a:lnTo>
                      <a:pt x="1678" y="5355"/>
                    </a:lnTo>
                    <a:lnTo>
                      <a:pt x="1670" y="5401"/>
                    </a:lnTo>
                    <a:lnTo>
                      <a:pt x="1662" y="5456"/>
                    </a:lnTo>
                    <a:lnTo>
                      <a:pt x="1658" y="5487"/>
                    </a:lnTo>
                    <a:lnTo>
                      <a:pt x="1655" y="5522"/>
                    </a:lnTo>
                    <a:lnTo>
                      <a:pt x="1653" y="5566"/>
                    </a:lnTo>
                    <a:lnTo>
                      <a:pt x="1653" y="5599"/>
                    </a:lnTo>
                    <a:lnTo>
                      <a:pt x="1657" y="5624"/>
                    </a:lnTo>
                    <a:lnTo>
                      <a:pt x="1658" y="5634"/>
                    </a:lnTo>
                    <a:lnTo>
                      <a:pt x="1662" y="5642"/>
                    </a:lnTo>
                    <a:lnTo>
                      <a:pt x="1665" y="5649"/>
                    </a:lnTo>
                    <a:lnTo>
                      <a:pt x="1670" y="5655"/>
                    </a:lnTo>
                    <a:lnTo>
                      <a:pt x="1675" y="5660"/>
                    </a:lnTo>
                    <a:lnTo>
                      <a:pt x="1680" y="5663"/>
                    </a:lnTo>
                    <a:lnTo>
                      <a:pt x="1695" y="5672"/>
                    </a:lnTo>
                    <a:lnTo>
                      <a:pt x="1713" y="5680"/>
                    </a:lnTo>
                    <a:lnTo>
                      <a:pt x="1731" y="5690"/>
                    </a:lnTo>
                    <a:lnTo>
                      <a:pt x="1747" y="5695"/>
                    </a:lnTo>
                    <a:lnTo>
                      <a:pt x="1754" y="5696"/>
                    </a:lnTo>
                    <a:lnTo>
                      <a:pt x="1762" y="5698"/>
                    </a:lnTo>
                    <a:lnTo>
                      <a:pt x="1769" y="5696"/>
                    </a:lnTo>
                    <a:lnTo>
                      <a:pt x="1775" y="5695"/>
                    </a:lnTo>
                    <a:lnTo>
                      <a:pt x="1784" y="5693"/>
                    </a:lnTo>
                    <a:lnTo>
                      <a:pt x="1793" y="5688"/>
                    </a:lnTo>
                    <a:lnTo>
                      <a:pt x="1813" y="5673"/>
                    </a:lnTo>
                    <a:lnTo>
                      <a:pt x="1840" y="5654"/>
                    </a:lnTo>
                    <a:lnTo>
                      <a:pt x="1871" y="5622"/>
                    </a:lnTo>
                    <a:lnTo>
                      <a:pt x="1896" y="5599"/>
                    </a:lnTo>
                    <a:lnTo>
                      <a:pt x="1919" y="5576"/>
                    </a:lnTo>
                    <a:lnTo>
                      <a:pt x="1955" y="5535"/>
                    </a:lnTo>
                    <a:lnTo>
                      <a:pt x="1985" y="5499"/>
                    </a:lnTo>
                    <a:lnTo>
                      <a:pt x="2005" y="5469"/>
                    </a:lnTo>
                    <a:lnTo>
                      <a:pt x="2059" y="5490"/>
                    </a:lnTo>
                    <a:lnTo>
                      <a:pt x="2115" y="5508"/>
                    </a:lnTo>
                    <a:lnTo>
                      <a:pt x="2112" y="5545"/>
                    </a:lnTo>
                    <a:lnTo>
                      <a:pt x="2110" y="5591"/>
                    </a:lnTo>
                    <a:lnTo>
                      <a:pt x="2112" y="5647"/>
                    </a:lnTo>
                    <a:lnTo>
                      <a:pt x="2113" y="5678"/>
                    </a:lnTo>
                    <a:lnTo>
                      <a:pt x="2118" y="5713"/>
                    </a:lnTo>
                    <a:lnTo>
                      <a:pt x="2123" y="5756"/>
                    </a:lnTo>
                    <a:lnTo>
                      <a:pt x="2130" y="5789"/>
                    </a:lnTo>
                    <a:lnTo>
                      <a:pt x="2136" y="5814"/>
                    </a:lnTo>
                    <a:lnTo>
                      <a:pt x="2140" y="5822"/>
                    </a:lnTo>
                    <a:lnTo>
                      <a:pt x="2145" y="5830"/>
                    </a:lnTo>
                    <a:lnTo>
                      <a:pt x="2148" y="5835"/>
                    </a:lnTo>
                    <a:lnTo>
                      <a:pt x="2155" y="5840"/>
                    </a:lnTo>
                    <a:lnTo>
                      <a:pt x="2160" y="5845"/>
                    </a:lnTo>
                    <a:lnTo>
                      <a:pt x="2166" y="5848"/>
                    </a:lnTo>
                    <a:lnTo>
                      <a:pt x="2183" y="5853"/>
                    </a:lnTo>
                    <a:lnTo>
                      <a:pt x="2202" y="5858"/>
                    </a:lnTo>
                    <a:lnTo>
                      <a:pt x="2222" y="5865"/>
                    </a:lnTo>
                    <a:lnTo>
                      <a:pt x="2239" y="5866"/>
                    </a:lnTo>
                    <a:lnTo>
                      <a:pt x="2245" y="5868"/>
                    </a:lnTo>
                    <a:lnTo>
                      <a:pt x="2252" y="5866"/>
                    </a:lnTo>
                    <a:lnTo>
                      <a:pt x="2260" y="5865"/>
                    </a:lnTo>
                    <a:lnTo>
                      <a:pt x="2267" y="5863"/>
                    </a:lnTo>
                    <a:lnTo>
                      <a:pt x="2275" y="5858"/>
                    </a:lnTo>
                    <a:lnTo>
                      <a:pt x="2282" y="5851"/>
                    </a:lnTo>
                    <a:lnTo>
                      <a:pt x="2300" y="5835"/>
                    </a:lnTo>
                    <a:lnTo>
                      <a:pt x="2321" y="5809"/>
                    </a:lnTo>
                    <a:lnTo>
                      <a:pt x="2347" y="5774"/>
                    </a:lnTo>
                    <a:lnTo>
                      <a:pt x="2369" y="5746"/>
                    </a:lnTo>
                    <a:lnTo>
                      <a:pt x="2385" y="5720"/>
                    </a:lnTo>
                    <a:lnTo>
                      <a:pt x="2415" y="5673"/>
                    </a:lnTo>
                    <a:lnTo>
                      <a:pt x="2437" y="5632"/>
                    </a:lnTo>
                    <a:lnTo>
                      <a:pt x="2453" y="5599"/>
                    </a:lnTo>
                    <a:lnTo>
                      <a:pt x="2511" y="5611"/>
                    </a:lnTo>
                    <a:lnTo>
                      <a:pt x="2568" y="5621"/>
                    </a:lnTo>
                    <a:lnTo>
                      <a:pt x="2570" y="5657"/>
                    </a:lnTo>
                    <a:lnTo>
                      <a:pt x="2577" y="5701"/>
                    </a:lnTo>
                    <a:lnTo>
                      <a:pt x="2588" y="5756"/>
                    </a:lnTo>
                    <a:lnTo>
                      <a:pt x="2596" y="5787"/>
                    </a:lnTo>
                    <a:lnTo>
                      <a:pt x="2606" y="5820"/>
                    </a:lnTo>
                    <a:lnTo>
                      <a:pt x="2620" y="5861"/>
                    </a:lnTo>
                    <a:lnTo>
                      <a:pt x="2631" y="5893"/>
                    </a:lnTo>
                    <a:lnTo>
                      <a:pt x="2641" y="5916"/>
                    </a:lnTo>
                    <a:lnTo>
                      <a:pt x="2648" y="5924"/>
                    </a:lnTo>
                    <a:lnTo>
                      <a:pt x="2652" y="5931"/>
                    </a:lnTo>
                    <a:lnTo>
                      <a:pt x="2657" y="5936"/>
                    </a:lnTo>
                    <a:lnTo>
                      <a:pt x="2664" y="5939"/>
                    </a:lnTo>
                    <a:lnTo>
                      <a:pt x="2671" y="5942"/>
                    </a:lnTo>
                    <a:lnTo>
                      <a:pt x="2677" y="5945"/>
                    </a:lnTo>
                    <a:lnTo>
                      <a:pt x="2694" y="5947"/>
                    </a:lnTo>
                    <a:lnTo>
                      <a:pt x="2715" y="5949"/>
                    </a:lnTo>
                    <a:lnTo>
                      <a:pt x="2735" y="5950"/>
                    </a:lnTo>
                    <a:lnTo>
                      <a:pt x="2751" y="5950"/>
                    </a:lnTo>
                    <a:lnTo>
                      <a:pt x="2758" y="5950"/>
                    </a:lnTo>
                    <a:lnTo>
                      <a:pt x="2766" y="5949"/>
                    </a:lnTo>
                    <a:lnTo>
                      <a:pt x="2773" y="5945"/>
                    </a:lnTo>
                    <a:lnTo>
                      <a:pt x="2779" y="5942"/>
                    </a:lnTo>
                    <a:lnTo>
                      <a:pt x="2786" y="5936"/>
                    </a:lnTo>
                    <a:lnTo>
                      <a:pt x="2793" y="5929"/>
                    </a:lnTo>
                    <a:lnTo>
                      <a:pt x="2806" y="5909"/>
                    </a:lnTo>
                    <a:lnTo>
                      <a:pt x="2824" y="5879"/>
                    </a:lnTo>
                    <a:lnTo>
                      <a:pt x="2844" y="5840"/>
                    </a:lnTo>
                    <a:lnTo>
                      <a:pt x="2859" y="5810"/>
                    </a:lnTo>
                    <a:lnTo>
                      <a:pt x="2872" y="5781"/>
                    </a:lnTo>
                    <a:lnTo>
                      <a:pt x="2892" y="5729"/>
                    </a:lnTo>
                    <a:lnTo>
                      <a:pt x="2906" y="5687"/>
                    </a:lnTo>
                    <a:lnTo>
                      <a:pt x="2916" y="5652"/>
                    </a:lnTo>
                    <a:lnTo>
                      <a:pt x="2974" y="5652"/>
                    </a:lnTo>
                    <a:lnTo>
                      <a:pt x="3033" y="5652"/>
                    </a:lnTo>
                    <a:lnTo>
                      <a:pt x="3043" y="5687"/>
                    </a:lnTo>
                    <a:lnTo>
                      <a:pt x="3056" y="5729"/>
                    </a:lnTo>
                    <a:lnTo>
                      <a:pt x="3078" y="5781"/>
                    </a:lnTo>
                    <a:lnTo>
                      <a:pt x="3091" y="5810"/>
                    </a:lnTo>
                    <a:lnTo>
                      <a:pt x="3106" y="5840"/>
                    </a:lnTo>
                    <a:lnTo>
                      <a:pt x="3126" y="5879"/>
                    </a:lnTo>
                    <a:lnTo>
                      <a:pt x="3142" y="5909"/>
                    </a:lnTo>
                    <a:lnTo>
                      <a:pt x="3157" y="5929"/>
                    </a:lnTo>
                    <a:lnTo>
                      <a:pt x="3164" y="5936"/>
                    </a:lnTo>
                    <a:lnTo>
                      <a:pt x="3170" y="5942"/>
                    </a:lnTo>
                    <a:lnTo>
                      <a:pt x="3177" y="5945"/>
                    </a:lnTo>
                    <a:lnTo>
                      <a:pt x="3183" y="5949"/>
                    </a:lnTo>
                    <a:lnTo>
                      <a:pt x="3190" y="5950"/>
                    </a:lnTo>
                    <a:lnTo>
                      <a:pt x="3198" y="5950"/>
                    </a:lnTo>
                    <a:lnTo>
                      <a:pt x="3215" y="5950"/>
                    </a:lnTo>
                    <a:lnTo>
                      <a:pt x="3235" y="5949"/>
                    </a:lnTo>
                    <a:lnTo>
                      <a:pt x="3254" y="5947"/>
                    </a:lnTo>
                    <a:lnTo>
                      <a:pt x="3271" y="5945"/>
                    </a:lnTo>
                    <a:lnTo>
                      <a:pt x="3279" y="5942"/>
                    </a:lnTo>
                    <a:lnTo>
                      <a:pt x="3286" y="5939"/>
                    </a:lnTo>
                    <a:lnTo>
                      <a:pt x="3291" y="5936"/>
                    </a:lnTo>
                    <a:lnTo>
                      <a:pt x="3297" y="5931"/>
                    </a:lnTo>
                    <a:lnTo>
                      <a:pt x="3302" y="5924"/>
                    </a:lnTo>
                    <a:lnTo>
                      <a:pt x="3307" y="5916"/>
                    </a:lnTo>
                    <a:lnTo>
                      <a:pt x="3319" y="5893"/>
                    </a:lnTo>
                    <a:lnTo>
                      <a:pt x="3330" y="5861"/>
                    </a:lnTo>
                    <a:lnTo>
                      <a:pt x="3343" y="5820"/>
                    </a:lnTo>
                    <a:lnTo>
                      <a:pt x="3353" y="5787"/>
                    </a:lnTo>
                    <a:lnTo>
                      <a:pt x="3360" y="5756"/>
                    </a:lnTo>
                    <a:lnTo>
                      <a:pt x="3371" y="5701"/>
                    </a:lnTo>
                    <a:lnTo>
                      <a:pt x="3378" y="5657"/>
                    </a:lnTo>
                    <a:lnTo>
                      <a:pt x="3381" y="5621"/>
                    </a:lnTo>
                    <a:lnTo>
                      <a:pt x="3439" y="5612"/>
                    </a:lnTo>
                    <a:lnTo>
                      <a:pt x="3497" y="5601"/>
                    </a:lnTo>
                    <a:lnTo>
                      <a:pt x="3511" y="5634"/>
                    </a:lnTo>
                    <a:lnTo>
                      <a:pt x="3535" y="5673"/>
                    </a:lnTo>
                    <a:lnTo>
                      <a:pt x="3563" y="5721"/>
                    </a:lnTo>
                    <a:lnTo>
                      <a:pt x="3581" y="5748"/>
                    </a:lnTo>
                    <a:lnTo>
                      <a:pt x="3601" y="5774"/>
                    </a:lnTo>
                    <a:lnTo>
                      <a:pt x="3627" y="5809"/>
                    </a:lnTo>
                    <a:lnTo>
                      <a:pt x="3650" y="5835"/>
                    </a:lnTo>
                    <a:lnTo>
                      <a:pt x="3666" y="5851"/>
                    </a:lnTo>
                    <a:lnTo>
                      <a:pt x="3675" y="5858"/>
                    </a:lnTo>
                    <a:lnTo>
                      <a:pt x="3683" y="5863"/>
                    </a:lnTo>
                    <a:lnTo>
                      <a:pt x="3690" y="5865"/>
                    </a:lnTo>
                    <a:lnTo>
                      <a:pt x="3696" y="5866"/>
                    </a:lnTo>
                    <a:lnTo>
                      <a:pt x="3704" y="5868"/>
                    </a:lnTo>
                    <a:lnTo>
                      <a:pt x="3711" y="5866"/>
                    </a:lnTo>
                    <a:lnTo>
                      <a:pt x="3727" y="5865"/>
                    </a:lnTo>
                    <a:lnTo>
                      <a:pt x="3747" y="5858"/>
                    </a:lnTo>
                    <a:lnTo>
                      <a:pt x="3767" y="5853"/>
                    </a:lnTo>
                    <a:lnTo>
                      <a:pt x="3782" y="5848"/>
                    </a:lnTo>
                    <a:lnTo>
                      <a:pt x="3788" y="5845"/>
                    </a:lnTo>
                    <a:lnTo>
                      <a:pt x="3795" y="5840"/>
                    </a:lnTo>
                    <a:lnTo>
                      <a:pt x="3800" y="5835"/>
                    </a:lnTo>
                    <a:lnTo>
                      <a:pt x="3805" y="5830"/>
                    </a:lnTo>
                    <a:lnTo>
                      <a:pt x="3810" y="5822"/>
                    </a:lnTo>
                    <a:lnTo>
                      <a:pt x="3813" y="5814"/>
                    </a:lnTo>
                    <a:lnTo>
                      <a:pt x="3820" y="5789"/>
                    </a:lnTo>
                    <a:lnTo>
                      <a:pt x="3826" y="5756"/>
                    </a:lnTo>
                    <a:lnTo>
                      <a:pt x="3831" y="5713"/>
                    </a:lnTo>
                    <a:lnTo>
                      <a:pt x="3835" y="5678"/>
                    </a:lnTo>
                    <a:lnTo>
                      <a:pt x="3838" y="5647"/>
                    </a:lnTo>
                    <a:lnTo>
                      <a:pt x="3840" y="5593"/>
                    </a:lnTo>
                    <a:lnTo>
                      <a:pt x="3838" y="5546"/>
                    </a:lnTo>
                    <a:lnTo>
                      <a:pt x="3835" y="5510"/>
                    </a:lnTo>
                    <a:lnTo>
                      <a:pt x="3891" y="5490"/>
                    </a:lnTo>
                    <a:lnTo>
                      <a:pt x="3945" y="5471"/>
                    </a:lnTo>
                    <a:lnTo>
                      <a:pt x="3965" y="5499"/>
                    </a:lnTo>
                    <a:lnTo>
                      <a:pt x="3995" y="5535"/>
                    </a:lnTo>
                    <a:lnTo>
                      <a:pt x="4031" y="5576"/>
                    </a:lnTo>
                    <a:lnTo>
                      <a:pt x="4052" y="5599"/>
                    </a:lnTo>
                    <a:lnTo>
                      <a:pt x="4077" y="5622"/>
                    </a:lnTo>
                    <a:lnTo>
                      <a:pt x="4110" y="5654"/>
                    </a:lnTo>
                    <a:lnTo>
                      <a:pt x="4136" y="5673"/>
                    </a:lnTo>
                    <a:lnTo>
                      <a:pt x="4156" y="5688"/>
                    </a:lnTo>
                    <a:lnTo>
                      <a:pt x="4164" y="5693"/>
                    </a:lnTo>
                    <a:lnTo>
                      <a:pt x="4173" y="5695"/>
                    </a:lnTo>
                    <a:lnTo>
                      <a:pt x="4181" y="5696"/>
                    </a:lnTo>
                    <a:lnTo>
                      <a:pt x="4187" y="5698"/>
                    </a:lnTo>
                    <a:lnTo>
                      <a:pt x="4194" y="5696"/>
                    </a:lnTo>
                    <a:lnTo>
                      <a:pt x="4202" y="5695"/>
                    </a:lnTo>
                    <a:lnTo>
                      <a:pt x="4217" y="5690"/>
                    </a:lnTo>
                    <a:lnTo>
                      <a:pt x="4235" y="5680"/>
                    </a:lnTo>
                    <a:lnTo>
                      <a:pt x="4255" y="5672"/>
                    </a:lnTo>
                    <a:lnTo>
                      <a:pt x="4268" y="5663"/>
                    </a:lnTo>
                    <a:lnTo>
                      <a:pt x="4275" y="5660"/>
                    </a:lnTo>
                    <a:lnTo>
                      <a:pt x="4280" y="5655"/>
                    </a:lnTo>
                    <a:lnTo>
                      <a:pt x="4285" y="5649"/>
                    </a:lnTo>
                    <a:lnTo>
                      <a:pt x="4288" y="5642"/>
                    </a:lnTo>
                    <a:lnTo>
                      <a:pt x="4291" y="5634"/>
                    </a:lnTo>
                    <a:lnTo>
                      <a:pt x="4293" y="5624"/>
                    </a:lnTo>
                    <a:lnTo>
                      <a:pt x="4295" y="5599"/>
                    </a:lnTo>
                    <a:lnTo>
                      <a:pt x="4296" y="5566"/>
                    </a:lnTo>
                    <a:lnTo>
                      <a:pt x="4293" y="5522"/>
                    </a:lnTo>
                    <a:lnTo>
                      <a:pt x="4291" y="5489"/>
                    </a:lnTo>
                    <a:lnTo>
                      <a:pt x="4288" y="5457"/>
                    </a:lnTo>
                    <a:lnTo>
                      <a:pt x="4280" y="5401"/>
                    </a:lnTo>
                    <a:lnTo>
                      <a:pt x="4272" y="5357"/>
                    </a:lnTo>
                    <a:lnTo>
                      <a:pt x="4262" y="5322"/>
                    </a:lnTo>
                    <a:lnTo>
                      <a:pt x="4313" y="5292"/>
                    </a:lnTo>
                    <a:lnTo>
                      <a:pt x="4364" y="5263"/>
                    </a:lnTo>
                    <a:lnTo>
                      <a:pt x="4389" y="5289"/>
                    </a:lnTo>
                    <a:lnTo>
                      <a:pt x="4423" y="5319"/>
                    </a:lnTo>
                    <a:lnTo>
                      <a:pt x="4466" y="5354"/>
                    </a:lnTo>
                    <a:lnTo>
                      <a:pt x="4493" y="5372"/>
                    </a:lnTo>
                    <a:lnTo>
                      <a:pt x="4521" y="5391"/>
                    </a:lnTo>
                    <a:lnTo>
                      <a:pt x="4557" y="5415"/>
                    </a:lnTo>
                    <a:lnTo>
                      <a:pt x="4586" y="5431"/>
                    </a:lnTo>
                    <a:lnTo>
                      <a:pt x="4610" y="5443"/>
                    </a:lnTo>
                    <a:lnTo>
                      <a:pt x="4618" y="5444"/>
                    </a:lnTo>
                    <a:lnTo>
                      <a:pt x="4628" y="5446"/>
                    </a:lnTo>
                    <a:lnTo>
                      <a:pt x="4634" y="5446"/>
                    </a:lnTo>
                    <a:lnTo>
                      <a:pt x="4643" y="5446"/>
                    </a:lnTo>
                    <a:lnTo>
                      <a:pt x="4649" y="5444"/>
                    </a:lnTo>
                    <a:lnTo>
                      <a:pt x="4656" y="5441"/>
                    </a:lnTo>
                    <a:lnTo>
                      <a:pt x="4671" y="5433"/>
                    </a:lnTo>
                    <a:lnTo>
                      <a:pt x="4687" y="5421"/>
                    </a:lnTo>
                    <a:lnTo>
                      <a:pt x="4704" y="5410"/>
                    </a:lnTo>
                    <a:lnTo>
                      <a:pt x="4717" y="5398"/>
                    </a:lnTo>
                    <a:lnTo>
                      <a:pt x="4722" y="5393"/>
                    </a:lnTo>
                    <a:lnTo>
                      <a:pt x="4725" y="5386"/>
                    </a:lnTo>
                    <a:lnTo>
                      <a:pt x="4728" y="5382"/>
                    </a:lnTo>
                    <a:lnTo>
                      <a:pt x="4732" y="5373"/>
                    </a:lnTo>
                    <a:lnTo>
                      <a:pt x="4733" y="5365"/>
                    </a:lnTo>
                    <a:lnTo>
                      <a:pt x="4733" y="5355"/>
                    </a:lnTo>
                    <a:lnTo>
                      <a:pt x="4732" y="5330"/>
                    </a:lnTo>
                    <a:lnTo>
                      <a:pt x="4725" y="5297"/>
                    </a:lnTo>
                    <a:lnTo>
                      <a:pt x="4717" y="5255"/>
                    </a:lnTo>
                    <a:lnTo>
                      <a:pt x="4707" y="5222"/>
                    </a:lnTo>
                    <a:lnTo>
                      <a:pt x="4699" y="5190"/>
                    </a:lnTo>
                    <a:lnTo>
                      <a:pt x="4682" y="5138"/>
                    </a:lnTo>
                    <a:lnTo>
                      <a:pt x="4664" y="5096"/>
                    </a:lnTo>
                    <a:lnTo>
                      <a:pt x="4649" y="5063"/>
                    </a:lnTo>
                    <a:lnTo>
                      <a:pt x="4695" y="5025"/>
                    </a:lnTo>
                    <a:lnTo>
                      <a:pt x="4740" y="4987"/>
                    </a:lnTo>
                    <a:lnTo>
                      <a:pt x="4769" y="5009"/>
                    </a:lnTo>
                    <a:lnTo>
                      <a:pt x="4807" y="5032"/>
                    </a:lnTo>
                    <a:lnTo>
                      <a:pt x="4857" y="5058"/>
                    </a:lnTo>
                    <a:lnTo>
                      <a:pt x="4885" y="5072"/>
                    </a:lnTo>
                    <a:lnTo>
                      <a:pt x="4916" y="5086"/>
                    </a:lnTo>
                    <a:lnTo>
                      <a:pt x="4957" y="5103"/>
                    </a:lnTo>
                    <a:lnTo>
                      <a:pt x="4989" y="5114"/>
                    </a:lnTo>
                    <a:lnTo>
                      <a:pt x="5012" y="5121"/>
                    </a:lnTo>
                    <a:lnTo>
                      <a:pt x="5022" y="5121"/>
                    </a:lnTo>
                    <a:lnTo>
                      <a:pt x="5032" y="5121"/>
                    </a:lnTo>
                    <a:lnTo>
                      <a:pt x="5038" y="5121"/>
                    </a:lnTo>
                    <a:lnTo>
                      <a:pt x="5045" y="5119"/>
                    </a:lnTo>
                    <a:lnTo>
                      <a:pt x="5051" y="5116"/>
                    </a:lnTo>
                    <a:lnTo>
                      <a:pt x="5058" y="5111"/>
                    </a:lnTo>
                    <a:lnTo>
                      <a:pt x="5071" y="5101"/>
                    </a:lnTo>
                    <a:lnTo>
                      <a:pt x="5084" y="5086"/>
                    </a:lnTo>
                    <a:lnTo>
                      <a:pt x="5099" y="5072"/>
                    </a:lnTo>
                    <a:lnTo>
                      <a:pt x="5111" y="5060"/>
                    </a:lnTo>
                    <a:lnTo>
                      <a:pt x="5114" y="5053"/>
                    </a:lnTo>
                    <a:lnTo>
                      <a:pt x="5117" y="5047"/>
                    </a:lnTo>
                    <a:lnTo>
                      <a:pt x="5119" y="5040"/>
                    </a:lnTo>
                    <a:lnTo>
                      <a:pt x="5121" y="5032"/>
                    </a:lnTo>
                    <a:lnTo>
                      <a:pt x="5121" y="5024"/>
                    </a:lnTo>
                    <a:lnTo>
                      <a:pt x="5119" y="5014"/>
                    </a:lnTo>
                    <a:lnTo>
                      <a:pt x="5114" y="4989"/>
                    </a:lnTo>
                    <a:lnTo>
                      <a:pt x="5103" y="4958"/>
                    </a:lnTo>
                    <a:lnTo>
                      <a:pt x="5084" y="4917"/>
                    </a:lnTo>
                    <a:lnTo>
                      <a:pt x="5071" y="4887"/>
                    </a:lnTo>
                    <a:lnTo>
                      <a:pt x="5058" y="4857"/>
                    </a:lnTo>
                    <a:lnTo>
                      <a:pt x="5032" y="4809"/>
                    </a:lnTo>
                    <a:lnTo>
                      <a:pt x="5007" y="4770"/>
                    </a:lnTo>
                    <a:lnTo>
                      <a:pt x="4987" y="4740"/>
                    </a:lnTo>
                    <a:lnTo>
                      <a:pt x="5025" y="4696"/>
                    </a:lnTo>
                    <a:lnTo>
                      <a:pt x="5063" y="4651"/>
                    </a:lnTo>
                    <a:lnTo>
                      <a:pt x="5094" y="4666"/>
                    </a:lnTo>
                    <a:lnTo>
                      <a:pt x="5137" y="4682"/>
                    </a:lnTo>
                    <a:lnTo>
                      <a:pt x="5190" y="4701"/>
                    </a:lnTo>
                    <a:lnTo>
                      <a:pt x="5220" y="4709"/>
                    </a:lnTo>
                    <a:lnTo>
                      <a:pt x="5253" y="4717"/>
                    </a:lnTo>
                    <a:lnTo>
                      <a:pt x="5297" y="4727"/>
                    </a:lnTo>
                    <a:lnTo>
                      <a:pt x="5330" y="4732"/>
                    </a:lnTo>
                    <a:lnTo>
                      <a:pt x="5355" y="4734"/>
                    </a:lnTo>
                    <a:lnTo>
                      <a:pt x="5363" y="4734"/>
                    </a:lnTo>
                    <a:lnTo>
                      <a:pt x="5373" y="4732"/>
                    </a:lnTo>
                    <a:lnTo>
                      <a:pt x="5380" y="4730"/>
                    </a:lnTo>
                    <a:lnTo>
                      <a:pt x="5386" y="4727"/>
                    </a:lnTo>
                    <a:lnTo>
                      <a:pt x="5393" y="4722"/>
                    </a:lnTo>
                    <a:lnTo>
                      <a:pt x="5398" y="4717"/>
                    </a:lnTo>
                    <a:lnTo>
                      <a:pt x="5408" y="4704"/>
                    </a:lnTo>
                    <a:lnTo>
                      <a:pt x="5419" y="4687"/>
                    </a:lnTo>
                    <a:lnTo>
                      <a:pt x="5431" y="4671"/>
                    </a:lnTo>
                    <a:lnTo>
                      <a:pt x="5441" y="4656"/>
                    </a:lnTo>
                    <a:lnTo>
                      <a:pt x="5442" y="4649"/>
                    </a:lnTo>
                    <a:lnTo>
                      <a:pt x="5444" y="4643"/>
                    </a:lnTo>
                    <a:lnTo>
                      <a:pt x="5445" y="4636"/>
                    </a:lnTo>
                    <a:lnTo>
                      <a:pt x="5445" y="4628"/>
                    </a:lnTo>
                    <a:lnTo>
                      <a:pt x="5444" y="4620"/>
                    </a:lnTo>
                    <a:lnTo>
                      <a:pt x="5441" y="4610"/>
                    </a:lnTo>
                    <a:lnTo>
                      <a:pt x="5431" y="4587"/>
                    </a:lnTo>
                    <a:lnTo>
                      <a:pt x="5414" y="4559"/>
                    </a:lnTo>
                    <a:lnTo>
                      <a:pt x="5391" y="4521"/>
                    </a:lnTo>
                    <a:lnTo>
                      <a:pt x="5371" y="4493"/>
                    </a:lnTo>
                    <a:lnTo>
                      <a:pt x="5353" y="4468"/>
                    </a:lnTo>
                    <a:lnTo>
                      <a:pt x="5319" y="4424"/>
                    </a:lnTo>
                    <a:lnTo>
                      <a:pt x="5287" y="4389"/>
                    </a:lnTo>
                    <a:lnTo>
                      <a:pt x="5262" y="4364"/>
                    </a:lnTo>
                    <a:lnTo>
                      <a:pt x="5292" y="4313"/>
                    </a:lnTo>
                    <a:lnTo>
                      <a:pt x="5322" y="4262"/>
                    </a:lnTo>
                    <a:lnTo>
                      <a:pt x="5356" y="4272"/>
                    </a:lnTo>
                    <a:lnTo>
                      <a:pt x="5401" y="4282"/>
                    </a:lnTo>
                    <a:lnTo>
                      <a:pt x="5455" y="4288"/>
                    </a:lnTo>
                    <a:lnTo>
                      <a:pt x="5487" y="4292"/>
                    </a:lnTo>
                    <a:lnTo>
                      <a:pt x="5521" y="4295"/>
                    </a:lnTo>
                    <a:lnTo>
                      <a:pt x="5566" y="4297"/>
                    </a:lnTo>
                    <a:lnTo>
                      <a:pt x="5599" y="4297"/>
                    </a:lnTo>
                    <a:lnTo>
                      <a:pt x="5624" y="4293"/>
                    </a:lnTo>
                    <a:lnTo>
                      <a:pt x="5633" y="4292"/>
                    </a:lnTo>
                    <a:lnTo>
                      <a:pt x="5642" y="4288"/>
                    </a:lnTo>
                    <a:lnTo>
                      <a:pt x="5648" y="4285"/>
                    </a:lnTo>
                    <a:lnTo>
                      <a:pt x="5653" y="4282"/>
                    </a:lnTo>
                    <a:lnTo>
                      <a:pt x="5658" y="4275"/>
                    </a:lnTo>
                    <a:lnTo>
                      <a:pt x="5663" y="4270"/>
                    </a:lnTo>
                    <a:lnTo>
                      <a:pt x="5671" y="4255"/>
                    </a:lnTo>
                    <a:lnTo>
                      <a:pt x="5680" y="4237"/>
                    </a:lnTo>
                    <a:lnTo>
                      <a:pt x="5688" y="4219"/>
                    </a:lnTo>
                    <a:lnTo>
                      <a:pt x="5694" y="4203"/>
                    </a:lnTo>
                    <a:lnTo>
                      <a:pt x="5696" y="4196"/>
                    </a:lnTo>
                    <a:lnTo>
                      <a:pt x="5696" y="4189"/>
                    </a:lnTo>
                    <a:lnTo>
                      <a:pt x="5696" y="4181"/>
                    </a:lnTo>
                    <a:lnTo>
                      <a:pt x="5694" y="4175"/>
                    </a:lnTo>
                    <a:lnTo>
                      <a:pt x="5691" y="4166"/>
                    </a:lnTo>
                    <a:lnTo>
                      <a:pt x="5688" y="4157"/>
                    </a:lnTo>
                    <a:lnTo>
                      <a:pt x="5673" y="4137"/>
                    </a:lnTo>
                    <a:lnTo>
                      <a:pt x="5652" y="4110"/>
                    </a:lnTo>
                    <a:lnTo>
                      <a:pt x="5622" y="4079"/>
                    </a:lnTo>
                    <a:lnTo>
                      <a:pt x="5599" y="4054"/>
                    </a:lnTo>
                    <a:lnTo>
                      <a:pt x="5576" y="4031"/>
                    </a:lnTo>
                    <a:lnTo>
                      <a:pt x="5535" y="3995"/>
                    </a:lnTo>
                    <a:lnTo>
                      <a:pt x="5498" y="3967"/>
                    </a:lnTo>
                    <a:lnTo>
                      <a:pt x="5469" y="3945"/>
                    </a:lnTo>
                    <a:lnTo>
                      <a:pt x="5488" y="3891"/>
                    </a:lnTo>
                    <a:lnTo>
                      <a:pt x="5508" y="3835"/>
                    </a:lnTo>
                    <a:lnTo>
                      <a:pt x="5544" y="3838"/>
                    </a:lnTo>
                    <a:lnTo>
                      <a:pt x="5591" y="3840"/>
                    </a:lnTo>
                    <a:lnTo>
                      <a:pt x="5645" y="3838"/>
                    </a:lnTo>
                    <a:lnTo>
                      <a:pt x="5678" y="3837"/>
                    </a:lnTo>
                    <a:lnTo>
                      <a:pt x="5711" y="3832"/>
                    </a:lnTo>
                    <a:lnTo>
                      <a:pt x="5755" y="3827"/>
                    </a:lnTo>
                    <a:lnTo>
                      <a:pt x="5788" y="3820"/>
                    </a:lnTo>
                    <a:lnTo>
                      <a:pt x="5812" y="3814"/>
                    </a:lnTo>
                    <a:lnTo>
                      <a:pt x="5821" y="3810"/>
                    </a:lnTo>
                    <a:lnTo>
                      <a:pt x="5828" y="3805"/>
                    </a:lnTo>
                    <a:lnTo>
                      <a:pt x="5835" y="3802"/>
                    </a:lnTo>
                    <a:lnTo>
                      <a:pt x="5840" y="3795"/>
                    </a:lnTo>
                    <a:lnTo>
                      <a:pt x="5843" y="3790"/>
                    </a:lnTo>
                    <a:lnTo>
                      <a:pt x="5848" y="3784"/>
                    </a:lnTo>
                    <a:lnTo>
                      <a:pt x="5853" y="3767"/>
                    </a:lnTo>
                    <a:lnTo>
                      <a:pt x="5858" y="3748"/>
                    </a:lnTo>
                    <a:lnTo>
                      <a:pt x="5863" y="3728"/>
                    </a:lnTo>
                    <a:lnTo>
                      <a:pt x="5866" y="3711"/>
                    </a:lnTo>
                    <a:lnTo>
                      <a:pt x="5866" y="3705"/>
                    </a:lnTo>
                    <a:lnTo>
                      <a:pt x="5866" y="3698"/>
                    </a:lnTo>
                    <a:lnTo>
                      <a:pt x="5864" y="3690"/>
                    </a:lnTo>
                    <a:lnTo>
                      <a:pt x="5861" y="3683"/>
                    </a:lnTo>
                    <a:lnTo>
                      <a:pt x="5858" y="3677"/>
                    </a:lnTo>
                    <a:lnTo>
                      <a:pt x="5851" y="3668"/>
                    </a:lnTo>
                    <a:lnTo>
                      <a:pt x="5833" y="3650"/>
                    </a:lnTo>
                    <a:lnTo>
                      <a:pt x="5808" y="3629"/>
                    </a:lnTo>
                    <a:lnTo>
                      <a:pt x="5774" y="3603"/>
                    </a:lnTo>
                    <a:lnTo>
                      <a:pt x="5746" y="3581"/>
                    </a:lnTo>
                    <a:lnTo>
                      <a:pt x="5719" y="3565"/>
                    </a:lnTo>
                    <a:lnTo>
                      <a:pt x="5671" y="3535"/>
                    </a:lnTo>
                    <a:lnTo>
                      <a:pt x="5630" y="3512"/>
                    </a:lnTo>
                    <a:lnTo>
                      <a:pt x="5599" y="3497"/>
                    </a:lnTo>
                    <a:lnTo>
                      <a:pt x="5609" y="3439"/>
                    </a:lnTo>
                    <a:lnTo>
                      <a:pt x="5619" y="3383"/>
                    </a:lnTo>
                    <a:lnTo>
                      <a:pt x="5655" y="3380"/>
                    </a:lnTo>
                    <a:lnTo>
                      <a:pt x="5699" y="3373"/>
                    </a:lnTo>
                    <a:lnTo>
                      <a:pt x="5755" y="3362"/>
                    </a:lnTo>
                    <a:lnTo>
                      <a:pt x="5785" y="3354"/>
                    </a:lnTo>
                    <a:lnTo>
                      <a:pt x="5818" y="3344"/>
                    </a:lnTo>
                    <a:lnTo>
                      <a:pt x="5861" y="3330"/>
                    </a:lnTo>
                    <a:lnTo>
                      <a:pt x="5892" y="3319"/>
                    </a:lnTo>
                    <a:lnTo>
                      <a:pt x="5914" y="3309"/>
                    </a:lnTo>
                    <a:lnTo>
                      <a:pt x="5922" y="3302"/>
                    </a:lnTo>
                    <a:lnTo>
                      <a:pt x="5929" y="3298"/>
                    </a:lnTo>
                    <a:lnTo>
                      <a:pt x="5935" y="3293"/>
                    </a:lnTo>
                    <a:lnTo>
                      <a:pt x="5938" y="3286"/>
                    </a:lnTo>
                    <a:lnTo>
                      <a:pt x="5942" y="3279"/>
                    </a:lnTo>
                    <a:lnTo>
                      <a:pt x="5943" y="3273"/>
                    </a:lnTo>
                    <a:lnTo>
                      <a:pt x="5947" y="3256"/>
                    </a:lnTo>
                    <a:lnTo>
                      <a:pt x="5948" y="3237"/>
                    </a:lnTo>
                    <a:lnTo>
                      <a:pt x="5950" y="3215"/>
                    </a:lnTo>
                    <a:lnTo>
                      <a:pt x="5950" y="3199"/>
                    </a:lnTo>
                    <a:lnTo>
                      <a:pt x="5950" y="3192"/>
                    </a:lnTo>
                    <a:lnTo>
                      <a:pt x="5947" y="3184"/>
                    </a:lnTo>
                    <a:lnTo>
                      <a:pt x="5945" y="3177"/>
                    </a:lnTo>
                    <a:lnTo>
                      <a:pt x="5940" y="3171"/>
                    </a:lnTo>
                    <a:lnTo>
                      <a:pt x="5935" y="3164"/>
                    </a:lnTo>
                    <a:lnTo>
                      <a:pt x="5927" y="3157"/>
                    </a:lnTo>
                    <a:lnTo>
                      <a:pt x="5907" y="3144"/>
                    </a:lnTo>
                    <a:lnTo>
                      <a:pt x="5879" y="3126"/>
                    </a:lnTo>
                    <a:lnTo>
                      <a:pt x="5840" y="3106"/>
                    </a:lnTo>
                    <a:close/>
                    <a:moveTo>
                      <a:pt x="2885" y="3319"/>
                    </a:moveTo>
                    <a:lnTo>
                      <a:pt x="2885" y="3319"/>
                    </a:lnTo>
                    <a:lnTo>
                      <a:pt x="2850" y="3307"/>
                    </a:lnTo>
                    <a:lnTo>
                      <a:pt x="2817" y="3294"/>
                    </a:lnTo>
                    <a:lnTo>
                      <a:pt x="2788" y="3276"/>
                    </a:lnTo>
                    <a:lnTo>
                      <a:pt x="2760" y="3256"/>
                    </a:lnTo>
                    <a:lnTo>
                      <a:pt x="2733" y="3235"/>
                    </a:lnTo>
                    <a:lnTo>
                      <a:pt x="2710" y="3210"/>
                    </a:lnTo>
                    <a:lnTo>
                      <a:pt x="2689" y="3184"/>
                    </a:lnTo>
                    <a:lnTo>
                      <a:pt x="2671" y="3154"/>
                    </a:lnTo>
                    <a:lnTo>
                      <a:pt x="2654" y="3124"/>
                    </a:lnTo>
                    <a:lnTo>
                      <a:pt x="2643" y="3093"/>
                    </a:lnTo>
                    <a:lnTo>
                      <a:pt x="2633" y="3060"/>
                    </a:lnTo>
                    <a:lnTo>
                      <a:pt x="2626" y="3027"/>
                    </a:lnTo>
                    <a:lnTo>
                      <a:pt x="2623" y="2992"/>
                    </a:lnTo>
                    <a:lnTo>
                      <a:pt x="2623" y="2958"/>
                    </a:lnTo>
                    <a:lnTo>
                      <a:pt x="2628" y="2922"/>
                    </a:lnTo>
                    <a:lnTo>
                      <a:pt x="2634" y="2887"/>
                    </a:lnTo>
                    <a:lnTo>
                      <a:pt x="2646" y="2852"/>
                    </a:lnTo>
                    <a:lnTo>
                      <a:pt x="2661" y="2819"/>
                    </a:lnTo>
                    <a:lnTo>
                      <a:pt x="2677" y="2790"/>
                    </a:lnTo>
                    <a:lnTo>
                      <a:pt x="2697" y="2762"/>
                    </a:lnTo>
                    <a:lnTo>
                      <a:pt x="2720" y="2735"/>
                    </a:lnTo>
                    <a:lnTo>
                      <a:pt x="2745" y="2712"/>
                    </a:lnTo>
                    <a:lnTo>
                      <a:pt x="2771" y="2691"/>
                    </a:lnTo>
                    <a:lnTo>
                      <a:pt x="2799" y="2673"/>
                    </a:lnTo>
                    <a:lnTo>
                      <a:pt x="2829" y="2656"/>
                    </a:lnTo>
                    <a:lnTo>
                      <a:pt x="2860" y="2645"/>
                    </a:lnTo>
                    <a:lnTo>
                      <a:pt x="2893" y="2635"/>
                    </a:lnTo>
                    <a:lnTo>
                      <a:pt x="2928" y="2628"/>
                    </a:lnTo>
                    <a:lnTo>
                      <a:pt x="2962" y="2625"/>
                    </a:lnTo>
                    <a:lnTo>
                      <a:pt x="2997" y="2625"/>
                    </a:lnTo>
                    <a:lnTo>
                      <a:pt x="3032" y="2630"/>
                    </a:lnTo>
                    <a:lnTo>
                      <a:pt x="3068" y="2636"/>
                    </a:lnTo>
                    <a:lnTo>
                      <a:pt x="3101" y="2648"/>
                    </a:lnTo>
                    <a:lnTo>
                      <a:pt x="3134" y="2663"/>
                    </a:lnTo>
                    <a:lnTo>
                      <a:pt x="3165" y="2679"/>
                    </a:lnTo>
                    <a:lnTo>
                      <a:pt x="3193" y="2699"/>
                    </a:lnTo>
                    <a:lnTo>
                      <a:pt x="3218" y="2722"/>
                    </a:lnTo>
                    <a:lnTo>
                      <a:pt x="3243" y="2747"/>
                    </a:lnTo>
                    <a:lnTo>
                      <a:pt x="3263" y="2773"/>
                    </a:lnTo>
                    <a:lnTo>
                      <a:pt x="3282" y="2801"/>
                    </a:lnTo>
                    <a:lnTo>
                      <a:pt x="3297" y="2831"/>
                    </a:lnTo>
                    <a:lnTo>
                      <a:pt x="3310" y="2864"/>
                    </a:lnTo>
                    <a:lnTo>
                      <a:pt x="3319" y="2895"/>
                    </a:lnTo>
                    <a:lnTo>
                      <a:pt x="3325" y="2930"/>
                    </a:lnTo>
                    <a:lnTo>
                      <a:pt x="3328" y="2964"/>
                    </a:lnTo>
                    <a:lnTo>
                      <a:pt x="3328" y="2999"/>
                    </a:lnTo>
                    <a:lnTo>
                      <a:pt x="3325" y="3034"/>
                    </a:lnTo>
                    <a:lnTo>
                      <a:pt x="3317" y="3070"/>
                    </a:lnTo>
                    <a:lnTo>
                      <a:pt x="3305" y="3103"/>
                    </a:lnTo>
                    <a:lnTo>
                      <a:pt x="3292" y="3136"/>
                    </a:lnTo>
                    <a:lnTo>
                      <a:pt x="3274" y="3167"/>
                    </a:lnTo>
                    <a:lnTo>
                      <a:pt x="3254" y="3195"/>
                    </a:lnTo>
                    <a:lnTo>
                      <a:pt x="3233" y="3222"/>
                    </a:lnTo>
                    <a:lnTo>
                      <a:pt x="3208" y="3245"/>
                    </a:lnTo>
                    <a:lnTo>
                      <a:pt x="3180" y="3266"/>
                    </a:lnTo>
                    <a:lnTo>
                      <a:pt x="3152" y="3284"/>
                    </a:lnTo>
                    <a:lnTo>
                      <a:pt x="3122" y="3299"/>
                    </a:lnTo>
                    <a:lnTo>
                      <a:pt x="3091" y="3312"/>
                    </a:lnTo>
                    <a:lnTo>
                      <a:pt x="3058" y="3321"/>
                    </a:lnTo>
                    <a:lnTo>
                      <a:pt x="3025" y="3327"/>
                    </a:lnTo>
                    <a:lnTo>
                      <a:pt x="2990" y="3330"/>
                    </a:lnTo>
                    <a:lnTo>
                      <a:pt x="2956" y="3330"/>
                    </a:lnTo>
                    <a:lnTo>
                      <a:pt x="2920" y="3327"/>
                    </a:lnTo>
                    <a:lnTo>
                      <a:pt x="2885" y="3319"/>
                    </a:lnTo>
                    <a:close/>
                  </a:path>
                </a:pathLst>
              </a:custGeom>
              <a:gradFill rotWithShape="0">
                <a:gsLst>
                  <a:gs pos="0">
                    <a:srgbClr val="284b76"/>
                  </a:gs>
                  <a:gs pos="100000">
                    <a:srgbClr val="5989c3"/>
                  </a:gs>
                </a:gsLst>
                <a:lin ang="10800000"/>
              </a:gradFill>
              <a:ln w="0">
                <a:noFill/>
              </a:ln>
              <a:effectLst>
                <a:outerShdw dist="38183" dir="2700000" blurRad="0" rotWithShape="0">
                  <a:srgbClr val="000000">
                    <a:alpha val="13000"/>
                  </a:srgbClr>
                </a:outerShdw>
              </a:effectLst>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0" name="Freeform 6"/>
              <p:cNvSpPr/>
              <p:nvPr/>
            </p:nvSpPr>
            <p:spPr>
              <a:xfrm>
                <a:off x="438120" y="4589640"/>
                <a:ext cx="1549440" cy="1549080"/>
              </a:xfrm>
              <a:custGeom>
                <a:avLst/>
                <a:gdLst>
                  <a:gd name="textAreaLeft" fmla="*/ 0 w 1549440"/>
                  <a:gd name="textAreaRight" fmla="*/ 1549800 w 1549440"/>
                  <a:gd name="textAreaTop" fmla="*/ 0 h 1549080"/>
                  <a:gd name="textAreaBottom" fmla="*/ 1549440 h 1549080"/>
                </a:gdLst>
                <a:ahLst/>
                <a:rect l="textAreaLeft" t="textAreaTop" r="textAreaRight" b="textAreaBottom"/>
                <a:pathLst>
                  <a:path w="5950" h="5950">
                    <a:moveTo>
                      <a:pt x="5904" y="2636"/>
                    </a:moveTo>
                    <a:lnTo>
                      <a:pt x="5904" y="2636"/>
                    </a:lnTo>
                    <a:lnTo>
                      <a:pt x="5912" y="2719"/>
                    </a:lnTo>
                    <a:lnTo>
                      <a:pt x="5919" y="2800"/>
                    </a:lnTo>
                    <a:lnTo>
                      <a:pt x="5930" y="2791"/>
                    </a:lnTo>
                    <a:lnTo>
                      <a:pt x="5938" y="2781"/>
                    </a:lnTo>
                    <a:lnTo>
                      <a:pt x="5945" y="2773"/>
                    </a:lnTo>
                    <a:lnTo>
                      <a:pt x="5948" y="2763"/>
                    </a:lnTo>
                    <a:lnTo>
                      <a:pt x="5950" y="2753"/>
                    </a:lnTo>
                    <a:lnTo>
                      <a:pt x="5950" y="2742"/>
                    </a:lnTo>
                    <a:lnTo>
                      <a:pt x="5948" y="2715"/>
                    </a:lnTo>
                    <a:lnTo>
                      <a:pt x="5945" y="2689"/>
                    </a:lnTo>
                    <a:lnTo>
                      <a:pt x="5943" y="2678"/>
                    </a:lnTo>
                    <a:lnTo>
                      <a:pt x="5940" y="2668"/>
                    </a:lnTo>
                    <a:lnTo>
                      <a:pt x="5935" y="2659"/>
                    </a:lnTo>
                    <a:lnTo>
                      <a:pt x="5927" y="2651"/>
                    </a:lnTo>
                    <a:lnTo>
                      <a:pt x="5917" y="2645"/>
                    </a:lnTo>
                    <a:lnTo>
                      <a:pt x="5904" y="2636"/>
                    </a:lnTo>
                    <a:close/>
                    <a:moveTo>
                      <a:pt x="2202" y="92"/>
                    </a:moveTo>
                    <a:lnTo>
                      <a:pt x="2202" y="92"/>
                    </a:lnTo>
                    <a:lnTo>
                      <a:pt x="2176" y="101"/>
                    </a:lnTo>
                    <a:lnTo>
                      <a:pt x="2164" y="104"/>
                    </a:lnTo>
                    <a:lnTo>
                      <a:pt x="2156" y="109"/>
                    </a:lnTo>
                    <a:lnTo>
                      <a:pt x="2148" y="117"/>
                    </a:lnTo>
                    <a:lnTo>
                      <a:pt x="2141" y="125"/>
                    </a:lnTo>
                    <a:lnTo>
                      <a:pt x="2136" y="138"/>
                    </a:lnTo>
                    <a:lnTo>
                      <a:pt x="2131" y="155"/>
                    </a:lnTo>
                    <a:lnTo>
                      <a:pt x="2212" y="132"/>
                    </a:lnTo>
                    <a:lnTo>
                      <a:pt x="2295" y="110"/>
                    </a:lnTo>
                    <a:lnTo>
                      <a:pt x="2282" y="99"/>
                    </a:lnTo>
                    <a:lnTo>
                      <a:pt x="2272" y="91"/>
                    </a:lnTo>
                    <a:lnTo>
                      <a:pt x="2260" y="86"/>
                    </a:lnTo>
                    <a:lnTo>
                      <a:pt x="2250" y="84"/>
                    </a:lnTo>
                    <a:lnTo>
                      <a:pt x="2240" y="84"/>
                    </a:lnTo>
                    <a:lnTo>
                      <a:pt x="2229" y="86"/>
                    </a:lnTo>
                    <a:lnTo>
                      <a:pt x="2202" y="92"/>
                    </a:lnTo>
                    <a:close/>
                    <a:moveTo>
                      <a:pt x="5419" y="1263"/>
                    </a:moveTo>
                    <a:lnTo>
                      <a:pt x="5419" y="1263"/>
                    </a:lnTo>
                    <a:lnTo>
                      <a:pt x="5404" y="1242"/>
                    </a:lnTo>
                    <a:lnTo>
                      <a:pt x="5396" y="1233"/>
                    </a:lnTo>
                    <a:lnTo>
                      <a:pt x="5388" y="1227"/>
                    </a:lnTo>
                    <a:lnTo>
                      <a:pt x="5380" y="1222"/>
                    </a:lnTo>
                    <a:lnTo>
                      <a:pt x="5368" y="1218"/>
                    </a:lnTo>
                    <a:lnTo>
                      <a:pt x="5355" y="1217"/>
                    </a:lnTo>
                    <a:lnTo>
                      <a:pt x="5340" y="1218"/>
                    </a:lnTo>
                    <a:lnTo>
                      <a:pt x="5388" y="1286"/>
                    </a:lnTo>
                    <a:lnTo>
                      <a:pt x="5436" y="1354"/>
                    </a:lnTo>
                    <a:lnTo>
                      <a:pt x="5441" y="1339"/>
                    </a:lnTo>
                    <a:lnTo>
                      <a:pt x="5444" y="1327"/>
                    </a:lnTo>
                    <a:lnTo>
                      <a:pt x="5445" y="1316"/>
                    </a:lnTo>
                    <a:lnTo>
                      <a:pt x="5444" y="1306"/>
                    </a:lnTo>
                    <a:lnTo>
                      <a:pt x="5441" y="1296"/>
                    </a:lnTo>
                    <a:lnTo>
                      <a:pt x="5436" y="1286"/>
                    </a:lnTo>
                    <a:lnTo>
                      <a:pt x="5419" y="1263"/>
                    </a:lnTo>
                    <a:close/>
                    <a:moveTo>
                      <a:pt x="5919" y="3151"/>
                    </a:moveTo>
                    <a:lnTo>
                      <a:pt x="5919" y="3151"/>
                    </a:lnTo>
                    <a:lnTo>
                      <a:pt x="5912" y="3233"/>
                    </a:lnTo>
                    <a:lnTo>
                      <a:pt x="5904" y="3314"/>
                    </a:lnTo>
                    <a:lnTo>
                      <a:pt x="5917" y="3307"/>
                    </a:lnTo>
                    <a:lnTo>
                      <a:pt x="5927" y="3299"/>
                    </a:lnTo>
                    <a:lnTo>
                      <a:pt x="5935" y="3291"/>
                    </a:lnTo>
                    <a:lnTo>
                      <a:pt x="5940" y="3283"/>
                    </a:lnTo>
                    <a:lnTo>
                      <a:pt x="5943" y="3273"/>
                    </a:lnTo>
                    <a:lnTo>
                      <a:pt x="5945" y="3263"/>
                    </a:lnTo>
                    <a:lnTo>
                      <a:pt x="5948" y="3237"/>
                    </a:lnTo>
                    <a:lnTo>
                      <a:pt x="5950" y="3208"/>
                    </a:lnTo>
                    <a:lnTo>
                      <a:pt x="5950" y="3199"/>
                    </a:lnTo>
                    <a:lnTo>
                      <a:pt x="5948" y="3187"/>
                    </a:lnTo>
                    <a:lnTo>
                      <a:pt x="5945" y="3179"/>
                    </a:lnTo>
                    <a:lnTo>
                      <a:pt x="5938" y="3169"/>
                    </a:lnTo>
                    <a:lnTo>
                      <a:pt x="5930" y="3161"/>
                    </a:lnTo>
                    <a:lnTo>
                      <a:pt x="5919" y="3151"/>
                    </a:lnTo>
                    <a:close/>
                    <a:moveTo>
                      <a:pt x="5800" y="2133"/>
                    </a:moveTo>
                    <a:lnTo>
                      <a:pt x="5800" y="2133"/>
                    </a:lnTo>
                    <a:lnTo>
                      <a:pt x="5821" y="2213"/>
                    </a:lnTo>
                    <a:lnTo>
                      <a:pt x="5843" y="2292"/>
                    </a:lnTo>
                    <a:lnTo>
                      <a:pt x="5853" y="2280"/>
                    </a:lnTo>
                    <a:lnTo>
                      <a:pt x="5859" y="2270"/>
                    </a:lnTo>
                    <a:lnTo>
                      <a:pt x="5864" y="2260"/>
                    </a:lnTo>
                    <a:lnTo>
                      <a:pt x="5866" y="2251"/>
                    </a:lnTo>
                    <a:lnTo>
                      <a:pt x="5866" y="2241"/>
                    </a:lnTo>
                    <a:lnTo>
                      <a:pt x="5864" y="2229"/>
                    </a:lnTo>
                    <a:lnTo>
                      <a:pt x="5858" y="2203"/>
                    </a:lnTo>
                    <a:lnTo>
                      <a:pt x="5851" y="2176"/>
                    </a:lnTo>
                    <a:lnTo>
                      <a:pt x="5846" y="2166"/>
                    </a:lnTo>
                    <a:lnTo>
                      <a:pt x="5841" y="2158"/>
                    </a:lnTo>
                    <a:lnTo>
                      <a:pt x="5835" y="2150"/>
                    </a:lnTo>
                    <a:lnTo>
                      <a:pt x="5826" y="2143"/>
                    </a:lnTo>
                    <a:lnTo>
                      <a:pt x="5815" y="2138"/>
                    </a:lnTo>
                    <a:lnTo>
                      <a:pt x="5800" y="2133"/>
                    </a:lnTo>
                    <a:close/>
                    <a:moveTo>
                      <a:pt x="2715" y="2"/>
                    </a:moveTo>
                    <a:lnTo>
                      <a:pt x="2715" y="2"/>
                    </a:lnTo>
                    <a:lnTo>
                      <a:pt x="2687" y="5"/>
                    </a:lnTo>
                    <a:lnTo>
                      <a:pt x="2676" y="7"/>
                    </a:lnTo>
                    <a:lnTo>
                      <a:pt x="2666" y="10"/>
                    </a:lnTo>
                    <a:lnTo>
                      <a:pt x="2657" y="16"/>
                    </a:lnTo>
                    <a:lnTo>
                      <a:pt x="2649" y="25"/>
                    </a:lnTo>
                    <a:lnTo>
                      <a:pt x="2641" y="35"/>
                    </a:lnTo>
                    <a:lnTo>
                      <a:pt x="2634" y="51"/>
                    </a:lnTo>
                    <a:lnTo>
                      <a:pt x="2718" y="41"/>
                    </a:lnTo>
                    <a:lnTo>
                      <a:pt x="2803" y="36"/>
                    </a:lnTo>
                    <a:lnTo>
                      <a:pt x="2791" y="21"/>
                    </a:lnTo>
                    <a:lnTo>
                      <a:pt x="2783" y="13"/>
                    </a:lnTo>
                    <a:lnTo>
                      <a:pt x="2773" y="7"/>
                    </a:lnTo>
                    <a:lnTo>
                      <a:pt x="2763" y="2"/>
                    </a:lnTo>
                    <a:lnTo>
                      <a:pt x="2753" y="0"/>
                    </a:lnTo>
                    <a:lnTo>
                      <a:pt x="2742" y="0"/>
                    </a:lnTo>
                    <a:lnTo>
                      <a:pt x="2715" y="2"/>
                    </a:lnTo>
                    <a:close/>
                    <a:moveTo>
                      <a:pt x="4687" y="531"/>
                    </a:moveTo>
                    <a:lnTo>
                      <a:pt x="4687" y="531"/>
                    </a:lnTo>
                    <a:lnTo>
                      <a:pt x="4664" y="514"/>
                    </a:lnTo>
                    <a:lnTo>
                      <a:pt x="4654" y="509"/>
                    </a:lnTo>
                    <a:lnTo>
                      <a:pt x="4644" y="506"/>
                    </a:lnTo>
                    <a:lnTo>
                      <a:pt x="4634" y="505"/>
                    </a:lnTo>
                    <a:lnTo>
                      <a:pt x="4623" y="506"/>
                    </a:lnTo>
                    <a:lnTo>
                      <a:pt x="4611" y="509"/>
                    </a:lnTo>
                    <a:lnTo>
                      <a:pt x="4595" y="514"/>
                    </a:lnTo>
                    <a:lnTo>
                      <a:pt x="4664" y="562"/>
                    </a:lnTo>
                    <a:lnTo>
                      <a:pt x="4732" y="610"/>
                    </a:lnTo>
                    <a:lnTo>
                      <a:pt x="4733" y="595"/>
                    </a:lnTo>
                    <a:lnTo>
                      <a:pt x="4732" y="582"/>
                    </a:lnTo>
                    <a:lnTo>
                      <a:pt x="4728" y="570"/>
                    </a:lnTo>
                    <a:lnTo>
                      <a:pt x="4723" y="562"/>
                    </a:lnTo>
                    <a:lnTo>
                      <a:pt x="4717" y="554"/>
                    </a:lnTo>
                    <a:lnTo>
                      <a:pt x="4708" y="546"/>
                    </a:lnTo>
                    <a:lnTo>
                      <a:pt x="4687" y="531"/>
                    </a:lnTo>
                    <a:close/>
                    <a:moveTo>
                      <a:pt x="5084" y="866"/>
                    </a:moveTo>
                    <a:lnTo>
                      <a:pt x="5084" y="866"/>
                    </a:lnTo>
                    <a:lnTo>
                      <a:pt x="5066" y="846"/>
                    </a:lnTo>
                    <a:lnTo>
                      <a:pt x="5056" y="839"/>
                    </a:lnTo>
                    <a:lnTo>
                      <a:pt x="5048" y="834"/>
                    </a:lnTo>
                    <a:lnTo>
                      <a:pt x="5038" y="831"/>
                    </a:lnTo>
                    <a:lnTo>
                      <a:pt x="5027" y="829"/>
                    </a:lnTo>
                    <a:lnTo>
                      <a:pt x="5014" y="831"/>
                    </a:lnTo>
                    <a:lnTo>
                      <a:pt x="4999" y="834"/>
                    </a:lnTo>
                    <a:lnTo>
                      <a:pt x="5058" y="892"/>
                    </a:lnTo>
                    <a:lnTo>
                      <a:pt x="5116" y="951"/>
                    </a:lnTo>
                    <a:lnTo>
                      <a:pt x="5119" y="936"/>
                    </a:lnTo>
                    <a:lnTo>
                      <a:pt x="5121" y="923"/>
                    </a:lnTo>
                    <a:lnTo>
                      <a:pt x="5119" y="912"/>
                    </a:lnTo>
                    <a:lnTo>
                      <a:pt x="5116" y="902"/>
                    </a:lnTo>
                    <a:lnTo>
                      <a:pt x="5111" y="894"/>
                    </a:lnTo>
                    <a:lnTo>
                      <a:pt x="5104" y="884"/>
                    </a:lnTo>
                    <a:lnTo>
                      <a:pt x="5084" y="866"/>
                    </a:lnTo>
                    <a:close/>
                    <a:moveTo>
                      <a:pt x="5681" y="4148"/>
                    </a:moveTo>
                    <a:lnTo>
                      <a:pt x="5681" y="4148"/>
                    </a:lnTo>
                    <a:lnTo>
                      <a:pt x="5648" y="4222"/>
                    </a:lnTo>
                    <a:lnTo>
                      <a:pt x="5612" y="4295"/>
                    </a:lnTo>
                    <a:lnTo>
                      <a:pt x="5627" y="4293"/>
                    </a:lnTo>
                    <a:lnTo>
                      <a:pt x="5640" y="4290"/>
                    </a:lnTo>
                    <a:lnTo>
                      <a:pt x="5648" y="4285"/>
                    </a:lnTo>
                    <a:lnTo>
                      <a:pt x="5657" y="4279"/>
                    </a:lnTo>
                    <a:lnTo>
                      <a:pt x="5663" y="4270"/>
                    </a:lnTo>
                    <a:lnTo>
                      <a:pt x="5668" y="4260"/>
                    </a:lnTo>
                    <a:lnTo>
                      <a:pt x="5680" y="4237"/>
                    </a:lnTo>
                    <a:lnTo>
                      <a:pt x="5691" y="4213"/>
                    </a:lnTo>
                    <a:lnTo>
                      <a:pt x="5694" y="4203"/>
                    </a:lnTo>
                    <a:lnTo>
                      <a:pt x="5696" y="4193"/>
                    </a:lnTo>
                    <a:lnTo>
                      <a:pt x="5696" y="4183"/>
                    </a:lnTo>
                    <a:lnTo>
                      <a:pt x="5694" y="4171"/>
                    </a:lnTo>
                    <a:lnTo>
                      <a:pt x="5689" y="4160"/>
                    </a:lnTo>
                    <a:lnTo>
                      <a:pt x="5681" y="4148"/>
                    </a:lnTo>
                    <a:close/>
                    <a:moveTo>
                      <a:pt x="4146" y="5682"/>
                    </a:moveTo>
                    <a:lnTo>
                      <a:pt x="4146" y="5682"/>
                    </a:lnTo>
                    <a:lnTo>
                      <a:pt x="4159" y="5690"/>
                    </a:lnTo>
                    <a:lnTo>
                      <a:pt x="4171" y="5695"/>
                    </a:lnTo>
                    <a:lnTo>
                      <a:pt x="4181" y="5698"/>
                    </a:lnTo>
                    <a:lnTo>
                      <a:pt x="4191" y="5698"/>
                    </a:lnTo>
                    <a:lnTo>
                      <a:pt x="4201" y="5695"/>
                    </a:lnTo>
                    <a:lnTo>
                      <a:pt x="4212" y="5691"/>
                    </a:lnTo>
                    <a:lnTo>
                      <a:pt x="4235" y="5680"/>
                    </a:lnTo>
                    <a:lnTo>
                      <a:pt x="4260" y="5668"/>
                    </a:lnTo>
                    <a:lnTo>
                      <a:pt x="4270" y="5663"/>
                    </a:lnTo>
                    <a:lnTo>
                      <a:pt x="4278" y="5657"/>
                    </a:lnTo>
                    <a:lnTo>
                      <a:pt x="4283" y="5650"/>
                    </a:lnTo>
                    <a:lnTo>
                      <a:pt x="4288" y="5640"/>
                    </a:lnTo>
                    <a:lnTo>
                      <a:pt x="4291" y="5629"/>
                    </a:lnTo>
                    <a:lnTo>
                      <a:pt x="4295" y="5614"/>
                    </a:lnTo>
                    <a:lnTo>
                      <a:pt x="4220" y="5649"/>
                    </a:lnTo>
                    <a:lnTo>
                      <a:pt x="4146" y="5682"/>
                    </a:lnTo>
                    <a:close/>
                    <a:moveTo>
                      <a:pt x="1" y="2715"/>
                    </a:moveTo>
                    <a:lnTo>
                      <a:pt x="1" y="2715"/>
                    </a:lnTo>
                    <a:lnTo>
                      <a:pt x="0" y="2744"/>
                    </a:lnTo>
                    <a:lnTo>
                      <a:pt x="0" y="2753"/>
                    </a:lnTo>
                    <a:lnTo>
                      <a:pt x="1" y="2765"/>
                    </a:lnTo>
                    <a:lnTo>
                      <a:pt x="5" y="2773"/>
                    </a:lnTo>
                    <a:lnTo>
                      <a:pt x="11" y="2783"/>
                    </a:lnTo>
                    <a:lnTo>
                      <a:pt x="21" y="2793"/>
                    </a:lnTo>
                    <a:lnTo>
                      <a:pt x="34" y="2803"/>
                    </a:lnTo>
                    <a:lnTo>
                      <a:pt x="41" y="2719"/>
                    </a:lnTo>
                    <a:lnTo>
                      <a:pt x="49" y="2635"/>
                    </a:lnTo>
                    <a:lnTo>
                      <a:pt x="34" y="2643"/>
                    </a:lnTo>
                    <a:lnTo>
                      <a:pt x="23" y="2651"/>
                    </a:lnTo>
                    <a:lnTo>
                      <a:pt x="14" y="2658"/>
                    </a:lnTo>
                    <a:lnTo>
                      <a:pt x="10" y="2668"/>
                    </a:lnTo>
                    <a:lnTo>
                      <a:pt x="6" y="2678"/>
                    </a:lnTo>
                    <a:lnTo>
                      <a:pt x="3" y="2687"/>
                    </a:lnTo>
                    <a:lnTo>
                      <a:pt x="1" y="2715"/>
                    </a:lnTo>
                    <a:close/>
                    <a:moveTo>
                      <a:pt x="1713" y="270"/>
                    </a:moveTo>
                    <a:lnTo>
                      <a:pt x="1713" y="270"/>
                    </a:lnTo>
                    <a:lnTo>
                      <a:pt x="1688" y="282"/>
                    </a:lnTo>
                    <a:lnTo>
                      <a:pt x="1678" y="289"/>
                    </a:lnTo>
                    <a:lnTo>
                      <a:pt x="1670" y="295"/>
                    </a:lnTo>
                    <a:lnTo>
                      <a:pt x="1663" y="303"/>
                    </a:lnTo>
                    <a:lnTo>
                      <a:pt x="1660" y="313"/>
                    </a:lnTo>
                    <a:lnTo>
                      <a:pt x="1657" y="328"/>
                    </a:lnTo>
                    <a:lnTo>
                      <a:pt x="1653" y="345"/>
                    </a:lnTo>
                    <a:lnTo>
                      <a:pt x="1731" y="307"/>
                    </a:lnTo>
                    <a:lnTo>
                      <a:pt x="1808" y="272"/>
                    </a:lnTo>
                    <a:lnTo>
                      <a:pt x="1793" y="264"/>
                    </a:lnTo>
                    <a:lnTo>
                      <a:pt x="1780" y="257"/>
                    </a:lnTo>
                    <a:lnTo>
                      <a:pt x="1770" y="254"/>
                    </a:lnTo>
                    <a:lnTo>
                      <a:pt x="1759" y="254"/>
                    </a:lnTo>
                    <a:lnTo>
                      <a:pt x="1749" y="256"/>
                    </a:lnTo>
                    <a:lnTo>
                      <a:pt x="1739" y="259"/>
                    </a:lnTo>
                    <a:lnTo>
                      <a:pt x="1713" y="270"/>
                    </a:lnTo>
                    <a:close/>
                    <a:moveTo>
                      <a:pt x="5343" y="4734"/>
                    </a:moveTo>
                    <a:lnTo>
                      <a:pt x="5343" y="4734"/>
                    </a:lnTo>
                    <a:lnTo>
                      <a:pt x="5358" y="4734"/>
                    </a:lnTo>
                    <a:lnTo>
                      <a:pt x="5371" y="4732"/>
                    </a:lnTo>
                    <a:lnTo>
                      <a:pt x="5381" y="4729"/>
                    </a:lnTo>
                    <a:lnTo>
                      <a:pt x="5389" y="4724"/>
                    </a:lnTo>
                    <a:lnTo>
                      <a:pt x="5398" y="4717"/>
                    </a:lnTo>
                    <a:lnTo>
                      <a:pt x="5404" y="4709"/>
                    </a:lnTo>
                    <a:lnTo>
                      <a:pt x="5419" y="4687"/>
                    </a:lnTo>
                    <a:lnTo>
                      <a:pt x="5434" y="4666"/>
                    </a:lnTo>
                    <a:lnTo>
                      <a:pt x="5441" y="4656"/>
                    </a:lnTo>
                    <a:lnTo>
                      <a:pt x="5444" y="4646"/>
                    </a:lnTo>
                    <a:lnTo>
                      <a:pt x="5445" y="4636"/>
                    </a:lnTo>
                    <a:lnTo>
                      <a:pt x="5445" y="4626"/>
                    </a:lnTo>
                    <a:lnTo>
                      <a:pt x="5442" y="4615"/>
                    </a:lnTo>
                    <a:lnTo>
                      <a:pt x="5437" y="4600"/>
                    </a:lnTo>
                    <a:lnTo>
                      <a:pt x="5391" y="4668"/>
                    </a:lnTo>
                    <a:lnTo>
                      <a:pt x="5343" y="4734"/>
                    </a:lnTo>
                    <a:close/>
                    <a:moveTo>
                      <a:pt x="5002" y="5118"/>
                    </a:moveTo>
                    <a:lnTo>
                      <a:pt x="5002" y="5118"/>
                    </a:lnTo>
                    <a:lnTo>
                      <a:pt x="5017" y="5121"/>
                    </a:lnTo>
                    <a:lnTo>
                      <a:pt x="5030" y="5121"/>
                    </a:lnTo>
                    <a:lnTo>
                      <a:pt x="5040" y="5121"/>
                    </a:lnTo>
                    <a:lnTo>
                      <a:pt x="5050" y="5118"/>
                    </a:lnTo>
                    <a:lnTo>
                      <a:pt x="5058" y="5111"/>
                    </a:lnTo>
                    <a:lnTo>
                      <a:pt x="5066" y="5105"/>
                    </a:lnTo>
                    <a:lnTo>
                      <a:pt x="5084" y="5086"/>
                    </a:lnTo>
                    <a:lnTo>
                      <a:pt x="5104" y="5067"/>
                    </a:lnTo>
                    <a:lnTo>
                      <a:pt x="5111" y="5058"/>
                    </a:lnTo>
                    <a:lnTo>
                      <a:pt x="5116" y="5050"/>
                    </a:lnTo>
                    <a:lnTo>
                      <a:pt x="5119" y="5040"/>
                    </a:lnTo>
                    <a:lnTo>
                      <a:pt x="5121" y="5030"/>
                    </a:lnTo>
                    <a:lnTo>
                      <a:pt x="5121" y="5019"/>
                    </a:lnTo>
                    <a:lnTo>
                      <a:pt x="5117" y="5004"/>
                    </a:lnTo>
                    <a:lnTo>
                      <a:pt x="5060" y="5062"/>
                    </a:lnTo>
                    <a:lnTo>
                      <a:pt x="5002" y="5118"/>
                    </a:lnTo>
                    <a:close/>
                    <a:moveTo>
                      <a:pt x="1" y="3237"/>
                    </a:moveTo>
                    <a:lnTo>
                      <a:pt x="1" y="3237"/>
                    </a:lnTo>
                    <a:lnTo>
                      <a:pt x="3" y="3263"/>
                    </a:lnTo>
                    <a:lnTo>
                      <a:pt x="6" y="3274"/>
                    </a:lnTo>
                    <a:lnTo>
                      <a:pt x="10" y="3284"/>
                    </a:lnTo>
                    <a:lnTo>
                      <a:pt x="14" y="3293"/>
                    </a:lnTo>
                    <a:lnTo>
                      <a:pt x="23" y="3301"/>
                    </a:lnTo>
                    <a:lnTo>
                      <a:pt x="33" y="3307"/>
                    </a:lnTo>
                    <a:lnTo>
                      <a:pt x="47" y="3316"/>
                    </a:lnTo>
                    <a:lnTo>
                      <a:pt x="39" y="3233"/>
                    </a:lnTo>
                    <a:lnTo>
                      <a:pt x="33" y="3149"/>
                    </a:lnTo>
                    <a:lnTo>
                      <a:pt x="21" y="3159"/>
                    </a:lnTo>
                    <a:lnTo>
                      <a:pt x="11" y="3169"/>
                    </a:lnTo>
                    <a:lnTo>
                      <a:pt x="5" y="3177"/>
                    </a:lnTo>
                    <a:lnTo>
                      <a:pt x="1" y="3187"/>
                    </a:lnTo>
                    <a:lnTo>
                      <a:pt x="0" y="3197"/>
                    </a:lnTo>
                    <a:lnTo>
                      <a:pt x="0" y="3208"/>
                    </a:lnTo>
                    <a:lnTo>
                      <a:pt x="1" y="3237"/>
                    </a:lnTo>
                    <a:close/>
                    <a:moveTo>
                      <a:pt x="270" y="1715"/>
                    </a:moveTo>
                    <a:lnTo>
                      <a:pt x="270" y="1715"/>
                    </a:lnTo>
                    <a:lnTo>
                      <a:pt x="259" y="1739"/>
                    </a:lnTo>
                    <a:lnTo>
                      <a:pt x="254" y="1749"/>
                    </a:lnTo>
                    <a:lnTo>
                      <a:pt x="252" y="1761"/>
                    </a:lnTo>
                    <a:lnTo>
                      <a:pt x="254" y="1771"/>
                    </a:lnTo>
                    <a:lnTo>
                      <a:pt x="255" y="1782"/>
                    </a:lnTo>
                    <a:lnTo>
                      <a:pt x="262" y="1794"/>
                    </a:lnTo>
                    <a:lnTo>
                      <a:pt x="272" y="1809"/>
                    </a:lnTo>
                    <a:lnTo>
                      <a:pt x="306" y="1731"/>
                    </a:lnTo>
                    <a:lnTo>
                      <a:pt x="343" y="1655"/>
                    </a:lnTo>
                    <a:lnTo>
                      <a:pt x="326" y="1657"/>
                    </a:lnTo>
                    <a:lnTo>
                      <a:pt x="313" y="1660"/>
                    </a:lnTo>
                    <a:lnTo>
                      <a:pt x="301" y="1665"/>
                    </a:lnTo>
                    <a:lnTo>
                      <a:pt x="293" y="1672"/>
                    </a:lnTo>
                    <a:lnTo>
                      <a:pt x="287" y="1680"/>
                    </a:lnTo>
                    <a:lnTo>
                      <a:pt x="282" y="1688"/>
                    </a:lnTo>
                    <a:lnTo>
                      <a:pt x="270" y="1715"/>
                    </a:lnTo>
                    <a:close/>
                    <a:moveTo>
                      <a:pt x="529" y="1263"/>
                    </a:moveTo>
                    <a:lnTo>
                      <a:pt x="529" y="1263"/>
                    </a:lnTo>
                    <a:lnTo>
                      <a:pt x="514" y="1286"/>
                    </a:lnTo>
                    <a:lnTo>
                      <a:pt x="509" y="1296"/>
                    </a:lnTo>
                    <a:lnTo>
                      <a:pt x="504" y="1306"/>
                    </a:lnTo>
                    <a:lnTo>
                      <a:pt x="504" y="1316"/>
                    </a:lnTo>
                    <a:lnTo>
                      <a:pt x="504" y="1327"/>
                    </a:lnTo>
                    <a:lnTo>
                      <a:pt x="507" y="1340"/>
                    </a:lnTo>
                    <a:lnTo>
                      <a:pt x="514" y="1355"/>
                    </a:lnTo>
                    <a:lnTo>
                      <a:pt x="562" y="1286"/>
                    </a:lnTo>
                    <a:lnTo>
                      <a:pt x="611" y="1218"/>
                    </a:lnTo>
                    <a:lnTo>
                      <a:pt x="595" y="1217"/>
                    </a:lnTo>
                    <a:lnTo>
                      <a:pt x="582" y="1218"/>
                    </a:lnTo>
                    <a:lnTo>
                      <a:pt x="570" y="1222"/>
                    </a:lnTo>
                    <a:lnTo>
                      <a:pt x="560" y="1225"/>
                    </a:lnTo>
                    <a:lnTo>
                      <a:pt x="554" y="1233"/>
                    </a:lnTo>
                    <a:lnTo>
                      <a:pt x="545" y="1242"/>
                    </a:lnTo>
                    <a:lnTo>
                      <a:pt x="529" y="1263"/>
                    </a:lnTo>
                    <a:close/>
                    <a:moveTo>
                      <a:pt x="864" y="866"/>
                    </a:moveTo>
                    <a:lnTo>
                      <a:pt x="864" y="866"/>
                    </a:lnTo>
                    <a:lnTo>
                      <a:pt x="844" y="885"/>
                    </a:lnTo>
                    <a:lnTo>
                      <a:pt x="837" y="894"/>
                    </a:lnTo>
                    <a:lnTo>
                      <a:pt x="832" y="902"/>
                    </a:lnTo>
                    <a:lnTo>
                      <a:pt x="829" y="912"/>
                    </a:lnTo>
                    <a:lnTo>
                      <a:pt x="829" y="923"/>
                    </a:lnTo>
                    <a:lnTo>
                      <a:pt x="829" y="938"/>
                    </a:lnTo>
                    <a:lnTo>
                      <a:pt x="834" y="955"/>
                    </a:lnTo>
                    <a:lnTo>
                      <a:pt x="893" y="894"/>
                    </a:lnTo>
                    <a:lnTo>
                      <a:pt x="953" y="834"/>
                    </a:lnTo>
                    <a:lnTo>
                      <a:pt x="936" y="831"/>
                    </a:lnTo>
                    <a:lnTo>
                      <a:pt x="923" y="829"/>
                    </a:lnTo>
                    <a:lnTo>
                      <a:pt x="911" y="831"/>
                    </a:lnTo>
                    <a:lnTo>
                      <a:pt x="902" y="833"/>
                    </a:lnTo>
                    <a:lnTo>
                      <a:pt x="893" y="839"/>
                    </a:lnTo>
                    <a:lnTo>
                      <a:pt x="883" y="846"/>
                    </a:lnTo>
                    <a:lnTo>
                      <a:pt x="864" y="866"/>
                    </a:lnTo>
                    <a:close/>
                    <a:moveTo>
                      <a:pt x="1263" y="531"/>
                    </a:moveTo>
                    <a:lnTo>
                      <a:pt x="1263" y="531"/>
                    </a:lnTo>
                    <a:lnTo>
                      <a:pt x="1240" y="547"/>
                    </a:lnTo>
                    <a:lnTo>
                      <a:pt x="1231" y="554"/>
                    </a:lnTo>
                    <a:lnTo>
                      <a:pt x="1225" y="562"/>
                    </a:lnTo>
                    <a:lnTo>
                      <a:pt x="1220" y="572"/>
                    </a:lnTo>
                    <a:lnTo>
                      <a:pt x="1216" y="582"/>
                    </a:lnTo>
                    <a:lnTo>
                      <a:pt x="1216" y="597"/>
                    </a:lnTo>
                    <a:lnTo>
                      <a:pt x="1216" y="613"/>
                    </a:lnTo>
                    <a:lnTo>
                      <a:pt x="1286" y="564"/>
                    </a:lnTo>
                    <a:lnTo>
                      <a:pt x="1357" y="516"/>
                    </a:lnTo>
                    <a:lnTo>
                      <a:pt x="1340" y="509"/>
                    </a:lnTo>
                    <a:lnTo>
                      <a:pt x="1327" y="506"/>
                    </a:lnTo>
                    <a:lnTo>
                      <a:pt x="1315" y="505"/>
                    </a:lnTo>
                    <a:lnTo>
                      <a:pt x="1305" y="506"/>
                    </a:lnTo>
                    <a:lnTo>
                      <a:pt x="1296" y="509"/>
                    </a:lnTo>
                    <a:lnTo>
                      <a:pt x="1286" y="514"/>
                    </a:lnTo>
                    <a:lnTo>
                      <a:pt x="1263" y="531"/>
                    </a:lnTo>
                    <a:close/>
                    <a:moveTo>
                      <a:pt x="5609" y="1655"/>
                    </a:moveTo>
                    <a:lnTo>
                      <a:pt x="5609" y="1655"/>
                    </a:lnTo>
                    <a:lnTo>
                      <a:pt x="5645" y="1730"/>
                    </a:lnTo>
                    <a:lnTo>
                      <a:pt x="5680" y="1805"/>
                    </a:lnTo>
                    <a:lnTo>
                      <a:pt x="5688" y="1792"/>
                    </a:lnTo>
                    <a:lnTo>
                      <a:pt x="5693" y="1781"/>
                    </a:lnTo>
                    <a:lnTo>
                      <a:pt x="5696" y="1769"/>
                    </a:lnTo>
                    <a:lnTo>
                      <a:pt x="5696" y="1759"/>
                    </a:lnTo>
                    <a:lnTo>
                      <a:pt x="5694" y="1749"/>
                    </a:lnTo>
                    <a:lnTo>
                      <a:pt x="5691" y="1739"/>
                    </a:lnTo>
                    <a:lnTo>
                      <a:pt x="5680" y="1715"/>
                    </a:lnTo>
                    <a:lnTo>
                      <a:pt x="5668" y="1690"/>
                    </a:lnTo>
                    <a:lnTo>
                      <a:pt x="5661" y="1680"/>
                    </a:lnTo>
                    <a:lnTo>
                      <a:pt x="5655" y="1672"/>
                    </a:lnTo>
                    <a:lnTo>
                      <a:pt x="5648" y="1665"/>
                    </a:lnTo>
                    <a:lnTo>
                      <a:pt x="5638" y="1660"/>
                    </a:lnTo>
                    <a:lnTo>
                      <a:pt x="5625" y="1657"/>
                    </a:lnTo>
                    <a:lnTo>
                      <a:pt x="5609" y="1655"/>
                    </a:lnTo>
                    <a:close/>
                    <a:moveTo>
                      <a:pt x="3747" y="5858"/>
                    </a:moveTo>
                    <a:lnTo>
                      <a:pt x="3747" y="5858"/>
                    </a:lnTo>
                    <a:lnTo>
                      <a:pt x="3772" y="5851"/>
                    </a:lnTo>
                    <a:lnTo>
                      <a:pt x="3784" y="5848"/>
                    </a:lnTo>
                    <a:lnTo>
                      <a:pt x="3792" y="5843"/>
                    </a:lnTo>
                    <a:lnTo>
                      <a:pt x="3800" y="5837"/>
                    </a:lnTo>
                    <a:lnTo>
                      <a:pt x="3807" y="5828"/>
                    </a:lnTo>
                    <a:lnTo>
                      <a:pt x="3812" y="5817"/>
                    </a:lnTo>
                    <a:lnTo>
                      <a:pt x="3817" y="5804"/>
                    </a:lnTo>
                    <a:lnTo>
                      <a:pt x="3737" y="5825"/>
                    </a:lnTo>
                    <a:lnTo>
                      <a:pt x="3660" y="5845"/>
                    </a:lnTo>
                    <a:lnTo>
                      <a:pt x="3671" y="5855"/>
                    </a:lnTo>
                    <a:lnTo>
                      <a:pt x="3681" y="5861"/>
                    </a:lnTo>
                    <a:lnTo>
                      <a:pt x="3691" y="5866"/>
                    </a:lnTo>
                    <a:lnTo>
                      <a:pt x="3701" y="5868"/>
                    </a:lnTo>
                    <a:lnTo>
                      <a:pt x="3711" y="5868"/>
                    </a:lnTo>
                    <a:lnTo>
                      <a:pt x="3721" y="5865"/>
                    </a:lnTo>
                    <a:lnTo>
                      <a:pt x="3747" y="5858"/>
                    </a:lnTo>
                    <a:close/>
                    <a:moveTo>
                      <a:pt x="5858" y="3748"/>
                    </a:moveTo>
                    <a:lnTo>
                      <a:pt x="5858" y="3748"/>
                    </a:lnTo>
                    <a:lnTo>
                      <a:pt x="5864" y="3721"/>
                    </a:lnTo>
                    <a:lnTo>
                      <a:pt x="5866" y="3711"/>
                    </a:lnTo>
                    <a:lnTo>
                      <a:pt x="5866" y="3701"/>
                    </a:lnTo>
                    <a:lnTo>
                      <a:pt x="5864" y="3692"/>
                    </a:lnTo>
                    <a:lnTo>
                      <a:pt x="5861" y="3682"/>
                    </a:lnTo>
                    <a:lnTo>
                      <a:pt x="5853" y="3670"/>
                    </a:lnTo>
                    <a:lnTo>
                      <a:pt x="5843" y="3659"/>
                    </a:lnTo>
                    <a:lnTo>
                      <a:pt x="5823" y="3741"/>
                    </a:lnTo>
                    <a:lnTo>
                      <a:pt x="5800" y="3817"/>
                    </a:lnTo>
                    <a:lnTo>
                      <a:pt x="5815" y="3814"/>
                    </a:lnTo>
                    <a:lnTo>
                      <a:pt x="5826" y="3807"/>
                    </a:lnTo>
                    <a:lnTo>
                      <a:pt x="5835" y="3800"/>
                    </a:lnTo>
                    <a:lnTo>
                      <a:pt x="5841" y="3794"/>
                    </a:lnTo>
                    <a:lnTo>
                      <a:pt x="5846" y="3784"/>
                    </a:lnTo>
                    <a:lnTo>
                      <a:pt x="5851" y="3774"/>
                    </a:lnTo>
                    <a:lnTo>
                      <a:pt x="5858" y="3748"/>
                    </a:lnTo>
                    <a:close/>
                    <a:moveTo>
                      <a:pt x="3747" y="92"/>
                    </a:moveTo>
                    <a:lnTo>
                      <a:pt x="3747" y="92"/>
                    </a:lnTo>
                    <a:lnTo>
                      <a:pt x="3721" y="86"/>
                    </a:lnTo>
                    <a:lnTo>
                      <a:pt x="3709" y="84"/>
                    </a:lnTo>
                    <a:lnTo>
                      <a:pt x="3698" y="84"/>
                    </a:lnTo>
                    <a:lnTo>
                      <a:pt x="3688" y="86"/>
                    </a:lnTo>
                    <a:lnTo>
                      <a:pt x="3678" y="91"/>
                    </a:lnTo>
                    <a:lnTo>
                      <a:pt x="3666" y="99"/>
                    </a:lnTo>
                    <a:lnTo>
                      <a:pt x="3655" y="110"/>
                    </a:lnTo>
                    <a:lnTo>
                      <a:pt x="3739" y="132"/>
                    </a:lnTo>
                    <a:lnTo>
                      <a:pt x="3818" y="153"/>
                    </a:lnTo>
                    <a:lnTo>
                      <a:pt x="3813" y="138"/>
                    </a:lnTo>
                    <a:lnTo>
                      <a:pt x="3807" y="125"/>
                    </a:lnTo>
                    <a:lnTo>
                      <a:pt x="3802" y="115"/>
                    </a:lnTo>
                    <a:lnTo>
                      <a:pt x="3793" y="109"/>
                    </a:lnTo>
                    <a:lnTo>
                      <a:pt x="3784" y="104"/>
                    </a:lnTo>
                    <a:lnTo>
                      <a:pt x="3774" y="101"/>
                    </a:lnTo>
                    <a:lnTo>
                      <a:pt x="3747" y="92"/>
                    </a:lnTo>
                    <a:close/>
                    <a:moveTo>
                      <a:pt x="2133" y="5802"/>
                    </a:moveTo>
                    <a:lnTo>
                      <a:pt x="2133" y="5802"/>
                    </a:lnTo>
                    <a:lnTo>
                      <a:pt x="2136" y="5817"/>
                    </a:lnTo>
                    <a:lnTo>
                      <a:pt x="2143" y="5828"/>
                    </a:lnTo>
                    <a:lnTo>
                      <a:pt x="2150" y="5837"/>
                    </a:lnTo>
                    <a:lnTo>
                      <a:pt x="2156" y="5843"/>
                    </a:lnTo>
                    <a:lnTo>
                      <a:pt x="2166" y="5848"/>
                    </a:lnTo>
                    <a:lnTo>
                      <a:pt x="2176" y="5851"/>
                    </a:lnTo>
                    <a:lnTo>
                      <a:pt x="2202" y="5858"/>
                    </a:lnTo>
                    <a:lnTo>
                      <a:pt x="2229" y="5865"/>
                    </a:lnTo>
                    <a:lnTo>
                      <a:pt x="2239" y="5868"/>
                    </a:lnTo>
                    <a:lnTo>
                      <a:pt x="2249" y="5868"/>
                    </a:lnTo>
                    <a:lnTo>
                      <a:pt x="2258" y="5866"/>
                    </a:lnTo>
                    <a:lnTo>
                      <a:pt x="2268" y="5861"/>
                    </a:lnTo>
                    <a:lnTo>
                      <a:pt x="2280" y="5855"/>
                    </a:lnTo>
                    <a:lnTo>
                      <a:pt x="2291" y="5845"/>
                    </a:lnTo>
                    <a:lnTo>
                      <a:pt x="2214" y="5825"/>
                    </a:lnTo>
                    <a:lnTo>
                      <a:pt x="2133" y="5802"/>
                    </a:lnTo>
                    <a:close/>
                    <a:moveTo>
                      <a:pt x="130" y="2216"/>
                    </a:moveTo>
                    <a:lnTo>
                      <a:pt x="130" y="2216"/>
                    </a:lnTo>
                    <a:lnTo>
                      <a:pt x="153" y="2132"/>
                    </a:lnTo>
                    <a:lnTo>
                      <a:pt x="136" y="2137"/>
                    </a:lnTo>
                    <a:lnTo>
                      <a:pt x="125" y="2143"/>
                    </a:lnTo>
                    <a:lnTo>
                      <a:pt x="115" y="2148"/>
                    </a:lnTo>
                    <a:lnTo>
                      <a:pt x="108" y="2157"/>
                    </a:lnTo>
                    <a:lnTo>
                      <a:pt x="104" y="2166"/>
                    </a:lnTo>
                    <a:lnTo>
                      <a:pt x="99" y="2176"/>
                    </a:lnTo>
                    <a:lnTo>
                      <a:pt x="92" y="2203"/>
                    </a:lnTo>
                    <a:lnTo>
                      <a:pt x="84" y="2229"/>
                    </a:lnTo>
                    <a:lnTo>
                      <a:pt x="82" y="2241"/>
                    </a:lnTo>
                    <a:lnTo>
                      <a:pt x="82" y="2252"/>
                    </a:lnTo>
                    <a:lnTo>
                      <a:pt x="85" y="2262"/>
                    </a:lnTo>
                    <a:lnTo>
                      <a:pt x="90" y="2272"/>
                    </a:lnTo>
                    <a:lnTo>
                      <a:pt x="99" y="2284"/>
                    </a:lnTo>
                    <a:lnTo>
                      <a:pt x="110" y="2295"/>
                    </a:lnTo>
                    <a:lnTo>
                      <a:pt x="130" y="2216"/>
                    </a:lnTo>
                    <a:close/>
                    <a:moveTo>
                      <a:pt x="4600" y="5438"/>
                    </a:moveTo>
                    <a:lnTo>
                      <a:pt x="4600" y="5438"/>
                    </a:lnTo>
                    <a:lnTo>
                      <a:pt x="4613" y="5443"/>
                    </a:lnTo>
                    <a:lnTo>
                      <a:pt x="4624" y="5446"/>
                    </a:lnTo>
                    <a:lnTo>
                      <a:pt x="4636" y="5446"/>
                    </a:lnTo>
                    <a:lnTo>
                      <a:pt x="4646" y="5444"/>
                    </a:lnTo>
                    <a:lnTo>
                      <a:pt x="4656" y="5441"/>
                    </a:lnTo>
                    <a:lnTo>
                      <a:pt x="4664" y="5436"/>
                    </a:lnTo>
                    <a:lnTo>
                      <a:pt x="4687" y="5421"/>
                    </a:lnTo>
                    <a:lnTo>
                      <a:pt x="4708" y="5405"/>
                    </a:lnTo>
                    <a:lnTo>
                      <a:pt x="4717" y="5398"/>
                    </a:lnTo>
                    <a:lnTo>
                      <a:pt x="4723" y="5390"/>
                    </a:lnTo>
                    <a:lnTo>
                      <a:pt x="4728" y="5382"/>
                    </a:lnTo>
                    <a:lnTo>
                      <a:pt x="4732" y="5372"/>
                    </a:lnTo>
                    <a:lnTo>
                      <a:pt x="4733" y="5358"/>
                    </a:lnTo>
                    <a:lnTo>
                      <a:pt x="4733" y="5344"/>
                    </a:lnTo>
                    <a:lnTo>
                      <a:pt x="4666" y="5391"/>
                    </a:lnTo>
                    <a:lnTo>
                      <a:pt x="4600" y="5438"/>
                    </a:lnTo>
                    <a:close/>
                    <a:moveTo>
                      <a:pt x="270" y="4237"/>
                    </a:moveTo>
                    <a:lnTo>
                      <a:pt x="270" y="4237"/>
                    </a:lnTo>
                    <a:lnTo>
                      <a:pt x="282" y="4262"/>
                    </a:lnTo>
                    <a:lnTo>
                      <a:pt x="287" y="4272"/>
                    </a:lnTo>
                    <a:lnTo>
                      <a:pt x="293" y="4279"/>
                    </a:lnTo>
                    <a:lnTo>
                      <a:pt x="301" y="4285"/>
                    </a:lnTo>
                    <a:lnTo>
                      <a:pt x="311" y="4290"/>
                    </a:lnTo>
                    <a:lnTo>
                      <a:pt x="324" y="4293"/>
                    </a:lnTo>
                    <a:lnTo>
                      <a:pt x="341" y="4295"/>
                    </a:lnTo>
                    <a:lnTo>
                      <a:pt x="305" y="4221"/>
                    </a:lnTo>
                    <a:lnTo>
                      <a:pt x="270" y="4145"/>
                    </a:lnTo>
                    <a:lnTo>
                      <a:pt x="262" y="4158"/>
                    </a:lnTo>
                    <a:lnTo>
                      <a:pt x="255" y="4170"/>
                    </a:lnTo>
                    <a:lnTo>
                      <a:pt x="254" y="4181"/>
                    </a:lnTo>
                    <a:lnTo>
                      <a:pt x="252" y="4191"/>
                    </a:lnTo>
                    <a:lnTo>
                      <a:pt x="254" y="4201"/>
                    </a:lnTo>
                    <a:lnTo>
                      <a:pt x="259" y="4213"/>
                    </a:lnTo>
                    <a:lnTo>
                      <a:pt x="270" y="4237"/>
                    </a:lnTo>
                    <a:close/>
                    <a:moveTo>
                      <a:pt x="92" y="3748"/>
                    </a:moveTo>
                    <a:lnTo>
                      <a:pt x="92" y="3748"/>
                    </a:lnTo>
                    <a:lnTo>
                      <a:pt x="99" y="3774"/>
                    </a:lnTo>
                    <a:lnTo>
                      <a:pt x="104" y="3786"/>
                    </a:lnTo>
                    <a:lnTo>
                      <a:pt x="108" y="3794"/>
                    </a:lnTo>
                    <a:lnTo>
                      <a:pt x="115" y="3802"/>
                    </a:lnTo>
                    <a:lnTo>
                      <a:pt x="123" y="3809"/>
                    </a:lnTo>
                    <a:lnTo>
                      <a:pt x="135" y="3814"/>
                    </a:lnTo>
                    <a:lnTo>
                      <a:pt x="151" y="3819"/>
                    </a:lnTo>
                    <a:lnTo>
                      <a:pt x="128" y="3738"/>
                    </a:lnTo>
                    <a:lnTo>
                      <a:pt x="108" y="3657"/>
                    </a:lnTo>
                    <a:lnTo>
                      <a:pt x="97" y="3670"/>
                    </a:lnTo>
                    <a:lnTo>
                      <a:pt x="89" y="3680"/>
                    </a:lnTo>
                    <a:lnTo>
                      <a:pt x="85" y="3690"/>
                    </a:lnTo>
                    <a:lnTo>
                      <a:pt x="82" y="3700"/>
                    </a:lnTo>
                    <a:lnTo>
                      <a:pt x="82" y="3710"/>
                    </a:lnTo>
                    <a:lnTo>
                      <a:pt x="84" y="3721"/>
                    </a:lnTo>
                    <a:lnTo>
                      <a:pt x="92" y="3748"/>
                    </a:lnTo>
                    <a:close/>
                    <a:moveTo>
                      <a:pt x="864" y="5086"/>
                    </a:moveTo>
                    <a:lnTo>
                      <a:pt x="864" y="5086"/>
                    </a:lnTo>
                    <a:lnTo>
                      <a:pt x="883" y="5105"/>
                    </a:lnTo>
                    <a:lnTo>
                      <a:pt x="892" y="5113"/>
                    </a:lnTo>
                    <a:lnTo>
                      <a:pt x="900" y="5118"/>
                    </a:lnTo>
                    <a:lnTo>
                      <a:pt x="910" y="5121"/>
                    </a:lnTo>
                    <a:lnTo>
                      <a:pt x="921" y="5121"/>
                    </a:lnTo>
                    <a:lnTo>
                      <a:pt x="933" y="5121"/>
                    </a:lnTo>
                    <a:lnTo>
                      <a:pt x="949" y="5118"/>
                    </a:lnTo>
                    <a:lnTo>
                      <a:pt x="890" y="5060"/>
                    </a:lnTo>
                    <a:lnTo>
                      <a:pt x="832" y="5001"/>
                    </a:lnTo>
                    <a:lnTo>
                      <a:pt x="829" y="5016"/>
                    </a:lnTo>
                    <a:lnTo>
                      <a:pt x="829" y="5029"/>
                    </a:lnTo>
                    <a:lnTo>
                      <a:pt x="829" y="5040"/>
                    </a:lnTo>
                    <a:lnTo>
                      <a:pt x="832" y="5050"/>
                    </a:lnTo>
                    <a:lnTo>
                      <a:pt x="837" y="5058"/>
                    </a:lnTo>
                    <a:lnTo>
                      <a:pt x="845" y="5067"/>
                    </a:lnTo>
                    <a:lnTo>
                      <a:pt x="864" y="5086"/>
                    </a:lnTo>
                    <a:close/>
                    <a:moveTo>
                      <a:pt x="1263" y="5421"/>
                    </a:moveTo>
                    <a:lnTo>
                      <a:pt x="1263" y="5421"/>
                    </a:lnTo>
                    <a:lnTo>
                      <a:pt x="1284" y="5436"/>
                    </a:lnTo>
                    <a:lnTo>
                      <a:pt x="1294" y="5441"/>
                    </a:lnTo>
                    <a:lnTo>
                      <a:pt x="1304" y="5444"/>
                    </a:lnTo>
                    <a:lnTo>
                      <a:pt x="1314" y="5446"/>
                    </a:lnTo>
                    <a:lnTo>
                      <a:pt x="1324" y="5446"/>
                    </a:lnTo>
                    <a:lnTo>
                      <a:pt x="1337" y="5443"/>
                    </a:lnTo>
                    <a:lnTo>
                      <a:pt x="1352" y="5438"/>
                    </a:lnTo>
                    <a:lnTo>
                      <a:pt x="1282" y="5391"/>
                    </a:lnTo>
                    <a:lnTo>
                      <a:pt x="1216" y="5344"/>
                    </a:lnTo>
                    <a:lnTo>
                      <a:pt x="1216" y="5358"/>
                    </a:lnTo>
                    <a:lnTo>
                      <a:pt x="1218" y="5372"/>
                    </a:lnTo>
                    <a:lnTo>
                      <a:pt x="1221" y="5382"/>
                    </a:lnTo>
                    <a:lnTo>
                      <a:pt x="1226" y="5390"/>
                    </a:lnTo>
                    <a:lnTo>
                      <a:pt x="1233" y="5398"/>
                    </a:lnTo>
                    <a:lnTo>
                      <a:pt x="1241" y="5405"/>
                    </a:lnTo>
                    <a:lnTo>
                      <a:pt x="1263" y="5421"/>
                    </a:lnTo>
                    <a:close/>
                    <a:moveTo>
                      <a:pt x="1713" y="5680"/>
                    </a:moveTo>
                    <a:lnTo>
                      <a:pt x="1713" y="5680"/>
                    </a:lnTo>
                    <a:lnTo>
                      <a:pt x="1737" y="5691"/>
                    </a:lnTo>
                    <a:lnTo>
                      <a:pt x="1747" y="5695"/>
                    </a:lnTo>
                    <a:lnTo>
                      <a:pt x="1757" y="5698"/>
                    </a:lnTo>
                    <a:lnTo>
                      <a:pt x="1767" y="5698"/>
                    </a:lnTo>
                    <a:lnTo>
                      <a:pt x="1779" y="5695"/>
                    </a:lnTo>
                    <a:lnTo>
                      <a:pt x="1790" y="5690"/>
                    </a:lnTo>
                    <a:lnTo>
                      <a:pt x="1803" y="5682"/>
                    </a:lnTo>
                    <a:lnTo>
                      <a:pt x="1728" y="5649"/>
                    </a:lnTo>
                    <a:lnTo>
                      <a:pt x="1655" y="5612"/>
                    </a:lnTo>
                    <a:lnTo>
                      <a:pt x="1657" y="5627"/>
                    </a:lnTo>
                    <a:lnTo>
                      <a:pt x="1660" y="5640"/>
                    </a:lnTo>
                    <a:lnTo>
                      <a:pt x="1665" y="5650"/>
                    </a:lnTo>
                    <a:lnTo>
                      <a:pt x="1671" y="5657"/>
                    </a:lnTo>
                    <a:lnTo>
                      <a:pt x="1680" y="5663"/>
                    </a:lnTo>
                    <a:lnTo>
                      <a:pt x="1688" y="5668"/>
                    </a:lnTo>
                    <a:lnTo>
                      <a:pt x="1713" y="5680"/>
                    </a:lnTo>
                    <a:close/>
                    <a:moveTo>
                      <a:pt x="529" y="4687"/>
                    </a:moveTo>
                    <a:lnTo>
                      <a:pt x="529" y="4687"/>
                    </a:lnTo>
                    <a:lnTo>
                      <a:pt x="545" y="4710"/>
                    </a:lnTo>
                    <a:lnTo>
                      <a:pt x="552" y="4719"/>
                    </a:lnTo>
                    <a:lnTo>
                      <a:pt x="560" y="4725"/>
                    </a:lnTo>
                    <a:lnTo>
                      <a:pt x="568" y="4730"/>
                    </a:lnTo>
                    <a:lnTo>
                      <a:pt x="580" y="4732"/>
                    </a:lnTo>
                    <a:lnTo>
                      <a:pt x="593" y="4734"/>
                    </a:lnTo>
                    <a:lnTo>
                      <a:pt x="608" y="4734"/>
                    </a:lnTo>
                    <a:lnTo>
                      <a:pt x="560" y="4666"/>
                    </a:lnTo>
                    <a:lnTo>
                      <a:pt x="514" y="4597"/>
                    </a:lnTo>
                    <a:lnTo>
                      <a:pt x="507" y="4612"/>
                    </a:lnTo>
                    <a:lnTo>
                      <a:pt x="504" y="4625"/>
                    </a:lnTo>
                    <a:lnTo>
                      <a:pt x="504" y="4636"/>
                    </a:lnTo>
                    <a:lnTo>
                      <a:pt x="506" y="4646"/>
                    </a:lnTo>
                    <a:lnTo>
                      <a:pt x="509" y="4656"/>
                    </a:lnTo>
                    <a:lnTo>
                      <a:pt x="514" y="4664"/>
                    </a:lnTo>
                    <a:lnTo>
                      <a:pt x="529" y="4687"/>
                    </a:lnTo>
                    <a:close/>
                    <a:moveTo>
                      <a:pt x="3235" y="5949"/>
                    </a:moveTo>
                    <a:lnTo>
                      <a:pt x="3235" y="5949"/>
                    </a:lnTo>
                    <a:lnTo>
                      <a:pt x="3261" y="5947"/>
                    </a:lnTo>
                    <a:lnTo>
                      <a:pt x="3272" y="5944"/>
                    </a:lnTo>
                    <a:lnTo>
                      <a:pt x="3281" y="5940"/>
                    </a:lnTo>
                    <a:lnTo>
                      <a:pt x="3291" y="5937"/>
                    </a:lnTo>
                    <a:lnTo>
                      <a:pt x="3297" y="5929"/>
                    </a:lnTo>
                    <a:lnTo>
                      <a:pt x="3305" y="5919"/>
                    </a:lnTo>
                    <a:lnTo>
                      <a:pt x="3312" y="5906"/>
                    </a:lnTo>
                    <a:lnTo>
                      <a:pt x="3231" y="5914"/>
                    </a:lnTo>
                    <a:lnTo>
                      <a:pt x="3150" y="5921"/>
                    </a:lnTo>
                    <a:lnTo>
                      <a:pt x="3160" y="5932"/>
                    </a:lnTo>
                    <a:lnTo>
                      <a:pt x="3169" y="5940"/>
                    </a:lnTo>
                    <a:lnTo>
                      <a:pt x="3178" y="5945"/>
                    </a:lnTo>
                    <a:lnTo>
                      <a:pt x="3187" y="5949"/>
                    </a:lnTo>
                    <a:lnTo>
                      <a:pt x="3197" y="5950"/>
                    </a:lnTo>
                    <a:lnTo>
                      <a:pt x="3208" y="5950"/>
                    </a:lnTo>
                    <a:lnTo>
                      <a:pt x="3235" y="5949"/>
                    </a:lnTo>
                    <a:close/>
                    <a:moveTo>
                      <a:pt x="3235" y="2"/>
                    </a:moveTo>
                    <a:lnTo>
                      <a:pt x="3235" y="2"/>
                    </a:lnTo>
                    <a:lnTo>
                      <a:pt x="3206" y="0"/>
                    </a:lnTo>
                    <a:lnTo>
                      <a:pt x="3197" y="0"/>
                    </a:lnTo>
                    <a:lnTo>
                      <a:pt x="3185" y="2"/>
                    </a:lnTo>
                    <a:lnTo>
                      <a:pt x="3177" y="7"/>
                    </a:lnTo>
                    <a:lnTo>
                      <a:pt x="3167" y="13"/>
                    </a:lnTo>
                    <a:lnTo>
                      <a:pt x="3157" y="21"/>
                    </a:lnTo>
                    <a:lnTo>
                      <a:pt x="3147" y="36"/>
                    </a:lnTo>
                    <a:lnTo>
                      <a:pt x="3231" y="41"/>
                    </a:lnTo>
                    <a:lnTo>
                      <a:pt x="3315" y="51"/>
                    </a:lnTo>
                    <a:lnTo>
                      <a:pt x="3307" y="36"/>
                    </a:lnTo>
                    <a:lnTo>
                      <a:pt x="3300" y="25"/>
                    </a:lnTo>
                    <a:lnTo>
                      <a:pt x="3292" y="16"/>
                    </a:lnTo>
                    <a:lnTo>
                      <a:pt x="3282" y="10"/>
                    </a:lnTo>
                    <a:lnTo>
                      <a:pt x="3274" y="7"/>
                    </a:lnTo>
                    <a:lnTo>
                      <a:pt x="3263" y="5"/>
                    </a:lnTo>
                    <a:lnTo>
                      <a:pt x="3235" y="2"/>
                    </a:lnTo>
                    <a:close/>
                    <a:moveTo>
                      <a:pt x="4235" y="270"/>
                    </a:moveTo>
                    <a:lnTo>
                      <a:pt x="4235" y="270"/>
                    </a:lnTo>
                    <a:lnTo>
                      <a:pt x="4211" y="259"/>
                    </a:lnTo>
                    <a:lnTo>
                      <a:pt x="4201" y="256"/>
                    </a:lnTo>
                    <a:lnTo>
                      <a:pt x="4191" y="254"/>
                    </a:lnTo>
                    <a:lnTo>
                      <a:pt x="4179" y="254"/>
                    </a:lnTo>
                    <a:lnTo>
                      <a:pt x="4169" y="257"/>
                    </a:lnTo>
                    <a:lnTo>
                      <a:pt x="4156" y="262"/>
                    </a:lnTo>
                    <a:lnTo>
                      <a:pt x="4143" y="272"/>
                    </a:lnTo>
                    <a:lnTo>
                      <a:pt x="4219" y="307"/>
                    </a:lnTo>
                    <a:lnTo>
                      <a:pt x="4295" y="343"/>
                    </a:lnTo>
                    <a:lnTo>
                      <a:pt x="4293" y="326"/>
                    </a:lnTo>
                    <a:lnTo>
                      <a:pt x="4290" y="313"/>
                    </a:lnTo>
                    <a:lnTo>
                      <a:pt x="4285" y="303"/>
                    </a:lnTo>
                    <a:lnTo>
                      <a:pt x="4278" y="295"/>
                    </a:lnTo>
                    <a:lnTo>
                      <a:pt x="4270" y="289"/>
                    </a:lnTo>
                    <a:lnTo>
                      <a:pt x="4260" y="282"/>
                    </a:lnTo>
                    <a:lnTo>
                      <a:pt x="4235" y="270"/>
                    </a:lnTo>
                    <a:close/>
                    <a:moveTo>
                      <a:pt x="2715" y="5949"/>
                    </a:moveTo>
                    <a:lnTo>
                      <a:pt x="2715" y="5949"/>
                    </a:lnTo>
                    <a:lnTo>
                      <a:pt x="2742" y="5950"/>
                    </a:lnTo>
                    <a:lnTo>
                      <a:pt x="2751" y="5950"/>
                    </a:lnTo>
                    <a:lnTo>
                      <a:pt x="2761" y="5949"/>
                    </a:lnTo>
                    <a:lnTo>
                      <a:pt x="2771" y="5945"/>
                    </a:lnTo>
                    <a:lnTo>
                      <a:pt x="2779" y="5940"/>
                    </a:lnTo>
                    <a:lnTo>
                      <a:pt x="2789" y="5932"/>
                    </a:lnTo>
                    <a:lnTo>
                      <a:pt x="2799" y="5921"/>
                    </a:lnTo>
                    <a:lnTo>
                      <a:pt x="2717" y="5914"/>
                    </a:lnTo>
                    <a:lnTo>
                      <a:pt x="2636" y="5906"/>
                    </a:lnTo>
                    <a:lnTo>
                      <a:pt x="2644" y="5919"/>
                    </a:lnTo>
                    <a:lnTo>
                      <a:pt x="2651" y="5929"/>
                    </a:lnTo>
                    <a:lnTo>
                      <a:pt x="2659" y="5936"/>
                    </a:lnTo>
                    <a:lnTo>
                      <a:pt x="2667" y="5940"/>
                    </a:lnTo>
                    <a:lnTo>
                      <a:pt x="2677" y="5944"/>
                    </a:lnTo>
                    <a:lnTo>
                      <a:pt x="2687" y="5947"/>
                    </a:lnTo>
                    <a:lnTo>
                      <a:pt x="2715" y="5949"/>
                    </a:lnTo>
                    <a:close/>
                  </a:path>
                </a:pathLst>
              </a:custGeom>
              <a:gradFill rotWithShape="0">
                <a:gsLst>
                  <a:gs pos="0">
                    <a:srgbClr val="193360"/>
                  </a:gs>
                  <a:gs pos="100000">
                    <a:srgbClr val="afcafd"/>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1" name="Freeform 5"/>
              <p:cNvSpPr/>
              <p:nvPr/>
            </p:nvSpPr>
            <p:spPr>
              <a:xfrm>
                <a:off x="565560" y="4717080"/>
                <a:ext cx="1294200" cy="1294200"/>
              </a:xfrm>
              <a:custGeom>
                <a:avLst/>
                <a:gdLst>
                  <a:gd name="textAreaLeft" fmla="*/ 0 w 1294200"/>
                  <a:gd name="textAreaRight" fmla="*/ 1294560 w 1294200"/>
                  <a:gd name="textAreaTop" fmla="*/ 0 h 1294200"/>
                  <a:gd name="textAreaBottom" fmla="*/ 1294560 h 1294200"/>
                </a:gdLst>
                <a:ahLst/>
                <a:rect l="textAreaLeft" t="textAreaTop" r="textAreaRight" b="textAreaBottom"/>
                <a:pathLst>
                  <a:path w="6142" h="6144">
                    <a:moveTo>
                      <a:pt x="6038" y="3867"/>
                    </a:moveTo>
                    <a:lnTo>
                      <a:pt x="6038" y="3867"/>
                    </a:lnTo>
                    <a:lnTo>
                      <a:pt x="6017" y="3944"/>
                    </a:lnTo>
                    <a:lnTo>
                      <a:pt x="5993" y="4018"/>
                    </a:lnTo>
                    <a:lnTo>
                      <a:pt x="5968" y="4093"/>
                    </a:lnTo>
                    <a:lnTo>
                      <a:pt x="5942" y="4165"/>
                    </a:lnTo>
                    <a:lnTo>
                      <a:pt x="5913" y="4238"/>
                    </a:lnTo>
                    <a:lnTo>
                      <a:pt x="5883" y="4308"/>
                    </a:lnTo>
                    <a:lnTo>
                      <a:pt x="5850" y="4379"/>
                    </a:lnTo>
                    <a:lnTo>
                      <a:pt x="5817" y="4448"/>
                    </a:lnTo>
                    <a:lnTo>
                      <a:pt x="5781" y="4516"/>
                    </a:lnTo>
                    <a:lnTo>
                      <a:pt x="5746" y="4583"/>
                    </a:lnTo>
                    <a:lnTo>
                      <a:pt x="5707" y="4648"/>
                    </a:lnTo>
                    <a:lnTo>
                      <a:pt x="5668" y="4712"/>
                    </a:lnTo>
                    <a:lnTo>
                      <a:pt x="5626" y="4777"/>
                    </a:lnTo>
                    <a:lnTo>
                      <a:pt x="5585" y="4838"/>
                    </a:lnTo>
                    <a:lnTo>
                      <a:pt x="5540" y="4899"/>
                    </a:lnTo>
                    <a:lnTo>
                      <a:pt x="5495" y="4960"/>
                    </a:lnTo>
                    <a:lnTo>
                      <a:pt x="5448" y="5016"/>
                    </a:lnTo>
                    <a:lnTo>
                      <a:pt x="5401" y="5075"/>
                    </a:lnTo>
                    <a:lnTo>
                      <a:pt x="5352" y="5130"/>
                    </a:lnTo>
                    <a:lnTo>
                      <a:pt x="5301" y="5185"/>
                    </a:lnTo>
                    <a:lnTo>
                      <a:pt x="5250" y="5238"/>
                    </a:lnTo>
                    <a:lnTo>
                      <a:pt x="5197" y="5289"/>
                    </a:lnTo>
                    <a:lnTo>
                      <a:pt x="5142" y="5340"/>
                    </a:lnTo>
                    <a:lnTo>
                      <a:pt x="5087" y="5389"/>
                    </a:lnTo>
                    <a:lnTo>
                      <a:pt x="5030" y="5438"/>
                    </a:lnTo>
                    <a:lnTo>
                      <a:pt x="4974" y="5483"/>
                    </a:lnTo>
                    <a:lnTo>
                      <a:pt x="4915" y="5528"/>
                    </a:lnTo>
                    <a:lnTo>
                      <a:pt x="4854" y="5571"/>
                    </a:lnTo>
                    <a:lnTo>
                      <a:pt x="4795" y="5615"/>
                    </a:lnTo>
                    <a:lnTo>
                      <a:pt x="4732" y="5656"/>
                    </a:lnTo>
                    <a:lnTo>
                      <a:pt x="4670" y="5693"/>
                    </a:lnTo>
                    <a:lnTo>
                      <a:pt x="4607" y="5732"/>
                    </a:lnTo>
                    <a:lnTo>
                      <a:pt x="4542" y="5767"/>
                    </a:lnTo>
                    <a:lnTo>
                      <a:pt x="4478" y="5803"/>
                    </a:lnTo>
                    <a:lnTo>
                      <a:pt x="4411" y="5834"/>
                    </a:lnTo>
                    <a:lnTo>
                      <a:pt x="4344" y="5866"/>
                    </a:lnTo>
                    <a:lnTo>
                      <a:pt x="4278" y="5897"/>
                    </a:lnTo>
                    <a:lnTo>
                      <a:pt x="4209" y="5924"/>
                    </a:lnTo>
                    <a:lnTo>
                      <a:pt x="4140" y="5952"/>
                    </a:lnTo>
                    <a:lnTo>
                      <a:pt x="4072" y="5975"/>
                    </a:lnTo>
                    <a:lnTo>
                      <a:pt x="4001" y="5999"/>
                    </a:lnTo>
                    <a:lnTo>
                      <a:pt x="3931" y="6020"/>
                    </a:lnTo>
                    <a:lnTo>
                      <a:pt x="3858" y="6040"/>
                    </a:lnTo>
                    <a:lnTo>
                      <a:pt x="3788" y="6060"/>
                    </a:lnTo>
                    <a:lnTo>
                      <a:pt x="3715" y="6075"/>
                    </a:lnTo>
                    <a:lnTo>
                      <a:pt x="3641" y="6091"/>
                    </a:lnTo>
                    <a:lnTo>
                      <a:pt x="3568" y="6103"/>
                    </a:lnTo>
                    <a:lnTo>
                      <a:pt x="3493" y="6115"/>
                    </a:lnTo>
                    <a:lnTo>
                      <a:pt x="3419" y="6124"/>
                    </a:lnTo>
                    <a:lnTo>
                      <a:pt x="3345" y="6132"/>
                    </a:lnTo>
                    <a:lnTo>
                      <a:pt x="3270" y="6138"/>
                    </a:lnTo>
                    <a:lnTo>
                      <a:pt x="3196" y="6142"/>
                    </a:lnTo>
                    <a:lnTo>
                      <a:pt x="3119" y="6144"/>
                    </a:lnTo>
                    <a:lnTo>
                      <a:pt x="3043" y="6144"/>
                    </a:lnTo>
                    <a:lnTo>
                      <a:pt x="2968" y="6142"/>
                    </a:lnTo>
                    <a:lnTo>
                      <a:pt x="2892" y="6138"/>
                    </a:lnTo>
                    <a:lnTo>
                      <a:pt x="2815" y="6132"/>
                    </a:lnTo>
                    <a:lnTo>
                      <a:pt x="2739" y="6124"/>
                    </a:lnTo>
                    <a:lnTo>
                      <a:pt x="2662" y="6117"/>
                    </a:lnTo>
                    <a:lnTo>
                      <a:pt x="2584" y="6105"/>
                    </a:lnTo>
                    <a:lnTo>
                      <a:pt x="2507" y="6091"/>
                    </a:lnTo>
                    <a:lnTo>
                      <a:pt x="2431" y="6075"/>
                    </a:lnTo>
                    <a:lnTo>
                      <a:pt x="2354" y="6058"/>
                    </a:lnTo>
                    <a:lnTo>
                      <a:pt x="2278" y="6038"/>
                    </a:lnTo>
                    <a:lnTo>
                      <a:pt x="2202" y="6017"/>
                    </a:lnTo>
                    <a:lnTo>
                      <a:pt x="2125" y="5993"/>
                    </a:lnTo>
                    <a:lnTo>
                      <a:pt x="2051" y="5968"/>
                    </a:lnTo>
                    <a:lnTo>
                      <a:pt x="1978" y="5942"/>
                    </a:lnTo>
                    <a:lnTo>
                      <a:pt x="1906" y="5913"/>
                    </a:lnTo>
                    <a:lnTo>
                      <a:pt x="1835" y="5883"/>
                    </a:lnTo>
                    <a:lnTo>
                      <a:pt x="1764" y="5852"/>
                    </a:lnTo>
                    <a:lnTo>
                      <a:pt x="1696" y="5818"/>
                    </a:lnTo>
                    <a:lnTo>
                      <a:pt x="1627" y="5783"/>
                    </a:lnTo>
                    <a:lnTo>
                      <a:pt x="1561" y="5746"/>
                    </a:lnTo>
                    <a:lnTo>
                      <a:pt x="1496" y="5709"/>
                    </a:lnTo>
                    <a:lnTo>
                      <a:pt x="1431" y="5669"/>
                    </a:lnTo>
                    <a:lnTo>
                      <a:pt x="1368" y="5628"/>
                    </a:lnTo>
                    <a:lnTo>
                      <a:pt x="1306" y="5585"/>
                    </a:lnTo>
                    <a:lnTo>
                      <a:pt x="1245" y="5542"/>
                    </a:lnTo>
                    <a:lnTo>
                      <a:pt x="1186" y="5495"/>
                    </a:lnTo>
                    <a:lnTo>
                      <a:pt x="1127" y="5450"/>
                    </a:lnTo>
                    <a:lnTo>
                      <a:pt x="1070" y="5401"/>
                    </a:lnTo>
                    <a:lnTo>
                      <a:pt x="1014" y="5352"/>
                    </a:lnTo>
                    <a:lnTo>
                      <a:pt x="959" y="5301"/>
                    </a:lnTo>
                    <a:lnTo>
                      <a:pt x="906" y="5250"/>
                    </a:lnTo>
                    <a:lnTo>
                      <a:pt x="855" y="5197"/>
                    </a:lnTo>
                    <a:lnTo>
                      <a:pt x="804" y="5142"/>
                    </a:lnTo>
                    <a:lnTo>
                      <a:pt x="755" y="5087"/>
                    </a:lnTo>
                    <a:lnTo>
                      <a:pt x="708" y="5030"/>
                    </a:lnTo>
                    <a:lnTo>
                      <a:pt x="661" y="4973"/>
                    </a:lnTo>
                    <a:lnTo>
                      <a:pt x="616" y="4914"/>
                    </a:lnTo>
                    <a:lnTo>
                      <a:pt x="572" y="4856"/>
                    </a:lnTo>
                    <a:lnTo>
                      <a:pt x="529" y="4795"/>
                    </a:lnTo>
                    <a:lnTo>
                      <a:pt x="490" y="4734"/>
                    </a:lnTo>
                    <a:lnTo>
                      <a:pt x="451" y="4671"/>
                    </a:lnTo>
                    <a:lnTo>
                      <a:pt x="414" y="4607"/>
                    </a:lnTo>
                    <a:lnTo>
                      <a:pt x="376" y="4544"/>
                    </a:lnTo>
                    <a:lnTo>
                      <a:pt x="343" y="4477"/>
                    </a:lnTo>
                    <a:lnTo>
                      <a:pt x="310" y="4412"/>
                    </a:lnTo>
                    <a:lnTo>
                      <a:pt x="278" y="4346"/>
                    </a:lnTo>
                    <a:lnTo>
                      <a:pt x="249" y="4277"/>
                    </a:lnTo>
                    <a:lnTo>
                      <a:pt x="220" y="4210"/>
                    </a:lnTo>
                    <a:lnTo>
                      <a:pt x="194" y="4140"/>
                    </a:lnTo>
                    <a:lnTo>
                      <a:pt x="169" y="4071"/>
                    </a:lnTo>
                    <a:lnTo>
                      <a:pt x="145" y="4001"/>
                    </a:lnTo>
                    <a:lnTo>
                      <a:pt x="124" y="3930"/>
                    </a:lnTo>
                    <a:lnTo>
                      <a:pt x="104" y="3859"/>
                    </a:lnTo>
                    <a:lnTo>
                      <a:pt x="86" y="3787"/>
                    </a:lnTo>
                    <a:lnTo>
                      <a:pt x="69" y="3714"/>
                    </a:lnTo>
                    <a:lnTo>
                      <a:pt x="55" y="3642"/>
                    </a:lnTo>
                    <a:lnTo>
                      <a:pt x="41" y="3567"/>
                    </a:lnTo>
                    <a:lnTo>
                      <a:pt x="29" y="3495"/>
                    </a:lnTo>
                    <a:lnTo>
                      <a:pt x="20" y="3420"/>
                    </a:lnTo>
                    <a:lnTo>
                      <a:pt x="14" y="3346"/>
                    </a:lnTo>
                    <a:lnTo>
                      <a:pt x="8" y="3269"/>
                    </a:lnTo>
                    <a:lnTo>
                      <a:pt x="4" y="3195"/>
                    </a:lnTo>
                    <a:lnTo>
                      <a:pt x="2" y="3118"/>
                    </a:lnTo>
                    <a:lnTo>
                      <a:pt x="0" y="3044"/>
                    </a:lnTo>
                    <a:lnTo>
                      <a:pt x="2" y="2967"/>
                    </a:lnTo>
                    <a:lnTo>
                      <a:pt x="6" y="2891"/>
                    </a:lnTo>
                    <a:lnTo>
                      <a:pt x="12" y="2814"/>
                    </a:lnTo>
                    <a:lnTo>
                      <a:pt x="20" y="2738"/>
                    </a:lnTo>
                    <a:lnTo>
                      <a:pt x="29" y="2661"/>
                    </a:lnTo>
                    <a:lnTo>
                      <a:pt x="41" y="2585"/>
                    </a:lnTo>
                    <a:lnTo>
                      <a:pt x="53" y="2508"/>
                    </a:lnTo>
                    <a:lnTo>
                      <a:pt x="69" y="2430"/>
                    </a:lnTo>
                    <a:lnTo>
                      <a:pt x="86" y="2353"/>
                    </a:lnTo>
                    <a:lnTo>
                      <a:pt x="106" y="2277"/>
                    </a:lnTo>
                    <a:lnTo>
                      <a:pt x="127" y="2200"/>
                    </a:lnTo>
                    <a:lnTo>
                      <a:pt x="151" y="2126"/>
                    </a:lnTo>
                    <a:lnTo>
                      <a:pt x="176" y="2051"/>
                    </a:lnTo>
                    <a:lnTo>
                      <a:pt x="202" y="1977"/>
                    </a:lnTo>
                    <a:lnTo>
                      <a:pt x="231" y="1906"/>
                    </a:lnTo>
                    <a:lnTo>
                      <a:pt x="261" y="1834"/>
                    </a:lnTo>
                    <a:lnTo>
                      <a:pt x="294" y="1763"/>
                    </a:lnTo>
                    <a:lnTo>
                      <a:pt x="327" y="1694"/>
                    </a:lnTo>
                    <a:lnTo>
                      <a:pt x="361" y="1628"/>
                    </a:lnTo>
                    <a:lnTo>
                      <a:pt x="398" y="1561"/>
                    </a:lnTo>
                    <a:lnTo>
                      <a:pt x="437" y="1494"/>
                    </a:lnTo>
                    <a:lnTo>
                      <a:pt x="476" y="1430"/>
                    </a:lnTo>
                    <a:lnTo>
                      <a:pt x="518" y="1367"/>
                    </a:lnTo>
                    <a:lnTo>
                      <a:pt x="559" y="1304"/>
                    </a:lnTo>
                    <a:lnTo>
                      <a:pt x="604" y="1243"/>
                    </a:lnTo>
                    <a:lnTo>
                      <a:pt x="649" y="1184"/>
                    </a:lnTo>
                    <a:lnTo>
                      <a:pt x="696" y="1126"/>
                    </a:lnTo>
                    <a:lnTo>
                      <a:pt x="743" y="1069"/>
                    </a:lnTo>
                    <a:lnTo>
                      <a:pt x="792" y="1014"/>
                    </a:lnTo>
                    <a:lnTo>
                      <a:pt x="843" y="959"/>
                    </a:lnTo>
                    <a:lnTo>
                      <a:pt x="894" y="906"/>
                    </a:lnTo>
                    <a:lnTo>
                      <a:pt x="947" y="853"/>
                    </a:lnTo>
                    <a:lnTo>
                      <a:pt x="1002" y="802"/>
                    </a:lnTo>
                    <a:lnTo>
                      <a:pt x="1057" y="753"/>
                    </a:lnTo>
                    <a:lnTo>
                      <a:pt x="1114" y="706"/>
                    </a:lnTo>
                    <a:lnTo>
                      <a:pt x="1170" y="659"/>
                    </a:lnTo>
                    <a:lnTo>
                      <a:pt x="1229" y="614"/>
                    </a:lnTo>
                    <a:lnTo>
                      <a:pt x="1288" y="571"/>
                    </a:lnTo>
                    <a:lnTo>
                      <a:pt x="1349" y="529"/>
                    </a:lnTo>
                    <a:lnTo>
                      <a:pt x="1412" y="488"/>
                    </a:lnTo>
                    <a:lnTo>
                      <a:pt x="1474" y="449"/>
                    </a:lnTo>
                    <a:lnTo>
                      <a:pt x="1537" y="412"/>
                    </a:lnTo>
                    <a:lnTo>
                      <a:pt x="1602" y="377"/>
                    </a:lnTo>
                    <a:lnTo>
                      <a:pt x="1666" y="341"/>
                    </a:lnTo>
                    <a:lnTo>
                      <a:pt x="1731" y="308"/>
                    </a:lnTo>
                    <a:lnTo>
                      <a:pt x="1798" y="277"/>
                    </a:lnTo>
                    <a:lnTo>
                      <a:pt x="1866" y="247"/>
                    </a:lnTo>
                    <a:lnTo>
                      <a:pt x="1935" y="220"/>
                    </a:lnTo>
                    <a:lnTo>
                      <a:pt x="2004" y="192"/>
                    </a:lnTo>
                    <a:lnTo>
                      <a:pt x="2072" y="167"/>
                    </a:lnTo>
                    <a:lnTo>
                      <a:pt x="2143" y="143"/>
                    </a:lnTo>
                    <a:lnTo>
                      <a:pt x="2213" y="122"/>
                    </a:lnTo>
                    <a:lnTo>
                      <a:pt x="2286" y="102"/>
                    </a:lnTo>
                    <a:lnTo>
                      <a:pt x="2356" y="84"/>
                    </a:lnTo>
                    <a:lnTo>
                      <a:pt x="2429" y="67"/>
                    </a:lnTo>
                    <a:lnTo>
                      <a:pt x="2503" y="53"/>
                    </a:lnTo>
                    <a:lnTo>
                      <a:pt x="2576" y="39"/>
                    </a:lnTo>
                    <a:lnTo>
                      <a:pt x="2651" y="29"/>
                    </a:lnTo>
                    <a:lnTo>
                      <a:pt x="2725" y="20"/>
                    </a:lnTo>
                    <a:lnTo>
                      <a:pt x="2799" y="12"/>
                    </a:lnTo>
                    <a:lnTo>
                      <a:pt x="2874" y="6"/>
                    </a:lnTo>
                    <a:lnTo>
                      <a:pt x="2948" y="2"/>
                    </a:lnTo>
                    <a:lnTo>
                      <a:pt x="3025" y="0"/>
                    </a:lnTo>
                    <a:lnTo>
                      <a:pt x="3099" y="0"/>
                    </a:lnTo>
                    <a:lnTo>
                      <a:pt x="3176" y="2"/>
                    </a:lnTo>
                    <a:lnTo>
                      <a:pt x="3252" y="6"/>
                    </a:lnTo>
                    <a:lnTo>
                      <a:pt x="3329" y="10"/>
                    </a:lnTo>
                    <a:lnTo>
                      <a:pt x="3405" y="18"/>
                    </a:lnTo>
                    <a:lnTo>
                      <a:pt x="3482" y="27"/>
                    </a:lnTo>
                    <a:lnTo>
                      <a:pt x="3560" y="39"/>
                    </a:lnTo>
                    <a:lnTo>
                      <a:pt x="3637" y="53"/>
                    </a:lnTo>
                    <a:lnTo>
                      <a:pt x="3713" y="69"/>
                    </a:lnTo>
                    <a:lnTo>
                      <a:pt x="3790" y="86"/>
                    </a:lnTo>
                    <a:lnTo>
                      <a:pt x="3866" y="106"/>
                    </a:lnTo>
                    <a:lnTo>
                      <a:pt x="3942" y="126"/>
                    </a:lnTo>
                    <a:lnTo>
                      <a:pt x="4019" y="149"/>
                    </a:lnTo>
                    <a:lnTo>
                      <a:pt x="4093" y="175"/>
                    </a:lnTo>
                    <a:lnTo>
                      <a:pt x="4166" y="202"/>
                    </a:lnTo>
                    <a:lnTo>
                      <a:pt x="4238" y="229"/>
                    </a:lnTo>
                    <a:lnTo>
                      <a:pt x="4309" y="261"/>
                    </a:lnTo>
                    <a:lnTo>
                      <a:pt x="4380" y="292"/>
                    </a:lnTo>
                    <a:lnTo>
                      <a:pt x="4448" y="326"/>
                    </a:lnTo>
                    <a:lnTo>
                      <a:pt x="4517" y="361"/>
                    </a:lnTo>
                    <a:lnTo>
                      <a:pt x="4583" y="396"/>
                    </a:lnTo>
                    <a:lnTo>
                      <a:pt x="4648" y="435"/>
                    </a:lnTo>
                    <a:lnTo>
                      <a:pt x="4713" y="475"/>
                    </a:lnTo>
                    <a:lnTo>
                      <a:pt x="4776" y="516"/>
                    </a:lnTo>
                    <a:lnTo>
                      <a:pt x="4838" y="559"/>
                    </a:lnTo>
                    <a:lnTo>
                      <a:pt x="4899" y="602"/>
                    </a:lnTo>
                    <a:lnTo>
                      <a:pt x="4958" y="647"/>
                    </a:lnTo>
                    <a:lnTo>
                      <a:pt x="5017" y="694"/>
                    </a:lnTo>
                    <a:lnTo>
                      <a:pt x="5074" y="741"/>
                    </a:lnTo>
                    <a:lnTo>
                      <a:pt x="5130" y="792"/>
                    </a:lnTo>
                    <a:lnTo>
                      <a:pt x="5183" y="841"/>
                    </a:lnTo>
                    <a:lnTo>
                      <a:pt x="5238" y="894"/>
                    </a:lnTo>
                    <a:lnTo>
                      <a:pt x="5289" y="947"/>
                    </a:lnTo>
                    <a:lnTo>
                      <a:pt x="5340" y="1000"/>
                    </a:lnTo>
                    <a:lnTo>
                      <a:pt x="5389" y="1055"/>
                    </a:lnTo>
                    <a:lnTo>
                      <a:pt x="5436" y="1112"/>
                    </a:lnTo>
                    <a:lnTo>
                      <a:pt x="5483" y="1171"/>
                    </a:lnTo>
                    <a:lnTo>
                      <a:pt x="5528" y="1228"/>
                    </a:lnTo>
                    <a:lnTo>
                      <a:pt x="5572" y="1288"/>
                    </a:lnTo>
                    <a:lnTo>
                      <a:pt x="5613" y="1349"/>
                    </a:lnTo>
                    <a:lnTo>
                      <a:pt x="5654" y="1410"/>
                    </a:lnTo>
                    <a:lnTo>
                      <a:pt x="5693" y="1473"/>
                    </a:lnTo>
                    <a:lnTo>
                      <a:pt x="5730" y="1536"/>
                    </a:lnTo>
                    <a:lnTo>
                      <a:pt x="5768" y="1600"/>
                    </a:lnTo>
                    <a:lnTo>
                      <a:pt x="5801" y="1665"/>
                    </a:lnTo>
                    <a:lnTo>
                      <a:pt x="5834" y="1732"/>
                    </a:lnTo>
                    <a:lnTo>
                      <a:pt x="5866" y="1798"/>
                    </a:lnTo>
                    <a:lnTo>
                      <a:pt x="5895" y="1865"/>
                    </a:lnTo>
                    <a:lnTo>
                      <a:pt x="5924" y="1934"/>
                    </a:lnTo>
                    <a:lnTo>
                      <a:pt x="5950" y="2002"/>
                    </a:lnTo>
                    <a:lnTo>
                      <a:pt x="5975" y="2073"/>
                    </a:lnTo>
                    <a:lnTo>
                      <a:pt x="5999" y="2141"/>
                    </a:lnTo>
                    <a:lnTo>
                      <a:pt x="6020" y="2214"/>
                    </a:lnTo>
                    <a:lnTo>
                      <a:pt x="6040" y="2285"/>
                    </a:lnTo>
                    <a:lnTo>
                      <a:pt x="6058" y="2357"/>
                    </a:lnTo>
                    <a:lnTo>
                      <a:pt x="6075" y="2430"/>
                    </a:lnTo>
                    <a:lnTo>
                      <a:pt x="6089" y="2502"/>
                    </a:lnTo>
                    <a:lnTo>
                      <a:pt x="6103" y="2575"/>
                    </a:lnTo>
                    <a:lnTo>
                      <a:pt x="6115" y="2649"/>
                    </a:lnTo>
                    <a:lnTo>
                      <a:pt x="6122" y="2724"/>
                    </a:lnTo>
                    <a:lnTo>
                      <a:pt x="6130" y="2798"/>
                    </a:lnTo>
                    <a:lnTo>
                      <a:pt x="6136" y="2873"/>
                    </a:lnTo>
                    <a:lnTo>
                      <a:pt x="6140" y="2949"/>
                    </a:lnTo>
                    <a:lnTo>
                      <a:pt x="6142" y="3024"/>
                    </a:lnTo>
                    <a:lnTo>
                      <a:pt x="6142" y="3100"/>
                    </a:lnTo>
                    <a:lnTo>
                      <a:pt x="6142" y="3177"/>
                    </a:lnTo>
                    <a:lnTo>
                      <a:pt x="6138" y="3253"/>
                    </a:lnTo>
                    <a:lnTo>
                      <a:pt x="6132" y="3330"/>
                    </a:lnTo>
                    <a:lnTo>
                      <a:pt x="6124" y="3406"/>
                    </a:lnTo>
                    <a:lnTo>
                      <a:pt x="6115" y="3483"/>
                    </a:lnTo>
                    <a:lnTo>
                      <a:pt x="6103" y="3559"/>
                    </a:lnTo>
                    <a:lnTo>
                      <a:pt x="6091" y="3636"/>
                    </a:lnTo>
                    <a:lnTo>
                      <a:pt x="6075" y="3712"/>
                    </a:lnTo>
                    <a:lnTo>
                      <a:pt x="6058" y="3789"/>
                    </a:lnTo>
                    <a:lnTo>
                      <a:pt x="6038" y="3867"/>
                    </a:lnTo>
                    <a:close/>
                    <a:moveTo>
                      <a:pt x="3848" y="171"/>
                    </a:moveTo>
                    <a:lnTo>
                      <a:pt x="3848" y="171"/>
                    </a:lnTo>
                    <a:lnTo>
                      <a:pt x="3774" y="151"/>
                    </a:lnTo>
                    <a:lnTo>
                      <a:pt x="3699" y="133"/>
                    </a:lnTo>
                    <a:lnTo>
                      <a:pt x="3623" y="120"/>
                    </a:lnTo>
                    <a:lnTo>
                      <a:pt x="3548" y="106"/>
                    </a:lnTo>
                    <a:lnTo>
                      <a:pt x="3474" y="94"/>
                    </a:lnTo>
                    <a:lnTo>
                      <a:pt x="3399" y="84"/>
                    </a:lnTo>
                    <a:lnTo>
                      <a:pt x="3323" y="78"/>
                    </a:lnTo>
                    <a:lnTo>
                      <a:pt x="3248" y="73"/>
                    </a:lnTo>
                    <a:lnTo>
                      <a:pt x="3174" y="69"/>
                    </a:lnTo>
                    <a:lnTo>
                      <a:pt x="3099" y="67"/>
                    </a:lnTo>
                    <a:lnTo>
                      <a:pt x="3025" y="67"/>
                    </a:lnTo>
                    <a:lnTo>
                      <a:pt x="2952" y="69"/>
                    </a:lnTo>
                    <a:lnTo>
                      <a:pt x="2878" y="73"/>
                    </a:lnTo>
                    <a:lnTo>
                      <a:pt x="2805" y="78"/>
                    </a:lnTo>
                    <a:lnTo>
                      <a:pt x="2731" y="86"/>
                    </a:lnTo>
                    <a:lnTo>
                      <a:pt x="2658" y="96"/>
                    </a:lnTo>
                    <a:lnTo>
                      <a:pt x="2588" y="106"/>
                    </a:lnTo>
                    <a:lnTo>
                      <a:pt x="2515" y="120"/>
                    </a:lnTo>
                    <a:lnTo>
                      <a:pt x="2443" y="133"/>
                    </a:lnTo>
                    <a:lnTo>
                      <a:pt x="2372" y="149"/>
                    </a:lnTo>
                    <a:lnTo>
                      <a:pt x="2302" y="167"/>
                    </a:lnTo>
                    <a:lnTo>
                      <a:pt x="2233" y="186"/>
                    </a:lnTo>
                    <a:lnTo>
                      <a:pt x="2164" y="208"/>
                    </a:lnTo>
                    <a:lnTo>
                      <a:pt x="2094" y="231"/>
                    </a:lnTo>
                    <a:lnTo>
                      <a:pt x="2027" y="255"/>
                    </a:lnTo>
                    <a:lnTo>
                      <a:pt x="1958" y="282"/>
                    </a:lnTo>
                    <a:lnTo>
                      <a:pt x="1892" y="310"/>
                    </a:lnTo>
                    <a:lnTo>
                      <a:pt x="1827" y="337"/>
                    </a:lnTo>
                    <a:lnTo>
                      <a:pt x="1762" y="369"/>
                    </a:lnTo>
                    <a:lnTo>
                      <a:pt x="1698" y="402"/>
                    </a:lnTo>
                    <a:lnTo>
                      <a:pt x="1633" y="435"/>
                    </a:lnTo>
                    <a:lnTo>
                      <a:pt x="1570" y="471"/>
                    </a:lnTo>
                    <a:lnTo>
                      <a:pt x="1510" y="508"/>
                    </a:lnTo>
                    <a:lnTo>
                      <a:pt x="1447" y="545"/>
                    </a:lnTo>
                    <a:lnTo>
                      <a:pt x="1388" y="584"/>
                    </a:lnTo>
                    <a:lnTo>
                      <a:pt x="1327" y="626"/>
                    </a:lnTo>
                    <a:lnTo>
                      <a:pt x="1270" y="669"/>
                    </a:lnTo>
                    <a:lnTo>
                      <a:pt x="1214" y="712"/>
                    </a:lnTo>
                    <a:lnTo>
                      <a:pt x="1157" y="759"/>
                    </a:lnTo>
                    <a:lnTo>
                      <a:pt x="1102" y="804"/>
                    </a:lnTo>
                    <a:lnTo>
                      <a:pt x="1047" y="853"/>
                    </a:lnTo>
                    <a:lnTo>
                      <a:pt x="994" y="902"/>
                    </a:lnTo>
                    <a:lnTo>
                      <a:pt x="943" y="953"/>
                    </a:lnTo>
                    <a:lnTo>
                      <a:pt x="892" y="1004"/>
                    </a:lnTo>
                    <a:lnTo>
                      <a:pt x="843" y="1059"/>
                    </a:lnTo>
                    <a:lnTo>
                      <a:pt x="794" y="1114"/>
                    </a:lnTo>
                    <a:lnTo>
                      <a:pt x="747" y="1169"/>
                    </a:lnTo>
                    <a:lnTo>
                      <a:pt x="702" y="1226"/>
                    </a:lnTo>
                    <a:lnTo>
                      <a:pt x="657" y="1284"/>
                    </a:lnTo>
                    <a:lnTo>
                      <a:pt x="616" y="1343"/>
                    </a:lnTo>
                    <a:lnTo>
                      <a:pt x="572" y="1404"/>
                    </a:lnTo>
                    <a:lnTo>
                      <a:pt x="533" y="1467"/>
                    </a:lnTo>
                    <a:lnTo>
                      <a:pt x="494" y="1530"/>
                    </a:lnTo>
                    <a:lnTo>
                      <a:pt x="457" y="1594"/>
                    </a:lnTo>
                    <a:lnTo>
                      <a:pt x="421" y="1659"/>
                    </a:lnTo>
                    <a:lnTo>
                      <a:pt x="386" y="1726"/>
                    </a:lnTo>
                    <a:lnTo>
                      <a:pt x="355" y="1792"/>
                    </a:lnTo>
                    <a:lnTo>
                      <a:pt x="323" y="1861"/>
                    </a:lnTo>
                    <a:lnTo>
                      <a:pt x="294" y="1932"/>
                    </a:lnTo>
                    <a:lnTo>
                      <a:pt x="267" y="2002"/>
                    </a:lnTo>
                    <a:lnTo>
                      <a:pt x="239" y="2073"/>
                    </a:lnTo>
                    <a:lnTo>
                      <a:pt x="216" y="2145"/>
                    </a:lnTo>
                    <a:lnTo>
                      <a:pt x="192" y="2220"/>
                    </a:lnTo>
                    <a:lnTo>
                      <a:pt x="171" y="2294"/>
                    </a:lnTo>
                    <a:lnTo>
                      <a:pt x="153" y="2369"/>
                    </a:lnTo>
                    <a:lnTo>
                      <a:pt x="135" y="2445"/>
                    </a:lnTo>
                    <a:lnTo>
                      <a:pt x="120" y="2520"/>
                    </a:lnTo>
                    <a:lnTo>
                      <a:pt x="108" y="2594"/>
                    </a:lnTo>
                    <a:lnTo>
                      <a:pt x="96" y="2669"/>
                    </a:lnTo>
                    <a:lnTo>
                      <a:pt x="86" y="2745"/>
                    </a:lnTo>
                    <a:lnTo>
                      <a:pt x="78" y="2820"/>
                    </a:lnTo>
                    <a:lnTo>
                      <a:pt x="74" y="2895"/>
                    </a:lnTo>
                    <a:lnTo>
                      <a:pt x="71" y="2969"/>
                    </a:lnTo>
                    <a:lnTo>
                      <a:pt x="69" y="3044"/>
                    </a:lnTo>
                    <a:lnTo>
                      <a:pt x="69" y="3118"/>
                    </a:lnTo>
                    <a:lnTo>
                      <a:pt x="71" y="3193"/>
                    </a:lnTo>
                    <a:lnTo>
                      <a:pt x="74" y="3265"/>
                    </a:lnTo>
                    <a:lnTo>
                      <a:pt x="80" y="3340"/>
                    </a:lnTo>
                    <a:lnTo>
                      <a:pt x="88" y="3412"/>
                    </a:lnTo>
                    <a:lnTo>
                      <a:pt x="96" y="3485"/>
                    </a:lnTo>
                    <a:lnTo>
                      <a:pt x="108" y="3557"/>
                    </a:lnTo>
                    <a:lnTo>
                      <a:pt x="120" y="3628"/>
                    </a:lnTo>
                    <a:lnTo>
                      <a:pt x="135" y="3701"/>
                    </a:lnTo>
                    <a:lnTo>
                      <a:pt x="151" y="3771"/>
                    </a:lnTo>
                    <a:lnTo>
                      <a:pt x="169" y="3842"/>
                    </a:lnTo>
                    <a:lnTo>
                      <a:pt x="188" y="3910"/>
                    </a:lnTo>
                    <a:lnTo>
                      <a:pt x="210" y="3981"/>
                    </a:lnTo>
                    <a:lnTo>
                      <a:pt x="231" y="4050"/>
                    </a:lnTo>
                    <a:lnTo>
                      <a:pt x="257" y="4116"/>
                    </a:lnTo>
                    <a:lnTo>
                      <a:pt x="282" y="4185"/>
                    </a:lnTo>
                    <a:lnTo>
                      <a:pt x="310" y="4252"/>
                    </a:lnTo>
                    <a:lnTo>
                      <a:pt x="339" y="4316"/>
                    </a:lnTo>
                    <a:lnTo>
                      <a:pt x="371" y="4383"/>
                    </a:lnTo>
                    <a:lnTo>
                      <a:pt x="402" y="4448"/>
                    </a:lnTo>
                    <a:lnTo>
                      <a:pt x="435" y="4510"/>
                    </a:lnTo>
                    <a:lnTo>
                      <a:pt x="471" y="4573"/>
                    </a:lnTo>
                    <a:lnTo>
                      <a:pt x="508" y="4636"/>
                    </a:lnTo>
                    <a:lnTo>
                      <a:pt x="547" y="4697"/>
                    </a:lnTo>
                    <a:lnTo>
                      <a:pt x="586" y="4758"/>
                    </a:lnTo>
                    <a:lnTo>
                      <a:pt x="627" y="4816"/>
                    </a:lnTo>
                    <a:lnTo>
                      <a:pt x="670" y="4875"/>
                    </a:lnTo>
                    <a:lnTo>
                      <a:pt x="714" y="4932"/>
                    </a:lnTo>
                    <a:lnTo>
                      <a:pt x="759" y="4987"/>
                    </a:lnTo>
                    <a:lnTo>
                      <a:pt x="806" y="5042"/>
                    </a:lnTo>
                    <a:lnTo>
                      <a:pt x="855" y="5097"/>
                    </a:lnTo>
                    <a:lnTo>
                      <a:pt x="904" y="5150"/>
                    </a:lnTo>
                    <a:lnTo>
                      <a:pt x="955" y="5201"/>
                    </a:lnTo>
                    <a:lnTo>
                      <a:pt x="1006" y="5252"/>
                    </a:lnTo>
                    <a:lnTo>
                      <a:pt x="1059" y="5301"/>
                    </a:lnTo>
                    <a:lnTo>
                      <a:pt x="1114" y="5350"/>
                    </a:lnTo>
                    <a:lnTo>
                      <a:pt x="1170" y="5397"/>
                    </a:lnTo>
                    <a:lnTo>
                      <a:pt x="1227" y="5442"/>
                    </a:lnTo>
                    <a:lnTo>
                      <a:pt x="1286" y="5487"/>
                    </a:lnTo>
                    <a:lnTo>
                      <a:pt x="1345" y="5530"/>
                    </a:lnTo>
                    <a:lnTo>
                      <a:pt x="1406" y="5571"/>
                    </a:lnTo>
                    <a:lnTo>
                      <a:pt x="1466" y="5611"/>
                    </a:lnTo>
                    <a:lnTo>
                      <a:pt x="1531" y="5650"/>
                    </a:lnTo>
                    <a:lnTo>
                      <a:pt x="1594" y="5687"/>
                    </a:lnTo>
                    <a:lnTo>
                      <a:pt x="1660" y="5722"/>
                    </a:lnTo>
                    <a:lnTo>
                      <a:pt x="1725" y="5758"/>
                    </a:lnTo>
                    <a:lnTo>
                      <a:pt x="1794" y="5791"/>
                    </a:lnTo>
                    <a:lnTo>
                      <a:pt x="1862" y="5820"/>
                    </a:lnTo>
                    <a:lnTo>
                      <a:pt x="1931" y="5850"/>
                    </a:lnTo>
                    <a:lnTo>
                      <a:pt x="2002" y="5879"/>
                    </a:lnTo>
                    <a:lnTo>
                      <a:pt x="2074" y="5905"/>
                    </a:lnTo>
                    <a:lnTo>
                      <a:pt x="2147" y="5930"/>
                    </a:lnTo>
                    <a:lnTo>
                      <a:pt x="2219" y="5952"/>
                    </a:lnTo>
                    <a:lnTo>
                      <a:pt x="2296" y="5973"/>
                    </a:lnTo>
                    <a:lnTo>
                      <a:pt x="2370" y="5993"/>
                    </a:lnTo>
                    <a:lnTo>
                      <a:pt x="2445" y="6009"/>
                    </a:lnTo>
                    <a:lnTo>
                      <a:pt x="2521" y="6024"/>
                    </a:lnTo>
                    <a:lnTo>
                      <a:pt x="2596" y="6038"/>
                    </a:lnTo>
                    <a:lnTo>
                      <a:pt x="2670" y="6048"/>
                    </a:lnTo>
                    <a:lnTo>
                      <a:pt x="2745" y="6058"/>
                    </a:lnTo>
                    <a:lnTo>
                      <a:pt x="2821" y="6066"/>
                    </a:lnTo>
                    <a:lnTo>
                      <a:pt x="2896" y="6071"/>
                    </a:lnTo>
                    <a:lnTo>
                      <a:pt x="2970" y="6073"/>
                    </a:lnTo>
                    <a:lnTo>
                      <a:pt x="3045" y="6075"/>
                    </a:lnTo>
                    <a:lnTo>
                      <a:pt x="3119" y="6075"/>
                    </a:lnTo>
                    <a:lnTo>
                      <a:pt x="3192" y="6073"/>
                    </a:lnTo>
                    <a:lnTo>
                      <a:pt x="3266" y="6069"/>
                    </a:lnTo>
                    <a:lnTo>
                      <a:pt x="3339" y="6064"/>
                    </a:lnTo>
                    <a:lnTo>
                      <a:pt x="3413" y="6058"/>
                    </a:lnTo>
                    <a:lnTo>
                      <a:pt x="3486" y="6048"/>
                    </a:lnTo>
                    <a:lnTo>
                      <a:pt x="3556" y="6036"/>
                    </a:lnTo>
                    <a:lnTo>
                      <a:pt x="3629" y="6024"/>
                    </a:lnTo>
                    <a:lnTo>
                      <a:pt x="3699" y="6009"/>
                    </a:lnTo>
                    <a:lnTo>
                      <a:pt x="3772" y="5993"/>
                    </a:lnTo>
                    <a:lnTo>
                      <a:pt x="3842" y="5975"/>
                    </a:lnTo>
                    <a:lnTo>
                      <a:pt x="3911" y="5956"/>
                    </a:lnTo>
                    <a:lnTo>
                      <a:pt x="3980" y="5934"/>
                    </a:lnTo>
                    <a:lnTo>
                      <a:pt x="4048" y="5913"/>
                    </a:lnTo>
                    <a:lnTo>
                      <a:pt x="4117" y="5887"/>
                    </a:lnTo>
                    <a:lnTo>
                      <a:pt x="4186" y="5862"/>
                    </a:lnTo>
                    <a:lnTo>
                      <a:pt x="4252" y="5834"/>
                    </a:lnTo>
                    <a:lnTo>
                      <a:pt x="4317" y="5805"/>
                    </a:lnTo>
                    <a:lnTo>
                      <a:pt x="4382" y="5773"/>
                    </a:lnTo>
                    <a:lnTo>
                      <a:pt x="4446" y="5742"/>
                    </a:lnTo>
                    <a:lnTo>
                      <a:pt x="4511" y="5709"/>
                    </a:lnTo>
                    <a:lnTo>
                      <a:pt x="4574" y="5673"/>
                    </a:lnTo>
                    <a:lnTo>
                      <a:pt x="4634" y="5636"/>
                    </a:lnTo>
                    <a:lnTo>
                      <a:pt x="4697" y="5599"/>
                    </a:lnTo>
                    <a:lnTo>
                      <a:pt x="4756" y="5558"/>
                    </a:lnTo>
                    <a:lnTo>
                      <a:pt x="4815" y="5516"/>
                    </a:lnTo>
                    <a:lnTo>
                      <a:pt x="4874" y="5475"/>
                    </a:lnTo>
                    <a:lnTo>
                      <a:pt x="4930" y="5430"/>
                    </a:lnTo>
                    <a:lnTo>
                      <a:pt x="4987" y="5385"/>
                    </a:lnTo>
                    <a:lnTo>
                      <a:pt x="5042" y="5338"/>
                    </a:lnTo>
                    <a:lnTo>
                      <a:pt x="5097" y="5291"/>
                    </a:lnTo>
                    <a:lnTo>
                      <a:pt x="5150" y="5242"/>
                    </a:lnTo>
                    <a:lnTo>
                      <a:pt x="5201" y="5191"/>
                    </a:lnTo>
                    <a:lnTo>
                      <a:pt x="5252" y="5138"/>
                    </a:lnTo>
                    <a:lnTo>
                      <a:pt x="5301" y="5085"/>
                    </a:lnTo>
                    <a:lnTo>
                      <a:pt x="5350" y="5030"/>
                    </a:lnTo>
                    <a:lnTo>
                      <a:pt x="5397" y="4975"/>
                    </a:lnTo>
                    <a:lnTo>
                      <a:pt x="5442" y="4916"/>
                    </a:lnTo>
                    <a:lnTo>
                      <a:pt x="5487" y="4860"/>
                    </a:lnTo>
                    <a:lnTo>
                      <a:pt x="5528" y="4799"/>
                    </a:lnTo>
                    <a:lnTo>
                      <a:pt x="5572" y="4738"/>
                    </a:lnTo>
                    <a:lnTo>
                      <a:pt x="5611" y="4677"/>
                    </a:lnTo>
                    <a:lnTo>
                      <a:pt x="5650" y="4614"/>
                    </a:lnTo>
                    <a:lnTo>
                      <a:pt x="5687" y="4550"/>
                    </a:lnTo>
                    <a:lnTo>
                      <a:pt x="5723" y="4485"/>
                    </a:lnTo>
                    <a:lnTo>
                      <a:pt x="5758" y="4418"/>
                    </a:lnTo>
                    <a:lnTo>
                      <a:pt x="5789" y="4350"/>
                    </a:lnTo>
                    <a:lnTo>
                      <a:pt x="5821" y="4281"/>
                    </a:lnTo>
                    <a:lnTo>
                      <a:pt x="5850" y="4212"/>
                    </a:lnTo>
                    <a:lnTo>
                      <a:pt x="5877" y="4142"/>
                    </a:lnTo>
                    <a:lnTo>
                      <a:pt x="5905" y="4069"/>
                    </a:lnTo>
                    <a:lnTo>
                      <a:pt x="5928" y="3997"/>
                    </a:lnTo>
                    <a:lnTo>
                      <a:pt x="5952" y="3924"/>
                    </a:lnTo>
                    <a:lnTo>
                      <a:pt x="5971" y="3850"/>
                    </a:lnTo>
                    <a:lnTo>
                      <a:pt x="5991" y="3773"/>
                    </a:lnTo>
                    <a:lnTo>
                      <a:pt x="6009" y="3699"/>
                    </a:lnTo>
                    <a:lnTo>
                      <a:pt x="6024" y="3624"/>
                    </a:lnTo>
                    <a:lnTo>
                      <a:pt x="6036" y="3548"/>
                    </a:lnTo>
                    <a:lnTo>
                      <a:pt x="6048" y="3473"/>
                    </a:lnTo>
                    <a:lnTo>
                      <a:pt x="6058" y="3399"/>
                    </a:lnTo>
                    <a:lnTo>
                      <a:pt x="6066" y="3324"/>
                    </a:lnTo>
                    <a:lnTo>
                      <a:pt x="6070" y="3248"/>
                    </a:lnTo>
                    <a:lnTo>
                      <a:pt x="6073" y="3173"/>
                    </a:lnTo>
                    <a:lnTo>
                      <a:pt x="6075" y="3098"/>
                    </a:lnTo>
                    <a:lnTo>
                      <a:pt x="6075" y="3026"/>
                    </a:lnTo>
                    <a:lnTo>
                      <a:pt x="6073" y="2951"/>
                    </a:lnTo>
                    <a:lnTo>
                      <a:pt x="6070" y="2877"/>
                    </a:lnTo>
                    <a:lnTo>
                      <a:pt x="6064" y="2804"/>
                    </a:lnTo>
                    <a:lnTo>
                      <a:pt x="6056" y="2732"/>
                    </a:lnTo>
                    <a:lnTo>
                      <a:pt x="6048" y="2659"/>
                    </a:lnTo>
                    <a:lnTo>
                      <a:pt x="6036" y="2587"/>
                    </a:lnTo>
                    <a:lnTo>
                      <a:pt x="6022" y="2514"/>
                    </a:lnTo>
                    <a:lnTo>
                      <a:pt x="6009" y="2443"/>
                    </a:lnTo>
                    <a:lnTo>
                      <a:pt x="5993" y="2373"/>
                    </a:lnTo>
                    <a:lnTo>
                      <a:pt x="5975" y="2302"/>
                    </a:lnTo>
                    <a:lnTo>
                      <a:pt x="5956" y="2232"/>
                    </a:lnTo>
                    <a:lnTo>
                      <a:pt x="5934" y="2163"/>
                    </a:lnTo>
                    <a:lnTo>
                      <a:pt x="5911" y="2094"/>
                    </a:lnTo>
                    <a:lnTo>
                      <a:pt x="5887" y="2026"/>
                    </a:lnTo>
                    <a:lnTo>
                      <a:pt x="5862" y="1959"/>
                    </a:lnTo>
                    <a:lnTo>
                      <a:pt x="5834" y="1892"/>
                    </a:lnTo>
                    <a:lnTo>
                      <a:pt x="5805" y="1826"/>
                    </a:lnTo>
                    <a:lnTo>
                      <a:pt x="5773" y="1761"/>
                    </a:lnTo>
                    <a:lnTo>
                      <a:pt x="5742" y="1696"/>
                    </a:lnTo>
                    <a:lnTo>
                      <a:pt x="5707" y="1632"/>
                    </a:lnTo>
                    <a:lnTo>
                      <a:pt x="5672" y="1569"/>
                    </a:lnTo>
                    <a:lnTo>
                      <a:pt x="5636" y="1508"/>
                    </a:lnTo>
                    <a:lnTo>
                      <a:pt x="5597" y="1447"/>
                    </a:lnTo>
                    <a:lnTo>
                      <a:pt x="5558" y="1386"/>
                    </a:lnTo>
                    <a:lnTo>
                      <a:pt x="5517" y="1328"/>
                    </a:lnTo>
                    <a:lnTo>
                      <a:pt x="5474" y="1269"/>
                    </a:lnTo>
                    <a:lnTo>
                      <a:pt x="5430" y="1212"/>
                    </a:lnTo>
                    <a:lnTo>
                      <a:pt x="5385" y="1155"/>
                    </a:lnTo>
                    <a:lnTo>
                      <a:pt x="5338" y="1100"/>
                    </a:lnTo>
                    <a:lnTo>
                      <a:pt x="5289" y="1047"/>
                    </a:lnTo>
                    <a:lnTo>
                      <a:pt x="5240" y="994"/>
                    </a:lnTo>
                    <a:lnTo>
                      <a:pt x="5189" y="941"/>
                    </a:lnTo>
                    <a:lnTo>
                      <a:pt x="5138" y="890"/>
                    </a:lnTo>
                    <a:lnTo>
                      <a:pt x="5085" y="841"/>
                    </a:lnTo>
                    <a:lnTo>
                      <a:pt x="5030" y="794"/>
                    </a:lnTo>
                    <a:lnTo>
                      <a:pt x="4974" y="747"/>
                    </a:lnTo>
                    <a:lnTo>
                      <a:pt x="4917" y="700"/>
                    </a:lnTo>
                    <a:lnTo>
                      <a:pt x="4858" y="657"/>
                    </a:lnTo>
                    <a:lnTo>
                      <a:pt x="4799" y="614"/>
                    </a:lnTo>
                    <a:lnTo>
                      <a:pt x="4738" y="573"/>
                    </a:lnTo>
                    <a:lnTo>
                      <a:pt x="4678" y="531"/>
                    </a:lnTo>
                    <a:lnTo>
                      <a:pt x="4613" y="492"/>
                    </a:lnTo>
                    <a:lnTo>
                      <a:pt x="4550" y="455"/>
                    </a:lnTo>
                    <a:lnTo>
                      <a:pt x="4484" y="420"/>
                    </a:lnTo>
                    <a:lnTo>
                      <a:pt x="4419" y="386"/>
                    </a:lnTo>
                    <a:lnTo>
                      <a:pt x="4350" y="353"/>
                    </a:lnTo>
                    <a:lnTo>
                      <a:pt x="4282" y="322"/>
                    </a:lnTo>
                    <a:lnTo>
                      <a:pt x="4213" y="292"/>
                    </a:lnTo>
                    <a:lnTo>
                      <a:pt x="4142" y="265"/>
                    </a:lnTo>
                    <a:lnTo>
                      <a:pt x="4070" y="239"/>
                    </a:lnTo>
                    <a:lnTo>
                      <a:pt x="3997" y="214"/>
                    </a:lnTo>
                    <a:lnTo>
                      <a:pt x="3923" y="190"/>
                    </a:lnTo>
                    <a:lnTo>
                      <a:pt x="3848" y="171"/>
                    </a:lnTo>
                    <a:close/>
                  </a:path>
                </a:pathLst>
              </a:custGeom>
              <a:gradFill rotWithShape="0">
                <a:gsLst>
                  <a:gs pos="0">
                    <a:srgbClr val="83a7d3"/>
                  </a:gs>
                  <a:gs pos="100000">
                    <a:srgbClr val="182e48"/>
                  </a:gs>
                </a:gsLst>
                <a:lin ang="228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02" name="Freeform 9"/>
              <p:cNvSpPr/>
              <p:nvPr/>
            </p:nvSpPr>
            <p:spPr>
              <a:xfrm flipV="1" rot="10800000">
                <a:off x="1067400" y="5218200"/>
                <a:ext cx="289800" cy="289800"/>
              </a:xfrm>
              <a:custGeom>
                <a:avLst/>
                <a:gdLst>
                  <a:gd name="textAreaLeft" fmla="*/ 0 w 289800"/>
                  <a:gd name="textAreaRight" fmla="*/ 290160 w 289800"/>
                  <a:gd name="textAreaTop" fmla="*/ -360 h 289800"/>
                  <a:gd name="textAreaBottom" fmla="*/ 289800 h 289800"/>
                </a:gdLst>
                <a:ahLst/>
                <a:rect l="textAreaLeft" t="textAreaTop" r="textAreaRight" b="textAreaBottom"/>
                <a:pathLst>
                  <a:path w="4320" h="4320">
                    <a:moveTo>
                      <a:pt x="4245" y="2719"/>
                    </a:moveTo>
                    <a:lnTo>
                      <a:pt x="4245" y="2719"/>
                    </a:lnTo>
                    <a:lnTo>
                      <a:pt x="4231" y="2773"/>
                    </a:lnTo>
                    <a:lnTo>
                      <a:pt x="4215" y="2826"/>
                    </a:lnTo>
                    <a:lnTo>
                      <a:pt x="4197" y="2878"/>
                    </a:lnTo>
                    <a:lnTo>
                      <a:pt x="4178" y="2930"/>
                    </a:lnTo>
                    <a:lnTo>
                      <a:pt x="4158" y="2980"/>
                    </a:lnTo>
                    <a:lnTo>
                      <a:pt x="4138" y="3031"/>
                    </a:lnTo>
                    <a:lnTo>
                      <a:pt x="4115" y="3080"/>
                    </a:lnTo>
                    <a:lnTo>
                      <a:pt x="4091" y="3128"/>
                    </a:lnTo>
                    <a:lnTo>
                      <a:pt x="4067" y="3176"/>
                    </a:lnTo>
                    <a:lnTo>
                      <a:pt x="4040" y="3223"/>
                    </a:lnTo>
                    <a:lnTo>
                      <a:pt x="4014" y="3269"/>
                    </a:lnTo>
                    <a:lnTo>
                      <a:pt x="3986" y="3315"/>
                    </a:lnTo>
                    <a:lnTo>
                      <a:pt x="3958" y="3359"/>
                    </a:lnTo>
                    <a:lnTo>
                      <a:pt x="3927" y="3402"/>
                    </a:lnTo>
                    <a:lnTo>
                      <a:pt x="3897" y="3445"/>
                    </a:lnTo>
                    <a:lnTo>
                      <a:pt x="3865" y="3488"/>
                    </a:lnTo>
                    <a:lnTo>
                      <a:pt x="3831" y="3528"/>
                    </a:lnTo>
                    <a:lnTo>
                      <a:pt x="3798" y="3569"/>
                    </a:lnTo>
                    <a:lnTo>
                      <a:pt x="3763" y="3608"/>
                    </a:lnTo>
                    <a:lnTo>
                      <a:pt x="3727" y="3646"/>
                    </a:lnTo>
                    <a:lnTo>
                      <a:pt x="3691" y="3683"/>
                    </a:lnTo>
                    <a:lnTo>
                      <a:pt x="3654" y="3719"/>
                    </a:lnTo>
                    <a:lnTo>
                      <a:pt x="3617" y="3755"/>
                    </a:lnTo>
                    <a:lnTo>
                      <a:pt x="3577" y="3790"/>
                    </a:lnTo>
                    <a:lnTo>
                      <a:pt x="3538" y="3823"/>
                    </a:lnTo>
                    <a:lnTo>
                      <a:pt x="3497" y="3857"/>
                    </a:lnTo>
                    <a:lnTo>
                      <a:pt x="3456" y="3887"/>
                    </a:lnTo>
                    <a:lnTo>
                      <a:pt x="3414" y="3918"/>
                    </a:lnTo>
                    <a:lnTo>
                      <a:pt x="3372" y="3948"/>
                    </a:lnTo>
                    <a:lnTo>
                      <a:pt x="3328" y="3976"/>
                    </a:lnTo>
                    <a:lnTo>
                      <a:pt x="3284" y="4004"/>
                    </a:lnTo>
                    <a:lnTo>
                      <a:pt x="3240" y="4030"/>
                    </a:lnTo>
                    <a:lnTo>
                      <a:pt x="3195" y="4055"/>
                    </a:lnTo>
                    <a:lnTo>
                      <a:pt x="3149" y="4080"/>
                    </a:lnTo>
                    <a:lnTo>
                      <a:pt x="3103" y="4103"/>
                    </a:lnTo>
                    <a:lnTo>
                      <a:pt x="3056" y="4126"/>
                    </a:lnTo>
                    <a:lnTo>
                      <a:pt x="3008" y="4146"/>
                    </a:lnTo>
                    <a:lnTo>
                      <a:pt x="2960" y="4166"/>
                    </a:lnTo>
                    <a:lnTo>
                      <a:pt x="2912" y="4184"/>
                    </a:lnTo>
                    <a:lnTo>
                      <a:pt x="2863" y="4203"/>
                    </a:lnTo>
                    <a:lnTo>
                      <a:pt x="2814" y="4219"/>
                    </a:lnTo>
                    <a:lnTo>
                      <a:pt x="2765" y="4233"/>
                    </a:lnTo>
                    <a:lnTo>
                      <a:pt x="2714" y="4248"/>
                    </a:lnTo>
                    <a:lnTo>
                      <a:pt x="2663" y="4260"/>
                    </a:lnTo>
                    <a:lnTo>
                      <a:pt x="2613" y="4272"/>
                    </a:lnTo>
                    <a:lnTo>
                      <a:pt x="2561" y="4283"/>
                    </a:lnTo>
                    <a:lnTo>
                      <a:pt x="2509" y="4292"/>
                    </a:lnTo>
                    <a:lnTo>
                      <a:pt x="2457" y="4300"/>
                    </a:lnTo>
                    <a:lnTo>
                      <a:pt x="2405" y="4307"/>
                    </a:lnTo>
                    <a:lnTo>
                      <a:pt x="2353" y="4312"/>
                    </a:lnTo>
                    <a:lnTo>
                      <a:pt x="2300" y="4316"/>
                    </a:lnTo>
                    <a:lnTo>
                      <a:pt x="2247" y="4319"/>
                    </a:lnTo>
                    <a:lnTo>
                      <a:pt x="2193" y="4320"/>
                    </a:lnTo>
                    <a:lnTo>
                      <a:pt x="2140" y="4320"/>
                    </a:lnTo>
                    <a:lnTo>
                      <a:pt x="2087" y="4319"/>
                    </a:lnTo>
                    <a:lnTo>
                      <a:pt x="2033" y="4316"/>
                    </a:lnTo>
                    <a:lnTo>
                      <a:pt x="1979" y="4312"/>
                    </a:lnTo>
                    <a:lnTo>
                      <a:pt x="1926" y="4307"/>
                    </a:lnTo>
                    <a:lnTo>
                      <a:pt x="1871" y="4300"/>
                    </a:lnTo>
                    <a:lnTo>
                      <a:pt x="1818" y="4292"/>
                    </a:lnTo>
                    <a:lnTo>
                      <a:pt x="1763" y="4283"/>
                    </a:lnTo>
                    <a:lnTo>
                      <a:pt x="1710" y="4272"/>
                    </a:lnTo>
                    <a:lnTo>
                      <a:pt x="1655" y="4260"/>
                    </a:lnTo>
                    <a:lnTo>
                      <a:pt x="1602" y="4245"/>
                    </a:lnTo>
                    <a:lnTo>
                      <a:pt x="1547" y="4231"/>
                    </a:lnTo>
                    <a:lnTo>
                      <a:pt x="1495" y="4215"/>
                    </a:lnTo>
                    <a:lnTo>
                      <a:pt x="1442" y="4197"/>
                    </a:lnTo>
                    <a:lnTo>
                      <a:pt x="1392" y="4178"/>
                    </a:lnTo>
                    <a:lnTo>
                      <a:pt x="1341" y="4158"/>
                    </a:lnTo>
                    <a:lnTo>
                      <a:pt x="1290" y="4136"/>
                    </a:lnTo>
                    <a:lnTo>
                      <a:pt x="1241" y="4115"/>
                    </a:lnTo>
                    <a:lnTo>
                      <a:pt x="1193" y="4091"/>
                    </a:lnTo>
                    <a:lnTo>
                      <a:pt x="1145" y="4067"/>
                    </a:lnTo>
                    <a:lnTo>
                      <a:pt x="1097" y="4040"/>
                    </a:lnTo>
                    <a:lnTo>
                      <a:pt x="1052" y="4014"/>
                    </a:lnTo>
                    <a:lnTo>
                      <a:pt x="1007" y="3986"/>
                    </a:lnTo>
                    <a:lnTo>
                      <a:pt x="961" y="3958"/>
                    </a:lnTo>
                    <a:lnTo>
                      <a:pt x="919" y="3927"/>
                    </a:lnTo>
                    <a:lnTo>
                      <a:pt x="875" y="3897"/>
                    </a:lnTo>
                    <a:lnTo>
                      <a:pt x="834" y="3865"/>
                    </a:lnTo>
                    <a:lnTo>
                      <a:pt x="792" y="3831"/>
                    </a:lnTo>
                    <a:lnTo>
                      <a:pt x="752" y="3798"/>
                    </a:lnTo>
                    <a:lnTo>
                      <a:pt x="714" y="3763"/>
                    </a:lnTo>
                    <a:lnTo>
                      <a:pt x="675" y="3727"/>
                    </a:lnTo>
                    <a:lnTo>
                      <a:pt x="638" y="3691"/>
                    </a:lnTo>
                    <a:lnTo>
                      <a:pt x="601" y="3654"/>
                    </a:lnTo>
                    <a:lnTo>
                      <a:pt x="566" y="3616"/>
                    </a:lnTo>
                    <a:lnTo>
                      <a:pt x="531" y="3577"/>
                    </a:lnTo>
                    <a:lnTo>
                      <a:pt x="497" y="3538"/>
                    </a:lnTo>
                    <a:lnTo>
                      <a:pt x="465" y="3497"/>
                    </a:lnTo>
                    <a:lnTo>
                      <a:pt x="433" y="3456"/>
                    </a:lnTo>
                    <a:lnTo>
                      <a:pt x="402" y="3414"/>
                    </a:lnTo>
                    <a:lnTo>
                      <a:pt x="373" y="3372"/>
                    </a:lnTo>
                    <a:lnTo>
                      <a:pt x="345" y="3328"/>
                    </a:lnTo>
                    <a:lnTo>
                      <a:pt x="317" y="3284"/>
                    </a:lnTo>
                    <a:lnTo>
                      <a:pt x="290" y="3240"/>
                    </a:lnTo>
                    <a:lnTo>
                      <a:pt x="265" y="3195"/>
                    </a:lnTo>
                    <a:lnTo>
                      <a:pt x="241" y="3149"/>
                    </a:lnTo>
                    <a:lnTo>
                      <a:pt x="217" y="3103"/>
                    </a:lnTo>
                    <a:lnTo>
                      <a:pt x="196" y="3056"/>
                    </a:lnTo>
                    <a:lnTo>
                      <a:pt x="174" y="3008"/>
                    </a:lnTo>
                    <a:lnTo>
                      <a:pt x="154" y="2960"/>
                    </a:lnTo>
                    <a:lnTo>
                      <a:pt x="136" y="2912"/>
                    </a:lnTo>
                    <a:lnTo>
                      <a:pt x="119" y="2863"/>
                    </a:lnTo>
                    <a:lnTo>
                      <a:pt x="103" y="2814"/>
                    </a:lnTo>
                    <a:lnTo>
                      <a:pt x="87" y="2763"/>
                    </a:lnTo>
                    <a:lnTo>
                      <a:pt x="73" y="2714"/>
                    </a:lnTo>
                    <a:lnTo>
                      <a:pt x="60" y="2663"/>
                    </a:lnTo>
                    <a:lnTo>
                      <a:pt x="48" y="2611"/>
                    </a:lnTo>
                    <a:lnTo>
                      <a:pt x="39" y="2561"/>
                    </a:lnTo>
                    <a:lnTo>
                      <a:pt x="29" y="2509"/>
                    </a:lnTo>
                    <a:lnTo>
                      <a:pt x="21" y="2457"/>
                    </a:lnTo>
                    <a:lnTo>
                      <a:pt x="15" y="2405"/>
                    </a:lnTo>
                    <a:lnTo>
                      <a:pt x="9" y="2353"/>
                    </a:lnTo>
                    <a:lnTo>
                      <a:pt x="5" y="2300"/>
                    </a:lnTo>
                    <a:lnTo>
                      <a:pt x="3" y="2247"/>
                    </a:lnTo>
                    <a:lnTo>
                      <a:pt x="1" y="2193"/>
                    </a:lnTo>
                    <a:lnTo>
                      <a:pt x="0" y="2140"/>
                    </a:lnTo>
                    <a:lnTo>
                      <a:pt x="1" y="2087"/>
                    </a:lnTo>
                    <a:lnTo>
                      <a:pt x="4" y="2033"/>
                    </a:lnTo>
                    <a:lnTo>
                      <a:pt x="8" y="1979"/>
                    </a:lnTo>
                    <a:lnTo>
                      <a:pt x="13" y="1926"/>
                    </a:lnTo>
                    <a:lnTo>
                      <a:pt x="20" y="1871"/>
                    </a:lnTo>
                    <a:lnTo>
                      <a:pt x="28" y="1818"/>
                    </a:lnTo>
                    <a:lnTo>
                      <a:pt x="37" y="1763"/>
                    </a:lnTo>
                    <a:lnTo>
                      <a:pt x="49" y="1710"/>
                    </a:lnTo>
                    <a:lnTo>
                      <a:pt x="61" y="1655"/>
                    </a:lnTo>
                    <a:lnTo>
                      <a:pt x="75" y="1602"/>
                    </a:lnTo>
                    <a:lnTo>
                      <a:pt x="89" y="1547"/>
                    </a:lnTo>
                    <a:lnTo>
                      <a:pt x="107" y="1494"/>
                    </a:lnTo>
                    <a:lnTo>
                      <a:pt x="124" y="1442"/>
                    </a:lnTo>
                    <a:lnTo>
                      <a:pt x="142" y="1392"/>
                    </a:lnTo>
                    <a:lnTo>
                      <a:pt x="162" y="1340"/>
                    </a:lnTo>
                    <a:lnTo>
                      <a:pt x="184" y="1290"/>
                    </a:lnTo>
                    <a:lnTo>
                      <a:pt x="206" y="1241"/>
                    </a:lnTo>
                    <a:lnTo>
                      <a:pt x="229" y="1192"/>
                    </a:lnTo>
                    <a:lnTo>
                      <a:pt x="254" y="1145"/>
                    </a:lnTo>
                    <a:lnTo>
                      <a:pt x="280" y="1097"/>
                    </a:lnTo>
                    <a:lnTo>
                      <a:pt x="306" y="1052"/>
                    </a:lnTo>
                    <a:lnTo>
                      <a:pt x="334" y="1007"/>
                    </a:lnTo>
                    <a:lnTo>
                      <a:pt x="364" y="961"/>
                    </a:lnTo>
                    <a:lnTo>
                      <a:pt x="393" y="918"/>
                    </a:lnTo>
                    <a:lnTo>
                      <a:pt x="425" y="875"/>
                    </a:lnTo>
                    <a:lnTo>
                      <a:pt x="457" y="834"/>
                    </a:lnTo>
                    <a:lnTo>
                      <a:pt x="489" y="792"/>
                    </a:lnTo>
                    <a:lnTo>
                      <a:pt x="522" y="752"/>
                    </a:lnTo>
                    <a:lnTo>
                      <a:pt x="557" y="712"/>
                    </a:lnTo>
                    <a:lnTo>
                      <a:pt x="593" y="675"/>
                    </a:lnTo>
                    <a:lnTo>
                      <a:pt x="629" y="638"/>
                    </a:lnTo>
                    <a:lnTo>
                      <a:pt x="666" y="601"/>
                    </a:lnTo>
                    <a:lnTo>
                      <a:pt x="704" y="565"/>
                    </a:lnTo>
                    <a:lnTo>
                      <a:pt x="743" y="531"/>
                    </a:lnTo>
                    <a:lnTo>
                      <a:pt x="783" y="497"/>
                    </a:lnTo>
                    <a:lnTo>
                      <a:pt x="823" y="465"/>
                    </a:lnTo>
                    <a:lnTo>
                      <a:pt x="864" y="433"/>
                    </a:lnTo>
                    <a:lnTo>
                      <a:pt x="907" y="402"/>
                    </a:lnTo>
                    <a:lnTo>
                      <a:pt x="949" y="373"/>
                    </a:lnTo>
                    <a:lnTo>
                      <a:pt x="992" y="344"/>
                    </a:lnTo>
                    <a:lnTo>
                      <a:pt x="1036" y="317"/>
                    </a:lnTo>
                    <a:lnTo>
                      <a:pt x="1081" y="290"/>
                    </a:lnTo>
                    <a:lnTo>
                      <a:pt x="1125" y="265"/>
                    </a:lnTo>
                    <a:lnTo>
                      <a:pt x="1172" y="241"/>
                    </a:lnTo>
                    <a:lnTo>
                      <a:pt x="1218" y="217"/>
                    </a:lnTo>
                    <a:lnTo>
                      <a:pt x="1265" y="196"/>
                    </a:lnTo>
                    <a:lnTo>
                      <a:pt x="1313" y="174"/>
                    </a:lnTo>
                    <a:lnTo>
                      <a:pt x="1361" y="154"/>
                    </a:lnTo>
                    <a:lnTo>
                      <a:pt x="1409" y="136"/>
                    </a:lnTo>
                    <a:lnTo>
                      <a:pt x="1458" y="119"/>
                    </a:lnTo>
                    <a:lnTo>
                      <a:pt x="1507" y="103"/>
                    </a:lnTo>
                    <a:lnTo>
                      <a:pt x="1557" y="87"/>
                    </a:lnTo>
                    <a:lnTo>
                      <a:pt x="1607" y="73"/>
                    </a:lnTo>
                    <a:lnTo>
                      <a:pt x="1658" y="60"/>
                    </a:lnTo>
                    <a:lnTo>
                      <a:pt x="1709" y="48"/>
                    </a:lnTo>
                    <a:lnTo>
                      <a:pt x="1760" y="37"/>
                    </a:lnTo>
                    <a:lnTo>
                      <a:pt x="1811" y="29"/>
                    </a:lnTo>
                    <a:lnTo>
                      <a:pt x="1863" y="21"/>
                    </a:lnTo>
                    <a:lnTo>
                      <a:pt x="1916" y="15"/>
                    </a:lnTo>
                    <a:lnTo>
                      <a:pt x="1968" y="9"/>
                    </a:lnTo>
                    <a:lnTo>
                      <a:pt x="2022" y="5"/>
                    </a:lnTo>
                    <a:lnTo>
                      <a:pt x="2073" y="3"/>
                    </a:lnTo>
                    <a:lnTo>
                      <a:pt x="2127" y="1"/>
                    </a:lnTo>
                    <a:lnTo>
                      <a:pt x="2180" y="0"/>
                    </a:lnTo>
                    <a:lnTo>
                      <a:pt x="2235" y="1"/>
                    </a:lnTo>
                    <a:lnTo>
                      <a:pt x="2288" y="4"/>
                    </a:lnTo>
                    <a:lnTo>
                      <a:pt x="2341" y="8"/>
                    </a:lnTo>
                    <a:lnTo>
                      <a:pt x="2396" y="13"/>
                    </a:lnTo>
                    <a:lnTo>
                      <a:pt x="2449" y="20"/>
                    </a:lnTo>
                    <a:lnTo>
                      <a:pt x="2504" y="28"/>
                    </a:lnTo>
                    <a:lnTo>
                      <a:pt x="2557" y="37"/>
                    </a:lnTo>
                    <a:lnTo>
                      <a:pt x="2611" y="48"/>
                    </a:lnTo>
                    <a:lnTo>
                      <a:pt x="2665" y="61"/>
                    </a:lnTo>
                    <a:lnTo>
                      <a:pt x="2719" y="75"/>
                    </a:lnTo>
                    <a:lnTo>
                      <a:pt x="2773" y="89"/>
                    </a:lnTo>
                    <a:lnTo>
                      <a:pt x="2826" y="107"/>
                    </a:lnTo>
                    <a:lnTo>
                      <a:pt x="2878" y="124"/>
                    </a:lnTo>
                    <a:lnTo>
                      <a:pt x="2930" y="142"/>
                    </a:lnTo>
                    <a:lnTo>
                      <a:pt x="2980" y="162"/>
                    </a:lnTo>
                    <a:lnTo>
                      <a:pt x="3031" y="184"/>
                    </a:lnTo>
                    <a:lnTo>
                      <a:pt x="3080" y="206"/>
                    </a:lnTo>
                    <a:lnTo>
                      <a:pt x="3128" y="229"/>
                    </a:lnTo>
                    <a:lnTo>
                      <a:pt x="3176" y="254"/>
                    </a:lnTo>
                    <a:lnTo>
                      <a:pt x="3223" y="280"/>
                    </a:lnTo>
                    <a:lnTo>
                      <a:pt x="3269" y="306"/>
                    </a:lnTo>
                    <a:lnTo>
                      <a:pt x="3315" y="334"/>
                    </a:lnTo>
                    <a:lnTo>
                      <a:pt x="3359" y="364"/>
                    </a:lnTo>
                    <a:lnTo>
                      <a:pt x="3402" y="393"/>
                    </a:lnTo>
                    <a:lnTo>
                      <a:pt x="3445" y="425"/>
                    </a:lnTo>
                    <a:lnTo>
                      <a:pt x="3488" y="455"/>
                    </a:lnTo>
                    <a:lnTo>
                      <a:pt x="3528" y="489"/>
                    </a:lnTo>
                    <a:lnTo>
                      <a:pt x="3569" y="522"/>
                    </a:lnTo>
                    <a:lnTo>
                      <a:pt x="3608" y="557"/>
                    </a:lnTo>
                    <a:lnTo>
                      <a:pt x="3646" y="593"/>
                    </a:lnTo>
                    <a:lnTo>
                      <a:pt x="3683" y="629"/>
                    </a:lnTo>
                    <a:lnTo>
                      <a:pt x="3719" y="666"/>
                    </a:lnTo>
                    <a:lnTo>
                      <a:pt x="3755" y="704"/>
                    </a:lnTo>
                    <a:lnTo>
                      <a:pt x="3790" y="743"/>
                    </a:lnTo>
                    <a:lnTo>
                      <a:pt x="3823" y="783"/>
                    </a:lnTo>
                    <a:lnTo>
                      <a:pt x="3857" y="823"/>
                    </a:lnTo>
                    <a:lnTo>
                      <a:pt x="3887" y="864"/>
                    </a:lnTo>
                    <a:lnTo>
                      <a:pt x="3918" y="907"/>
                    </a:lnTo>
                    <a:lnTo>
                      <a:pt x="3948" y="949"/>
                    </a:lnTo>
                    <a:lnTo>
                      <a:pt x="3976" y="992"/>
                    </a:lnTo>
                    <a:lnTo>
                      <a:pt x="4004" y="1036"/>
                    </a:lnTo>
                    <a:lnTo>
                      <a:pt x="4031" y="1080"/>
                    </a:lnTo>
                    <a:lnTo>
                      <a:pt x="4056" y="1125"/>
                    </a:lnTo>
                    <a:lnTo>
                      <a:pt x="4080" y="1172"/>
                    </a:lnTo>
                    <a:lnTo>
                      <a:pt x="4103" y="1218"/>
                    </a:lnTo>
                    <a:lnTo>
                      <a:pt x="4126" y="1265"/>
                    </a:lnTo>
                    <a:lnTo>
                      <a:pt x="4147" y="1312"/>
                    </a:lnTo>
                    <a:lnTo>
                      <a:pt x="4166" y="1360"/>
                    </a:lnTo>
                    <a:lnTo>
                      <a:pt x="4184" y="1409"/>
                    </a:lnTo>
                    <a:lnTo>
                      <a:pt x="4203" y="1458"/>
                    </a:lnTo>
                    <a:lnTo>
                      <a:pt x="4219" y="1507"/>
                    </a:lnTo>
                    <a:lnTo>
                      <a:pt x="4233" y="1557"/>
                    </a:lnTo>
                    <a:lnTo>
                      <a:pt x="4248" y="1607"/>
                    </a:lnTo>
                    <a:lnTo>
                      <a:pt x="4261" y="1658"/>
                    </a:lnTo>
                    <a:lnTo>
                      <a:pt x="4272" y="1709"/>
                    </a:lnTo>
                    <a:lnTo>
                      <a:pt x="4283" y="1759"/>
                    </a:lnTo>
                    <a:lnTo>
                      <a:pt x="4292" y="1811"/>
                    </a:lnTo>
                    <a:lnTo>
                      <a:pt x="4300" y="1863"/>
                    </a:lnTo>
                    <a:lnTo>
                      <a:pt x="4307" y="1915"/>
                    </a:lnTo>
                    <a:lnTo>
                      <a:pt x="4312" y="1968"/>
                    </a:lnTo>
                    <a:lnTo>
                      <a:pt x="4316" y="2022"/>
                    </a:lnTo>
                    <a:lnTo>
                      <a:pt x="4319" y="2073"/>
                    </a:lnTo>
                    <a:lnTo>
                      <a:pt x="4320" y="2127"/>
                    </a:lnTo>
                    <a:lnTo>
                      <a:pt x="4320" y="2180"/>
                    </a:lnTo>
                    <a:lnTo>
                      <a:pt x="4319" y="2233"/>
                    </a:lnTo>
                    <a:lnTo>
                      <a:pt x="4316" y="2288"/>
                    </a:lnTo>
                    <a:lnTo>
                      <a:pt x="4312" y="2341"/>
                    </a:lnTo>
                    <a:lnTo>
                      <a:pt x="4307" y="2396"/>
                    </a:lnTo>
                    <a:lnTo>
                      <a:pt x="4300" y="2449"/>
                    </a:lnTo>
                    <a:lnTo>
                      <a:pt x="4292" y="2504"/>
                    </a:lnTo>
                    <a:lnTo>
                      <a:pt x="4283" y="2557"/>
                    </a:lnTo>
                    <a:lnTo>
                      <a:pt x="4272" y="2611"/>
                    </a:lnTo>
                    <a:lnTo>
                      <a:pt x="4260" y="2665"/>
                    </a:lnTo>
                    <a:lnTo>
                      <a:pt x="4245" y="2719"/>
                    </a:lnTo>
                    <a:close/>
                    <a:moveTo>
                      <a:pt x="2695" y="165"/>
                    </a:moveTo>
                    <a:lnTo>
                      <a:pt x="2695" y="165"/>
                    </a:lnTo>
                    <a:lnTo>
                      <a:pt x="2643" y="152"/>
                    </a:lnTo>
                    <a:lnTo>
                      <a:pt x="2591" y="141"/>
                    </a:lnTo>
                    <a:lnTo>
                      <a:pt x="2540" y="131"/>
                    </a:lnTo>
                    <a:lnTo>
                      <a:pt x="2488" y="121"/>
                    </a:lnTo>
                    <a:lnTo>
                      <a:pt x="2437" y="113"/>
                    </a:lnTo>
                    <a:lnTo>
                      <a:pt x="2385" y="107"/>
                    </a:lnTo>
                    <a:lnTo>
                      <a:pt x="2333" y="103"/>
                    </a:lnTo>
                    <a:lnTo>
                      <a:pt x="2283" y="99"/>
                    </a:lnTo>
                    <a:lnTo>
                      <a:pt x="2231" y="96"/>
                    </a:lnTo>
                    <a:lnTo>
                      <a:pt x="2180" y="95"/>
                    </a:lnTo>
                    <a:lnTo>
                      <a:pt x="2128" y="95"/>
                    </a:lnTo>
                    <a:lnTo>
                      <a:pt x="2077" y="96"/>
                    </a:lnTo>
                    <a:lnTo>
                      <a:pt x="2027" y="99"/>
                    </a:lnTo>
                    <a:lnTo>
                      <a:pt x="1976" y="103"/>
                    </a:lnTo>
                    <a:lnTo>
                      <a:pt x="1927" y="108"/>
                    </a:lnTo>
                    <a:lnTo>
                      <a:pt x="1876" y="115"/>
                    </a:lnTo>
                    <a:lnTo>
                      <a:pt x="1827" y="121"/>
                    </a:lnTo>
                    <a:lnTo>
                      <a:pt x="1778" y="131"/>
                    </a:lnTo>
                    <a:lnTo>
                      <a:pt x="1729" y="140"/>
                    </a:lnTo>
                    <a:lnTo>
                      <a:pt x="1679" y="152"/>
                    </a:lnTo>
                    <a:lnTo>
                      <a:pt x="1631" y="164"/>
                    </a:lnTo>
                    <a:lnTo>
                      <a:pt x="1583" y="177"/>
                    </a:lnTo>
                    <a:lnTo>
                      <a:pt x="1535" y="192"/>
                    </a:lnTo>
                    <a:lnTo>
                      <a:pt x="1489" y="208"/>
                    </a:lnTo>
                    <a:lnTo>
                      <a:pt x="1441" y="224"/>
                    </a:lnTo>
                    <a:lnTo>
                      <a:pt x="1396" y="242"/>
                    </a:lnTo>
                    <a:lnTo>
                      <a:pt x="1349" y="261"/>
                    </a:lnTo>
                    <a:lnTo>
                      <a:pt x="1304" y="281"/>
                    </a:lnTo>
                    <a:lnTo>
                      <a:pt x="1258" y="302"/>
                    </a:lnTo>
                    <a:lnTo>
                      <a:pt x="1215" y="325"/>
                    </a:lnTo>
                    <a:lnTo>
                      <a:pt x="1171" y="348"/>
                    </a:lnTo>
                    <a:lnTo>
                      <a:pt x="1128" y="372"/>
                    </a:lnTo>
                    <a:lnTo>
                      <a:pt x="1085" y="397"/>
                    </a:lnTo>
                    <a:lnTo>
                      <a:pt x="1043" y="423"/>
                    </a:lnTo>
                    <a:lnTo>
                      <a:pt x="1001" y="450"/>
                    </a:lnTo>
                    <a:lnTo>
                      <a:pt x="961" y="479"/>
                    </a:lnTo>
                    <a:lnTo>
                      <a:pt x="922" y="509"/>
                    </a:lnTo>
                    <a:lnTo>
                      <a:pt x="882" y="538"/>
                    </a:lnTo>
                    <a:lnTo>
                      <a:pt x="843" y="570"/>
                    </a:lnTo>
                    <a:lnTo>
                      <a:pt x="806" y="602"/>
                    </a:lnTo>
                    <a:lnTo>
                      <a:pt x="768" y="635"/>
                    </a:lnTo>
                    <a:lnTo>
                      <a:pt x="731" y="669"/>
                    </a:lnTo>
                    <a:lnTo>
                      <a:pt x="696" y="703"/>
                    </a:lnTo>
                    <a:lnTo>
                      <a:pt x="661" y="739"/>
                    </a:lnTo>
                    <a:lnTo>
                      <a:pt x="627" y="776"/>
                    </a:lnTo>
                    <a:lnTo>
                      <a:pt x="594" y="814"/>
                    </a:lnTo>
                    <a:lnTo>
                      <a:pt x="562" y="852"/>
                    </a:lnTo>
                    <a:lnTo>
                      <a:pt x="530" y="891"/>
                    </a:lnTo>
                    <a:lnTo>
                      <a:pt x="499" y="931"/>
                    </a:lnTo>
                    <a:lnTo>
                      <a:pt x="470" y="972"/>
                    </a:lnTo>
                    <a:lnTo>
                      <a:pt x="442" y="1013"/>
                    </a:lnTo>
                    <a:lnTo>
                      <a:pt x="414" y="1056"/>
                    </a:lnTo>
                    <a:lnTo>
                      <a:pt x="388" y="1100"/>
                    </a:lnTo>
                    <a:lnTo>
                      <a:pt x="362" y="1144"/>
                    </a:lnTo>
                    <a:lnTo>
                      <a:pt x="337" y="1189"/>
                    </a:lnTo>
                    <a:lnTo>
                      <a:pt x="314" y="1234"/>
                    </a:lnTo>
                    <a:lnTo>
                      <a:pt x="292" y="1281"/>
                    </a:lnTo>
                    <a:lnTo>
                      <a:pt x="270" y="1328"/>
                    </a:lnTo>
                    <a:lnTo>
                      <a:pt x="250" y="1376"/>
                    </a:lnTo>
                    <a:lnTo>
                      <a:pt x="230" y="1425"/>
                    </a:lnTo>
                    <a:lnTo>
                      <a:pt x="213" y="1474"/>
                    </a:lnTo>
                    <a:lnTo>
                      <a:pt x="196" y="1523"/>
                    </a:lnTo>
                    <a:lnTo>
                      <a:pt x="180" y="1574"/>
                    </a:lnTo>
                    <a:lnTo>
                      <a:pt x="165" y="1626"/>
                    </a:lnTo>
                    <a:lnTo>
                      <a:pt x="152" y="1678"/>
                    </a:lnTo>
                    <a:lnTo>
                      <a:pt x="141" y="1729"/>
                    </a:lnTo>
                    <a:lnTo>
                      <a:pt x="131" y="1780"/>
                    </a:lnTo>
                    <a:lnTo>
                      <a:pt x="121" y="1832"/>
                    </a:lnTo>
                    <a:lnTo>
                      <a:pt x="113" y="1884"/>
                    </a:lnTo>
                    <a:lnTo>
                      <a:pt x="107" y="1936"/>
                    </a:lnTo>
                    <a:lnTo>
                      <a:pt x="103" y="1987"/>
                    </a:lnTo>
                    <a:lnTo>
                      <a:pt x="99" y="2039"/>
                    </a:lnTo>
                    <a:lnTo>
                      <a:pt x="96" y="2089"/>
                    </a:lnTo>
                    <a:lnTo>
                      <a:pt x="95" y="2141"/>
                    </a:lnTo>
                    <a:lnTo>
                      <a:pt x="95" y="2192"/>
                    </a:lnTo>
                    <a:lnTo>
                      <a:pt x="96" y="2243"/>
                    </a:lnTo>
                    <a:lnTo>
                      <a:pt x="99" y="2293"/>
                    </a:lnTo>
                    <a:lnTo>
                      <a:pt x="103" y="2344"/>
                    </a:lnTo>
                    <a:lnTo>
                      <a:pt x="108" y="2394"/>
                    </a:lnTo>
                    <a:lnTo>
                      <a:pt x="115" y="2444"/>
                    </a:lnTo>
                    <a:lnTo>
                      <a:pt x="121" y="2494"/>
                    </a:lnTo>
                    <a:lnTo>
                      <a:pt x="131" y="2544"/>
                    </a:lnTo>
                    <a:lnTo>
                      <a:pt x="140" y="2593"/>
                    </a:lnTo>
                    <a:lnTo>
                      <a:pt x="152" y="2641"/>
                    </a:lnTo>
                    <a:lnTo>
                      <a:pt x="164" y="2690"/>
                    </a:lnTo>
                    <a:lnTo>
                      <a:pt x="177" y="2738"/>
                    </a:lnTo>
                    <a:lnTo>
                      <a:pt x="192" y="2785"/>
                    </a:lnTo>
                    <a:lnTo>
                      <a:pt x="208" y="2833"/>
                    </a:lnTo>
                    <a:lnTo>
                      <a:pt x="224" y="2879"/>
                    </a:lnTo>
                    <a:lnTo>
                      <a:pt x="242" y="2926"/>
                    </a:lnTo>
                    <a:lnTo>
                      <a:pt x="261" y="2971"/>
                    </a:lnTo>
                    <a:lnTo>
                      <a:pt x="281" y="3016"/>
                    </a:lnTo>
                    <a:lnTo>
                      <a:pt x="302" y="3062"/>
                    </a:lnTo>
                    <a:lnTo>
                      <a:pt x="325" y="3105"/>
                    </a:lnTo>
                    <a:lnTo>
                      <a:pt x="348" y="3149"/>
                    </a:lnTo>
                    <a:lnTo>
                      <a:pt x="372" y="3193"/>
                    </a:lnTo>
                    <a:lnTo>
                      <a:pt x="397" y="3236"/>
                    </a:lnTo>
                    <a:lnTo>
                      <a:pt x="423" y="3277"/>
                    </a:lnTo>
                    <a:lnTo>
                      <a:pt x="450" y="3319"/>
                    </a:lnTo>
                    <a:lnTo>
                      <a:pt x="479" y="3360"/>
                    </a:lnTo>
                    <a:lnTo>
                      <a:pt x="509" y="3400"/>
                    </a:lnTo>
                    <a:lnTo>
                      <a:pt x="538" y="3438"/>
                    </a:lnTo>
                    <a:lnTo>
                      <a:pt x="570" y="3477"/>
                    </a:lnTo>
                    <a:lnTo>
                      <a:pt x="602" y="3516"/>
                    </a:lnTo>
                    <a:lnTo>
                      <a:pt x="635" y="3553"/>
                    </a:lnTo>
                    <a:lnTo>
                      <a:pt x="669" y="3589"/>
                    </a:lnTo>
                    <a:lnTo>
                      <a:pt x="703" y="3625"/>
                    </a:lnTo>
                    <a:lnTo>
                      <a:pt x="739" y="3659"/>
                    </a:lnTo>
                    <a:lnTo>
                      <a:pt x="776" y="3694"/>
                    </a:lnTo>
                    <a:lnTo>
                      <a:pt x="814" y="3726"/>
                    </a:lnTo>
                    <a:lnTo>
                      <a:pt x="852" y="3759"/>
                    </a:lnTo>
                    <a:lnTo>
                      <a:pt x="891" y="3790"/>
                    </a:lnTo>
                    <a:lnTo>
                      <a:pt x="932" y="3821"/>
                    </a:lnTo>
                    <a:lnTo>
                      <a:pt x="972" y="3850"/>
                    </a:lnTo>
                    <a:lnTo>
                      <a:pt x="1015" y="3879"/>
                    </a:lnTo>
                    <a:lnTo>
                      <a:pt x="1057" y="3906"/>
                    </a:lnTo>
                    <a:lnTo>
                      <a:pt x="1100" y="3932"/>
                    </a:lnTo>
                    <a:lnTo>
                      <a:pt x="1144" y="3959"/>
                    </a:lnTo>
                    <a:lnTo>
                      <a:pt x="1189" y="3983"/>
                    </a:lnTo>
                    <a:lnTo>
                      <a:pt x="1234" y="4007"/>
                    </a:lnTo>
                    <a:lnTo>
                      <a:pt x="1281" y="4030"/>
                    </a:lnTo>
                    <a:lnTo>
                      <a:pt x="1328" y="4051"/>
                    </a:lnTo>
                    <a:lnTo>
                      <a:pt x="1376" y="4071"/>
                    </a:lnTo>
                    <a:lnTo>
                      <a:pt x="1425" y="4090"/>
                    </a:lnTo>
                    <a:lnTo>
                      <a:pt x="1474" y="4108"/>
                    </a:lnTo>
                    <a:lnTo>
                      <a:pt x="1523" y="4126"/>
                    </a:lnTo>
                    <a:lnTo>
                      <a:pt x="1574" y="4140"/>
                    </a:lnTo>
                    <a:lnTo>
                      <a:pt x="1626" y="4155"/>
                    </a:lnTo>
                    <a:lnTo>
                      <a:pt x="1678" y="4168"/>
                    </a:lnTo>
                    <a:lnTo>
                      <a:pt x="1730" y="4180"/>
                    </a:lnTo>
                    <a:lnTo>
                      <a:pt x="1780" y="4191"/>
                    </a:lnTo>
                    <a:lnTo>
                      <a:pt x="1832" y="4199"/>
                    </a:lnTo>
                    <a:lnTo>
                      <a:pt x="1884" y="4207"/>
                    </a:lnTo>
                    <a:lnTo>
                      <a:pt x="1936" y="4213"/>
                    </a:lnTo>
                    <a:lnTo>
                      <a:pt x="1987" y="4219"/>
                    </a:lnTo>
                    <a:lnTo>
                      <a:pt x="2039" y="4223"/>
                    </a:lnTo>
                    <a:lnTo>
                      <a:pt x="2091" y="4224"/>
                    </a:lnTo>
                    <a:lnTo>
                      <a:pt x="2141" y="4225"/>
                    </a:lnTo>
                    <a:lnTo>
                      <a:pt x="2192" y="4225"/>
                    </a:lnTo>
                    <a:lnTo>
                      <a:pt x="2243" y="4224"/>
                    </a:lnTo>
                    <a:lnTo>
                      <a:pt x="2293" y="4221"/>
                    </a:lnTo>
                    <a:lnTo>
                      <a:pt x="2344" y="4217"/>
                    </a:lnTo>
                    <a:lnTo>
                      <a:pt x="2394" y="4212"/>
                    </a:lnTo>
                    <a:lnTo>
                      <a:pt x="2445" y="4207"/>
                    </a:lnTo>
                    <a:lnTo>
                      <a:pt x="2494" y="4199"/>
                    </a:lnTo>
                    <a:lnTo>
                      <a:pt x="2544" y="4189"/>
                    </a:lnTo>
                    <a:lnTo>
                      <a:pt x="2593" y="4180"/>
                    </a:lnTo>
                    <a:lnTo>
                      <a:pt x="2641" y="4170"/>
                    </a:lnTo>
                    <a:lnTo>
                      <a:pt x="2690" y="4156"/>
                    </a:lnTo>
                    <a:lnTo>
                      <a:pt x="2738" y="4143"/>
                    </a:lnTo>
                    <a:lnTo>
                      <a:pt x="2786" y="4130"/>
                    </a:lnTo>
                    <a:lnTo>
                      <a:pt x="2833" y="4114"/>
                    </a:lnTo>
                    <a:lnTo>
                      <a:pt x="2879" y="4096"/>
                    </a:lnTo>
                    <a:lnTo>
                      <a:pt x="2926" y="4079"/>
                    </a:lnTo>
                    <a:lnTo>
                      <a:pt x="2971" y="4059"/>
                    </a:lnTo>
                    <a:lnTo>
                      <a:pt x="3016" y="4039"/>
                    </a:lnTo>
                    <a:lnTo>
                      <a:pt x="3062" y="4019"/>
                    </a:lnTo>
                    <a:lnTo>
                      <a:pt x="3105" y="3996"/>
                    </a:lnTo>
                    <a:lnTo>
                      <a:pt x="3149" y="3972"/>
                    </a:lnTo>
                    <a:lnTo>
                      <a:pt x="3193" y="3948"/>
                    </a:lnTo>
                    <a:lnTo>
                      <a:pt x="3236" y="3923"/>
                    </a:lnTo>
                    <a:lnTo>
                      <a:pt x="3277" y="3898"/>
                    </a:lnTo>
                    <a:lnTo>
                      <a:pt x="3319" y="3870"/>
                    </a:lnTo>
                    <a:lnTo>
                      <a:pt x="3360" y="3842"/>
                    </a:lnTo>
                    <a:lnTo>
                      <a:pt x="3400" y="3813"/>
                    </a:lnTo>
                    <a:lnTo>
                      <a:pt x="3440" y="3782"/>
                    </a:lnTo>
                    <a:lnTo>
                      <a:pt x="3478" y="3751"/>
                    </a:lnTo>
                    <a:lnTo>
                      <a:pt x="3516" y="3719"/>
                    </a:lnTo>
                    <a:lnTo>
                      <a:pt x="3553" y="3686"/>
                    </a:lnTo>
                    <a:lnTo>
                      <a:pt x="3589" y="3651"/>
                    </a:lnTo>
                    <a:lnTo>
                      <a:pt x="3625" y="3617"/>
                    </a:lnTo>
                    <a:lnTo>
                      <a:pt x="3659" y="3581"/>
                    </a:lnTo>
                    <a:lnTo>
                      <a:pt x="3694" y="3545"/>
                    </a:lnTo>
                    <a:lnTo>
                      <a:pt x="3727" y="3506"/>
                    </a:lnTo>
                    <a:lnTo>
                      <a:pt x="3759" y="3469"/>
                    </a:lnTo>
                    <a:lnTo>
                      <a:pt x="3790" y="3429"/>
                    </a:lnTo>
                    <a:lnTo>
                      <a:pt x="3821" y="3389"/>
                    </a:lnTo>
                    <a:lnTo>
                      <a:pt x="3850" y="3348"/>
                    </a:lnTo>
                    <a:lnTo>
                      <a:pt x="3879" y="3307"/>
                    </a:lnTo>
                    <a:lnTo>
                      <a:pt x="3907" y="3264"/>
                    </a:lnTo>
                    <a:lnTo>
                      <a:pt x="3934" y="3220"/>
                    </a:lnTo>
                    <a:lnTo>
                      <a:pt x="3959" y="3176"/>
                    </a:lnTo>
                    <a:lnTo>
                      <a:pt x="3983" y="3132"/>
                    </a:lnTo>
                    <a:lnTo>
                      <a:pt x="4007" y="3086"/>
                    </a:lnTo>
                    <a:lnTo>
                      <a:pt x="4030" y="3039"/>
                    </a:lnTo>
                    <a:lnTo>
                      <a:pt x="4051" y="2992"/>
                    </a:lnTo>
                    <a:lnTo>
                      <a:pt x="4071" y="2944"/>
                    </a:lnTo>
                    <a:lnTo>
                      <a:pt x="4090" y="2896"/>
                    </a:lnTo>
                    <a:lnTo>
                      <a:pt x="4108" y="2847"/>
                    </a:lnTo>
                    <a:lnTo>
                      <a:pt x="4126" y="2797"/>
                    </a:lnTo>
                    <a:lnTo>
                      <a:pt x="4140" y="2746"/>
                    </a:lnTo>
                    <a:lnTo>
                      <a:pt x="4155" y="2695"/>
                    </a:lnTo>
                    <a:lnTo>
                      <a:pt x="4168" y="2643"/>
                    </a:lnTo>
                    <a:lnTo>
                      <a:pt x="4180" y="2591"/>
                    </a:lnTo>
                    <a:lnTo>
                      <a:pt x="4191" y="2540"/>
                    </a:lnTo>
                    <a:lnTo>
                      <a:pt x="4200" y="2488"/>
                    </a:lnTo>
                    <a:lnTo>
                      <a:pt x="4207" y="2437"/>
                    </a:lnTo>
                    <a:lnTo>
                      <a:pt x="4213" y="2385"/>
                    </a:lnTo>
                    <a:lnTo>
                      <a:pt x="4219" y="2333"/>
                    </a:lnTo>
                    <a:lnTo>
                      <a:pt x="4223" y="2283"/>
                    </a:lnTo>
                    <a:lnTo>
                      <a:pt x="4225" y="2231"/>
                    </a:lnTo>
                    <a:lnTo>
                      <a:pt x="4225" y="2180"/>
                    </a:lnTo>
                    <a:lnTo>
                      <a:pt x="4225" y="2128"/>
                    </a:lnTo>
                    <a:lnTo>
                      <a:pt x="4224" y="2077"/>
                    </a:lnTo>
                    <a:lnTo>
                      <a:pt x="4221" y="2027"/>
                    </a:lnTo>
                    <a:lnTo>
                      <a:pt x="4217" y="1976"/>
                    </a:lnTo>
                    <a:lnTo>
                      <a:pt x="4213" y="1926"/>
                    </a:lnTo>
                    <a:lnTo>
                      <a:pt x="4207" y="1876"/>
                    </a:lnTo>
                    <a:lnTo>
                      <a:pt x="4199" y="1827"/>
                    </a:lnTo>
                    <a:lnTo>
                      <a:pt x="4191" y="1778"/>
                    </a:lnTo>
                    <a:lnTo>
                      <a:pt x="4180" y="1729"/>
                    </a:lnTo>
                    <a:lnTo>
                      <a:pt x="4170" y="1679"/>
                    </a:lnTo>
                    <a:lnTo>
                      <a:pt x="4158" y="1631"/>
                    </a:lnTo>
                    <a:lnTo>
                      <a:pt x="4144" y="1583"/>
                    </a:lnTo>
                    <a:lnTo>
                      <a:pt x="4130" y="1535"/>
                    </a:lnTo>
                    <a:lnTo>
                      <a:pt x="4114" y="1489"/>
                    </a:lnTo>
                    <a:lnTo>
                      <a:pt x="4096" y="1441"/>
                    </a:lnTo>
                    <a:lnTo>
                      <a:pt x="4079" y="1396"/>
                    </a:lnTo>
                    <a:lnTo>
                      <a:pt x="4060" y="1349"/>
                    </a:lnTo>
                    <a:lnTo>
                      <a:pt x="4040" y="1304"/>
                    </a:lnTo>
                    <a:lnTo>
                      <a:pt x="4019" y="1258"/>
                    </a:lnTo>
                    <a:lnTo>
                      <a:pt x="3996" y="1215"/>
                    </a:lnTo>
                    <a:lnTo>
                      <a:pt x="3974" y="1171"/>
                    </a:lnTo>
                    <a:lnTo>
                      <a:pt x="3948" y="1128"/>
                    </a:lnTo>
                    <a:lnTo>
                      <a:pt x="3923" y="1085"/>
                    </a:lnTo>
                    <a:lnTo>
                      <a:pt x="3898" y="1043"/>
                    </a:lnTo>
                    <a:lnTo>
                      <a:pt x="3870" y="1001"/>
                    </a:lnTo>
                    <a:lnTo>
                      <a:pt x="3842" y="961"/>
                    </a:lnTo>
                    <a:lnTo>
                      <a:pt x="3813" y="922"/>
                    </a:lnTo>
                    <a:lnTo>
                      <a:pt x="3782" y="882"/>
                    </a:lnTo>
                    <a:lnTo>
                      <a:pt x="3751" y="843"/>
                    </a:lnTo>
                    <a:lnTo>
                      <a:pt x="3719" y="804"/>
                    </a:lnTo>
                    <a:lnTo>
                      <a:pt x="3686" y="768"/>
                    </a:lnTo>
                    <a:lnTo>
                      <a:pt x="3651" y="731"/>
                    </a:lnTo>
                    <a:lnTo>
                      <a:pt x="3617" y="696"/>
                    </a:lnTo>
                    <a:lnTo>
                      <a:pt x="3581" y="661"/>
                    </a:lnTo>
                    <a:lnTo>
                      <a:pt x="3545" y="627"/>
                    </a:lnTo>
                    <a:lnTo>
                      <a:pt x="3508" y="594"/>
                    </a:lnTo>
                    <a:lnTo>
                      <a:pt x="3469" y="562"/>
                    </a:lnTo>
                    <a:lnTo>
                      <a:pt x="3429" y="530"/>
                    </a:lnTo>
                    <a:lnTo>
                      <a:pt x="3389" y="499"/>
                    </a:lnTo>
                    <a:lnTo>
                      <a:pt x="3348" y="470"/>
                    </a:lnTo>
                    <a:lnTo>
                      <a:pt x="3307" y="442"/>
                    </a:lnTo>
                    <a:lnTo>
                      <a:pt x="3264" y="414"/>
                    </a:lnTo>
                    <a:lnTo>
                      <a:pt x="3221" y="388"/>
                    </a:lnTo>
                    <a:lnTo>
                      <a:pt x="3176" y="362"/>
                    </a:lnTo>
                    <a:lnTo>
                      <a:pt x="3132" y="337"/>
                    </a:lnTo>
                    <a:lnTo>
                      <a:pt x="3086" y="314"/>
                    </a:lnTo>
                    <a:lnTo>
                      <a:pt x="3040" y="292"/>
                    </a:lnTo>
                    <a:lnTo>
                      <a:pt x="2992" y="270"/>
                    </a:lnTo>
                    <a:lnTo>
                      <a:pt x="2944" y="249"/>
                    </a:lnTo>
                    <a:lnTo>
                      <a:pt x="2896" y="230"/>
                    </a:lnTo>
                    <a:lnTo>
                      <a:pt x="2847" y="213"/>
                    </a:lnTo>
                    <a:lnTo>
                      <a:pt x="2797" y="196"/>
                    </a:lnTo>
                    <a:lnTo>
                      <a:pt x="2746" y="180"/>
                    </a:lnTo>
                    <a:lnTo>
                      <a:pt x="2695" y="165"/>
                    </a:lnTo>
                    <a:close/>
                  </a:path>
                </a:pathLst>
              </a:custGeom>
              <a:gradFill rotWithShape="0">
                <a:gsLst>
                  <a:gs pos="0">
                    <a:srgbClr val="83a7d3"/>
                  </a:gs>
                  <a:gs pos="100000">
                    <a:srgbClr val="182e48"/>
                  </a:gs>
                </a:gsLst>
                <a:lin ang="1344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103" name="TextBox 155" descr=""/>
            <p:cNvPicPr/>
            <p:nvPr/>
          </p:nvPicPr>
          <p:blipFill>
            <a:blip r:embed="rId11"/>
            <a:stretch/>
          </p:blipFill>
          <p:spPr>
            <a:xfrm>
              <a:off x="682560" y="4742640"/>
              <a:ext cx="1067040" cy="1109160"/>
            </a:xfrm>
            <a:prstGeom prst="rect">
              <a:avLst/>
            </a:prstGeom>
            <a:ln w="0">
              <a:noFill/>
            </a:ln>
          </p:spPr>
        </p:pic>
        <p:pic>
          <p:nvPicPr>
            <p:cNvPr id="104" name="Rectangle 70" descr=""/>
            <p:cNvPicPr/>
            <p:nvPr/>
          </p:nvPicPr>
          <p:blipFill>
            <a:blip r:embed="rId12"/>
            <a:stretch/>
          </p:blipFill>
          <p:spPr>
            <a:xfrm>
              <a:off x="560520" y="5425560"/>
              <a:ext cx="1280160" cy="4813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83"/>
          <p:cNvSpPr/>
          <p:nvPr/>
        </p:nvSpPr>
        <p:spPr>
          <a:xfrm>
            <a:off x="1676520" y="6500880"/>
            <a:ext cx="5790960" cy="352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ea typeface="Arial"/>
              </a:rPr>
              <a:t>When scaling, group all elements to be scaled. Scale as needed. Use the “Increase Font Size,” “Decrease Font Size” buttons or manually change the font size for the editable text.</a:t>
            </a:r>
            <a:endParaRPr b="0" lang="en-US" sz="1000" spc="-1" strike="noStrike">
              <a:solidFill>
                <a:srgbClr val="000000"/>
              </a:solidFill>
              <a:latin typeface="Arial"/>
            </a:endParaRPr>
          </a:p>
        </p:txBody>
      </p:sp>
      <p:grpSp>
        <p:nvGrpSpPr>
          <p:cNvPr id="106" name="Group 3"/>
          <p:cNvGrpSpPr/>
          <p:nvPr/>
        </p:nvGrpSpPr>
        <p:grpSpPr>
          <a:xfrm>
            <a:off x="111240" y="838080"/>
            <a:ext cx="8883360" cy="4872240"/>
            <a:chOff x="111240" y="838080"/>
            <a:chExt cx="8883360" cy="4872240"/>
          </a:xfrm>
        </p:grpSpPr>
        <p:sp>
          <p:nvSpPr>
            <p:cNvPr id="107" name="AutoShape 110"/>
            <p:cNvSpPr/>
            <p:nvPr/>
          </p:nvSpPr>
          <p:spPr>
            <a:xfrm flipH="1">
              <a:off x="2361960" y="2836080"/>
              <a:ext cx="914400" cy="838800"/>
            </a:xfrm>
            <a:prstGeom prst="rightArrow">
              <a:avLst>
                <a:gd name="adj1" fmla="val 55843"/>
                <a:gd name="adj2" fmla="val 49888"/>
              </a:avLst>
            </a:prstGeom>
            <a:gradFill rotWithShape="0">
              <a:gsLst>
                <a:gs pos="0">
                  <a:srgbClr val="6b6b6b"/>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10"/>
            <p:cNvSpPr/>
            <p:nvPr/>
          </p:nvSpPr>
          <p:spPr>
            <a:xfrm>
              <a:off x="5867640" y="2836080"/>
              <a:ext cx="914400" cy="838800"/>
            </a:xfrm>
            <a:prstGeom prst="rightArrow">
              <a:avLst>
                <a:gd name="adj1" fmla="val 55843"/>
                <a:gd name="adj2" fmla="val 49888"/>
              </a:avLst>
            </a:prstGeom>
            <a:gradFill rotWithShape="0">
              <a:gsLst>
                <a:gs pos="0">
                  <a:srgbClr val="6b6b6b"/>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10"/>
            <p:cNvSpPr/>
            <p:nvPr/>
          </p:nvSpPr>
          <p:spPr>
            <a:xfrm flipH="1" rot="2700000">
              <a:off x="2875320" y="1596600"/>
              <a:ext cx="914400" cy="839160"/>
            </a:xfrm>
            <a:prstGeom prst="rightArrow">
              <a:avLst>
                <a:gd name="adj1" fmla="val 55843"/>
                <a:gd name="adj2" fmla="val 49867"/>
              </a:avLst>
            </a:prstGeom>
            <a:gradFill rotWithShape="0">
              <a:gsLst>
                <a:gs pos="0">
                  <a:srgbClr val="6b6b6b"/>
                </a:gs>
                <a:gs pos="100000">
                  <a:srgbClr val="ffffff">
                    <a:alpha val="0"/>
                  </a:srgbClr>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10"/>
            <p:cNvSpPr/>
            <p:nvPr/>
          </p:nvSpPr>
          <p:spPr>
            <a:xfrm rot="2700000">
              <a:off x="5353920" y="4075200"/>
              <a:ext cx="914400" cy="838800"/>
            </a:xfrm>
            <a:prstGeom prst="rightArrow">
              <a:avLst>
                <a:gd name="adj1" fmla="val 55843"/>
                <a:gd name="adj2" fmla="val 49888"/>
              </a:avLst>
            </a:prstGeom>
            <a:gradFill rotWithShape="0">
              <a:gsLst>
                <a:gs pos="0">
                  <a:srgbClr val="6b6b6b"/>
                </a:gs>
                <a:gs pos="100000">
                  <a:srgbClr val="ffffff">
                    <a:alpha val="0"/>
                  </a:srgbClr>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10"/>
            <p:cNvSpPr/>
            <p:nvPr/>
          </p:nvSpPr>
          <p:spPr>
            <a:xfrm flipH="1" rot="8100000">
              <a:off x="5357520" y="1596960"/>
              <a:ext cx="914400" cy="839160"/>
            </a:xfrm>
            <a:prstGeom prst="rightArrow">
              <a:avLst>
                <a:gd name="adj1" fmla="val 55843"/>
                <a:gd name="adj2" fmla="val 49867"/>
              </a:avLst>
            </a:prstGeom>
            <a:gradFill rotWithShape="0">
              <a:gsLst>
                <a:gs pos="0">
                  <a:srgbClr val="6b6b6b"/>
                </a:gs>
                <a:gs pos="100000">
                  <a:srgbClr val="ffffff">
                    <a:alpha val="0"/>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10"/>
            <p:cNvSpPr/>
            <p:nvPr/>
          </p:nvSpPr>
          <p:spPr>
            <a:xfrm rot="8100000">
              <a:off x="2878560" y="4075920"/>
              <a:ext cx="914400" cy="838800"/>
            </a:xfrm>
            <a:prstGeom prst="rightArrow">
              <a:avLst>
                <a:gd name="adj1" fmla="val 55843"/>
                <a:gd name="adj2" fmla="val 49888"/>
              </a:avLst>
            </a:prstGeom>
            <a:gradFill rotWithShape="0">
              <a:gsLst>
                <a:gs pos="0">
                  <a:srgbClr val="6b6b6b"/>
                </a:gs>
                <a:gs pos="100000">
                  <a:srgbClr val="ffffff">
                    <a:alpha val="0"/>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Group 10"/>
            <p:cNvGrpSpPr/>
            <p:nvPr/>
          </p:nvGrpSpPr>
          <p:grpSpPr>
            <a:xfrm>
              <a:off x="111240" y="2760120"/>
              <a:ext cx="2174400" cy="986760"/>
              <a:chOff x="111240" y="2760120"/>
              <a:chExt cx="2174400" cy="986760"/>
            </a:xfrm>
          </p:grpSpPr>
          <p:sp>
            <p:nvSpPr>
              <p:cNvPr id="114" name="TextBox 34"/>
              <p:cNvSpPr/>
              <p:nvPr/>
            </p:nvSpPr>
            <p:spPr>
              <a:xfrm>
                <a:off x="111240" y="2964960"/>
                <a:ext cx="1164600" cy="611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Five</a:t>
                </a:r>
                <a:endParaRPr b="0" lang="en-US" sz="2000" spc="-1" strike="noStrike">
                  <a:solidFill>
                    <a:srgbClr val="000000"/>
                  </a:solidFill>
                  <a:latin typeface="Arial"/>
                </a:endParaRPr>
              </a:p>
            </p:txBody>
          </p:sp>
          <p:grpSp>
            <p:nvGrpSpPr>
              <p:cNvPr id="115" name="Group 12"/>
              <p:cNvGrpSpPr/>
              <p:nvPr/>
            </p:nvGrpSpPr>
            <p:grpSpPr>
              <a:xfrm>
                <a:off x="1298880" y="2760120"/>
                <a:ext cx="986760" cy="986760"/>
                <a:chOff x="1298880" y="2760120"/>
                <a:chExt cx="986760" cy="986760"/>
              </a:xfrm>
            </p:grpSpPr>
            <p:grpSp>
              <p:nvGrpSpPr>
                <p:cNvPr id="116" name="Oval 30"/>
                <p:cNvGrpSpPr/>
                <p:nvPr/>
              </p:nvGrpSpPr>
              <p:grpSpPr>
                <a:xfrm>
                  <a:off x="1298880" y="2760120"/>
                  <a:ext cx="986760" cy="986760"/>
                  <a:chOff x="1298880" y="2760120"/>
                  <a:chExt cx="986760" cy="986760"/>
                </a:xfrm>
              </p:grpSpPr>
              <p:pic>
                <p:nvPicPr>
                  <p:cNvPr id="117" name="Oval 30" descr=""/>
                  <p:cNvPicPr/>
                  <p:nvPr/>
                </p:nvPicPr>
                <p:blipFill>
                  <a:blip r:embed="rId1"/>
                  <a:stretch/>
                </p:blipFill>
                <p:spPr>
                  <a:xfrm>
                    <a:off x="1298880" y="2760120"/>
                    <a:ext cx="986760" cy="986760"/>
                  </a:xfrm>
                  <a:prstGeom prst="rect">
                    <a:avLst/>
                  </a:prstGeom>
                  <a:ln w="0">
                    <a:noFill/>
                  </a:ln>
                </p:spPr>
              </p:pic>
              <p:sp>
                <p:nvSpPr>
                  <p:cNvPr id="118" name=""/>
                  <p:cNvSpPr/>
                  <p:nvPr/>
                </p:nvSpPr>
                <p:spPr>
                  <a:xfrm>
                    <a:off x="1450800" y="2908440"/>
                    <a:ext cx="676800" cy="6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Oval 32"/>
                <p:cNvSpPr/>
                <p:nvPr/>
              </p:nvSpPr>
              <p:spPr>
                <a:xfrm>
                  <a:off x="1415160" y="2873520"/>
                  <a:ext cx="754200" cy="73908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3000"/>
                    </a:srgbClr>
                  </a:outerShdw>
                </a:effectLst>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hoto_laptop2sm.png" descr="/Users/mike/Desktop/Cutout/Photo_laptop2sm.png"/>
                <p:cNvPicPr/>
                <p:nvPr/>
              </p:nvPicPr>
              <p:blipFill>
                <a:blip r:embed="rId2"/>
                <a:stretch/>
              </p:blipFill>
              <p:spPr>
                <a:xfrm>
                  <a:off x="1363320" y="2854080"/>
                  <a:ext cx="893160" cy="740160"/>
                </a:xfrm>
                <a:prstGeom prst="rect">
                  <a:avLst/>
                </a:prstGeom>
                <a:ln w="0">
                  <a:noFill/>
                </a:ln>
              </p:spPr>
            </p:pic>
          </p:grpSp>
        </p:grpSp>
        <p:grpSp>
          <p:nvGrpSpPr>
            <p:cNvPr id="121" name="Group 16"/>
            <p:cNvGrpSpPr/>
            <p:nvPr/>
          </p:nvGrpSpPr>
          <p:grpSpPr>
            <a:xfrm>
              <a:off x="6858360" y="2760120"/>
              <a:ext cx="2136240" cy="986760"/>
              <a:chOff x="6858360" y="2760120"/>
              <a:chExt cx="2136240" cy="986760"/>
            </a:xfrm>
          </p:grpSpPr>
          <p:sp>
            <p:nvSpPr>
              <p:cNvPr id="122" name="TextBox 80"/>
              <p:cNvSpPr/>
              <p:nvPr/>
            </p:nvSpPr>
            <p:spPr>
              <a:xfrm>
                <a:off x="7830000" y="2932560"/>
                <a:ext cx="11646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Two</a:t>
                </a:r>
                <a:endParaRPr b="0" lang="en-US" sz="2000" spc="-1" strike="noStrike">
                  <a:solidFill>
                    <a:srgbClr val="000000"/>
                  </a:solidFill>
                  <a:latin typeface="Arial"/>
                </a:endParaRPr>
              </a:p>
            </p:txBody>
          </p:sp>
          <p:grpSp>
            <p:nvGrpSpPr>
              <p:cNvPr id="123" name="Group 18"/>
              <p:cNvGrpSpPr/>
              <p:nvPr/>
            </p:nvGrpSpPr>
            <p:grpSpPr>
              <a:xfrm>
                <a:off x="6858360" y="2760120"/>
                <a:ext cx="986760" cy="986760"/>
                <a:chOff x="6858360" y="2760120"/>
                <a:chExt cx="986760" cy="986760"/>
              </a:xfrm>
            </p:grpSpPr>
            <p:grpSp>
              <p:nvGrpSpPr>
                <p:cNvPr id="124" name="Oval 56"/>
                <p:cNvGrpSpPr/>
                <p:nvPr/>
              </p:nvGrpSpPr>
              <p:grpSpPr>
                <a:xfrm>
                  <a:off x="6858360" y="2760120"/>
                  <a:ext cx="986760" cy="986760"/>
                  <a:chOff x="6858360" y="2760120"/>
                  <a:chExt cx="986760" cy="986760"/>
                </a:xfrm>
              </p:grpSpPr>
              <p:pic>
                <p:nvPicPr>
                  <p:cNvPr id="125" name="Oval 56" descr=""/>
                  <p:cNvPicPr/>
                  <p:nvPr/>
                </p:nvPicPr>
                <p:blipFill>
                  <a:blip r:embed="rId3"/>
                  <a:stretch/>
                </p:blipFill>
                <p:spPr>
                  <a:xfrm>
                    <a:off x="6858360" y="2760120"/>
                    <a:ext cx="986760" cy="986760"/>
                  </a:xfrm>
                  <a:prstGeom prst="rect">
                    <a:avLst/>
                  </a:prstGeom>
                  <a:ln w="0">
                    <a:noFill/>
                  </a:ln>
                </p:spPr>
              </p:pic>
              <p:sp>
                <p:nvSpPr>
                  <p:cNvPr id="126" name=""/>
                  <p:cNvSpPr/>
                  <p:nvPr/>
                </p:nvSpPr>
                <p:spPr>
                  <a:xfrm>
                    <a:off x="7010280" y="2908440"/>
                    <a:ext cx="676800" cy="6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Oval 54"/>
                <p:cNvSpPr/>
                <p:nvPr/>
              </p:nvSpPr>
              <p:spPr>
                <a:xfrm>
                  <a:off x="6974640" y="2873520"/>
                  <a:ext cx="754200" cy="73908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3000"/>
                    </a:srgbClr>
                  </a:outerShdw>
                </a:effectLst>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hoto_clipboard1sm.png" descr="/BDG/BizGraphics On Demand/BGOD Photos/PNGs/Photo_clipboard1sm.png"/>
                <p:cNvPicPr/>
                <p:nvPr/>
              </p:nvPicPr>
              <p:blipFill>
                <a:blip r:embed="rId4"/>
                <a:stretch/>
              </p:blipFill>
              <p:spPr>
                <a:xfrm>
                  <a:off x="6880680" y="2917800"/>
                  <a:ext cx="942120" cy="632880"/>
                </a:xfrm>
                <a:prstGeom prst="rect">
                  <a:avLst/>
                </a:prstGeom>
                <a:ln w="0">
                  <a:noFill/>
                </a:ln>
              </p:spPr>
            </p:pic>
          </p:grpSp>
        </p:grpSp>
        <p:grpSp>
          <p:nvGrpSpPr>
            <p:cNvPr id="129" name="Group 22"/>
            <p:cNvGrpSpPr/>
            <p:nvPr/>
          </p:nvGrpSpPr>
          <p:grpSpPr>
            <a:xfrm>
              <a:off x="6066000" y="4723560"/>
              <a:ext cx="2147040" cy="986760"/>
              <a:chOff x="6066000" y="4723560"/>
              <a:chExt cx="2147040" cy="986760"/>
            </a:xfrm>
          </p:grpSpPr>
          <p:sp>
            <p:nvSpPr>
              <p:cNvPr id="130" name="TextBox 46"/>
              <p:cNvSpPr/>
              <p:nvPr/>
            </p:nvSpPr>
            <p:spPr>
              <a:xfrm>
                <a:off x="7048440" y="4917600"/>
                <a:ext cx="11646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Three</a:t>
                </a:r>
                <a:endParaRPr b="0" lang="en-US" sz="2000" spc="-1" strike="noStrike">
                  <a:solidFill>
                    <a:srgbClr val="000000"/>
                  </a:solidFill>
                  <a:latin typeface="Arial"/>
                </a:endParaRPr>
              </a:p>
            </p:txBody>
          </p:sp>
          <p:grpSp>
            <p:nvGrpSpPr>
              <p:cNvPr id="131" name="Group 24"/>
              <p:cNvGrpSpPr/>
              <p:nvPr/>
            </p:nvGrpSpPr>
            <p:grpSpPr>
              <a:xfrm>
                <a:off x="6066000" y="4723560"/>
                <a:ext cx="986760" cy="986760"/>
                <a:chOff x="6066000" y="4723560"/>
                <a:chExt cx="986760" cy="986760"/>
              </a:xfrm>
            </p:grpSpPr>
            <p:grpSp>
              <p:nvGrpSpPr>
                <p:cNvPr id="132" name="Oval 78"/>
                <p:cNvGrpSpPr/>
                <p:nvPr/>
              </p:nvGrpSpPr>
              <p:grpSpPr>
                <a:xfrm>
                  <a:off x="6066000" y="4723560"/>
                  <a:ext cx="986760" cy="986760"/>
                  <a:chOff x="6066000" y="4723560"/>
                  <a:chExt cx="986760" cy="986760"/>
                </a:xfrm>
              </p:grpSpPr>
              <p:pic>
                <p:nvPicPr>
                  <p:cNvPr id="133" name="Oval 78" descr=""/>
                  <p:cNvPicPr/>
                  <p:nvPr/>
                </p:nvPicPr>
                <p:blipFill>
                  <a:blip r:embed="rId5"/>
                  <a:stretch/>
                </p:blipFill>
                <p:spPr>
                  <a:xfrm>
                    <a:off x="6066000" y="4723560"/>
                    <a:ext cx="986760" cy="986760"/>
                  </a:xfrm>
                  <a:prstGeom prst="rect">
                    <a:avLst/>
                  </a:prstGeom>
                  <a:ln w="0">
                    <a:noFill/>
                  </a:ln>
                </p:spPr>
              </p:pic>
              <p:sp>
                <p:nvSpPr>
                  <p:cNvPr id="134" name=""/>
                  <p:cNvSpPr/>
                  <p:nvPr/>
                </p:nvSpPr>
                <p:spPr>
                  <a:xfrm>
                    <a:off x="6218280" y="4871160"/>
                    <a:ext cx="676800" cy="66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Oval 76"/>
                <p:cNvSpPr/>
                <p:nvPr/>
              </p:nvSpPr>
              <p:spPr>
                <a:xfrm>
                  <a:off x="6182640" y="4836240"/>
                  <a:ext cx="754200" cy="74088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3000"/>
                    </a:srgbClr>
                  </a:outerShdw>
                </a:effectLst>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hoto_computer1Asm.png" descr="/Users/mike/Desktop/Cutout/Photo_computer1Asm.png"/>
                <p:cNvPicPr/>
                <p:nvPr/>
              </p:nvPicPr>
              <p:blipFill>
                <a:blip r:embed="rId6"/>
                <a:stretch/>
              </p:blipFill>
              <p:spPr>
                <a:xfrm>
                  <a:off x="6203880" y="4858920"/>
                  <a:ext cx="780120" cy="709200"/>
                </a:xfrm>
                <a:prstGeom prst="rect">
                  <a:avLst/>
                </a:prstGeom>
                <a:ln w="0">
                  <a:noFill/>
                </a:ln>
              </p:spPr>
            </p:pic>
          </p:grpSp>
        </p:grpSp>
        <p:grpSp>
          <p:nvGrpSpPr>
            <p:cNvPr id="137" name="Group 28"/>
            <p:cNvGrpSpPr/>
            <p:nvPr/>
          </p:nvGrpSpPr>
          <p:grpSpPr>
            <a:xfrm>
              <a:off x="6065280" y="838080"/>
              <a:ext cx="2169360" cy="986760"/>
              <a:chOff x="6065280" y="838080"/>
              <a:chExt cx="2169360" cy="986760"/>
            </a:xfrm>
          </p:grpSpPr>
          <p:grpSp>
            <p:nvGrpSpPr>
              <p:cNvPr id="138" name="Group 29"/>
              <p:cNvGrpSpPr/>
              <p:nvPr/>
            </p:nvGrpSpPr>
            <p:grpSpPr>
              <a:xfrm>
                <a:off x="6065280" y="838080"/>
                <a:ext cx="987480" cy="986760"/>
                <a:chOff x="6065280" y="838080"/>
                <a:chExt cx="987480" cy="986760"/>
              </a:xfrm>
            </p:grpSpPr>
            <p:grpSp>
              <p:nvGrpSpPr>
                <p:cNvPr id="139" name="Group 30"/>
                <p:cNvGrpSpPr/>
                <p:nvPr/>
              </p:nvGrpSpPr>
              <p:grpSpPr>
                <a:xfrm>
                  <a:off x="6066000" y="838080"/>
                  <a:ext cx="986760" cy="986760"/>
                  <a:chOff x="6066000" y="838080"/>
                  <a:chExt cx="986760" cy="986760"/>
                </a:xfrm>
              </p:grpSpPr>
              <p:grpSp>
                <p:nvGrpSpPr>
                  <p:cNvPr id="140" name="Oval 66"/>
                  <p:cNvGrpSpPr/>
                  <p:nvPr/>
                </p:nvGrpSpPr>
                <p:grpSpPr>
                  <a:xfrm>
                    <a:off x="6066000" y="838080"/>
                    <a:ext cx="986760" cy="986760"/>
                    <a:chOff x="6066000" y="838080"/>
                    <a:chExt cx="986760" cy="986760"/>
                  </a:xfrm>
                </p:grpSpPr>
                <p:pic>
                  <p:nvPicPr>
                    <p:cNvPr id="141" name="Oval 66" descr=""/>
                    <p:cNvPicPr/>
                    <p:nvPr/>
                  </p:nvPicPr>
                  <p:blipFill>
                    <a:blip r:embed="rId7"/>
                    <a:stretch/>
                  </p:blipFill>
                  <p:spPr>
                    <a:xfrm>
                      <a:off x="6066000" y="838080"/>
                      <a:ext cx="986760" cy="986760"/>
                    </a:xfrm>
                    <a:prstGeom prst="rect">
                      <a:avLst/>
                    </a:prstGeom>
                    <a:ln w="0">
                      <a:noFill/>
                    </a:ln>
                  </p:spPr>
                </p:pic>
                <p:sp>
                  <p:nvSpPr>
                    <p:cNvPr id="142" name=""/>
                    <p:cNvSpPr/>
                    <p:nvPr/>
                  </p:nvSpPr>
                  <p:spPr>
                    <a:xfrm>
                      <a:off x="6218280" y="985320"/>
                      <a:ext cx="676800" cy="66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Oval 64"/>
                  <p:cNvSpPr/>
                  <p:nvPr/>
                </p:nvSpPr>
                <p:spPr>
                  <a:xfrm>
                    <a:off x="6182640" y="950040"/>
                    <a:ext cx="754200" cy="74520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3000"/>
                      </a:srgbClr>
                    </a:outerShdw>
                  </a:effectLst>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4" name="Photo_folder2sm.png" descr="/BDG/BizGraphics On Demand/BGOD Photos/PNGs/Photo_folder2sm.png"/>
                <p:cNvPicPr/>
                <p:nvPr/>
              </p:nvPicPr>
              <p:blipFill>
                <a:blip r:embed="rId8"/>
                <a:stretch/>
              </p:blipFill>
              <p:spPr>
                <a:xfrm rot="20739600">
                  <a:off x="6122880" y="1038960"/>
                  <a:ext cx="858240" cy="573120"/>
                </a:xfrm>
                <a:prstGeom prst="rect">
                  <a:avLst/>
                </a:prstGeom>
                <a:ln w="0">
                  <a:noFill/>
                </a:ln>
              </p:spPr>
            </p:pic>
          </p:grpSp>
          <p:sp>
            <p:nvSpPr>
              <p:cNvPr id="145" name="TextBox 88"/>
              <p:cNvSpPr/>
              <p:nvPr/>
            </p:nvSpPr>
            <p:spPr>
              <a:xfrm>
                <a:off x="7070040" y="1032120"/>
                <a:ext cx="116460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One</a:t>
                </a:r>
                <a:endParaRPr b="0" lang="en-US" sz="2000" spc="-1" strike="noStrike">
                  <a:solidFill>
                    <a:srgbClr val="000000"/>
                  </a:solidFill>
                  <a:latin typeface="Arial"/>
                </a:endParaRPr>
              </a:p>
            </p:txBody>
          </p:sp>
        </p:grpSp>
        <p:grpSp>
          <p:nvGrpSpPr>
            <p:cNvPr id="146" name="Group 35"/>
            <p:cNvGrpSpPr/>
            <p:nvPr/>
          </p:nvGrpSpPr>
          <p:grpSpPr>
            <a:xfrm>
              <a:off x="888480" y="838080"/>
              <a:ext cx="2227320" cy="986760"/>
              <a:chOff x="888480" y="838080"/>
              <a:chExt cx="2227320" cy="986760"/>
            </a:xfrm>
          </p:grpSpPr>
          <p:sp>
            <p:nvSpPr>
              <p:cNvPr id="147" name="TextBox 96"/>
              <p:cNvSpPr/>
              <p:nvPr/>
            </p:nvSpPr>
            <p:spPr>
              <a:xfrm>
                <a:off x="888480" y="1032120"/>
                <a:ext cx="1164600" cy="611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Six</a:t>
                </a:r>
                <a:endParaRPr b="0" lang="en-US" sz="2000" spc="-1" strike="noStrike">
                  <a:solidFill>
                    <a:srgbClr val="000000"/>
                  </a:solidFill>
                  <a:latin typeface="Arial"/>
                </a:endParaRPr>
              </a:p>
            </p:txBody>
          </p:sp>
          <p:grpSp>
            <p:nvGrpSpPr>
              <p:cNvPr id="148" name="Group 37"/>
              <p:cNvGrpSpPr/>
              <p:nvPr/>
            </p:nvGrpSpPr>
            <p:grpSpPr>
              <a:xfrm>
                <a:off x="2076120" y="838080"/>
                <a:ext cx="1039680" cy="986760"/>
                <a:chOff x="2076120" y="838080"/>
                <a:chExt cx="1039680" cy="986760"/>
              </a:xfrm>
            </p:grpSpPr>
            <p:grpSp>
              <p:nvGrpSpPr>
                <p:cNvPr id="149" name="Group 38"/>
                <p:cNvGrpSpPr/>
                <p:nvPr/>
              </p:nvGrpSpPr>
              <p:grpSpPr>
                <a:xfrm>
                  <a:off x="2076120" y="838080"/>
                  <a:ext cx="987120" cy="986760"/>
                  <a:chOff x="2076120" y="838080"/>
                  <a:chExt cx="987120" cy="986760"/>
                </a:xfrm>
              </p:grpSpPr>
              <p:grpSp>
                <p:nvGrpSpPr>
                  <p:cNvPr id="150" name="Oval 94"/>
                  <p:cNvGrpSpPr/>
                  <p:nvPr/>
                </p:nvGrpSpPr>
                <p:grpSpPr>
                  <a:xfrm>
                    <a:off x="2076120" y="838080"/>
                    <a:ext cx="987120" cy="986760"/>
                    <a:chOff x="2076120" y="838080"/>
                    <a:chExt cx="987120" cy="986760"/>
                  </a:xfrm>
                </p:grpSpPr>
                <p:pic>
                  <p:nvPicPr>
                    <p:cNvPr id="151" name="Oval 94" descr=""/>
                    <p:cNvPicPr/>
                    <p:nvPr/>
                  </p:nvPicPr>
                  <p:blipFill>
                    <a:blip r:embed="rId9"/>
                    <a:stretch/>
                  </p:blipFill>
                  <p:spPr>
                    <a:xfrm>
                      <a:off x="2076120" y="838080"/>
                      <a:ext cx="987120" cy="986760"/>
                    </a:xfrm>
                    <a:prstGeom prst="rect">
                      <a:avLst/>
                    </a:prstGeom>
                    <a:ln w="0">
                      <a:noFill/>
                    </a:ln>
                  </p:spPr>
                </p:pic>
                <p:sp>
                  <p:nvSpPr>
                    <p:cNvPr id="152" name=""/>
                    <p:cNvSpPr/>
                    <p:nvPr/>
                  </p:nvSpPr>
                  <p:spPr>
                    <a:xfrm>
                      <a:off x="2225880" y="985320"/>
                      <a:ext cx="677160" cy="66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93"/>
                  <p:cNvSpPr/>
                  <p:nvPr/>
                </p:nvSpPr>
                <p:spPr>
                  <a:xfrm>
                    <a:off x="2190240" y="950040"/>
                    <a:ext cx="754200" cy="74520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3000"/>
                      </a:srgbClr>
                    </a:outerShdw>
                  </a:effectLst>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Photo_phone desk 2sm.png" descr="/Users/mike/Desktop/Cutout/Photo_phone desk 2sm.png"/>
                <p:cNvPicPr/>
                <p:nvPr/>
              </p:nvPicPr>
              <p:blipFill>
                <a:blip r:embed="rId10">
                  <a:lum contrast="4000"/>
                </a:blip>
                <a:stretch/>
              </p:blipFill>
              <p:spPr>
                <a:xfrm>
                  <a:off x="2095200" y="1033920"/>
                  <a:ext cx="1020600" cy="680040"/>
                </a:xfrm>
                <a:prstGeom prst="rect">
                  <a:avLst/>
                </a:prstGeom>
                <a:ln w="0">
                  <a:noFill/>
                </a:ln>
              </p:spPr>
            </p:pic>
          </p:grpSp>
        </p:grpSp>
        <p:grpSp>
          <p:nvGrpSpPr>
            <p:cNvPr id="155" name="Group 42"/>
            <p:cNvGrpSpPr/>
            <p:nvPr/>
          </p:nvGrpSpPr>
          <p:grpSpPr>
            <a:xfrm>
              <a:off x="926640" y="4723560"/>
              <a:ext cx="2188800" cy="986760"/>
              <a:chOff x="926640" y="4723560"/>
              <a:chExt cx="2188800" cy="986760"/>
            </a:xfrm>
          </p:grpSpPr>
          <p:grpSp>
            <p:nvGrpSpPr>
              <p:cNvPr id="156" name="Group 43"/>
              <p:cNvGrpSpPr/>
              <p:nvPr/>
            </p:nvGrpSpPr>
            <p:grpSpPr>
              <a:xfrm>
                <a:off x="2128680" y="4723560"/>
                <a:ext cx="986760" cy="986760"/>
                <a:chOff x="2128680" y="4723560"/>
                <a:chExt cx="986760" cy="986760"/>
              </a:xfrm>
            </p:grpSpPr>
            <p:grpSp>
              <p:nvGrpSpPr>
                <p:cNvPr id="157" name="Oval 22"/>
                <p:cNvGrpSpPr/>
                <p:nvPr/>
              </p:nvGrpSpPr>
              <p:grpSpPr>
                <a:xfrm>
                  <a:off x="2128680" y="4723560"/>
                  <a:ext cx="986760" cy="986760"/>
                  <a:chOff x="2128680" y="4723560"/>
                  <a:chExt cx="986760" cy="986760"/>
                </a:xfrm>
              </p:grpSpPr>
              <p:pic>
                <p:nvPicPr>
                  <p:cNvPr id="158" name="Oval 22" descr=""/>
                  <p:cNvPicPr/>
                  <p:nvPr/>
                </p:nvPicPr>
                <p:blipFill>
                  <a:blip r:embed="rId11"/>
                  <a:stretch/>
                </p:blipFill>
                <p:spPr>
                  <a:xfrm>
                    <a:off x="2128680" y="4723560"/>
                    <a:ext cx="986760" cy="986760"/>
                  </a:xfrm>
                  <a:prstGeom prst="rect">
                    <a:avLst/>
                  </a:prstGeom>
                  <a:ln w="0">
                    <a:noFill/>
                  </a:ln>
                </p:spPr>
              </p:pic>
              <p:sp>
                <p:nvSpPr>
                  <p:cNvPr id="159" name=""/>
                  <p:cNvSpPr/>
                  <p:nvPr/>
                </p:nvSpPr>
                <p:spPr>
                  <a:xfrm>
                    <a:off x="2281680" y="4871160"/>
                    <a:ext cx="676800" cy="66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Oval 8"/>
                <p:cNvSpPr/>
                <p:nvPr/>
              </p:nvSpPr>
              <p:spPr>
                <a:xfrm>
                  <a:off x="2246400" y="4836240"/>
                  <a:ext cx="754200" cy="74088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3000"/>
                    </a:srgbClr>
                  </a:outerShdw>
                </a:effectLst>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hoto_cellphoneSM.png" descr="/Users/mike/Desktop/Cutout/Photo_cellphoneSM.png"/>
                <p:cNvPicPr/>
                <p:nvPr/>
              </p:nvPicPr>
              <p:blipFill>
                <a:blip r:embed="rId12"/>
                <a:stretch/>
              </p:blipFill>
              <p:spPr>
                <a:xfrm>
                  <a:off x="2172960" y="4735080"/>
                  <a:ext cx="904320" cy="888120"/>
                </a:xfrm>
                <a:prstGeom prst="rect">
                  <a:avLst/>
                </a:prstGeom>
                <a:ln w="0">
                  <a:noFill/>
                </a:ln>
              </p:spPr>
            </p:pic>
          </p:grpSp>
          <p:sp>
            <p:nvSpPr>
              <p:cNvPr id="162" name="TextBox 98"/>
              <p:cNvSpPr/>
              <p:nvPr/>
            </p:nvSpPr>
            <p:spPr>
              <a:xfrm>
                <a:off x="926640" y="4911480"/>
                <a:ext cx="1164600" cy="6116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5353"/>
                    </a:solidFill>
                    <a:latin typeface="Arial Narrow"/>
                  </a:rPr>
                  <a:t>Element Four</a:t>
                </a:r>
                <a:endParaRPr b="0" lang="en-US" sz="2000" spc="-1" strike="noStrike">
                  <a:solidFill>
                    <a:srgbClr val="000000"/>
                  </a:solidFill>
                  <a:latin typeface="Arial"/>
                </a:endParaRPr>
              </a:p>
            </p:txBody>
          </p:sp>
        </p:grpSp>
        <p:grpSp>
          <p:nvGrpSpPr>
            <p:cNvPr id="163" name="Group 48"/>
            <p:cNvGrpSpPr/>
            <p:nvPr/>
          </p:nvGrpSpPr>
          <p:grpSpPr>
            <a:xfrm>
              <a:off x="3203280" y="1908000"/>
              <a:ext cx="2740320" cy="2740320"/>
              <a:chOff x="3203280" y="1908000"/>
              <a:chExt cx="2740320" cy="2740320"/>
            </a:xfrm>
          </p:grpSpPr>
          <p:grpSp>
            <p:nvGrpSpPr>
              <p:cNvPr id="164" name="Group 49"/>
              <p:cNvGrpSpPr/>
              <p:nvPr/>
            </p:nvGrpSpPr>
            <p:grpSpPr>
              <a:xfrm>
                <a:off x="3203280" y="1908000"/>
                <a:ext cx="2740320" cy="2740320"/>
                <a:chOff x="3203280" y="1908000"/>
                <a:chExt cx="2740320" cy="2740320"/>
              </a:xfrm>
            </p:grpSpPr>
            <p:sp>
              <p:nvSpPr>
                <p:cNvPr id="165" name="Oval 115"/>
                <p:cNvSpPr/>
                <p:nvPr/>
              </p:nvSpPr>
              <p:spPr>
                <a:xfrm>
                  <a:off x="3203280" y="1908000"/>
                  <a:ext cx="2740320" cy="2740320"/>
                </a:xfrm>
                <a:prstGeom prst="ellipse">
                  <a:avLst/>
                </a:prstGeom>
                <a:gradFill rotWithShape="0">
                  <a:gsLst>
                    <a:gs pos="0">
                      <a:srgbClr val="f5bc1b">
                        <a:alpha val="40000"/>
                      </a:srgbClr>
                    </a:gs>
                    <a:gs pos="100000">
                      <a:srgbClr val="ffc06d">
                        <a:alpha val="40000"/>
                      </a:srgbClr>
                    </a:gs>
                  </a:gsLst>
                  <a:lin ang="5400000"/>
                </a:gradFill>
                <a:ln cap="rnd" w="38160">
                  <a:solidFill>
                    <a:srgbClr val="9e4f0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Group 51"/>
                <p:cNvGrpSpPr/>
                <p:nvPr/>
              </p:nvGrpSpPr>
              <p:grpSpPr>
                <a:xfrm>
                  <a:off x="3267000" y="1938240"/>
                  <a:ext cx="2603520" cy="2597400"/>
                  <a:chOff x="3267000" y="1938240"/>
                  <a:chExt cx="2603520" cy="2597400"/>
                </a:xfrm>
              </p:grpSpPr>
              <p:pic>
                <p:nvPicPr>
                  <p:cNvPr id="167" name="Oval 116" descr=""/>
                  <p:cNvPicPr/>
                  <p:nvPr/>
                </p:nvPicPr>
                <p:blipFill>
                  <a:blip r:embed="rId13"/>
                  <a:stretch/>
                </p:blipFill>
                <p:spPr>
                  <a:xfrm>
                    <a:off x="3267000" y="1938240"/>
                    <a:ext cx="2603520" cy="2597400"/>
                  </a:xfrm>
                  <a:prstGeom prst="rect">
                    <a:avLst/>
                  </a:prstGeom>
                  <a:ln w="0">
                    <a:noFill/>
                  </a:ln>
                </p:spPr>
              </p:pic>
              <p:sp>
                <p:nvSpPr>
                  <p:cNvPr id="168" name="Text Box 53"/>
                  <p:cNvSpPr/>
                  <p:nvPr/>
                </p:nvSpPr>
                <p:spPr>
                  <a:xfrm rot="5400000">
                    <a:off x="3649680" y="2316240"/>
                    <a:ext cx="1837080" cy="1837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 name="Oval 112"/>
              <p:cNvSpPr/>
              <p:nvPr/>
            </p:nvSpPr>
            <p:spPr>
              <a:xfrm>
                <a:off x="3349440" y="2050920"/>
                <a:ext cx="2449440" cy="2449800"/>
              </a:xfrm>
              <a:prstGeom prst="ellipse">
                <a:avLst/>
              </a:prstGeom>
              <a:gradFill rotWithShape="0">
                <a:gsLst>
                  <a:gs pos="0">
                    <a:srgbClr val="cb7c23"/>
                  </a:gs>
                  <a:gs pos="100000">
                    <a:srgbClr val="613405"/>
                  </a:gs>
                </a:gsLst>
                <a:lin ang="5400000"/>
              </a:gradFill>
              <a:ln w="12600">
                <a:solidFill>
                  <a:srgbClr val="703c06"/>
                </a:solidFill>
                <a:miter/>
              </a:ln>
              <a:effectLst>
                <a:outerShdw dist="12600" dir="5400000" blurRad="0" rotWithShape="0">
                  <a:srgbClr val="000000">
                    <a:alpha val="13000"/>
                  </a:srgbClr>
                </a:outerShdw>
              </a:effectLst>
            </p:spPr>
            <p:style>
              <a:lnRef idx="0"/>
              <a:fillRef idx="0"/>
              <a:effectRef idx="0"/>
              <a:fontRef idx="minor"/>
            </p:style>
            <p:txBody>
              <a:bodyPr lIns="18360" rIns="18360" tIns="18360" bIns="18360" anchor="ctr" anchorCtr="1">
                <a:normAutofit/>
              </a:bodyPr>
              <a:p>
                <a:pPr algn="ctr">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113"/>
              <p:cNvSpPr/>
              <p:nvPr/>
            </p:nvSpPr>
            <p:spPr>
              <a:xfrm>
                <a:off x="3624120" y="3208320"/>
                <a:ext cx="1917720" cy="1051200"/>
              </a:xfrm>
              <a:prstGeom prst="rect">
                <a:avLst/>
              </a:prstGeom>
              <a:noFill/>
              <a:ln w="0">
                <a:noFill/>
              </a:ln>
              <a:effectLst>
                <a:outerShdw dist="25455" dir="27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lement Name</a:t>
                </a:r>
                <a:br>
                  <a:rPr sz="2000"/>
                </a:br>
                <a:r>
                  <a:rPr b="0" lang="en-US" sz="1400" spc="-1" strike="noStrike">
                    <a:solidFill>
                      <a:srgbClr val="ffffff"/>
                    </a:solidFill>
                    <a:latin typeface="Arial Narrow"/>
                  </a:rPr>
                  <a:t>Place additional information in this location. More content placed here, if needed.</a:t>
                </a:r>
                <a:endParaRPr b="0" lang="en-US" sz="1400" spc="-1" strike="noStrike">
                  <a:solidFill>
                    <a:srgbClr val="000000"/>
                  </a:solidFill>
                  <a:latin typeface="Arial"/>
                </a:endParaRPr>
              </a:p>
            </p:txBody>
          </p:sp>
          <p:pic>
            <p:nvPicPr>
              <p:cNvPr id="171" name="Photo_DVD caseSM.png" descr="/BDG/BizGraphics On Demand/BGOD Photos/PNGs/Photo_DVD caseSM.png"/>
              <p:cNvPicPr/>
              <p:nvPr/>
            </p:nvPicPr>
            <p:blipFill>
              <a:blip r:embed="rId14"/>
              <a:stretch/>
            </p:blipFill>
            <p:spPr>
              <a:xfrm>
                <a:off x="3997080" y="2103120"/>
                <a:ext cx="1065240" cy="1135080"/>
              </a:xfrm>
              <a:prstGeom prst="rect">
                <a:avLst/>
              </a:prstGeom>
              <a:ln w="0">
                <a:noFill/>
              </a:ln>
              <a:effectLst>
                <a:outerShdw dist="89095" dir="2700000" blurRad="0" rotWithShape="0">
                  <a:srgbClr val="000000">
                    <a:alpha val="25000"/>
                  </a:srgbClr>
                </a:outerShdw>
              </a:effectLst>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67"/>
          <p:cNvSpPr/>
          <p:nvPr/>
        </p:nvSpPr>
        <p:spPr>
          <a:xfrm>
            <a:off x="0" y="2781360"/>
            <a:ext cx="9144000" cy="1905120"/>
          </a:xfrm>
          <a:prstGeom prst="rect">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0"/>
          <p:cNvSpPr/>
          <p:nvPr/>
        </p:nvSpPr>
        <p:spPr>
          <a:xfrm>
            <a:off x="5740560" y="4724280"/>
            <a:ext cx="3047760" cy="1219320"/>
          </a:xfrm>
          <a:prstGeom prst="rect">
            <a:avLst/>
          </a:prstGeom>
          <a:noFill/>
          <a:ln w="0">
            <a:noFill/>
          </a:ln>
        </p:spPr>
        <p:style>
          <a:lnRef idx="0"/>
          <a:fillRef idx="0"/>
          <a:effectRef idx="0"/>
          <a:fontRef idx="minor"/>
        </p:style>
        <p:txBody>
          <a:bodyPr lIns="45720" rIns="27360" tIns="18360" bIns="18360" anchor="t">
            <a:norm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e7e7e"/>
                </a:solidFill>
                <a:latin typeface="Arial Narrow"/>
              </a:rPr>
              <a:t>Your Content Here</a:t>
            </a:r>
            <a:endParaRPr b="0" lang="en-US" sz="1800" spc="-1" strike="noStrike">
              <a:solidFill>
                <a:srgbClr val="000000"/>
              </a:solidFill>
              <a:latin typeface="Arial"/>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e7e7e"/>
                </a:solidFill>
                <a:latin typeface="Arial Narrow"/>
              </a:rPr>
              <a:t>Place additional content here. Your content can be placed in this area. Place additional content here. </a:t>
            </a:r>
            <a:endParaRPr b="0" lang="en-US" sz="1600" spc="-1" strike="noStrike">
              <a:solidFill>
                <a:srgbClr val="000000"/>
              </a:solidFill>
              <a:latin typeface="Arial"/>
            </a:endParaRPr>
          </a:p>
        </p:txBody>
      </p:sp>
      <p:sp>
        <p:nvSpPr>
          <p:cNvPr id="174" name="TextBox 80"/>
          <p:cNvSpPr/>
          <p:nvPr/>
        </p:nvSpPr>
        <p:spPr>
          <a:xfrm flipH="1">
            <a:off x="0" y="6629400"/>
            <a:ext cx="91440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ea typeface="Arial"/>
              </a:rPr>
              <a:t>Ungroup to move, recolor, or delete levels.</a:t>
            </a:r>
            <a:endParaRPr b="0" lang="en-US" sz="1200" spc="-1" strike="noStrike">
              <a:solidFill>
                <a:srgbClr val="000000"/>
              </a:solidFill>
              <a:latin typeface="Arial"/>
            </a:endParaRPr>
          </a:p>
        </p:txBody>
      </p:sp>
      <p:grpSp>
        <p:nvGrpSpPr>
          <p:cNvPr id="175" name="Group 5"/>
          <p:cNvGrpSpPr/>
          <p:nvPr/>
        </p:nvGrpSpPr>
        <p:grpSpPr>
          <a:xfrm>
            <a:off x="-873000" y="4889520"/>
            <a:ext cx="2805120" cy="762120"/>
            <a:chOff x="-873000" y="4889520"/>
            <a:chExt cx="2805120" cy="762120"/>
          </a:xfrm>
        </p:grpSpPr>
        <p:pic>
          <p:nvPicPr>
            <p:cNvPr id="176" name="Freeform 66" descr=""/>
            <p:cNvPicPr/>
            <p:nvPr/>
          </p:nvPicPr>
          <p:blipFill>
            <a:blip r:embed="rId1"/>
            <a:stretch/>
          </p:blipFill>
          <p:spPr>
            <a:xfrm>
              <a:off x="-873000" y="4889520"/>
              <a:ext cx="2805120" cy="762120"/>
            </a:xfrm>
            <a:prstGeom prst="rect">
              <a:avLst/>
            </a:prstGeom>
            <a:ln w="0">
              <a:noFill/>
            </a:ln>
          </p:spPr>
        </p:pic>
        <p:sp>
          <p:nvSpPr>
            <p:cNvPr id="177" name="Text Box 7"/>
            <p:cNvSpPr/>
            <p:nvPr/>
          </p:nvSpPr>
          <p:spPr>
            <a:xfrm>
              <a:off x="-871560" y="4889520"/>
              <a:ext cx="280224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8"/>
          <p:cNvGrpSpPr/>
          <p:nvPr/>
        </p:nvGrpSpPr>
        <p:grpSpPr>
          <a:xfrm>
            <a:off x="684360" y="4444920"/>
            <a:ext cx="4876560" cy="1216080"/>
            <a:chOff x="684360" y="4444920"/>
            <a:chExt cx="4876560" cy="1216080"/>
          </a:xfrm>
        </p:grpSpPr>
        <p:grpSp>
          <p:nvGrpSpPr>
            <p:cNvPr id="179" name="Group 9"/>
            <p:cNvGrpSpPr/>
            <p:nvPr/>
          </p:nvGrpSpPr>
          <p:grpSpPr>
            <a:xfrm>
              <a:off x="684360" y="4444920"/>
              <a:ext cx="4876560" cy="1216080"/>
              <a:chOff x="684360" y="4444920"/>
              <a:chExt cx="4876560" cy="1216080"/>
            </a:xfrm>
          </p:grpSpPr>
          <p:sp>
            <p:nvSpPr>
              <p:cNvPr id="180" name="Freeform 5"/>
              <p:cNvSpPr/>
              <p:nvPr/>
            </p:nvSpPr>
            <p:spPr>
              <a:xfrm>
                <a:off x="1935360" y="4878720"/>
                <a:ext cx="3625560" cy="782280"/>
              </a:xfrm>
              <a:custGeom>
                <a:avLst/>
                <a:gdLst>
                  <a:gd name="textAreaLeft" fmla="*/ 0 w 3625560"/>
                  <a:gd name="textAreaRight" fmla="*/ 3625920 w 3625560"/>
                  <a:gd name="textAreaTop" fmla="*/ 0 h 782280"/>
                  <a:gd name="textAreaBottom" fmla="*/ 782640 h 782280"/>
                </a:gdLst>
                <a:ahLst/>
                <a:rect l="textAreaLeft" t="textAreaTop" r="textAreaRight" b="textAreaBottom"/>
                <a:pathLst>
                  <a:path w="10527" h="2271">
                    <a:moveTo>
                      <a:pt x="10527" y="0"/>
                    </a:moveTo>
                    <a:lnTo>
                      <a:pt x="10527" y="1099"/>
                    </a:lnTo>
                    <a:lnTo>
                      <a:pt x="0" y="2271"/>
                    </a:lnTo>
                    <a:lnTo>
                      <a:pt x="0" y="929"/>
                    </a:lnTo>
                    <a:lnTo>
                      <a:pt x="10527" y="0"/>
                    </a:lnTo>
                    <a:close/>
                  </a:path>
                </a:pathLst>
              </a:cu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
              <p:cNvSpPr/>
              <p:nvPr/>
            </p:nvSpPr>
            <p:spPr>
              <a:xfrm>
                <a:off x="687240" y="4589280"/>
                <a:ext cx="1251000" cy="1071720"/>
              </a:xfrm>
              <a:custGeom>
                <a:avLst/>
                <a:gdLst>
                  <a:gd name="textAreaLeft" fmla="*/ 0 w 1251000"/>
                  <a:gd name="textAreaRight" fmla="*/ 1251360 w 1251000"/>
                  <a:gd name="textAreaTop" fmla="*/ 0 h 1071720"/>
                  <a:gd name="textAreaBottom" fmla="*/ 1072080 h 1071720"/>
                </a:gdLst>
                <a:ahLst/>
                <a:rect l="textAreaLeft" t="textAreaTop" r="textAreaRight" b="textAreaBottom"/>
                <a:pathLst>
                  <a:path w="3633" h="3111">
                    <a:moveTo>
                      <a:pt x="3633" y="3111"/>
                    </a:moveTo>
                    <a:lnTo>
                      <a:pt x="0" y="881"/>
                    </a:lnTo>
                    <a:lnTo>
                      <a:pt x="0" y="0"/>
                    </a:lnTo>
                    <a:lnTo>
                      <a:pt x="3633" y="1769"/>
                    </a:lnTo>
                    <a:lnTo>
                      <a:pt x="3633" y="3111"/>
                    </a:lnTo>
                    <a:close/>
                  </a:path>
                </a:pathLst>
              </a:cu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7"/>
              <p:cNvSpPr/>
              <p:nvPr/>
            </p:nvSpPr>
            <p:spPr>
              <a:xfrm>
                <a:off x="684360" y="4444920"/>
                <a:ext cx="4876560" cy="756360"/>
              </a:xfrm>
              <a:custGeom>
                <a:avLst/>
                <a:gdLst>
                  <a:gd name="textAreaLeft" fmla="*/ 0 w 4876560"/>
                  <a:gd name="textAreaRight" fmla="*/ 4876920 w 4876560"/>
                  <a:gd name="textAreaTop" fmla="*/ 0 h 756360"/>
                  <a:gd name="textAreaBottom" fmla="*/ 756720 h 756360"/>
                </a:gdLst>
                <a:ahLst/>
                <a:rect l="textAreaLeft" t="textAreaTop" r="textAreaRight" b="textAreaBottom"/>
                <a:pathLst>
                  <a:path w="14160" h="2195">
                    <a:moveTo>
                      <a:pt x="3633" y="2195"/>
                    </a:moveTo>
                    <a:lnTo>
                      <a:pt x="0" y="426"/>
                    </a:lnTo>
                    <a:lnTo>
                      <a:pt x="7822" y="0"/>
                    </a:lnTo>
                    <a:lnTo>
                      <a:pt x="14160" y="1266"/>
                    </a:lnTo>
                    <a:lnTo>
                      <a:pt x="3633" y="2195"/>
                    </a:lnTo>
                    <a:close/>
                  </a:path>
                </a:pathLst>
              </a:custGeom>
              <a:gradFill rotWithShape="0">
                <a:gsLst>
                  <a:gs pos="0">
                    <a:srgbClr val="303030"/>
                  </a:gs>
                  <a:gs pos="100000">
                    <a:srgbClr val="5d5d5d"/>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183" name="TextBox 45" descr=""/>
            <p:cNvPicPr/>
            <p:nvPr/>
          </p:nvPicPr>
          <p:blipFill>
            <a:blip r:embed="rId2"/>
            <a:stretch/>
          </p:blipFill>
          <p:spPr>
            <a:xfrm>
              <a:off x="2253960" y="4870800"/>
              <a:ext cx="3066120" cy="762120"/>
            </a:xfrm>
            <a:prstGeom prst="rect">
              <a:avLst/>
            </a:prstGeom>
            <a:ln w="0">
              <a:noFill/>
            </a:ln>
          </p:spPr>
        </p:pic>
      </p:grpSp>
      <p:grpSp>
        <p:nvGrpSpPr>
          <p:cNvPr id="184" name="Group 14"/>
          <p:cNvGrpSpPr/>
          <p:nvPr/>
        </p:nvGrpSpPr>
        <p:grpSpPr>
          <a:xfrm>
            <a:off x="684360" y="4157640"/>
            <a:ext cx="4876560" cy="1003320"/>
            <a:chOff x="684360" y="4157640"/>
            <a:chExt cx="4876560" cy="1003320"/>
          </a:xfrm>
        </p:grpSpPr>
        <p:grpSp>
          <p:nvGrpSpPr>
            <p:cNvPr id="185" name="Group 15"/>
            <p:cNvGrpSpPr/>
            <p:nvPr/>
          </p:nvGrpSpPr>
          <p:grpSpPr>
            <a:xfrm>
              <a:off x="684360" y="4157640"/>
              <a:ext cx="4876560" cy="1003320"/>
              <a:chOff x="684360" y="4157640"/>
              <a:chExt cx="4876560" cy="1003320"/>
            </a:xfrm>
          </p:grpSpPr>
          <p:sp>
            <p:nvSpPr>
              <p:cNvPr id="186" name="Freeform 8"/>
              <p:cNvSpPr/>
              <p:nvPr/>
            </p:nvSpPr>
            <p:spPr>
              <a:xfrm>
                <a:off x="1935360" y="4467960"/>
                <a:ext cx="3625560" cy="693000"/>
              </a:xfrm>
              <a:custGeom>
                <a:avLst/>
                <a:gdLst>
                  <a:gd name="textAreaLeft" fmla="*/ 0 w 3625560"/>
                  <a:gd name="textAreaRight" fmla="*/ 3625920 w 3625560"/>
                  <a:gd name="textAreaTop" fmla="*/ 0 h 693000"/>
                  <a:gd name="textAreaBottom" fmla="*/ 693360 h 693000"/>
                </a:gdLst>
                <a:ahLst/>
                <a:rect l="textAreaLeft" t="textAreaTop" r="textAreaRight" b="textAreaBottom"/>
                <a:pathLst>
                  <a:path w="10527" h="2009">
                    <a:moveTo>
                      <a:pt x="10527" y="0"/>
                    </a:moveTo>
                    <a:lnTo>
                      <a:pt x="10527" y="1100"/>
                    </a:lnTo>
                    <a:lnTo>
                      <a:pt x="0" y="2009"/>
                    </a:lnTo>
                    <a:lnTo>
                      <a:pt x="0" y="666"/>
                    </a:lnTo>
                    <a:lnTo>
                      <a:pt x="10527" y="0"/>
                    </a:lnTo>
                    <a:close/>
                  </a:path>
                </a:pathLst>
              </a:cu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9"/>
              <p:cNvSpPr/>
              <p:nvPr/>
            </p:nvSpPr>
            <p:spPr>
              <a:xfrm>
                <a:off x="687240" y="4260960"/>
                <a:ext cx="1251000" cy="900000"/>
              </a:xfrm>
              <a:custGeom>
                <a:avLst/>
                <a:gdLst>
                  <a:gd name="textAreaLeft" fmla="*/ 0 w 1251000"/>
                  <a:gd name="textAreaRight" fmla="*/ 1251360 w 1251000"/>
                  <a:gd name="textAreaTop" fmla="*/ 0 h 900000"/>
                  <a:gd name="textAreaBottom" fmla="*/ 900360 h 900000"/>
                </a:gdLst>
                <a:ahLst/>
                <a:rect l="textAreaLeft" t="textAreaTop" r="textAreaRight" b="textAreaBottom"/>
                <a:pathLst>
                  <a:path w="3633" h="2611">
                    <a:moveTo>
                      <a:pt x="3633" y="2611"/>
                    </a:moveTo>
                    <a:lnTo>
                      <a:pt x="0" y="881"/>
                    </a:lnTo>
                    <a:lnTo>
                      <a:pt x="0" y="0"/>
                    </a:lnTo>
                    <a:lnTo>
                      <a:pt x="3633" y="1268"/>
                    </a:lnTo>
                    <a:lnTo>
                      <a:pt x="3633" y="2611"/>
                    </a:lnTo>
                    <a:close/>
                  </a:path>
                </a:pathLst>
              </a:cu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0"/>
              <p:cNvSpPr/>
              <p:nvPr/>
            </p:nvSpPr>
            <p:spPr>
              <a:xfrm>
                <a:off x="684360" y="4157640"/>
                <a:ext cx="4876560" cy="542160"/>
              </a:xfrm>
              <a:custGeom>
                <a:avLst/>
                <a:gdLst>
                  <a:gd name="textAreaLeft" fmla="*/ 0 w 4876560"/>
                  <a:gd name="textAreaRight" fmla="*/ 4876920 w 4876560"/>
                  <a:gd name="textAreaTop" fmla="*/ 0 h 542160"/>
                  <a:gd name="textAreaBottom" fmla="*/ 542520 h 542160"/>
                </a:gdLst>
                <a:ahLst/>
                <a:rect l="textAreaLeft" t="textAreaTop" r="textAreaRight" b="textAreaBottom"/>
                <a:pathLst>
                  <a:path w="14160" h="1574">
                    <a:moveTo>
                      <a:pt x="3633" y="1574"/>
                    </a:moveTo>
                    <a:lnTo>
                      <a:pt x="0" y="306"/>
                    </a:lnTo>
                    <a:lnTo>
                      <a:pt x="7822" y="0"/>
                    </a:lnTo>
                    <a:lnTo>
                      <a:pt x="14160" y="908"/>
                    </a:lnTo>
                    <a:lnTo>
                      <a:pt x="3633" y="1574"/>
                    </a:lnTo>
                    <a:close/>
                  </a:path>
                </a:pathLst>
              </a:custGeom>
              <a:gradFill rotWithShape="0">
                <a:gsLst>
                  <a:gs pos="0">
                    <a:srgbClr val="303030"/>
                  </a:gs>
                  <a:gs pos="100000">
                    <a:srgbClr val="5d5d5d"/>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189" name="TextBox 44" descr=""/>
            <p:cNvPicPr/>
            <p:nvPr/>
          </p:nvPicPr>
          <p:blipFill>
            <a:blip r:embed="rId3"/>
            <a:stretch/>
          </p:blipFill>
          <p:spPr>
            <a:xfrm>
              <a:off x="2253960" y="4467600"/>
              <a:ext cx="3066120" cy="677520"/>
            </a:xfrm>
            <a:prstGeom prst="rect">
              <a:avLst/>
            </a:prstGeom>
            <a:ln w="0">
              <a:noFill/>
            </a:ln>
          </p:spPr>
        </p:pic>
      </p:grpSp>
      <p:grpSp>
        <p:nvGrpSpPr>
          <p:cNvPr id="190" name="Group 20"/>
          <p:cNvGrpSpPr/>
          <p:nvPr/>
        </p:nvGrpSpPr>
        <p:grpSpPr>
          <a:xfrm>
            <a:off x="684360" y="1197000"/>
            <a:ext cx="4876560" cy="1216080"/>
            <a:chOff x="684360" y="1197000"/>
            <a:chExt cx="4876560" cy="1216080"/>
          </a:xfrm>
        </p:grpSpPr>
        <p:grpSp>
          <p:nvGrpSpPr>
            <p:cNvPr id="191" name="Group 21"/>
            <p:cNvGrpSpPr/>
            <p:nvPr/>
          </p:nvGrpSpPr>
          <p:grpSpPr>
            <a:xfrm>
              <a:off x="684360" y="1197000"/>
              <a:ext cx="4876560" cy="1216080"/>
              <a:chOff x="684360" y="1197000"/>
              <a:chExt cx="4876560" cy="1216080"/>
            </a:xfrm>
          </p:grpSpPr>
          <p:sp>
            <p:nvSpPr>
              <p:cNvPr id="192" name="Freeform 17"/>
              <p:cNvSpPr/>
              <p:nvPr/>
            </p:nvSpPr>
            <p:spPr>
              <a:xfrm>
                <a:off x="1935360" y="1197000"/>
                <a:ext cx="3625560" cy="782280"/>
              </a:xfrm>
              <a:custGeom>
                <a:avLst/>
                <a:gdLst>
                  <a:gd name="textAreaLeft" fmla="*/ 0 w 3625560"/>
                  <a:gd name="textAreaRight" fmla="*/ 3625920 w 3625560"/>
                  <a:gd name="textAreaTop" fmla="*/ 0 h 782280"/>
                  <a:gd name="textAreaBottom" fmla="*/ 782640 h 782280"/>
                </a:gdLst>
                <a:ahLst/>
                <a:rect l="textAreaLeft" t="textAreaTop" r="textAreaRight" b="textAreaBottom"/>
                <a:pathLst>
                  <a:path w="10527" h="2271">
                    <a:moveTo>
                      <a:pt x="10527" y="1172"/>
                    </a:moveTo>
                    <a:lnTo>
                      <a:pt x="10527" y="2271"/>
                    </a:lnTo>
                    <a:lnTo>
                      <a:pt x="0" y="1342"/>
                    </a:lnTo>
                    <a:lnTo>
                      <a:pt x="0" y="0"/>
                    </a:lnTo>
                    <a:lnTo>
                      <a:pt x="10527" y="1172"/>
                    </a:lnTo>
                    <a:close/>
                  </a:path>
                </a:pathLst>
              </a:cu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8"/>
              <p:cNvSpPr/>
              <p:nvPr/>
            </p:nvSpPr>
            <p:spPr>
              <a:xfrm>
                <a:off x="684360" y="1656720"/>
                <a:ext cx="4876560" cy="756360"/>
              </a:xfrm>
              <a:custGeom>
                <a:avLst/>
                <a:gdLst>
                  <a:gd name="textAreaLeft" fmla="*/ 0 w 4876560"/>
                  <a:gd name="textAreaRight" fmla="*/ 4876920 w 4876560"/>
                  <a:gd name="textAreaTop" fmla="*/ 0 h 756360"/>
                  <a:gd name="textAreaBottom" fmla="*/ 756720 h 756360"/>
                </a:gdLst>
                <a:ahLst/>
                <a:rect l="textAreaLeft" t="textAreaTop" r="textAreaRight" b="textAreaBottom"/>
                <a:pathLst>
                  <a:path w="14160" h="2195">
                    <a:moveTo>
                      <a:pt x="14160" y="929"/>
                    </a:moveTo>
                    <a:lnTo>
                      <a:pt x="7822" y="2195"/>
                    </a:lnTo>
                    <a:lnTo>
                      <a:pt x="0" y="1769"/>
                    </a:lnTo>
                    <a:lnTo>
                      <a:pt x="3633" y="0"/>
                    </a:lnTo>
                    <a:lnTo>
                      <a:pt x="14160" y="929"/>
                    </a:lnTo>
                    <a:close/>
                  </a:path>
                </a:pathLst>
              </a:custGeom>
              <a:gradFill rotWithShape="0">
                <a:gsLst>
                  <a:gs pos="0">
                    <a:srgbClr val="303030"/>
                  </a:gs>
                  <a:gs pos="100000">
                    <a:srgbClr val="5d5d5d"/>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194" name="Freeform 19"/>
              <p:cNvSpPr/>
              <p:nvPr/>
            </p:nvSpPr>
            <p:spPr>
              <a:xfrm>
                <a:off x="687240" y="1197000"/>
                <a:ext cx="1251000" cy="1071720"/>
              </a:xfrm>
              <a:custGeom>
                <a:avLst/>
                <a:gdLst>
                  <a:gd name="textAreaLeft" fmla="*/ 0 w 1251000"/>
                  <a:gd name="textAreaRight" fmla="*/ 1251360 w 1251000"/>
                  <a:gd name="textAreaTop" fmla="*/ 0 h 1071720"/>
                  <a:gd name="textAreaBottom" fmla="*/ 1072080 h 1071720"/>
                </a:gdLst>
                <a:ahLst/>
                <a:rect l="textAreaLeft" t="textAreaTop" r="textAreaRight" b="textAreaBottom"/>
                <a:pathLst>
                  <a:path w="3633" h="3111">
                    <a:moveTo>
                      <a:pt x="3633" y="1342"/>
                    </a:moveTo>
                    <a:lnTo>
                      <a:pt x="0" y="3111"/>
                    </a:lnTo>
                    <a:lnTo>
                      <a:pt x="0" y="2230"/>
                    </a:lnTo>
                    <a:lnTo>
                      <a:pt x="3633" y="0"/>
                    </a:lnTo>
                    <a:lnTo>
                      <a:pt x="3633" y="1342"/>
                    </a:lnTo>
                    <a:close/>
                  </a:path>
                </a:pathLst>
              </a:cu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5" name="TextBox 51" descr=""/>
            <p:cNvPicPr/>
            <p:nvPr/>
          </p:nvPicPr>
          <p:blipFill>
            <a:blip r:embed="rId4"/>
            <a:stretch/>
          </p:blipFill>
          <p:spPr>
            <a:xfrm>
              <a:off x="2253960" y="1255680"/>
              <a:ext cx="3066120" cy="743760"/>
            </a:xfrm>
            <a:prstGeom prst="rect">
              <a:avLst/>
            </a:prstGeom>
            <a:ln w="0">
              <a:noFill/>
            </a:ln>
          </p:spPr>
        </p:pic>
      </p:grpSp>
      <p:grpSp>
        <p:nvGrpSpPr>
          <p:cNvPr id="196" name="Group 26"/>
          <p:cNvGrpSpPr/>
          <p:nvPr/>
        </p:nvGrpSpPr>
        <p:grpSpPr>
          <a:xfrm>
            <a:off x="684360" y="1697040"/>
            <a:ext cx="4876560" cy="1001880"/>
            <a:chOff x="684360" y="1697040"/>
            <a:chExt cx="4876560" cy="1001880"/>
          </a:xfrm>
        </p:grpSpPr>
        <p:grpSp>
          <p:nvGrpSpPr>
            <p:cNvPr id="197" name="Group 27"/>
            <p:cNvGrpSpPr/>
            <p:nvPr/>
          </p:nvGrpSpPr>
          <p:grpSpPr>
            <a:xfrm>
              <a:off x="684360" y="1697040"/>
              <a:ext cx="4876560" cy="1001880"/>
              <a:chOff x="684360" y="1697040"/>
              <a:chExt cx="4876560" cy="1001880"/>
            </a:xfrm>
          </p:grpSpPr>
          <p:sp>
            <p:nvSpPr>
              <p:cNvPr id="198" name="Freeform 20"/>
              <p:cNvSpPr/>
              <p:nvPr/>
            </p:nvSpPr>
            <p:spPr>
              <a:xfrm>
                <a:off x="1935360" y="1697040"/>
                <a:ext cx="3625560" cy="691920"/>
              </a:xfrm>
              <a:custGeom>
                <a:avLst/>
                <a:gdLst>
                  <a:gd name="textAreaLeft" fmla="*/ 0 w 3625560"/>
                  <a:gd name="textAreaRight" fmla="*/ 3625920 w 3625560"/>
                  <a:gd name="textAreaTop" fmla="*/ 0 h 691920"/>
                  <a:gd name="textAreaBottom" fmla="*/ 692280 h 691920"/>
                </a:gdLst>
                <a:ahLst/>
                <a:rect l="textAreaLeft" t="textAreaTop" r="textAreaRight" b="textAreaBottom"/>
                <a:pathLst>
                  <a:path w="10527" h="2009">
                    <a:moveTo>
                      <a:pt x="10527" y="909"/>
                    </a:moveTo>
                    <a:lnTo>
                      <a:pt x="10527" y="2009"/>
                    </a:lnTo>
                    <a:lnTo>
                      <a:pt x="0" y="1343"/>
                    </a:lnTo>
                    <a:lnTo>
                      <a:pt x="0" y="0"/>
                    </a:lnTo>
                    <a:lnTo>
                      <a:pt x="10527" y="909"/>
                    </a:lnTo>
                    <a:close/>
                  </a:path>
                </a:pathLst>
              </a:cu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21"/>
              <p:cNvSpPr/>
              <p:nvPr/>
            </p:nvSpPr>
            <p:spPr>
              <a:xfrm>
                <a:off x="684360" y="2157840"/>
                <a:ext cx="4876560" cy="541080"/>
              </a:xfrm>
              <a:custGeom>
                <a:avLst/>
                <a:gdLst>
                  <a:gd name="textAreaLeft" fmla="*/ 0 w 4876560"/>
                  <a:gd name="textAreaRight" fmla="*/ 4876920 w 4876560"/>
                  <a:gd name="textAreaTop" fmla="*/ 0 h 541080"/>
                  <a:gd name="textAreaBottom" fmla="*/ 541440 h 541080"/>
                </a:gdLst>
                <a:ahLst/>
                <a:rect l="textAreaLeft" t="textAreaTop" r="textAreaRight" b="textAreaBottom"/>
                <a:pathLst>
                  <a:path w="14160" h="1574">
                    <a:moveTo>
                      <a:pt x="14160" y="666"/>
                    </a:moveTo>
                    <a:lnTo>
                      <a:pt x="7822" y="1574"/>
                    </a:lnTo>
                    <a:lnTo>
                      <a:pt x="0" y="1268"/>
                    </a:lnTo>
                    <a:lnTo>
                      <a:pt x="3633" y="0"/>
                    </a:lnTo>
                    <a:lnTo>
                      <a:pt x="14160" y="666"/>
                    </a:lnTo>
                    <a:close/>
                  </a:path>
                </a:pathLst>
              </a:custGeom>
              <a:gradFill rotWithShape="0">
                <a:gsLst>
                  <a:gs pos="0">
                    <a:srgbClr val="303030"/>
                  </a:gs>
                  <a:gs pos="100000">
                    <a:srgbClr val="5d5d5d"/>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00" name="Freeform 22"/>
              <p:cNvSpPr/>
              <p:nvPr/>
            </p:nvSpPr>
            <p:spPr>
              <a:xfrm>
                <a:off x="687240" y="1697040"/>
                <a:ext cx="1251000" cy="898560"/>
              </a:xfrm>
              <a:custGeom>
                <a:avLst/>
                <a:gdLst>
                  <a:gd name="textAreaLeft" fmla="*/ 0 w 1251000"/>
                  <a:gd name="textAreaRight" fmla="*/ 1251360 w 1251000"/>
                  <a:gd name="textAreaTop" fmla="*/ 0 h 898560"/>
                  <a:gd name="textAreaBottom" fmla="*/ 898920 h 898560"/>
                </a:gdLst>
                <a:ahLst/>
                <a:rect l="textAreaLeft" t="textAreaTop" r="textAreaRight" b="textAreaBottom"/>
                <a:pathLst>
                  <a:path w="3633" h="2611">
                    <a:moveTo>
                      <a:pt x="3633" y="1343"/>
                    </a:moveTo>
                    <a:lnTo>
                      <a:pt x="0" y="2611"/>
                    </a:lnTo>
                    <a:lnTo>
                      <a:pt x="0" y="1730"/>
                    </a:lnTo>
                    <a:lnTo>
                      <a:pt x="3633" y="0"/>
                    </a:lnTo>
                    <a:lnTo>
                      <a:pt x="3633" y="1343"/>
                    </a:lnTo>
                    <a:close/>
                  </a:path>
                </a:pathLst>
              </a:cu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1" name="TextBox 50" descr=""/>
            <p:cNvPicPr/>
            <p:nvPr/>
          </p:nvPicPr>
          <p:blipFill>
            <a:blip r:embed="rId5"/>
            <a:stretch/>
          </p:blipFill>
          <p:spPr>
            <a:xfrm>
              <a:off x="2253960" y="1724760"/>
              <a:ext cx="3066120" cy="676440"/>
            </a:xfrm>
            <a:prstGeom prst="rect">
              <a:avLst/>
            </a:prstGeom>
            <a:ln w="0">
              <a:noFill/>
            </a:ln>
          </p:spPr>
        </p:pic>
      </p:grpSp>
      <p:grpSp>
        <p:nvGrpSpPr>
          <p:cNvPr id="202" name="Group 32"/>
          <p:cNvGrpSpPr/>
          <p:nvPr/>
        </p:nvGrpSpPr>
        <p:grpSpPr>
          <a:xfrm>
            <a:off x="684360" y="2197080"/>
            <a:ext cx="4876560" cy="787320"/>
            <a:chOff x="684360" y="2197080"/>
            <a:chExt cx="4876560" cy="787320"/>
          </a:xfrm>
        </p:grpSpPr>
        <p:grpSp>
          <p:nvGrpSpPr>
            <p:cNvPr id="203" name="Group 33"/>
            <p:cNvGrpSpPr/>
            <p:nvPr/>
          </p:nvGrpSpPr>
          <p:grpSpPr>
            <a:xfrm>
              <a:off x="684360" y="2197080"/>
              <a:ext cx="4876560" cy="787320"/>
              <a:chOff x="684360" y="2197080"/>
              <a:chExt cx="4876560" cy="787320"/>
            </a:xfrm>
          </p:grpSpPr>
          <p:sp>
            <p:nvSpPr>
              <p:cNvPr id="204" name="Freeform 23"/>
              <p:cNvSpPr/>
              <p:nvPr/>
            </p:nvSpPr>
            <p:spPr>
              <a:xfrm>
                <a:off x="1935360" y="2197080"/>
                <a:ext cx="3625560" cy="600480"/>
              </a:xfrm>
              <a:custGeom>
                <a:avLst/>
                <a:gdLst>
                  <a:gd name="textAreaLeft" fmla="*/ 0 w 3625560"/>
                  <a:gd name="textAreaRight" fmla="*/ 3625920 w 3625560"/>
                  <a:gd name="textAreaTop" fmla="*/ 0 h 600480"/>
                  <a:gd name="textAreaBottom" fmla="*/ 600840 h 600480"/>
                </a:gdLst>
                <a:ahLst/>
                <a:rect l="textAreaLeft" t="textAreaTop" r="textAreaRight" b="textAreaBottom"/>
                <a:pathLst>
                  <a:path w="10527" h="1746">
                    <a:moveTo>
                      <a:pt x="10527" y="647"/>
                    </a:moveTo>
                    <a:lnTo>
                      <a:pt x="10527" y="1746"/>
                    </a:lnTo>
                    <a:lnTo>
                      <a:pt x="0" y="1343"/>
                    </a:lnTo>
                    <a:lnTo>
                      <a:pt x="0" y="0"/>
                    </a:lnTo>
                    <a:lnTo>
                      <a:pt x="10527" y="647"/>
                    </a:lnTo>
                    <a:close/>
                  </a:path>
                </a:pathLst>
              </a:cu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4"/>
              <p:cNvSpPr/>
              <p:nvPr/>
            </p:nvSpPr>
            <p:spPr>
              <a:xfrm>
                <a:off x="684360" y="2657160"/>
                <a:ext cx="4876560" cy="327240"/>
              </a:xfrm>
              <a:custGeom>
                <a:avLst/>
                <a:gdLst>
                  <a:gd name="textAreaLeft" fmla="*/ 0 w 4876560"/>
                  <a:gd name="textAreaRight" fmla="*/ 4876920 w 4876560"/>
                  <a:gd name="textAreaTop" fmla="*/ 0 h 327240"/>
                  <a:gd name="textAreaBottom" fmla="*/ 327600 h 327240"/>
                </a:gdLst>
                <a:ahLst/>
                <a:rect l="textAreaLeft" t="textAreaTop" r="textAreaRight" b="textAreaBottom"/>
                <a:pathLst>
                  <a:path w="14160" h="953">
                    <a:moveTo>
                      <a:pt x="14160" y="403"/>
                    </a:moveTo>
                    <a:lnTo>
                      <a:pt x="7822" y="953"/>
                    </a:lnTo>
                    <a:lnTo>
                      <a:pt x="0" y="769"/>
                    </a:lnTo>
                    <a:lnTo>
                      <a:pt x="3633" y="0"/>
                    </a:lnTo>
                    <a:lnTo>
                      <a:pt x="14160" y="403"/>
                    </a:lnTo>
                    <a:close/>
                  </a:path>
                </a:pathLst>
              </a:custGeom>
              <a:gradFill rotWithShape="0">
                <a:gsLst>
                  <a:gs pos="0">
                    <a:srgbClr val="303030"/>
                  </a:gs>
                  <a:gs pos="100000">
                    <a:srgbClr val="5d5d5d"/>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06" name="Freeform 25"/>
              <p:cNvSpPr/>
              <p:nvPr/>
            </p:nvSpPr>
            <p:spPr>
              <a:xfrm>
                <a:off x="687240" y="2197080"/>
                <a:ext cx="1251000" cy="726480"/>
              </a:xfrm>
              <a:custGeom>
                <a:avLst/>
                <a:gdLst>
                  <a:gd name="textAreaLeft" fmla="*/ 0 w 1251000"/>
                  <a:gd name="textAreaRight" fmla="*/ 1251360 w 1251000"/>
                  <a:gd name="textAreaTop" fmla="*/ 0 h 726480"/>
                  <a:gd name="textAreaBottom" fmla="*/ 726840 h 726480"/>
                </a:gdLst>
                <a:ahLst/>
                <a:rect l="textAreaLeft" t="textAreaTop" r="textAreaRight" b="textAreaBottom"/>
                <a:pathLst>
                  <a:path w="3633" h="2112">
                    <a:moveTo>
                      <a:pt x="3633" y="1343"/>
                    </a:moveTo>
                    <a:lnTo>
                      <a:pt x="0" y="2112"/>
                    </a:lnTo>
                    <a:lnTo>
                      <a:pt x="0" y="1231"/>
                    </a:lnTo>
                    <a:lnTo>
                      <a:pt x="3633" y="0"/>
                    </a:lnTo>
                    <a:lnTo>
                      <a:pt x="3633" y="1343"/>
                    </a:lnTo>
                    <a:close/>
                  </a:path>
                </a:pathLst>
              </a:cu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7" name="TextBox 49" descr=""/>
            <p:cNvPicPr/>
            <p:nvPr/>
          </p:nvPicPr>
          <p:blipFill>
            <a:blip r:embed="rId6"/>
            <a:stretch/>
          </p:blipFill>
          <p:spPr>
            <a:xfrm>
              <a:off x="2253960" y="2236680"/>
              <a:ext cx="3066120" cy="578520"/>
            </a:xfrm>
            <a:prstGeom prst="rect">
              <a:avLst/>
            </a:prstGeom>
            <a:ln w="0">
              <a:noFill/>
            </a:ln>
          </p:spPr>
        </p:pic>
      </p:grpSp>
      <p:grpSp>
        <p:nvGrpSpPr>
          <p:cNvPr id="208" name="Group 38"/>
          <p:cNvGrpSpPr/>
          <p:nvPr/>
        </p:nvGrpSpPr>
        <p:grpSpPr>
          <a:xfrm>
            <a:off x="684360" y="2697120"/>
            <a:ext cx="4876560" cy="576360"/>
            <a:chOff x="684360" y="2697120"/>
            <a:chExt cx="4876560" cy="576360"/>
          </a:xfrm>
        </p:grpSpPr>
        <p:grpSp>
          <p:nvGrpSpPr>
            <p:cNvPr id="209" name="Group 39"/>
            <p:cNvGrpSpPr/>
            <p:nvPr/>
          </p:nvGrpSpPr>
          <p:grpSpPr>
            <a:xfrm>
              <a:off x="684360" y="2697120"/>
              <a:ext cx="4876560" cy="576360"/>
              <a:chOff x="684360" y="2697120"/>
              <a:chExt cx="4876560" cy="576360"/>
            </a:xfrm>
          </p:grpSpPr>
          <p:sp>
            <p:nvSpPr>
              <p:cNvPr id="210" name="Freeform 26"/>
              <p:cNvSpPr/>
              <p:nvPr/>
            </p:nvSpPr>
            <p:spPr>
              <a:xfrm>
                <a:off x="1935360" y="2697120"/>
                <a:ext cx="3625560" cy="512280"/>
              </a:xfrm>
              <a:custGeom>
                <a:avLst/>
                <a:gdLst>
                  <a:gd name="textAreaLeft" fmla="*/ 0 w 3625560"/>
                  <a:gd name="textAreaRight" fmla="*/ 3625920 w 3625560"/>
                  <a:gd name="textAreaTop" fmla="*/ 0 h 512280"/>
                  <a:gd name="textAreaBottom" fmla="*/ 512640 h 512280"/>
                </a:gdLst>
                <a:ahLst/>
                <a:rect l="textAreaLeft" t="textAreaTop" r="textAreaRight" b="textAreaBottom"/>
                <a:pathLst>
                  <a:path w="10527" h="1483">
                    <a:moveTo>
                      <a:pt x="10527" y="383"/>
                    </a:moveTo>
                    <a:lnTo>
                      <a:pt x="10527" y="1483"/>
                    </a:lnTo>
                    <a:lnTo>
                      <a:pt x="0" y="1342"/>
                    </a:lnTo>
                    <a:lnTo>
                      <a:pt x="0" y="0"/>
                    </a:lnTo>
                    <a:lnTo>
                      <a:pt x="10527" y="383"/>
                    </a:lnTo>
                    <a:close/>
                  </a:path>
                </a:pathLst>
              </a:cu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27"/>
              <p:cNvSpPr/>
              <p:nvPr/>
            </p:nvSpPr>
            <p:spPr>
              <a:xfrm>
                <a:off x="684360" y="3158640"/>
                <a:ext cx="4876560" cy="114840"/>
              </a:xfrm>
              <a:custGeom>
                <a:avLst/>
                <a:gdLst>
                  <a:gd name="textAreaLeft" fmla="*/ 0 w 4876560"/>
                  <a:gd name="textAreaRight" fmla="*/ 4876920 w 4876560"/>
                  <a:gd name="textAreaTop" fmla="*/ 0 h 114840"/>
                  <a:gd name="textAreaBottom" fmla="*/ 115200 h 114840"/>
                </a:gdLst>
                <a:ahLst/>
                <a:rect l="textAreaLeft" t="textAreaTop" r="textAreaRight" b="textAreaBottom"/>
                <a:pathLst>
                  <a:path w="14160" h="334">
                    <a:moveTo>
                      <a:pt x="14160" y="141"/>
                    </a:moveTo>
                    <a:lnTo>
                      <a:pt x="7822" y="334"/>
                    </a:lnTo>
                    <a:lnTo>
                      <a:pt x="0" y="269"/>
                    </a:lnTo>
                    <a:lnTo>
                      <a:pt x="3633" y="0"/>
                    </a:lnTo>
                    <a:lnTo>
                      <a:pt x="14160" y="141"/>
                    </a:lnTo>
                    <a:close/>
                  </a:path>
                </a:pathLst>
              </a:custGeom>
              <a:gradFill rotWithShape="0">
                <a:gsLst>
                  <a:gs pos="0">
                    <a:srgbClr val="303030"/>
                  </a:gs>
                  <a:gs pos="100000">
                    <a:srgbClr val="5d5d5d"/>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12" name="Freeform 28"/>
              <p:cNvSpPr/>
              <p:nvPr/>
            </p:nvSpPr>
            <p:spPr>
              <a:xfrm>
                <a:off x="687240" y="2697120"/>
                <a:ext cx="1251000" cy="555840"/>
              </a:xfrm>
              <a:custGeom>
                <a:avLst/>
                <a:gdLst>
                  <a:gd name="textAreaLeft" fmla="*/ 0 w 1251000"/>
                  <a:gd name="textAreaRight" fmla="*/ 1251360 w 1251000"/>
                  <a:gd name="textAreaTop" fmla="*/ 0 h 555840"/>
                  <a:gd name="textAreaBottom" fmla="*/ 556200 h 555840"/>
                </a:gdLst>
                <a:ahLst/>
                <a:rect l="textAreaLeft" t="textAreaTop" r="textAreaRight" b="textAreaBottom"/>
                <a:pathLst>
                  <a:path w="3633" h="1611">
                    <a:moveTo>
                      <a:pt x="3633" y="1342"/>
                    </a:moveTo>
                    <a:lnTo>
                      <a:pt x="0" y="1611"/>
                    </a:lnTo>
                    <a:lnTo>
                      <a:pt x="0" y="730"/>
                    </a:lnTo>
                    <a:lnTo>
                      <a:pt x="3633" y="0"/>
                    </a:lnTo>
                    <a:lnTo>
                      <a:pt x="3633" y="1342"/>
                    </a:lnTo>
                    <a:close/>
                  </a:path>
                </a:pathLst>
              </a:cu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3" name="TextBox 48" descr=""/>
            <p:cNvPicPr/>
            <p:nvPr/>
          </p:nvPicPr>
          <p:blipFill>
            <a:blip r:embed="rId7"/>
            <a:stretch/>
          </p:blipFill>
          <p:spPr>
            <a:xfrm>
              <a:off x="2253960" y="2712240"/>
              <a:ext cx="3066120" cy="555840"/>
            </a:xfrm>
            <a:prstGeom prst="rect">
              <a:avLst/>
            </a:prstGeom>
            <a:ln w="0">
              <a:noFill/>
            </a:ln>
          </p:spPr>
        </p:pic>
      </p:grpSp>
      <p:grpSp>
        <p:nvGrpSpPr>
          <p:cNvPr id="214" name="Group 44"/>
          <p:cNvGrpSpPr/>
          <p:nvPr/>
        </p:nvGrpSpPr>
        <p:grpSpPr>
          <a:xfrm>
            <a:off x="684360" y="3871800"/>
            <a:ext cx="4876560" cy="789120"/>
            <a:chOff x="684360" y="3871800"/>
            <a:chExt cx="4876560" cy="789120"/>
          </a:xfrm>
        </p:grpSpPr>
        <p:grpSp>
          <p:nvGrpSpPr>
            <p:cNvPr id="215" name="Group 45"/>
            <p:cNvGrpSpPr/>
            <p:nvPr/>
          </p:nvGrpSpPr>
          <p:grpSpPr>
            <a:xfrm>
              <a:off x="684360" y="3871800"/>
              <a:ext cx="4876560" cy="789120"/>
              <a:chOff x="684360" y="3871800"/>
              <a:chExt cx="4876560" cy="789120"/>
            </a:xfrm>
          </p:grpSpPr>
          <p:sp>
            <p:nvSpPr>
              <p:cNvPr id="216" name="Freeform 11"/>
              <p:cNvSpPr/>
              <p:nvPr/>
            </p:nvSpPr>
            <p:spPr>
              <a:xfrm>
                <a:off x="1935360" y="4059000"/>
                <a:ext cx="3625560" cy="601920"/>
              </a:xfrm>
              <a:custGeom>
                <a:avLst/>
                <a:gdLst>
                  <a:gd name="textAreaLeft" fmla="*/ 0 w 3625560"/>
                  <a:gd name="textAreaRight" fmla="*/ 3625920 w 3625560"/>
                  <a:gd name="textAreaTop" fmla="*/ 0 h 601920"/>
                  <a:gd name="textAreaBottom" fmla="*/ 602280 h 601920"/>
                </a:gdLst>
                <a:ahLst/>
                <a:rect l="textAreaLeft" t="textAreaTop" r="textAreaRight" b="textAreaBottom"/>
                <a:pathLst>
                  <a:path w="10527" h="1746">
                    <a:moveTo>
                      <a:pt x="10527" y="0"/>
                    </a:moveTo>
                    <a:lnTo>
                      <a:pt x="10527" y="1099"/>
                    </a:lnTo>
                    <a:lnTo>
                      <a:pt x="0" y="1746"/>
                    </a:lnTo>
                    <a:lnTo>
                      <a:pt x="0" y="403"/>
                    </a:lnTo>
                    <a:lnTo>
                      <a:pt x="10527" y="0"/>
                    </a:lnTo>
                    <a:close/>
                  </a:path>
                </a:pathLst>
              </a:cu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2"/>
              <p:cNvSpPr/>
              <p:nvPr/>
            </p:nvSpPr>
            <p:spPr>
              <a:xfrm>
                <a:off x="687240" y="3932640"/>
                <a:ext cx="1251000" cy="728280"/>
              </a:xfrm>
              <a:custGeom>
                <a:avLst/>
                <a:gdLst>
                  <a:gd name="textAreaLeft" fmla="*/ 0 w 1251000"/>
                  <a:gd name="textAreaRight" fmla="*/ 1251360 w 1251000"/>
                  <a:gd name="textAreaTop" fmla="*/ 0 h 728280"/>
                  <a:gd name="textAreaBottom" fmla="*/ 728640 h 728280"/>
                </a:gdLst>
                <a:ahLst/>
                <a:rect l="textAreaLeft" t="textAreaTop" r="textAreaRight" b="textAreaBottom"/>
                <a:pathLst>
                  <a:path w="3633" h="2112">
                    <a:moveTo>
                      <a:pt x="3633" y="2112"/>
                    </a:moveTo>
                    <a:lnTo>
                      <a:pt x="0" y="881"/>
                    </a:lnTo>
                    <a:lnTo>
                      <a:pt x="0" y="0"/>
                    </a:lnTo>
                    <a:lnTo>
                      <a:pt x="3633" y="769"/>
                    </a:lnTo>
                    <a:lnTo>
                      <a:pt x="3633" y="2112"/>
                    </a:lnTo>
                    <a:close/>
                  </a:path>
                </a:pathLst>
              </a:cu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3"/>
              <p:cNvSpPr/>
              <p:nvPr/>
            </p:nvSpPr>
            <p:spPr>
              <a:xfrm>
                <a:off x="684360" y="3871800"/>
                <a:ext cx="4876560" cy="327960"/>
              </a:xfrm>
              <a:custGeom>
                <a:avLst/>
                <a:gdLst>
                  <a:gd name="textAreaLeft" fmla="*/ 0 w 4876560"/>
                  <a:gd name="textAreaRight" fmla="*/ 4876920 w 4876560"/>
                  <a:gd name="textAreaTop" fmla="*/ 0 h 327960"/>
                  <a:gd name="textAreaBottom" fmla="*/ 328320 h 327960"/>
                </a:gdLst>
                <a:ahLst/>
                <a:rect l="textAreaLeft" t="textAreaTop" r="textAreaRight" b="textAreaBottom"/>
                <a:pathLst>
                  <a:path w="14160" h="953">
                    <a:moveTo>
                      <a:pt x="3633" y="953"/>
                    </a:moveTo>
                    <a:lnTo>
                      <a:pt x="0" y="184"/>
                    </a:lnTo>
                    <a:lnTo>
                      <a:pt x="7822" y="0"/>
                    </a:lnTo>
                    <a:lnTo>
                      <a:pt x="14160" y="550"/>
                    </a:lnTo>
                    <a:lnTo>
                      <a:pt x="3633" y="953"/>
                    </a:lnTo>
                    <a:close/>
                  </a:path>
                </a:pathLst>
              </a:custGeom>
              <a:gradFill rotWithShape="0">
                <a:gsLst>
                  <a:gs pos="0">
                    <a:srgbClr val="303030"/>
                  </a:gs>
                  <a:gs pos="100000">
                    <a:srgbClr val="5d5d5d"/>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219" name="TextBox 43" descr=""/>
            <p:cNvPicPr/>
            <p:nvPr/>
          </p:nvPicPr>
          <p:blipFill>
            <a:blip r:embed="rId8"/>
            <a:stretch/>
          </p:blipFill>
          <p:spPr>
            <a:xfrm>
              <a:off x="2253960" y="4059360"/>
              <a:ext cx="3066120" cy="597960"/>
            </a:xfrm>
            <a:prstGeom prst="rect">
              <a:avLst/>
            </a:prstGeom>
            <a:ln w="0">
              <a:noFill/>
            </a:ln>
          </p:spPr>
        </p:pic>
      </p:grpSp>
      <p:grpSp>
        <p:nvGrpSpPr>
          <p:cNvPr id="220" name="Group 50"/>
          <p:cNvGrpSpPr/>
          <p:nvPr/>
        </p:nvGrpSpPr>
        <p:grpSpPr>
          <a:xfrm>
            <a:off x="684360" y="3584520"/>
            <a:ext cx="4876560" cy="576360"/>
            <a:chOff x="684360" y="3584520"/>
            <a:chExt cx="4876560" cy="576360"/>
          </a:xfrm>
        </p:grpSpPr>
        <p:grpSp>
          <p:nvGrpSpPr>
            <p:cNvPr id="221" name="Group 51"/>
            <p:cNvGrpSpPr/>
            <p:nvPr/>
          </p:nvGrpSpPr>
          <p:grpSpPr>
            <a:xfrm>
              <a:off x="684360" y="3584520"/>
              <a:ext cx="4876560" cy="567720"/>
              <a:chOff x="684360" y="3584520"/>
              <a:chExt cx="4876560" cy="567720"/>
            </a:xfrm>
          </p:grpSpPr>
          <p:sp>
            <p:nvSpPr>
              <p:cNvPr id="222" name="Freeform 14"/>
              <p:cNvSpPr/>
              <p:nvPr/>
            </p:nvSpPr>
            <p:spPr>
              <a:xfrm>
                <a:off x="1935360" y="3647520"/>
                <a:ext cx="3625560" cy="504720"/>
              </a:xfrm>
              <a:custGeom>
                <a:avLst/>
                <a:gdLst>
                  <a:gd name="textAreaLeft" fmla="*/ 0 w 3625560"/>
                  <a:gd name="textAreaRight" fmla="*/ 3625920 w 3625560"/>
                  <a:gd name="textAreaTop" fmla="*/ 0 h 504720"/>
                  <a:gd name="textAreaBottom" fmla="*/ 505080 h 504720"/>
                </a:gdLst>
                <a:ahLst/>
                <a:rect l="textAreaLeft" t="textAreaTop" r="textAreaRight" b="textAreaBottom"/>
                <a:pathLst>
                  <a:path w="10527" h="1483">
                    <a:moveTo>
                      <a:pt x="10527" y="0"/>
                    </a:moveTo>
                    <a:lnTo>
                      <a:pt x="10527" y="1100"/>
                    </a:lnTo>
                    <a:lnTo>
                      <a:pt x="0" y="1483"/>
                    </a:lnTo>
                    <a:lnTo>
                      <a:pt x="0" y="141"/>
                    </a:lnTo>
                    <a:lnTo>
                      <a:pt x="10527" y="0"/>
                    </a:lnTo>
                    <a:close/>
                  </a:path>
                </a:pathLst>
              </a:cu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5"/>
              <p:cNvSpPr/>
              <p:nvPr/>
            </p:nvSpPr>
            <p:spPr>
              <a:xfrm>
                <a:off x="687240" y="3604680"/>
                <a:ext cx="1251000" cy="547560"/>
              </a:xfrm>
              <a:custGeom>
                <a:avLst/>
                <a:gdLst>
                  <a:gd name="textAreaLeft" fmla="*/ 0 w 1251000"/>
                  <a:gd name="textAreaRight" fmla="*/ 1251360 w 1251000"/>
                  <a:gd name="textAreaTop" fmla="*/ 0 h 547560"/>
                  <a:gd name="textAreaBottom" fmla="*/ 547920 h 547560"/>
                </a:gdLst>
                <a:ahLst/>
                <a:rect l="textAreaLeft" t="textAreaTop" r="textAreaRight" b="textAreaBottom"/>
                <a:pathLst>
                  <a:path w="3633" h="1611">
                    <a:moveTo>
                      <a:pt x="3633" y="1611"/>
                    </a:moveTo>
                    <a:lnTo>
                      <a:pt x="0" y="881"/>
                    </a:lnTo>
                    <a:lnTo>
                      <a:pt x="0" y="0"/>
                    </a:lnTo>
                    <a:lnTo>
                      <a:pt x="3633" y="269"/>
                    </a:lnTo>
                    <a:lnTo>
                      <a:pt x="3633" y="1611"/>
                    </a:lnTo>
                    <a:close/>
                  </a:path>
                </a:pathLst>
              </a:cu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6"/>
              <p:cNvSpPr/>
              <p:nvPr/>
            </p:nvSpPr>
            <p:spPr>
              <a:xfrm>
                <a:off x="684360" y="3584520"/>
                <a:ext cx="4876560" cy="113040"/>
              </a:xfrm>
              <a:custGeom>
                <a:avLst/>
                <a:gdLst>
                  <a:gd name="textAreaLeft" fmla="*/ 0 w 4876560"/>
                  <a:gd name="textAreaRight" fmla="*/ 4876920 w 4876560"/>
                  <a:gd name="textAreaTop" fmla="*/ 0 h 113040"/>
                  <a:gd name="textAreaBottom" fmla="*/ 113400 h 113040"/>
                </a:gdLst>
                <a:ahLst/>
                <a:rect l="textAreaLeft" t="textAreaTop" r="textAreaRight" b="textAreaBottom"/>
                <a:pathLst>
                  <a:path w="14160" h="334">
                    <a:moveTo>
                      <a:pt x="3633" y="334"/>
                    </a:moveTo>
                    <a:lnTo>
                      <a:pt x="0" y="65"/>
                    </a:lnTo>
                    <a:lnTo>
                      <a:pt x="7822" y="0"/>
                    </a:lnTo>
                    <a:lnTo>
                      <a:pt x="14160" y="193"/>
                    </a:lnTo>
                    <a:lnTo>
                      <a:pt x="3633" y="334"/>
                    </a:lnTo>
                    <a:close/>
                  </a:path>
                </a:pathLst>
              </a:custGeom>
              <a:gradFill rotWithShape="0">
                <a:gsLst>
                  <a:gs pos="0">
                    <a:srgbClr val="303030"/>
                  </a:gs>
                  <a:gs pos="100000">
                    <a:srgbClr val="5d5d5d"/>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pic>
          <p:nvPicPr>
            <p:cNvPr id="225" name="TextBox 46" descr=""/>
            <p:cNvPicPr/>
            <p:nvPr/>
          </p:nvPicPr>
          <p:blipFill>
            <a:blip r:embed="rId9"/>
            <a:stretch/>
          </p:blipFill>
          <p:spPr>
            <a:xfrm>
              <a:off x="2253960" y="3637800"/>
              <a:ext cx="3066120" cy="523080"/>
            </a:xfrm>
            <a:prstGeom prst="rect">
              <a:avLst/>
            </a:prstGeom>
            <a:ln w="0">
              <a:noFill/>
            </a:ln>
          </p:spPr>
        </p:pic>
      </p:grpSp>
      <p:grpSp>
        <p:nvGrpSpPr>
          <p:cNvPr id="226" name="Group 56"/>
          <p:cNvGrpSpPr/>
          <p:nvPr/>
        </p:nvGrpSpPr>
        <p:grpSpPr>
          <a:xfrm>
            <a:off x="685800" y="3197160"/>
            <a:ext cx="4875120" cy="463680"/>
            <a:chOff x="685800" y="3197160"/>
            <a:chExt cx="4875120" cy="463680"/>
          </a:xfrm>
        </p:grpSpPr>
        <p:grpSp>
          <p:nvGrpSpPr>
            <p:cNvPr id="227" name="Group 57"/>
            <p:cNvGrpSpPr/>
            <p:nvPr/>
          </p:nvGrpSpPr>
          <p:grpSpPr>
            <a:xfrm>
              <a:off x="685800" y="3197160"/>
              <a:ext cx="4875120" cy="454680"/>
              <a:chOff x="685800" y="3197160"/>
              <a:chExt cx="4875120" cy="454680"/>
            </a:xfrm>
          </p:grpSpPr>
          <p:sp>
            <p:nvSpPr>
              <p:cNvPr id="228" name="Freeform 29"/>
              <p:cNvSpPr/>
              <p:nvPr/>
            </p:nvSpPr>
            <p:spPr>
              <a:xfrm>
                <a:off x="1934280" y="3197160"/>
                <a:ext cx="3626640" cy="454680"/>
              </a:xfrm>
              <a:custGeom>
                <a:avLst/>
                <a:gdLst>
                  <a:gd name="textAreaLeft" fmla="*/ 0 w 3626640"/>
                  <a:gd name="textAreaRight" fmla="*/ 3627000 w 3626640"/>
                  <a:gd name="textAreaTop" fmla="*/ 0 h 454680"/>
                  <a:gd name="textAreaBottom" fmla="*/ 455040 h 454680"/>
                </a:gdLst>
                <a:ahLst/>
                <a:rect l="textAreaLeft" t="textAreaTop" r="textAreaRight" b="textAreaBottom"/>
                <a:pathLst>
                  <a:path w="10527" h="1342">
                    <a:moveTo>
                      <a:pt x="10527" y="121"/>
                    </a:moveTo>
                    <a:lnTo>
                      <a:pt x="10527" y="1221"/>
                    </a:lnTo>
                    <a:lnTo>
                      <a:pt x="0" y="1342"/>
                    </a:lnTo>
                    <a:lnTo>
                      <a:pt x="0" y="0"/>
                    </a:lnTo>
                    <a:lnTo>
                      <a:pt x="10527" y="121"/>
                    </a:lnTo>
                    <a:close/>
                  </a:path>
                </a:pathLst>
              </a:custGeom>
              <a:gradFill rotWithShape="0">
                <a:gsLst>
                  <a:gs pos="0">
                    <a:srgbClr val="acacac"/>
                  </a:gs>
                  <a:gs pos="100000">
                    <a:srgbClr val="e6e6e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0"/>
              <p:cNvSpPr/>
              <p:nvPr/>
            </p:nvSpPr>
            <p:spPr>
              <a:xfrm>
                <a:off x="685800" y="3197160"/>
                <a:ext cx="1251360" cy="454680"/>
              </a:xfrm>
              <a:custGeom>
                <a:avLst/>
                <a:gdLst>
                  <a:gd name="textAreaLeft" fmla="*/ 0 w 1251360"/>
                  <a:gd name="textAreaRight" fmla="*/ 1251720 w 1251360"/>
                  <a:gd name="textAreaTop" fmla="*/ 0 h 454680"/>
                  <a:gd name="textAreaBottom" fmla="*/ 455040 h 454680"/>
                </a:gdLst>
                <a:ahLst/>
                <a:rect l="textAreaLeft" t="textAreaTop" r="textAreaRight" b="textAreaBottom"/>
                <a:pathLst>
                  <a:path w="3633" h="1342">
                    <a:moveTo>
                      <a:pt x="3633" y="1342"/>
                    </a:moveTo>
                    <a:lnTo>
                      <a:pt x="0" y="1111"/>
                    </a:lnTo>
                    <a:lnTo>
                      <a:pt x="0" y="231"/>
                    </a:lnTo>
                    <a:lnTo>
                      <a:pt x="3633" y="0"/>
                    </a:lnTo>
                    <a:lnTo>
                      <a:pt x="3633" y="1342"/>
                    </a:lnTo>
                    <a:close/>
                  </a:path>
                </a:pathLst>
              </a:custGeom>
              <a:gradFill rotWithShape="0">
                <a:gsLst>
                  <a:gs pos="0">
                    <a:srgbClr val="727272"/>
                  </a:gs>
                  <a:gs pos="100000">
                    <a:srgbClr val="a2a2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0" name="TextBox 47" descr=""/>
            <p:cNvPicPr/>
            <p:nvPr/>
          </p:nvPicPr>
          <p:blipFill>
            <a:blip r:embed="rId10"/>
            <a:stretch/>
          </p:blipFill>
          <p:spPr>
            <a:xfrm>
              <a:off x="2252880" y="3211920"/>
              <a:ext cx="3067200" cy="448920"/>
            </a:xfrm>
            <a:prstGeom prst="rect">
              <a:avLst/>
            </a:prstGeom>
            <a:ln w="0">
              <a:noFill/>
            </a:ln>
          </p:spPr>
        </p:pic>
      </p:grpSp>
      <p:cxnSp>
        <p:nvCxnSpPr>
          <p:cNvPr id="231" name="Straight Arrow Connector 69"/>
          <p:cNvCxnSpPr/>
          <p:nvPr/>
        </p:nvCxnSpPr>
        <p:spPr>
          <a:xfrm flipH="1" flipV="1">
            <a:off x="5562360" y="2590560"/>
            <a:ext cx="202320" cy="2160"/>
          </a:xfrm>
          <a:prstGeom prst="straightConnector1">
            <a:avLst/>
          </a:prstGeom>
          <a:ln w="12600">
            <a:solidFill>
              <a:srgbClr val="000000"/>
            </a:solidFill>
            <a:miter/>
            <a:tailEnd len="med" type="oval" w="med"/>
          </a:ln>
        </p:spPr>
      </p:cxnSp>
      <p:sp>
        <p:nvSpPr>
          <p:cNvPr id="232" name="Rectangle 70"/>
          <p:cNvSpPr/>
          <p:nvPr/>
        </p:nvSpPr>
        <p:spPr>
          <a:xfrm>
            <a:off x="5770440" y="2235240"/>
            <a:ext cx="2684520" cy="723960"/>
          </a:xfrm>
          <a:prstGeom prst="rect">
            <a:avLst/>
          </a:prstGeom>
          <a:gradFill rotWithShape="0">
            <a:gsLst>
              <a:gs pos="0">
                <a:srgbClr val="ffffff">
                  <a:alpha val="0"/>
                </a:srgbClr>
              </a:gs>
              <a:gs pos="100000">
                <a:srgbClr val="dddddd"/>
              </a:gs>
            </a:gsLst>
            <a:lin ang="10800000"/>
          </a:gradFill>
          <a:ln w="0">
            <a:noFill/>
          </a:ln>
        </p:spPr>
        <p:style>
          <a:lnRef idx="0"/>
          <a:fillRef idx="0"/>
          <a:effectRef idx="0"/>
          <a:fontRef idx="minor"/>
        </p:style>
        <p:txBody>
          <a:bodyPr lIns="45720" rIns="27360" tIns="18360" bIns="18360" anchor="ctr">
            <a:normAutofit/>
          </a:bodyPr>
          <a:p>
            <a:pPr marL="111240" indent="-111240">
              <a:lnSpc>
                <a:spcPct val="85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Narrow"/>
              </a:rPr>
              <a:t>Place your content-specific text here</a:t>
            </a:r>
            <a:endParaRPr b="0" lang="en-US" sz="1400" spc="-1" strike="noStrike">
              <a:solidFill>
                <a:srgbClr val="000000"/>
              </a:solidFill>
              <a:latin typeface="Arial"/>
            </a:endParaRPr>
          </a:p>
          <a:p>
            <a:pPr marL="111240" indent="-111240">
              <a:lnSpc>
                <a:spcPct val="85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Narrow"/>
              </a:rPr>
              <a:t>Add your content here if needed</a:t>
            </a:r>
            <a:endParaRPr b="0" lang="en-US" sz="1400" spc="-1" strike="noStrike">
              <a:solidFill>
                <a:srgbClr val="000000"/>
              </a:solidFill>
              <a:latin typeface="Arial"/>
            </a:endParaRPr>
          </a:p>
        </p:txBody>
      </p:sp>
      <p:sp>
        <p:nvSpPr>
          <p:cNvPr id="233" name="Straight Connector 71"/>
          <p:cNvSpPr/>
          <p:nvPr/>
        </p:nvSpPr>
        <p:spPr>
          <a:xfrm flipH="1">
            <a:off x="5764320" y="2235240"/>
            <a:ext cx="1440" cy="725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9731"/>
          <p:cNvSpPr/>
          <p:nvPr/>
        </p:nvSpPr>
        <p:spPr>
          <a:xfrm>
            <a:off x="2235240" y="2709720"/>
            <a:ext cx="5851440" cy="1528920"/>
          </a:xfrm>
          <a:prstGeom prst="rect">
            <a:avLst/>
          </a:prstGeom>
          <a:gradFill rotWithShape="0">
            <a:gsLst>
              <a:gs pos="0">
                <a:srgbClr val="ffffff">
                  <a:alpha val="0"/>
                </a:srgbClr>
              </a:gs>
              <a:gs pos="100000">
                <a:srgbClr val="ffc5c6"/>
              </a:gs>
            </a:gsLst>
            <a:lin ang="10800000"/>
          </a:gradFill>
          <a:ln w="0">
            <a:noFill/>
          </a:ln>
        </p:spPr>
        <p:style>
          <a:lnRef idx="0"/>
          <a:fillRef idx="0"/>
          <a:effectRef idx="0"/>
          <a:fontRef idx="minor"/>
        </p:style>
        <p:txBody>
          <a:bodyPr lIns="18360" rIns="18360" tIns="18360" bIns="18360" anchor="ctr" anchorCtr="1">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732"/>
          <p:cNvSpPr/>
          <p:nvPr/>
        </p:nvSpPr>
        <p:spPr>
          <a:xfrm>
            <a:off x="2235240" y="4537080"/>
            <a:ext cx="5851440" cy="1530360"/>
          </a:xfrm>
          <a:prstGeom prst="rect">
            <a:avLst/>
          </a:prstGeom>
          <a:gradFill rotWithShape="0">
            <a:gsLst>
              <a:gs pos="0">
                <a:srgbClr val="ffffff">
                  <a:alpha val="0"/>
                </a:srgbClr>
              </a:gs>
              <a:gs pos="100000">
                <a:srgbClr val="ffc5c6"/>
              </a:gs>
            </a:gsLst>
            <a:lin ang="10800000"/>
          </a:gradFill>
          <a:ln w="0">
            <a:noFill/>
          </a:ln>
        </p:spPr>
        <p:style>
          <a:lnRef idx="0"/>
          <a:fillRef idx="0"/>
          <a:effectRef idx="0"/>
          <a:fontRef idx="minor"/>
        </p:style>
        <p:txBody>
          <a:bodyPr lIns="18360" rIns="18360" tIns="18360" bIns="18360" anchor="ctr" anchorCtr="1">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733"/>
          <p:cNvSpPr/>
          <p:nvPr/>
        </p:nvSpPr>
        <p:spPr>
          <a:xfrm>
            <a:off x="2235240" y="880920"/>
            <a:ext cx="5851440" cy="1528920"/>
          </a:xfrm>
          <a:prstGeom prst="rect">
            <a:avLst/>
          </a:prstGeom>
          <a:gradFill rotWithShape="0">
            <a:gsLst>
              <a:gs pos="0">
                <a:srgbClr val="ffffff">
                  <a:alpha val="0"/>
                </a:srgbClr>
              </a:gs>
              <a:gs pos="100000">
                <a:srgbClr val="ffc5c6"/>
              </a:gs>
            </a:gsLst>
            <a:lin ang="10800000"/>
          </a:gradFill>
          <a:ln w="0">
            <a:noFill/>
          </a:ln>
        </p:spPr>
        <p:style>
          <a:lnRef idx="0"/>
          <a:fillRef idx="0"/>
          <a:effectRef idx="0"/>
          <a:fontRef idx="minor"/>
        </p:style>
        <p:txBody>
          <a:bodyPr lIns="18360" rIns="18360" tIns="18360" bIns="18360" anchor="ctr" anchorCtr="1">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5"/>
          <p:cNvGrpSpPr/>
          <p:nvPr/>
        </p:nvGrpSpPr>
        <p:grpSpPr>
          <a:xfrm>
            <a:off x="1346040" y="4405320"/>
            <a:ext cx="1656000" cy="1766880"/>
            <a:chOff x="1346040" y="4405320"/>
            <a:chExt cx="1656000" cy="1766880"/>
          </a:xfrm>
        </p:grpSpPr>
        <p:sp>
          <p:nvSpPr>
            <p:cNvPr id="238" name="Freeform 8"/>
            <p:cNvSpPr/>
            <p:nvPr/>
          </p:nvSpPr>
          <p:spPr>
            <a:xfrm>
              <a:off x="1346040" y="4405320"/>
              <a:ext cx="1656000" cy="702360"/>
            </a:xfrm>
            <a:custGeom>
              <a:avLst/>
              <a:gdLst>
                <a:gd name="textAreaLeft" fmla="*/ 0 w 1656000"/>
                <a:gd name="textAreaRight" fmla="*/ 1656360 w 1656000"/>
                <a:gd name="textAreaTop" fmla="*/ 0 h 702360"/>
                <a:gd name="textAreaBottom" fmla="*/ 702720 h 70236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39" name="Freeform 9"/>
            <p:cNvSpPr/>
            <p:nvPr/>
          </p:nvSpPr>
          <p:spPr>
            <a:xfrm>
              <a:off x="1346040" y="4756320"/>
              <a:ext cx="828000" cy="1415880"/>
            </a:xfrm>
            <a:custGeom>
              <a:avLst/>
              <a:gdLst>
                <a:gd name="textAreaLeft" fmla="*/ 0 w 828000"/>
                <a:gd name="textAreaRight" fmla="*/ 828360 w 828000"/>
                <a:gd name="textAreaTop" fmla="*/ 0 h 1415880"/>
                <a:gd name="textAreaBottom" fmla="*/ 1416240 h 141588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40" name="Freeform 10"/>
            <p:cNvSpPr/>
            <p:nvPr/>
          </p:nvSpPr>
          <p:spPr>
            <a:xfrm>
              <a:off x="2174040" y="4756320"/>
              <a:ext cx="828000" cy="1415880"/>
            </a:xfrm>
            <a:custGeom>
              <a:avLst/>
              <a:gdLst>
                <a:gd name="textAreaLeft" fmla="*/ 0 w 828000"/>
                <a:gd name="textAreaRight" fmla="*/ 828360 w 828000"/>
                <a:gd name="textAreaTop" fmla="*/ 0 h 1415880"/>
                <a:gd name="textAreaBottom" fmla="*/ 1416240 h 141588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sp>
        <p:nvSpPr>
          <p:cNvPr id="241" name="AutoShape 110"/>
          <p:cNvSpPr/>
          <p:nvPr/>
        </p:nvSpPr>
        <p:spPr>
          <a:xfrm rot="5400000">
            <a:off x="1809720" y="4110120"/>
            <a:ext cx="774720" cy="587520"/>
          </a:xfrm>
          <a:prstGeom prst="rightArrow">
            <a:avLst>
              <a:gd name="adj1" fmla="val 55843"/>
              <a:gd name="adj2" fmla="val 49784"/>
            </a:avLst>
          </a:prstGeom>
          <a:gradFill rotWithShape="0">
            <a:gsLst>
              <a:gs pos="0">
                <a:srgbClr val="5d252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9739"/>
          <p:cNvSpPr/>
          <p:nvPr/>
        </p:nvSpPr>
        <p:spPr>
          <a:xfrm>
            <a:off x="3233880" y="1001880"/>
            <a:ext cx="4919400" cy="136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r Content Her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TextBox 9740"/>
          <p:cNvSpPr/>
          <p:nvPr/>
        </p:nvSpPr>
        <p:spPr>
          <a:xfrm>
            <a:off x="3233880" y="2832120"/>
            <a:ext cx="4919400" cy="136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r Content Her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TextBox 9741"/>
          <p:cNvSpPr/>
          <p:nvPr/>
        </p:nvSpPr>
        <p:spPr>
          <a:xfrm>
            <a:off x="3233880" y="4662360"/>
            <a:ext cx="4919400" cy="136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Your Content Her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Narrow"/>
              </a:rPr>
              <a:t>Place information here. More data can be placed here. Place your information here. Your content will be placed here. Put information here. More data can be placed here. Place your info here. Your content will be placed her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TextBox 9742"/>
          <p:cNvSpPr/>
          <p:nvPr/>
        </p:nvSpPr>
        <p:spPr>
          <a:xfrm>
            <a:off x="533520" y="1117440"/>
            <a:ext cx="838080" cy="10263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Narrow"/>
              </a:rPr>
              <a:t>1</a:t>
            </a:r>
            <a:endParaRPr b="0" lang="en-US" sz="7200" spc="-1" strike="noStrike">
              <a:solidFill>
                <a:srgbClr val="000000"/>
              </a:solidFill>
              <a:latin typeface="Arial"/>
            </a:endParaRPr>
          </a:p>
        </p:txBody>
      </p:sp>
      <p:sp>
        <p:nvSpPr>
          <p:cNvPr id="246" name="TextBox 9743"/>
          <p:cNvSpPr/>
          <p:nvPr/>
        </p:nvSpPr>
        <p:spPr>
          <a:xfrm>
            <a:off x="533520" y="2971800"/>
            <a:ext cx="838080" cy="10263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Narrow"/>
              </a:rPr>
              <a:t>2</a:t>
            </a:r>
            <a:endParaRPr b="0" lang="en-US" sz="7200" spc="-1" strike="noStrike">
              <a:solidFill>
                <a:srgbClr val="000000"/>
              </a:solidFill>
              <a:latin typeface="Arial"/>
            </a:endParaRPr>
          </a:p>
        </p:txBody>
      </p:sp>
      <p:sp>
        <p:nvSpPr>
          <p:cNvPr id="247" name="TextBox 9744"/>
          <p:cNvSpPr/>
          <p:nvPr/>
        </p:nvSpPr>
        <p:spPr>
          <a:xfrm>
            <a:off x="533520" y="4762440"/>
            <a:ext cx="838080" cy="10263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Narrow"/>
              </a:rPr>
              <a:t>3</a:t>
            </a:r>
            <a:endParaRPr b="0" lang="en-US" sz="7200" spc="-1" strike="noStrike">
              <a:solidFill>
                <a:srgbClr val="000000"/>
              </a:solidFill>
              <a:latin typeface="Arial"/>
            </a:endParaRPr>
          </a:p>
        </p:txBody>
      </p:sp>
      <p:grpSp>
        <p:nvGrpSpPr>
          <p:cNvPr id="248" name="Group 16"/>
          <p:cNvGrpSpPr/>
          <p:nvPr/>
        </p:nvGrpSpPr>
        <p:grpSpPr>
          <a:xfrm>
            <a:off x="1357200" y="2619360"/>
            <a:ext cx="1633680" cy="1743120"/>
            <a:chOff x="1357200" y="2619360"/>
            <a:chExt cx="1633680" cy="1743120"/>
          </a:xfrm>
        </p:grpSpPr>
        <p:grpSp>
          <p:nvGrpSpPr>
            <p:cNvPr id="249" name="Group 17"/>
            <p:cNvGrpSpPr/>
            <p:nvPr/>
          </p:nvGrpSpPr>
          <p:grpSpPr>
            <a:xfrm>
              <a:off x="1771920" y="3148560"/>
              <a:ext cx="1218960" cy="1036080"/>
              <a:chOff x="1771920" y="3148560"/>
              <a:chExt cx="1218960" cy="1036080"/>
            </a:xfrm>
          </p:grpSpPr>
          <p:grpSp>
            <p:nvGrpSpPr>
              <p:cNvPr id="250" name="Group 18"/>
              <p:cNvGrpSpPr/>
              <p:nvPr/>
            </p:nvGrpSpPr>
            <p:grpSpPr>
              <a:xfrm>
                <a:off x="1771920" y="3148560"/>
                <a:ext cx="804240" cy="859680"/>
                <a:chOff x="1771920" y="3148560"/>
                <a:chExt cx="804240" cy="859680"/>
              </a:xfrm>
            </p:grpSpPr>
            <p:sp>
              <p:nvSpPr>
                <p:cNvPr id="251" name="Freeform 8"/>
                <p:cNvSpPr/>
                <p:nvPr/>
              </p:nvSpPr>
              <p:spPr>
                <a:xfrm>
                  <a:off x="1771920" y="3148560"/>
                  <a:ext cx="804240" cy="341640"/>
                </a:xfrm>
                <a:custGeom>
                  <a:avLst/>
                  <a:gdLst>
                    <a:gd name="textAreaLeft" fmla="*/ 0 w 804240"/>
                    <a:gd name="textAreaRight" fmla="*/ 804600 w 804240"/>
                    <a:gd name="textAreaTop" fmla="*/ 0 h 341640"/>
                    <a:gd name="textAreaBottom" fmla="*/ 342000 h 3416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52" name="Freeform 9"/>
                <p:cNvSpPr/>
                <p:nvPr/>
              </p:nvSpPr>
              <p:spPr>
                <a:xfrm>
                  <a:off x="1771920" y="331920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53" name="Freeform 10"/>
                <p:cNvSpPr/>
                <p:nvPr/>
              </p:nvSpPr>
              <p:spPr>
                <a:xfrm>
                  <a:off x="2174040" y="331920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254" name="Group 22"/>
              <p:cNvGrpSpPr/>
              <p:nvPr/>
            </p:nvGrpSpPr>
            <p:grpSpPr>
              <a:xfrm>
                <a:off x="2186640" y="3324960"/>
                <a:ext cx="804240" cy="859680"/>
                <a:chOff x="2186640" y="3324960"/>
                <a:chExt cx="804240" cy="859680"/>
              </a:xfrm>
            </p:grpSpPr>
            <p:sp>
              <p:nvSpPr>
                <p:cNvPr id="255" name="Freeform 8"/>
                <p:cNvSpPr/>
                <p:nvPr/>
              </p:nvSpPr>
              <p:spPr>
                <a:xfrm>
                  <a:off x="2186640" y="3324960"/>
                  <a:ext cx="804240" cy="341640"/>
                </a:xfrm>
                <a:custGeom>
                  <a:avLst/>
                  <a:gdLst>
                    <a:gd name="textAreaLeft" fmla="*/ 0 w 804240"/>
                    <a:gd name="textAreaRight" fmla="*/ 804600 w 804240"/>
                    <a:gd name="textAreaTop" fmla="*/ 0 h 341640"/>
                    <a:gd name="textAreaBottom" fmla="*/ 342000 h 3416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56" name="Freeform 9"/>
                <p:cNvSpPr/>
                <p:nvPr/>
              </p:nvSpPr>
              <p:spPr>
                <a:xfrm>
                  <a:off x="2186640" y="349560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57" name="Freeform 10"/>
                <p:cNvSpPr/>
                <p:nvPr/>
              </p:nvSpPr>
              <p:spPr>
                <a:xfrm>
                  <a:off x="2588760" y="349560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258" name="Group 26"/>
            <p:cNvGrpSpPr/>
            <p:nvPr/>
          </p:nvGrpSpPr>
          <p:grpSpPr>
            <a:xfrm>
              <a:off x="1771920" y="2619360"/>
              <a:ext cx="1218960" cy="1036080"/>
              <a:chOff x="1771920" y="2619360"/>
              <a:chExt cx="1218960" cy="1036080"/>
            </a:xfrm>
          </p:grpSpPr>
          <p:grpSp>
            <p:nvGrpSpPr>
              <p:cNvPr id="259" name="Group 27"/>
              <p:cNvGrpSpPr/>
              <p:nvPr/>
            </p:nvGrpSpPr>
            <p:grpSpPr>
              <a:xfrm>
                <a:off x="1771920" y="2619360"/>
                <a:ext cx="804240" cy="859680"/>
                <a:chOff x="1771920" y="2619360"/>
                <a:chExt cx="804240" cy="859680"/>
              </a:xfrm>
            </p:grpSpPr>
            <p:sp>
              <p:nvSpPr>
                <p:cNvPr id="260" name="Freeform 8"/>
                <p:cNvSpPr/>
                <p:nvPr/>
              </p:nvSpPr>
              <p:spPr>
                <a:xfrm>
                  <a:off x="1771920" y="2619360"/>
                  <a:ext cx="804240" cy="341640"/>
                </a:xfrm>
                <a:custGeom>
                  <a:avLst/>
                  <a:gdLst>
                    <a:gd name="textAreaLeft" fmla="*/ 0 w 804240"/>
                    <a:gd name="textAreaRight" fmla="*/ 804600 w 804240"/>
                    <a:gd name="textAreaTop" fmla="*/ 0 h 341640"/>
                    <a:gd name="textAreaBottom" fmla="*/ 342000 h 3416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61" name="Freeform 9"/>
                <p:cNvSpPr/>
                <p:nvPr/>
              </p:nvSpPr>
              <p:spPr>
                <a:xfrm>
                  <a:off x="1771920" y="279000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62" name="Freeform 10"/>
                <p:cNvSpPr/>
                <p:nvPr/>
              </p:nvSpPr>
              <p:spPr>
                <a:xfrm>
                  <a:off x="2174040" y="279000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263" name="Group 31"/>
              <p:cNvGrpSpPr/>
              <p:nvPr/>
            </p:nvGrpSpPr>
            <p:grpSpPr>
              <a:xfrm>
                <a:off x="2186640" y="2795760"/>
                <a:ext cx="804240" cy="859680"/>
                <a:chOff x="2186640" y="2795760"/>
                <a:chExt cx="804240" cy="859680"/>
              </a:xfrm>
            </p:grpSpPr>
            <p:sp>
              <p:nvSpPr>
                <p:cNvPr id="264" name="Freeform 8"/>
                <p:cNvSpPr/>
                <p:nvPr/>
              </p:nvSpPr>
              <p:spPr>
                <a:xfrm>
                  <a:off x="2186640" y="2795760"/>
                  <a:ext cx="804240" cy="341640"/>
                </a:xfrm>
                <a:custGeom>
                  <a:avLst/>
                  <a:gdLst>
                    <a:gd name="textAreaLeft" fmla="*/ 0 w 804240"/>
                    <a:gd name="textAreaRight" fmla="*/ 804600 w 804240"/>
                    <a:gd name="textAreaTop" fmla="*/ 0 h 341640"/>
                    <a:gd name="textAreaBottom" fmla="*/ 342000 h 3416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65" name="Freeform 9"/>
                <p:cNvSpPr/>
                <p:nvPr/>
              </p:nvSpPr>
              <p:spPr>
                <a:xfrm>
                  <a:off x="2186640" y="296640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66" name="Freeform 10"/>
                <p:cNvSpPr/>
                <p:nvPr/>
              </p:nvSpPr>
              <p:spPr>
                <a:xfrm>
                  <a:off x="2588760" y="296640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267" name="Group 35"/>
            <p:cNvGrpSpPr/>
            <p:nvPr/>
          </p:nvGrpSpPr>
          <p:grpSpPr>
            <a:xfrm>
              <a:off x="1357200" y="3326400"/>
              <a:ext cx="1218960" cy="1036080"/>
              <a:chOff x="1357200" y="3326400"/>
              <a:chExt cx="1218960" cy="1036080"/>
            </a:xfrm>
          </p:grpSpPr>
          <p:grpSp>
            <p:nvGrpSpPr>
              <p:cNvPr id="268" name="Group 36"/>
              <p:cNvGrpSpPr/>
              <p:nvPr/>
            </p:nvGrpSpPr>
            <p:grpSpPr>
              <a:xfrm>
                <a:off x="1357200" y="3326400"/>
                <a:ext cx="804240" cy="859680"/>
                <a:chOff x="1357200" y="3326400"/>
                <a:chExt cx="804240" cy="859680"/>
              </a:xfrm>
            </p:grpSpPr>
            <p:sp>
              <p:nvSpPr>
                <p:cNvPr id="269" name="Freeform 8"/>
                <p:cNvSpPr/>
                <p:nvPr/>
              </p:nvSpPr>
              <p:spPr>
                <a:xfrm>
                  <a:off x="1357200" y="3326400"/>
                  <a:ext cx="804240" cy="341640"/>
                </a:xfrm>
                <a:custGeom>
                  <a:avLst/>
                  <a:gdLst>
                    <a:gd name="textAreaLeft" fmla="*/ 0 w 804240"/>
                    <a:gd name="textAreaRight" fmla="*/ 804600 w 804240"/>
                    <a:gd name="textAreaTop" fmla="*/ 0 h 341640"/>
                    <a:gd name="textAreaBottom" fmla="*/ 342000 h 3416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70" name="Freeform 9"/>
                <p:cNvSpPr/>
                <p:nvPr/>
              </p:nvSpPr>
              <p:spPr>
                <a:xfrm>
                  <a:off x="1357200" y="349704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71" name="Freeform 10"/>
                <p:cNvSpPr/>
                <p:nvPr/>
              </p:nvSpPr>
              <p:spPr>
                <a:xfrm>
                  <a:off x="1759320" y="349704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272" name="Group 40"/>
              <p:cNvGrpSpPr/>
              <p:nvPr/>
            </p:nvGrpSpPr>
            <p:grpSpPr>
              <a:xfrm>
                <a:off x="1771920" y="3502800"/>
                <a:ext cx="804240" cy="859680"/>
                <a:chOff x="1771920" y="3502800"/>
                <a:chExt cx="804240" cy="859680"/>
              </a:xfrm>
            </p:grpSpPr>
            <p:sp>
              <p:nvSpPr>
                <p:cNvPr id="273" name="Freeform 8"/>
                <p:cNvSpPr/>
                <p:nvPr/>
              </p:nvSpPr>
              <p:spPr>
                <a:xfrm>
                  <a:off x="1771920" y="3502800"/>
                  <a:ext cx="804240" cy="341640"/>
                </a:xfrm>
                <a:custGeom>
                  <a:avLst/>
                  <a:gdLst>
                    <a:gd name="textAreaLeft" fmla="*/ 0 w 804240"/>
                    <a:gd name="textAreaRight" fmla="*/ 804600 w 804240"/>
                    <a:gd name="textAreaTop" fmla="*/ 0 h 341640"/>
                    <a:gd name="textAreaBottom" fmla="*/ 342000 h 3416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74" name="Freeform 9"/>
                <p:cNvSpPr/>
                <p:nvPr/>
              </p:nvSpPr>
              <p:spPr>
                <a:xfrm>
                  <a:off x="1771920" y="367344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75" name="Freeform 10"/>
                <p:cNvSpPr/>
                <p:nvPr/>
              </p:nvSpPr>
              <p:spPr>
                <a:xfrm>
                  <a:off x="2174040" y="367344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276" name="Group 44"/>
            <p:cNvGrpSpPr/>
            <p:nvPr/>
          </p:nvGrpSpPr>
          <p:grpSpPr>
            <a:xfrm>
              <a:off x="1357200" y="2797200"/>
              <a:ext cx="1218960" cy="1036080"/>
              <a:chOff x="1357200" y="2797200"/>
              <a:chExt cx="1218960" cy="1036080"/>
            </a:xfrm>
          </p:grpSpPr>
          <p:grpSp>
            <p:nvGrpSpPr>
              <p:cNvPr id="277" name="Group 45"/>
              <p:cNvGrpSpPr/>
              <p:nvPr/>
            </p:nvGrpSpPr>
            <p:grpSpPr>
              <a:xfrm>
                <a:off x="1357200" y="2797200"/>
                <a:ext cx="804240" cy="859680"/>
                <a:chOff x="1357200" y="2797200"/>
                <a:chExt cx="804240" cy="859680"/>
              </a:xfrm>
            </p:grpSpPr>
            <p:sp>
              <p:nvSpPr>
                <p:cNvPr id="278" name="Freeform 8"/>
                <p:cNvSpPr/>
                <p:nvPr/>
              </p:nvSpPr>
              <p:spPr>
                <a:xfrm>
                  <a:off x="1357200" y="2797200"/>
                  <a:ext cx="804240" cy="341640"/>
                </a:xfrm>
                <a:custGeom>
                  <a:avLst/>
                  <a:gdLst>
                    <a:gd name="textAreaLeft" fmla="*/ 0 w 804240"/>
                    <a:gd name="textAreaRight" fmla="*/ 804600 w 804240"/>
                    <a:gd name="textAreaTop" fmla="*/ 0 h 341640"/>
                    <a:gd name="textAreaBottom" fmla="*/ 342000 h 3416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79" name="Freeform 9"/>
                <p:cNvSpPr/>
                <p:nvPr/>
              </p:nvSpPr>
              <p:spPr>
                <a:xfrm>
                  <a:off x="1357200" y="296784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80" name="Freeform 10"/>
                <p:cNvSpPr/>
                <p:nvPr/>
              </p:nvSpPr>
              <p:spPr>
                <a:xfrm>
                  <a:off x="1759320" y="296784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281" name="Group 49"/>
              <p:cNvGrpSpPr/>
              <p:nvPr/>
            </p:nvGrpSpPr>
            <p:grpSpPr>
              <a:xfrm>
                <a:off x="1771920" y="2973600"/>
                <a:ext cx="804240" cy="859680"/>
                <a:chOff x="1771920" y="2973600"/>
                <a:chExt cx="804240" cy="859680"/>
              </a:xfrm>
            </p:grpSpPr>
            <p:sp>
              <p:nvSpPr>
                <p:cNvPr id="282" name="Freeform 8"/>
                <p:cNvSpPr/>
                <p:nvPr/>
              </p:nvSpPr>
              <p:spPr>
                <a:xfrm>
                  <a:off x="1771920" y="2973600"/>
                  <a:ext cx="804240" cy="341640"/>
                </a:xfrm>
                <a:custGeom>
                  <a:avLst/>
                  <a:gdLst>
                    <a:gd name="textAreaLeft" fmla="*/ 0 w 804240"/>
                    <a:gd name="textAreaRight" fmla="*/ 804600 w 804240"/>
                    <a:gd name="textAreaTop" fmla="*/ 0 h 341640"/>
                    <a:gd name="textAreaBottom" fmla="*/ 342000 h 34164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83" name="Freeform 9"/>
                <p:cNvSpPr/>
                <p:nvPr/>
              </p:nvSpPr>
              <p:spPr>
                <a:xfrm>
                  <a:off x="1771920" y="314424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84" name="Freeform 10"/>
                <p:cNvSpPr/>
                <p:nvPr/>
              </p:nvSpPr>
              <p:spPr>
                <a:xfrm>
                  <a:off x="2174040" y="3144240"/>
                  <a:ext cx="402120" cy="689040"/>
                </a:xfrm>
                <a:custGeom>
                  <a:avLst/>
                  <a:gdLst>
                    <a:gd name="textAreaLeft" fmla="*/ 0 w 402120"/>
                    <a:gd name="textAreaRight" fmla="*/ 402480 w 402120"/>
                    <a:gd name="textAreaTop" fmla="*/ 0 h 689040"/>
                    <a:gd name="textAreaBottom" fmla="*/ 689040 h 68904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sp>
        <p:nvSpPr>
          <p:cNvPr id="285" name="AutoShape 110"/>
          <p:cNvSpPr/>
          <p:nvPr/>
        </p:nvSpPr>
        <p:spPr>
          <a:xfrm rot="5400000">
            <a:off x="1809720" y="2238120"/>
            <a:ext cx="774360" cy="587520"/>
          </a:xfrm>
          <a:prstGeom prst="rightArrow">
            <a:avLst>
              <a:gd name="adj1" fmla="val 55843"/>
              <a:gd name="adj2" fmla="val 49761"/>
            </a:avLst>
          </a:prstGeom>
          <a:gradFill rotWithShape="0">
            <a:gsLst>
              <a:gs pos="0">
                <a:srgbClr val="5d252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54"/>
          <p:cNvGrpSpPr/>
          <p:nvPr/>
        </p:nvGrpSpPr>
        <p:grpSpPr>
          <a:xfrm>
            <a:off x="1346040" y="723960"/>
            <a:ext cx="1692360" cy="1782720"/>
            <a:chOff x="1346040" y="723960"/>
            <a:chExt cx="1692360" cy="1782720"/>
          </a:xfrm>
        </p:grpSpPr>
        <p:grpSp>
          <p:nvGrpSpPr>
            <p:cNvPr id="287" name="Group 55"/>
            <p:cNvGrpSpPr/>
            <p:nvPr/>
          </p:nvGrpSpPr>
          <p:grpSpPr>
            <a:xfrm>
              <a:off x="1346040" y="723960"/>
              <a:ext cx="1266120" cy="1604160"/>
              <a:chOff x="1346040" y="723960"/>
              <a:chExt cx="1266120" cy="1604160"/>
            </a:xfrm>
          </p:grpSpPr>
          <p:grpSp>
            <p:nvGrpSpPr>
              <p:cNvPr id="288" name="Group 56"/>
              <p:cNvGrpSpPr/>
              <p:nvPr/>
            </p:nvGrpSpPr>
            <p:grpSpPr>
              <a:xfrm>
                <a:off x="1772640" y="723960"/>
                <a:ext cx="839520" cy="1423080"/>
                <a:chOff x="1772640" y="723960"/>
                <a:chExt cx="839520" cy="1423080"/>
              </a:xfrm>
            </p:grpSpPr>
            <p:grpSp>
              <p:nvGrpSpPr>
                <p:cNvPr id="289" name="Group 57"/>
                <p:cNvGrpSpPr/>
                <p:nvPr/>
              </p:nvGrpSpPr>
              <p:grpSpPr>
                <a:xfrm>
                  <a:off x="1772640" y="1262520"/>
                  <a:ext cx="839520" cy="884520"/>
                  <a:chOff x="1772640" y="1262520"/>
                  <a:chExt cx="839520" cy="884520"/>
                </a:xfrm>
              </p:grpSpPr>
              <p:grpSp>
                <p:nvGrpSpPr>
                  <p:cNvPr id="290" name="Group 58"/>
                  <p:cNvGrpSpPr/>
                  <p:nvPr/>
                </p:nvGrpSpPr>
                <p:grpSpPr>
                  <a:xfrm>
                    <a:off x="1985760" y="1531080"/>
                    <a:ext cx="626400" cy="525960"/>
                    <a:chOff x="1985760" y="1531080"/>
                    <a:chExt cx="626400" cy="525960"/>
                  </a:xfrm>
                </p:grpSpPr>
                <p:grpSp>
                  <p:nvGrpSpPr>
                    <p:cNvPr id="291" name="Group 59"/>
                    <p:cNvGrpSpPr/>
                    <p:nvPr/>
                  </p:nvGrpSpPr>
                  <p:grpSpPr>
                    <a:xfrm>
                      <a:off x="1985760" y="1531080"/>
                      <a:ext cx="413280" cy="436320"/>
                      <a:chOff x="1985760" y="1531080"/>
                      <a:chExt cx="413280" cy="436320"/>
                    </a:xfrm>
                  </p:grpSpPr>
                  <p:sp>
                    <p:nvSpPr>
                      <p:cNvPr id="292" name="Freeform 8"/>
                      <p:cNvSpPr/>
                      <p:nvPr/>
                    </p:nvSpPr>
                    <p:spPr>
                      <a:xfrm>
                        <a:off x="1985760" y="15310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93" name="Freeform 9"/>
                      <p:cNvSpPr/>
                      <p:nvPr/>
                    </p:nvSpPr>
                    <p:spPr>
                      <a:xfrm>
                        <a:off x="1985760" y="161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94" name="Freeform 10"/>
                      <p:cNvSpPr/>
                      <p:nvPr/>
                    </p:nvSpPr>
                    <p:spPr>
                      <a:xfrm>
                        <a:off x="2192400" y="161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295" name="Group 63"/>
                    <p:cNvGrpSpPr/>
                    <p:nvPr/>
                  </p:nvGrpSpPr>
                  <p:grpSpPr>
                    <a:xfrm>
                      <a:off x="2198880" y="1620720"/>
                      <a:ext cx="413280" cy="436320"/>
                      <a:chOff x="2198880" y="1620720"/>
                      <a:chExt cx="413280" cy="436320"/>
                    </a:xfrm>
                  </p:grpSpPr>
                  <p:sp>
                    <p:nvSpPr>
                      <p:cNvPr id="296" name="Freeform 8"/>
                      <p:cNvSpPr/>
                      <p:nvPr/>
                    </p:nvSpPr>
                    <p:spPr>
                      <a:xfrm>
                        <a:off x="2198880" y="16207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97" name="Freeform 9"/>
                      <p:cNvSpPr/>
                      <p:nvPr/>
                    </p:nvSpPr>
                    <p:spPr>
                      <a:xfrm>
                        <a:off x="2198880" y="170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298" name="Freeform 10"/>
                      <p:cNvSpPr/>
                      <p:nvPr/>
                    </p:nvSpPr>
                    <p:spPr>
                      <a:xfrm>
                        <a:off x="2405520" y="170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299" name="Group 67"/>
                  <p:cNvGrpSpPr/>
                  <p:nvPr/>
                </p:nvGrpSpPr>
                <p:grpSpPr>
                  <a:xfrm>
                    <a:off x="1985760" y="1262520"/>
                    <a:ext cx="626400" cy="525960"/>
                    <a:chOff x="1985760" y="1262520"/>
                    <a:chExt cx="626400" cy="525960"/>
                  </a:xfrm>
                </p:grpSpPr>
                <p:grpSp>
                  <p:nvGrpSpPr>
                    <p:cNvPr id="300" name="Group 68"/>
                    <p:cNvGrpSpPr/>
                    <p:nvPr/>
                  </p:nvGrpSpPr>
                  <p:grpSpPr>
                    <a:xfrm>
                      <a:off x="1985760" y="1262520"/>
                      <a:ext cx="413280" cy="436320"/>
                      <a:chOff x="1985760" y="1262520"/>
                      <a:chExt cx="413280" cy="436320"/>
                    </a:xfrm>
                  </p:grpSpPr>
                  <p:sp>
                    <p:nvSpPr>
                      <p:cNvPr id="301" name="Freeform 8"/>
                      <p:cNvSpPr/>
                      <p:nvPr/>
                    </p:nvSpPr>
                    <p:spPr>
                      <a:xfrm>
                        <a:off x="1985760" y="12625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02" name="Freeform 9"/>
                      <p:cNvSpPr/>
                      <p:nvPr/>
                    </p:nvSpPr>
                    <p:spPr>
                      <a:xfrm>
                        <a:off x="1985760" y="134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03" name="Freeform 10"/>
                      <p:cNvSpPr/>
                      <p:nvPr/>
                    </p:nvSpPr>
                    <p:spPr>
                      <a:xfrm>
                        <a:off x="2192400" y="134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04" name="Group 72"/>
                    <p:cNvGrpSpPr/>
                    <p:nvPr/>
                  </p:nvGrpSpPr>
                  <p:grpSpPr>
                    <a:xfrm>
                      <a:off x="2198880" y="1352160"/>
                      <a:ext cx="413280" cy="436320"/>
                      <a:chOff x="2198880" y="1352160"/>
                      <a:chExt cx="413280" cy="436320"/>
                    </a:xfrm>
                  </p:grpSpPr>
                  <p:sp>
                    <p:nvSpPr>
                      <p:cNvPr id="305" name="Freeform 8"/>
                      <p:cNvSpPr/>
                      <p:nvPr/>
                    </p:nvSpPr>
                    <p:spPr>
                      <a:xfrm>
                        <a:off x="2198880" y="135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06" name="Freeform 9"/>
                      <p:cNvSpPr/>
                      <p:nvPr/>
                    </p:nvSpPr>
                    <p:spPr>
                      <a:xfrm>
                        <a:off x="2198880" y="143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07" name="Freeform 10"/>
                      <p:cNvSpPr/>
                      <p:nvPr/>
                    </p:nvSpPr>
                    <p:spPr>
                      <a:xfrm>
                        <a:off x="2405520" y="143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308" name="Group 76"/>
                  <p:cNvGrpSpPr/>
                  <p:nvPr/>
                </p:nvGrpSpPr>
                <p:grpSpPr>
                  <a:xfrm>
                    <a:off x="1772640" y="1621080"/>
                    <a:ext cx="626400" cy="525960"/>
                    <a:chOff x="1772640" y="1621080"/>
                    <a:chExt cx="626400" cy="525960"/>
                  </a:xfrm>
                </p:grpSpPr>
                <p:grpSp>
                  <p:nvGrpSpPr>
                    <p:cNvPr id="309" name="Group 77"/>
                    <p:cNvGrpSpPr/>
                    <p:nvPr/>
                  </p:nvGrpSpPr>
                  <p:grpSpPr>
                    <a:xfrm>
                      <a:off x="1772640" y="1621080"/>
                      <a:ext cx="413280" cy="436320"/>
                      <a:chOff x="1772640" y="1621080"/>
                      <a:chExt cx="413280" cy="436320"/>
                    </a:xfrm>
                  </p:grpSpPr>
                  <p:sp>
                    <p:nvSpPr>
                      <p:cNvPr id="310" name="Freeform 8"/>
                      <p:cNvSpPr/>
                      <p:nvPr/>
                    </p:nvSpPr>
                    <p:spPr>
                      <a:xfrm>
                        <a:off x="1772640" y="16210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11" name="Freeform 9"/>
                      <p:cNvSpPr/>
                      <p:nvPr/>
                    </p:nvSpPr>
                    <p:spPr>
                      <a:xfrm>
                        <a:off x="1772640" y="170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12" name="Freeform 10"/>
                      <p:cNvSpPr/>
                      <p:nvPr/>
                    </p:nvSpPr>
                    <p:spPr>
                      <a:xfrm>
                        <a:off x="1979280" y="170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13" name="Group 81"/>
                    <p:cNvGrpSpPr/>
                    <p:nvPr/>
                  </p:nvGrpSpPr>
                  <p:grpSpPr>
                    <a:xfrm>
                      <a:off x="1985760" y="1710720"/>
                      <a:ext cx="413280" cy="436320"/>
                      <a:chOff x="1985760" y="1710720"/>
                      <a:chExt cx="413280" cy="436320"/>
                    </a:xfrm>
                  </p:grpSpPr>
                  <p:sp>
                    <p:nvSpPr>
                      <p:cNvPr id="314" name="Freeform 8"/>
                      <p:cNvSpPr/>
                      <p:nvPr/>
                    </p:nvSpPr>
                    <p:spPr>
                      <a:xfrm>
                        <a:off x="1985760" y="17107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15" name="Freeform 9"/>
                      <p:cNvSpPr/>
                      <p:nvPr/>
                    </p:nvSpPr>
                    <p:spPr>
                      <a:xfrm>
                        <a:off x="1985760" y="179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16" name="Freeform 10"/>
                      <p:cNvSpPr/>
                      <p:nvPr/>
                    </p:nvSpPr>
                    <p:spPr>
                      <a:xfrm>
                        <a:off x="2192400" y="179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317" name="Group 85"/>
                  <p:cNvGrpSpPr/>
                  <p:nvPr/>
                </p:nvGrpSpPr>
                <p:grpSpPr>
                  <a:xfrm>
                    <a:off x="1772640" y="1352520"/>
                    <a:ext cx="626400" cy="525960"/>
                    <a:chOff x="1772640" y="1352520"/>
                    <a:chExt cx="626400" cy="525960"/>
                  </a:xfrm>
                </p:grpSpPr>
                <p:grpSp>
                  <p:nvGrpSpPr>
                    <p:cNvPr id="318" name="Group 86"/>
                    <p:cNvGrpSpPr/>
                    <p:nvPr/>
                  </p:nvGrpSpPr>
                  <p:grpSpPr>
                    <a:xfrm>
                      <a:off x="1772640" y="1352520"/>
                      <a:ext cx="413280" cy="436320"/>
                      <a:chOff x="1772640" y="1352520"/>
                      <a:chExt cx="413280" cy="436320"/>
                    </a:xfrm>
                  </p:grpSpPr>
                  <p:sp>
                    <p:nvSpPr>
                      <p:cNvPr id="319" name="Freeform 8"/>
                      <p:cNvSpPr/>
                      <p:nvPr/>
                    </p:nvSpPr>
                    <p:spPr>
                      <a:xfrm>
                        <a:off x="1772640" y="13525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20" name="Freeform 9"/>
                      <p:cNvSpPr/>
                      <p:nvPr/>
                    </p:nvSpPr>
                    <p:spPr>
                      <a:xfrm>
                        <a:off x="1772640" y="143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21" name="Freeform 10"/>
                      <p:cNvSpPr/>
                      <p:nvPr/>
                    </p:nvSpPr>
                    <p:spPr>
                      <a:xfrm>
                        <a:off x="1979280" y="143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22" name="Group 90"/>
                    <p:cNvGrpSpPr/>
                    <p:nvPr/>
                  </p:nvGrpSpPr>
                  <p:grpSpPr>
                    <a:xfrm>
                      <a:off x="1985760" y="1442160"/>
                      <a:ext cx="413280" cy="436320"/>
                      <a:chOff x="1985760" y="1442160"/>
                      <a:chExt cx="413280" cy="436320"/>
                    </a:xfrm>
                  </p:grpSpPr>
                  <p:sp>
                    <p:nvSpPr>
                      <p:cNvPr id="323" name="Freeform 8"/>
                      <p:cNvSpPr/>
                      <p:nvPr/>
                    </p:nvSpPr>
                    <p:spPr>
                      <a:xfrm>
                        <a:off x="1985760" y="144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24" name="Freeform 9"/>
                      <p:cNvSpPr/>
                      <p:nvPr/>
                    </p:nvSpPr>
                    <p:spPr>
                      <a:xfrm>
                        <a:off x="1985760" y="152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25" name="Freeform 10"/>
                      <p:cNvSpPr/>
                      <p:nvPr/>
                    </p:nvSpPr>
                    <p:spPr>
                      <a:xfrm>
                        <a:off x="2192400" y="152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grpSp>
              <p:nvGrpSpPr>
                <p:cNvPr id="326" name="Group 94"/>
                <p:cNvGrpSpPr/>
                <p:nvPr/>
              </p:nvGrpSpPr>
              <p:grpSpPr>
                <a:xfrm>
                  <a:off x="1772640" y="723960"/>
                  <a:ext cx="839520" cy="884520"/>
                  <a:chOff x="1772640" y="723960"/>
                  <a:chExt cx="839520" cy="884520"/>
                </a:xfrm>
              </p:grpSpPr>
              <p:grpSp>
                <p:nvGrpSpPr>
                  <p:cNvPr id="327" name="Group 95"/>
                  <p:cNvGrpSpPr/>
                  <p:nvPr/>
                </p:nvGrpSpPr>
                <p:grpSpPr>
                  <a:xfrm>
                    <a:off x="1985760" y="992520"/>
                    <a:ext cx="626400" cy="525960"/>
                    <a:chOff x="1985760" y="992520"/>
                    <a:chExt cx="626400" cy="525960"/>
                  </a:xfrm>
                </p:grpSpPr>
                <p:grpSp>
                  <p:nvGrpSpPr>
                    <p:cNvPr id="328" name="Group 96"/>
                    <p:cNvGrpSpPr/>
                    <p:nvPr/>
                  </p:nvGrpSpPr>
                  <p:grpSpPr>
                    <a:xfrm>
                      <a:off x="1985760" y="992520"/>
                      <a:ext cx="413280" cy="436320"/>
                      <a:chOff x="1985760" y="992520"/>
                      <a:chExt cx="413280" cy="436320"/>
                    </a:xfrm>
                  </p:grpSpPr>
                  <p:sp>
                    <p:nvSpPr>
                      <p:cNvPr id="329" name="Freeform 8"/>
                      <p:cNvSpPr/>
                      <p:nvPr/>
                    </p:nvSpPr>
                    <p:spPr>
                      <a:xfrm>
                        <a:off x="1985760" y="9925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30" name="Freeform 9"/>
                      <p:cNvSpPr/>
                      <p:nvPr/>
                    </p:nvSpPr>
                    <p:spPr>
                      <a:xfrm>
                        <a:off x="1985760" y="107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31" name="Freeform 10"/>
                      <p:cNvSpPr/>
                      <p:nvPr/>
                    </p:nvSpPr>
                    <p:spPr>
                      <a:xfrm>
                        <a:off x="2192400" y="107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32" name="Group 100"/>
                    <p:cNvGrpSpPr/>
                    <p:nvPr/>
                  </p:nvGrpSpPr>
                  <p:grpSpPr>
                    <a:xfrm>
                      <a:off x="2198880" y="1082160"/>
                      <a:ext cx="413280" cy="436320"/>
                      <a:chOff x="2198880" y="1082160"/>
                      <a:chExt cx="413280" cy="436320"/>
                    </a:xfrm>
                  </p:grpSpPr>
                  <p:sp>
                    <p:nvSpPr>
                      <p:cNvPr id="333" name="Freeform 8"/>
                      <p:cNvSpPr/>
                      <p:nvPr/>
                    </p:nvSpPr>
                    <p:spPr>
                      <a:xfrm>
                        <a:off x="2198880" y="108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34" name="Freeform 9"/>
                      <p:cNvSpPr/>
                      <p:nvPr/>
                    </p:nvSpPr>
                    <p:spPr>
                      <a:xfrm>
                        <a:off x="2198880" y="116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35" name="Freeform 10"/>
                      <p:cNvSpPr/>
                      <p:nvPr/>
                    </p:nvSpPr>
                    <p:spPr>
                      <a:xfrm>
                        <a:off x="2405520" y="116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336" name="Group 104"/>
                  <p:cNvGrpSpPr/>
                  <p:nvPr/>
                </p:nvGrpSpPr>
                <p:grpSpPr>
                  <a:xfrm>
                    <a:off x="1985760" y="723960"/>
                    <a:ext cx="626400" cy="525960"/>
                    <a:chOff x="1985760" y="723960"/>
                    <a:chExt cx="626400" cy="525960"/>
                  </a:xfrm>
                </p:grpSpPr>
                <p:grpSp>
                  <p:nvGrpSpPr>
                    <p:cNvPr id="337" name="Group 105"/>
                    <p:cNvGrpSpPr/>
                    <p:nvPr/>
                  </p:nvGrpSpPr>
                  <p:grpSpPr>
                    <a:xfrm>
                      <a:off x="1985760" y="723960"/>
                      <a:ext cx="413280" cy="436320"/>
                      <a:chOff x="1985760" y="723960"/>
                      <a:chExt cx="413280" cy="436320"/>
                    </a:xfrm>
                  </p:grpSpPr>
                  <p:sp>
                    <p:nvSpPr>
                      <p:cNvPr id="338" name="Freeform 8"/>
                      <p:cNvSpPr/>
                      <p:nvPr/>
                    </p:nvSpPr>
                    <p:spPr>
                      <a:xfrm>
                        <a:off x="1985760" y="7239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39" name="Freeform 9"/>
                      <p:cNvSpPr/>
                      <p:nvPr/>
                    </p:nvSpPr>
                    <p:spPr>
                      <a:xfrm>
                        <a:off x="1985760" y="8107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40" name="Freeform 10"/>
                      <p:cNvSpPr/>
                      <p:nvPr/>
                    </p:nvSpPr>
                    <p:spPr>
                      <a:xfrm>
                        <a:off x="2192400" y="8107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41" name="Group 109"/>
                    <p:cNvGrpSpPr/>
                    <p:nvPr/>
                  </p:nvGrpSpPr>
                  <p:grpSpPr>
                    <a:xfrm>
                      <a:off x="2198880" y="813600"/>
                      <a:ext cx="413280" cy="436320"/>
                      <a:chOff x="2198880" y="813600"/>
                      <a:chExt cx="413280" cy="436320"/>
                    </a:xfrm>
                  </p:grpSpPr>
                  <p:sp>
                    <p:nvSpPr>
                      <p:cNvPr id="342" name="Freeform 8"/>
                      <p:cNvSpPr/>
                      <p:nvPr/>
                    </p:nvSpPr>
                    <p:spPr>
                      <a:xfrm>
                        <a:off x="2198880" y="8136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43" name="Freeform 9"/>
                      <p:cNvSpPr/>
                      <p:nvPr/>
                    </p:nvSpPr>
                    <p:spPr>
                      <a:xfrm>
                        <a:off x="2198880" y="90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44" name="Freeform 10"/>
                      <p:cNvSpPr/>
                      <p:nvPr/>
                    </p:nvSpPr>
                    <p:spPr>
                      <a:xfrm>
                        <a:off x="2405520" y="90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345" name="Group 113"/>
                  <p:cNvGrpSpPr/>
                  <p:nvPr/>
                </p:nvGrpSpPr>
                <p:grpSpPr>
                  <a:xfrm>
                    <a:off x="1772640" y="1082520"/>
                    <a:ext cx="626400" cy="525960"/>
                    <a:chOff x="1772640" y="1082520"/>
                    <a:chExt cx="626400" cy="525960"/>
                  </a:xfrm>
                </p:grpSpPr>
                <p:grpSp>
                  <p:nvGrpSpPr>
                    <p:cNvPr id="346" name="Group 114"/>
                    <p:cNvGrpSpPr/>
                    <p:nvPr/>
                  </p:nvGrpSpPr>
                  <p:grpSpPr>
                    <a:xfrm>
                      <a:off x="1772640" y="1082520"/>
                      <a:ext cx="413280" cy="436320"/>
                      <a:chOff x="1772640" y="1082520"/>
                      <a:chExt cx="413280" cy="436320"/>
                    </a:xfrm>
                  </p:grpSpPr>
                  <p:sp>
                    <p:nvSpPr>
                      <p:cNvPr id="347" name="Freeform 8"/>
                      <p:cNvSpPr/>
                      <p:nvPr/>
                    </p:nvSpPr>
                    <p:spPr>
                      <a:xfrm>
                        <a:off x="1772640" y="10825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48" name="Freeform 9"/>
                      <p:cNvSpPr/>
                      <p:nvPr/>
                    </p:nvSpPr>
                    <p:spPr>
                      <a:xfrm>
                        <a:off x="1772640" y="116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49" name="Freeform 10"/>
                      <p:cNvSpPr/>
                      <p:nvPr/>
                    </p:nvSpPr>
                    <p:spPr>
                      <a:xfrm>
                        <a:off x="1979280" y="116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50" name="Group 118"/>
                    <p:cNvGrpSpPr/>
                    <p:nvPr/>
                  </p:nvGrpSpPr>
                  <p:grpSpPr>
                    <a:xfrm>
                      <a:off x="1985760" y="1172160"/>
                      <a:ext cx="413280" cy="436320"/>
                      <a:chOff x="1985760" y="1172160"/>
                      <a:chExt cx="413280" cy="436320"/>
                    </a:xfrm>
                  </p:grpSpPr>
                  <p:sp>
                    <p:nvSpPr>
                      <p:cNvPr id="351" name="Freeform 8"/>
                      <p:cNvSpPr/>
                      <p:nvPr/>
                    </p:nvSpPr>
                    <p:spPr>
                      <a:xfrm>
                        <a:off x="1985760" y="117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52" name="Freeform 9"/>
                      <p:cNvSpPr/>
                      <p:nvPr/>
                    </p:nvSpPr>
                    <p:spPr>
                      <a:xfrm>
                        <a:off x="1985760" y="125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53" name="Freeform 10"/>
                      <p:cNvSpPr/>
                      <p:nvPr/>
                    </p:nvSpPr>
                    <p:spPr>
                      <a:xfrm>
                        <a:off x="2192400" y="125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354" name="Group 122"/>
                  <p:cNvGrpSpPr/>
                  <p:nvPr/>
                </p:nvGrpSpPr>
                <p:grpSpPr>
                  <a:xfrm>
                    <a:off x="1772640" y="813960"/>
                    <a:ext cx="626400" cy="525960"/>
                    <a:chOff x="1772640" y="813960"/>
                    <a:chExt cx="626400" cy="525960"/>
                  </a:xfrm>
                </p:grpSpPr>
                <p:grpSp>
                  <p:nvGrpSpPr>
                    <p:cNvPr id="355" name="Group 123"/>
                    <p:cNvGrpSpPr/>
                    <p:nvPr/>
                  </p:nvGrpSpPr>
                  <p:grpSpPr>
                    <a:xfrm>
                      <a:off x="1772640" y="813960"/>
                      <a:ext cx="413280" cy="436320"/>
                      <a:chOff x="1772640" y="813960"/>
                      <a:chExt cx="413280" cy="436320"/>
                    </a:xfrm>
                  </p:grpSpPr>
                  <p:sp>
                    <p:nvSpPr>
                      <p:cNvPr id="356" name="Freeform 8"/>
                      <p:cNvSpPr/>
                      <p:nvPr/>
                    </p:nvSpPr>
                    <p:spPr>
                      <a:xfrm>
                        <a:off x="1772640" y="8139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57" name="Freeform 9"/>
                      <p:cNvSpPr/>
                      <p:nvPr/>
                    </p:nvSpPr>
                    <p:spPr>
                      <a:xfrm>
                        <a:off x="1772640" y="9007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58" name="Freeform 10"/>
                      <p:cNvSpPr/>
                      <p:nvPr/>
                    </p:nvSpPr>
                    <p:spPr>
                      <a:xfrm>
                        <a:off x="1979280" y="9007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59" name="Group 127"/>
                    <p:cNvGrpSpPr/>
                    <p:nvPr/>
                  </p:nvGrpSpPr>
                  <p:grpSpPr>
                    <a:xfrm>
                      <a:off x="1985760" y="903600"/>
                      <a:ext cx="413280" cy="436320"/>
                      <a:chOff x="1985760" y="903600"/>
                      <a:chExt cx="413280" cy="436320"/>
                    </a:xfrm>
                  </p:grpSpPr>
                  <p:sp>
                    <p:nvSpPr>
                      <p:cNvPr id="360" name="Freeform 8"/>
                      <p:cNvSpPr/>
                      <p:nvPr/>
                    </p:nvSpPr>
                    <p:spPr>
                      <a:xfrm>
                        <a:off x="1985760" y="9036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61" name="Freeform 9"/>
                      <p:cNvSpPr/>
                      <p:nvPr/>
                    </p:nvSpPr>
                    <p:spPr>
                      <a:xfrm>
                        <a:off x="1985760" y="99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62" name="Freeform 10"/>
                      <p:cNvSpPr/>
                      <p:nvPr/>
                    </p:nvSpPr>
                    <p:spPr>
                      <a:xfrm>
                        <a:off x="2192400" y="99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grpSp>
          <p:grpSp>
            <p:nvGrpSpPr>
              <p:cNvPr id="363" name="Group 131"/>
              <p:cNvGrpSpPr/>
              <p:nvPr/>
            </p:nvGrpSpPr>
            <p:grpSpPr>
              <a:xfrm>
                <a:off x="1346040" y="905040"/>
                <a:ext cx="839520" cy="1423080"/>
                <a:chOff x="1346040" y="905040"/>
                <a:chExt cx="839520" cy="1423080"/>
              </a:xfrm>
            </p:grpSpPr>
            <p:grpSp>
              <p:nvGrpSpPr>
                <p:cNvPr id="364" name="Group 132"/>
                <p:cNvGrpSpPr/>
                <p:nvPr/>
              </p:nvGrpSpPr>
              <p:grpSpPr>
                <a:xfrm>
                  <a:off x="1346040" y="1443600"/>
                  <a:ext cx="839520" cy="884520"/>
                  <a:chOff x="1346040" y="1443600"/>
                  <a:chExt cx="839520" cy="884520"/>
                </a:xfrm>
              </p:grpSpPr>
              <p:grpSp>
                <p:nvGrpSpPr>
                  <p:cNvPr id="365" name="Group 133"/>
                  <p:cNvGrpSpPr/>
                  <p:nvPr/>
                </p:nvGrpSpPr>
                <p:grpSpPr>
                  <a:xfrm>
                    <a:off x="1559160" y="1712160"/>
                    <a:ext cx="626400" cy="525960"/>
                    <a:chOff x="1559160" y="1712160"/>
                    <a:chExt cx="626400" cy="525960"/>
                  </a:xfrm>
                </p:grpSpPr>
                <p:grpSp>
                  <p:nvGrpSpPr>
                    <p:cNvPr id="366" name="Group 134"/>
                    <p:cNvGrpSpPr/>
                    <p:nvPr/>
                  </p:nvGrpSpPr>
                  <p:grpSpPr>
                    <a:xfrm>
                      <a:off x="1559160" y="1712160"/>
                      <a:ext cx="413280" cy="436320"/>
                      <a:chOff x="1559160" y="1712160"/>
                      <a:chExt cx="413280" cy="436320"/>
                    </a:xfrm>
                  </p:grpSpPr>
                  <p:sp>
                    <p:nvSpPr>
                      <p:cNvPr id="367" name="Freeform 8"/>
                      <p:cNvSpPr/>
                      <p:nvPr/>
                    </p:nvSpPr>
                    <p:spPr>
                      <a:xfrm>
                        <a:off x="1559160" y="171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68" name="Freeform 9"/>
                      <p:cNvSpPr/>
                      <p:nvPr/>
                    </p:nvSpPr>
                    <p:spPr>
                      <a:xfrm>
                        <a:off x="1559160" y="179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69" name="Freeform 10"/>
                      <p:cNvSpPr/>
                      <p:nvPr/>
                    </p:nvSpPr>
                    <p:spPr>
                      <a:xfrm>
                        <a:off x="1765800" y="179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70" name="Group 138"/>
                    <p:cNvGrpSpPr/>
                    <p:nvPr/>
                  </p:nvGrpSpPr>
                  <p:grpSpPr>
                    <a:xfrm>
                      <a:off x="1772280" y="1801800"/>
                      <a:ext cx="413280" cy="436320"/>
                      <a:chOff x="1772280" y="1801800"/>
                      <a:chExt cx="413280" cy="436320"/>
                    </a:xfrm>
                  </p:grpSpPr>
                  <p:sp>
                    <p:nvSpPr>
                      <p:cNvPr id="371" name="Freeform 8"/>
                      <p:cNvSpPr/>
                      <p:nvPr/>
                    </p:nvSpPr>
                    <p:spPr>
                      <a:xfrm>
                        <a:off x="1772280" y="18018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72" name="Freeform 9"/>
                      <p:cNvSpPr/>
                      <p:nvPr/>
                    </p:nvSpPr>
                    <p:spPr>
                      <a:xfrm>
                        <a:off x="1772280" y="188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73" name="Freeform 10"/>
                      <p:cNvSpPr/>
                      <p:nvPr/>
                    </p:nvSpPr>
                    <p:spPr>
                      <a:xfrm>
                        <a:off x="1978920" y="188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374" name="Group 142"/>
                  <p:cNvGrpSpPr/>
                  <p:nvPr/>
                </p:nvGrpSpPr>
                <p:grpSpPr>
                  <a:xfrm>
                    <a:off x="1559160" y="1443600"/>
                    <a:ext cx="626400" cy="525960"/>
                    <a:chOff x="1559160" y="1443600"/>
                    <a:chExt cx="626400" cy="525960"/>
                  </a:xfrm>
                </p:grpSpPr>
                <p:grpSp>
                  <p:nvGrpSpPr>
                    <p:cNvPr id="375" name="Group 143"/>
                    <p:cNvGrpSpPr/>
                    <p:nvPr/>
                  </p:nvGrpSpPr>
                  <p:grpSpPr>
                    <a:xfrm>
                      <a:off x="1559160" y="1443600"/>
                      <a:ext cx="413280" cy="436320"/>
                      <a:chOff x="1559160" y="1443600"/>
                      <a:chExt cx="413280" cy="436320"/>
                    </a:xfrm>
                  </p:grpSpPr>
                  <p:sp>
                    <p:nvSpPr>
                      <p:cNvPr id="376" name="Freeform 8"/>
                      <p:cNvSpPr/>
                      <p:nvPr/>
                    </p:nvSpPr>
                    <p:spPr>
                      <a:xfrm>
                        <a:off x="1559160" y="14436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77" name="Freeform 9"/>
                      <p:cNvSpPr/>
                      <p:nvPr/>
                    </p:nvSpPr>
                    <p:spPr>
                      <a:xfrm>
                        <a:off x="1559160" y="153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78" name="Freeform 10"/>
                      <p:cNvSpPr/>
                      <p:nvPr/>
                    </p:nvSpPr>
                    <p:spPr>
                      <a:xfrm>
                        <a:off x="1765800" y="153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79" name="Group 147"/>
                    <p:cNvGrpSpPr/>
                    <p:nvPr/>
                  </p:nvGrpSpPr>
                  <p:grpSpPr>
                    <a:xfrm>
                      <a:off x="1772280" y="1533240"/>
                      <a:ext cx="413280" cy="436320"/>
                      <a:chOff x="1772280" y="1533240"/>
                      <a:chExt cx="413280" cy="436320"/>
                    </a:xfrm>
                  </p:grpSpPr>
                  <p:sp>
                    <p:nvSpPr>
                      <p:cNvPr id="380" name="Freeform 8"/>
                      <p:cNvSpPr/>
                      <p:nvPr/>
                    </p:nvSpPr>
                    <p:spPr>
                      <a:xfrm>
                        <a:off x="1772280" y="15332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81" name="Freeform 9"/>
                      <p:cNvSpPr/>
                      <p:nvPr/>
                    </p:nvSpPr>
                    <p:spPr>
                      <a:xfrm>
                        <a:off x="1772280" y="162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82" name="Freeform 10"/>
                      <p:cNvSpPr/>
                      <p:nvPr/>
                    </p:nvSpPr>
                    <p:spPr>
                      <a:xfrm>
                        <a:off x="1978920" y="162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383" name="Group 151"/>
                  <p:cNvGrpSpPr/>
                  <p:nvPr/>
                </p:nvGrpSpPr>
                <p:grpSpPr>
                  <a:xfrm>
                    <a:off x="1346040" y="1802160"/>
                    <a:ext cx="626400" cy="525960"/>
                    <a:chOff x="1346040" y="1802160"/>
                    <a:chExt cx="626400" cy="525960"/>
                  </a:xfrm>
                </p:grpSpPr>
                <p:grpSp>
                  <p:nvGrpSpPr>
                    <p:cNvPr id="384" name="Group 152"/>
                    <p:cNvGrpSpPr/>
                    <p:nvPr/>
                  </p:nvGrpSpPr>
                  <p:grpSpPr>
                    <a:xfrm>
                      <a:off x="1346040" y="1802160"/>
                      <a:ext cx="413280" cy="436320"/>
                      <a:chOff x="1346040" y="1802160"/>
                      <a:chExt cx="413280" cy="436320"/>
                    </a:xfrm>
                  </p:grpSpPr>
                  <p:sp>
                    <p:nvSpPr>
                      <p:cNvPr id="385" name="Freeform 8"/>
                      <p:cNvSpPr/>
                      <p:nvPr/>
                    </p:nvSpPr>
                    <p:spPr>
                      <a:xfrm>
                        <a:off x="1346040" y="180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86" name="Freeform 9"/>
                      <p:cNvSpPr/>
                      <p:nvPr/>
                    </p:nvSpPr>
                    <p:spPr>
                      <a:xfrm>
                        <a:off x="1346040" y="188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87" name="Freeform 10"/>
                      <p:cNvSpPr/>
                      <p:nvPr/>
                    </p:nvSpPr>
                    <p:spPr>
                      <a:xfrm>
                        <a:off x="1552680" y="188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88" name="Group 156"/>
                    <p:cNvGrpSpPr/>
                    <p:nvPr/>
                  </p:nvGrpSpPr>
                  <p:grpSpPr>
                    <a:xfrm>
                      <a:off x="1559160" y="1891800"/>
                      <a:ext cx="413280" cy="436320"/>
                      <a:chOff x="1559160" y="1891800"/>
                      <a:chExt cx="413280" cy="436320"/>
                    </a:xfrm>
                  </p:grpSpPr>
                  <p:sp>
                    <p:nvSpPr>
                      <p:cNvPr id="389" name="Freeform 8"/>
                      <p:cNvSpPr/>
                      <p:nvPr/>
                    </p:nvSpPr>
                    <p:spPr>
                      <a:xfrm>
                        <a:off x="1559160" y="18918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90" name="Freeform 9"/>
                      <p:cNvSpPr/>
                      <p:nvPr/>
                    </p:nvSpPr>
                    <p:spPr>
                      <a:xfrm>
                        <a:off x="1559160" y="197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91" name="Freeform 10"/>
                      <p:cNvSpPr/>
                      <p:nvPr/>
                    </p:nvSpPr>
                    <p:spPr>
                      <a:xfrm>
                        <a:off x="1765800" y="197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392" name="Group 160"/>
                  <p:cNvGrpSpPr/>
                  <p:nvPr/>
                </p:nvGrpSpPr>
                <p:grpSpPr>
                  <a:xfrm>
                    <a:off x="1346040" y="1533600"/>
                    <a:ext cx="626400" cy="525960"/>
                    <a:chOff x="1346040" y="1533600"/>
                    <a:chExt cx="626400" cy="525960"/>
                  </a:xfrm>
                </p:grpSpPr>
                <p:grpSp>
                  <p:nvGrpSpPr>
                    <p:cNvPr id="393" name="Group 161"/>
                    <p:cNvGrpSpPr/>
                    <p:nvPr/>
                  </p:nvGrpSpPr>
                  <p:grpSpPr>
                    <a:xfrm>
                      <a:off x="1346040" y="1533600"/>
                      <a:ext cx="413280" cy="436320"/>
                      <a:chOff x="1346040" y="1533600"/>
                      <a:chExt cx="413280" cy="436320"/>
                    </a:xfrm>
                  </p:grpSpPr>
                  <p:sp>
                    <p:nvSpPr>
                      <p:cNvPr id="394" name="Freeform 8"/>
                      <p:cNvSpPr/>
                      <p:nvPr/>
                    </p:nvSpPr>
                    <p:spPr>
                      <a:xfrm>
                        <a:off x="1346040" y="15336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95" name="Freeform 9"/>
                      <p:cNvSpPr/>
                      <p:nvPr/>
                    </p:nvSpPr>
                    <p:spPr>
                      <a:xfrm>
                        <a:off x="1346040" y="162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96" name="Freeform 10"/>
                      <p:cNvSpPr/>
                      <p:nvPr/>
                    </p:nvSpPr>
                    <p:spPr>
                      <a:xfrm>
                        <a:off x="1552680" y="162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397" name="Group 165"/>
                    <p:cNvGrpSpPr/>
                    <p:nvPr/>
                  </p:nvGrpSpPr>
                  <p:grpSpPr>
                    <a:xfrm>
                      <a:off x="1559160" y="1623240"/>
                      <a:ext cx="413280" cy="436320"/>
                      <a:chOff x="1559160" y="1623240"/>
                      <a:chExt cx="413280" cy="436320"/>
                    </a:xfrm>
                  </p:grpSpPr>
                  <p:sp>
                    <p:nvSpPr>
                      <p:cNvPr id="398" name="Freeform 8"/>
                      <p:cNvSpPr/>
                      <p:nvPr/>
                    </p:nvSpPr>
                    <p:spPr>
                      <a:xfrm>
                        <a:off x="1559160" y="16232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399" name="Freeform 9"/>
                      <p:cNvSpPr/>
                      <p:nvPr/>
                    </p:nvSpPr>
                    <p:spPr>
                      <a:xfrm>
                        <a:off x="1559160" y="171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00" name="Freeform 10"/>
                      <p:cNvSpPr/>
                      <p:nvPr/>
                    </p:nvSpPr>
                    <p:spPr>
                      <a:xfrm>
                        <a:off x="1765800" y="171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grpSp>
              <p:nvGrpSpPr>
                <p:cNvPr id="401" name="Group 169"/>
                <p:cNvGrpSpPr/>
                <p:nvPr/>
              </p:nvGrpSpPr>
              <p:grpSpPr>
                <a:xfrm>
                  <a:off x="1346040" y="905040"/>
                  <a:ext cx="839520" cy="884520"/>
                  <a:chOff x="1346040" y="905040"/>
                  <a:chExt cx="839520" cy="884520"/>
                </a:xfrm>
              </p:grpSpPr>
              <p:grpSp>
                <p:nvGrpSpPr>
                  <p:cNvPr id="402" name="Group 170"/>
                  <p:cNvGrpSpPr/>
                  <p:nvPr/>
                </p:nvGrpSpPr>
                <p:grpSpPr>
                  <a:xfrm>
                    <a:off x="1559160" y="1173600"/>
                    <a:ext cx="626400" cy="525960"/>
                    <a:chOff x="1559160" y="1173600"/>
                    <a:chExt cx="626400" cy="525960"/>
                  </a:xfrm>
                </p:grpSpPr>
                <p:grpSp>
                  <p:nvGrpSpPr>
                    <p:cNvPr id="403" name="Group 171"/>
                    <p:cNvGrpSpPr/>
                    <p:nvPr/>
                  </p:nvGrpSpPr>
                  <p:grpSpPr>
                    <a:xfrm>
                      <a:off x="1559160" y="1173600"/>
                      <a:ext cx="413280" cy="436320"/>
                      <a:chOff x="1559160" y="1173600"/>
                      <a:chExt cx="413280" cy="436320"/>
                    </a:xfrm>
                  </p:grpSpPr>
                  <p:sp>
                    <p:nvSpPr>
                      <p:cNvPr id="404" name="Freeform 8"/>
                      <p:cNvSpPr/>
                      <p:nvPr/>
                    </p:nvSpPr>
                    <p:spPr>
                      <a:xfrm>
                        <a:off x="1559160" y="11736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05" name="Freeform 9"/>
                      <p:cNvSpPr/>
                      <p:nvPr/>
                    </p:nvSpPr>
                    <p:spPr>
                      <a:xfrm>
                        <a:off x="1559160" y="126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06" name="Freeform 10"/>
                      <p:cNvSpPr/>
                      <p:nvPr/>
                    </p:nvSpPr>
                    <p:spPr>
                      <a:xfrm>
                        <a:off x="1765800" y="126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07" name="Group 175"/>
                    <p:cNvGrpSpPr/>
                    <p:nvPr/>
                  </p:nvGrpSpPr>
                  <p:grpSpPr>
                    <a:xfrm>
                      <a:off x="1772280" y="1263240"/>
                      <a:ext cx="413280" cy="436320"/>
                      <a:chOff x="1772280" y="1263240"/>
                      <a:chExt cx="413280" cy="436320"/>
                    </a:xfrm>
                  </p:grpSpPr>
                  <p:sp>
                    <p:nvSpPr>
                      <p:cNvPr id="408" name="Freeform 8"/>
                      <p:cNvSpPr/>
                      <p:nvPr/>
                    </p:nvSpPr>
                    <p:spPr>
                      <a:xfrm>
                        <a:off x="1772280" y="12632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09" name="Freeform 9"/>
                      <p:cNvSpPr/>
                      <p:nvPr/>
                    </p:nvSpPr>
                    <p:spPr>
                      <a:xfrm>
                        <a:off x="1772280" y="135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10" name="Freeform 10"/>
                      <p:cNvSpPr/>
                      <p:nvPr/>
                    </p:nvSpPr>
                    <p:spPr>
                      <a:xfrm>
                        <a:off x="1978920" y="135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411" name="Group 179"/>
                  <p:cNvGrpSpPr/>
                  <p:nvPr/>
                </p:nvGrpSpPr>
                <p:grpSpPr>
                  <a:xfrm>
                    <a:off x="1559160" y="905040"/>
                    <a:ext cx="626400" cy="525960"/>
                    <a:chOff x="1559160" y="905040"/>
                    <a:chExt cx="626400" cy="525960"/>
                  </a:xfrm>
                </p:grpSpPr>
                <p:grpSp>
                  <p:nvGrpSpPr>
                    <p:cNvPr id="412" name="Group 180"/>
                    <p:cNvGrpSpPr/>
                    <p:nvPr/>
                  </p:nvGrpSpPr>
                  <p:grpSpPr>
                    <a:xfrm>
                      <a:off x="1559160" y="905040"/>
                      <a:ext cx="413280" cy="436320"/>
                      <a:chOff x="1559160" y="905040"/>
                      <a:chExt cx="413280" cy="436320"/>
                    </a:xfrm>
                  </p:grpSpPr>
                  <p:sp>
                    <p:nvSpPr>
                      <p:cNvPr id="413" name="Freeform 8"/>
                      <p:cNvSpPr/>
                      <p:nvPr/>
                    </p:nvSpPr>
                    <p:spPr>
                      <a:xfrm>
                        <a:off x="1559160" y="9050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14" name="Freeform 9"/>
                      <p:cNvSpPr/>
                      <p:nvPr/>
                    </p:nvSpPr>
                    <p:spPr>
                      <a:xfrm>
                        <a:off x="1559160" y="9918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15" name="Freeform 10"/>
                      <p:cNvSpPr/>
                      <p:nvPr/>
                    </p:nvSpPr>
                    <p:spPr>
                      <a:xfrm>
                        <a:off x="1765800" y="9918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16" name="Group 184"/>
                    <p:cNvGrpSpPr/>
                    <p:nvPr/>
                  </p:nvGrpSpPr>
                  <p:grpSpPr>
                    <a:xfrm>
                      <a:off x="1772280" y="994680"/>
                      <a:ext cx="413280" cy="436320"/>
                      <a:chOff x="1772280" y="994680"/>
                      <a:chExt cx="413280" cy="436320"/>
                    </a:xfrm>
                  </p:grpSpPr>
                  <p:sp>
                    <p:nvSpPr>
                      <p:cNvPr id="417" name="Freeform 8"/>
                      <p:cNvSpPr/>
                      <p:nvPr/>
                    </p:nvSpPr>
                    <p:spPr>
                      <a:xfrm>
                        <a:off x="1772280" y="9946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18" name="Freeform 9"/>
                      <p:cNvSpPr/>
                      <p:nvPr/>
                    </p:nvSpPr>
                    <p:spPr>
                      <a:xfrm>
                        <a:off x="1772280" y="10814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19" name="Freeform 10"/>
                      <p:cNvSpPr/>
                      <p:nvPr/>
                    </p:nvSpPr>
                    <p:spPr>
                      <a:xfrm>
                        <a:off x="1978920" y="10814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420" name="Group 188"/>
                  <p:cNvGrpSpPr/>
                  <p:nvPr/>
                </p:nvGrpSpPr>
                <p:grpSpPr>
                  <a:xfrm>
                    <a:off x="1346040" y="1263600"/>
                    <a:ext cx="626400" cy="525960"/>
                    <a:chOff x="1346040" y="1263600"/>
                    <a:chExt cx="626400" cy="525960"/>
                  </a:xfrm>
                </p:grpSpPr>
                <p:grpSp>
                  <p:nvGrpSpPr>
                    <p:cNvPr id="421" name="Group 189"/>
                    <p:cNvGrpSpPr/>
                    <p:nvPr/>
                  </p:nvGrpSpPr>
                  <p:grpSpPr>
                    <a:xfrm>
                      <a:off x="1346040" y="1263600"/>
                      <a:ext cx="413280" cy="436320"/>
                      <a:chOff x="1346040" y="1263600"/>
                      <a:chExt cx="413280" cy="436320"/>
                    </a:xfrm>
                  </p:grpSpPr>
                  <p:sp>
                    <p:nvSpPr>
                      <p:cNvPr id="422" name="Freeform 8"/>
                      <p:cNvSpPr/>
                      <p:nvPr/>
                    </p:nvSpPr>
                    <p:spPr>
                      <a:xfrm>
                        <a:off x="1346040" y="12636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23" name="Freeform 9"/>
                      <p:cNvSpPr/>
                      <p:nvPr/>
                    </p:nvSpPr>
                    <p:spPr>
                      <a:xfrm>
                        <a:off x="1346040" y="135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24" name="Freeform 10"/>
                      <p:cNvSpPr/>
                      <p:nvPr/>
                    </p:nvSpPr>
                    <p:spPr>
                      <a:xfrm>
                        <a:off x="1552680" y="135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25" name="Group 193"/>
                    <p:cNvGrpSpPr/>
                    <p:nvPr/>
                  </p:nvGrpSpPr>
                  <p:grpSpPr>
                    <a:xfrm>
                      <a:off x="1559160" y="1353240"/>
                      <a:ext cx="413280" cy="436320"/>
                      <a:chOff x="1559160" y="1353240"/>
                      <a:chExt cx="413280" cy="436320"/>
                    </a:xfrm>
                  </p:grpSpPr>
                  <p:sp>
                    <p:nvSpPr>
                      <p:cNvPr id="426" name="Freeform 8"/>
                      <p:cNvSpPr/>
                      <p:nvPr/>
                    </p:nvSpPr>
                    <p:spPr>
                      <a:xfrm>
                        <a:off x="1559160" y="13532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27" name="Freeform 9"/>
                      <p:cNvSpPr/>
                      <p:nvPr/>
                    </p:nvSpPr>
                    <p:spPr>
                      <a:xfrm>
                        <a:off x="1559160" y="144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28" name="Freeform 10"/>
                      <p:cNvSpPr/>
                      <p:nvPr/>
                    </p:nvSpPr>
                    <p:spPr>
                      <a:xfrm>
                        <a:off x="1765800" y="144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429" name="Group 197"/>
                  <p:cNvGrpSpPr/>
                  <p:nvPr/>
                </p:nvGrpSpPr>
                <p:grpSpPr>
                  <a:xfrm>
                    <a:off x="1346040" y="995040"/>
                    <a:ext cx="626400" cy="525960"/>
                    <a:chOff x="1346040" y="995040"/>
                    <a:chExt cx="626400" cy="525960"/>
                  </a:xfrm>
                </p:grpSpPr>
                <p:grpSp>
                  <p:nvGrpSpPr>
                    <p:cNvPr id="430" name="Group 198"/>
                    <p:cNvGrpSpPr/>
                    <p:nvPr/>
                  </p:nvGrpSpPr>
                  <p:grpSpPr>
                    <a:xfrm>
                      <a:off x="1346040" y="995040"/>
                      <a:ext cx="413280" cy="436320"/>
                      <a:chOff x="1346040" y="995040"/>
                      <a:chExt cx="413280" cy="436320"/>
                    </a:xfrm>
                  </p:grpSpPr>
                  <p:sp>
                    <p:nvSpPr>
                      <p:cNvPr id="431" name="Freeform 8"/>
                      <p:cNvSpPr/>
                      <p:nvPr/>
                    </p:nvSpPr>
                    <p:spPr>
                      <a:xfrm>
                        <a:off x="1346040" y="9950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32" name="Freeform 9"/>
                      <p:cNvSpPr/>
                      <p:nvPr/>
                    </p:nvSpPr>
                    <p:spPr>
                      <a:xfrm>
                        <a:off x="1346040" y="10818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33" name="Freeform 10"/>
                      <p:cNvSpPr/>
                      <p:nvPr/>
                    </p:nvSpPr>
                    <p:spPr>
                      <a:xfrm>
                        <a:off x="1552680" y="10818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34" name="Group 202"/>
                    <p:cNvGrpSpPr/>
                    <p:nvPr/>
                  </p:nvGrpSpPr>
                  <p:grpSpPr>
                    <a:xfrm>
                      <a:off x="1559160" y="1084680"/>
                      <a:ext cx="413280" cy="436320"/>
                      <a:chOff x="1559160" y="1084680"/>
                      <a:chExt cx="413280" cy="436320"/>
                    </a:xfrm>
                  </p:grpSpPr>
                  <p:sp>
                    <p:nvSpPr>
                      <p:cNvPr id="435" name="Freeform 8"/>
                      <p:cNvSpPr/>
                      <p:nvPr/>
                    </p:nvSpPr>
                    <p:spPr>
                      <a:xfrm>
                        <a:off x="1559160" y="10846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36" name="Freeform 9"/>
                      <p:cNvSpPr/>
                      <p:nvPr/>
                    </p:nvSpPr>
                    <p:spPr>
                      <a:xfrm>
                        <a:off x="1559160" y="11714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37" name="Freeform 10"/>
                      <p:cNvSpPr/>
                      <p:nvPr/>
                    </p:nvSpPr>
                    <p:spPr>
                      <a:xfrm>
                        <a:off x="1765800" y="11714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grpSp>
        </p:grpSp>
        <p:grpSp>
          <p:nvGrpSpPr>
            <p:cNvPr id="438" name="Group 206"/>
            <p:cNvGrpSpPr/>
            <p:nvPr/>
          </p:nvGrpSpPr>
          <p:grpSpPr>
            <a:xfrm>
              <a:off x="1772280" y="902520"/>
              <a:ext cx="1266120" cy="1604160"/>
              <a:chOff x="1772280" y="902520"/>
              <a:chExt cx="1266120" cy="1604160"/>
            </a:xfrm>
          </p:grpSpPr>
          <p:grpSp>
            <p:nvGrpSpPr>
              <p:cNvPr id="439" name="Group 207"/>
              <p:cNvGrpSpPr/>
              <p:nvPr/>
            </p:nvGrpSpPr>
            <p:grpSpPr>
              <a:xfrm>
                <a:off x="2198880" y="902520"/>
                <a:ext cx="839520" cy="1423080"/>
                <a:chOff x="2198880" y="902520"/>
                <a:chExt cx="839520" cy="1423080"/>
              </a:xfrm>
            </p:grpSpPr>
            <p:grpSp>
              <p:nvGrpSpPr>
                <p:cNvPr id="440" name="Group 208"/>
                <p:cNvGrpSpPr/>
                <p:nvPr/>
              </p:nvGrpSpPr>
              <p:grpSpPr>
                <a:xfrm>
                  <a:off x="2198880" y="1441080"/>
                  <a:ext cx="839520" cy="884520"/>
                  <a:chOff x="2198880" y="1441080"/>
                  <a:chExt cx="839520" cy="884520"/>
                </a:xfrm>
              </p:grpSpPr>
              <p:grpSp>
                <p:nvGrpSpPr>
                  <p:cNvPr id="441" name="Group 209"/>
                  <p:cNvGrpSpPr/>
                  <p:nvPr/>
                </p:nvGrpSpPr>
                <p:grpSpPr>
                  <a:xfrm>
                    <a:off x="2412000" y="1709640"/>
                    <a:ext cx="626400" cy="525960"/>
                    <a:chOff x="2412000" y="1709640"/>
                    <a:chExt cx="626400" cy="525960"/>
                  </a:xfrm>
                </p:grpSpPr>
                <p:grpSp>
                  <p:nvGrpSpPr>
                    <p:cNvPr id="442" name="Group 210"/>
                    <p:cNvGrpSpPr/>
                    <p:nvPr/>
                  </p:nvGrpSpPr>
                  <p:grpSpPr>
                    <a:xfrm>
                      <a:off x="2412000" y="1709640"/>
                      <a:ext cx="413280" cy="436320"/>
                      <a:chOff x="2412000" y="1709640"/>
                      <a:chExt cx="413280" cy="436320"/>
                    </a:xfrm>
                  </p:grpSpPr>
                  <p:sp>
                    <p:nvSpPr>
                      <p:cNvPr id="443" name="Freeform 8"/>
                      <p:cNvSpPr/>
                      <p:nvPr/>
                    </p:nvSpPr>
                    <p:spPr>
                      <a:xfrm>
                        <a:off x="2412000" y="17096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44" name="Freeform 9"/>
                      <p:cNvSpPr/>
                      <p:nvPr/>
                    </p:nvSpPr>
                    <p:spPr>
                      <a:xfrm>
                        <a:off x="2412000" y="17964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45" name="Freeform 10"/>
                      <p:cNvSpPr/>
                      <p:nvPr/>
                    </p:nvSpPr>
                    <p:spPr>
                      <a:xfrm>
                        <a:off x="2618640" y="17964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46" name="Group 214"/>
                    <p:cNvGrpSpPr/>
                    <p:nvPr/>
                  </p:nvGrpSpPr>
                  <p:grpSpPr>
                    <a:xfrm>
                      <a:off x="2625120" y="1799280"/>
                      <a:ext cx="413280" cy="436320"/>
                      <a:chOff x="2625120" y="1799280"/>
                      <a:chExt cx="413280" cy="436320"/>
                    </a:xfrm>
                  </p:grpSpPr>
                  <p:sp>
                    <p:nvSpPr>
                      <p:cNvPr id="447" name="Freeform 8"/>
                      <p:cNvSpPr/>
                      <p:nvPr/>
                    </p:nvSpPr>
                    <p:spPr>
                      <a:xfrm>
                        <a:off x="2625120" y="17992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48" name="Freeform 9"/>
                      <p:cNvSpPr/>
                      <p:nvPr/>
                    </p:nvSpPr>
                    <p:spPr>
                      <a:xfrm>
                        <a:off x="2625120" y="18860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49" name="Freeform 10"/>
                      <p:cNvSpPr/>
                      <p:nvPr/>
                    </p:nvSpPr>
                    <p:spPr>
                      <a:xfrm>
                        <a:off x="2831760" y="18860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450" name="Group 218"/>
                  <p:cNvGrpSpPr/>
                  <p:nvPr/>
                </p:nvGrpSpPr>
                <p:grpSpPr>
                  <a:xfrm>
                    <a:off x="2412000" y="1441080"/>
                    <a:ext cx="626400" cy="525960"/>
                    <a:chOff x="2412000" y="1441080"/>
                    <a:chExt cx="626400" cy="525960"/>
                  </a:xfrm>
                </p:grpSpPr>
                <p:grpSp>
                  <p:nvGrpSpPr>
                    <p:cNvPr id="451" name="Group 219"/>
                    <p:cNvGrpSpPr/>
                    <p:nvPr/>
                  </p:nvGrpSpPr>
                  <p:grpSpPr>
                    <a:xfrm>
                      <a:off x="2412000" y="1441080"/>
                      <a:ext cx="413280" cy="436320"/>
                      <a:chOff x="2412000" y="1441080"/>
                      <a:chExt cx="413280" cy="436320"/>
                    </a:xfrm>
                  </p:grpSpPr>
                  <p:sp>
                    <p:nvSpPr>
                      <p:cNvPr id="452" name="Freeform 8"/>
                      <p:cNvSpPr/>
                      <p:nvPr/>
                    </p:nvSpPr>
                    <p:spPr>
                      <a:xfrm>
                        <a:off x="2412000" y="14410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53" name="Freeform 9"/>
                      <p:cNvSpPr/>
                      <p:nvPr/>
                    </p:nvSpPr>
                    <p:spPr>
                      <a:xfrm>
                        <a:off x="2412000" y="152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54" name="Freeform 10"/>
                      <p:cNvSpPr/>
                      <p:nvPr/>
                    </p:nvSpPr>
                    <p:spPr>
                      <a:xfrm>
                        <a:off x="2618640" y="152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55" name="Group 223"/>
                    <p:cNvGrpSpPr/>
                    <p:nvPr/>
                  </p:nvGrpSpPr>
                  <p:grpSpPr>
                    <a:xfrm>
                      <a:off x="2625120" y="1530720"/>
                      <a:ext cx="413280" cy="436320"/>
                      <a:chOff x="2625120" y="1530720"/>
                      <a:chExt cx="413280" cy="436320"/>
                    </a:xfrm>
                  </p:grpSpPr>
                  <p:sp>
                    <p:nvSpPr>
                      <p:cNvPr id="456" name="Freeform 8"/>
                      <p:cNvSpPr/>
                      <p:nvPr/>
                    </p:nvSpPr>
                    <p:spPr>
                      <a:xfrm>
                        <a:off x="2625120" y="15307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57" name="Freeform 9"/>
                      <p:cNvSpPr/>
                      <p:nvPr/>
                    </p:nvSpPr>
                    <p:spPr>
                      <a:xfrm>
                        <a:off x="2625120" y="161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58" name="Freeform 10"/>
                      <p:cNvSpPr/>
                      <p:nvPr/>
                    </p:nvSpPr>
                    <p:spPr>
                      <a:xfrm>
                        <a:off x="2831760" y="161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459" name="Group 227"/>
                  <p:cNvGrpSpPr/>
                  <p:nvPr/>
                </p:nvGrpSpPr>
                <p:grpSpPr>
                  <a:xfrm>
                    <a:off x="2198880" y="1799640"/>
                    <a:ext cx="626400" cy="525960"/>
                    <a:chOff x="2198880" y="1799640"/>
                    <a:chExt cx="626400" cy="525960"/>
                  </a:xfrm>
                </p:grpSpPr>
                <p:grpSp>
                  <p:nvGrpSpPr>
                    <p:cNvPr id="460" name="Group 228"/>
                    <p:cNvGrpSpPr/>
                    <p:nvPr/>
                  </p:nvGrpSpPr>
                  <p:grpSpPr>
                    <a:xfrm>
                      <a:off x="2198880" y="1799640"/>
                      <a:ext cx="413280" cy="436320"/>
                      <a:chOff x="2198880" y="1799640"/>
                      <a:chExt cx="413280" cy="436320"/>
                    </a:xfrm>
                  </p:grpSpPr>
                  <p:sp>
                    <p:nvSpPr>
                      <p:cNvPr id="461" name="Freeform 8"/>
                      <p:cNvSpPr/>
                      <p:nvPr/>
                    </p:nvSpPr>
                    <p:spPr>
                      <a:xfrm>
                        <a:off x="2198880" y="17996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62" name="Freeform 9"/>
                      <p:cNvSpPr/>
                      <p:nvPr/>
                    </p:nvSpPr>
                    <p:spPr>
                      <a:xfrm>
                        <a:off x="2198880" y="18864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63" name="Freeform 10"/>
                      <p:cNvSpPr/>
                      <p:nvPr/>
                    </p:nvSpPr>
                    <p:spPr>
                      <a:xfrm>
                        <a:off x="2405520" y="18864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64" name="Group 232"/>
                    <p:cNvGrpSpPr/>
                    <p:nvPr/>
                  </p:nvGrpSpPr>
                  <p:grpSpPr>
                    <a:xfrm>
                      <a:off x="2412000" y="1889280"/>
                      <a:ext cx="413280" cy="436320"/>
                      <a:chOff x="2412000" y="1889280"/>
                      <a:chExt cx="413280" cy="436320"/>
                    </a:xfrm>
                  </p:grpSpPr>
                  <p:sp>
                    <p:nvSpPr>
                      <p:cNvPr id="465" name="Freeform 8"/>
                      <p:cNvSpPr/>
                      <p:nvPr/>
                    </p:nvSpPr>
                    <p:spPr>
                      <a:xfrm>
                        <a:off x="2412000" y="18892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66" name="Freeform 9"/>
                      <p:cNvSpPr/>
                      <p:nvPr/>
                    </p:nvSpPr>
                    <p:spPr>
                      <a:xfrm>
                        <a:off x="2412000" y="19760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67" name="Freeform 10"/>
                      <p:cNvSpPr/>
                      <p:nvPr/>
                    </p:nvSpPr>
                    <p:spPr>
                      <a:xfrm>
                        <a:off x="2618640" y="19760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468" name="Group 236"/>
                  <p:cNvGrpSpPr/>
                  <p:nvPr/>
                </p:nvGrpSpPr>
                <p:grpSpPr>
                  <a:xfrm>
                    <a:off x="2198880" y="1531080"/>
                    <a:ext cx="626400" cy="525960"/>
                    <a:chOff x="2198880" y="1531080"/>
                    <a:chExt cx="626400" cy="525960"/>
                  </a:xfrm>
                </p:grpSpPr>
                <p:grpSp>
                  <p:nvGrpSpPr>
                    <p:cNvPr id="469" name="Group 237"/>
                    <p:cNvGrpSpPr/>
                    <p:nvPr/>
                  </p:nvGrpSpPr>
                  <p:grpSpPr>
                    <a:xfrm>
                      <a:off x="2198880" y="1531080"/>
                      <a:ext cx="413280" cy="436320"/>
                      <a:chOff x="2198880" y="1531080"/>
                      <a:chExt cx="413280" cy="436320"/>
                    </a:xfrm>
                  </p:grpSpPr>
                  <p:sp>
                    <p:nvSpPr>
                      <p:cNvPr id="470" name="Freeform 8"/>
                      <p:cNvSpPr/>
                      <p:nvPr/>
                    </p:nvSpPr>
                    <p:spPr>
                      <a:xfrm>
                        <a:off x="2198880" y="15310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71" name="Freeform 9"/>
                      <p:cNvSpPr/>
                      <p:nvPr/>
                    </p:nvSpPr>
                    <p:spPr>
                      <a:xfrm>
                        <a:off x="2198880" y="161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72" name="Freeform 10"/>
                      <p:cNvSpPr/>
                      <p:nvPr/>
                    </p:nvSpPr>
                    <p:spPr>
                      <a:xfrm>
                        <a:off x="2405520" y="161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73" name="Group 241"/>
                    <p:cNvGrpSpPr/>
                    <p:nvPr/>
                  </p:nvGrpSpPr>
                  <p:grpSpPr>
                    <a:xfrm>
                      <a:off x="2412000" y="1620720"/>
                      <a:ext cx="413280" cy="436320"/>
                      <a:chOff x="2412000" y="1620720"/>
                      <a:chExt cx="413280" cy="436320"/>
                    </a:xfrm>
                  </p:grpSpPr>
                  <p:sp>
                    <p:nvSpPr>
                      <p:cNvPr id="474" name="Freeform 8"/>
                      <p:cNvSpPr/>
                      <p:nvPr/>
                    </p:nvSpPr>
                    <p:spPr>
                      <a:xfrm>
                        <a:off x="2412000" y="16207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75" name="Freeform 9"/>
                      <p:cNvSpPr/>
                      <p:nvPr/>
                    </p:nvSpPr>
                    <p:spPr>
                      <a:xfrm>
                        <a:off x="2412000" y="170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76" name="Freeform 10"/>
                      <p:cNvSpPr/>
                      <p:nvPr/>
                    </p:nvSpPr>
                    <p:spPr>
                      <a:xfrm>
                        <a:off x="2618640" y="170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grpSp>
              <p:nvGrpSpPr>
                <p:cNvPr id="477" name="Group 245"/>
                <p:cNvGrpSpPr/>
                <p:nvPr/>
              </p:nvGrpSpPr>
              <p:grpSpPr>
                <a:xfrm>
                  <a:off x="2198880" y="902520"/>
                  <a:ext cx="839520" cy="884520"/>
                  <a:chOff x="2198880" y="902520"/>
                  <a:chExt cx="839520" cy="884520"/>
                </a:xfrm>
              </p:grpSpPr>
              <p:grpSp>
                <p:nvGrpSpPr>
                  <p:cNvPr id="478" name="Group 246"/>
                  <p:cNvGrpSpPr/>
                  <p:nvPr/>
                </p:nvGrpSpPr>
                <p:grpSpPr>
                  <a:xfrm>
                    <a:off x="2412000" y="1171080"/>
                    <a:ext cx="626400" cy="525960"/>
                    <a:chOff x="2412000" y="1171080"/>
                    <a:chExt cx="626400" cy="525960"/>
                  </a:xfrm>
                </p:grpSpPr>
                <p:grpSp>
                  <p:nvGrpSpPr>
                    <p:cNvPr id="479" name="Group 247"/>
                    <p:cNvGrpSpPr/>
                    <p:nvPr/>
                  </p:nvGrpSpPr>
                  <p:grpSpPr>
                    <a:xfrm>
                      <a:off x="2412000" y="1171080"/>
                      <a:ext cx="413280" cy="436320"/>
                      <a:chOff x="2412000" y="1171080"/>
                      <a:chExt cx="413280" cy="436320"/>
                    </a:xfrm>
                  </p:grpSpPr>
                  <p:sp>
                    <p:nvSpPr>
                      <p:cNvPr id="480" name="Freeform 8"/>
                      <p:cNvSpPr/>
                      <p:nvPr/>
                    </p:nvSpPr>
                    <p:spPr>
                      <a:xfrm>
                        <a:off x="2412000" y="11710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81" name="Freeform 9"/>
                      <p:cNvSpPr/>
                      <p:nvPr/>
                    </p:nvSpPr>
                    <p:spPr>
                      <a:xfrm>
                        <a:off x="2412000" y="125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82" name="Freeform 10"/>
                      <p:cNvSpPr/>
                      <p:nvPr/>
                    </p:nvSpPr>
                    <p:spPr>
                      <a:xfrm>
                        <a:off x="2618640" y="125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83" name="Group 251"/>
                    <p:cNvGrpSpPr/>
                    <p:nvPr/>
                  </p:nvGrpSpPr>
                  <p:grpSpPr>
                    <a:xfrm>
                      <a:off x="2625120" y="1260720"/>
                      <a:ext cx="413280" cy="436320"/>
                      <a:chOff x="2625120" y="1260720"/>
                      <a:chExt cx="413280" cy="436320"/>
                    </a:xfrm>
                  </p:grpSpPr>
                  <p:sp>
                    <p:nvSpPr>
                      <p:cNvPr id="484" name="Freeform 8"/>
                      <p:cNvSpPr/>
                      <p:nvPr/>
                    </p:nvSpPr>
                    <p:spPr>
                      <a:xfrm>
                        <a:off x="2625120" y="12607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85" name="Freeform 9"/>
                      <p:cNvSpPr/>
                      <p:nvPr/>
                    </p:nvSpPr>
                    <p:spPr>
                      <a:xfrm>
                        <a:off x="2625120" y="134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86" name="Freeform 10"/>
                      <p:cNvSpPr/>
                      <p:nvPr/>
                    </p:nvSpPr>
                    <p:spPr>
                      <a:xfrm>
                        <a:off x="2831760" y="134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487" name="Group 255"/>
                  <p:cNvGrpSpPr/>
                  <p:nvPr/>
                </p:nvGrpSpPr>
                <p:grpSpPr>
                  <a:xfrm>
                    <a:off x="2412000" y="902520"/>
                    <a:ext cx="626400" cy="525960"/>
                    <a:chOff x="2412000" y="902520"/>
                    <a:chExt cx="626400" cy="525960"/>
                  </a:xfrm>
                </p:grpSpPr>
                <p:grpSp>
                  <p:nvGrpSpPr>
                    <p:cNvPr id="488" name="Group 256"/>
                    <p:cNvGrpSpPr/>
                    <p:nvPr/>
                  </p:nvGrpSpPr>
                  <p:grpSpPr>
                    <a:xfrm>
                      <a:off x="2412000" y="902520"/>
                      <a:ext cx="413280" cy="436320"/>
                      <a:chOff x="2412000" y="902520"/>
                      <a:chExt cx="413280" cy="436320"/>
                    </a:xfrm>
                  </p:grpSpPr>
                  <p:sp>
                    <p:nvSpPr>
                      <p:cNvPr id="489" name="Freeform 8"/>
                      <p:cNvSpPr/>
                      <p:nvPr/>
                    </p:nvSpPr>
                    <p:spPr>
                      <a:xfrm>
                        <a:off x="2412000" y="9025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90" name="Freeform 9"/>
                      <p:cNvSpPr/>
                      <p:nvPr/>
                    </p:nvSpPr>
                    <p:spPr>
                      <a:xfrm>
                        <a:off x="2412000" y="98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91" name="Freeform 10"/>
                      <p:cNvSpPr/>
                      <p:nvPr/>
                    </p:nvSpPr>
                    <p:spPr>
                      <a:xfrm>
                        <a:off x="2618640" y="98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492" name="Group 260"/>
                    <p:cNvGrpSpPr/>
                    <p:nvPr/>
                  </p:nvGrpSpPr>
                  <p:grpSpPr>
                    <a:xfrm>
                      <a:off x="2625120" y="992160"/>
                      <a:ext cx="413280" cy="436320"/>
                      <a:chOff x="2625120" y="992160"/>
                      <a:chExt cx="413280" cy="436320"/>
                    </a:xfrm>
                  </p:grpSpPr>
                  <p:sp>
                    <p:nvSpPr>
                      <p:cNvPr id="493" name="Freeform 8"/>
                      <p:cNvSpPr/>
                      <p:nvPr/>
                    </p:nvSpPr>
                    <p:spPr>
                      <a:xfrm>
                        <a:off x="2625120" y="99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94" name="Freeform 9"/>
                      <p:cNvSpPr/>
                      <p:nvPr/>
                    </p:nvSpPr>
                    <p:spPr>
                      <a:xfrm>
                        <a:off x="2625120" y="107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95" name="Freeform 10"/>
                      <p:cNvSpPr/>
                      <p:nvPr/>
                    </p:nvSpPr>
                    <p:spPr>
                      <a:xfrm>
                        <a:off x="2831760" y="107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496" name="Group 264"/>
                  <p:cNvGrpSpPr/>
                  <p:nvPr/>
                </p:nvGrpSpPr>
                <p:grpSpPr>
                  <a:xfrm>
                    <a:off x="2198880" y="1261080"/>
                    <a:ext cx="626400" cy="525960"/>
                    <a:chOff x="2198880" y="1261080"/>
                    <a:chExt cx="626400" cy="525960"/>
                  </a:xfrm>
                </p:grpSpPr>
                <p:grpSp>
                  <p:nvGrpSpPr>
                    <p:cNvPr id="497" name="Group 265"/>
                    <p:cNvGrpSpPr/>
                    <p:nvPr/>
                  </p:nvGrpSpPr>
                  <p:grpSpPr>
                    <a:xfrm>
                      <a:off x="2198880" y="1261080"/>
                      <a:ext cx="413280" cy="436320"/>
                      <a:chOff x="2198880" y="1261080"/>
                      <a:chExt cx="413280" cy="436320"/>
                    </a:xfrm>
                  </p:grpSpPr>
                  <p:sp>
                    <p:nvSpPr>
                      <p:cNvPr id="498" name="Freeform 8"/>
                      <p:cNvSpPr/>
                      <p:nvPr/>
                    </p:nvSpPr>
                    <p:spPr>
                      <a:xfrm>
                        <a:off x="2198880" y="126108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499" name="Freeform 9"/>
                      <p:cNvSpPr/>
                      <p:nvPr/>
                    </p:nvSpPr>
                    <p:spPr>
                      <a:xfrm>
                        <a:off x="2198880" y="134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00" name="Freeform 10"/>
                      <p:cNvSpPr/>
                      <p:nvPr/>
                    </p:nvSpPr>
                    <p:spPr>
                      <a:xfrm>
                        <a:off x="2405520" y="134784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01" name="Group 269"/>
                    <p:cNvGrpSpPr/>
                    <p:nvPr/>
                  </p:nvGrpSpPr>
                  <p:grpSpPr>
                    <a:xfrm>
                      <a:off x="2412000" y="1350720"/>
                      <a:ext cx="413280" cy="436320"/>
                      <a:chOff x="2412000" y="1350720"/>
                      <a:chExt cx="413280" cy="436320"/>
                    </a:xfrm>
                  </p:grpSpPr>
                  <p:sp>
                    <p:nvSpPr>
                      <p:cNvPr id="502" name="Freeform 8"/>
                      <p:cNvSpPr/>
                      <p:nvPr/>
                    </p:nvSpPr>
                    <p:spPr>
                      <a:xfrm>
                        <a:off x="2412000" y="13507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03" name="Freeform 9"/>
                      <p:cNvSpPr/>
                      <p:nvPr/>
                    </p:nvSpPr>
                    <p:spPr>
                      <a:xfrm>
                        <a:off x="2412000" y="143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04" name="Freeform 10"/>
                      <p:cNvSpPr/>
                      <p:nvPr/>
                    </p:nvSpPr>
                    <p:spPr>
                      <a:xfrm>
                        <a:off x="2618640" y="143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505" name="Group 273"/>
                  <p:cNvGrpSpPr/>
                  <p:nvPr/>
                </p:nvGrpSpPr>
                <p:grpSpPr>
                  <a:xfrm>
                    <a:off x="2198880" y="992520"/>
                    <a:ext cx="626400" cy="525960"/>
                    <a:chOff x="2198880" y="992520"/>
                    <a:chExt cx="626400" cy="525960"/>
                  </a:xfrm>
                </p:grpSpPr>
                <p:grpSp>
                  <p:nvGrpSpPr>
                    <p:cNvPr id="506" name="Group 274"/>
                    <p:cNvGrpSpPr/>
                    <p:nvPr/>
                  </p:nvGrpSpPr>
                  <p:grpSpPr>
                    <a:xfrm>
                      <a:off x="2198880" y="992520"/>
                      <a:ext cx="413280" cy="436320"/>
                      <a:chOff x="2198880" y="992520"/>
                      <a:chExt cx="413280" cy="436320"/>
                    </a:xfrm>
                  </p:grpSpPr>
                  <p:sp>
                    <p:nvSpPr>
                      <p:cNvPr id="507" name="Freeform 8"/>
                      <p:cNvSpPr/>
                      <p:nvPr/>
                    </p:nvSpPr>
                    <p:spPr>
                      <a:xfrm>
                        <a:off x="2198880" y="9925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08" name="Freeform 9"/>
                      <p:cNvSpPr/>
                      <p:nvPr/>
                    </p:nvSpPr>
                    <p:spPr>
                      <a:xfrm>
                        <a:off x="2198880" y="107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09" name="Freeform 10"/>
                      <p:cNvSpPr/>
                      <p:nvPr/>
                    </p:nvSpPr>
                    <p:spPr>
                      <a:xfrm>
                        <a:off x="2405520" y="10792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10" name="Group 278"/>
                    <p:cNvGrpSpPr/>
                    <p:nvPr/>
                  </p:nvGrpSpPr>
                  <p:grpSpPr>
                    <a:xfrm>
                      <a:off x="2412000" y="1082160"/>
                      <a:ext cx="413280" cy="436320"/>
                      <a:chOff x="2412000" y="1082160"/>
                      <a:chExt cx="413280" cy="436320"/>
                    </a:xfrm>
                  </p:grpSpPr>
                  <p:sp>
                    <p:nvSpPr>
                      <p:cNvPr id="511" name="Freeform 8"/>
                      <p:cNvSpPr/>
                      <p:nvPr/>
                    </p:nvSpPr>
                    <p:spPr>
                      <a:xfrm>
                        <a:off x="2412000" y="108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12" name="Freeform 9"/>
                      <p:cNvSpPr/>
                      <p:nvPr/>
                    </p:nvSpPr>
                    <p:spPr>
                      <a:xfrm>
                        <a:off x="2412000" y="116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13" name="Freeform 10"/>
                      <p:cNvSpPr/>
                      <p:nvPr/>
                    </p:nvSpPr>
                    <p:spPr>
                      <a:xfrm>
                        <a:off x="2618640" y="116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grpSp>
          <p:grpSp>
            <p:nvGrpSpPr>
              <p:cNvPr id="514" name="Group 282"/>
              <p:cNvGrpSpPr/>
              <p:nvPr/>
            </p:nvGrpSpPr>
            <p:grpSpPr>
              <a:xfrm>
                <a:off x="1772280" y="1083600"/>
                <a:ext cx="839520" cy="1423080"/>
                <a:chOff x="1772280" y="1083600"/>
                <a:chExt cx="839520" cy="1423080"/>
              </a:xfrm>
            </p:grpSpPr>
            <p:grpSp>
              <p:nvGrpSpPr>
                <p:cNvPr id="515" name="Group 283"/>
                <p:cNvGrpSpPr/>
                <p:nvPr/>
              </p:nvGrpSpPr>
              <p:grpSpPr>
                <a:xfrm>
                  <a:off x="1772280" y="1622160"/>
                  <a:ext cx="839520" cy="884520"/>
                  <a:chOff x="1772280" y="1622160"/>
                  <a:chExt cx="839520" cy="884520"/>
                </a:xfrm>
              </p:grpSpPr>
              <p:grpSp>
                <p:nvGrpSpPr>
                  <p:cNvPr id="516" name="Group 284"/>
                  <p:cNvGrpSpPr/>
                  <p:nvPr/>
                </p:nvGrpSpPr>
                <p:grpSpPr>
                  <a:xfrm>
                    <a:off x="1985400" y="1890720"/>
                    <a:ext cx="626400" cy="525960"/>
                    <a:chOff x="1985400" y="1890720"/>
                    <a:chExt cx="626400" cy="525960"/>
                  </a:xfrm>
                </p:grpSpPr>
                <p:grpSp>
                  <p:nvGrpSpPr>
                    <p:cNvPr id="517" name="Group 285"/>
                    <p:cNvGrpSpPr/>
                    <p:nvPr/>
                  </p:nvGrpSpPr>
                  <p:grpSpPr>
                    <a:xfrm>
                      <a:off x="1985400" y="1890720"/>
                      <a:ext cx="413280" cy="436320"/>
                      <a:chOff x="1985400" y="1890720"/>
                      <a:chExt cx="413280" cy="436320"/>
                    </a:xfrm>
                  </p:grpSpPr>
                  <p:sp>
                    <p:nvSpPr>
                      <p:cNvPr id="518" name="Freeform 8"/>
                      <p:cNvSpPr/>
                      <p:nvPr/>
                    </p:nvSpPr>
                    <p:spPr>
                      <a:xfrm>
                        <a:off x="1985400" y="18907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19" name="Freeform 9"/>
                      <p:cNvSpPr/>
                      <p:nvPr/>
                    </p:nvSpPr>
                    <p:spPr>
                      <a:xfrm>
                        <a:off x="1985400" y="197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20" name="Freeform 10"/>
                      <p:cNvSpPr/>
                      <p:nvPr/>
                    </p:nvSpPr>
                    <p:spPr>
                      <a:xfrm>
                        <a:off x="2192040" y="197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21" name="Group 289"/>
                    <p:cNvGrpSpPr/>
                    <p:nvPr/>
                  </p:nvGrpSpPr>
                  <p:grpSpPr>
                    <a:xfrm>
                      <a:off x="2198520" y="1980360"/>
                      <a:ext cx="413280" cy="436320"/>
                      <a:chOff x="2198520" y="1980360"/>
                      <a:chExt cx="413280" cy="436320"/>
                    </a:xfrm>
                  </p:grpSpPr>
                  <p:sp>
                    <p:nvSpPr>
                      <p:cNvPr id="522" name="Freeform 8"/>
                      <p:cNvSpPr/>
                      <p:nvPr/>
                    </p:nvSpPr>
                    <p:spPr>
                      <a:xfrm>
                        <a:off x="2198520" y="19803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23" name="Freeform 9"/>
                      <p:cNvSpPr/>
                      <p:nvPr/>
                    </p:nvSpPr>
                    <p:spPr>
                      <a:xfrm>
                        <a:off x="2198520" y="20671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24" name="Freeform 10"/>
                      <p:cNvSpPr/>
                      <p:nvPr/>
                    </p:nvSpPr>
                    <p:spPr>
                      <a:xfrm>
                        <a:off x="2405160" y="20671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525" name="Group 293"/>
                  <p:cNvGrpSpPr/>
                  <p:nvPr/>
                </p:nvGrpSpPr>
                <p:grpSpPr>
                  <a:xfrm>
                    <a:off x="1985400" y="1622160"/>
                    <a:ext cx="626400" cy="525960"/>
                    <a:chOff x="1985400" y="1622160"/>
                    <a:chExt cx="626400" cy="525960"/>
                  </a:xfrm>
                </p:grpSpPr>
                <p:grpSp>
                  <p:nvGrpSpPr>
                    <p:cNvPr id="526" name="Group 294"/>
                    <p:cNvGrpSpPr/>
                    <p:nvPr/>
                  </p:nvGrpSpPr>
                  <p:grpSpPr>
                    <a:xfrm>
                      <a:off x="1985400" y="1622160"/>
                      <a:ext cx="413280" cy="436320"/>
                      <a:chOff x="1985400" y="1622160"/>
                      <a:chExt cx="413280" cy="436320"/>
                    </a:xfrm>
                  </p:grpSpPr>
                  <p:sp>
                    <p:nvSpPr>
                      <p:cNvPr id="527" name="Freeform 8"/>
                      <p:cNvSpPr/>
                      <p:nvPr/>
                    </p:nvSpPr>
                    <p:spPr>
                      <a:xfrm>
                        <a:off x="1985400" y="162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28" name="Freeform 9"/>
                      <p:cNvSpPr/>
                      <p:nvPr/>
                    </p:nvSpPr>
                    <p:spPr>
                      <a:xfrm>
                        <a:off x="1985400" y="170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29" name="Freeform 10"/>
                      <p:cNvSpPr/>
                      <p:nvPr/>
                    </p:nvSpPr>
                    <p:spPr>
                      <a:xfrm>
                        <a:off x="2192040" y="170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30" name="Group 298"/>
                    <p:cNvGrpSpPr/>
                    <p:nvPr/>
                  </p:nvGrpSpPr>
                  <p:grpSpPr>
                    <a:xfrm>
                      <a:off x="2198520" y="1711800"/>
                      <a:ext cx="413280" cy="436320"/>
                      <a:chOff x="2198520" y="1711800"/>
                      <a:chExt cx="413280" cy="436320"/>
                    </a:xfrm>
                  </p:grpSpPr>
                  <p:sp>
                    <p:nvSpPr>
                      <p:cNvPr id="531" name="Freeform 8"/>
                      <p:cNvSpPr/>
                      <p:nvPr/>
                    </p:nvSpPr>
                    <p:spPr>
                      <a:xfrm>
                        <a:off x="2198520" y="17118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32" name="Freeform 9"/>
                      <p:cNvSpPr/>
                      <p:nvPr/>
                    </p:nvSpPr>
                    <p:spPr>
                      <a:xfrm>
                        <a:off x="2198520" y="179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33" name="Freeform 10"/>
                      <p:cNvSpPr/>
                      <p:nvPr/>
                    </p:nvSpPr>
                    <p:spPr>
                      <a:xfrm>
                        <a:off x="2405160" y="179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534" name="Group 302"/>
                  <p:cNvGrpSpPr/>
                  <p:nvPr/>
                </p:nvGrpSpPr>
                <p:grpSpPr>
                  <a:xfrm>
                    <a:off x="1772280" y="1980720"/>
                    <a:ext cx="626400" cy="525960"/>
                    <a:chOff x="1772280" y="1980720"/>
                    <a:chExt cx="626400" cy="525960"/>
                  </a:xfrm>
                </p:grpSpPr>
                <p:grpSp>
                  <p:nvGrpSpPr>
                    <p:cNvPr id="535" name="Group 303"/>
                    <p:cNvGrpSpPr/>
                    <p:nvPr/>
                  </p:nvGrpSpPr>
                  <p:grpSpPr>
                    <a:xfrm>
                      <a:off x="1772280" y="1980720"/>
                      <a:ext cx="413280" cy="436320"/>
                      <a:chOff x="1772280" y="1980720"/>
                      <a:chExt cx="413280" cy="436320"/>
                    </a:xfrm>
                  </p:grpSpPr>
                  <p:sp>
                    <p:nvSpPr>
                      <p:cNvPr id="536" name="Freeform 8"/>
                      <p:cNvSpPr/>
                      <p:nvPr/>
                    </p:nvSpPr>
                    <p:spPr>
                      <a:xfrm>
                        <a:off x="1772280" y="198072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37" name="Freeform 9"/>
                      <p:cNvSpPr/>
                      <p:nvPr/>
                    </p:nvSpPr>
                    <p:spPr>
                      <a:xfrm>
                        <a:off x="1772280" y="206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38" name="Freeform 10"/>
                      <p:cNvSpPr/>
                      <p:nvPr/>
                    </p:nvSpPr>
                    <p:spPr>
                      <a:xfrm>
                        <a:off x="1978920" y="206748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39" name="Group 307"/>
                    <p:cNvGrpSpPr/>
                    <p:nvPr/>
                  </p:nvGrpSpPr>
                  <p:grpSpPr>
                    <a:xfrm>
                      <a:off x="1985400" y="2070360"/>
                      <a:ext cx="413280" cy="436320"/>
                      <a:chOff x="1985400" y="2070360"/>
                      <a:chExt cx="413280" cy="436320"/>
                    </a:xfrm>
                  </p:grpSpPr>
                  <p:sp>
                    <p:nvSpPr>
                      <p:cNvPr id="540" name="Freeform 8"/>
                      <p:cNvSpPr/>
                      <p:nvPr/>
                    </p:nvSpPr>
                    <p:spPr>
                      <a:xfrm>
                        <a:off x="1985400" y="20703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41" name="Freeform 9"/>
                      <p:cNvSpPr/>
                      <p:nvPr/>
                    </p:nvSpPr>
                    <p:spPr>
                      <a:xfrm>
                        <a:off x="1985400" y="21571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42" name="Freeform 10"/>
                      <p:cNvSpPr/>
                      <p:nvPr/>
                    </p:nvSpPr>
                    <p:spPr>
                      <a:xfrm>
                        <a:off x="2192040" y="21571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543" name="Group 311"/>
                  <p:cNvGrpSpPr/>
                  <p:nvPr/>
                </p:nvGrpSpPr>
                <p:grpSpPr>
                  <a:xfrm>
                    <a:off x="1772280" y="1712160"/>
                    <a:ext cx="626400" cy="525960"/>
                    <a:chOff x="1772280" y="1712160"/>
                    <a:chExt cx="626400" cy="525960"/>
                  </a:xfrm>
                </p:grpSpPr>
                <p:grpSp>
                  <p:nvGrpSpPr>
                    <p:cNvPr id="544" name="Group 312"/>
                    <p:cNvGrpSpPr/>
                    <p:nvPr/>
                  </p:nvGrpSpPr>
                  <p:grpSpPr>
                    <a:xfrm>
                      <a:off x="1772280" y="1712160"/>
                      <a:ext cx="413280" cy="436320"/>
                      <a:chOff x="1772280" y="1712160"/>
                      <a:chExt cx="413280" cy="436320"/>
                    </a:xfrm>
                  </p:grpSpPr>
                  <p:sp>
                    <p:nvSpPr>
                      <p:cNvPr id="545" name="Freeform 8"/>
                      <p:cNvSpPr/>
                      <p:nvPr/>
                    </p:nvSpPr>
                    <p:spPr>
                      <a:xfrm>
                        <a:off x="1772280" y="171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46" name="Freeform 9"/>
                      <p:cNvSpPr/>
                      <p:nvPr/>
                    </p:nvSpPr>
                    <p:spPr>
                      <a:xfrm>
                        <a:off x="1772280" y="179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47" name="Freeform 10"/>
                      <p:cNvSpPr/>
                      <p:nvPr/>
                    </p:nvSpPr>
                    <p:spPr>
                      <a:xfrm>
                        <a:off x="1978920" y="179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48" name="Group 316"/>
                    <p:cNvGrpSpPr/>
                    <p:nvPr/>
                  </p:nvGrpSpPr>
                  <p:grpSpPr>
                    <a:xfrm>
                      <a:off x="1985400" y="1801800"/>
                      <a:ext cx="413280" cy="436320"/>
                      <a:chOff x="1985400" y="1801800"/>
                      <a:chExt cx="413280" cy="436320"/>
                    </a:xfrm>
                  </p:grpSpPr>
                  <p:sp>
                    <p:nvSpPr>
                      <p:cNvPr id="549" name="Freeform 8"/>
                      <p:cNvSpPr/>
                      <p:nvPr/>
                    </p:nvSpPr>
                    <p:spPr>
                      <a:xfrm>
                        <a:off x="1985400" y="18018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50" name="Freeform 9"/>
                      <p:cNvSpPr/>
                      <p:nvPr/>
                    </p:nvSpPr>
                    <p:spPr>
                      <a:xfrm>
                        <a:off x="1985400" y="188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51" name="Freeform 10"/>
                      <p:cNvSpPr/>
                      <p:nvPr/>
                    </p:nvSpPr>
                    <p:spPr>
                      <a:xfrm>
                        <a:off x="2192040" y="188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grpSp>
              <p:nvGrpSpPr>
                <p:cNvPr id="552" name="Group 320"/>
                <p:cNvGrpSpPr/>
                <p:nvPr/>
              </p:nvGrpSpPr>
              <p:grpSpPr>
                <a:xfrm>
                  <a:off x="1772280" y="1083600"/>
                  <a:ext cx="839520" cy="884520"/>
                  <a:chOff x="1772280" y="1083600"/>
                  <a:chExt cx="839520" cy="884520"/>
                </a:xfrm>
              </p:grpSpPr>
              <p:grpSp>
                <p:nvGrpSpPr>
                  <p:cNvPr id="553" name="Group 321"/>
                  <p:cNvGrpSpPr/>
                  <p:nvPr/>
                </p:nvGrpSpPr>
                <p:grpSpPr>
                  <a:xfrm>
                    <a:off x="1985400" y="1352160"/>
                    <a:ext cx="626400" cy="525960"/>
                    <a:chOff x="1985400" y="1352160"/>
                    <a:chExt cx="626400" cy="525960"/>
                  </a:xfrm>
                </p:grpSpPr>
                <p:grpSp>
                  <p:nvGrpSpPr>
                    <p:cNvPr id="554" name="Group 322"/>
                    <p:cNvGrpSpPr/>
                    <p:nvPr/>
                  </p:nvGrpSpPr>
                  <p:grpSpPr>
                    <a:xfrm>
                      <a:off x="1985400" y="1352160"/>
                      <a:ext cx="413280" cy="436320"/>
                      <a:chOff x="1985400" y="1352160"/>
                      <a:chExt cx="413280" cy="436320"/>
                    </a:xfrm>
                  </p:grpSpPr>
                  <p:sp>
                    <p:nvSpPr>
                      <p:cNvPr id="555" name="Freeform 8"/>
                      <p:cNvSpPr/>
                      <p:nvPr/>
                    </p:nvSpPr>
                    <p:spPr>
                      <a:xfrm>
                        <a:off x="1985400" y="135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56" name="Freeform 9"/>
                      <p:cNvSpPr/>
                      <p:nvPr/>
                    </p:nvSpPr>
                    <p:spPr>
                      <a:xfrm>
                        <a:off x="1985400" y="143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57" name="Freeform 10"/>
                      <p:cNvSpPr/>
                      <p:nvPr/>
                    </p:nvSpPr>
                    <p:spPr>
                      <a:xfrm>
                        <a:off x="2192040" y="143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58" name="Group 326"/>
                    <p:cNvGrpSpPr/>
                    <p:nvPr/>
                  </p:nvGrpSpPr>
                  <p:grpSpPr>
                    <a:xfrm>
                      <a:off x="2198520" y="1441800"/>
                      <a:ext cx="413280" cy="436320"/>
                      <a:chOff x="2198520" y="1441800"/>
                      <a:chExt cx="413280" cy="436320"/>
                    </a:xfrm>
                  </p:grpSpPr>
                  <p:sp>
                    <p:nvSpPr>
                      <p:cNvPr id="559" name="Freeform 8"/>
                      <p:cNvSpPr/>
                      <p:nvPr/>
                    </p:nvSpPr>
                    <p:spPr>
                      <a:xfrm>
                        <a:off x="2198520" y="14418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60" name="Freeform 9"/>
                      <p:cNvSpPr/>
                      <p:nvPr/>
                    </p:nvSpPr>
                    <p:spPr>
                      <a:xfrm>
                        <a:off x="2198520" y="152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61" name="Freeform 10"/>
                      <p:cNvSpPr/>
                      <p:nvPr/>
                    </p:nvSpPr>
                    <p:spPr>
                      <a:xfrm>
                        <a:off x="2405160" y="152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562" name="Group 330"/>
                  <p:cNvGrpSpPr/>
                  <p:nvPr/>
                </p:nvGrpSpPr>
                <p:grpSpPr>
                  <a:xfrm>
                    <a:off x="1985400" y="1083600"/>
                    <a:ext cx="626400" cy="525960"/>
                    <a:chOff x="1985400" y="1083600"/>
                    <a:chExt cx="626400" cy="525960"/>
                  </a:xfrm>
                </p:grpSpPr>
                <p:grpSp>
                  <p:nvGrpSpPr>
                    <p:cNvPr id="563" name="Group 331"/>
                    <p:cNvGrpSpPr/>
                    <p:nvPr/>
                  </p:nvGrpSpPr>
                  <p:grpSpPr>
                    <a:xfrm>
                      <a:off x="1985400" y="1083600"/>
                      <a:ext cx="413280" cy="436320"/>
                      <a:chOff x="1985400" y="1083600"/>
                      <a:chExt cx="413280" cy="436320"/>
                    </a:xfrm>
                  </p:grpSpPr>
                  <p:sp>
                    <p:nvSpPr>
                      <p:cNvPr id="564" name="Freeform 8"/>
                      <p:cNvSpPr/>
                      <p:nvPr/>
                    </p:nvSpPr>
                    <p:spPr>
                      <a:xfrm>
                        <a:off x="1985400" y="10836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65" name="Freeform 9"/>
                      <p:cNvSpPr/>
                      <p:nvPr/>
                    </p:nvSpPr>
                    <p:spPr>
                      <a:xfrm>
                        <a:off x="1985400" y="117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66" name="Freeform 10"/>
                      <p:cNvSpPr/>
                      <p:nvPr/>
                    </p:nvSpPr>
                    <p:spPr>
                      <a:xfrm>
                        <a:off x="2192040" y="117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67" name="Group 335"/>
                    <p:cNvGrpSpPr/>
                    <p:nvPr/>
                  </p:nvGrpSpPr>
                  <p:grpSpPr>
                    <a:xfrm>
                      <a:off x="2198520" y="1173240"/>
                      <a:ext cx="413280" cy="436320"/>
                      <a:chOff x="2198520" y="1173240"/>
                      <a:chExt cx="413280" cy="436320"/>
                    </a:xfrm>
                  </p:grpSpPr>
                  <p:sp>
                    <p:nvSpPr>
                      <p:cNvPr id="568" name="Freeform 8"/>
                      <p:cNvSpPr/>
                      <p:nvPr/>
                    </p:nvSpPr>
                    <p:spPr>
                      <a:xfrm>
                        <a:off x="2198520" y="11732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69" name="Freeform 9"/>
                      <p:cNvSpPr/>
                      <p:nvPr/>
                    </p:nvSpPr>
                    <p:spPr>
                      <a:xfrm>
                        <a:off x="2198520" y="126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70" name="Freeform 10"/>
                      <p:cNvSpPr/>
                      <p:nvPr/>
                    </p:nvSpPr>
                    <p:spPr>
                      <a:xfrm>
                        <a:off x="2405160" y="126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571" name="Group 339"/>
                  <p:cNvGrpSpPr/>
                  <p:nvPr/>
                </p:nvGrpSpPr>
                <p:grpSpPr>
                  <a:xfrm>
                    <a:off x="1772280" y="1442160"/>
                    <a:ext cx="626400" cy="525960"/>
                    <a:chOff x="1772280" y="1442160"/>
                    <a:chExt cx="626400" cy="525960"/>
                  </a:xfrm>
                </p:grpSpPr>
                <p:grpSp>
                  <p:nvGrpSpPr>
                    <p:cNvPr id="572" name="Group 340"/>
                    <p:cNvGrpSpPr/>
                    <p:nvPr/>
                  </p:nvGrpSpPr>
                  <p:grpSpPr>
                    <a:xfrm>
                      <a:off x="1772280" y="1442160"/>
                      <a:ext cx="413280" cy="436320"/>
                      <a:chOff x="1772280" y="1442160"/>
                      <a:chExt cx="413280" cy="436320"/>
                    </a:xfrm>
                  </p:grpSpPr>
                  <p:sp>
                    <p:nvSpPr>
                      <p:cNvPr id="573" name="Freeform 8"/>
                      <p:cNvSpPr/>
                      <p:nvPr/>
                    </p:nvSpPr>
                    <p:spPr>
                      <a:xfrm>
                        <a:off x="1772280" y="144216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74" name="Freeform 9"/>
                      <p:cNvSpPr/>
                      <p:nvPr/>
                    </p:nvSpPr>
                    <p:spPr>
                      <a:xfrm>
                        <a:off x="1772280" y="152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75" name="Freeform 10"/>
                      <p:cNvSpPr/>
                      <p:nvPr/>
                    </p:nvSpPr>
                    <p:spPr>
                      <a:xfrm>
                        <a:off x="1978920" y="152892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76" name="Group 344"/>
                    <p:cNvGrpSpPr/>
                    <p:nvPr/>
                  </p:nvGrpSpPr>
                  <p:grpSpPr>
                    <a:xfrm>
                      <a:off x="1985400" y="1531800"/>
                      <a:ext cx="413280" cy="436320"/>
                      <a:chOff x="1985400" y="1531800"/>
                      <a:chExt cx="413280" cy="436320"/>
                    </a:xfrm>
                  </p:grpSpPr>
                  <p:sp>
                    <p:nvSpPr>
                      <p:cNvPr id="577" name="Freeform 8"/>
                      <p:cNvSpPr/>
                      <p:nvPr/>
                    </p:nvSpPr>
                    <p:spPr>
                      <a:xfrm>
                        <a:off x="1985400" y="15318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78" name="Freeform 9"/>
                      <p:cNvSpPr/>
                      <p:nvPr/>
                    </p:nvSpPr>
                    <p:spPr>
                      <a:xfrm>
                        <a:off x="1985400" y="161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79" name="Freeform 10"/>
                      <p:cNvSpPr/>
                      <p:nvPr/>
                    </p:nvSpPr>
                    <p:spPr>
                      <a:xfrm>
                        <a:off x="2192040" y="16185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nvGrpSpPr>
                  <p:cNvPr id="580" name="Group 348"/>
                  <p:cNvGrpSpPr/>
                  <p:nvPr/>
                </p:nvGrpSpPr>
                <p:grpSpPr>
                  <a:xfrm>
                    <a:off x="1772280" y="1173600"/>
                    <a:ext cx="626400" cy="525960"/>
                    <a:chOff x="1772280" y="1173600"/>
                    <a:chExt cx="626400" cy="525960"/>
                  </a:xfrm>
                </p:grpSpPr>
                <p:grpSp>
                  <p:nvGrpSpPr>
                    <p:cNvPr id="581" name="Group 349"/>
                    <p:cNvGrpSpPr/>
                    <p:nvPr/>
                  </p:nvGrpSpPr>
                  <p:grpSpPr>
                    <a:xfrm>
                      <a:off x="1772280" y="1173600"/>
                      <a:ext cx="413280" cy="436320"/>
                      <a:chOff x="1772280" y="1173600"/>
                      <a:chExt cx="413280" cy="436320"/>
                    </a:xfrm>
                  </p:grpSpPr>
                  <p:sp>
                    <p:nvSpPr>
                      <p:cNvPr id="582" name="Freeform 8"/>
                      <p:cNvSpPr/>
                      <p:nvPr/>
                    </p:nvSpPr>
                    <p:spPr>
                      <a:xfrm>
                        <a:off x="1772280" y="117360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83" name="Freeform 9"/>
                      <p:cNvSpPr/>
                      <p:nvPr/>
                    </p:nvSpPr>
                    <p:spPr>
                      <a:xfrm>
                        <a:off x="1772280" y="126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84" name="Freeform 10"/>
                      <p:cNvSpPr/>
                      <p:nvPr/>
                    </p:nvSpPr>
                    <p:spPr>
                      <a:xfrm>
                        <a:off x="1978920" y="126036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585" name="Group 353"/>
                    <p:cNvGrpSpPr/>
                    <p:nvPr/>
                  </p:nvGrpSpPr>
                  <p:grpSpPr>
                    <a:xfrm>
                      <a:off x="1985400" y="1263240"/>
                      <a:ext cx="413280" cy="436320"/>
                      <a:chOff x="1985400" y="1263240"/>
                      <a:chExt cx="413280" cy="436320"/>
                    </a:xfrm>
                  </p:grpSpPr>
                  <p:sp>
                    <p:nvSpPr>
                      <p:cNvPr id="586" name="Freeform 8"/>
                      <p:cNvSpPr/>
                      <p:nvPr/>
                    </p:nvSpPr>
                    <p:spPr>
                      <a:xfrm>
                        <a:off x="1985400" y="1263240"/>
                        <a:ext cx="413280" cy="173520"/>
                      </a:xfrm>
                      <a:custGeom>
                        <a:avLst/>
                        <a:gdLst>
                          <a:gd name="textAreaLeft" fmla="*/ 0 w 413280"/>
                          <a:gd name="textAreaRight" fmla="*/ 413640 w 413280"/>
                          <a:gd name="textAreaTop" fmla="*/ 0 h 173520"/>
                          <a:gd name="textAreaBottom" fmla="*/ 173880 h 173520"/>
                        </a:gdLst>
                        <a:ahLst/>
                        <a:rect l="textAreaLeft" t="textAreaTop" r="textAreaRight" b="textAreaBottom"/>
                        <a:pathLst>
                          <a:path w="6828" h="2896">
                            <a:moveTo>
                              <a:pt x="6828" y="1448"/>
                            </a:moveTo>
                            <a:lnTo>
                              <a:pt x="3414" y="2896"/>
                            </a:lnTo>
                            <a:lnTo>
                              <a:pt x="0" y="1448"/>
                            </a:lnTo>
                            <a:lnTo>
                              <a:pt x="3414" y="0"/>
                            </a:lnTo>
                            <a:lnTo>
                              <a:pt x="6828" y="1448"/>
                            </a:lnTo>
                            <a:close/>
                          </a:path>
                        </a:pathLst>
                      </a:custGeom>
                      <a:gradFill rotWithShape="0">
                        <a:gsLst>
                          <a:gs pos="0">
                            <a:srgbClr val="df9294"/>
                          </a:gs>
                          <a:gs pos="100000">
                            <a:srgbClr val="f6d6d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87" name="Freeform 9"/>
                      <p:cNvSpPr/>
                      <p:nvPr/>
                    </p:nvSpPr>
                    <p:spPr>
                      <a:xfrm>
                        <a:off x="1985400" y="135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3414" y="5837"/>
                            </a:moveTo>
                            <a:lnTo>
                              <a:pt x="0" y="4391"/>
                            </a:lnTo>
                            <a:lnTo>
                              <a:pt x="0" y="0"/>
                            </a:lnTo>
                            <a:lnTo>
                              <a:pt x="3414" y="1446"/>
                            </a:lnTo>
                            <a:lnTo>
                              <a:pt x="3414" y="5837"/>
                            </a:lnTo>
                            <a:close/>
                          </a:path>
                        </a:pathLst>
                      </a:custGeom>
                      <a:gradFill rotWithShape="0">
                        <a:gsLst>
                          <a:gs pos="0">
                            <a:srgbClr val="a75054"/>
                          </a:gs>
                          <a:gs pos="100000">
                            <a:srgbClr val="c38e89"/>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88" name="Freeform 10"/>
                      <p:cNvSpPr/>
                      <p:nvPr/>
                    </p:nvSpPr>
                    <p:spPr>
                      <a:xfrm>
                        <a:off x="2192040" y="1350000"/>
                        <a:ext cx="206640" cy="349560"/>
                      </a:xfrm>
                      <a:custGeom>
                        <a:avLst/>
                        <a:gdLst>
                          <a:gd name="textAreaLeft" fmla="*/ 0 w 206640"/>
                          <a:gd name="textAreaRight" fmla="*/ 207000 w 206640"/>
                          <a:gd name="textAreaTop" fmla="*/ 0 h 349560"/>
                          <a:gd name="textAreaBottom" fmla="*/ 349920 h 349560"/>
                        </a:gdLst>
                        <a:ahLst/>
                        <a:rect l="textAreaLeft" t="textAreaTop" r="textAreaRight" b="textAreaBottom"/>
                        <a:pathLst>
                          <a:path w="3414" h="5837">
                            <a:moveTo>
                              <a:pt x="0" y="5837"/>
                            </a:moveTo>
                            <a:lnTo>
                              <a:pt x="3414" y="4391"/>
                            </a:lnTo>
                            <a:lnTo>
                              <a:pt x="3414" y="0"/>
                            </a:lnTo>
                            <a:lnTo>
                              <a:pt x="0" y="1446"/>
                            </a:lnTo>
                            <a:lnTo>
                              <a:pt x="0" y="5837"/>
                            </a:lnTo>
                            <a:close/>
                          </a:path>
                        </a:pathLst>
                      </a:custGeom>
                      <a:gradFill rotWithShape="0">
                        <a:gsLst>
                          <a:gs pos="0">
                            <a:srgbClr val="431b1a"/>
                          </a:gs>
                          <a:gs pos="100000">
                            <a:srgbClr val="8b3637"/>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grpSp>
          </p:gr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9" name="Group 2"/>
          <p:cNvGrpSpPr/>
          <p:nvPr/>
        </p:nvGrpSpPr>
        <p:grpSpPr>
          <a:xfrm>
            <a:off x="231840" y="2517840"/>
            <a:ext cx="9186480" cy="3187440"/>
            <a:chOff x="231840" y="2517840"/>
            <a:chExt cx="9186480" cy="3187440"/>
          </a:xfrm>
        </p:grpSpPr>
        <p:pic>
          <p:nvPicPr>
            <p:cNvPr id="590" name="Freeform 10" descr=""/>
            <p:cNvPicPr/>
            <p:nvPr/>
          </p:nvPicPr>
          <p:blipFill>
            <a:blip r:embed="rId1"/>
            <a:stretch/>
          </p:blipFill>
          <p:spPr>
            <a:xfrm>
              <a:off x="234720" y="2520720"/>
              <a:ext cx="9183600" cy="3184560"/>
            </a:xfrm>
            <a:prstGeom prst="rect">
              <a:avLst/>
            </a:prstGeom>
            <a:ln w="0">
              <a:noFill/>
            </a:ln>
          </p:spPr>
        </p:pic>
        <p:sp>
          <p:nvSpPr>
            <p:cNvPr id="591" name="Text Box 4"/>
            <p:cNvSpPr/>
            <p:nvPr/>
          </p:nvSpPr>
          <p:spPr>
            <a:xfrm>
              <a:off x="231840" y="2517840"/>
              <a:ext cx="9183600" cy="3186000"/>
            </a:xfrm>
            <a:prstGeom prst="rect">
              <a:avLst/>
            </a:prstGeom>
            <a:noFill/>
            <a:ln w="0">
              <a:noFill/>
            </a:ln>
          </p:spPr>
          <p:style>
            <a:lnRef idx="0"/>
            <a:fillRef idx="0"/>
            <a:effectRef idx="0"/>
            <a:fontRef idx="minor"/>
          </p:style>
          <p:txBody>
            <a:bodyPr lIns="90000" rIns="90000" tIns="46800" bIns="46800" anchor="t">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Group 5"/>
          <p:cNvGrpSpPr/>
          <p:nvPr/>
        </p:nvGrpSpPr>
        <p:grpSpPr>
          <a:xfrm>
            <a:off x="990720" y="1295280"/>
            <a:ext cx="6997680" cy="4260960"/>
            <a:chOff x="990720" y="1295280"/>
            <a:chExt cx="6997680" cy="4260960"/>
          </a:xfrm>
        </p:grpSpPr>
        <p:grpSp>
          <p:nvGrpSpPr>
            <p:cNvPr id="593" name="Group 6"/>
            <p:cNvGrpSpPr/>
            <p:nvPr/>
          </p:nvGrpSpPr>
          <p:grpSpPr>
            <a:xfrm>
              <a:off x="990720" y="1295280"/>
              <a:ext cx="6997680" cy="4260960"/>
              <a:chOff x="990720" y="1295280"/>
              <a:chExt cx="6997680" cy="4260960"/>
            </a:xfrm>
          </p:grpSpPr>
          <p:sp>
            <p:nvSpPr>
              <p:cNvPr id="594" name="Freeform 5"/>
              <p:cNvSpPr/>
              <p:nvPr/>
            </p:nvSpPr>
            <p:spPr>
              <a:xfrm>
                <a:off x="4931640" y="2407680"/>
                <a:ext cx="3056760" cy="613800"/>
              </a:xfrm>
              <a:custGeom>
                <a:avLst/>
                <a:gdLst>
                  <a:gd name="textAreaLeft" fmla="*/ 0 w 3056760"/>
                  <a:gd name="textAreaRight" fmla="*/ 3057120 w 3056760"/>
                  <a:gd name="textAreaTop" fmla="*/ 0 h 613800"/>
                  <a:gd name="textAreaBottom" fmla="*/ 614160 h 613800"/>
                </a:gdLst>
                <a:ahLst/>
                <a:rect l="textAreaLeft" t="textAreaTop" r="textAreaRight" b="textAreaBottom"/>
                <a:pathLst>
                  <a:path w="2516" h="469">
                    <a:moveTo>
                      <a:pt x="2327" y="469"/>
                    </a:moveTo>
                    <a:lnTo>
                      <a:pt x="0" y="92"/>
                    </a:lnTo>
                    <a:lnTo>
                      <a:pt x="189" y="0"/>
                    </a:lnTo>
                    <a:lnTo>
                      <a:pt x="2516" y="377"/>
                    </a:lnTo>
                    <a:lnTo>
                      <a:pt x="2327" y="469"/>
                    </a:lnTo>
                    <a:close/>
                  </a:path>
                </a:pathLst>
              </a:custGeom>
              <a:gradFill rotWithShape="0">
                <a:gsLst>
                  <a:gs pos="0">
                    <a:srgbClr val="7f7f7f"/>
                  </a:gs>
                  <a:gs pos="100000">
                    <a:srgbClr val="a6a6a6"/>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95" name="Freeform 6"/>
              <p:cNvSpPr/>
              <p:nvPr/>
            </p:nvSpPr>
            <p:spPr>
              <a:xfrm>
                <a:off x="4700880" y="2037240"/>
                <a:ext cx="3057840" cy="613800"/>
              </a:xfrm>
              <a:custGeom>
                <a:avLst/>
                <a:gdLst>
                  <a:gd name="textAreaLeft" fmla="*/ 0 w 3057840"/>
                  <a:gd name="textAreaRight" fmla="*/ 3058200 w 3057840"/>
                  <a:gd name="textAreaTop" fmla="*/ 0 h 613800"/>
                  <a:gd name="textAreaBottom" fmla="*/ 614160 h 613800"/>
                </a:gdLst>
                <a:ahLst/>
                <a:rect l="textAreaLeft" t="textAreaTop" r="textAreaRight" b="textAreaBottom"/>
                <a:pathLst>
                  <a:path w="2517" h="469">
                    <a:moveTo>
                      <a:pt x="2327" y="469"/>
                    </a:moveTo>
                    <a:lnTo>
                      <a:pt x="0" y="92"/>
                    </a:lnTo>
                    <a:lnTo>
                      <a:pt x="190" y="0"/>
                    </a:lnTo>
                    <a:lnTo>
                      <a:pt x="2517" y="377"/>
                    </a:lnTo>
                    <a:lnTo>
                      <a:pt x="2327" y="469"/>
                    </a:lnTo>
                    <a:close/>
                  </a:path>
                </a:pathLst>
              </a:custGeom>
              <a:gradFill rotWithShape="0">
                <a:gsLst>
                  <a:gs pos="0">
                    <a:srgbClr val="7f7f7f"/>
                  </a:gs>
                  <a:gs pos="100000">
                    <a:srgbClr val="a6a6a6"/>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96" name="Freeform 7"/>
              <p:cNvSpPr/>
              <p:nvPr/>
            </p:nvSpPr>
            <p:spPr>
              <a:xfrm>
                <a:off x="4471200" y="1665360"/>
                <a:ext cx="3056760" cy="614880"/>
              </a:xfrm>
              <a:custGeom>
                <a:avLst/>
                <a:gdLst>
                  <a:gd name="textAreaLeft" fmla="*/ 0 w 3056760"/>
                  <a:gd name="textAreaRight" fmla="*/ 3057120 w 3056760"/>
                  <a:gd name="textAreaTop" fmla="*/ 0 h 614880"/>
                  <a:gd name="textAreaBottom" fmla="*/ 615240 h 614880"/>
                </a:gdLst>
                <a:ahLst/>
                <a:rect l="textAreaLeft" t="textAreaTop" r="textAreaRight" b="textAreaBottom"/>
                <a:pathLst>
                  <a:path w="2516" h="470">
                    <a:moveTo>
                      <a:pt x="2327" y="470"/>
                    </a:moveTo>
                    <a:lnTo>
                      <a:pt x="0" y="92"/>
                    </a:lnTo>
                    <a:lnTo>
                      <a:pt x="189" y="0"/>
                    </a:lnTo>
                    <a:lnTo>
                      <a:pt x="2516" y="378"/>
                    </a:lnTo>
                    <a:lnTo>
                      <a:pt x="2327" y="470"/>
                    </a:lnTo>
                    <a:close/>
                  </a:path>
                </a:pathLst>
              </a:custGeom>
              <a:gradFill rotWithShape="0">
                <a:gsLst>
                  <a:gs pos="0">
                    <a:srgbClr val="7f7f7f"/>
                  </a:gs>
                  <a:gs pos="100000">
                    <a:srgbClr val="a6a6a6"/>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97" name="Freeform 22"/>
              <p:cNvSpPr/>
              <p:nvPr/>
            </p:nvSpPr>
            <p:spPr>
              <a:xfrm>
                <a:off x="3656880" y="2094840"/>
                <a:ext cx="3525840" cy="1720080"/>
              </a:xfrm>
              <a:custGeom>
                <a:avLst/>
                <a:gdLst>
                  <a:gd name="textAreaLeft" fmla="*/ 0 w 3525840"/>
                  <a:gd name="textAreaRight" fmla="*/ 3526200 w 3525840"/>
                  <a:gd name="textAreaTop" fmla="*/ 0 h 1720080"/>
                  <a:gd name="textAreaBottom" fmla="*/ 1720440 h 1720080"/>
                </a:gdLst>
                <a:ahLst/>
                <a:rect l="textAreaLeft" t="textAreaTop" r="textAreaRight" b="textAreaBottom"/>
                <a:pathLst>
                  <a:path w="4354" h="1972">
                    <a:moveTo>
                      <a:pt x="4354" y="1972"/>
                    </a:moveTo>
                    <a:lnTo>
                      <a:pt x="864" y="1406"/>
                    </a:lnTo>
                    <a:lnTo>
                      <a:pt x="864" y="1378"/>
                    </a:lnTo>
                    <a:lnTo>
                      <a:pt x="864" y="1306"/>
                    </a:lnTo>
                    <a:lnTo>
                      <a:pt x="860" y="1234"/>
                    </a:lnTo>
                    <a:lnTo>
                      <a:pt x="856" y="1164"/>
                    </a:lnTo>
                    <a:lnTo>
                      <a:pt x="848" y="1096"/>
                    </a:lnTo>
                    <a:lnTo>
                      <a:pt x="840" y="1030"/>
                    </a:lnTo>
                    <a:lnTo>
                      <a:pt x="830" y="966"/>
                    </a:lnTo>
                    <a:lnTo>
                      <a:pt x="816" y="904"/>
                    </a:lnTo>
                    <a:lnTo>
                      <a:pt x="802" y="844"/>
                    </a:lnTo>
                    <a:lnTo>
                      <a:pt x="786" y="784"/>
                    </a:lnTo>
                    <a:lnTo>
                      <a:pt x="768" y="728"/>
                    </a:lnTo>
                    <a:lnTo>
                      <a:pt x="748" y="672"/>
                    </a:lnTo>
                    <a:lnTo>
                      <a:pt x="728" y="618"/>
                    </a:lnTo>
                    <a:lnTo>
                      <a:pt x="704" y="568"/>
                    </a:lnTo>
                    <a:lnTo>
                      <a:pt x="680" y="518"/>
                    </a:lnTo>
                    <a:lnTo>
                      <a:pt x="654" y="470"/>
                    </a:lnTo>
                    <a:lnTo>
                      <a:pt x="626" y="426"/>
                    </a:lnTo>
                    <a:lnTo>
                      <a:pt x="596" y="382"/>
                    </a:lnTo>
                    <a:lnTo>
                      <a:pt x="566" y="340"/>
                    </a:lnTo>
                    <a:lnTo>
                      <a:pt x="534" y="302"/>
                    </a:lnTo>
                    <a:lnTo>
                      <a:pt x="500" y="266"/>
                    </a:lnTo>
                    <a:lnTo>
                      <a:pt x="464" y="230"/>
                    </a:lnTo>
                    <a:lnTo>
                      <a:pt x="428" y="198"/>
                    </a:lnTo>
                    <a:lnTo>
                      <a:pt x="390" y="168"/>
                    </a:lnTo>
                    <a:lnTo>
                      <a:pt x="352" y="140"/>
                    </a:lnTo>
                    <a:lnTo>
                      <a:pt x="312" y="114"/>
                    </a:lnTo>
                    <a:lnTo>
                      <a:pt x="270" y="90"/>
                    </a:lnTo>
                    <a:lnTo>
                      <a:pt x="228" y="68"/>
                    </a:lnTo>
                    <a:lnTo>
                      <a:pt x="184" y="50"/>
                    </a:lnTo>
                    <a:lnTo>
                      <a:pt x="140" y="34"/>
                    </a:lnTo>
                    <a:lnTo>
                      <a:pt x="94" y="20"/>
                    </a:lnTo>
                    <a:lnTo>
                      <a:pt x="48" y="8"/>
                    </a:lnTo>
                    <a:lnTo>
                      <a:pt x="0" y="0"/>
                    </a:lnTo>
                    <a:lnTo>
                      <a:pt x="3488" y="566"/>
                    </a:lnTo>
                    <a:lnTo>
                      <a:pt x="3536" y="574"/>
                    </a:lnTo>
                    <a:lnTo>
                      <a:pt x="3584" y="586"/>
                    </a:lnTo>
                    <a:lnTo>
                      <a:pt x="3628" y="600"/>
                    </a:lnTo>
                    <a:lnTo>
                      <a:pt x="3674" y="616"/>
                    </a:lnTo>
                    <a:lnTo>
                      <a:pt x="3718" y="634"/>
                    </a:lnTo>
                    <a:lnTo>
                      <a:pt x="3760" y="656"/>
                    </a:lnTo>
                    <a:lnTo>
                      <a:pt x="3800" y="680"/>
                    </a:lnTo>
                    <a:lnTo>
                      <a:pt x="3840" y="706"/>
                    </a:lnTo>
                    <a:lnTo>
                      <a:pt x="3880" y="734"/>
                    </a:lnTo>
                    <a:lnTo>
                      <a:pt x="3918" y="764"/>
                    </a:lnTo>
                    <a:lnTo>
                      <a:pt x="3954" y="796"/>
                    </a:lnTo>
                    <a:lnTo>
                      <a:pt x="3988" y="832"/>
                    </a:lnTo>
                    <a:lnTo>
                      <a:pt x="4022" y="868"/>
                    </a:lnTo>
                    <a:lnTo>
                      <a:pt x="4054" y="908"/>
                    </a:lnTo>
                    <a:lnTo>
                      <a:pt x="4086" y="948"/>
                    </a:lnTo>
                    <a:lnTo>
                      <a:pt x="4114" y="992"/>
                    </a:lnTo>
                    <a:lnTo>
                      <a:pt x="4142" y="1036"/>
                    </a:lnTo>
                    <a:lnTo>
                      <a:pt x="4168" y="1084"/>
                    </a:lnTo>
                    <a:lnTo>
                      <a:pt x="4194" y="1134"/>
                    </a:lnTo>
                    <a:lnTo>
                      <a:pt x="4216" y="1184"/>
                    </a:lnTo>
                    <a:lnTo>
                      <a:pt x="4238" y="1238"/>
                    </a:lnTo>
                    <a:lnTo>
                      <a:pt x="4258" y="1294"/>
                    </a:lnTo>
                    <a:lnTo>
                      <a:pt x="4276" y="1350"/>
                    </a:lnTo>
                    <a:lnTo>
                      <a:pt x="4292" y="1410"/>
                    </a:lnTo>
                    <a:lnTo>
                      <a:pt x="4306" y="1470"/>
                    </a:lnTo>
                    <a:lnTo>
                      <a:pt x="4318" y="1532"/>
                    </a:lnTo>
                    <a:lnTo>
                      <a:pt x="4330" y="1596"/>
                    </a:lnTo>
                    <a:lnTo>
                      <a:pt x="4338" y="1662"/>
                    </a:lnTo>
                    <a:lnTo>
                      <a:pt x="4344" y="1730"/>
                    </a:lnTo>
                    <a:lnTo>
                      <a:pt x="4350" y="1800"/>
                    </a:lnTo>
                    <a:lnTo>
                      <a:pt x="4352" y="1872"/>
                    </a:lnTo>
                    <a:lnTo>
                      <a:pt x="4354" y="1944"/>
                    </a:lnTo>
                    <a:lnTo>
                      <a:pt x="4354" y="1972"/>
                    </a:lnTo>
                    <a:close/>
                  </a:path>
                </a:pathLst>
              </a:custGeom>
              <a:gradFill rotWithShape="0">
                <a:gsLst>
                  <a:gs pos="0">
                    <a:srgbClr val="1c1c1c"/>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9"/>
              <p:cNvSpPr/>
              <p:nvPr/>
            </p:nvSpPr>
            <p:spPr>
              <a:xfrm>
                <a:off x="1685520" y="2734560"/>
                <a:ext cx="2827080" cy="981360"/>
              </a:xfrm>
              <a:custGeom>
                <a:avLst/>
                <a:gdLst>
                  <a:gd name="textAreaLeft" fmla="*/ 0 w 2827080"/>
                  <a:gd name="textAreaRight" fmla="*/ 2827440 w 2827080"/>
                  <a:gd name="textAreaTop" fmla="*/ 0 h 981360"/>
                  <a:gd name="textAreaBottom" fmla="*/ 981720 h 981360"/>
                </a:gdLst>
                <a:ahLst/>
                <a:rect l="textAreaLeft" t="textAreaTop" r="textAreaRight" b="textAreaBottom"/>
                <a:pathLst>
                  <a:path w="2327" h="750">
                    <a:moveTo>
                      <a:pt x="2325" y="750"/>
                    </a:moveTo>
                    <a:lnTo>
                      <a:pt x="0" y="373"/>
                    </a:lnTo>
                    <a:lnTo>
                      <a:pt x="0" y="0"/>
                    </a:lnTo>
                    <a:lnTo>
                      <a:pt x="2327" y="377"/>
                    </a:lnTo>
                    <a:lnTo>
                      <a:pt x="2325" y="750"/>
                    </a:lnTo>
                    <a:close/>
                  </a:path>
                </a:pathLst>
              </a:custGeom>
              <a:gradFill rotWithShape="0">
                <a:gsLst>
                  <a:gs pos="0">
                    <a:srgbClr val="a6a6a6"/>
                  </a:gs>
                  <a:gs pos="100000">
                    <a:srgbClr val="bfbfbf"/>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599" name="Freeform 10"/>
              <p:cNvSpPr/>
              <p:nvPr/>
            </p:nvSpPr>
            <p:spPr>
              <a:xfrm>
                <a:off x="1685520" y="1295280"/>
                <a:ext cx="5612760" cy="1932840"/>
              </a:xfrm>
              <a:custGeom>
                <a:avLst/>
                <a:gdLst>
                  <a:gd name="textAreaLeft" fmla="*/ 0 w 5612760"/>
                  <a:gd name="textAreaRight" fmla="*/ 5613120 w 5612760"/>
                  <a:gd name="textAreaTop" fmla="*/ 0 h 1932840"/>
                  <a:gd name="textAreaBottom" fmla="*/ 1933200 h 1932840"/>
                </a:gdLst>
                <a:ahLst/>
                <a:rect l="textAreaLeft" t="textAreaTop" r="textAreaRight" b="textAreaBottom"/>
                <a:pathLst>
                  <a:path w="4620" h="1477">
                    <a:moveTo>
                      <a:pt x="2327" y="1477"/>
                    </a:moveTo>
                    <a:lnTo>
                      <a:pt x="0" y="1100"/>
                    </a:lnTo>
                    <a:lnTo>
                      <a:pt x="2293" y="0"/>
                    </a:lnTo>
                    <a:lnTo>
                      <a:pt x="4620" y="377"/>
                    </a:lnTo>
                    <a:lnTo>
                      <a:pt x="2327" y="1477"/>
                    </a:lnTo>
                    <a:close/>
                  </a:path>
                </a:pathLst>
              </a:custGeom>
              <a:gradFill rotWithShape="0">
                <a:gsLst>
                  <a:gs pos="0">
                    <a:srgbClr val="969696"/>
                  </a:gs>
                  <a:gs pos="100000">
                    <a:srgbClr val="4d4d4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11"/>
              <p:cNvSpPr/>
              <p:nvPr/>
            </p:nvSpPr>
            <p:spPr>
              <a:xfrm>
                <a:off x="1453320" y="3343320"/>
                <a:ext cx="2825640" cy="982800"/>
              </a:xfrm>
              <a:custGeom>
                <a:avLst/>
                <a:gdLst>
                  <a:gd name="textAreaLeft" fmla="*/ 0 w 2825640"/>
                  <a:gd name="textAreaRight" fmla="*/ 2826000 w 2825640"/>
                  <a:gd name="textAreaTop" fmla="*/ 0 h 982800"/>
                  <a:gd name="textAreaBottom" fmla="*/ 983160 h 982800"/>
                </a:gdLst>
                <a:ahLst/>
                <a:rect l="textAreaLeft" t="textAreaTop" r="textAreaRight" b="textAreaBottom"/>
                <a:pathLst>
                  <a:path w="2326" h="751">
                    <a:moveTo>
                      <a:pt x="2326" y="751"/>
                    </a:moveTo>
                    <a:lnTo>
                      <a:pt x="0" y="374"/>
                    </a:lnTo>
                    <a:lnTo>
                      <a:pt x="0" y="0"/>
                    </a:lnTo>
                    <a:lnTo>
                      <a:pt x="2326" y="377"/>
                    </a:lnTo>
                    <a:lnTo>
                      <a:pt x="2326" y="751"/>
                    </a:lnTo>
                    <a:close/>
                  </a:path>
                </a:pathLst>
              </a:custGeom>
              <a:gradFill rotWithShape="0">
                <a:gsLst>
                  <a:gs pos="0">
                    <a:srgbClr val="a6a6a6"/>
                  </a:gs>
                  <a:gs pos="100000">
                    <a:srgbClr val="bfbfbf"/>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601" name="Freeform 12"/>
              <p:cNvSpPr/>
              <p:nvPr/>
            </p:nvSpPr>
            <p:spPr>
              <a:xfrm>
                <a:off x="1453320" y="3223080"/>
                <a:ext cx="3056760" cy="613800"/>
              </a:xfrm>
              <a:custGeom>
                <a:avLst/>
                <a:gdLst>
                  <a:gd name="textAreaLeft" fmla="*/ 0 w 3056760"/>
                  <a:gd name="textAreaRight" fmla="*/ 3057120 w 3056760"/>
                  <a:gd name="textAreaTop" fmla="*/ 0 h 613800"/>
                  <a:gd name="textAreaBottom" fmla="*/ 614160 h 613800"/>
                </a:gdLst>
                <a:ahLst/>
                <a:rect l="textAreaLeft" t="textAreaTop" r="textAreaRight" b="textAreaBottom"/>
                <a:pathLst>
                  <a:path w="2516" h="469">
                    <a:moveTo>
                      <a:pt x="2326" y="469"/>
                    </a:moveTo>
                    <a:lnTo>
                      <a:pt x="0" y="92"/>
                    </a:lnTo>
                    <a:lnTo>
                      <a:pt x="191" y="0"/>
                    </a:lnTo>
                    <a:lnTo>
                      <a:pt x="2516" y="377"/>
                    </a:lnTo>
                    <a:lnTo>
                      <a:pt x="2326" y="469"/>
                    </a:lnTo>
                    <a:close/>
                  </a:path>
                </a:pathLst>
              </a:custGeom>
              <a:gradFill rotWithShape="0">
                <a:gsLst>
                  <a:gs pos="0">
                    <a:srgbClr val="606060"/>
                  </a:gs>
                  <a:gs pos="100000">
                    <a:srgbClr val="848484"/>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602" name="Freeform 13"/>
              <p:cNvSpPr/>
              <p:nvPr/>
            </p:nvSpPr>
            <p:spPr>
              <a:xfrm>
                <a:off x="1222560" y="3832920"/>
                <a:ext cx="3056760" cy="613800"/>
              </a:xfrm>
              <a:custGeom>
                <a:avLst/>
                <a:gdLst>
                  <a:gd name="textAreaLeft" fmla="*/ 0 w 3056760"/>
                  <a:gd name="textAreaRight" fmla="*/ 3057120 w 3056760"/>
                  <a:gd name="textAreaTop" fmla="*/ 0 h 613800"/>
                  <a:gd name="textAreaBottom" fmla="*/ 614160 h 613800"/>
                </a:gdLst>
                <a:ahLst/>
                <a:rect l="textAreaLeft" t="textAreaTop" r="textAreaRight" b="textAreaBottom"/>
                <a:pathLst>
                  <a:path w="2516" h="469">
                    <a:moveTo>
                      <a:pt x="2325" y="469"/>
                    </a:moveTo>
                    <a:lnTo>
                      <a:pt x="0" y="90"/>
                    </a:lnTo>
                    <a:lnTo>
                      <a:pt x="190" y="0"/>
                    </a:lnTo>
                    <a:lnTo>
                      <a:pt x="2516" y="377"/>
                    </a:lnTo>
                    <a:lnTo>
                      <a:pt x="2325" y="469"/>
                    </a:lnTo>
                    <a:close/>
                  </a:path>
                </a:pathLst>
              </a:custGeom>
              <a:gradFill rotWithShape="0">
                <a:gsLst>
                  <a:gs pos="0">
                    <a:srgbClr val="606060"/>
                  </a:gs>
                  <a:gs pos="100000">
                    <a:srgbClr val="848484"/>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603" name="Freeform 14"/>
              <p:cNvSpPr/>
              <p:nvPr/>
            </p:nvSpPr>
            <p:spPr>
              <a:xfrm>
                <a:off x="1220040" y="3950640"/>
                <a:ext cx="2827080" cy="983880"/>
              </a:xfrm>
              <a:custGeom>
                <a:avLst/>
                <a:gdLst>
                  <a:gd name="textAreaLeft" fmla="*/ 0 w 2827080"/>
                  <a:gd name="textAreaRight" fmla="*/ 2827440 w 2827080"/>
                  <a:gd name="textAreaTop" fmla="*/ 0 h 983880"/>
                  <a:gd name="textAreaBottom" fmla="*/ 984240 h 983880"/>
                </a:gdLst>
                <a:ahLst/>
                <a:rect l="textAreaLeft" t="textAreaTop" r="textAreaRight" b="textAreaBottom"/>
                <a:pathLst>
                  <a:path w="2327" h="752">
                    <a:moveTo>
                      <a:pt x="2327" y="752"/>
                    </a:moveTo>
                    <a:lnTo>
                      <a:pt x="0" y="375"/>
                    </a:lnTo>
                    <a:lnTo>
                      <a:pt x="2" y="0"/>
                    </a:lnTo>
                    <a:lnTo>
                      <a:pt x="2327" y="379"/>
                    </a:lnTo>
                    <a:lnTo>
                      <a:pt x="2327" y="752"/>
                    </a:lnTo>
                    <a:close/>
                  </a:path>
                </a:pathLst>
              </a:custGeom>
              <a:gradFill rotWithShape="0">
                <a:gsLst>
                  <a:gs pos="0">
                    <a:srgbClr val="a6a6a6"/>
                  </a:gs>
                  <a:gs pos="100000">
                    <a:srgbClr val="bfbfbf"/>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604" name="Freeform 15"/>
              <p:cNvSpPr/>
              <p:nvPr/>
            </p:nvSpPr>
            <p:spPr>
              <a:xfrm>
                <a:off x="990720" y="4441320"/>
                <a:ext cx="3056760" cy="613800"/>
              </a:xfrm>
              <a:custGeom>
                <a:avLst/>
                <a:gdLst>
                  <a:gd name="textAreaLeft" fmla="*/ 0 w 3056760"/>
                  <a:gd name="textAreaRight" fmla="*/ 3057120 w 3056760"/>
                  <a:gd name="textAreaTop" fmla="*/ 0 h 613800"/>
                  <a:gd name="textAreaBottom" fmla="*/ 614160 h 613800"/>
                </a:gdLst>
                <a:ahLst/>
                <a:rect l="textAreaLeft" t="textAreaTop" r="textAreaRight" b="textAreaBottom"/>
                <a:pathLst>
                  <a:path w="2516" h="469">
                    <a:moveTo>
                      <a:pt x="2327" y="469"/>
                    </a:moveTo>
                    <a:lnTo>
                      <a:pt x="0" y="90"/>
                    </a:lnTo>
                    <a:lnTo>
                      <a:pt x="189" y="0"/>
                    </a:lnTo>
                    <a:lnTo>
                      <a:pt x="2516" y="377"/>
                    </a:lnTo>
                    <a:lnTo>
                      <a:pt x="2327" y="469"/>
                    </a:lnTo>
                    <a:close/>
                  </a:path>
                </a:pathLst>
              </a:custGeom>
              <a:gradFill rotWithShape="0">
                <a:gsLst>
                  <a:gs pos="0">
                    <a:srgbClr val="606060"/>
                  </a:gs>
                  <a:gs pos="100000">
                    <a:srgbClr val="848484"/>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605" name="Freeform 16"/>
              <p:cNvSpPr/>
              <p:nvPr/>
            </p:nvSpPr>
            <p:spPr>
              <a:xfrm>
                <a:off x="990720" y="4559040"/>
                <a:ext cx="2827080" cy="997200"/>
              </a:xfrm>
              <a:custGeom>
                <a:avLst/>
                <a:gdLst>
                  <a:gd name="textAreaLeft" fmla="*/ 0 w 2827080"/>
                  <a:gd name="textAreaRight" fmla="*/ 2827440 w 2827080"/>
                  <a:gd name="textAreaTop" fmla="*/ 0 h 997200"/>
                  <a:gd name="textAreaBottom" fmla="*/ 997560 h 997200"/>
                </a:gdLst>
                <a:ahLst/>
                <a:rect l="textAreaLeft" t="textAreaTop" r="textAreaRight" b="textAreaBottom"/>
                <a:pathLst>
                  <a:path w="2327" h="762">
                    <a:moveTo>
                      <a:pt x="2327" y="762"/>
                    </a:moveTo>
                    <a:lnTo>
                      <a:pt x="0" y="385"/>
                    </a:lnTo>
                    <a:lnTo>
                      <a:pt x="0" y="0"/>
                    </a:lnTo>
                    <a:lnTo>
                      <a:pt x="2327" y="379"/>
                    </a:lnTo>
                    <a:lnTo>
                      <a:pt x="2327" y="762"/>
                    </a:lnTo>
                    <a:close/>
                  </a:path>
                </a:pathLst>
              </a:custGeom>
              <a:gradFill rotWithShape="0">
                <a:gsLst>
                  <a:gs pos="0">
                    <a:srgbClr val="a6a6a6"/>
                  </a:gs>
                  <a:gs pos="100000">
                    <a:srgbClr val="bfbfbf"/>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606" name="Freeform 17"/>
              <p:cNvSpPr/>
              <p:nvPr/>
            </p:nvSpPr>
            <p:spPr>
              <a:xfrm>
                <a:off x="3817800" y="1788480"/>
                <a:ext cx="4170600" cy="3767760"/>
              </a:xfrm>
              <a:custGeom>
                <a:avLst/>
                <a:gdLst>
                  <a:gd name="textAreaLeft" fmla="*/ 0 w 4170600"/>
                  <a:gd name="textAreaRight" fmla="*/ 4170960 w 4170600"/>
                  <a:gd name="textAreaTop" fmla="*/ 0 h 3767760"/>
                  <a:gd name="textAreaBottom" fmla="*/ 3768120 h 3767760"/>
                </a:gdLst>
                <a:ahLst/>
                <a:rect l="textAreaLeft" t="textAreaTop" r="textAreaRight" b="textAreaBottom"/>
                <a:pathLst>
                  <a:path w="3433" h="2879">
                    <a:moveTo>
                      <a:pt x="2865" y="0"/>
                    </a:moveTo>
                    <a:lnTo>
                      <a:pt x="2865" y="376"/>
                    </a:lnTo>
                    <a:lnTo>
                      <a:pt x="3054" y="284"/>
                    </a:lnTo>
                    <a:lnTo>
                      <a:pt x="3054" y="659"/>
                    </a:lnTo>
                    <a:lnTo>
                      <a:pt x="3244" y="567"/>
                    </a:lnTo>
                    <a:lnTo>
                      <a:pt x="3244" y="942"/>
                    </a:lnTo>
                    <a:lnTo>
                      <a:pt x="3433" y="850"/>
                    </a:lnTo>
                    <a:lnTo>
                      <a:pt x="3431" y="1235"/>
                    </a:lnTo>
                    <a:lnTo>
                      <a:pt x="2765" y="1554"/>
                    </a:lnTo>
                    <a:lnTo>
                      <a:pt x="2765" y="1535"/>
                    </a:lnTo>
                    <a:lnTo>
                      <a:pt x="2763" y="1468"/>
                    </a:lnTo>
                    <a:lnTo>
                      <a:pt x="2759" y="1402"/>
                    </a:lnTo>
                    <a:lnTo>
                      <a:pt x="2754" y="1338"/>
                    </a:lnTo>
                    <a:lnTo>
                      <a:pt x="2744" y="1276"/>
                    </a:lnTo>
                    <a:lnTo>
                      <a:pt x="2733" y="1216"/>
                    </a:lnTo>
                    <a:lnTo>
                      <a:pt x="2718" y="1160"/>
                    </a:lnTo>
                    <a:lnTo>
                      <a:pt x="2701" y="1106"/>
                    </a:lnTo>
                    <a:lnTo>
                      <a:pt x="2683" y="1055"/>
                    </a:lnTo>
                    <a:lnTo>
                      <a:pt x="2662" y="1004"/>
                    </a:lnTo>
                    <a:lnTo>
                      <a:pt x="2639" y="959"/>
                    </a:lnTo>
                    <a:lnTo>
                      <a:pt x="2615" y="914"/>
                    </a:lnTo>
                    <a:lnTo>
                      <a:pt x="2587" y="873"/>
                    </a:lnTo>
                    <a:lnTo>
                      <a:pt x="2557" y="835"/>
                    </a:lnTo>
                    <a:lnTo>
                      <a:pt x="2527" y="800"/>
                    </a:lnTo>
                    <a:lnTo>
                      <a:pt x="2493" y="766"/>
                    </a:lnTo>
                    <a:lnTo>
                      <a:pt x="2459" y="736"/>
                    </a:lnTo>
                    <a:lnTo>
                      <a:pt x="2424" y="710"/>
                    </a:lnTo>
                    <a:lnTo>
                      <a:pt x="2384" y="685"/>
                    </a:lnTo>
                    <a:lnTo>
                      <a:pt x="2345" y="665"/>
                    </a:lnTo>
                    <a:lnTo>
                      <a:pt x="2304" y="648"/>
                    </a:lnTo>
                    <a:lnTo>
                      <a:pt x="2262" y="633"/>
                    </a:lnTo>
                    <a:lnTo>
                      <a:pt x="2217" y="621"/>
                    </a:lnTo>
                    <a:lnTo>
                      <a:pt x="2172" y="614"/>
                    </a:lnTo>
                    <a:lnTo>
                      <a:pt x="2125" y="610"/>
                    </a:lnTo>
                    <a:lnTo>
                      <a:pt x="2078" y="608"/>
                    </a:lnTo>
                    <a:lnTo>
                      <a:pt x="2030" y="610"/>
                    </a:lnTo>
                    <a:lnTo>
                      <a:pt x="1981" y="616"/>
                    </a:lnTo>
                    <a:lnTo>
                      <a:pt x="1928" y="625"/>
                    </a:lnTo>
                    <a:lnTo>
                      <a:pt x="1878" y="638"/>
                    </a:lnTo>
                    <a:lnTo>
                      <a:pt x="1825" y="655"/>
                    </a:lnTo>
                    <a:lnTo>
                      <a:pt x="1773" y="676"/>
                    </a:lnTo>
                    <a:lnTo>
                      <a:pt x="1718" y="700"/>
                    </a:lnTo>
                    <a:lnTo>
                      <a:pt x="1664" y="728"/>
                    </a:lnTo>
                    <a:lnTo>
                      <a:pt x="1611" y="758"/>
                    </a:lnTo>
                    <a:lnTo>
                      <a:pt x="1559" y="792"/>
                    </a:lnTo>
                    <a:lnTo>
                      <a:pt x="1506" y="828"/>
                    </a:lnTo>
                    <a:lnTo>
                      <a:pt x="1455" y="867"/>
                    </a:lnTo>
                    <a:lnTo>
                      <a:pt x="1405" y="910"/>
                    </a:lnTo>
                    <a:lnTo>
                      <a:pt x="1356" y="954"/>
                    </a:lnTo>
                    <a:lnTo>
                      <a:pt x="1309" y="1000"/>
                    </a:lnTo>
                    <a:lnTo>
                      <a:pt x="1262" y="1049"/>
                    </a:lnTo>
                    <a:lnTo>
                      <a:pt x="1217" y="1102"/>
                    </a:lnTo>
                    <a:lnTo>
                      <a:pt x="1174" y="1154"/>
                    </a:lnTo>
                    <a:lnTo>
                      <a:pt x="1131" y="1209"/>
                    </a:lnTo>
                    <a:lnTo>
                      <a:pt x="1090" y="1267"/>
                    </a:lnTo>
                    <a:lnTo>
                      <a:pt x="1050" y="1325"/>
                    </a:lnTo>
                    <a:lnTo>
                      <a:pt x="1011" y="1385"/>
                    </a:lnTo>
                    <a:lnTo>
                      <a:pt x="975" y="1447"/>
                    </a:lnTo>
                    <a:lnTo>
                      <a:pt x="940" y="1511"/>
                    </a:lnTo>
                    <a:lnTo>
                      <a:pt x="908" y="1575"/>
                    </a:lnTo>
                    <a:lnTo>
                      <a:pt x="876" y="1640"/>
                    </a:lnTo>
                    <a:lnTo>
                      <a:pt x="846" y="1706"/>
                    </a:lnTo>
                    <a:lnTo>
                      <a:pt x="819" y="1774"/>
                    </a:lnTo>
                    <a:lnTo>
                      <a:pt x="793" y="1843"/>
                    </a:lnTo>
                    <a:lnTo>
                      <a:pt x="771" y="1911"/>
                    </a:lnTo>
                    <a:lnTo>
                      <a:pt x="750" y="1980"/>
                    </a:lnTo>
                    <a:lnTo>
                      <a:pt x="731" y="2050"/>
                    </a:lnTo>
                    <a:lnTo>
                      <a:pt x="714" y="2121"/>
                    </a:lnTo>
                    <a:lnTo>
                      <a:pt x="699" y="2190"/>
                    </a:lnTo>
                    <a:lnTo>
                      <a:pt x="688" y="2262"/>
                    </a:lnTo>
                    <a:lnTo>
                      <a:pt x="679" y="2331"/>
                    </a:lnTo>
                    <a:lnTo>
                      <a:pt x="671" y="2402"/>
                    </a:lnTo>
                    <a:lnTo>
                      <a:pt x="667" y="2472"/>
                    </a:lnTo>
                    <a:lnTo>
                      <a:pt x="666" y="2541"/>
                    </a:lnTo>
                    <a:lnTo>
                      <a:pt x="666" y="2560"/>
                    </a:lnTo>
                    <a:lnTo>
                      <a:pt x="0" y="2879"/>
                    </a:lnTo>
                    <a:lnTo>
                      <a:pt x="0" y="2496"/>
                    </a:lnTo>
                    <a:lnTo>
                      <a:pt x="189" y="2404"/>
                    </a:lnTo>
                    <a:lnTo>
                      <a:pt x="189" y="2031"/>
                    </a:lnTo>
                    <a:lnTo>
                      <a:pt x="380" y="1939"/>
                    </a:lnTo>
                    <a:lnTo>
                      <a:pt x="380" y="1565"/>
                    </a:lnTo>
                    <a:lnTo>
                      <a:pt x="570" y="1473"/>
                    </a:lnTo>
                    <a:lnTo>
                      <a:pt x="572" y="1100"/>
                    </a:lnTo>
                    <a:lnTo>
                      <a:pt x="2865" y="0"/>
                    </a:lnTo>
                    <a:close/>
                  </a:path>
                </a:pathLst>
              </a:custGeom>
              <a:gradFill rotWithShape="0">
                <a:gsLst>
                  <a:gs pos="0">
                    <a:srgbClr val="262626"/>
                  </a:gs>
                  <a:gs pos="100000">
                    <a:srgbClr val="383838"/>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607" name="Freeform 23"/>
              <p:cNvSpPr/>
              <p:nvPr/>
            </p:nvSpPr>
            <p:spPr>
              <a:xfrm>
                <a:off x="1844640" y="2135160"/>
                <a:ext cx="5289480" cy="2580840"/>
              </a:xfrm>
              <a:custGeom>
                <a:avLst/>
                <a:gdLst>
                  <a:gd name="textAreaLeft" fmla="*/ 0 w 5289480"/>
                  <a:gd name="textAreaRight" fmla="*/ 5289840 w 5289480"/>
                  <a:gd name="textAreaTop" fmla="*/ 0 h 2580840"/>
                  <a:gd name="textAreaBottom" fmla="*/ 2581200 h 2580840"/>
                </a:gdLst>
                <a:ahLst/>
                <a:rect l="textAreaLeft" t="textAreaTop" r="textAreaRight" b="textAreaBottom"/>
                <a:pathLst>
                  <a:path w="4354" h="1972">
                    <a:moveTo>
                      <a:pt x="4354" y="1972"/>
                    </a:moveTo>
                    <a:lnTo>
                      <a:pt x="864" y="1406"/>
                    </a:lnTo>
                    <a:lnTo>
                      <a:pt x="864" y="1378"/>
                    </a:lnTo>
                    <a:lnTo>
                      <a:pt x="864" y="1306"/>
                    </a:lnTo>
                    <a:lnTo>
                      <a:pt x="860" y="1234"/>
                    </a:lnTo>
                    <a:lnTo>
                      <a:pt x="856" y="1164"/>
                    </a:lnTo>
                    <a:lnTo>
                      <a:pt x="848" y="1096"/>
                    </a:lnTo>
                    <a:lnTo>
                      <a:pt x="840" y="1030"/>
                    </a:lnTo>
                    <a:lnTo>
                      <a:pt x="830" y="966"/>
                    </a:lnTo>
                    <a:lnTo>
                      <a:pt x="816" y="904"/>
                    </a:lnTo>
                    <a:lnTo>
                      <a:pt x="802" y="844"/>
                    </a:lnTo>
                    <a:lnTo>
                      <a:pt x="786" y="784"/>
                    </a:lnTo>
                    <a:lnTo>
                      <a:pt x="768" y="728"/>
                    </a:lnTo>
                    <a:lnTo>
                      <a:pt x="748" y="672"/>
                    </a:lnTo>
                    <a:lnTo>
                      <a:pt x="728" y="618"/>
                    </a:lnTo>
                    <a:lnTo>
                      <a:pt x="704" y="568"/>
                    </a:lnTo>
                    <a:lnTo>
                      <a:pt x="680" y="518"/>
                    </a:lnTo>
                    <a:lnTo>
                      <a:pt x="654" y="470"/>
                    </a:lnTo>
                    <a:lnTo>
                      <a:pt x="626" y="426"/>
                    </a:lnTo>
                    <a:lnTo>
                      <a:pt x="596" y="382"/>
                    </a:lnTo>
                    <a:lnTo>
                      <a:pt x="566" y="340"/>
                    </a:lnTo>
                    <a:lnTo>
                      <a:pt x="534" y="302"/>
                    </a:lnTo>
                    <a:lnTo>
                      <a:pt x="500" y="266"/>
                    </a:lnTo>
                    <a:lnTo>
                      <a:pt x="464" y="230"/>
                    </a:lnTo>
                    <a:lnTo>
                      <a:pt x="428" y="198"/>
                    </a:lnTo>
                    <a:lnTo>
                      <a:pt x="390" y="168"/>
                    </a:lnTo>
                    <a:lnTo>
                      <a:pt x="352" y="140"/>
                    </a:lnTo>
                    <a:lnTo>
                      <a:pt x="312" y="114"/>
                    </a:lnTo>
                    <a:lnTo>
                      <a:pt x="270" y="90"/>
                    </a:lnTo>
                    <a:lnTo>
                      <a:pt x="228" y="68"/>
                    </a:lnTo>
                    <a:lnTo>
                      <a:pt x="184" y="50"/>
                    </a:lnTo>
                    <a:lnTo>
                      <a:pt x="140" y="34"/>
                    </a:lnTo>
                    <a:lnTo>
                      <a:pt x="94" y="20"/>
                    </a:lnTo>
                    <a:lnTo>
                      <a:pt x="48" y="8"/>
                    </a:lnTo>
                    <a:lnTo>
                      <a:pt x="0" y="0"/>
                    </a:lnTo>
                    <a:lnTo>
                      <a:pt x="3488" y="566"/>
                    </a:lnTo>
                    <a:lnTo>
                      <a:pt x="3536" y="574"/>
                    </a:lnTo>
                    <a:lnTo>
                      <a:pt x="3584" y="586"/>
                    </a:lnTo>
                    <a:lnTo>
                      <a:pt x="3628" y="600"/>
                    </a:lnTo>
                    <a:lnTo>
                      <a:pt x="3674" y="616"/>
                    </a:lnTo>
                    <a:lnTo>
                      <a:pt x="3718" y="634"/>
                    </a:lnTo>
                    <a:lnTo>
                      <a:pt x="3760" y="656"/>
                    </a:lnTo>
                    <a:lnTo>
                      <a:pt x="3800" y="680"/>
                    </a:lnTo>
                    <a:lnTo>
                      <a:pt x="3840" y="706"/>
                    </a:lnTo>
                    <a:lnTo>
                      <a:pt x="3880" y="734"/>
                    </a:lnTo>
                    <a:lnTo>
                      <a:pt x="3918" y="764"/>
                    </a:lnTo>
                    <a:lnTo>
                      <a:pt x="3954" y="796"/>
                    </a:lnTo>
                    <a:lnTo>
                      <a:pt x="3988" y="832"/>
                    </a:lnTo>
                    <a:lnTo>
                      <a:pt x="4022" y="868"/>
                    </a:lnTo>
                    <a:lnTo>
                      <a:pt x="4054" y="908"/>
                    </a:lnTo>
                    <a:lnTo>
                      <a:pt x="4086" y="948"/>
                    </a:lnTo>
                    <a:lnTo>
                      <a:pt x="4114" y="992"/>
                    </a:lnTo>
                    <a:lnTo>
                      <a:pt x="4142" y="1036"/>
                    </a:lnTo>
                    <a:lnTo>
                      <a:pt x="4168" y="1084"/>
                    </a:lnTo>
                    <a:lnTo>
                      <a:pt x="4194" y="1134"/>
                    </a:lnTo>
                    <a:lnTo>
                      <a:pt x="4216" y="1184"/>
                    </a:lnTo>
                    <a:lnTo>
                      <a:pt x="4238" y="1238"/>
                    </a:lnTo>
                    <a:lnTo>
                      <a:pt x="4258" y="1294"/>
                    </a:lnTo>
                    <a:lnTo>
                      <a:pt x="4276" y="1350"/>
                    </a:lnTo>
                    <a:lnTo>
                      <a:pt x="4292" y="1410"/>
                    </a:lnTo>
                    <a:lnTo>
                      <a:pt x="4306" y="1470"/>
                    </a:lnTo>
                    <a:lnTo>
                      <a:pt x="4318" y="1532"/>
                    </a:lnTo>
                    <a:lnTo>
                      <a:pt x="4330" y="1596"/>
                    </a:lnTo>
                    <a:lnTo>
                      <a:pt x="4338" y="1662"/>
                    </a:lnTo>
                    <a:lnTo>
                      <a:pt x="4344" y="1730"/>
                    </a:lnTo>
                    <a:lnTo>
                      <a:pt x="4350" y="1800"/>
                    </a:lnTo>
                    <a:lnTo>
                      <a:pt x="4352" y="1872"/>
                    </a:lnTo>
                    <a:lnTo>
                      <a:pt x="4354" y="1944"/>
                    </a:lnTo>
                    <a:lnTo>
                      <a:pt x="4354" y="197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08" name="AutoShape 110" descr=""/>
            <p:cNvPicPr/>
            <p:nvPr/>
          </p:nvPicPr>
          <p:blipFill>
            <a:blip r:embed="rId2"/>
            <a:stretch/>
          </p:blipFill>
          <p:spPr>
            <a:xfrm>
              <a:off x="3736800" y="1455840"/>
              <a:ext cx="2608920" cy="827280"/>
            </a:xfrm>
            <a:prstGeom prst="rect">
              <a:avLst/>
            </a:prstGeom>
            <a:ln w="0">
              <a:noFill/>
            </a:ln>
          </p:spPr>
        </p:pic>
        <p:pic>
          <p:nvPicPr>
            <p:cNvPr id="609" name="TextBox 34" descr=""/>
            <p:cNvPicPr/>
            <p:nvPr/>
          </p:nvPicPr>
          <p:blipFill>
            <a:blip r:embed="rId3"/>
            <a:stretch/>
          </p:blipFill>
          <p:spPr>
            <a:xfrm>
              <a:off x="1731240" y="4620960"/>
              <a:ext cx="1414080" cy="820800"/>
            </a:xfrm>
            <a:prstGeom prst="rect">
              <a:avLst/>
            </a:prstGeom>
            <a:ln w="0">
              <a:noFill/>
            </a:ln>
          </p:spPr>
        </p:pic>
        <p:pic>
          <p:nvPicPr>
            <p:cNvPr id="610" name="TextBox 35" descr=""/>
            <p:cNvPicPr/>
            <p:nvPr/>
          </p:nvPicPr>
          <p:blipFill>
            <a:blip r:embed="rId4"/>
            <a:stretch/>
          </p:blipFill>
          <p:spPr>
            <a:xfrm>
              <a:off x="1469160" y="3938040"/>
              <a:ext cx="2346840" cy="984960"/>
            </a:xfrm>
            <a:prstGeom prst="rect">
              <a:avLst/>
            </a:prstGeom>
            <a:ln w="0">
              <a:noFill/>
            </a:ln>
          </p:spPr>
        </p:pic>
        <p:pic>
          <p:nvPicPr>
            <p:cNvPr id="611" name="TextBox 36" descr=""/>
            <p:cNvPicPr/>
            <p:nvPr/>
          </p:nvPicPr>
          <p:blipFill>
            <a:blip r:embed="rId5"/>
            <a:stretch/>
          </p:blipFill>
          <p:spPr>
            <a:xfrm>
              <a:off x="1615320" y="3327480"/>
              <a:ext cx="2438280" cy="1004400"/>
            </a:xfrm>
            <a:prstGeom prst="rect">
              <a:avLst/>
            </a:prstGeom>
            <a:ln w="0">
              <a:noFill/>
            </a:ln>
          </p:spPr>
        </p:pic>
        <p:pic>
          <p:nvPicPr>
            <p:cNvPr id="612" name="TextBox 37" descr=""/>
            <p:cNvPicPr/>
            <p:nvPr/>
          </p:nvPicPr>
          <p:blipFill>
            <a:blip r:embed="rId6"/>
            <a:stretch/>
          </p:blipFill>
          <p:spPr>
            <a:xfrm>
              <a:off x="1908000" y="2749680"/>
              <a:ext cx="2188440" cy="958680"/>
            </a:xfrm>
            <a:prstGeom prst="rect">
              <a:avLst/>
            </a:prstGeom>
            <a:ln w="0">
              <a:noFill/>
            </a:ln>
          </p:spPr>
        </p:pic>
        <p:pic>
          <p:nvPicPr>
            <p:cNvPr id="613" name="TextBox 38" descr=""/>
            <p:cNvPicPr/>
            <p:nvPr/>
          </p:nvPicPr>
          <p:blipFill>
            <a:blip r:embed="rId7"/>
            <a:stretch/>
          </p:blipFill>
          <p:spPr>
            <a:xfrm>
              <a:off x="2859120" y="1639800"/>
              <a:ext cx="2871000" cy="11293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31"/>
          <p:cNvSpPr/>
          <p:nvPr/>
        </p:nvSpPr>
        <p:spPr>
          <a:xfrm>
            <a:off x="0" y="3809880"/>
            <a:ext cx="9144000" cy="1371600"/>
          </a:xfrm>
          <a:prstGeom prst="rect">
            <a:avLst/>
          </a:prstGeom>
          <a:gradFill rotWithShape="0">
            <a:gsLst>
              <a:gs pos="0">
                <a:srgbClr val="eaeaea"/>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70"/>
          <p:cNvSpPr/>
          <p:nvPr/>
        </p:nvSpPr>
        <p:spPr>
          <a:xfrm>
            <a:off x="457200" y="5257800"/>
            <a:ext cx="8229600" cy="1143000"/>
          </a:xfrm>
          <a:prstGeom prst="rect">
            <a:avLst/>
          </a:prstGeom>
          <a:noFill/>
          <a:ln w="0">
            <a:noFill/>
          </a:ln>
        </p:spPr>
        <p:style>
          <a:lnRef idx="0"/>
          <a:fillRef idx="0"/>
          <a:effectRef idx="0"/>
          <a:fontRef idx="minor"/>
        </p:style>
        <p:txBody>
          <a:bodyPr lIns="45720" rIns="27360" tIns="18360" bIns="18360" anchor="t">
            <a:norm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6262"/>
                </a:solidFill>
                <a:latin typeface="Arial Narrow"/>
              </a:rPr>
              <a:t>Additional Content Here</a:t>
            </a:r>
            <a:endParaRPr b="0" lang="en-US" sz="3200" spc="-1" strike="noStrike">
              <a:solidFill>
                <a:srgbClr val="000000"/>
              </a:solidFill>
              <a:latin typeface="Arial"/>
            </a:endParaRPr>
          </a:p>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262"/>
                </a:solidFill>
                <a:latin typeface="Arial Narrow"/>
              </a:rPr>
              <a:t>Place additional content here. Your content can be placed in this area. Place additional content here. Your content can be placed in this area. Place additional content here. </a:t>
            </a:r>
            <a:endParaRPr b="0" lang="en-US" sz="1800" spc="-1" strike="noStrike">
              <a:solidFill>
                <a:srgbClr val="000000"/>
              </a:solidFill>
              <a:latin typeface="Arial"/>
            </a:endParaRPr>
          </a:p>
        </p:txBody>
      </p:sp>
      <p:grpSp>
        <p:nvGrpSpPr>
          <p:cNvPr id="616" name="Group 4"/>
          <p:cNvGrpSpPr/>
          <p:nvPr/>
        </p:nvGrpSpPr>
        <p:grpSpPr>
          <a:xfrm>
            <a:off x="1025640" y="901800"/>
            <a:ext cx="7089840" cy="779400"/>
            <a:chOff x="1025640" y="901800"/>
            <a:chExt cx="7089840" cy="779400"/>
          </a:xfrm>
        </p:grpSpPr>
        <p:sp>
          <p:nvSpPr>
            <p:cNvPr id="617" name="Round Same Side Corner Rectangle 46"/>
            <p:cNvSpPr/>
            <p:nvPr/>
          </p:nvSpPr>
          <p:spPr>
            <a:xfrm>
              <a:off x="2822760" y="901800"/>
              <a:ext cx="1698480" cy="779400"/>
            </a:xfrm>
            <a:prstGeom prst="pie">
              <a:avLst/>
            </a:prstGeom>
            <a:gradFill rotWithShape="0">
              <a:gsLst>
                <a:gs pos="0">
                  <a:srgbClr val="402a08"/>
                </a:gs>
                <a:gs pos="100000">
                  <a:srgbClr val="c5952e"/>
                </a:gs>
              </a:gsLst>
              <a:lin ang="5400000"/>
            </a:gradFill>
            <a:ln w="0">
              <a:noFill/>
            </a:ln>
            <a:effectLst>
              <a:outerShdw dist="38183" dir="2700000" blurRad="0" rotWithShape="0">
                <a:srgbClr val="000000">
                  <a:alpha val="13000"/>
                </a:srgbClr>
              </a:outerShdw>
            </a:effectLst>
          </p:spPr>
          <p:style>
            <a:lnRef idx="0"/>
            <a:fillRef idx="0"/>
            <a:effectRef idx="0"/>
            <a:fontRef idx="minor"/>
          </p:style>
          <p:txBody>
            <a:bodyPr lIns="90000" rIns="90000" tIns="0" bIns="46800" anchor="t"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February</a:t>
              </a:r>
              <a:endParaRPr b="0" lang="en-US" sz="1800" spc="-1" strike="noStrike">
                <a:solidFill>
                  <a:srgbClr val="000000"/>
                </a:solidFill>
                <a:latin typeface="Arial"/>
              </a:endParaRPr>
            </a:p>
          </p:txBody>
        </p:sp>
        <p:sp>
          <p:nvSpPr>
            <p:cNvPr id="618" name="Round Same Side Corner Rectangle 59"/>
            <p:cNvSpPr/>
            <p:nvPr/>
          </p:nvSpPr>
          <p:spPr>
            <a:xfrm>
              <a:off x="4619880" y="901800"/>
              <a:ext cx="1698480" cy="663480"/>
            </a:xfrm>
            <a:prstGeom prst="pie">
              <a:avLst/>
            </a:prstGeom>
            <a:gradFill rotWithShape="0">
              <a:gsLst>
                <a:gs pos="0">
                  <a:srgbClr val="4a460c"/>
                </a:gs>
                <a:gs pos="100000">
                  <a:srgbClr val="cac249"/>
                </a:gs>
              </a:gsLst>
              <a:lin ang="5400000"/>
            </a:gradFill>
            <a:ln w="0">
              <a:noFill/>
            </a:ln>
            <a:effectLst>
              <a:outerShdw dist="38183" dir="2700000" blurRad="0" rotWithShape="0">
                <a:srgbClr val="000000">
                  <a:alpha val="13000"/>
                </a:srgbClr>
              </a:outerShdw>
            </a:effectLst>
          </p:spPr>
          <p:style>
            <a:lnRef idx="0"/>
            <a:fillRef idx="0"/>
            <a:effectRef idx="0"/>
            <a:fontRef idx="minor"/>
          </p:style>
          <p:txBody>
            <a:bodyPr lIns="90000" rIns="90000" tIns="0" bIns="46800" anchor="t"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March</a:t>
              </a:r>
              <a:endParaRPr b="0" lang="en-US" sz="1800" spc="-1" strike="noStrike">
                <a:solidFill>
                  <a:srgbClr val="000000"/>
                </a:solidFill>
                <a:latin typeface="Arial"/>
              </a:endParaRPr>
            </a:p>
          </p:txBody>
        </p:sp>
        <p:sp>
          <p:nvSpPr>
            <p:cNvPr id="619" name="Round Same Side Corner Rectangle 60"/>
            <p:cNvSpPr/>
            <p:nvPr/>
          </p:nvSpPr>
          <p:spPr>
            <a:xfrm>
              <a:off x="6415200" y="901800"/>
              <a:ext cx="1700280" cy="779400"/>
            </a:xfrm>
            <a:prstGeom prst="pie">
              <a:avLst/>
            </a:prstGeom>
            <a:gradFill rotWithShape="0">
              <a:gsLst>
                <a:gs pos="0">
                  <a:srgbClr val="1b3e20"/>
                </a:gs>
                <a:gs pos="100000">
                  <a:srgbClr val="74bd87"/>
                </a:gs>
              </a:gsLst>
              <a:lin ang="5400000"/>
            </a:gradFill>
            <a:ln w="0">
              <a:noFill/>
            </a:ln>
            <a:effectLst>
              <a:outerShdw dist="38183" dir="2700000" blurRad="0" rotWithShape="0">
                <a:srgbClr val="000000">
                  <a:alpha val="13000"/>
                </a:srgbClr>
              </a:outerShdw>
            </a:effectLst>
          </p:spPr>
          <p:style>
            <a:lnRef idx="0"/>
            <a:fillRef idx="0"/>
            <a:effectRef idx="0"/>
            <a:fontRef idx="minor"/>
          </p:style>
          <p:txBody>
            <a:bodyPr lIns="90000" rIns="90000" tIns="0" bIns="46800" anchor="t"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April</a:t>
              </a:r>
              <a:endParaRPr b="0" lang="en-US" sz="1800" spc="-1" strike="noStrike">
                <a:solidFill>
                  <a:srgbClr val="000000"/>
                </a:solidFill>
                <a:latin typeface="Arial"/>
              </a:endParaRPr>
            </a:p>
          </p:txBody>
        </p:sp>
        <p:sp>
          <p:nvSpPr>
            <p:cNvPr id="620" name="Round Same Side Corner Rectangle 41"/>
            <p:cNvSpPr/>
            <p:nvPr/>
          </p:nvSpPr>
          <p:spPr>
            <a:xfrm>
              <a:off x="1025640" y="901800"/>
              <a:ext cx="1700280" cy="663480"/>
            </a:xfrm>
            <a:prstGeom prst="pie">
              <a:avLst/>
            </a:prstGeom>
            <a:gradFill rotWithShape="0">
              <a:gsLst>
                <a:gs pos="0">
                  <a:srgbClr val="400c05"/>
                </a:gs>
                <a:gs pos="100000">
                  <a:srgbClr val="c15d57"/>
                </a:gs>
              </a:gsLst>
              <a:lin ang="5400000"/>
            </a:gradFill>
            <a:ln w="0">
              <a:noFill/>
            </a:ln>
            <a:effectLst>
              <a:outerShdw dist="38183" dir="2700000" blurRad="0" rotWithShape="0">
                <a:srgbClr val="000000">
                  <a:alpha val="13000"/>
                </a:srgbClr>
              </a:outerShdw>
            </a:effectLst>
          </p:spPr>
          <p:style>
            <a:lnRef idx="0"/>
            <a:fillRef idx="0"/>
            <a:effectRef idx="0"/>
            <a:fontRef idx="minor"/>
          </p:style>
          <p:txBody>
            <a:bodyPr lIns="90000" rIns="90000" tIns="0" bIns="46800" anchor="t"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January</a:t>
              </a:r>
              <a:endParaRPr b="0" lang="en-US" sz="1800" spc="-1" strike="noStrike">
                <a:solidFill>
                  <a:srgbClr val="000000"/>
                </a:solidFill>
                <a:latin typeface="Arial"/>
              </a:endParaRPr>
            </a:p>
          </p:txBody>
        </p:sp>
      </p:grpSp>
      <p:grpSp>
        <p:nvGrpSpPr>
          <p:cNvPr id="621" name="Group 9"/>
          <p:cNvGrpSpPr/>
          <p:nvPr/>
        </p:nvGrpSpPr>
        <p:grpSpPr>
          <a:xfrm>
            <a:off x="1022400" y="2514600"/>
            <a:ext cx="7105680" cy="2362320"/>
            <a:chOff x="1022400" y="2514600"/>
            <a:chExt cx="7105680" cy="2362320"/>
          </a:xfrm>
        </p:grpSpPr>
        <p:grpSp>
          <p:nvGrpSpPr>
            <p:cNvPr id="622" name="Group 10"/>
            <p:cNvGrpSpPr/>
            <p:nvPr/>
          </p:nvGrpSpPr>
          <p:grpSpPr>
            <a:xfrm>
              <a:off x="2815560" y="2514600"/>
              <a:ext cx="1713960" cy="2362320"/>
              <a:chOff x="2815560" y="2514600"/>
              <a:chExt cx="1713960" cy="2362320"/>
            </a:xfrm>
          </p:grpSpPr>
          <p:pic>
            <p:nvPicPr>
              <p:cNvPr id="623" name="Rectangle 56" descr=""/>
              <p:cNvPicPr/>
              <p:nvPr/>
            </p:nvPicPr>
            <p:blipFill>
              <a:blip r:embed="rId1"/>
              <a:stretch/>
            </p:blipFill>
            <p:spPr>
              <a:xfrm>
                <a:off x="2815560" y="2517480"/>
                <a:ext cx="1713960" cy="2359440"/>
              </a:xfrm>
              <a:prstGeom prst="rect">
                <a:avLst/>
              </a:prstGeom>
              <a:ln w="0">
                <a:noFill/>
              </a:ln>
            </p:spPr>
          </p:pic>
          <p:sp>
            <p:nvSpPr>
              <p:cNvPr id="624" name="Text Box 12"/>
              <p:cNvSpPr/>
              <p:nvPr/>
            </p:nvSpPr>
            <p:spPr>
              <a:xfrm>
                <a:off x="2817720" y="2514600"/>
                <a:ext cx="1711800" cy="2362320"/>
              </a:xfrm>
              <a:prstGeom prst="rect">
                <a:avLst/>
              </a:prstGeom>
              <a:noFill/>
              <a:ln w="0">
                <a:noFill/>
              </a:ln>
            </p:spPr>
            <p:style>
              <a:lnRef idx="0"/>
              <a:fillRef idx="0"/>
              <a:effectRef idx="0"/>
              <a:fontRef idx="minor"/>
            </p:style>
            <p:txBody>
              <a:bodyPr lIns="45720" rIns="27360" tIns="18360" bIns="18360" anchor="ctr">
                <a:norm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Group 13"/>
            <p:cNvGrpSpPr/>
            <p:nvPr/>
          </p:nvGrpSpPr>
          <p:grpSpPr>
            <a:xfrm>
              <a:off x="4620960" y="2514600"/>
              <a:ext cx="1713960" cy="2362320"/>
              <a:chOff x="4620960" y="2514600"/>
              <a:chExt cx="1713960" cy="2362320"/>
            </a:xfrm>
          </p:grpSpPr>
          <p:pic>
            <p:nvPicPr>
              <p:cNvPr id="626" name="Rectangle 68" descr=""/>
              <p:cNvPicPr/>
              <p:nvPr/>
            </p:nvPicPr>
            <p:blipFill>
              <a:blip r:embed="rId2"/>
              <a:stretch/>
            </p:blipFill>
            <p:spPr>
              <a:xfrm>
                <a:off x="4620960" y="2517480"/>
                <a:ext cx="1713960" cy="2359440"/>
              </a:xfrm>
              <a:prstGeom prst="rect">
                <a:avLst/>
              </a:prstGeom>
              <a:ln w="0">
                <a:noFill/>
              </a:ln>
            </p:spPr>
          </p:pic>
          <p:sp>
            <p:nvSpPr>
              <p:cNvPr id="627" name="Text Box 15"/>
              <p:cNvSpPr/>
              <p:nvPr/>
            </p:nvSpPr>
            <p:spPr>
              <a:xfrm>
                <a:off x="4620960" y="2514600"/>
                <a:ext cx="1711800" cy="2362320"/>
              </a:xfrm>
              <a:prstGeom prst="rect">
                <a:avLst/>
              </a:prstGeom>
              <a:noFill/>
              <a:ln w="0">
                <a:noFill/>
              </a:ln>
            </p:spPr>
            <p:style>
              <a:lnRef idx="0"/>
              <a:fillRef idx="0"/>
              <a:effectRef idx="0"/>
              <a:fontRef idx="minor"/>
            </p:style>
            <p:txBody>
              <a:bodyPr lIns="45720" rIns="27360" tIns="18360" bIns="18360" anchor="ctr">
                <a:norm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Group 16"/>
            <p:cNvGrpSpPr/>
            <p:nvPr/>
          </p:nvGrpSpPr>
          <p:grpSpPr>
            <a:xfrm>
              <a:off x="6420240" y="2514600"/>
              <a:ext cx="1707840" cy="2362320"/>
              <a:chOff x="6420240" y="2514600"/>
              <a:chExt cx="1707840" cy="2362320"/>
            </a:xfrm>
          </p:grpSpPr>
          <p:pic>
            <p:nvPicPr>
              <p:cNvPr id="629" name="Rectangle 74" descr=""/>
              <p:cNvPicPr/>
              <p:nvPr/>
            </p:nvPicPr>
            <p:blipFill>
              <a:blip r:embed="rId3"/>
              <a:stretch/>
            </p:blipFill>
            <p:spPr>
              <a:xfrm>
                <a:off x="6422040" y="2517480"/>
                <a:ext cx="1704240" cy="2359440"/>
              </a:xfrm>
              <a:prstGeom prst="rect">
                <a:avLst/>
              </a:prstGeom>
              <a:ln w="0">
                <a:noFill/>
              </a:ln>
            </p:spPr>
          </p:pic>
          <p:sp>
            <p:nvSpPr>
              <p:cNvPr id="630" name="Text Box 18"/>
              <p:cNvSpPr/>
              <p:nvPr/>
            </p:nvSpPr>
            <p:spPr>
              <a:xfrm>
                <a:off x="6420240" y="2514600"/>
                <a:ext cx="1707840" cy="2362320"/>
              </a:xfrm>
              <a:prstGeom prst="rect">
                <a:avLst/>
              </a:prstGeom>
              <a:noFill/>
              <a:ln w="0">
                <a:noFill/>
              </a:ln>
            </p:spPr>
            <p:style>
              <a:lnRef idx="0"/>
              <a:fillRef idx="0"/>
              <a:effectRef idx="0"/>
              <a:fontRef idx="minor"/>
            </p:style>
            <p:txBody>
              <a:bodyPr lIns="45720" rIns="27360" tIns="18360" bIns="18360" anchor="ctr">
                <a:norm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Group 19"/>
            <p:cNvGrpSpPr/>
            <p:nvPr/>
          </p:nvGrpSpPr>
          <p:grpSpPr>
            <a:xfrm>
              <a:off x="1022400" y="2514600"/>
              <a:ext cx="1707840" cy="2362320"/>
              <a:chOff x="1022400" y="2514600"/>
              <a:chExt cx="1707840" cy="2362320"/>
            </a:xfrm>
          </p:grpSpPr>
          <p:pic>
            <p:nvPicPr>
              <p:cNvPr id="632" name="Rectangle 55" descr=""/>
              <p:cNvPicPr/>
              <p:nvPr/>
            </p:nvPicPr>
            <p:blipFill>
              <a:blip r:embed="rId4"/>
              <a:stretch/>
            </p:blipFill>
            <p:spPr>
              <a:xfrm>
                <a:off x="1023840" y="2517480"/>
                <a:ext cx="1704240" cy="2359440"/>
              </a:xfrm>
              <a:prstGeom prst="rect">
                <a:avLst/>
              </a:prstGeom>
              <a:ln w="0">
                <a:noFill/>
              </a:ln>
            </p:spPr>
          </p:pic>
          <p:sp>
            <p:nvSpPr>
              <p:cNvPr id="633" name="Text Box 21"/>
              <p:cNvSpPr/>
              <p:nvPr/>
            </p:nvSpPr>
            <p:spPr>
              <a:xfrm>
                <a:off x="1022400" y="2514600"/>
                <a:ext cx="1707840" cy="2362320"/>
              </a:xfrm>
              <a:prstGeom prst="rect">
                <a:avLst/>
              </a:prstGeom>
              <a:noFill/>
              <a:ln w="0">
                <a:noFill/>
              </a:ln>
            </p:spPr>
            <p:style>
              <a:lnRef idx="0"/>
              <a:fillRef idx="0"/>
              <a:effectRef idx="0"/>
              <a:fontRef idx="minor"/>
            </p:style>
            <p:txBody>
              <a:bodyPr lIns="45720" rIns="27360" tIns="18360" bIns="18360" anchor="ctr">
                <a:normAutofit/>
              </a:bodyPr>
              <a:p>
                <a:pPr lvl="1" marL="228600" indent="-106200">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4" name="AutoShape 105"/>
          <p:cNvSpPr/>
          <p:nvPr/>
        </p:nvSpPr>
        <p:spPr>
          <a:xfrm>
            <a:off x="762120" y="1752480"/>
            <a:ext cx="8184960" cy="857520"/>
          </a:xfrm>
          <a:prstGeom prst="rightArrow">
            <a:avLst>
              <a:gd name="adj1" fmla="val 50000"/>
              <a:gd name="adj2" fmla="val 49978"/>
            </a:avLst>
          </a:prstGeom>
          <a:gradFill rotWithShape="0">
            <a:gsLst>
              <a:gs pos="0">
                <a:srgbClr val="2e2e2e"/>
              </a:gs>
              <a:gs pos="100000">
                <a:srgbClr val="898989"/>
              </a:gs>
            </a:gsLst>
            <a:lin ang="5400000"/>
          </a:gradFill>
          <a:ln w="0">
            <a:noFill/>
          </a:ln>
          <a:effectLst>
            <a:outerShdw dist="38183" dir="2700000" blurRad="0" rotWithShape="0">
              <a:srgbClr val="000000">
                <a:alpha val="13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32"/>
          <p:cNvSpPr/>
          <p:nvPr/>
        </p:nvSpPr>
        <p:spPr>
          <a:xfrm>
            <a:off x="987480" y="1984320"/>
            <a:ext cx="1806480" cy="352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1</a:t>
            </a:r>
            <a:endParaRPr b="0" lang="en-US" sz="1800" spc="-1" strike="noStrike">
              <a:solidFill>
                <a:srgbClr val="000000"/>
              </a:solidFill>
              <a:latin typeface="Arial"/>
            </a:endParaRPr>
          </a:p>
        </p:txBody>
      </p:sp>
      <p:grpSp>
        <p:nvGrpSpPr>
          <p:cNvPr id="636" name="Group 24"/>
          <p:cNvGrpSpPr/>
          <p:nvPr/>
        </p:nvGrpSpPr>
        <p:grpSpPr>
          <a:xfrm>
            <a:off x="722160" y="1392120"/>
            <a:ext cx="7736040" cy="1567080"/>
            <a:chOff x="722160" y="1392120"/>
            <a:chExt cx="7736040" cy="1567080"/>
          </a:xfrm>
        </p:grpSpPr>
        <p:grpSp>
          <p:nvGrpSpPr>
            <p:cNvPr id="637" name="Group 25"/>
            <p:cNvGrpSpPr/>
            <p:nvPr/>
          </p:nvGrpSpPr>
          <p:grpSpPr>
            <a:xfrm>
              <a:off x="6084000" y="1529640"/>
              <a:ext cx="2374200" cy="1316160"/>
              <a:chOff x="6084000" y="1529640"/>
              <a:chExt cx="2374200" cy="1316160"/>
            </a:xfrm>
          </p:grpSpPr>
          <p:pic>
            <p:nvPicPr>
              <p:cNvPr id="638" name="Freeform 47" descr=""/>
              <p:cNvPicPr/>
              <p:nvPr/>
            </p:nvPicPr>
            <p:blipFill>
              <a:blip r:embed="rId5"/>
              <a:stretch/>
            </p:blipFill>
            <p:spPr>
              <a:xfrm>
                <a:off x="6084000" y="1529640"/>
                <a:ext cx="2374200" cy="1316160"/>
              </a:xfrm>
              <a:prstGeom prst="rect">
                <a:avLst/>
              </a:prstGeom>
              <a:ln w="0">
                <a:noFill/>
              </a:ln>
            </p:spPr>
          </p:pic>
          <p:sp>
            <p:nvSpPr>
              <p:cNvPr id="639" name="Text Box 27"/>
              <p:cNvSpPr/>
              <p:nvPr/>
            </p:nvSpPr>
            <p:spPr>
              <a:xfrm>
                <a:off x="6101640" y="1546200"/>
                <a:ext cx="2341080" cy="1284120"/>
              </a:xfrm>
              <a:prstGeom prst="rect">
                <a:avLst/>
              </a:prstGeom>
              <a:noFill/>
              <a:ln w="0">
                <a:noFill/>
              </a:ln>
            </p:spPr>
            <p:style>
              <a:lnRef idx="0"/>
              <a:fillRef idx="0"/>
              <a:effectRef idx="0"/>
              <a:fontRef idx="minor"/>
            </p:style>
            <p:txBody>
              <a:bodyPr lIns="90000" rIns="90000" tIns="46800" bIns="46800" anchor="t">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Group 28"/>
            <p:cNvGrpSpPr/>
            <p:nvPr/>
          </p:nvGrpSpPr>
          <p:grpSpPr>
            <a:xfrm>
              <a:off x="2501280" y="1529640"/>
              <a:ext cx="2374200" cy="1316160"/>
              <a:chOff x="2501280" y="1529640"/>
              <a:chExt cx="2374200" cy="1316160"/>
            </a:xfrm>
          </p:grpSpPr>
          <p:pic>
            <p:nvPicPr>
              <p:cNvPr id="641" name="Freeform 48" descr=""/>
              <p:cNvPicPr/>
              <p:nvPr/>
            </p:nvPicPr>
            <p:blipFill>
              <a:blip r:embed="rId6"/>
              <a:stretch/>
            </p:blipFill>
            <p:spPr>
              <a:xfrm>
                <a:off x="2501280" y="1529640"/>
                <a:ext cx="2374200" cy="1316160"/>
              </a:xfrm>
              <a:prstGeom prst="rect">
                <a:avLst/>
              </a:prstGeom>
              <a:ln w="0">
                <a:noFill/>
              </a:ln>
            </p:spPr>
          </p:pic>
          <p:sp>
            <p:nvSpPr>
              <p:cNvPr id="642" name="Text Box 30"/>
              <p:cNvSpPr/>
              <p:nvPr/>
            </p:nvSpPr>
            <p:spPr>
              <a:xfrm>
                <a:off x="2517120" y="1544760"/>
                <a:ext cx="2341080" cy="1284120"/>
              </a:xfrm>
              <a:prstGeom prst="rect">
                <a:avLst/>
              </a:prstGeom>
              <a:noFill/>
              <a:ln w="0">
                <a:noFill/>
              </a:ln>
            </p:spPr>
            <p:style>
              <a:lnRef idx="0"/>
              <a:fillRef idx="0"/>
              <a:effectRef idx="0"/>
              <a:fontRef idx="minor"/>
            </p:style>
            <p:txBody>
              <a:bodyPr lIns="90000" rIns="90000" tIns="46800" bIns="46800" anchor="t">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Group 31"/>
            <p:cNvGrpSpPr/>
            <p:nvPr/>
          </p:nvGrpSpPr>
          <p:grpSpPr>
            <a:xfrm>
              <a:off x="722160" y="1392120"/>
              <a:ext cx="2337840" cy="1567080"/>
              <a:chOff x="722160" y="1392120"/>
              <a:chExt cx="2337840" cy="1567080"/>
            </a:xfrm>
          </p:grpSpPr>
          <p:pic>
            <p:nvPicPr>
              <p:cNvPr id="644" name="Freeform 5" descr=""/>
              <p:cNvPicPr/>
              <p:nvPr/>
            </p:nvPicPr>
            <p:blipFill>
              <a:blip r:embed="rId7"/>
              <a:stretch/>
            </p:blipFill>
            <p:spPr>
              <a:xfrm>
                <a:off x="722160" y="1392120"/>
                <a:ext cx="2337840" cy="1567080"/>
              </a:xfrm>
              <a:prstGeom prst="rect">
                <a:avLst/>
              </a:prstGeom>
              <a:ln w="0">
                <a:noFill/>
              </a:ln>
            </p:spPr>
          </p:pic>
          <p:sp>
            <p:nvSpPr>
              <p:cNvPr id="645" name="Text Box 33"/>
              <p:cNvSpPr/>
              <p:nvPr/>
            </p:nvSpPr>
            <p:spPr>
              <a:xfrm>
                <a:off x="737280" y="1409400"/>
                <a:ext cx="2310120" cy="1534320"/>
              </a:xfrm>
              <a:prstGeom prst="rect">
                <a:avLst/>
              </a:prstGeom>
              <a:noFill/>
              <a:ln w="0">
                <a:noFill/>
              </a:ln>
            </p:spPr>
            <p:style>
              <a:lnRef idx="0"/>
              <a:fillRef idx="0"/>
              <a:effectRef idx="0"/>
              <a:fontRef idx="minor"/>
            </p:style>
            <p:txBody>
              <a:bodyPr lIns="90000" rIns="90000" tIns="46800" bIns="46800" anchor="t">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34"/>
            <p:cNvGrpSpPr/>
            <p:nvPr/>
          </p:nvGrpSpPr>
          <p:grpSpPr>
            <a:xfrm>
              <a:off x="4311000" y="1392120"/>
              <a:ext cx="2337840" cy="1561320"/>
              <a:chOff x="4311000" y="1392120"/>
              <a:chExt cx="2337840" cy="1561320"/>
            </a:xfrm>
          </p:grpSpPr>
          <p:pic>
            <p:nvPicPr>
              <p:cNvPr id="647" name="Freeform 5" descr=""/>
              <p:cNvPicPr/>
              <p:nvPr/>
            </p:nvPicPr>
            <p:blipFill>
              <a:blip r:embed="rId8"/>
              <a:stretch/>
            </p:blipFill>
            <p:spPr>
              <a:xfrm>
                <a:off x="4311000" y="1392120"/>
                <a:ext cx="2337840" cy="1561320"/>
              </a:xfrm>
              <a:prstGeom prst="rect">
                <a:avLst/>
              </a:prstGeom>
              <a:ln w="0">
                <a:noFill/>
              </a:ln>
            </p:spPr>
          </p:pic>
          <p:sp>
            <p:nvSpPr>
              <p:cNvPr id="648" name="Text Box 36"/>
              <p:cNvSpPr/>
              <p:nvPr/>
            </p:nvSpPr>
            <p:spPr>
              <a:xfrm>
                <a:off x="4324680" y="1406160"/>
                <a:ext cx="2311560" cy="1534680"/>
              </a:xfrm>
              <a:prstGeom prst="rect">
                <a:avLst/>
              </a:prstGeom>
              <a:noFill/>
              <a:ln w="0">
                <a:noFill/>
              </a:ln>
            </p:spPr>
            <p:style>
              <a:lnRef idx="0"/>
              <a:fillRef idx="0"/>
              <a:effectRef idx="0"/>
              <a:fontRef idx="minor"/>
            </p:style>
            <p:txBody>
              <a:bodyPr lIns="90000" rIns="90000" tIns="46800" bIns="46800" anchor="t">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9" name="Rectangle 70"/>
          <p:cNvSpPr/>
          <p:nvPr/>
        </p:nvSpPr>
        <p:spPr>
          <a:xfrm>
            <a:off x="1066680" y="3048120"/>
            <a:ext cx="1600200" cy="1295280"/>
          </a:xfrm>
          <a:prstGeom prst="rect">
            <a:avLst/>
          </a:prstGeom>
          <a:noFill/>
          <a:ln w="0">
            <a:noFill/>
          </a:ln>
        </p:spPr>
        <p:style>
          <a:lnRef idx="0"/>
          <a:fillRef idx="0"/>
          <a:effectRef idx="0"/>
          <a:fontRef idx="minor"/>
        </p:style>
        <p:txBody>
          <a:bodyPr lIns="45720" rIns="27360" tIns="18360" bIns="18360" anchor="t">
            <a:normAutofit fontScale="97000"/>
          </a:bodyPr>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
        <p:nvSpPr>
          <p:cNvPr id="650" name="Rectangle 42"/>
          <p:cNvSpPr/>
          <p:nvPr/>
        </p:nvSpPr>
        <p:spPr>
          <a:xfrm>
            <a:off x="2782800" y="1984320"/>
            <a:ext cx="1806840" cy="352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2</a:t>
            </a:r>
            <a:endParaRPr b="0" lang="en-US" sz="1800" spc="-1" strike="noStrike">
              <a:solidFill>
                <a:srgbClr val="000000"/>
              </a:solidFill>
              <a:latin typeface="Arial"/>
            </a:endParaRPr>
          </a:p>
        </p:txBody>
      </p:sp>
      <p:sp>
        <p:nvSpPr>
          <p:cNvPr id="651" name="Rectangle 43"/>
          <p:cNvSpPr/>
          <p:nvPr/>
        </p:nvSpPr>
        <p:spPr>
          <a:xfrm>
            <a:off x="4578480" y="1984320"/>
            <a:ext cx="1804680" cy="352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3</a:t>
            </a:r>
            <a:endParaRPr b="0" lang="en-US" sz="1800" spc="-1" strike="noStrike">
              <a:solidFill>
                <a:srgbClr val="000000"/>
              </a:solidFill>
              <a:latin typeface="Arial"/>
            </a:endParaRPr>
          </a:p>
        </p:txBody>
      </p:sp>
      <p:sp>
        <p:nvSpPr>
          <p:cNvPr id="652" name="Rectangle 44"/>
          <p:cNvSpPr/>
          <p:nvPr/>
        </p:nvSpPr>
        <p:spPr>
          <a:xfrm>
            <a:off x="6372360" y="1984320"/>
            <a:ext cx="1806480" cy="352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4</a:t>
            </a:r>
            <a:endParaRPr b="0" lang="en-US" sz="1800" spc="-1" strike="noStrike">
              <a:solidFill>
                <a:srgbClr val="000000"/>
              </a:solidFill>
              <a:latin typeface="Arial"/>
            </a:endParaRPr>
          </a:p>
        </p:txBody>
      </p:sp>
      <p:sp>
        <p:nvSpPr>
          <p:cNvPr id="653" name="Rectangle 70"/>
          <p:cNvSpPr/>
          <p:nvPr/>
        </p:nvSpPr>
        <p:spPr>
          <a:xfrm>
            <a:off x="2870280" y="3048120"/>
            <a:ext cx="1600200" cy="1295280"/>
          </a:xfrm>
          <a:prstGeom prst="rect">
            <a:avLst/>
          </a:prstGeom>
          <a:noFill/>
          <a:ln w="0">
            <a:noFill/>
          </a:ln>
        </p:spPr>
        <p:style>
          <a:lnRef idx="0"/>
          <a:fillRef idx="0"/>
          <a:effectRef idx="0"/>
          <a:fontRef idx="minor"/>
        </p:style>
        <p:txBody>
          <a:bodyPr lIns="45720" rIns="27360" tIns="18360" bIns="18360" anchor="t">
            <a:normAutofit fontScale="97000"/>
          </a:bodyPr>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
        <p:nvSpPr>
          <p:cNvPr id="654" name="Rectangle 70"/>
          <p:cNvSpPr/>
          <p:nvPr/>
        </p:nvSpPr>
        <p:spPr>
          <a:xfrm>
            <a:off x="4673520" y="3048120"/>
            <a:ext cx="1600200" cy="1295280"/>
          </a:xfrm>
          <a:prstGeom prst="rect">
            <a:avLst/>
          </a:prstGeom>
          <a:noFill/>
          <a:ln w="0">
            <a:noFill/>
          </a:ln>
        </p:spPr>
        <p:style>
          <a:lnRef idx="0"/>
          <a:fillRef idx="0"/>
          <a:effectRef idx="0"/>
          <a:fontRef idx="minor"/>
        </p:style>
        <p:txBody>
          <a:bodyPr lIns="45720" rIns="27360" tIns="18360" bIns="18360" anchor="t">
            <a:normAutofit fontScale="97000"/>
          </a:bodyPr>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
        <p:nvSpPr>
          <p:cNvPr id="655" name="Rectangle 70"/>
          <p:cNvSpPr/>
          <p:nvPr/>
        </p:nvSpPr>
        <p:spPr>
          <a:xfrm>
            <a:off x="6464160" y="3048120"/>
            <a:ext cx="1600200" cy="1295280"/>
          </a:xfrm>
          <a:prstGeom prst="rect">
            <a:avLst/>
          </a:prstGeom>
          <a:noFill/>
          <a:ln w="0">
            <a:noFill/>
          </a:ln>
        </p:spPr>
        <p:style>
          <a:lnRef idx="0"/>
          <a:fillRef idx="0"/>
          <a:effectRef idx="0"/>
          <a:fontRef idx="minor"/>
        </p:style>
        <p:txBody>
          <a:bodyPr lIns="45720" rIns="27360" tIns="18360" bIns="18360" anchor="t">
            <a:normAutofit fontScale="97000"/>
          </a:bodyPr>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Place your text here</a:t>
            </a:r>
            <a:endParaRPr b="0" lang="en-US" sz="1600" spc="-1" strike="noStrike">
              <a:solidFill>
                <a:srgbClr val="000000"/>
              </a:solidFill>
              <a:latin typeface="Arial"/>
            </a:endParaRPr>
          </a:p>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Your text is placed here</a:t>
            </a:r>
            <a:endParaRPr b="0" lang="en-US" sz="1600" spc="-1" strike="noStrike">
              <a:solidFill>
                <a:srgbClr val="000000"/>
              </a:solidFill>
              <a:latin typeface="Arial"/>
            </a:endParaRPr>
          </a:p>
          <a:p>
            <a:pPr marL="107640" indent="-1076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6262"/>
                </a:solidFill>
                <a:latin typeface="Arial Narrow"/>
              </a:rPr>
              <a:t>Add your content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22"/>
          <p:cNvSpPr/>
          <p:nvPr/>
        </p:nvSpPr>
        <p:spPr>
          <a:xfrm>
            <a:off x="0" y="4495680"/>
            <a:ext cx="9144000" cy="1905120"/>
          </a:xfrm>
          <a:prstGeom prst="rect">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Isosceles Triangle 78"/>
          <p:cNvSpPr/>
          <p:nvPr/>
        </p:nvSpPr>
        <p:spPr>
          <a:xfrm rot="16200000">
            <a:off x="1023840" y="2372760"/>
            <a:ext cx="3048120" cy="1752840"/>
          </a:xfrm>
          <a:prstGeom prst="triangle">
            <a:avLst>
              <a:gd name="adj" fmla="val 50000"/>
            </a:avLst>
          </a:prstGeom>
          <a:gradFill rotWithShape="0">
            <a:gsLst>
              <a:gs pos="0">
                <a:srgbClr val="dbd434"/>
              </a:gs>
              <a:gs pos="100000">
                <a:srgbClr val="fff678">
                  <a:alpha val="30196"/>
                </a:srgbClr>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4"/>
          <p:cNvGrpSpPr/>
          <p:nvPr/>
        </p:nvGrpSpPr>
        <p:grpSpPr>
          <a:xfrm>
            <a:off x="2579760" y="1415880"/>
            <a:ext cx="3668760" cy="3662640"/>
            <a:chOff x="2579760" y="1415880"/>
            <a:chExt cx="3668760" cy="3662640"/>
          </a:xfrm>
        </p:grpSpPr>
        <p:sp>
          <p:nvSpPr>
            <p:cNvPr id="659" name="Freeform 5"/>
            <p:cNvSpPr/>
            <p:nvPr/>
          </p:nvSpPr>
          <p:spPr>
            <a:xfrm>
              <a:off x="2579760" y="1415880"/>
              <a:ext cx="3668760" cy="3662640"/>
            </a:xfrm>
            <a:custGeom>
              <a:avLst/>
              <a:gdLst/>
              <a:ahLst/>
              <a:rect l="l" t="t" r="r" b="b"/>
              <a:pathLst>
                <a:path w="8652" h="8640">
                  <a:moveTo>
                    <a:pt x="8560" y="4573"/>
                  </a:moveTo>
                  <a:lnTo>
                    <a:pt x="8560" y="4573"/>
                  </a:lnTo>
                  <a:lnTo>
                    <a:pt x="8531" y="4567"/>
                  </a:lnTo>
                  <a:lnTo>
                    <a:pt x="8505" y="4560"/>
                  </a:lnTo>
                  <a:lnTo>
                    <a:pt x="8481" y="4550"/>
                  </a:lnTo>
                  <a:lnTo>
                    <a:pt x="8459" y="4538"/>
                  </a:lnTo>
                  <a:lnTo>
                    <a:pt x="8439" y="4525"/>
                  </a:lnTo>
                  <a:lnTo>
                    <a:pt x="8420" y="4511"/>
                  </a:lnTo>
                  <a:lnTo>
                    <a:pt x="8404" y="4496"/>
                  </a:lnTo>
                  <a:lnTo>
                    <a:pt x="8390" y="4481"/>
                  </a:lnTo>
                  <a:lnTo>
                    <a:pt x="8377" y="4465"/>
                  </a:lnTo>
                  <a:lnTo>
                    <a:pt x="8367" y="4447"/>
                  </a:lnTo>
                  <a:lnTo>
                    <a:pt x="8357" y="4432"/>
                  </a:lnTo>
                  <a:lnTo>
                    <a:pt x="8348" y="4416"/>
                  </a:lnTo>
                  <a:lnTo>
                    <a:pt x="8335" y="4387"/>
                  </a:lnTo>
                  <a:lnTo>
                    <a:pt x="8328" y="4361"/>
                  </a:lnTo>
                  <a:lnTo>
                    <a:pt x="8328" y="4319"/>
                  </a:lnTo>
                  <a:lnTo>
                    <a:pt x="8326" y="4269"/>
                  </a:lnTo>
                  <a:lnTo>
                    <a:pt x="8335" y="4243"/>
                  </a:lnTo>
                  <a:lnTo>
                    <a:pt x="8348" y="4214"/>
                  </a:lnTo>
                  <a:lnTo>
                    <a:pt x="8357" y="4198"/>
                  </a:lnTo>
                  <a:lnTo>
                    <a:pt x="8365" y="4182"/>
                  </a:lnTo>
                  <a:lnTo>
                    <a:pt x="8377" y="4165"/>
                  </a:lnTo>
                  <a:lnTo>
                    <a:pt x="8390" y="4149"/>
                  </a:lnTo>
                  <a:lnTo>
                    <a:pt x="8404" y="4133"/>
                  </a:lnTo>
                  <a:lnTo>
                    <a:pt x="8420" y="4119"/>
                  </a:lnTo>
                  <a:lnTo>
                    <a:pt x="8439" y="4105"/>
                  </a:lnTo>
                  <a:lnTo>
                    <a:pt x="8458" y="4092"/>
                  </a:lnTo>
                  <a:lnTo>
                    <a:pt x="8481" y="4080"/>
                  </a:lnTo>
                  <a:lnTo>
                    <a:pt x="8505" y="4070"/>
                  </a:lnTo>
                  <a:lnTo>
                    <a:pt x="8531" y="4061"/>
                  </a:lnTo>
                  <a:lnTo>
                    <a:pt x="8560" y="4056"/>
                  </a:lnTo>
                  <a:lnTo>
                    <a:pt x="8651" y="4043"/>
                  </a:lnTo>
                  <a:lnTo>
                    <a:pt x="8602" y="3700"/>
                  </a:lnTo>
                  <a:lnTo>
                    <a:pt x="8551" y="3357"/>
                  </a:lnTo>
                  <a:lnTo>
                    <a:pt x="8460" y="3370"/>
                  </a:lnTo>
                  <a:lnTo>
                    <a:pt x="8432" y="3373"/>
                  </a:lnTo>
                  <a:lnTo>
                    <a:pt x="8404" y="3373"/>
                  </a:lnTo>
                  <a:lnTo>
                    <a:pt x="8378" y="3372"/>
                  </a:lnTo>
                  <a:lnTo>
                    <a:pt x="8354" y="3366"/>
                  </a:lnTo>
                  <a:lnTo>
                    <a:pt x="8332" y="3360"/>
                  </a:lnTo>
                  <a:lnTo>
                    <a:pt x="8311" y="3351"/>
                  </a:lnTo>
                  <a:lnTo>
                    <a:pt x="8290" y="3341"/>
                  </a:lnTo>
                  <a:lnTo>
                    <a:pt x="8273" y="3331"/>
                  </a:lnTo>
                  <a:lnTo>
                    <a:pt x="8256" y="3320"/>
                  </a:lnTo>
                  <a:lnTo>
                    <a:pt x="8242" y="3307"/>
                  </a:lnTo>
                  <a:lnTo>
                    <a:pt x="8227" y="3294"/>
                  </a:lnTo>
                  <a:lnTo>
                    <a:pt x="8214" y="3281"/>
                  </a:lnTo>
                  <a:lnTo>
                    <a:pt x="8194" y="3256"/>
                  </a:lnTo>
                  <a:lnTo>
                    <a:pt x="8178" y="3236"/>
                  </a:lnTo>
                  <a:lnTo>
                    <a:pt x="8165" y="3186"/>
                  </a:lnTo>
                  <a:lnTo>
                    <a:pt x="8151" y="3137"/>
                  </a:lnTo>
                  <a:lnTo>
                    <a:pt x="8152" y="3111"/>
                  </a:lnTo>
                  <a:lnTo>
                    <a:pt x="8157" y="3079"/>
                  </a:lnTo>
                  <a:lnTo>
                    <a:pt x="8161" y="3062"/>
                  </a:lnTo>
                  <a:lnTo>
                    <a:pt x="8165" y="3043"/>
                  </a:lnTo>
                  <a:lnTo>
                    <a:pt x="8172" y="3026"/>
                  </a:lnTo>
                  <a:lnTo>
                    <a:pt x="8180" y="3007"/>
                  </a:lnTo>
                  <a:lnTo>
                    <a:pt x="8190" y="2988"/>
                  </a:lnTo>
                  <a:lnTo>
                    <a:pt x="8201" y="2970"/>
                  </a:lnTo>
                  <a:lnTo>
                    <a:pt x="8214" y="2952"/>
                  </a:lnTo>
                  <a:lnTo>
                    <a:pt x="8229" y="2935"/>
                  </a:lnTo>
                  <a:lnTo>
                    <a:pt x="8247" y="2918"/>
                  </a:lnTo>
                  <a:lnTo>
                    <a:pt x="8266" y="2902"/>
                  </a:lnTo>
                  <a:lnTo>
                    <a:pt x="8289" y="2888"/>
                  </a:lnTo>
                  <a:lnTo>
                    <a:pt x="8314" y="2875"/>
                  </a:lnTo>
                  <a:lnTo>
                    <a:pt x="8399" y="2837"/>
                  </a:lnTo>
                  <a:lnTo>
                    <a:pt x="8254" y="2522"/>
                  </a:lnTo>
                  <a:lnTo>
                    <a:pt x="8110" y="2206"/>
                  </a:lnTo>
                  <a:lnTo>
                    <a:pt x="8025" y="2245"/>
                  </a:lnTo>
                  <a:lnTo>
                    <a:pt x="8000" y="2257"/>
                  </a:lnTo>
                  <a:lnTo>
                    <a:pt x="7972" y="2264"/>
                  </a:lnTo>
                  <a:lnTo>
                    <a:pt x="7948" y="2268"/>
                  </a:lnTo>
                  <a:lnTo>
                    <a:pt x="7923" y="2271"/>
                  </a:lnTo>
                  <a:lnTo>
                    <a:pt x="7899" y="2271"/>
                  </a:lnTo>
                  <a:lnTo>
                    <a:pt x="7876" y="2268"/>
                  </a:lnTo>
                  <a:lnTo>
                    <a:pt x="7854" y="2265"/>
                  </a:lnTo>
                  <a:lnTo>
                    <a:pt x="7834" y="2260"/>
                  </a:lnTo>
                  <a:lnTo>
                    <a:pt x="7815" y="2253"/>
                  </a:lnTo>
                  <a:lnTo>
                    <a:pt x="7796" y="2245"/>
                  </a:lnTo>
                  <a:lnTo>
                    <a:pt x="7779" y="2237"/>
                  </a:lnTo>
                  <a:lnTo>
                    <a:pt x="7765" y="2228"/>
                  </a:lnTo>
                  <a:lnTo>
                    <a:pt x="7737" y="2211"/>
                  </a:lnTo>
                  <a:lnTo>
                    <a:pt x="7717" y="2195"/>
                  </a:lnTo>
                  <a:lnTo>
                    <a:pt x="7664" y="2113"/>
                  </a:lnTo>
                  <a:lnTo>
                    <a:pt x="7658" y="2087"/>
                  </a:lnTo>
                  <a:lnTo>
                    <a:pt x="7652" y="2055"/>
                  </a:lnTo>
                  <a:lnTo>
                    <a:pt x="7651" y="2038"/>
                  </a:lnTo>
                  <a:lnTo>
                    <a:pt x="7651" y="2019"/>
                  </a:lnTo>
                  <a:lnTo>
                    <a:pt x="7652" y="1999"/>
                  </a:lnTo>
                  <a:lnTo>
                    <a:pt x="7654" y="1979"/>
                  </a:lnTo>
                  <a:lnTo>
                    <a:pt x="7658" y="1957"/>
                  </a:lnTo>
                  <a:lnTo>
                    <a:pt x="7663" y="1937"/>
                  </a:lnTo>
                  <a:lnTo>
                    <a:pt x="7671" y="1916"/>
                  </a:lnTo>
                  <a:lnTo>
                    <a:pt x="7680" y="1894"/>
                  </a:lnTo>
                  <a:lnTo>
                    <a:pt x="7693" y="1872"/>
                  </a:lnTo>
                  <a:lnTo>
                    <a:pt x="7707" y="1851"/>
                  </a:lnTo>
                  <a:lnTo>
                    <a:pt x="7726" y="1831"/>
                  </a:lnTo>
                  <a:lnTo>
                    <a:pt x="7746" y="1810"/>
                  </a:lnTo>
                  <a:lnTo>
                    <a:pt x="7815" y="1750"/>
                  </a:lnTo>
                  <a:lnTo>
                    <a:pt x="7589" y="1489"/>
                  </a:lnTo>
                  <a:lnTo>
                    <a:pt x="7361" y="1227"/>
                  </a:lnTo>
                  <a:lnTo>
                    <a:pt x="7292" y="1288"/>
                  </a:lnTo>
                  <a:lnTo>
                    <a:pt x="7269" y="1306"/>
                  </a:lnTo>
                  <a:lnTo>
                    <a:pt x="7246" y="1321"/>
                  </a:lnTo>
                  <a:lnTo>
                    <a:pt x="7223" y="1332"/>
                  </a:lnTo>
                  <a:lnTo>
                    <a:pt x="7200" y="1342"/>
                  </a:lnTo>
                  <a:lnTo>
                    <a:pt x="7177" y="1348"/>
                  </a:lnTo>
                  <a:lnTo>
                    <a:pt x="7154" y="1352"/>
                  </a:lnTo>
                  <a:lnTo>
                    <a:pt x="7132" y="1355"/>
                  </a:lnTo>
                  <a:lnTo>
                    <a:pt x="7111" y="1355"/>
                  </a:lnTo>
                  <a:lnTo>
                    <a:pt x="7091" y="1354"/>
                  </a:lnTo>
                  <a:lnTo>
                    <a:pt x="7071" y="1352"/>
                  </a:lnTo>
                  <a:lnTo>
                    <a:pt x="7052" y="1350"/>
                  </a:lnTo>
                  <a:lnTo>
                    <a:pt x="7035" y="1345"/>
                  </a:lnTo>
                  <a:lnTo>
                    <a:pt x="7004" y="1335"/>
                  </a:lnTo>
                  <a:lnTo>
                    <a:pt x="6980" y="1325"/>
                  </a:lnTo>
                  <a:lnTo>
                    <a:pt x="6909" y="1263"/>
                  </a:lnTo>
                  <a:lnTo>
                    <a:pt x="6896" y="1240"/>
                  </a:lnTo>
                  <a:lnTo>
                    <a:pt x="6882" y="1211"/>
                  </a:lnTo>
                  <a:lnTo>
                    <a:pt x="6875" y="1195"/>
                  </a:lnTo>
                  <a:lnTo>
                    <a:pt x="6869" y="1177"/>
                  </a:lnTo>
                  <a:lnTo>
                    <a:pt x="6865" y="1158"/>
                  </a:lnTo>
                  <a:lnTo>
                    <a:pt x="6860" y="1138"/>
                  </a:lnTo>
                  <a:lnTo>
                    <a:pt x="6857" y="1118"/>
                  </a:lnTo>
                  <a:lnTo>
                    <a:pt x="6857" y="1095"/>
                  </a:lnTo>
                  <a:lnTo>
                    <a:pt x="6859" y="1072"/>
                  </a:lnTo>
                  <a:lnTo>
                    <a:pt x="6862" y="1048"/>
                  </a:lnTo>
                  <a:lnTo>
                    <a:pt x="6867" y="1024"/>
                  </a:lnTo>
                  <a:lnTo>
                    <a:pt x="6876" y="1000"/>
                  </a:lnTo>
                  <a:lnTo>
                    <a:pt x="6888" y="975"/>
                  </a:lnTo>
                  <a:lnTo>
                    <a:pt x="6902" y="949"/>
                  </a:lnTo>
                  <a:lnTo>
                    <a:pt x="6951" y="871"/>
                  </a:lnTo>
                  <a:lnTo>
                    <a:pt x="6660" y="686"/>
                  </a:lnTo>
                  <a:lnTo>
                    <a:pt x="6369" y="498"/>
                  </a:lnTo>
                  <a:lnTo>
                    <a:pt x="6319" y="575"/>
                  </a:lnTo>
                  <a:lnTo>
                    <a:pt x="6303" y="599"/>
                  </a:lnTo>
                  <a:lnTo>
                    <a:pt x="6284" y="619"/>
                  </a:lnTo>
                  <a:lnTo>
                    <a:pt x="6267" y="637"/>
                  </a:lnTo>
                  <a:lnTo>
                    <a:pt x="6247" y="652"/>
                  </a:lnTo>
                  <a:lnTo>
                    <a:pt x="6228" y="664"/>
                  </a:lnTo>
                  <a:lnTo>
                    <a:pt x="6208" y="675"/>
                  </a:lnTo>
                  <a:lnTo>
                    <a:pt x="6188" y="684"/>
                  </a:lnTo>
                  <a:lnTo>
                    <a:pt x="6167" y="690"/>
                  </a:lnTo>
                  <a:lnTo>
                    <a:pt x="6147" y="696"/>
                  </a:lnTo>
                  <a:lnTo>
                    <a:pt x="6129" y="699"/>
                  </a:lnTo>
                  <a:lnTo>
                    <a:pt x="6110" y="701"/>
                  </a:lnTo>
                  <a:lnTo>
                    <a:pt x="6093" y="703"/>
                  </a:lnTo>
                  <a:lnTo>
                    <a:pt x="6061" y="703"/>
                  </a:lnTo>
                  <a:lnTo>
                    <a:pt x="6033" y="700"/>
                  </a:lnTo>
                  <a:lnTo>
                    <a:pt x="5941" y="658"/>
                  </a:lnTo>
                  <a:lnTo>
                    <a:pt x="5923" y="639"/>
                  </a:lnTo>
                  <a:lnTo>
                    <a:pt x="5901" y="615"/>
                  </a:lnTo>
                  <a:lnTo>
                    <a:pt x="5891" y="602"/>
                  </a:lnTo>
                  <a:lnTo>
                    <a:pt x="5881" y="586"/>
                  </a:lnTo>
                  <a:lnTo>
                    <a:pt x="5871" y="569"/>
                  </a:lnTo>
                  <a:lnTo>
                    <a:pt x="5861" y="552"/>
                  </a:lnTo>
                  <a:lnTo>
                    <a:pt x="5853" y="531"/>
                  </a:lnTo>
                  <a:lnTo>
                    <a:pt x="5846" y="511"/>
                  </a:lnTo>
                  <a:lnTo>
                    <a:pt x="5840" y="488"/>
                  </a:lnTo>
                  <a:lnTo>
                    <a:pt x="5838" y="465"/>
                  </a:lnTo>
                  <a:lnTo>
                    <a:pt x="5836" y="441"/>
                  </a:lnTo>
                  <a:lnTo>
                    <a:pt x="5838" y="416"/>
                  </a:lnTo>
                  <a:lnTo>
                    <a:pt x="5842" y="389"/>
                  </a:lnTo>
                  <a:lnTo>
                    <a:pt x="5849" y="360"/>
                  </a:lnTo>
                  <a:lnTo>
                    <a:pt x="5875" y="272"/>
                  </a:lnTo>
                  <a:lnTo>
                    <a:pt x="5542" y="174"/>
                  </a:lnTo>
                  <a:lnTo>
                    <a:pt x="5210" y="78"/>
                  </a:lnTo>
                  <a:lnTo>
                    <a:pt x="5184" y="166"/>
                  </a:lnTo>
                  <a:lnTo>
                    <a:pt x="5175" y="193"/>
                  </a:lnTo>
                  <a:lnTo>
                    <a:pt x="5164" y="217"/>
                  </a:lnTo>
                  <a:lnTo>
                    <a:pt x="5151" y="239"/>
                  </a:lnTo>
                  <a:lnTo>
                    <a:pt x="5136" y="259"/>
                  </a:lnTo>
                  <a:lnTo>
                    <a:pt x="5122" y="277"/>
                  </a:lnTo>
                  <a:lnTo>
                    <a:pt x="5106" y="292"/>
                  </a:lnTo>
                  <a:lnTo>
                    <a:pt x="5089" y="307"/>
                  </a:lnTo>
                  <a:lnTo>
                    <a:pt x="5071" y="318"/>
                  </a:lnTo>
                  <a:lnTo>
                    <a:pt x="5054" y="328"/>
                  </a:lnTo>
                  <a:lnTo>
                    <a:pt x="5037" y="338"/>
                  </a:lnTo>
                  <a:lnTo>
                    <a:pt x="5020" y="346"/>
                  </a:lnTo>
                  <a:lnTo>
                    <a:pt x="5002" y="351"/>
                  </a:lnTo>
                  <a:lnTo>
                    <a:pt x="4972" y="360"/>
                  </a:lnTo>
                  <a:lnTo>
                    <a:pt x="4946" y="366"/>
                  </a:lnTo>
                  <a:lnTo>
                    <a:pt x="4897" y="359"/>
                  </a:lnTo>
                  <a:lnTo>
                    <a:pt x="4848" y="353"/>
                  </a:lnTo>
                  <a:lnTo>
                    <a:pt x="4825" y="340"/>
                  </a:lnTo>
                  <a:lnTo>
                    <a:pt x="4798" y="324"/>
                  </a:lnTo>
                  <a:lnTo>
                    <a:pt x="4783" y="313"/>
                  </a:lnTo>
                  <a:lnTo>
                    <a:pt x="4767" y="301"/>
                  </a:lnTo>
                  <a:lnTo>
                    <a:pt x="4753" y="288"/>
                  </a:lnTo>
                  <a:lnTo>
                    <a:pt x="4740" y="274"/>
                  </a:lnTo>
                  <a:lnTo>
                    <a:pt x="4726" y="256"/>
                  </a:lnTo>
                  <a:lnTo>
                    <a:pt x="4713" y="239"/>
                  </a:lnTo>
                  <a:lnTo>
                    <a:pt x="4701" y="219"/>
                  </a:lnTo>
                  <a:lnTo>
                    <a:pt x="4693" y="197"/>
                  </a:lnTo>
                  <a:lnTo>
                    <a:pt x="4684" y="174"/>
                  </a:lnTo>
                  <a:lnTo>
                    <a:pt x="4678" y="148"/>
                  </a:lnTo>
                  <a:lnTo>
                    <a:pt x="4674" y="121"/>
                  </a:lnTo>
                  <a:lnTo>
                    <a:pt x="4672" y="92"/>
                  </a:lnTo>
                  <a:lnTo>
                    <a:pt x="4672" y="0"/>
                  </a:lnTo>
                  <a:lnTo>
                    <a:pt x="4325" y="0"/>
                  </a:lnTo>
                  <a:lnTo>
                    <a:pt x="3980" y="0"/>
                  </a:lnTo>
                  <a:lnTo>
                    <a:pt x="3980" y="92"/>
                  </a:lnTo>
                  <a:lnTo>
                    <a:pt x="3978" y="121"/>
                  </a:lnTo>
                  <a:lnTo>
                    <a:pt x="3974" y="148"/>
                  </a:lnTo>
                  <a:lnTo>
                    <a:pt x="3968" y="174"/>
                  </a:lnTo>
                  <a:lnTo>
                    <a:pt x="3959" y="197"/>
                  </a:lnTo>
                  <a:lnTo>
                    <a:pt x="3949" y="219"/>
                  </a:lnTo>
                  <a:lnTo>
                    <a:pt x="3939" y="239"/>
                  </a:lnTo>
                  <a:lnTo>
                    <a:pt x="3926" y="256"/>
                  </a:lnTo>
                  <a:lnTo>
                    <a:pt x="3912" y="274"/>
                  </a:lnTo>
                  <a:lnTo>
                    <a:pt x="3899" y="288"/>
                  </a:lnTo>
                  <a:lnTo>
                    <a:pt x="3885" y="301"/>
                  </a:lnTo>
                  <a:lnTo>
                    <a:pt x="3869" y="313"/>
                  </a:lnTo>
                  <a:lnTo>
                    <a:pt x="3854" y="324"/>
                  </a:lnTo>
                  <a:lnTo>
                    <a:pt x="3827" y="340"/>
                  </a:lnTo>
                  <a:lnTo>
                    <a:pt x="3804" y="353"/>
                  </a:lnTo>
                  <a:lnTo>
                    <a:pt x="3746" y="360"/>
                  </a:lnTo>
                  <a:lnTo>
                    <a:pt x="3689" y="369"/>
                  </a:lnTo>
                  <a:lnTo>
                    <a:pt x="3663" y="363"/>
                  </a:lnTo>
                  <a:lnTo>
                    <a:pt x="3631" y="354"/>
                  </a:lnTo>
                  <a:lnTo>
                    <a:pt x="3615" y="349"/>
                  </a:lnTo>
                  <a:lnTo>
                    <a:pt x="3598" y="341"/>
                  </a:lnTo>
                  <a:lnTo>
                    <a:pt x="3581" y="333"/>
                  </a:lnTo>
                  <a:lnTo>
                    <a:pt x="3563" y="323"/>
                  </a:lnTo>
                  <a:lnTo>
                    <a:pt x="3546" y="311"/>
                  </a:lnTo>
                  <a:lnTo>
                    <a:pt x="3529" y="297"/>
                  </a:lnTo>
                  <a:lnTo>
                    <a:pt x="3513" y="281"/>
                  </a:lnTo>
                  <a:lnTo>
                    <a:pt x="3497" y="264"/>
                  </a:lnTo>
                  <a:lnTo>
                    <a:pt x="3483" y="243"/>
                  </a:lnTo>
                  <a:lnTo>
                    <a:pt x="3470" y="222"/>
                  </a:lnTo>
                  <a:lnTo>
                    <a:pt x="3458" y="197"/>
                  </a:lnTo>
                  <a:lnTo>
                    <a:pt x="3450" y="170"/>
                  </a:lnTo>
                  <a:lnTo>
                    <a:pt x="3422" y="82"/>
                  </a:lnTo>
                  <a:lnTo>
                    <a:pt x="3091" y="180"/>
                  </a:lnTo>
                  <a:lnTo>
                    <a:pt x="2760" y="279"/>
                  </a:lnTo>
                  <a:lnTo>
                    <a:pt x="2786" y="367"/>
                  </a:lnTo>
                  <a:lnTo>
                    <a:pt x="2793" y="396"/>
                  </a:lnTo>
                  <a:lnTo>
                    <a:pt x="2797" y="422"/>
                  </a:lnTo>
                  <a:lnTo>
                    <a:pt x="2797" y="448"/>
                  </a:lnTo>
                  <a:lnTo>
                    <a:pt x="2797" y="472"/>
                  </a:lnTo>
                  <a:lnTo>
                    <a:pt x="2794" y="495"/>
                  </a:lnTo>
                  <a:lnTo>
                    <a:pt x="2788" y="518"/>
                  </a:lnTo>
                  <a:lnTo>
                    <a:pt x="2781" y="539"/>
                  </a:lnTo>
                  <a:lnTo>
                    <a:pt x="2774" y="559"/>
                  </a:lnTo>
                  <a:lnTo>
                    <a:pt x="2765" y="576"/>
                  </a:lnTo>
                  <a:lnTo>
                    <a:pt x="2755" y="593"/>
                  </a:lnTo>
                  <a:lnTo>
                    <a:pt x="2744" y="609"/>
                  </a:lnTo>
                  <a:lnTo>
                    <a:pt x="2734" y="624"/>
                  </a:lnTo>
                  <a:lnTo>
                    <a:pt x="2712" y="647"/>
                  </a:lnTo>
                  <a:lnTo>
                    <a:pt x="2693" y="665"/>
                  </a:lnTo>
                  <a:lnTo>
                    <a:pt x="2646" y="687"/>
                  </a:lnTo>
                  <a:lnTo>
                    <a:pt x="2600" y="709"/>
                  </a:lnTo>
                  <a:lnTo>
                    <a:pt x="2572" y="710"/>
                  </a:lnTo>
                  <a:lnTo>
                    <a:pt x="2541" y="710"/>
                  </a:lnTo>
                  <a:lnTo>
                    <a:pt x="2523" y="709"/>
                  </a:lnTo>
                  <a:lnTo>
                    <a:pt x="2505" y="707"/>
                  </a:lnTo>
                  <a:lnTo>
                    <a:pt x="2486" y="703"/>
                  </a:lnTo>
                  <a:lnTo>
                    <a:pt x="2466" y="699"/>
                  </a:lnTo>
                  <a:lnTo>
                    <a:pt x="2446" y="691"/>
                  </a:lnTo>
                  <a:lnTo>
                    <a:pt x="2427" y="683"/>
                  </a:lnTo>
                  <a:lnTo>
                    <a:pt x="2407" y="673"/>
                  </a:lnTo>
                  <a:lnTo>
                    <a:pt x="2387" y="660"/>
                  </a:lnTo>
                  <a:lnTo>
                    <a:pt x="2368" y="645"/>
                  </a:lnTo>
                  <a:lnTo>
                    <a:pt x="2351" y="628"/>
                  </a:lnTo>
                  <a:lnTo>
                    <a:pt x="2332" y="608"/>
                  </a:lnTo>
                  <a:lnTo>
                    <a:pt x="2316" y="585"/>
                  </a:lnTo>
                  <a:lnTo>
                    <a:pt x="2266" y="507"/>
                  </a:lnTo>
                  <a:lnTo>
                    <a:pt x="1976" y="696"/>
                  </a:lnTo>
                  <a:lnTo>
                    <a:pt x="1685" y="884"/>
                  </a:lnTo>
                  <a:lnTo>
                    <a:pt x="1736" y="962"/>
                  </a:lnTo>
                  <a:lnTo>
                    <a:pt x="1750" y="987"/>
                  </a:lnTo>
                  <a:lnTo>
                    <a:pt x="1762" y="1011"/>
                  </a:lnTo>
                  <a:lnTo>
                    <a:pt x="1770" y="1036"/>
                  </a:lnTo>
                  <a:lnTo>
                    <a:pt x="1776" y="1060"/>
                  </a:lnTo>
                  <a:lnTo>
                    <a:pt x="1779" y="1083"/>
                  </a:lnTo>
                  <a:lnTo>
                    <a:pt x="1780" y="1106"/>
                  </a:lnTo>
                  <a:lnTo>
                    <a:pt x="1780" y="1129"/>
                  </a:lnTo>
                  <a:lnTo>
                    <a:pt x="1777" y="1149"/>
                  </a:lnTo>
                  <a:lnTo>
                    <a:pt x="1773" y="1169"/>
                  </a:lnTo>
                  <a:lnTo>
                    <a:pt x="1769" y="1190"/>
                  </a:lnTo>
                  <a:lnTo>
                    <a:pt x="1763" y="1207"/>
                  </a:lnTo>
                  <a:lnTo>
                    <a:pt x="1756" y="1224"/>
                  </a:lnTo>
                  <a:lnTo>
                    <a:pt x="1743" y="1253"/>
                  </a:lnTo>
                  <a:lnTo>
                    <a:pt x="1730" y="1275"/>
                  </a:lnTo>
                  <a:lnTo>
                    <a:pt x="1656" y="1339"/>
                  </a:lnTo>
                  <a:lnTo>
                    <a:pt x="1632" y="1348"/>
                  </a:lnTo>
                  <a:lnTo>
                    <a:pt x="1602" y="1358"/>
                  </a:lnTo>
                  <a:lnTo>
                    <a:pt x="1584" y="1362"/>
                  </a:lnTo>
                  <a:lnTo>
                    <a:pt x="1566" y="1365"/>
                  </a:lnTo>
                  <a:lnTo>
                    <a:pt x="1545" y="1368"/>
                  </a:lnTo>
                  <a:lnTo>
                    <a:pt x="1525" y="1368"/>
                  </a:lnTo>
                  <a:lnTo>
                    <a:pt x="1504" y="1368"/>
                  </a:lnTo>
                  <a:lnTo>
                    <a:pt x="1482" y="1365"/>
                  </a:lnTo>
                  <a:lnTo>
                    <a:pt x="1460" y="1361"/>
                  </a:lnTo>
                  <a:lnTo>
                    <a:pt x="1437" y="1355"/>
                  </a:lnTo>
                  <a:lnTo>
                    <a:pt x="1414" y="1345"/>
                  </a:lnTo>
                  <a:lnTo>
                    <a:pt x="1391" y="1334"/>
                  </a:lnTo>
                  <a:lnTo>
                    <a:pt x="1368" y="1319"/>
                  </a:lnTo>
                  <a:lnTo>
                    <a:pt x="1345" y="1302"/>
                  </a:lnTo>
                  <a:lnTo>
                    <a:pt x="1276" y="1241"/>
                  </a:lnTo>
                  <a:lnTo>
                    <a:pt x="1050" y="1504"/>
                  </a:lnTo>
                  <a:lnTo>
                    <a:pt x="825" y="1767"/>
                  </a:lnTo>
                  <a:lnTo>
                    <a:pt x="894" y="1826"/>
                  </a:lnTo>
                  <a:lnTo>
                    <a:pt x="916" y="1846"/>
                  </a:lnTo>
                  <a:lnTo>
                    <a:pt x="933" y="1867"/>
                  </a:lnTo>
                  <a:lnTo>
                    <a:pt x="948" y="1888"/>
                  </a:lnTo>
                  <a:lnTo>
                    <a:pt x="961" y="1910"/>
                  </a:lnTo>
                  <a:lnTo>
                    <a:pt x="971" y="1930"/>
                  </a:lnTo>
                  <a:lnTo>
                    <a:pt x="978" y="1952"/>
                  </a:lnTo>
                  <a:lnTo>
                    <a:pt x="984" y="1973"/>
                  </a:lnTo>
                  <a:lnTo>
                    <a:pt x="988" y="1993"/>
                  </a:lnTo>
                  <a:lnTo>
                    <a:pt x="989" y="2015"/>
                  </a:lnTo>
                  <a:lnTo>
                    <a:pt x="991" y="2034"/>
                  </a:lnTo>
                  <a:lnTo>
                    <a:pt x="989" y="2052"/>
                  </a:lnTo>
                  <a:lnTo>
                    <a:pt x="988" y="2070"/>
                  </a:lnTo>
                  <a:lnTo>
                    <a:pt x="984" y="2101"/>
                  </a:lnTo>
                  <a:lnTo>
                    <a:pt x="978" y="2127"/>
                  </a:lnTo>
                  <a:lnTo>
                    <a:pt x="923" y="2212"/>
                  </a:lnTo>
                  <a:lnTo>
                    <a:pt x="903" y="2228"/>
                  </a:lnTo>
                  <a:lnTo>
                    <a:pt x="876" y="2245"/>
                  </a:lnTo>
                  <a:lnTo>
                    <a:pt x="861" y="2254"/>
                  </a:lnTo>
                  <a:lnTo>
                    <a:pt x="844" y="2263"/>
                  </a:lnTo>
                  <a:lnTo>
                    <a:pt x="825" y="2270"/>
                  </a:lnTo>
                  <a:lnTo>
                    <a:pt x="807" y="2277"/>
                  </a:lnTo>
                  <a:lnTo>
                    <a:pt x="786" y="2281"/>
                  </a:lnTo>
                  <a:lnTo>
                    <a:pt x="765" y="2286"/>
                  </a:lnTo>
                  <a:lnTo>
                    <a:pt x="742" y="2287"/>
                  </a:lnTo>
                  <a:lnTo>
                    <a:pt x="719" y="2287"/>
                  </a:lnTo>
                  <a:lnTo>
                    <a:pt x="694" y="2286"/>
                  </a:lnTo>
                  <a:lnTo>
                    <a:pt x="670" y="2281"/>
                  </a:lnTo>
                  <a:lnTo>
                    <a:pt x="644" y="2273"/>
                  </a:lnTo>
                  <a:lnTo>
                    <a:pt x="616" y="2263"/>
                  </a:lnTo>
                  <a:lnTo>
                    <a:pt x="533" y="2225"/>
                  </a:lnTo>
                  <a:lnTo>
                    <a:pt x="390" y="2541"/>
                  </a:lnTo>
                  <a:lnTo>
                    <a:pt x="248" y="2856"/>
                  </a:lnTo>
                  <a:lnTo>
                    <a:pt x="331" y="2893"/>
                  </a:lnTo>
                  <a:lnTo>
                    <a:pt x="357" y="2906"/>
                  </a:lnTo>
                  <a:lnTo>
                    <a:pt x="379" y="2921"/>
                  </a:lnTo>
                  <a:lnTo>
                    <a:pt x="399" y="2937"/>
                  </a:lnTo>
                  <a:lnTo>
                    <a:pt x="416" y="2952"/>
                  </a:lnTo>
                  <a:lnTo>
                    <a:pt x="432" y="2970"/>
                  </a:lnTo>
                  <a:lnTo>
                    <a:pt x="445" y="2988"/>
                  </a:lnTo>
                  <a:lnTo>
                    <a:pt x="457" y="3007"/>
                  </a:lnTo>
                  <a:lnTo>
                    <a:pt x="467" y="3025"/>
                  </a:lnTo>
                  <a:lnTo>
                    <a:pt x="474" y="3043"/>
                  </a:lnTo>
                  <a:lnTo>
                    <a:pt x="481" y="3062"/>
                  </a:lnTo>
                  <a:lnTo>
                    <a:pt x="485" y="3079"/>
                  </a:lnTo>
                  <a:lnTo>
                    <a:pt x="490" y="3097"/>
                  </a:lnTo>
                  <a:lnTo>
                    <a:pt x="494" y="3128"/>
                  </a:lnTo>
                  <a:lnTo>
                    <a:pt x="495" y="3156"/>
                  </a:lnTo>
                  <a:lnTo>
                    <a:pt x="481" y="3205"/>
                  </a:lnTo>
                  <a:lnTo>
                    <a:pt x="468" y="3255"/>
                  </a:lnTo>
                  <a:lnTo>
                    <a:pt x="452" y="3277"/>
                  </a:lnTo>
                  <a:lnTo>
                    <a:pt x="432" y="3301"/>
                  </a:lnTo>
                  <a:lnTo>
                    <a:pt x="419" y="3314"/>
                  </a:lnTo>
                  <a:lnTo>
                    <a:pt x="405" y="3327"/>
                  </a:lnTo>
                  <a:lnTo>
                    <a:pt x="390" y="3338"/>
                  </a:lnTo>
                  <a:lnTo>
                    <a:pt x="373" y="3350"/>
                  </a:lnTo>
                  <a:lnTo>
                    <a:pt x="356" y="3362"/>
                  </a:lnTo>
                  <a:lnTo>
                    <a:pt x="336" y="3370"/>
                  </a:lnTo>
                  <a:lnTo>
                    <a:pt x="315" y="3379"/>
                  </a:lnTo>
                  <a:lnTo>
                    <a:pt x="292" y="3386"/>
                  </a:lnTo>
                  <a:lnTo>
                    <a:pt x="268" y="3390"/>
                  </a:lnTo>
                  <a:lnTo>
                    <a:pt x="243" y="3393"/>
                  </a:lnTo>
                  <a:lnTo>
                    <a:pt x="216" y="3393"/>
                  </a:lnTo>
                  <a:lnTo>
                    <a:pt x="187" y="3390"/>
                  </a:lnTo>
                  <a:lnTo>
                    <a:pt x="97" y="3377"/>
                  </a:lnTo>
                  <a:lnTo>
                    <a:pt x="48" y="3720"/>
                  </a:lnTo>
                  <a:lnTo>
                    <a:pt x="0" y="4063"/>
                  </a:lnTo>
                  <a:lnTo>
                    <a:pt x="91" y="4076"/>
                  </a:lnTo>
                  <a:lnTo>
                    <a:pt x="120" y="4082"/>
                  </a:lnTo>
                  <a:lnTo>
                    <a:pt x="147" y="4089"/>
                  </a:lnTo>
                  <a:lnTo>
                    <a:pt x="170" y="4099"/>
                  </a:lnTo>
                  <a:lnTo>
                    <a:pt x="192" y="4109"/>
                  </a:lnTo>
                  <a:lnTo>
                    <a:pt x="212" y="4122"/>
                  </a:lnTo>
                  <a:lnTo>
                    <a:pt x="230" y="4136"/>
                  </a:lnTo>
                  <a:lnTo>
                    <a:pt x="246" y="4151"/>
                  </a:lnTo>
                  <a:lnTo>
                    <a:pt x="261" y="4167"/>
                  </a:lnTo>
                  <a:lnTo>
                    <a:pt x="274" y="4182"/>
                  </a:lnTo>
                  <a:lnTo>
                    <a:pt x="285" y="4198"/>
                  </a:lnTo>
                  <a:lnTo>
                    <a:pt x="294" y="4216"/>
                  </a:lnTo>
                  <a:lnTo>
                    <a:pt x="302" y="4230"/>
                  </a:lnTo>
                  <a:lnTo>
                    <a:pt x="315" y="4260"/>
                  </a:lnTo>
                  <a:lnTo>
                    <a:pt x="324" y="4285"/>
                  </a:lnTo>
                  <a:lnTo>
                    <a:pt x="324" y="4319"/>
                  </a:lnTo>
                  <a:lnTo>
                    <a:pt x="326" y="4381"/>
                  </a:lnTo>
                  <a:lnTo>
                    <a:pt x="317" y="4406"/>
                  </a:lnTo>
                  <a:lnTo>
                    <a:pt x="304" y="4434"/>
                  </a:lnTo>
                  <a:lnTo>
                    <a:pt x="295" y="4450"/>
                  </a:lnTo>
                  <a:lnTo>
                    <a:pt x="287" y="4468"/>
                  </a:lnTo>
                  <a:lnTo>
                    <a:pt x="275" y="4483"/>
                  </a:lnTo>
                  <a:lnTo>
                    <a:pt x="262" y="4499"/>
                  </a:lnTo>
                  <a:lnTo>
                    <a:pt x="248" y="4515"/>
                  </a:lnTo>
                  <a:lnTo>
                    <a:pt x="232" y="4531"/>
                  </a:lnTo>
                  <a:lnTo>
                    <a:pt x="215" y="4545"/>
                  </a:lnTo>
                  <a:lnTo>
                    <a:pt x="194" y="4558"/>
                  </a:lnTo>
                  <a:lnTo>
                    <a:pt x="173" y="4570"/>
                  </a:lnTo>
                  <a:lnTo>
                    <a:pt x="148" y="4579"/>
                  </a:lnTo>
                  <a:lnTo>
                    <a:pt x="122" y="4587"/>
                  </a:lnTo>
                  <a:lnTo>
                    <a:pt x="94" y="4593"/>
                  </a:lnTo>
                  <a:lnTo>
                    <a:pt x="1" y="4606"/>
                  </a:lnTo>
                  <a:lnTo>
                    <a:pt x="52" y="4949"/>
                  </a:lnTo>
                  <a:lnTo>
                    <a:pt x="102" y="5291"/>
                  </a:lnTo>
                  <a:lnTo>
                    <a:pt x="194" y="5278"/>
                  </a:lnTo>
                  <a:lnTo>
                    <a:pt x="223" y="5276"/>
                  </a:lnTo>
                  <a:lnTo>
                    <a:pt x="249" y="5274"/>
                  </a:lnTo>
                  <a:lnTo>
                    <a:pt x="275" y="5277"/>
                  </a:lnTo>
                  <a:lnTo>
                    <a:pt x="300" y="5281"/>
                  </a:lnTo>
                  <a:lnTo>
                    <a:pt x="323" y="5289"/>
                  </a:lnTo>
                  <a:lnTo>
                    <a:pt x="343" y="5296"/>
                  </a:lnTo>
                  <a:lnTo>
                    <a:pt x="363" y="5306"/>
                  </a:lnTo>
                  <a:lnTo>
                    <a:pt x="380" y="5317"/>
                  </a:lnTo>
                  <a:lnTo>
                    <a:pt x="398" y="5329"/>
                  </a:lnTo>
                  <a:lnTo>
                    <a:pt x="413" y="5340"/>
                  </a:lnTo>
                  <a:lnTo>
                    <a:pt x="426" y="5353"/>
                  </a:lnTo>
                  <a:lnTo>
                    <a:pt x="439" y="5365"/>
                  </a:lnTo>
                  <a:lnTo>
                    <a:pt x="459" y="5389"/>
                  </a:lnTo>
                  <a:lnTo>
                    <a:pt x="475" y="5411"/>
                  </a:lnTo>
                  <a:lnTo>
                    <a:pt x="490" y="5461"/>
                  </a:lnTo>
                  <a:lnTo>
                    <a:pt x="504" y="5512"/>
                  </a:lnTo>
                  <a:lnTo>
                    <a:pt x="503" y="5539"/>
                  </a:lnTo>
                  <a:lnTo>
                    <a:pt x="498" y="5571"/>
                  </a:lnTo>
                  <a:lnTo>
                    <a:pt x="494" y="5588"/>
                  </a:lnTo>
                  <a:lnTo>
                    <a:pt x="490" y="5605"/>
                  </a:lnTo>
                  <a:lnTo>
                    <a:pt x="483" y="5624"/>
                  </a:lnTo>
                  <a:lnTo>
                    <a:pt x="475" y="5641"/>
                  </a:lnTo>
                  <a:lnTo>
                    <a:pt x="465" y="5660"/>
                  </a:lnTo>
                  <a:lnTo>
                    <a:pt x="454" y="5679"/>
                  </a:lnTo>
                  <a:lnTo>
                    <a:pt x="441" y="5696"/>
                  </a:lnTo>
                  <a:lnTo>
                    <a:pt x="426" y="5713"/>
                  </a:lnTo>
                  <a:lnTo>
                    <a:pt x="409" y="5731"/>
                  </a:lnTo>
                  <a:lnTo>
                    <a:pt x="389" y="5747"/>
                  </a:lnTo>
                  <a:lnTo>
                    <a:pt x="366" y="5761"/>
                  </a:lnTo>
                  <a:lnTo>
                    <a:pt x="341" y="5774"/>
                  </a:lnTo>
                  <a:lnTo>
                    <a:pt x="258" y="5811"/>
                  </a:lnTo>
                  <a:lnTo>
                    <a:pt x="402" y="6127"/>
                  </a:lnTo>
                  <a:lnTo>
                    <a:pt x="547" y="6441"/>
                  </a:lnTo>
                  <a:lnTo>
                    <a:pt x="631" y="6402"/>
                  </a:lnTo>
                  <a:lnTo>
                    <a:pt x="658" y="6392"/>
                  </a:lnTo>
                  <a:lnTo>
                    <a:pt x="684" y="6383"/>
                  </a:lnTo>
                  <a:lnTo>
                    <a:pt x="709" y="6379"/>
                  </a:lnTo>
                  <a:lnTo>
                    <a:pt x="733" y="6376"/>
                  </a:lnTo>
                  <a:lnTo>
                    <a:pt x="758" y="6376"/>
                  </a:lnTo>
                  <a:lnTo>
                    <a:pt x="781" y="6379"/>
                  </a:lnTo>
                  <a:lnTo>
                    <a:pt x="802" y="6382"/>
                  </a:lnTo>
                  <a:lnTo>
                    <a:pt x="822" y="6387"/>
                  </a:lnTo>
                  <a:lnTo>
                    <a:pt x="841" y="6393"/>
                  </a:lnTo>
                  <a:lnTo>
                    <a:pt x="860" y="6402"/>
                  </a:lnTo>
                  <a:lnTo>
                    <a:pt x="877" y="6409"/>
                  </a:lnTo>
                  <a:lnTo>
                    <a:pt x="892" y="6418"/>
                  </a:lnTo>
                  <a:lnTo>
                    <a:pt x="919" y="6436"/>
                  </a:lnTo>
                  <a:lnTo>
                    <a:pt x="939" y="6452"/>
                  </a:lnTo>
                  <a:lnTo>
                    <a:pt x="966" y="6494"/>
                  </a:lnTo>
                  <a:lnTo>
                    <a:pt x="994" y="6536"/>
                  </a:lnTo>
                  <a:lnTo>
                    <a:pt x="1000" y="6562"/>
                  </a:lnTo>
                  <a:lnTo>
                    <a:pt x="1004" y="6593"/>
                  </a:lnTo>
                  <a:lnTo>
                    <a:pt x="1005" y="6611"/>
                  </a:lnTo>
                  <a:lnTo>
                    <a:pt x="1007" y="6629"/>
                  </a:lnTo>
                  <a:lnTo>
                    <a:pt x="1005" y="6650"/>
                  </a:lnTo>
                  <a:lnTo>
                    <a:pt x="1004" y="6670"/>
                  </a:lnTo>
                  <a:lnTo>
                    <a:pt x="1000" y="6690"/>
                  </a:lnTo>
                  <a:lnTo>
                    <a:pt x="994" y="6712"/>
                  </a:lnTo>
                  <a:lnTo>
                    <a:pt x="987" y="6733"/>
                  </a:lnTo>
                  <a:lnTo>
                    <a:pt x="977" y="6753"/>
                  </a:lnTo>
                  <a:lnTo>
                    <a:pt x="965" y="6775"/>
                  </a:lnTo>
                  <a:lnTo>
                    <a:pt x="951" y="6796"/>
                  </a:lnTo>
                  <a:lnTo>
                    <a:pt x="932" y="6817"/>
                  </a:lnTo>
                  <a:lnTo>
                    <a:pt x="912" y="6837"/>
                  </a:lnTo>
                  <a:lnTo>
                    <a:pt x="843" y="6897"/>
                  </a:lnTo>
                  <a:lnTo>
                    <a:pt x="1070" y="7158"/>
                  </a:lnTo>
                  <a:lnTo>
                    <a:pt x="1298" y="7419"/>
                  </a:lnTo>
                  <a:lnTo>
                    <a:pt x="1367" y="7358"/>
                  </a:lnTo>
                  <a:lnTo>
                    <a:pt x="1390" y="7339"/>
                  </a:lnTo>
                  <a:lnTo>
                    <a:pt x="1413" y="7325"/>
                  </a:lnTo>
                  <a:lnTo>
                    <a:pt x="1436" y="7314"/>
                  </a:lnTo>
                  <a:lnTo>
                    <a:pt x="1459" y="7305"/>
                  </a:lnTo>
                  <a:lnTo>
                    <a:pt x="1482" y="7298"/>
                  </a:lnTo>
                  <a:lnTo>
                    <a:pt x="1504" y="7293"/>
                  </a:lnTo>
                  <a:lnTo>
                    <a:pt x="1527" y="7290"/>
                  </a:lnTo>
                  <a:lnTo>
                    <a:pt x="1547" y="7290"/>
                  </a:lnTo>
                  <a:lnTo>
                    <a:pt x="1569" y="7290"/>
                  </a:lnTo>
                  <a:lnTo>
                    <a:pt x="1587" y="7293"/>
                  </a:lnTo>
                  <a:lnTo>
                    <a:pt x="1606" y="7296"/>
                  </a:lnTo>
                  <a:lnTo>
                    <a:pt x="1623" y="7301"/>
                  </a:lnTo>
                  <a:lnTo>
                    <a:pt x="1653" y="7311"/>
                  </a:lnTo>
                  <a:lnTo>
                    <a:pt x="1678" y="7319"/>
                  </a:lnTo>
                  <a:lnTo>
                    <a:pt x="1751" y="7383"/>
                  </a:lnTo>
                  <a:lnTo>
                    <a:pt x="1764" y="7406"/>
                  </a:lnTo>
                  <a:lnTo>
                    <a:pt x="1779" y="7435"/>
                  </a:lnTo>
                  <a:lnTo>
                    <a:pt x="1785" y="7450"/>
                  </a:lnTo>
                  <a:lnTo>
                    <a:pt x="1790" y="7469"/>
                  </a:lnTo>
                  <a:lnTo>
                    <a:pt x="1796" y="7488"/>
                  </a:lnTo>
                  <a:lnTo>
                    <a:pt x="1799" y="7508"/>
                  </a:lnTo>
                  <a:lnTo>
                    <a:pt x="1802" y="7530"/>
                  </a:lnTo>
                  <a:lnTo>
                    <a:pt x="1803" y="7551"/>
                  </a:lnTo>
                  <a:lnTo>
                    <a:pt x="1802" y="7574"/>
                  </a:lnTo>
                  <a:lnTo>
                    <a:pt x="1798" y="7597"/>
                  </a:lnTo>
                  <a:lnTo>
                    <a:pt x="1793" y="7622"/>
                  </a:lnTo>
                  <a:lnTo>
                    <a:pt x="1785" y="7646"/>
                  </a:lnTo>
                  <a:lnTo>
                    <a:pt x="1773" y="7671"/>
                  </a:lnTo>
                  <a:lnTo>
                    <a:pt x="1759" y="7695"/>
                  </a:lnTo>
                  <a:lnTo>
                    <a:pt x="1708" y="7773"/>
                  </a:lnTo>
                  <a:lnTo>
                    <a:pt x="2001" y="7960"/>
                  </a:lnTo>
                  <a:lnTo>
                    <a:pt x="2293" y="8146"/>
                  </a:lnTo>
                  <a:lnTo>
                    <a:pt x="2342" y="8068"/>
                  </a:lnTo>
                  <a:lnTo>
                    <a:pt x="2359" y="8045"/>
                  </a:lnTo>
                  <a:lnTo>
                    <a:pt x="2377" y="8025"/>
                  </a:lnTo>
                  <a:lnTo>
                    <a:pt x="2395" y="8006"/>
                  </a:lnTo>
                  <a:lnTo>
                    <a:pt x="2414" y="7992"/>
                  </a:lnTo>
                  <a:lnTo>
                    <a:pt x="2433" y="7979"/>
                  </a:lnTo>
                  <a:lnTo>
                    <a:pt x="2453" y="7969"/>
                  </a:lnTo>
                  <a:lnTo>
                    <a:pt x="2473" y="7960"/>
                  </a:lnTo>
                  <a:lnTo>
                    <a:pt x="2493" y="7953"/>
                  </a:lnTo>
                  <a:lnTo>
                    <a:pt x="2513" y="7949"/>
                  </a:lnTo>
                  <a:lnTo>
                    <a:pt x="2532" y="7944"/>
                  </a:lnTo>
                  <a:lnTo>
                    <a:pt x="2551" y="7941"/>
                  </a:lnTo>
                  <a:lnTo>
                    <a:pt x="2568" y="7941"/>
                  </a:lnTo>
                  <a:lnTo>
                    <a:pt x="2600" y="7941"/>
                  </a:lnTo>
                  <a:lnTo>
                    <a:pt x="2627" y="7943"/>
                  </a:lnTo>
                  <a:lnTo>
                    <a:pt x="2719" y="7985"/>
                  </a:lnTo>
                  <a:lnTo>
                    <a:pt x="2738" y="8003"/>
                  </a:lnTo>
                  <a:lnTo>
                    <a:pt x="2760" y="8028"/>
                  </a:lnTo>
                  <a:lnTo>
                    <a:pt x="2770" y="8042"/>
                  </a:lnTo>
                  <a:lnTo>
                    <a:pt x="2781" y="8057"/>
                  </a:lnTo>
                  <a:lnTo>
                    <a:pt x="2791" y="8074"/>
                  </a:lnTo>
                  <a:lnTo>
                    <a:pt x="2800" y="8093"/>
                  </a:lnTo>
                  <a:lnTo>
                    <a:pt x="2809" y="8111"/>
                  </a:lnTo>
                  <a:lnTo>
                    <a:pt x="2814" y="8132"/>
                  </a:lnTo>
                  <a:lnTo>
                    <a:pt x="2820" y="8155"/>
                  </a:lnTo>
                  <a:lnTo>
                    <a:pt x="2823" y="8178"/>
                  </a:lnTo>
                  <a:lnTo>
                    <a:pt x="2824" y="8202"/>
                  </a:lnTo>
                  <a:lnTo>
                    <a:pt x="2823" y="8228"/>
                  </a:lnTo>
                  <a:lnTo>
                    <a:pt x="2820" y="8254"/>
                  </a:lnTo>
                  <a:lnTo>
                    <a:pt x="2813" y="8281"/>
                  </a:lnTo>
                  <a:lnTo>
                    <a:pt x="2787" y="8371"/>
                  </a:lnTo>
                  <a:lnTo>
                    <a:pt x="3120" y="8467"/>
                  </a:lnTo>
                  <a:lnTo>
                    <a:pt x="3452" y="8564"/>
                  </a:lnTo>
                  <a:lnTo>
                    <a:pt x="3478" y="8476"/>
                  </a:lnTo>
                  <a:lnTo>
                    <a:pt x="3487" y="8448"/>
                  </a:lnTo>
                  <a:lnTo>
                    <a:pt x="3499" y="8424"/>
                  </a:lnTo>
                  <a:lnTo>
                    <a:pt x="3510" y="8402"/>
                  </a:lnTo>
                  <a:lnTo>
                    <a:pt x="3524" y="8382"/>
                  </a:lnTo>
                  <a:lnTo>
                    <a:pt x="3540" y="8365"/>
                  </a:lnTo>
                  <a:lnTo>
                    <a:pt x="3556" y="8349"/>
                  </a:lnTo>
                  <a:lnTo>
                    <a:pt x="3572" y="8335"/>
                  </a:lnTo>
                  <a:lnTo>
                    <a:pt x="3589" y="8323"/>
                  </a:lnTo>
                  <a:lnTo>
                    <a:pt x="3607" y="8312"/>
                  </a:lnTo>
                  <a:lnTo>
                    <a:pt x="3624" y="8303"/>
                  </a:lnTo>
                  <a:lnTo>
                    <a:pt x="3641" y="8296"/>
                  </a:lnTo>
                  <a:lnTo>
                    <a:pt x="3658" y="8290"/>
                  </a:lnTo>
                  <a:lnTo>
                    <a:pt x="3689" y="8281"/>
                  </a:lnTo>
                  <a:lnTo>
                    <a:pt x="3715" y="8276"/>
                  </a:lnTo>
                  <a:lnTo>
                    <a:pt x="3764" y="8281"/>
                  </a:lnTo>
                  <a:lnTo>
                    <a:pt x="3814" y="8289"/>
                  </a:lnTo>
                  <a:lnTo>
                    <a:pt x="3837" y="8300"/>
                  </a:lnTo>
                  <a:lnTo>
                    <a:pt x="3864" y="8316"/>
                  </a:lnTo>
                  <a:lnTo>
                    <a:pt x="3879" y="8327"/>
                  </a:lnTo>
                  <a:lnTo>
                    <a:pt x="3893" y="8339"/>
                  </a:lnTo>
                  <a:lnTo>
                    <a:pt x="3908" y="8352"/>
                  </a:lnTo>
                  <a:lnTo>
                    <a:pt x="3922" y="8366"/>
                  </a:lnTo>
                  <a:lnTo>
                    <a:pt x="3935" y="8384"/>
                  </a:lnTo>
                  <a:lnTo>
                    <a:pt x="3948" y="8401"/>
                  </a:lnTo>
                  <a:lnTo>
                    <a:pt x="3959" y="8421"/>
                  </a:lnTo>
                  <a:lnTo>
                    <a:pt x="3970" y="8443"/>
                  </a:lnTo>
                  <a:lnTo>
                    <a:pt x="3978" y="8466"/>
                  </a:lnTo>
                  <a:lnTo>
                    <a:pt x="3984" y="8492"/>
                  </a:lnTo>
                  <a:lnTo>
                    <a:pt x="3988" y="8519"/>
                  </a:lnTo>
                  <a:lnTo>
                    <a:pt x="3990" y="8548"/>
                  </a:lnTo>
                  <a:lnTo>
                    <a:pt x="3990" y="8640"/>
                  </a:lnTo>
                  <a:lnTo>
                    <a:pt x="4337" y="8639"/>
                  </a:lnTo>
                  <a:lnTo>
                    <a:pt x="4682" y="8639"/>
                  </a:lnTo>
                  <a:lnTo>
                    <a:pt x="4682" y="8546"/>
                  </a:lnTo>
                  <a:lnTo>
                    <a:pt x="4684" y="8518"/>
                  </a:lnTo>
                  <a:lnTo>
                    <a:pt x="4687" y="8490"/>
                  </a:lnTo>
                  <a:lnTo>
                    <a:pt x="4694" y="8464"/>
                  </a:lnTo>
                  <a:lnTo>
                    <a:pt x="4701" y="8441"/>
                  </a:lnTo>
                  <a:lnTo>
                    <a:pt x="4711" y="8420"/>
                  </a:lnTo>
                  <a:lnTo>
                    <a:pt x="4723" y="8399"/>
                  </a:lnTo>
                  <a:lnTo>
                    <a:pt x="4736" y="8382"/>
                  </a:lnTo>
                  <a:lnTo>
                    <a:pt x="4749" y="8365"/>
                  </a:lnTo>
                  <a:lnTo>
                    <a:pt x="4763" y="8351"/>
                  </a:lnTo>
                  <a:lnTo>
                    <a:pt x="4778" y="8336"/>
                  </a:lnTo>
                  <a:lnTo>
                    <a:pt x="4792" y="8325"/>
                  </a:lnTo>
                  <a:lnTo>
                    <a:pt x="4806" y="8315"/>
                  </a:lnTo>
                  <a:lnTo>
                    <a:pt x="4834" y="8297"/>
                  </a:lnTo>
                  <a:lnTo>
                    <a:pt x="4857" y="8286"/>
                  </a:lnTo>
                  <a:lnTo>
                    <a:pt x="4906" y="8280"/>
                  </a:lnTo>
                  <a:lnTo>
                    <a:pt x="4955" y="8273"/>
                  </a:lnTo>
                  <a:lnTo>
                    <a:pt x="4981" y="8277"/>
                  </a:lnTo>
                  <a:lnTo>
                    <a:pt x="5011" y="8286"/>
                  </a:lnTo>
                  <a:lnTo>
                    <a:pt x="5028" y="8291"/>
                  </a:lnTo>
                  <a:lnTo>
                    <a:pt x="5045" y="8300"/>
                  </a:lnTo>
                  <a:lnTo>
                    <a:pt x="5063" y="8309"/>
                  </a:lnTo>
                  <a:lnTo>
                    <a:pt x="5080" y="8319"/>
                  </a:lnTo>
                  <a:lnTo>
                    <a:pt x="5097" y="8330"/>
                  </a:lnTo>
                  <a:lnTo>
                    <a:pt x="5115" y="8345"/>
                  </a:lnTo>
                  <a:lnTo>
                    <a:pt x="5130" y="8361"/>
                  </a:lnTo>
                  <a:lnTo>
                    <a:pt x="5146" y="8378"/>
                  </a:lnTo>
                  <a:lnTo>
                    <a:pt x="5161" y="8398"/>
                  </a:lnTo>
                  <a:lnTo>
                    <a:pt x="5174" y="8420"/>
                  </a:lnTo>
                  <a:lnTo>
                    <a:pt x="5184" y="8444"/>
                  </a:lnTo>
                  <a:lnTo>
                    <a:pt x="5194" y="8471"/>
                  </a:lnTo>
                  <a:lnTo>
                    <a:pt x="5220" y="8559"/>
                  </a:lnTo>
                  <a:lnTo>
                    <a:pt x="5552" y="8461"/>
                  </a:lnTo>
                  <a:lnTo>
                    <a:pt x="5884" y="8363"/>
                  </a:lnTo>
                  <a:lnTo>
                    <a:pt x="5858" y="8276"/>
                  </a:lnTo>
                  <a:lnTo>
                    <a:pt x="5851" y="8247"/>
                  </a:lnTo>
                  <a:lnTo>
                    <a:pt x="5846" y="8219"/>
                  </a:lnTo>
                  <a:lnTo>
                    <a:pt x="5846" y="8194"/>
                  </a:lnTo>
                  <a:lnTo>
                    <a:pt x="5846" y="8169"/>
                  </a:lnTo>
                  <a:lnTo>
                    <a:pt x="5851" y="8146"/>
                  </a:lnTo>
                  <a:lnTo>
                    <a:pt x="5855" y="8124"/>
                  </a:lnTo>
                  <a:lnTo>
                    <a:pt x="5862" y="8103"/>
                  </a:lnTo>
                  <a:lnTo>
                    <a:pt x="5871" y="8084"/>
                  </a:lnTo>
                  <a:lnTo>
                    <a:pt x="5879" y="8065"/>
                  </a:lnTo>
                  <a:lnTo>
                    <a:pt x="5889" y="8050"/>
                  </a:lnTo>
                  <a:lnTo>
                    <a:pt x="5900" y="8034"/>
                  </a:lnTo>
                  <a:lnTo>
                    <a:pt x="5911" y="8019"/>
                  </a:lnTo>
                  <a:lnTo>
                    <a:pt x="5931" y="7995"/>
                  </a:lnTo>
                  <a:lnTo>
                    <a:pt x="5951" y="7977"/>
                  </a:lnTo>
                  <a:lnTo>
                    <a:pt x="5997" y="7956"/>
                  </a:lnTo>
                  <a:lnTo>
                    <a:pt x="6044" y="7936"/>
                  </a:lnTo>
                  <a:lnTo>
                    <a:pt x="6070" y="7933"/>
                  </a:lnTo>
                  <a:lnTo>
                    <a:pt x="6101" y="7933"/>
                  </a:lnTo>
                  <a:lnTo>
                    <a:pt x="6120" y="7934"/>
                  </a:lnTo>
                  <a:lnTo>
                    <a:pt x="6139" y="7936"/>
                  </a:lnTo>
                  <a:lnTo>
                    <a:pt x="6157" y="7940"/>
                  </a:lnTo>
                  <a:lnTo>
                    <a:pt x="6176" y="7944"/>
                  </a:lnTo>
                  <a:lnTo>
                    <a:pt x="6196" y="7952"/>
                  </a:lnTo>
                  <a:lnTo>
                    <a:pt x="6216" y="7960"/>
                  </a:lnTo>
                  <a:lnTo>
                    <a:pt x="6237" y="7970"/>
                  </a:lnTo>
                  <a:lnTo>
                    <a:pt x="6255" y="7983"/>
                  </a:lnTo>
                  <a:lnTo>
                    <a:pt x="6275" y="7998"/>
                  </a:lnTo>
                  <a:lnTo>
                    <a:pt x="6293" y="8016"/>
                  </a:lnTo>
                  <a:lnTo>
                    <a:pt x="6311" y="8037"/>
                  </a:lnTo>
                  <a:lnTo>
                    <a:pt x="6327" y="8060"/>
                  </a:lnTo>
                  <a:lnTo>
                    <a:pt x="6378" y="8137"/>
                  </a:lnTo>
                  <a:lnTo>
                    <a:pt x="6669" y="7949"/>
                  </a:lnTo>
                  <a:lnTo>
                    <a:pt x="6960" y="7761"/>
                  </a:lnTo>
                  <a:lnTo>
                    <a:pt x="6909" y="7684"/>
                  </a:lnTo>
                  <a:lnTo>
                    <a:pt x="6895" y="7658"/>
                  </a:lnTo>
                  <a:lnTo>
                    <a:pt x="6883" y="7633"/>
                  </a:lnTo>
                  <a:lnTo>
                    <a:pt x="6875" y="7609"/>
                  </a:lnTo>
                  <a:lnTo>
                    <a:pt x="6869" y="7584"/>
                  </a:lnTo>
                  <a:lnTo>
                    <a:pt x="6866" y="7561"/>
                  </a:lnTo>
                  <a:lnTo>
                    <a:pt x="6865" y="7538"/>
                  </a:lnTo>
                  <a:lnTo>
                    <a:pt x="6866" y="7515"/>
                  </a:lnTo>
                  <a:lnTo>
                    <a:pt x="6867" y="7495"/>
                  </a:lnTo>
                  <a:lnTo>
                    <a:pt x="6872" y="7475"/>
                  </a:lnTo>
                  <a:lnTo>
                    <a:pt x="6878" y="7455"/>
                  </a:lnTo>
                  <a:lnTo>
                    <a:pt x="6883" y="7437"/>
                  </a:lnTo>
                  <a:lnTo>
                    <a:pt x="6889" y="7420"/>
                  </a:lnTo>
                  <a:lnTo>
                    <a:pt x="6903" y="7391"/>
                  </a:lnTo>
                  <a:lnTo>
                    <a:pt x="6916" y="7370"/>
                  </a:lnTo>
                  <a:lnTo>
                    <a:pt x="6988" y="7308"/>
                  </a:lnTo>
                  <a:lnTo>
                    <a:pt x="7011" y="7298"/>
                  </a:lnTo>
                  <a:lnTo>
                    <a:pt x="7043" y="7288"/>
                  </a:lnTo>
                  <a:lnTo>
                    <a:pt x="7060" y="7283"/>
                  </a:lnTo>
                  <a:lnTo>
                    <a:pt x="7079" y="7280"/>
                  </a:lnTo>
                  <a:lnTo>
                    <a:pt x="7098" y="7279"/>
                  </a:lnTo>
                  <a:lnTo>
                    <a:pt x="7118" y="7278"/>
                  </a:lnTo>
                  <a:lnTo>
                    <a:pt x="7140" y="7278"/>
                  </a:lnTo>
                  <a:lnTo>
                    <a:pt x="7161" y="7280"/>
                  </a:lnTo>
                  <a:lnTo>
                    <a:pt x="7184" y="7285"/>
                  </a:lnTo>
                  <a:lnTo>
                    <a:pt x="7207" y="7290"/>
                  </a:lnTo>
                  <a:lnTo>
                    <a:pt x="7230" y="7301"/>
                  </a:lnTo>
                  <a:lnTo>
                    <a:pt x="7253" y="7312"/>
                  </a:lnTo>
                  <a:lnTo>
                    <a:pt x="7276" y="7327"/>
                  </a:lnTo>
                  <a:lnTo>
                    <a:pt x="7300" y="7345"/>
                  </a:lnTo>
                  <a:lnTo>
                    <a:pt x="7369" y="7404"/>
                  </a:lnTo>
                  <a:lnTo>
                    <a:pt x="7596" y="7142"/>
                  </a:lnTo>
                  <a:lnTo>
                    <a:pt x="7822" y="6880"/>
                  </a:lnTo>
                  <a:lnTo>
                    <a:pt x="7752" y="6821"/>
                  </a:lnTo>
                  <a:lnTo>
                    <a:pt x="7732" y="6801"/>
                  </a:lnTo>
                  <a:lnTo>
                    <a:pt x="7713" y="6779"/>
                  </a:lnTo>
                  <a:lnTo>
                    <a:pt x="7699" y="6759"/>
                  </a:lnTo>
                  <a:lnTo>
                    <a:pt x="7686" y="6737"/>
                  </a:lnTo>
                  <a:lnTo>
                    <a:pt x="7675" y="6716"/>
                  </a:lnTo>
                  <a:lnTo>
                    <a:pt x="7668" y="6694"/>
                  </a:lnTo>
                  <a:lnTo>
                    <a:pt x="7663" y="6673"/>
                  </a:lnTo>
                  <a:lnTo>
                    <a:pt x="7660" y="6652"/>
                  </a:lnTo>
                  <a:lnTo>
                    <a:pt x="7657" y="6631"/>
                  </a:lnTo>
                  <a:lnTo>
                    <a:pt x="7657" y="6612"/>
                  </a:lnTo>
                  <a:lnTo>
                    <a:pt x="7657" y="6593"/>
                  </a:lnTo>
                  <a:lnTo>
                    <a:pt x="7658" y="6575"/>
                  </a:lnTo>
                  <a:lnTo>
                    <a:pt x="7664" y="6543"/>
                  </a:lnTo>
                  <a:lnTo>
                    <a:pt x="7670" y="6519"/>
                  </a:lnTo>
                  <a:lnTo>
                    <a:pt x="7723" y="6436"/>
                  </a:lnTo>
                  <a:lnTo>
                    <a:pt x="7743" y="6421"/>
                  </a:lnTo>
                  <a:lnTo>
                    <a:pt x="7769" y="6402"/>
                  </a:lnTo>
                  <a:lnTo>
                    <a:pt x="7785" y="6393"/>
                  </a:lnTo>
                  <a:lnTo>
                    <a:pt x="7802" y="6386"/>
                  </a:lnTo>
                  <a:lnTo>
                    <a:pt x="7819" y="6377"/>
                  </a:lnTo>
                  <a:lnTo>
                    <a:pt x="7840" y="6372"/>
                  </a:lnTo>
                  <a:lnTo>
                    <a:pt x="7860" y="6366"/>
                  </a:lnTo>
                  <a:lnTo>
                    <a:pt x="7881" y="6362"/>
                  </a:lnTo>
                  <a:lnTo>
                    <a:pt x="7904" y="6360"/>
                  </a:lnTo>
                  <a:lnTo>
                    <a:pt x="7928" y="6360"/>
                  </a:lnTo>
                  <a:lnTo>
                    <a:pt x="7952" y="6362"/>
                  </a:lnTo>
                  <a:lnTo>
                    <a:pt x="7978" y="6367"/>
                  </a:lnTo>
                  <a:lnTo>
                    <a:pt x="8004" y="6375"/>
                  </a:lnTo>
                  <a:lnTo>
                    <a:pt x="8031" y="6385"/>
                  </a:lnTo>
                  <a:lnTo>
                    <a:pt x="8115" y="6423"/>
                  </a:lnTo>
                  <a:lnTo>
                    <a:pt x="8259" y="6108"/>
                  </a:lnTo>
                  <a:lnTo>
                    <a:pt x="8401" y="5793"/>
                  </a:lnTo>
                  <a:lnTo>
                    <a:pt x="8318" y="5755"/>
                  </a:lnTo>
                  <a:lnTo>
                    <a:pt x="8292" y="5742"/>
                  </a:lnTo>
                  <a:lnTo>
                    <a:pt x="8270" y="5728"/>
                  </a:lnTo>
                  <a:lnTo>
                    <a:pt x="8250" y="5712"/>
                  </a:lnTo>
                  <a:lnTo>
                    <a:pt x="8231" y="5695"/>
                  </a:lnTo>
                  <a:lnTo>
                    <a:pt x="8217" y="5677"/>
                  </a:lnTo>
                  <a:lnTo>
                    <a:pt x="8203" y="5659"/>
                  </a:lnTo>
                  <a:lnTo>
                    <a:pt x="8193" y="5641"/>
                  </a:lnTo>
                  <a:lnTo>
                    <a:pt x="8182" y="5623"/>
                  </a:lnTo>
                  <a:lnTo>
                    <a:pt x="8175" y="5604"/>
                  </a:lnTo>
                  <a:lnTo>
                    <a:pt x="8168" y="5585"/>
                  </a:lnTo>
                  <a:lnTo>
                    <a:pt x="8164" y="5567"/>
                  </a:lnTo>
                  <a:lnTo>
                    <a:pt x="8159" y="5549"/>
                  </a:lnTo>
                  <a:lnTo>
                    <a:pt x="8155" y="5518"/>
                  </a:lnTo>
                  <a:lnTo>
                    <a:pt x="8154" y="5492"/>
                  </a:lnTo>
                  <a:lnTo>
                    <a:pt x="8168" y="5443"/>
                  </a:lnTo>
                  <a:lnTo>
                    <a:pt x="8181" y="5394"/>
                  </a:lnTo>
                  <a:lnTo>
                    <a:pt x="8197" y="5374"/>
                  </a:lnTo>
                  <a:lnTo>
                    <a:pt x="8217" y="5349"/>
                  </a:lnTo>
                  <a:lnTo>
                    <a:pt x="8230" y="5336"/>
                  </a:lnTo>
                  <a:lnTo>
                    <a:pt x="8243" y="5323"/>
                  </a:lnTo>
                  <a:lnTo>
                    <a:pt x="8259" y="5310"/>
                  </a:lnTo>
                  <a:lnTo>
                    <a:pt x="8276" y="5299"/>
                  </a:lnTo>
                  <a:lnTo>
                    <a:pt x="8293" y="5289"/>
                  </a:lnTo>
                  <a:lnTo>
                    <a:pt x="8314" y="5278"/>
                  </a:lnTo>
                  <a:lnTo>
                    <a:pt x="8334" y="5270"/>
                  </a:lnTo>
                  <a:lnTo>
                    <a:pt x="8357" y="5263"/>
                  </a:lnTo>
                  <a:lnTo>
                    <a:pt x="8381" y="5258"/>
                  </a:lnTo>
                  <a:lnTo>
                    <a:pt x="8407" y="5255"/>
                  </a:lnTo>
                  <a:lnTo>
                    <a:pt x="8433" y="5255"/>
                  </a:lnTo>
                  <a:lnTo>
                    <a:pt x="8462" y="5258"/>
                  </a:lnTo>
                  <a:lnTo>
                    <a:pt x="8554" y="5271"/>
                  </a:lnTo>
                  <a:lnTo>
                    <a:pt x="8603" y="4929"/>
                  </a:lnTo>
                  <a:lnTo>
                    <a:pt x="8652" y="4586"/>
                  </a:lnTo>
                  <a:lnTo>
                    <a:pt x="8560" y="4573"/>
                  </a:lnTo>
                  <a:close/>
                </a:path>
              </a:pathLst>
            </a:custGeom>
            <a:solidFill>
              <a:srgbClr val="191100"/>
            </a:solidFill>
            <a:ln w="12600">
              <a:solidFill>
                <a:srgbClr val="ffffff"/>
              </a:solidFill>
              <a:round/>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660" name="Oval 70"/>
            <p:cNvSpPr/>
            <p:nvPr/>
          </p:nvSpPr>
          <p:spPr>
            <a:xfrm>
              <a:off x="2889360" y="1722960"/>
              <a:ext cx="3049200" cy="3048480"/>
            </a:xfrm>
            <a:prstGeom prst="ellipse">
              <a:avLst/>
            </a:prstGeom>
            <a:solidFill>
              <a:srgbClr val="2a1d05"/>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72"/>
            <p:cNvSpPr/>
            <p:nvPr/>
          </p:nvSpPr>
          <p:spPr>
            <a:xfrm>
              <a:off x="3193920" y="2028600"/>
              <a:ext cx="2440080" cy="243720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73"/>
            <p:cNvSpPr/>
            <p:nvPr/>
          </p:nvSpPr>
          <p:spPr>
            <a:xfrm>
              <a:off x="3498840" y="2331720"/>
              <a:ext cx="1830240" cy="1830600"/>
            </a:xfrm>
            <a:prstGeom prst="ellipse">
              <a:avLst/>
            </a:prstGeom>
            <a:solidFill>
              <a:srgbClr val="6d41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74"/>
            <p:cNvSpPr/>
            <p:nvPr/>
          </p:nvSpPr>
          <p:spPr>
            <a:xfrm>
              <a:off x="3803760" y="2636640"/>
              <a:ext cx="1220760" cy="1220760"/>
            </a:xfrm>
            <a:prstGeom prst="ellipse">
              <a:avLst/>
            </a:prstGeom>
            <a:solidFill>
              <a:srgbClr val="8459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75"/>
            <p:cNvSpPr/>
            <p:nvPr/>
          </p:nvSpPr>
          <p:spPr>
            <a:xfrm>
              <a:off x="4108680" y="2941560"/>
              <a:ext cx="610920" cy="611280"/>
            </a:xfrm>
            <a:prstGeom prst="ellipse">
              <a:avLst/>
            </a:prstGeom>
            <a:solidFill>
              <a:srgbClr val="ad80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Group 11"/>
          <p:cNvGrpSpPr/>
          <p:nvPr/>
        </p:nvGrpSpPr>
        <p:grpSpPr>
          <a:xfrm>
            <a:off x="299880" y="838080"/>
            <a:ext cx="1617840" cy="4939920"/>
            <a:chOff x="299880" y="838080"/>
            <a:chExt cx="1617840" cy="4939920"/>
          </a:xfrm>
        </p:grpSpPr>
        <p:grpSp>
          <p:nvGrpSpPr>
            <p:cNvPr id="666" name="Group 12"/>
            <p:cNvGrpSpPr/>
            <p:nvPr/>
          </p:nvGrpSpPr>
          <p:grpSpPr>
            <a:xfrm>
              <a:off x="299880" y="838080"/>
              <a:ext cx="1617840" cy="4939920"/>
              <a:chOff x="299880" y="838080"/>
              <a:chExt cx="1617840" cy="4939920"/>
            </a:xfrm>
          </p:grpSpPr>
          <p:grpSp>
            <p:nvGrpSpPr>
              <p:cNvPr id="667" name="Group 13"/>
              <p:cNvGrpSpPr/>
              <p:nvPr/>
            </p:nvGrpSpPr>
            <p:grpSpPr>
              <a:xfrm>
                <a:off x="299880" y="838080"/>
                <a:ext cx="1617840" cy="422640"/>
                <a:chOff x="299880" y="838080"/>
                <a:chExt cx="1617840" cy="422640"/>
              </a:xfrm>
            </p:grpSpPr>
            <p:sp>
              <p:nvSpPr>
                <p:cNvPr id="668" name="Freeform 5"/>
                <p:cNvSpPr/>
                <p:nvPr/>
              </p:nvSpPr>
              <p:spPr>
                <a:xfrm>
                  <a:off x="315720" y="1139760"/>
                  <a:ext cx="1586160" cy="73080"/>
                </a:xfrm>
                <a:custGeom>
                  <a:avLst/>
                  <a:gdLst/>
                  <a:ahLst/>
                  <a:rect l="l" t="t" r="r" b="b"/>
                  <a:pathLst>
                    <a:path w="11288" h="728">
                      <a:moveTo>
                        <a:pt x="10819" y="728"/>
                      </a:moveTo>
                      <a:lnTo>
                        <a:pt x="10819" y="728"/>
                      </a:lnTo>
                      <a:lnTo>
                        <a:pt x="10868" y="726"/>
                      </a:lnTo>
                      <a:lnTo>
                        <a:pt x="10915" y="721"/>
                      </a:lnTo>
                      <a:lnTo>
                        <a:pt x="10960" y="711"/>
                      </a:lnTo>
                      <a:lnTo>
                        <a:pt x="11003" y="699"/>
                      </a:lnTo>
                      <a:lnTo>
                        <a:pt x="11044" y="683"/>
                      </a:lnTo>
                      <a:lnTo>
                        <a:pt x="11083" y="666"/>
                      </a:lnTo>
                      <a:lnTo>
                        <a:pt x="11118" y="644"/>
                      </a:lnTo>
                      <a:lnTo>
                        <a:pt x="11151" y="621"/>
                      </a:lnTo>
                      <a:lnTo>
                        <a:pt x="11182" y="596"/>
                      </a:lnTo>
                      <a:lnTo>
                        <a:pt x="11208" y="566"/>
                      </a:lnTo>
                      <a:lnTo>
                        <a:pt x="11231" y="537"/>
                      </a:lnTo>
                      <a:lnTo>
                        <a:pt x="11251" y="506"/>
                      </a:lnTo>
                      <a:lnTo>
                        <a:pt x="11268" y="473"/>
                      </a:lnTo>
                      <a:lnTo>
                        <a:pt x="11278" y="437"/>
                      </a:lnTo>
                      <a:lnTo>
                        <a:pt x="11284" y="418"/>
                      </a:lnTo>
                      <a:lnTo>
                        <a:pt x="11286" y="400"/>
                      </a:lnTo>
                      <a:lnTo>
                        <a:pt x="11288" y="383"/>
                      </a:lnTo>
                      <a:lnTo>
                        <a:pt x="11288" y="363"/>
                      </a:lnTo>
                      <a:lnTo>
                        <a:pt x="11288" y="344"/>
                      </a:lnTo>
                      <a:lnTo>
                        <a:pt x="11286" y="326"/>
                      </a:lnTo>
                      <a:lnTo>
                        <a:pt x="11284" y="308"/>
                      </a:lnTo>
                      <a:lnTo>
                        <a:pt x="11278" y="289"/>
                      </a:lnTo>
                      <a:lnTo>
                        <a:pt x="11268" y="256"/>
                      </a:lnTo>
                      <a:lnTo>
                        <a:pt x="11251" y="221"/>
                      </a:lnTo>
                      <a:lnTo>
                        <a:pt x="11231" y="189"/>
                      </a:lnTo>
                      <a:lnTo>
                        <a:pt x="11208" y="160"/>
                      </a:lnTo>
                      <a:lnTo>
                        <a:pt x="11182" y="131"/>
                      </a:lnTo>
                      <a:lnTo>
                        <a:pt x="11151" y="105"/>
                      </a:lnTo>
                      <a:lnTo>
                        <a:pt x="11118" y="82"/>
                      </a:lnTo>
                      <a:lnTo>
                        <a:pt x="11083" y="60"/>
                      </a:lnTo>
                      <a:lnTo>
                        <a:pt x="11044" y="43"/>
                      </a:lnTo>
                      <a:lnTo>
                        <a:pt x="11003" y="27"/>
                      </a:lnTo>
                      <a:lnTo>
                        <a:pt x="10960" y="16"/>
                      </a:lnTo>
                      <a:lnTo>
                        <a:pt x="10915" y="6"/>
                      </a:lnTo>
                      <a:lnTo>
                        <a:pt x="10868" y="2"/>
                      </a:lnTo>
                      <a:lnTo>
                        <a:pt x="10819" y="0"/>
                      </a:lnTo>
                      <a:lnTo>
                        <a:pt x="469" y="0"/>
                      </a:lnTo>
                      <a:lnTo>
                        <a:pt x="422" y="2"/>
                      </a:lnTo>
                      <a:lnTo>
                        <a:pt x="375" y="6"/>
                      </a:lnTo>
                      <a:lnTo>
                        <a:pt x="330" y="16"/>
                      </a:lnTo>
                      <a:lnTo>
                        <a:pt x="287" y="27"/>
                      </a:lnTo>
                      <a:lnTo>
                        <a:pt x="246" y="43"/>
                      </a:lnTo>
                      <a:lnTo>
                        <a:pt x="207" y="60"/>
                      </a:lnTo>
                      <a:lnTo>
                        <a:pt x="172" y="82"/>
                      </a:lnTo>
                      <a:lnTo>
                        <a:pt x="139" y="105"/>
                      </a:lnTo>
                      <a:lnTo>
                        <a:pt x="108" y="131"/>
                      </a:lnTo>
                      <a:lnTo>
                        <a:pt x="80" y="160"/>
                      </a:lnTo>
                      <a:lnTo>
                        <a:pt x="57" y="189"/>
                      </a:lnTo>
                      <a:lnTo>
                        <a:pt x="37" y="221"/>
                      </a:lnTo>
                      <a:lnTo>
                        <a:pt x="22" y="256"/>
                      </a:lnTo>
                      <a:lnTo>
                        <a:pt x="10" y="289"/>
                      </a:lnTo>
                      <a:lnTo>
                        <a:pt x="6" y="308"/>
                      </a:lnTo>
                      <a:lnTo>
                        <a:pt x="4" y="326"/>
                      </a:lnTo>
                      <a:lnTo>
                        <a:pt x="2" y="344"/>
                      </a:lnTo>
                      <a:lnTo>
                        <a:pt x="0" y="363"/>
                      </a:lnTo>
                      <a:lnTo>
                        <a:pt x="2" y="383"/>
                      </a:lnTo>
                      <a:lnTo>
                        <a:pt x="4" y="400"/>
                      </a:lnTo>
                      <a:lnTo>
                        <a:pt x="6" y="418"/>
                      </a:lnTo>
                      <a:lnTo>
                        <a:pt x="10" y="437"/>
                      </a:lnTo>
                      <a:lnTo>
                        <a:pt x="22" y="473"/>
                      </a:lnTo>
                      <a:lnTo>
                        <a:pt x="37" y="506"/>
                      </a:lnTo>
                      <a:lnTo>
                        <a:pt x="57" y="537"/>
                      </a:lnTo>
                      <a:lnTo>
                        <a:pt x="80" y="566"/>
                      </a:lnTo>
                      <a:lnTo>
                        <a:pt x="108" y="596"/>
                      </a:lnTo>
                      <a:lnTo>
                        <a:pt x="139" y="621"/>
                      </a:lnTo>
                      <a:lnTo>
                        <a:pt x="172" y="644"/>
                      </a:lnTo>
                      <a:lnTo>
                        <a:pt x="207" y="666"/>
                      </a:lnTo>
                      <a:lnTo>
                        <a:pt x="246" y="683"/>
                      </a:lnTo>
                      <a:lnTo>
                        <a:pt x="287" y="699"/>
                      </a:lnTo>
                      <a:lnTo>
                        <a:pt x="330" y="711"/>
                      </a:lnTo>
                      <a:lnTo>
                        <a:pt x="375" y="721"/>
                      </a:lnTo>
                      <a:lnTo>
                        <a:pt x="422" y="726"/>
                      </a:lnTo>
                      <a:lnTo>
                        <a:pt x="469" y="728"/>
                      </a:lnTo>
                      <a:lnTo>
                        <a:pt x="10819" y="728"/>
                      </a:lnTo>
                      <a:close/>
                    </a:path>
                  </a:pathLst>
                </a:custGeom>
                <a:gradFill rotWithShape="0">
                  <a:gsLst>
                    <a:gs pos="0">
                      <a:srgbClr val="7c7c7c"/>
                    </a:gs>
                    <a:gs pos="100000">
                      <a:srgbClr val="a0a0a0"/>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669" name="Freeform 6"/>
                <p:cNvSpPr/>
                <p:nvPr/>
              </p:nvSpPr>
              <p:spPr>
                <a:xfrm>
                  <a:off x="315720" y="939600"/>
                  <a:ext cx="1586160" cy="73080"/>
                </a:xfrm>
                <a:custGeom>
                  <a:avLst/>
                  <a:gdLst/>
                  <a:ahLst/>
                  <a:rect l="l" t="t" r="r" b="b"/>
                  <a:pathLst>
                    <a:path w="11288" h="729">
                      <a:moveTo>
                        <a:pt x="10819" y="729"/>
                      </a:moveTo>
                      <a:lnTo>
                        <a:pt x="10819" y="729"/>
                      </a:lnTo>
                      <a:lnTo>
                        <a:pt x="10868" y="727"/>
                      </a:lnTo>
                      <a:lnTo>
                        <a:pt x="10915" y="721"/>
                      </a:lnTo>
                      <a:lnTo>
                        <a:pt x="10960" y="713"/>
                      </a:lnTo>
                      <a:lnTo>
                        <a:pt x="11003" y="699"/>
                      </a:lnTo>
                      <a:lnTo>
                        <a:pt x="11044" y="686"/>
                      </a:lnTo>
                      <a:lnTo>
                        <a:pt x="11083" y="666"/>
                      </a:lnTo>
                      <a:lnTo>
                        <a:pt x="11118" y="647"/>
                      </a:lnTo>
                      <a:lnTo>
                        <a:pt x="11151" y="623"/>
                      </a:lnTo>
                      <a:lnTo>
                        <a:pt x="11182" y="596"/>
                      </a:lnTo>
                      <a:lnTo>
                        <a:pt x="11208" y="569"/>
                      </a:lnTo>
                      <a:lnTo>
                        <a:pt x="11231" y="539"/>
                      </a:lnTo>
                      <a:lnTo>
                        <a:pt x="11251" y="506"/>
                      </a:lnTo>
                      <a:lnTo>
                        <a:pt x="11268" y="473"/>
                      </a:lnTo>
                      <a:lnTo>
                        <a:pt x="11278" y="438"/>
                      </a:lnTo>
                      <a:lnTo>
                        <a:pt x="11284" y="420"/>
                      </a:lnTo>
                      <a:lnTo>
                        <a:pt x="11286" y="403"/>
                      </a:lnTo>
                      <a:lnTo>
                        <a:pt x="11288" y="383"/>
                      </a:lnTo>
                      <a:lnTo>
                        <a:pt x="11288" y="365"/>
                      </a:lnTo>
                      <a:lnTo>
                        <a:pt x="11288" y="346"/>
                      </a:lnTo>
                      <a:lnTo>
                        <a:pt x="11286" y="328"/>
                      </a:lnTo>
                      <a:lnTo>
                        <a:pt x="11284" y="309"/>
                      </a:lnTo>
                      <a:lnTo>
                        <a:pt x="11278" y="291"/>
                      </a:lnTo>
                      <a:lnTo>
                        <a:pt x="11268" y="256"/>
                      </a:lnTo>
                      <a:lnTo>
                        <a:pt x="11251" y="223"/>
                      </a:lnTo>
                      <a:lnTo>
                        <a:pt x="11231" y="192"/>
                      </a:lnTo>
                      <a:lnTo>
                        <a:pt x="11208" y="160"/>
                      </a:lnTo>
                      <a:lnTo>
                        <a:pt x="11182" y="133"/>
                      </a:lnTo>
                      <a:lnTo>
                        <a:pt x="11151" y="108"/>
                      </a:lnTo>
                      <a:lnTo>
                        <a:pt x="11118" y="84"/>
                      </a:lnTo>
                      <a:lnTo>
                        <a:pt x="11083" y="63"/>
                      </a:lnTo>
                      <a:lnTo>
                        <a:pt x="11044" y="45"/>
                      </a:lnTo>
                      <a:lnTo>
                        <a:pt x="11003" y="30"/>
                      </a:lnTo>
                      <a:lnTo>
                        <a:pt x="10960" y="18"/>
                      </a:lnTo>
                      <a:lnTo>
                        <a:pt x="10915" y="8"/>
                      </a:lnTo>
                      <a:lnTo>
                        <a:pt x="10868" y="2"/>
                      </a:lnTo>
                      <a:lnTo>
                        <a:pt x="10819" y="0"/>
                      </a:lnTo>
                      <a:lnTo>
                        <a:pt x="469" y="0"/>
                      </a:lnTo>
                      <a:lnTo>
                        <a:pt x="422" y="2"/>
                      </a:lnTo>
                      <a:lnTo>
                        <a:pt x="375" y="8"/>
                      </a:lnTo>
                      <a:lnTo>
                        <a:pt x="330" y="18"/>
                      </a:lnTo>
                      <a:lnTo>
                        <a:pt x="287" y="30"/>
                      </a:lnTo>
                      <a:lnTo>
                        <a:pt x="246" y="45"/>
                      </a:lnTo>
                      <a:lnTo>
                        <a:pt x="207" y="63"/>
                      </a:lnTo>
                      <a:lnTo>
                        <a:pt x="172" y="84"/>
                      </a:lnTo>
                      <a:lnTo>
                        <a:pt x="139" y="108"/>
                      </a:lnTo>
                      <a:lnTo>
                        <a:pt x="108" y="133"/>
                      </a:lnTo>
                      <a:lnTo>
                        <a:pt x="80" y="160"/>
                      </a:lnTo>
                      <a:lnTo>
                        <a:pt x="57" y="192"/>
                      </a:lnTo>
                      <a:lnTo>
                        <a:pt x="37" y="223"/>
                      </a:lnTo>
                      <a:lnTo>
                        <a:pt x="22" y="256"/>
                      </a:lnTo>
                      <a:lnTo>
                        <a:pt x="10" y="291"/>
                      </a:lnTo>
                      <a:lnTo>
                        <a:pt x="6" y="309"/>
                      </a:lnTo>
                      <a:lnTo>
                        <a:pt x="4" y="328"/>
                      </a:lnTo>
                      <a:lnTo>
                        <a:pt x="2" y="346"/>
                      </a:lnTo>
                      <a:lnTo>
                        <a:pt x="0" y="365"/>
                      </a:lnTo>
                      <a:lnTo>
                        <a:pt x="2" y="383"/>
                      </a:lnTo>
                      <a:lnTo>
                        <a:pt x="4" y="403"/>
                      </a:lnTo>
                      <a:lnTo>
                        <a:pt x="6" y="420"/>
                      </a:lnTo>
                      <a:lnTo>
                        <a:pt x="10" y="438"/>
                      </a:lnTo>
                      <a:lnTo>
                        <a:pt x="22" y="473"/>
                      </a:lnTo>
                      <a:lnTo>
                        <a:pt x="37" y="506"/>
                      </a:lnTo>
                      <a:lnTo>
                        <a:pt x="57" y="539"/>
                      </a:lnTo>
                      <a:lnTo>
                        <a:pt x="80" y="569"/>
                      </a:lnTo>
                      <a:lnTo>
                        <a:pt x="108" y="596"/>
                      </a:lnTo>
                      <a:lnTo>
                        <a:pt x="139" y="623"/>
                      </a:lnTo>
                      <a:lnTo>
                        <a:pt x="172" y="647"/>
                      </a:lnTo>
                      <a:lnTo>
                        <a:pt x="207" y="666"/>
                      </a:lnTo>
                      <a:lnTo>
                        <a:pt x="246" y="686"/>
                      </a:lnTo>
                      <a:lnTo>
                        <a:pt x="287" y="699"/>
                      </a:lnTo>
                      <a:lnTo>
                        <a:pt x="330" y="713"/>
                      </a:lnTo>
                      <a:lnTo>
                        <a:pt x="375" y="721"/>
                      </a:lnTo>
                      <a:lnTo>
                        <a:pt x="422" y="727"/>
                      </a:lnTo>
                      <a:lnTo>
                        <a:pt x="469" y="729"/>
                      </a:lnTo>
                      <a:lnTo>
                        <a:pt x="10819" y="729"/>
                      </a:lnTo>
                      <a:close/>
                    </a:path>
                  </a:pathLst>
                </a:custGeom>
                <a:gradFill rotWithShape="0">
                  <a:gsLst>
                    <a:gs pos="0">
                      <a:srgbClr val="7c7c7c"/>
                    </a:gs>
                    <a:gs pos="100000">
                      <a:srgbClr val="a0a0a0"/>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670" name="Freeform 7"/>
                <p:cNvSpPr/>
                <p:nvPr/>
              </p:nvSpPr>
              <p:spPr>
                <a:xfrm>
                  <a:off x="336240" y="917280"/>
                  <a:ext cx="1545120" cy="27000"/>
                </a:xfrm>
                <a:custGeom>
                  <a:avLst/>
                  <a:gdLst/>
                  <a:ahLst/>
                  <a:rect l="l" t="t" r="r" b="b"/>
                  <a:pathLst>
                    <a:path w="10992" h="267">
                      <a:moveTo>
                        <a:pt x="10820" y="267"/>
                      </a:moveTo>
                      <a:lnTo>
                        <a:pt x="10820" y="267"/>
                      </a:lnTo>
                      <a:lnTo>
                        <a:pt x="10838" y="267"/>
                      </a:lnTo>
                      <a:lnTo>
                        <a:pt x="10854" y="265"/>
                      </a:lnTo>
                      <a:lnTo>
                        <a:pt x="10871" y="261"/>
                      </a:lnTo>
                      <a:lnTo>
                        <a:pt x="10887" y="257"/>
                      </a:lnTo>
                      <a:lnTo>
                        <a:pt x="10902" y="252"/>
                      </a:lnTo>
                      <a:lnTo>
                        <a:pt x="10916" y="244"/>
                      </a:lnTo>
                      <a:lnTo>
                        <a:pt x="10930" y="238"/>
                      </a:lnTo>
                      <a:lnTo>
                        <a:pt x="10942" y="228"/>
                      </a:lnTo>
                      <a:lnTo>
                        <a:pt x="10953" y="218"/>
                      </a:lnTo>
                      <a:lnTo>
                        <a:pt x="10963" y="209"/>
                      </a:lnTo>
                      <a:lnTo>
                        <a:pt x="10971" y="197"/>
                      </a:lnTo>
                      <a:lnTo>
                        <a:pt x="10979" y="185"/>
                      </a:lnTo>
                      <a:lnTo>
                        <a:pt x="10985" y="174"/>
                      </a:lnTo>
                      <a:lnTo>
                        <a:pt x="10988" y="160"/>
                      </a:lnTo>
                      <a:lnTo>
                        <a:pt x="10992" y="148"/>
                      </a:lnTo>
                      <a:lnTo>
                        <a:pt x="10992" y="134"/>
                      </a:lnTo>
                      <a:lnTo>
                        <a:pt x="10992" y="121"/>
                      </a:lnTo>
                      <a:lnTo>
                        <a:pt x="10988" y="107"/>
                      </a:lnTo>
                      <a:lnTo>
                        <a:pt x="10985" y="93"/>
                      </a:lnTo>
                      <a:lnTo>
                        <a:pt x="10979" y="82"/>
                      </a:lnTo>
                      <a:lnTo>
                        <a:pt x="10971" y="70"/>
                      </a:lnTo>
                      <a:lnTo>
                        <a:pt x="10963" y="58"/>
                      </a:lnTo>
                      <a:lnTo>
                        <a:pt x="10953" y="49"/>
                      </a:lnTo>
                      <a:lnTo>
                        <a:pt x="10942" y="39"/>
                      </a:lnTo>
                      <a:lnTo>
                        <a:pt x="10930" y="31"/>
                      </a:lnTo>
                      <a:lnTo>
                        <a:pt x="10916" y="23"/>
                      </a:lnTo>
                      <a:lnTo>
                        <a:pt x="10902" y="15"/>
                      </a:lnTo>
                      <a:lnTo>
                        <a:pt x="10887" y="9"/>
                      </a:lnTo>
                      <a:lnTo>
                        <a:pt x="10871" y="6"/>
                      </a:lnTo>
                      <a:lnTo>
                        <a:pt x="10854" y="2"/>
                      </a:lnTo>
                      <a:lnTo>
                        <a:pt x="10838" y="0"/>
                      </a:lnTo>
                      <a:lnTo>
                        <a:pt x="10820" y="0"/>
                      </a:lnTo>
                      <a:lnTo>
                        <a:pt x="172" y="0"/>
                      </a:lnTo>
                      <a:lnTo>
                        <a:pt x="154" y="0"/>
                      </a:lnTo>
                      <a:lnTo>
                        <a:pt x="136" y="2"/>
                      </a:lnTo>
                      <a:lnTo>
                        <a:pt x="121" y="6"/>
                      </a:lnTo>
                      <a:lnTo>
                        <a:pt x="105" y="9"/>
                      </a:lnTo>
                      <a:lnTo>
                        <a:pt x="90" y="15"/>
                      </a:lnTo>
                      <a:lnTo>
                        <a:pt x="76" y="23"/>
                      </a:lnTo>
                      <a:lnTo>
                        <a:pt x="62" y="31"/>
                      </a:lnTo>
                      <a:lnTo>
                        <a:pt x="50" y="39"/>
                      </a:lnTo>
                      <a:lnTo>
                        <a:pt x="39" y="49"/>
                      </a:lnTo>
                      <a:lnTo>
                        <a:pt x="29" y="58"/>
                      </a:lnTo>
                      <a:lnTo>
                        <a:pt x="21" y="70"/>
                      </a:lnTo>
                      <a:lnTo>
                        <a:pt x="13" y="82"/>
                      </a:lnTo>
                      <a:lnTo>
                        <a:pt x="7" y="93"/>
                      </a:lnTo>
                      <a:lnTo>
                        <a:pt x="4" y="107"/>
                      </a:lnTo>
                      <a:lnTo>
                        <a:pt x="0" y="121"/>
                      </a:lnTo>
                      <a:lnTo>
                        <a:pt x="0" y="134"/>
                      </a:lnTo>
                      <a:lnTo>
                        <a:pt x="0" y="148"/>
                      </a:lnTo>
                      <a:lnTo>
                        <a:pt x="4" y="160"/>
                      </a:lnTo>
                      <a:lnTo>
                        <a:pt x="7" y="174"/>
                      </a:lnTo>
                      <a:lnTo>
                        <a:pt x="13" y="185"/>
                      </a:lnTo>
                      <a:lnTo>
                        <a:pt x="21" y="197"/>
                      </a:lnTo>
                      <a:lnTo>
                        <a:pt x="29" y="209"/>
                      </a:lnTo>
                      <a:lnTo>
                        <a:pt x="39" y="218"/>
                      </a:lnTo>
                      <a:lnTo>
                        <a:pt x="50" y="228"/>
                      </a:lnTo>
                      <a:lnTo>
                        <a:pt x="62" y="238"/>
                      </a:lnTo>
                      <a:lnTo>
                        <a:pt x="76" y="244"/>
                      </a:lnTo>
                      <a:lnTo>
                        <a:pt x="90" y="252"/>
                      </a:lnTo>
                      <a:lnTo>
                        <a:pt x="105" y="257"/>
                      </a:lnTo>
                      <a:lnTo>
                        <a:pt x="121" y="261"/>
                      </a:lnTo>
                      <a:lnTo>
                        <a:pt x="136" y="265"/>
                      </a:lnTo>
                      <a:lnTo>
                        <a:pt x="154" y="267"/>
                      </a:lnTo>
                      <a:lnTo>
                        <a:pt x="172" y="267"/>
                      </a:lnTo>
                      <a:lnTo>
                        <a:pt x="10820" y="267"/>
                      </a:lnTo>
                      <a:close/>
                    </a:path>
                  </a:pathLst>
                </a:custGeom>
                <a:gradFill rotWithShape="0">
                  <a:gsLst>
                    <a:gs pos="0">
                      <a:srgbClr val="6d6d6d"/>
                    </a:gs>
                    <a:gs pos="100000">
                      <a:srgbClr val="a0a0a0"/>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671" name="Freeform 8"/>
                <p:cNvSpPr/>
                <p:nvPr/>
              </p:nvSpPr>
              <p:spPr>
                <a:xfrm>
                  <a:off x="299880" y="838080"/>
                  <a:ext cx="1617840" cy="44280"/>
                </a:xfrm>
                <a:custGeom>
                  <a:avLst/>
                  <a:gdLst/>
                  <a:ahLst/>
                  <a:rect l="l" t="t" r="r" b="b"/>
                  <a:pathLst>
                    <a:path w="11520" h="279">
                      <a:moveTo>
                        <a:pt x="11338" y="279"/>
                      </a:moveTo>
                      <a:lnTo>
                        <a:pt x="11338" y="279"/>
                      </a:lnTo>
                      <a:lnTo>
                        <a:pt x="11358" y="279"/>
                      </a:lnTo>
                      <a:lnTo>
                        <a:pt x="11375" y="277"/>
                      </a:lnTo>
                      <a:lnTo>
                        <a:pt x="11393" y="273"/>
                      </a:lnTo>
                      <a:lnTo>
                        <a:pt x="11409" y="269"/>
                      </a:lnTo>
                      <a:lnTo>
                        <a:pt x="11424" y="264"/>
                      </a:lnTo>
                      <a:lnTo>
                        <a:pt x="11440" y="256"/>
                      </a:lnTo>
                      <a:lnTo>
                        <a:pt x="11454" y="248"/>
                      </a:lnTo>
                      <a:lnTo>
                        <a:pt x="11467" y="238"/>
                      </a:lnTo>
                      <a:lnTo>
                        <a:pt x="11479" y="228"/>
                      </a:lnTo>
                      <a:lnTo>
                        <a:pt x="11489" y="219"/>
                      </a:lnTo>
                      <a:lnTo>
                        <a:pt x="11499" y="207"/>
                      </a:lnTo>
                      <a:lnTo>
                        <a:pt x="11506" y="195"/>
                      </a:lnTo>
                      <a:lnTo>
                        <a:pt x="11512" y="182"/>
                      </a:lnTo>
                      <a:lnTo>
                        <a:pt x="11516" y="168"/>
                      </a:lnTo>
                      <a:lnTo>
                        <a:pt x="11518" y="154"/>
                      </a:lnTo>
                      <a:lnTo>
                        <a:pt x="11520" y="141"/>
                      </a:lnTo>
                      <a:lnTo>
                        <a:pt x="11518" y="125"/>
                      </a:lnTo>
                      <a:lnTo>
                        <a:pt x="11516" y="111"/>
                      </a:lnTo>
                      <a:lnTo>
                        <a:pt x="11512" y="98"/>
                      </a:lnTo>
                      <a:lnTo>
                        <a:pt x="11506" y="86"/>
                      </a:lnTo>
                      <a:lnTo>
                        <a:pt x="11499" y="72"/>
                      </a:lnTo>
                      <a:lnTo>
                        <a:pt x="11489" y="61"/>
                      </a:lnTo>
                      <a:lnTo>
                        <a:pt x="11479" y="51"/>
                      </a:lnTo>
                      <a:lnTo>
                        <a:pt x="11467" y="41"/>
                      </a:lnTo>
                      <a:lnTo>
                        <a:pt x="11454" y="31"/>
                      </a:lnTo>
                      <a:lnTo>
                        <a:pt x="11440" y="23"/>
                      </a:lnTo>
                      <a:lnTo>
                        <a:pt x="11424" y="16"/>
                      </a:lnTo>
                      <a:lnTo>
                        <a:pt x="11409" y="10"/>
                      </a:lnTo>
                      <a:lnTo>
                        <a:pt x="11393" y="6"/>
                      </a:lnTo>
                      <a:lnTo>
                        <a:pt x="11375" y="2"/>
                      </a:lnTo>
                      <a:lnTo>
                        <a:pt x="11358" y="0"/>
                      </a:lnTo>
                      <a:lnTo>
                        <a:pt x="11338" y="0"/>
                      </a:lnTo>
                      <a:lnTo>
                        <a:pt x="182" y="0"/>
                      </a:lnTo>
                      <a:lnTo>
                        <a:pt x="162" y="0"/>
                      </a:lnTo>
                      <a:lnTo>
                        <a:pt x="145" y="2"/>
                      </a:lnTo>
                      <a:lnTo>
                        <a:pt x="127" y="6"/>
                      </a:lnTo>
                      <a:lnTo>
                        <a:pt x="111" y="10"/>
                      </a:lnTo>
                      <a:lnTo>
                        <a:pt x="96" y="16"/>
                      </a:lnTo>
                      <a:lnTo>
                        <a:pt x="80" y="23"/>
                      </a:lnTo>
                      <a:lnTo>
                        <a:pt x="66" y="31"/>
                      </a:lnTo>
                      <a:lnTo>
                        <a:pt x="53" y="41"/>
                      </a:lnTo>
                      <a:lnTo>
                        <a:pt x="41" y="51"/>
                      </a:lnTo>
                      <a:lnTo>
                        <a:pt x="31" y="61"/>
                      </a:lnTo>
                      <a:lnTo>
                        <a:pt x="21" y="72"/>
                      </a:lnTo>
                      <a:lnTo>
                        <a:pt x="14" y="86"/>
                      </a:lnTo>
                      <a:lnTo>
                        <a:pt x="8" y="98"/>
                      </a:lnTo>
                      <a:lnTo>
                        <a:pt x="4" y="111"/>
                      </a:lnTo>
                      <a:lnTo>
                        <a:pt x="2" y="125"/>
                      </a:lnTo>
                      <a:lnTo>
                        <a:pt x="0" y="141"/>
                      </a:lnTo>
                      <a:lnTo>
                        <a:pt x="2" y="154"/>
                      </a:lnTo>
                      <a:lnTo>
                        <a:pt x="4" y="168"/>
                      </a:lnTo>
                      <a:lnTo>
                        <a:pt x="8" y="182"/>
                      </a:lnTo>
                      <a:lnTo>
                        <a:pt x="14" y="195"/>
                      </a:lnTo>
                      <a:lnTo>
                        <a:pt x="21" y="207"/>
                      </a:lnTo>
                      <a:lnTo>
                        <a:pt x="31" y="219"/>
                      </a:lnTo>
                      <a:lnTo>
                        <a:pt x="41" y="228"/>
                      </a:lnTo>
                      <a:lnTo>
                        <a:pt x="53" y="238"/>
                      </a:lnTo>
                      <a:lnTo>
                        <a:pt x="66" y="248"/>
                      </a:lnTo>
                      <a:lnTo>
                        <a:pt x="80" y="256"/>
                      </a:lnTo>
                      <a:lnTo>
                        <a:pt x="96" y="264"/>
                      </a:lnTo>
                      <a:lnTo>
                        <a:pt x="111" y="269"/>
                      </a:lnTo>
                      <a:lnTo>
                        <a:pt x="127" y="273"/>
                      </a:lnTo>
                      <a:lnTo>
                        <a:pt x="145" y="277"/>
                      </a:lnTo>
                      <a:lnTo>
                        <a:pt x="162" y="279"/>
                      </a:lnTo>
                      <a:lnTo>
                        <a:pt x="182" y="279"/>
                      </a:lnTo>
                      <a:lnTo>
                        <a:pt x="11338" y="279"/>
                      </a:lnTo>
                      <a:close/>
                    </a:path>
                  </a:pathLst>
                </a:custGeom>
                <a:gradFill rotWithShape="0">
                  <a:gsLst>
                    <a:gs pos="0">
                      <a:srgbClr val="7c7c7c"/>
                    </a:gs>
                    <a:gs pos="100000">
                      <a:srgbClr val="a0a0a0"/>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672" name="Freeform 9"/>
                <p:cNvSpPr/>
                <p:nvPr/>
              </p:nvSpPr>
              <p:spPr>
                <a:xfrm>
                  <a:off x="381600" y="1213560"/>
                  <a:ext cx="1454040" cy="47160"/>
                </a:xfrm>
                <a:custGeom>
                  <a:avLst/>
                  <a:gdLst>
                    <a:gd name="textAreaLeft" fmla="*/ 0 w 1454040"/>
                    <a:gd name="textAreaRight" fmla="*/ 1454400 w 1454040"/>
                    <a:gd name="textAreaTop" fmla="*/ 0 h 47160"/>
                    <a:gd name="textAreaBottom" fmla="*/ 47520 h 47160"/>
                  </a:gdLst>
                  <a:ahLst/>
                  <a:rect l="textAreaLeft" t="textAreaTop" r="textAreaRight" b="textAreaBottom"/>
                  <a:pathLst>
                    <a:path w="10352" h="471">
                      <a:moveTo>
                        <a:pt x="9580" y="471"/>
                      </a:moveTo>
                      <a:lnTo>
                        <a:pt x="772" y="471"/>
                      </a:lnTo>
                      <a:lnTo>
                        <a:pt x="0" y="0"/>
                      </a:lnTo>
                      <a:lnTo>
                        <a:pt x="10352" y="0"/>
                      </a:lnTo>
                      <a:lnTo>
                        <a:pt x="9580" y="471"/>
                      </a:lnTo>
                      <a:close/>
                    </a:path>
                  </a:pathLst>
                </a:custGeom>
                <a:gradFill rotWithShape="0">
                  <a:gsLst>
                    <a:gs pos="0">
                      <a:srgbClr val="383838"/>
                    </a:gs>
                    <a:gs pos="100000">
                      <a:srgbClr val="747474"/>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673" name="Rectangle 10"/>
                <p:cNvSpPr/>
                <p:nvPr/>
              </p:nvSpPr>
              <p:spPr>
                <a:xfrm>
                  <a:off x="382320" y="1012680"/>
                  <a:ext cx="1452960" cy="127080"/>
                </a:xfrm>
                <a:prstGeom prst="rect">
                  <a:avLst/>
                </a:prstGeom>
                <a:gradFill rotWithShape="0">
                  <a:gsLst>
                    <a:gs pos="0">
                      <a:srgbClr val="535353"/>
                    </a:gs>
                    <a:gs pos="100000">
                      <a:srgbClr val="939393"/>
                    </a:gs>
                  </a:gsLst>
                  <a:lin ang="10800000"/>
                </a:gradFill>
                <a:ln w="0">
                  <a:noFill/>
                </a:ln>
              </p:spPr>
              <p:style>
                <a:lnRef idx="0"/>
                <a:fillRef idx="0"/>
                <a:effectRef idx="0"/>
                <a:fontRef idx="minor"/>
              </p:style>
              <p:txBody>
                <a:bodyPr lIns="18360" rIns="18360" tIns="9000" bIns="9000" anchor="ctr">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11"/>
                <p:cNvSpPr/>
                <p:nvPr/>
              </p:nvSpPr>
              <p:spPr>
                <a:xfrm>
                  <a:off x="361440" y="886320"/>
                  <a:ext cx="1494360" cy="31680"/>
                </a:xfrm>
                <a:prstGeom prst="rect">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21"/>
                <p:cNvGrpSpPr/>
                <p:nvPr/>
              </p:nvGrpSpPr>
              <p:grpSpPr>
                <a:xfrm>
                  <a:off x="408240" y="1028160"/>
                  <a:ext cx="1394640" cy="92160"/>
                  <a:chOff x="408240" y="1028160"/>
                  <a:chExt cx="1394640" cy="92160"/>
                </a:xfrm>
              </p:grpSpPr>
              <p:grpSp>
                <p:nvGrpSpPr>
                  <p:cNvPr id="676" name="Group 22"/>
                  <p:cNvGrpSpPr/>
                  <p:nvPr/>
                </p:nvGrpSpPr>
                <p:grpSpPr>
                  <a:xfrm>
                    <a:off x="408240" y="1028160"/>
                    <a:ext cx="35640" cy="92160"/>
                    <a:chOff x="408240" y="1028160"/>
                    <a:chExt cx="35640" cy="92160"/>
                  </a:xfrm>
                </p:grpSpPr>
                <p:pic>
                  <p:nvPicPr>
                    <p:cNvPr id="677" name="Freeform 12" descr=""/>
                    <p:cNvPicPr/>
                    <p:nvPr/>
                  </p:nvPicPr>
                  <p:blipFill>
                    <a:blip r:embed="rId1"/>
                    <a:stretch/>
                  </p:blipFill>
                  <p:spPr>
                    <a:xfrm>
                      <a:off x="408240" y="1028160"/>
                      <a:ext cx="35640" cy="92160"/>
                    </a:xfrm>
                    <a:prstGeom prst="rect">
                      <a:avLst/>
                    </a:prstGeom>
                    <a:ln w="0">
                      <a:noFill/>
                    </a:ln>
                  </p:spPr>
                </p:pic>
                <p:sp>
                  <p:nvSpPr>
                    <p:cNvPr id="678" name="Text Box 24"/>
                    <p:cNvSpPr/>
                    <p:nvPr/>
                  </p:nvSpPr>
                  <p:spPr>
                    <a:xfrm>
                      <a:off x="420120" y="1040400"/>
                      <a:ext cx="900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Group 25"/>
                  <p:cNvGrpSpPr/>
                  <p:nvPr/>
                </p:nvGrpSpPr>
                <p:grpSpPr>
                  <a:xfrm>
                    <a:off x="443880" y="1028160"/>
                    <a:ext cx="41760" cy="92160"/>
                    <a:chOff x="443880" y="1028160"/>
                    <a:chExt cx="41760" cy="92160"/>
                  </a:xfrm>
                </p:grpSpPr>
                <p:pic>
                  <p:nvPicPr>
                    <p:cNvPr id="680" name="Freeform 13" descr=""/>
                    <p:cNvPicPr/>
                    <p:nvPr/>
                  </p:nvPicPr>
                  <p:blipFill>
                    <a:blip r:embed="rId2"/>
                    <a:stretch/>
                  </p:blipFill>
                  <p:spPr>
                    <a:xfrm>
                      <a:off x="443880" y="1028160"/>
                      <a:ext cx="41760" cy="92160"/>
                    </a:xfrm>
                    <a:prstGeom prst="rect">
                      <a:avLst/>
                    </a:prstGeom>
                    <a:ln w="0">
                      <a:noFill/>
                    </a:ln>
                  </p:spPr>
                </p:pic>
                <p:sp>
                  <p:nvSpPr>
                    <p:cNvPr id="681" name="Text Box 27"/>
                    <p:cNvSpPr/>
                    <p:nvPr/>
                  </p:nvSpPr>
                  <p:spPr>
                    <a:xfrm>
                      <a:off x="459720" y="1040400"/>
                      <a:ext cx="136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2" name="Group 28"/>
                  <p:cNvGrpSpPr/>
                  <p:nvPr/>
                </p:nvGrpSpPr>
                <p:grpSpPr>
                  <a:xfrm>
                    <a:off x="497880" y="1028160"/>
                    <a:ext cx="47880" cy="92160"/>
                    <a:chOff x="497880" y="1028160"/>
                    <a:chExt cx="47880" cy="92160"/>
                  </a:xfrm>
                </p:grpSpPr>
                <p:pic>
                  <p:nvPicPr>
                    <p:cNvPr id="683" name="Freeform 14" descr=""/>
                    <p:cNvPicPr/>
                    <p:nvPr/>
                  </p:nvPicPr>
                  <p:blipFill>
                    <a:blip r:embed="rId3"/>
                    <a:stretch/>
                  </p:blipFill>
                  <p:spPr>
                    <a:xfrm>
                      <a:off x="497880" y="1028160"/>
                      <a:ext cx="47880" cy="92160"/>
                    </a:xfrm>
                    <a:prstGeom prst="rect">
                      <a:avLst/>
                    </a:prstGeom>
                    <a:ln w="0">
                      <a:noFill/>
                    </a:ln>
                  </p:spPr>
                </p:pic>
                <p:sp>
                  <p:nvSpPr>
                    <p:cNvPr id="684" name="Text Box 30"/>
                    <p:cNvSpPr/>
                    <p:nvPr/>
                  </p:nvSpPr>
                  <p:spPr>
                    <a:xfrm>
                      <a:off x="511200" y="1040400"/>
                      <a:ext cx="176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5" name="Group 31"/>
                  <p:cNvGrpSpPr/>
                  <p:nvPr/>
                </p:nvGrpSpPr>
                <p:grpSpPr>
                  <a:xfrm>
                    <a:off x="563760" y="1028160"/>
                    <a:ext cx="65520" cy="92160"/>
                    <a:chOff x="563760" y="1028160"/>
                    <a:chExt cx="65520" cy="92160"/>
                  </a:xfrm>
                </p:grpSpPr>
                <p:pic>
                  <p:nvPicPr>
                    <p:cNvPr id="686" name="Freeform 15" descr=""/>
                    <p:cNvPicPr/>
                    <p:nvPr/>
                  </p:nvPicPr>
                  <p:blipFill>
                    <a:blip r:embed="rId4"/>
                    <a:stretch/>
                  </p:blipFill>
                  <p:spPr>
                    <a:xfrm>
                      <a:off x="563760" y="1028160"/>
                      <a:ext cx="65520" cy="92160"/>
                    </a:xfrm>
                    <a:prstGeom prst="rect">
                      <a:avLst/>
                    </a:prstGeom>
                    <a:ln w="0">
                      <a:noFill/>
                    </a:ln>
                  </p:spPr>
                </p:pic>
                <p:sp>
                  <p:nvSpPr>
                    <p:cNvPr id="687" name="Text Box 33"/>
                    <p:cNvSpPr/>
                    <p:nvPr/>
                  </p:nvSpPr>
                  <p:spPr>
                    <a:xfrm>
                      <a:off x="577800" y="1040400"/>
                      <a:ext cx="352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8" name="Group 34"/>
                  <p:cNvGrpSpPr/>
                  <p:nvPr/>
                </p:nvGrpSpPr>
                <p:grpSpPr>
                  <a:xfrm>
                    <a:off x="1767240" y="1028160"/>
                    <a:ext cx="35640" cy="92160"/>
                    <a:chOff x="1767240" y="1028160"/>
                    <a:chExt cx="35640" cy="92160"/>
                  </a:xfrm>
                </p:grpSpPr>
                <p:pic>
                  <p:nvPicPr>
                    <p:cNvPr id="689" name="Freeform 16" descr=""/>
                    <p:cNvPicPr/>
                    <p:nvPr/>
                  </p:nvPicPr>
                  <p:blipFill>
                    <a:blip r:embed="rId5"/>
                    <a:stretch/>
                  </p:blipFill>
                  <p:spPr>
                    <a:xfrm>
                      <a:off x="1767240" y="1028160"/>
                      <a:ext cx="35640" cy="92160"/>
                    </a:xfrm>
                    <a:prstGeom prst="rect">
                      <a:avLst/>
                    </a:prstGeom>
                    <a:ln w="0">
                      <a:noFill/>
                    </a:ln>
                  </p:spPr>
                </p:pic>
                <p:sp>
                  <p:nvSpPr>
                    <p:cNvPr id="690" name="Text Box 36"/>
                    <p:cNvSpPr/>
                    <p:nvPr/>
                  </p:nvSpPr>
                  <p:spPr>
                    <a:xfrm>
                      <a:off x="1780560" y="1040400"/>
                      <a:ext cx="900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Group 37"/>
                  <p:cNvGrpSpPr/>
                  <p:nvPr/>
                </p:nvGrpSpPr>
                <p:grpSpPr>
                  <a:xfrm>
                    <a:off x="1719360" y="1028160"/>
                    <a:ext cx="47880" cy="92160"/>
                    <a:chOff x="1719360" y="1028160"/>
                    <a:chExt cx="47880" cy="92160"/>
                  </a:xfrm>
                </p:grpSpPr>
                <p:pic>
                  <p:nvPicPr>
                    <p:cNvPr id="692" name="Freeform 17" descr=""/>
                    <p:cNvPicPr/>
                    <p:nvPr/>
                  </p:nvPicPr>
                  <p:blipFill>
                    <a:blip r:embed="rId6"/>
                    <a:stretch/>
                  </p:blipFill>
                  <p:spPr>
                    <a:xfrm>
                      <a:off x="1719360" y="1028160"/>
                      <a:ext cx="47880" cy="92160"/>
                    </a:xfrm>
                    <a:prstGeom prst="rect">
                      <a:avLst/>
                    </a:prstGeom>
                    <a:ln w="0">
                      <a:noFill/>
                    </a:ln>
                  </p:spPr>
                </p:pic>
                <p:sp>
                  <p:nvSpPr>
                    <p:cNvPr id="693" name="Text Box 39"/>
                    <p:cNvSpPr/>
                    <p:nvPr/>
                  </p:nvSpPr>
                  <p:spPr>
                    <a:xfrm>
                      <a:off x="1735560" y="1040400"/>
                      <a:ext cx="136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4" name="Group 40"/>
                  <p:cNvGrpSpPr/>
                  <p:nvPr/>
                </p:nvGrpSpPr>
                <p:grpSpPr>
                  <a:xfrm>
                    <a:off x="1665360" y="1028160"/>
                    <a:ext cx="47880" cy="92160"/>
                    <a:chOff x="1665360" y="1028160"/>
                    <a:chExt cx="47880" cy="92160"/>
                  </a:xfrm>
                </p:grpSpPr>
                <p:pic>
                  <p:nvPicPr>
                    <p:cNvPr id="695" name="Freeform 18" descr=""/>
                    <p:cNvPicPr/>
                    <p:nvPr/>
                  </p:nvPicPr>
                  <p:blipFill>
                    <a:blip r:embed="rId7"/>
                    <a:stretch/>
                  </p:blipFill>
                  <p:spPr>
                    <a:xfrm>
                      <a:off x="1665360" y="1028160"/>
                      <a:ext cx="47880" cy="92160"/>
                    </a:xfrm>
                    <a:prstGeom prst="rect">
                      <a:avLst/>
                    </a:prstGeom>
                    <a:ln w="0">
                      <a:noFill/>
                    </a:ln>
                  </p:spPr>
                </p:pic>
                <p:sp>
                  <p:nvSpPr>
                    <p:cNvPr id="696" name="Text Box 42"/>
                    <p:cNvSpPr/>
                    <p:nvPr/>
                  </p:nvSpPr>
                  <p:spPr>
                    <a:xfrm>
                      <a:off x="1680480" y="1040400"/>
                      <a:ext cx="176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43"/>
                  <p:cNvGrpSpPr/>
                  <p:nvPr/>
                </p:nvGrpSpPr>
                <p:grpSpPr>
                  <a:xfrm>
                    <a:off x="1581480" y="1028160"/>
                    <a:ext cx="65520" cy="92160"/>
                    <a:chOff x="1581480" y="1028160"/>
                    <a:chExt cx="65520" cy="92160"/>
                  </a:xfrm>
                </p:grpSpPr>
                <p:pic>
                  <p:nvPicPr>
                    <p:cNvPr id="698" name="Freeform 19" descr=""/>
                    <p:cNvPicPr/>
                    <p:nvPr/>
                  </p:nvPicPr>
                  <p:blipFill>
                    <a:blip r:embed="rId8"/>
                    <a:stretch/>
                  </p:blipFill>
                  <p:spPr>
                    <a:xfrm>
                      <a:off x="1581480" y="1028160"/>
                      <a:ext cx="65520" cy="92160"/>
                    </a:xfrm>
                    <a:prstGeom prst="rect">
                      <a:avLst/>
                    </a:prstGeom>
                    <a:ln w="0">
                      <a:noFill/>
                    </a:ln>
                  </p:spPr>
                </p:pic>
                <p:sp>
                  <p:nvSpPr>
                    <p:cNvPr id="699" name="Text Box 45"/>
                    <p:cNvSpPr/>
                    <p:nvPr/>
                  </p:nvSpPr>
                  <p:spPr>
                    <a:xfrm>
                      <a:off x="1596240" y="1040400"/>
                      <a:ext cx="352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46"/>
                  <p:cNvGrpSpPr/>
                  <p:nvPr/>
                </p:nvGrpSpPr>
                <p:grpSpPr>
                  <a:xfrm>
                    <a:off x="653400" y="1028160"/>
                    <a:ext cx="95760" cy="92160"/>
                    <a:chOff x="653400" y="1028160"/>
                    <a:chExt cx="95760" cy="92160"/>
                  </a:xfrm>
                </p:grpSpPr>
                <p:pic>
                  <p:nvPicPr>
                    <p:cNvPr id="701" name="Freeform 20" descr=""/>
                    <p:cNvPicPr/>
                    <p:nvPr/>
                  </p:nvPicPr>
                  <p:blipFill>
                    <a:blip r:embed="rId9"/>
                    <a:stretch/>
                  </p:blipFill>
                  <p:spPr>
                    <a:xfrm>
                      <a:off x="653400" y="1028160"/>
                      <a:ext cx="95760" cy="92160"/>
                    </a:xfrm>
                    <a:prstGeom prst="rect">
                      <a:avLst/>
                    </a:prstGeom>
                    <a:ln w="0">
                      <a:noFill/>
                    </a:ln>
                  </p:spPr>
                </p:pic>
                <p:sp>
                  <p:nvSpPr>
                    <p:cNvPr id="702" name="Text Box 48"/>
                    <p:cNvSpPr/>
                    <p:nvPr/>
                  </p:nvSpPr>
                  <p:spPr>
                    <a:xfrm>
                      <a:off x="665640" y="1040400"/>
                      <a:ext cx="680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3" name="Group 49"/>
                  <p:cNvGrpSpPr/>
                  <p:nvPr/>
                </p:nvGrpSpPr>
                <p:grpSpPr>
                  <a:xfrm>
                    <a:off x="785160" y="1028160"/>
                    <a:ext cx="95760" cy="92160"/>
                    <a:chOff x="785160" y="1028160"/>
                    <a:chExt cx="95760" cy="92160"/>
                  </a:xfrm>
                </p:grpSpPr>
                <p:pic>
                  <p:nvPicPr>
                    <p:cNvPr id="704" name="Freeform 21" descr=""/>
                    <p:cNvPicPr/>
                    <p:nvPr/>
                  </p:nvPicPr>
                  <p:blipFill>
                    <a:blip r:embed="rId10"/>
                    <a:stretch/>
                  </p:blipFill>
                  <p:spPr>
                    <a:xfrm>
                      <a:off x="785160" y="1028160"/>
                      <a:ext cx="95760" cy="92160"/>
                    </a:xfrm>
                    <a:prstGeom prst="rect">
                      <a:avLst/>
                    </a:prstGeom>
                    <a:ln w="0">
                      <a:noFill/>
                    </a:ln>
                  </p:spPr>
                </p:pic>
                <p:sp>
                  <p:nvSpPr>
                    <p:cNvPr id="705" name="Text Box 51"/>
                    <p:cNvSpPr/>
                    <p:nvPr/>
                  </p:nvSpPr>
                  <p:spPr>
                    <a:xfrm>
                      <a:off x="800280" y="1040400"/>
                      <a:ext cx="676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6" name="Group 52"/>
                  <p:cNvGrpSpPr/>
                  <p:nvPr/>
                </p:nvGrpSpPr>
                <p:grpSpPr>
                  <a:xfrm>
                    <a:off x="916920" y="1028160"/>
                    <a:ext cx="101520" cy="92160"/>
                    <a:chOff x="916920" y="1028160"/>
                    <a:chExt cx="101520" cy="92160"/>
                  </a:xfrm>
                </p:grpSpPr>
                <p:pic>
                  <p:nvPicPr>
                    <p:cNvPr id="707" name="Freeform 22" descr=""/>
                    <p:cNvPicPr/>
                    <p:nvPr/>
                  </p:nvPicPr>
                  <p:blipFill>
                    <a:blip r:embed="rId11"/>
                    <a:stretch/>
                  </p:blipFill>
                  <p:spPr>
                    <a:xfrm>
                      <a:off x="916920" y="1028160"/>
                      <a:ext cx="101520" cy="92160"/>
                    </a:xfrm>
                    <a:prstGeom prst="rect">
                      <a:avLst/>
                    </a:prstGeom>
                    <a:ln w="0">
                      <a:noFill/>
                    </a:ln>
                  </p:spPr>
                </p:pic>
                <p:sp>
                  <p:nvSpPr>
                    <p:cNvPr id="708" name="Text Box 54"/>
                    <p:cNvSpPr/>
                    <p:nvPr/>
                  </p:nvSpPr>
                  <p:spPr>
                    <a:xfrm>
                      <a:off x="934200" y="1040400"/>
                      <a:ext cx="6732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Group 55"/>
                  <p:cNvGrpSpPr/>
                  <p:nvPr/>
                </p:nvGrpSpPr>
                <p:grpSpPr>
                  <a:xfrm>
                    <a:off x="1054800" y="1028160"/>
                    <a:ext cx="95760" cy="92160"/>
                    <a:chOff x="1054800" y="1028160"/>
                    <a:chExt cx="95760" cy="92160"/>
                  </a:xfrm>
                </p:grpSpPr>
                <p:pic>
                  <p:nvPicPr>
                    <p:cNvPr id="710" name="Freeform 23" descr=""/>
                    <p:cNvPicPr/>
                    <p:nvPr/>
                  </p:nvPicPr>
                  <p:blipFill>
                    <a:blip r:embed="rId12"/>
                    <a:stretch/>
                  </p:blipFill>
                  <p:spPr>
                    <a:xfrm>
                      <a:off x="1054800" y="1028160"/>
                      <a:ext cx="95760" cy="92160"/>
                    </a:xfrm>
                    <a:prstGeom prst="rect">
                      <a:avLst/>
                    </a:prstGeom>
                    <a:ln w="0">
                      <a:noFill/>
                    </a:ln>
                  </p:spPr>
                </p:pic>
                <p:sp>
                  <p:nvSpPr>
                    <p:cNvPr id="711" name="Text Box 57"/>
                    <p:cNvSpPr/>
                    <p:nvPr/>
                  </p:nvSpPr>
                  <p:spPr>
                    <a:xfrm>
                      <a:off x="1068480" y="1040400"/>
                      <a:ext cx="680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Group 58"/>
                  <p:cNvGrpSpPr/>
                  <p:nvPr/>
                </p:nvGrpSpPr>
                <p:grpSpPr>
                  <a:xfrm>
                    <a:off x="1186560" y="1028160"/>
                    <a:ext cx="101520" cy="92160"/>
                    <a:chOff x="1186560" y="1028160"/>
                    <a:chExt cx="101520" cy="92160"/>
                  </a:xfrm>
                </p:grpSpPr>
                <p:pic>
                  <p:nvPicPr>
                    <p:cNvPr id="713" name="Freeform 24" descr=""/>
                    <p:cNvPicPr/>
                    <p:nvPr/>
                  </p:nvPicPr>
                  <p:blipFill>
                    <a:blip r:embed="rId13"/>
                    <a:stretch/>
                  </p:blipFill>
                  <p:spPr>
                    <a:xfrm>
                      <a:off x="1186560" y="1028160"/>
                      <a:ext cx="101520" cy="92160"/>
                    </a:xfrm>
                    <a:prstGeom prst="rect">
                      <a:avLst/>
                    </a:prstGeom>
                    <a:ln w="0">
                      <a:noFill/>
                    </a:ln>
                  </p:spPr>
                </p:pic>
                <p:sp>
                  <p:nvSpPr>
                    <p:cNvPr id="714" name="Text Box 60"/>
                    <p:cNvSpPr/>
                    <p:nvPr/>
                  </p:nvSpPr>
                  <p:spPr>
                    <a:xfrm>
                      <a:off x="1202760" y="1040400"/>
                      <a:ext cx="6732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5" name="Group 61"/>
                  <p:cNvGrpSpPr/>
                  <p:nvPr/>
                </p:nvGrpSpPr>
                <p:grpSpPr>
                  <a:xfrm>
                    <a:off x="1324080" y="1028160"/>
                    <a:ext cx="95760" cy="92160"/>
                    <a:chOff x="1324080" y="1028160"/>
                    <a:chExt cx="95760" cy="92160"/>
                  </a:xfrm>
                </p:grpSpPr>
                <p:pic>
                  <p:nvPicPr>
                    <p:cNvPr id="716" name="Freeform 25" descr=""/>
                    <p:cNvPicPr/>
                    <p:nvPr/>
                  </p:nvPicPr>
                  <p:blipFill>
                    <a:blip r:embed="rId14"/>
                    <a:stretch/>
                  </p:blipFill>
                  <p:spPr>
                    <a:xfrm>
                      <a:off x="1324080" y="1028160"/>
                      <a:ext cx="95760" cy="92160"/>
                    </a:xfrm>
                    <a:prstGeom prst="rect">
                      <a:avLst/>
                    </a:prstGeom>
                    <a:ln w="0">
                      <a:noFill/>
                    </a:ln>
                  </p:spPr>
                </p:pic>
                <p:sp>
                  <p:nvSpPr>
                    <p:cNvPr id="717" name="Text Box 63"/>
                    <p:cNvSpPr/>
                    <p:nvPr/>
                  </p:nvSpPr>
                  <p:spPr>
                    <a:xfrm>
                      <a:off x="1336680" y="1040400"/>
                      <a:ext cx="676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Group 64"/>
                  <p:cNvGrpSpPr/>
                  <p:nvPr/>
                </p:nvGrpSpPr>
                <p:grpSpPr>
                  <a:xfrm>
                    <a:off x="1455840" y="1028160"/>
                    <a:ext cx="95760" cy="92160"/>
                    <a:chOff x="1455840" y="1028160"/>
                    <a:chExt cx="95760" cy="92160"/>
                  </a:xfrm>
                </p:grpSpPr>
                <p:pic>
                  <p:nvPicPr>
                    <p:cNvPr id="719" name="Freeform 26" descr=""/>
                    <p:cNvPicPr/>
                    <p:nvPr/>
                  </p:nvPicPr>
                  <p:blipFill>
                    <a:blip r:embed="rId15"/>
                    <a:stretch/>
                  </p:blipFill>
                  <p:spPr>
                    <a:xfrm>
                      <a:off x="1455840" y="1028160"/>
                      <a:ext cx="95760" cy="92160"/>
                    </a:xfrm>
                    <a:prstGeom prst="rect">
                      <a:avLst/>
                    </a:prstGeom>
                    <a:ln w="0">
                      <a:noFill/>
                    </a:ln>
                  </p:spPr>
                </p:pic>
                <p:sp>
                  <p:nvSpPr>
                    <p:cNvPr id="720" name="Text Box 66"/>
                    <p:cNvSpPr/>
                    <p:nvPr/>
                  </p:nvSpPr>
                  <p:spPr>
                    <a:xfrm>
                      <a:off x="1470960" y="1040400"/>
                      <a:ext cx="680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21" name="Group 67"/>
              <p:cNvGrpSpPr/>
              <p:nvPr/>
            </p:nvGrpSpPr>
            <p:grpSpPr>
              <a:xfrm>
                <a:off x="481320" y="1257840"/>
                <a:ext cx="1254960" cy="4127040"/>
                <a:chOff x="481320" y="1257840"/>
                <a:chExt cx="1254960" cy="4127040"/>
              </a:xfrm>
            </p:grpSpPr>
            <p:sp>
              <p:nvSpPr>
                <p:cNvPr id="722" name="Rectangle 5"/>
                <p:cNvSpPr/>
                <p:nvPr/>
              </p:nvSpPr>
              <p:spPr>
                <a:xfrm>
                  <a:off x="481320" y="1257840"/>
                  <a:ext cx="1254960" cy="4127040"/>
                </a:xfrm>
                <a:prstGeom prst="rect">
                  <a:avLst/>
                </a:prstGeom>
                <a:gradFill rotWithShape="0">
                  <a:gsLst>
                    <a:gs pos="0">
                      <a:srgbClr val="6e3b08"/>
                    </a:gs>
                    <a:gs pos="100000">
                      <a:srgbClr val="a8671e"/>
                    </a:gs>
                  </a:gsLst>
                  <a:lin ang="10800000"/>
                </a:gradFill>
                <a:ln w="0">
                  <a:noFill/>
                </a:ln>
              </p:spPr>
              <p:style>
                <a:lnRef idx="0"/>
                <a:fillRef idx="0"/>
                <a:effectRef idx="0"/>
                <a:fontRef idx="minor"/>
              </p:style>
              <p:txBody>
                <a:bodyPr lIns="18360" rIns="18360" tIns="9000" bIns="9000" anchor="ctr">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3" name="Group 69"/>
                <p:cNvGrpSpPr/>
                <p:nvPr/>
              </p:nvGrpSpPr>
              <p:grpSpPr>
                <a:xfrm>
                  <a:off x="536400" y="1296000"/>
                  <a:ext cx="1140480" cy="4057560"/>
                  <a:chOff x="536400" y="1296000"/>
                  <a:chExt cx="1140480" cy="4057560"/>
                </a:xfrm>
              </p:grpSpPr>
              <p:grpSp>
                <p:nvGrpSpPr>
                  <p:cNvPr id="724" name="Group 70"/>
                  <p:cNvGrpSpPr/>
                  <p:nvPr/>
                </p:nvGrpSpPr>
                <p:grpSpPr>
                  <a:xfrm>
                    <a:off x="536400" y="1296000"/>
                    <a:ext cx="41040" cy="4057560"/>
                    <a:chOff x="536400" y="1296000"/>
                    <a:chExt cx="41040" cy="4057560"/>
                  </a:xfrm>
                </p:grpSpPr>
                <p:pic>
                  <p:nvPicPr>
                    <p:cNvPr id="725" name="Freeform 6" descr=""/>
                    <p:cNvPicPr/>
                    <p:nvPr/>
                  </p:nvPicPr>
                  <p:blipFill>
                    <a:blip r:embed="rId16"/>
                    <a:stretch/>
                  </p:blipFill>
                  <p:spPr>
                    <a:xfrm>
                      <a:off x="536400" y="1296000"/>
                      <a:ext cx="41040" cy="4057560"/>
                    </a:xfrm>
                    <a:prstGeom prst="rect">
                      <a:avLst/>
                    </a:prstGeom>
                    <a:ln w="0">
                      <a:noFill/>
                    </a:ln>
                  </p:spPr>
                </p:pic>
                <p:sp>
                  <p:nvSpPr>
                    <p:cNvPr id="726" name="Text Box 72"/>
                    <p:cNvSpPr/>
                    <p:nvPr/>
                  </p:nvSpPr>
                  <p:spPr>
                    <a:xfrm>
                      <a:off x="554040" y="1312920"/>
                      <a:ext cx="1152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7" name="Group 73"/>
                  <p:cNvGrpSpPr/>
                  <p:nvPr/>
                </p:nvGrpSpPr>
                <p:grpSpPr>
                  <a:xfrm>
                    <a:off x="589320" y="1296000"/>
                    <a:ext cx="52920" cy="4057560"/>
                    <a:chOff x="589320" y="1296000"/>
                    <a:chExt cx="52920" cy="4057560"/>
                  </a:xfrm>
                </p:grpSpPr>
                <p:pic>
                  <p:nvPicPr>
                    <p:cNvPr id="728" name="Freeform 7" descr=""/>
                    <p:cNvPicPr/>
                    <p:nvPr/>
                  </p:nvPicPr>
                  <p:blipFill>
                    <a:blip r:embed="rId17"/>
                    <a:stretch/>
                  </p:blipFill>
                  <p:spPr>
                    <a:xfrm>
                      <a:off x="589320" y="1296000"/>
                      <a:ext cx="52920" cy="4057560"/>
                    </a:xfrm>
                    <a:prstGeom prst="rect">
                      <a:avLst/>
                    </a:prstGeom>
                    <a:ln w="0">
                      <a:noFill/>
                    </a:ln>
                  </p:spPr>
                </p:pic>
                <p:sp>
                  <p:nvSpPr>
                    <p:cNvPr id="729" name="Text Box 75"/>
                    <p:cNvSpPr/>
                    <p:nvPr/>
                  </p:nvSpPr>
                  <p:spPr>
                    <a:xfrm>
                      <a:off x="603000" y="1312920"/>
                      <a:ext cx="2448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0" name="Group 76"/>
                  <p:cNvGrpSpPr/>
                  <p:nvPr/>
                </p:nvGrpSpPr>
                <p:grpSpPr>
                  <a:xfrm>
                    <a:off x="654480" y="1296000"/>
                    <a:ext cx="59040" cy="4057560"/>
                    <a:chOff x="654480" y="1296000"/>
                    <a:chExt cx="59040" cy="4057560"/>
                  </a:xfrm>
                </p:grpSpPr>
                <p:pic>
                  <p:nvPicPr>
                    <p:cNvPr id="731" name="Freeform 8" descr=""/>
                    <p:cNvPicPr/>
                    <p:nvPr/>
                  </p:nvPicPr>
                  <p:blipFill>
                    <a:blip r:embed="rId18"/>
                    <a:stretch/>
                  </p:blipFill>
                  <p:spPr>
                    <a:xfrm>
                      <a:off x="654480" y="1296000"/>
                      <a:ext cx="59040" cy="4057560"/>
                    </a:xfrm>
                    <a:prstGeom prst="rect">
                      <a:avLst/>
                    </a:prstGeom>
                    <a:ln w="0">
                      <a:noFill/>
                    </a:ln>
                  </p:spPr>
                </p:pic>
                <p:sp>
                  <p:nvSpPr>
                    <p:cNvPr id="732" name="Text Box 78"/>
                    <p:cNvSpPr/>
                    <p:nvPr/>
                  </p:nvSpPr>
                  <p:spPr>
                    <a:xfrm>
                      <a:off x="667800" y="1312920"/>
                      <a:ext cx="2988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3" name="Group 79"/>
                  <p:cNvGrpSpPr/>
                  <p:nvPr/>
                </p:nvGrpSpPr>
                <p:grpSpPr>
                  <a:xfrm>
                    <a:off x="1635840" y="1296000"/>
                    <a:ext cx="41040" cy="4057560"/>
                    <a:chOff x="1635840" y="1296000"/>
                    <a:chExt cx="41040" cy="4057560"/>
                  </a:xfrm>
                </p:grpSpPr>
                <p:pic>
                  <p:nvPicPr>
                    <p:cNvPr id="734" name="Freeform 9" descr=""/>
                    <p:cNvPicPr/>
                    <p:nvPr/>
                  </p:nvPicPr>
                  <p:blipFill>
                    <a:blip r:embed="rId19"/>
                    <a:stretch/>
                  </p:blipFill>
                  <p:spPr>
                    <a:xfrm>
                      <a:off x="1635840" y="1296000"/>
                      <a:ext cx="41040" cy="4057560"/>
                    </a:xfrm>
                    <a:prstGeom prst="rect">
                      <a:avLst/>
                    </a:prstGeom>
                    <a:ln w="0">
                      <a:noFill/>
                    </a:ln>
                  </p:spPr>
                </p:pic>
                <p:sp>
                  <p:nvSpPr>
                    <p:cNvPr id="735" name="Text Box 81"/>
                    <p:cNvSpPr/>
                    <p:nvPr/>
                  </p:nvSpPr>
                  <p:spPr>
                    <a:xfrm>
                      <a:off x="1648440" y="1312920"/>
                      <a:ext cx="1152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6" name="Group 82"/>
                  <p:cNvGrpSpPr/>
                  <p:nvPr/>
                </p:nvGrpSpPr>
                <p:grpSpPr>
                  <a:xfrm>
                    <a:off x="1570680" y="1296000"/>
                    <a:ext cx="52920" cy="4057560"/>
                    <a:chOff x="1570680" y="1296000"/>
                    <a:chExt cx="52920" cy="4057560"/>
                  </a:xfrm>
                </p:grpSpPr>
                <p:pic>
                  <p:nvPicPr>
                    <p:cNvPr id="737" name="Freeform 10" descr=""/>
                    <p:cNvPicPr/>
                    <p:nvPr/>
                  </p:nvPicPr>
                  <p:blipFill>
                    <a:blip r:embed="rId20"/>
                    <a:stretch/>
                  </p:blipFill>
                  <p:spPr>
                    <a:xfrm>
                      <a:off x="1570680" y="1296000"/>
                      <a:ext cx="52920" cy="4057560"/>
                    </a:xfrm>
                    <a:prstGeom prst="rect">
                      <a:avLst/>
                    </a:prstGeom>
                    <a:ln w="0">
                      <a:noFill/>
                    </a:ln>
                  </p:spPr>
                </p:pic>
                <p:sp>
                  <p:nvSpPr>
                    <p:cNvPr id="738" name="Text Box 84"/>
                    <p:cNvSpPr/>
                    <p:nvPr/>
                  </p:nvSpPr>
                  <p:spPr>
                    <a:xfrm>
                      <a:off x="1586160" y="1312920"/>
                      <a:ext cx="2448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Group 85"/>
                  <p:cNvGrpSpPr/>
                  <p:nvPr/>
                </p:nvGrpSpPr>
                <p:grpSpPr>
                  <a:xfrm>
                    <a:off x="1499760" y="1296000"/>
                    <a:ext cx="64800" cy="4057560"/>
                    <a:chOff x="1499760" y="1296000"/>
                    <a:chExt cx="64800" cy="4057560"/>
                  </a:xfrm>
                </p:grpSpPr>
                <p:pic>
                  <p:nvPicPr>
                    <p:cNvPr id="740" name="Freeform 11" descr=""/>
                    <p:cNvPicPr/>
                    <p:nvPr/>
                  </p:nvPicPr>
                  <p:blipFill>
                    <a:blip r:embed="rId21"/>
                    <a:stretch/>
                  </p:blipFill>
                  <p:spPr>
                    <a:xfrm>
                      <a:off x="1499760" y="1296000"/>
                      <a:ext cx="64800" cy="4057560"/>
                    </a:xfrm>
                    <a:prstGeom prst="rect">
                      <a:avLst/>
                    </a:prstGeom>
                    <a:ln w="0">
                      <a:noFill/>
                    </a:ln>
                  </p:spPr>
                </p:pic>
                <p:sp>
                  <p:nvSpPr>
                    <p:cNvPr id="741" name="Text Box 87"/>
                    <p:cNvSpPr/>
                    <p:nvPr/>
                  </p:nvSpPr>
                  <p:spPr>
                    <a:xfrm>
                      <a:off x="1516320" y="1312920"/>
                      <a:ext cx="3096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Group 88"/>
                  <p:cNvGrpSpPr/>
                  <p:nvPr/>
                </p:nvGrpSpPr>
                <p:grpSpPr>
                  <a:xfrm>
                    <a:off x="731160" y="1296000"/>
                    <a:ext cx="76680" cy="4057560"/>
                    <a:chOff x="731160" y="1296000"/>
                    <a:chExt cx="76680" cy="4057560"/>
                  </a:xfrm>
                </p:grpSpPr>
                <p:pic>
                  <p:nvPicPr>
                    <p:cNvPr id="743" name="Freeform 12" descr=""/>
                    <p:cNvPicPr/>
                    <p:nvPr/>
                  </p:nvPicPr>
                  <p:blipFill>
                    <a:blip r:embed="rId22"/>
                    <a:stretch/>
                  </p:blipFill>
                  <p:spPr>
                    <a:xfrm>
                      <a:off x="731160" y="1296000"/>
                      <a:ext cx="76680" cy="4057560"/>
                    </a:xfrm>
                    <a:prstGeom prst="rect">
                      <a:avLst/>
                    </a:prstGeom>
                    <a:ln w="0">
                      <a:noFill/>
                    </a:ln>
                  </p:spPr>
                </p:pic>
                <p:sp>
                  <p:nvSpPr>
                    <p:cNvPr id="744" name="Text Box 90"/>
                    <p:cNvSpPr/>
                    <p:nvPr/>
                  </p:nvSpPr>
                  <p:spPr>
                    <a:xfrm>
                      <a:off x="748080" y="1312920"/>
                      <a:ext cx="4392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Group 91"/>
                  <p:cNvGrpSpPr/>
                  <p:nvPr/>
                </p:nvGrpSpPr>
                <p:grpSpPr>
                  <a:xfrm>
                    <a:off x="831600" y="1296000"/>
                    <a:ext cx="70920" cy="4057560"/>
                    <a:chOff x="831600" y="1296000"/>
                    <a:chExt cx="70920" cy="4057560"/>
                  </a:xfrm>
                </p:grpSpPr>
                <p:pic>
                  <p:nvPicPr>
                    <p:cNvPr id="746" name="Freeform 13" descr=""/>
                    <p:cNvPicPr/>
                    <p:nvPr/>
                  </p:nvPicPr>
                  <p:blipFill>
                    <a:blip r:embed="rId23"/>
                    <a:stretch/>
                  </p:blipFill>
                  <p:spPr>
                    <a:xfrm>
                      <a:off x="831600" y="1296000"/>
                      <a:ext cx="70920" cy="4057560"/>
                    </a:xfrm>
                    <a:prstGeom prst="rect">
                      <a:avLst/>
                    </a:prstGeom>
                    <a:ln w="0">
                      <a:noFill/>
                    </a:ln>
                  </p:spPr>
                </p:pic>
                <p:sp>
                  <p:nvSpPr>
                    <p:cNvPr id="747" name="Text Box 93"/>
                    <p:cNvSpPr/>
                    <p:nvPr/>
                  </p:nvSpPr>
                  <p:spPr>
                    <a:xfrm>
                      <a:off x="844200" y="1312920"/>
                      <a:ext cx="4536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8" name="Group 94"/>
                  <p:cNvGrpSpPr/>
                  <p:nvPr/>
                </p:nvGrpSpPr>
                <p:grpSpPr>
                  <a:xfrm>
                    <a:off x="926280" y="1296000"/>
                    <a:ext cx="76680" cy="4057560"/>
                    <a:chOff x="926280" y="1296000"/>
                    <a:chExt cx="76680" cy="4057560"/>
                  </a:xfrm>
                </p:grpSpPr>
                <p:pic>
                  <p:nvPicPr>
                    <p:cNvPr id="749" name="Freeform 14" descr=""/>
                    <p:cNvPicPr/>
                    <p:nvPr/>
                  </p:nvPicPr>
                  <p:blipFill>
                    <a:blip r:embed="rId24"/>
                    <a:stretch/>
                  </p:blipFill>
                  <p:spPr>
                    <a:xfrm>
                      <a:off x="926280" y="1296000"/>
                      <a:ext cx="76680" cy="4057560"/>
                    </a:xfrm>
                    <a:prstGeom prst="rect">
                      <a:avLst/>
                    </a:prstGeom>
                    <a:ln w="0">
                      <a:noFill/>
                    </a:ln>
                  </p:spPr>
                </p:pic>
                <p:sp>
                  <p:nvSpPr>
                    <p:cNvPr id="750" name="Text Box 96"/>
                    <p:cNvSpPr/>
                    <p:nvPr/>
                  </p:nvSpPr>
                  <p:spPr>
                    <a:xfrm>
                      <a:off x="941400" y="1312920"/>
                      <a:ext cx="4392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1" name="Group 97"/>
                  <p:cNvGrpSpPr/>
                  <p:nvPr/>
                </p:nvGrpSpPr>
                <p:grpSpPr>
                  <a:xfrm>
                    <a:off x="1026720" y="1296000"/>
                    <a:ext cx="70920" cy="4057560"/>
                    <a:chOff x="1026720" y="1296000"/>
                    <a:chExt cx="70920" cy="4057560"/>
                  </a:xfrm>
                </p:grpSpPr>
                <p:pic>
                  <p:nvPicPr>
                    <p:cNvPr id="752" name="Freeform 15" descr=""/>
                    <p:cNvPicPr/>
                    <p:nvPr/>
                  </p:nvPicPr>
                  <p:blipFill>
                    <a:blip r:embed="rId25"/>
                    <a:stretch/>
                  </p:blipFill>
                  <p:spPr>
                    <a:xfrm>
                      <a:off x="1026720" y="1296000"/>
                      <a:ext cx="70920" cy="4057560"/>
                    </a:xfrm>
                    <a:prstGeom prst="rect">
                      <a:avLst/>
                    </a:prstGeom>
                    <a:ln w="0">
                      <a:noFill/>
                    </a:ln>
                  </p:spPr>
                </p:pic>
                <p:sp>
                  <p:nvSpPr>
                    <p:cNvPr id="753" name="Text Box 99"/>
                    <p:cNvSpPr/>
                    <p:nvPr/>
                  </p:nvSpPr>
                  <p:spPr>
                    <a:xfrm>
                      <a:off x="1038600" y="1312920"/>
                      <a:ext cx="4428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4" name="Group 100"/>
                  <p:cNvGrpSpPr/>
                  <p:nvPr/>
                </p:nvGrpSpPr>
                <p:grpSpPr>
                  <a:xfrm>
                    <a:off x="1121400" y="1296000"/>
                    <a:ext cx="70920" cy="4057560"/>
                    <a:chOff x="1121400" y="1296000"/>
                    <a:chExt cx="70920" cy="4057560"/>
                  </a:xfrm>
                </p:grpSpPr>
                <p:pic>
                  <p:nvPicPr>
                    <p:cNvPr id="755" name="Freeform 16" descr=""/>
                    <p:cNvPicPr/>
                    <p:nvPr/>
                  </p:nvPicPr>
                  <p:blipFill>
                    <a:blip r:embed="rId26"/>
                    <a:stretch/>
                  </p:blipFill>
                  <p:spPr>
                    <a:xfrm>
                      <a:off x="1121400" y="1296000"/>
                      <a:ext cx="70920" cy="4057560"/>
                    </a:xfrm>
                    <a:prstGeom prst="rect">
                      <a:avLst/>
                    </a:prstGeom>
                    <a:ln w="0">
                      <a:noFill/>
                    </a:ln>
                  </p:spPr>
                </p:pic>
                <p:sp>
                  <p:nvSpPr>
                    <p:cNvPr id="756" name="Text Box 102"/>
                    <p:cNvSpPr/>
                    <p:nvPr/>
                  </p:nvSpPr>
                  <p:spPr>
                    <a:xfrm>
                      <a:off x="1134720" y="1312920"/>
                      <a:ext cx="4536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Group 103"/>
                  <p:cNvGrpSpPr/>
                  <p:nvPr/>
                </p:nvGrpSpPr>
                <p:grpSpPr>
                  <a:xfrm>
                    <a:off x="1216080" y="1296000"/>
                    <a:ext cx="76680" cy="4057560"/>
                    <a:chOff x="1216080" y="1296000"/>
                    <a:chExt cx="76680" cy="4057560"/>
                  </a:xfrm>
                </p:grpSpPr>
                <p:pic>
                  <p:nvPicPr>
                    <p:cNvPr id="758" name="Freeform 17" descr=""/>
                    <p:cNvPicPr/>
                    <p:nvPr/>
                  </p:nvPicPr>
                  <p:blipFill>
                    <a:blip r:embed="rId27"/>
                    <a:stretch/>
                  </p:blipFill>
                  <p:spPr>
                    <a:xfrm>
                      <a:off x="1216080" y="1296000"/>
                      <a:ext cx="76680" cy="4057560"/>
                    </a:xfrm>
                    <a:prstGeom prst="rect">
                      <a:avLst/>
                    </a:prstGeom>
                    <a:ln w="0">
                      <a:noFill/>
                    </a:ln>
                  </p:spPr>
                </p:pic>
                <p:sp>
                  <p:nvSpPr>
                    <p:cNvPr id="759" name="Text Box 105"/>
                    <p:cNvSpPr/>
                    <p:nvPr/>
                  </p:nvSpPr>
                  <p:spPr>
                    <a:xfrm>
                      <a:off x="1232280" y="1312920"/>
                      <a:ext cx="4536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Group 106"/>
                  <p:cNvGrpSpPr/>
                  <p:nvPr/>
                </p:nvGrpSpPr>
                <p:grpSpPr>
                  <a:xfrm>
                    <a:off x="1316520" y="1296000"/>
                    <a:ext cx="70920" cy="4057560"/>
                    <a:chOff x="1316520" y="1296000"/>
                    <a:chExt cx="70920" cy="4057560"/>
                  </a:xfrm>
                </p:grpSpPr>
                <p:pic>
                  <p:nvPicPr>
                    <p:cNvPr id="761" name="Freeform 18" descr=""/>
                    <p:cNvPicPr/>
                    <p:nvPr/>
                  </p:nvPicPr>
                  <p:blipFill>
                    <a:blip r:embed="rId28"/>
                    <a:stretch/>
                  </p:blipFill>
                  <p:spPr>
                    <a:xfrm>
                      <a:off x="1316520" y="1296000"/>
                      <a:ext cx="70920" cy="4057560"/>
                    </a:xfrm>
                    <a:prstGeom prst="rect">
                      <a:avLst/>
                    </a:prstGeom>
                    <a:ln w="0">
                      <a:noFill/>
                    </a:ln>
                  </p:spPr>
                </p:pic>
                <p:sp>
                  <p:nvSpPr>
                    <p:cNvPr id="762" name="Text Box 108"/>
                    <p:cNvSpPr/>
                    <p:nvPr/>
                  </p:nvSpPr>
                  <p:spPr>
                    <a:xfrm>
                      <a:off x="1329480" y="1312920"/>
                      <a:ext cx="4428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3" name="Group 109"/>
                  <p:cNvGrpSpPr/>
                  <p:nvPr/>
                </p:nvGrpSpPr>
                <p:grpSpPr>
                  <a:xfrm>
                    <a:off x="1411200" y="1296000"/>
                    <a:ext cx="76680" cy="4057560"/>
                    <a:chOff x="1411200" y="1296000"/>
                    <a:chExt cx="76680" cy="4057560"/>
                  </a:xfrm>
                </p:grpSpPr>
                <p:pic>
                  <p:nvPicPr>
                    <p:cNvPr id="764" name="Freeform 19" descr=""/>
                    <p:cNvPicPr/>
                    <p:nvPr/>
                  </p:nvPicPr>
                  <p:blipFill>
                    <a:blip r:embed="rId29"/>
                    <a:stretch/>
                  </p:blipFill>
                  <p:spPr>
                    <a:xfrm>
                      <a:off x="1411200" y="1296000"/>
                      <a:ext cx="76680" cy="4057560"/>
                    </a:xfrm>
                    <a:prstGeom prst="rect">
                      <a:avLst/>
                    </a:prstGeom>
                    <a:ln w="0">
                      <a:noFill/>
                    </a:ln>
                  </p:spPr>
                </p:pic>
                <p:sp>
                  <p:nvSpPr>
                    <p:cNvPr id="765" name="Text Box 111"/>
                    <p:cNvSpPr/>
                    <p:nvPr/>
                  </p:nvSpPr>
                  <p:spPr>
                    <a:xfrm>
                      <a:off x="1425600" y="1312920"/>
                      <a:ext cx="45360" cy="402372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66" name="Group 112"/>
              <p:cNvGrpSpPr/>
              <p:nvPr/>
            </p:nvGrpSpPr>
            <p:grpSpPr>
              <a:xfrm>
                <a:off x="299880" y="5370840"/>
                <a:ext cx="1617840" cy="407160"/>
                <a:chOff x="299880" y="5370840"/>
                <a:chExt cx="1617840" cy="407160"/>
              </a:xfrm>
            </p:grpSpPr>
            <p:sp>
              <p:nvSpPr>
                <p:cNvPr id="767" name="Freeform 5"/>
                <p:cNvSpPr/>
                <p:nvPr/>
              </p:nvSpPr>
              <p:spPr>
                <a:xfrm flipV="1">
                  <a:off x="315720" y="5418720"/>
                  <a:ext cx="1586160" cy="73080"/>
                </a:xfrm>
                <a:custGeom>
                  <a:avLst/>
                  <a:gdLst/>
                  <a:ahLst/>
                  <a:rect l="l" t="t" r="r" b="b"/>
                  <a:pathLst>
                    <a:path w="11288" h="728">
                      <a:moveTo>
                        <a:pt x="10819" y="728"/>
                      </a:moveTo>
                      <a:lnTo>
                        <a:pt x="10819" y="728"/>
                      </a:lnTo>
                      <a:lnTo>
                        <a:pt x="10868" y="726"/>
                      </a:lnTo>
                      <a:lnTo>
                        <a:pt x="10915" y="721"/>
                      </a:lnTo>
                      <a:lnTo>
                        <a:pt x="10960" y="711"/>
                      </a:lnTo>
                      <a:lnTo>
                        <a:pt x="11003" y="699"/>
                      </a:lnTo>
                      <a:lnTo>
                        <a:pt x="11044" y="683"/>
                      </a:lnTo>
                      <a:lnTo>
                        <a:pt x="11083" y="666"/>
                      </a:lnTo>
                      <a:lnTo>
                        <a:pt x="11118" y="644"/>
                      </a:lnTo>
                      <a:lnTo>
                        <a:pt x="11151" y="621"/>
                      </a:lnTo>
                      <a:lnTo>
                        <a:pt x="11182" y="596"/>
                      </a:lnTo>
                      <a:lnTo>
                        <a:pt x="11208" y="566"/>
                      </a:lnTo>
                      <a:lnTo>
                        <a:pt x="11231" y="537"/>
                      </a:lnTo>
                      <a:lnTo>
                        <a:pt x="11251" y="506"/>
                      </a:lnTo>
                      <a:lnTo>
                        <a:pt x="11268" y="473"/>
                      </a:lnTo>
                      <a:lnTo>
                        <a:pt x="11278" y="437"/>
                      </a:lnTo>
                      <a:lnTo>
                        <a:pt x="11284" y="418"/>
                      </a:lnTo>
                      <a:lnTo>
                        <a:pt x="11286" y="400"/>
                      </a:lnTo>
                      <a:lnTo>
                        <a:pt x="11288" y="383"/>
                      </a:lnTo>
                      <a:lnTo>
                        <a:pt x="11288" y="363"/>
                      </a:lnTo>
                      <a:lnTo>
                        <a:pt x="11288" y="344"/>
                      </a:lnTo>
                      <a:lnTo>
                        <a:pt x="11286" y="326"/>
                      </a:lnTo>
                      <a:lnTo>
                        <a:pt x="11284" y="308"/>
                      </a:lnTo>
                      <a:lnTo>
                        <a:pt x="11278" y="289"/>
                      </a:lnTo>
                      <a:lnTo>
                        <a:pt x="11268" y="256"/>
                      </a:lnTo>
                      <a:lnTo>
                        <a:pt x="11251" y="221"/>
                      </a:lnTo>
                      <a:lnTo>
                        <a:pt x="11231" y="189"/>
                      </a:lnTo>
                      <a:lnTo>
                        <a:pt x="11208" y="160"/>
                      </a:lnTo>
                      <a:lnTo>
                        <a:pt x="11182" y="131"/>
                      </a:lnTo>
                      <a:lnTo>
                        <a:pt x="11151" y="105"/>
                      </a:lnTo>
                      <a:lnTo>
                        <a:pt x="11118" y="82"/>
                      </a:lnTo>
                      <a:lnTo>
                        <a:pt x="11083" y="60"/>
                      </a:lnTo>
                      <a:lnTo>
                        <a:pt x="11044" y="43"/>
                      </a:lnTo>
                      <a:lnTo>
                        <a:pt x="11003" y="27"/>
                      </a:lnTo>
                      <a:lnTo>
                        <a:pt x="10960" y="16"/>
                      </a:lnTo>
                      <a:lnTo>
                        <a:pt x="10915" y="6"/>
                      </a:lnTo>
                      <a:lnTo>
                        <a:pt x="10868" y="2"/>
                      </a:lnTo>
                      <a:lnTo>
                        <a:pt x="10819" y="0"/>
                      </a:lnTo>
                      <a:lnTo>
                        <a:pt x="469" y="0"/>
                      </a:lnTo>
                      <a:lnTo>
                        <a:pt x="422" y="2"/>
                      </a:lnTo>
                      <a:lnTo>
                        <a:pt x="375" y="6"/>
                      </a:lnTo>
                      <a:lnTo>
                        <a:pt x="330" y="16"/>
                      </a:lnTo>
                      <a:lnTo>
                        <a:pt x="287" y="27"/>
                      </a:lnTo>
                      <a:lnTo>
                        <a:pt x="246" y="43"/>
                      </a:lnTo>
                      <a:lnTo>
                        <a:pt x="207" y="60"/>
                      </a:lnTo>
                      <a:lnTo>
                        <a:pt x="172" y="82"/>
                      </a:lnTo>
                      <a:lnTo>
                        <a:pt x="139" y="105"/>
                      </a:lnTo>
                      <a:lnTo>
                        <a:pt x="108" y="131"/>
                      </a:lnTo>
                      <a:lnTo>
                        <a:pt x="80" y="160"/>
                      </a:lnTo>
                      <a:lnTo>
                        <a:pt x="57" y="189"/>
                      </a:lnTo>
                      <a:lnTo>
                        <a:pt x="37" y="221"/>
                      </a:lnTo>
                      <a:lnTo>
                        <a:pt x="22" y="256"/>
                      </a:lnTo>
                      <a:lnTo>
                        <a:pt x="10" y="289"/>
                      </a:lnTo>
                      <a:lnTo>
                        <a:pt x="6" y="308"/>
                      </a:lnTo>
                      <a:lnTo>
                        <a:pt x="4" y="326"/>
                      </a:lnTo>
                      <a:lnTo>
                        <a:pt x="2" y="344"/>
                      </a:lnTo>
                      <a:lnTo>
                        <a:pt x="0" y="363"/>
                      </a:lnTo>
                      <a:lnTo>
                        <a:pt x="2" y="383"/>
                      </a:lnTo>
                      <a:lnTo>
                        <a:pt x="4" y="400"/>
                      </a:lnTo>
                      <a:lnTo>
                        <a:pt x="6" y="418"/>
                      </a:lnTo>
                      <a:lnTo>
                        <a:pt x="10" y="437"/>
                      </a:lnTo>
                      <a:lnTo>
                        <a:pt x="22" y="473"/>
                      </a:lnTo>
                      <a:lnTo>
                        <a:pt x="37" y="506"/>
                      </a:lnTo>
                      <a:lnTo>
                        <a:pt x="57" y="537"/>
                      </a:lnTo>
                      <a:lnTo>
                        <a:pt x="80" y="566"/>
                      </a:lnTo>
                      <a:lnTo>
                        <a:pt x="108" y="596"/>
                      </a:lnTo>
                      <a:lnTo>
                        <a:pt x="139" y="621"/>
                      </a:lnTo>
                      <a:lnTo>
                        <a:pt x="172" y="644"/>
                      </a:lnTo>
                      <a:lnTo>
                        <a:pt x="207" y="666"/>
                      </a:lnTo>
                      <a:lnTo>
                        <a:pt x="246" y="683"/>
                      </a:lnTo>
                      <a:lnTo>
                        <a:pt x="287" y="699"/>
                      </a:lnTo>
                      <a:lnTo>
                        <a:pt x="330" y="711"/>
                      </a:lnTo>
                      <a:lnTo>
                        <a:pt x="375" y="721"/>
                      </a:lnTo>
                      <a:lnTo>
                        <a:pt x="422" y="726"/>
                      </a:lnTo>
                      <a:lnTo>
                        <a:pt x="469" y="728"/>
                      </a:lnTo>
                      <a:lnTo>
                        <a:pt x="10819" y="728"/>
                      </a:lnTo>
                      <a:close/>
                    </a:path>
                  </a:pathLst>
                </a:custGeom>
                <a:gradFill rotWithShape="0">
                  <a:gsLst>
                    <a:gs pos="0">
                      <a:srgbClr val="7c7c7c"/>
                    </a:gs>
                    <a:gs pos="100000">
                      <a:srgbClr val="a0a0a0"/>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768" name="Freeform 6"/>
                <p:cNvSpPr/>
                <p:nvPr/>
              </p:nvSpPr>
              <p:spPr>
                <a:xfrm flipV="1">
                  <a:off x="315720" y="5618880"/>
                  <a:ext cx="1586160" cy="73080"/>
                </a:xfrm>
                <a:custGeom>
                  <a:avLst/>
                  <a:gdLst/>
                  <a:ahLst/>
                  <a:rect l="l" t="t" r="r" b="b"/>
                  <a:pathLst>
                    <a:path w="11288" h="729">
                      <a:moveTo>
                        <a:pt x="10819" y="729"/>
                      </a:moveTo>
                      <a:lnTo>
                        <a:pt x="10819" y="729"/>
                      </a:lnTo>
                      <a:lnTo>
                        <a:pt x="10868" y="727"/>
                      </a:lnTo>
                      <a:lnTo>
                        <a:pt x="10915" y="721"/>
                      </a:lnTo>
                      <a:lnTo>
                        <a:pt x="10960" y="713"/>
                      </a:lnTo>
                      <a:lnTo>
                        <a:pt x="11003" y="699"/>
                      </a:lnTo>
                      <a:lnTo>
                        <a:pt x="11044" y="686"/>
                      </a:lnTo>
                      <a:lnTo>
                        <a:pt x="11083" y="666"/>
                      </a:lnTo>
                      <a:lnTo>
                        <a:pt x="11118" y="647"/>
                      </a:lnTo>
                      <a:lnTo>
                        <a:pt x="11151" y="623"/>
                      </a:lnTo>
                      <a:lnTo>
                        <a:pt x="11182" y="596"/>
                      </a:lnTo>
                      <a:lnTo>
                        <a:pt x="11208" y="569"/>
                      </a:lnTo>
                      <a:lnTo>
                        <a:pt x="11231" y="539"/>
                      </a:lnTo>
                      <a:lnTo>
                        <a:pt x="11251" y="506"/>
                      </a:lnTo>
                      <a:lnTo>
                        <a:pt x="11268" y="473"/>
                      </a:lnTo>
                      <a:lnTo>
                        <a:pt x="11278" y="438"/>
                      </a:lnTo>
                      <a:lnTo>
                        <a:pt x="11284" y="420"/>
                      </a:lnTo>
                      <a:lnTo>
                        <a:pt x="11286" y="403"/>
                      </a:lnTo>
                      <a:lnTo>
                        <a:pt x="11288" y="383"/>
                      </a:lnTo>
                      <a:lnTo>
                        <a:pt x="11288" y="365"/>
                      </a:lnTo>
                      <a:lnTo>
                        <a:pt x="11288" y="346"/>
                      </a:lnTo>
                      <a:lnTo>
                        <a:pt x="11286" y="328"/>
                      </a:lnTo>
                      <a:lnTo>
                        <a:pt x="11284" y="309"/>
                      </a:lnTo>
                      <a:lnTo>
                        <a:pt x="11278" y="291"/>
                      </a:lnTo>
                      <a:lnTo>
                        <a:pt x="11268" y="256"/>
                      </a:lnTo>
                      <a:lnTo>
                        <a:pt x="11251" y="223"/>
                      </a:lnTo>
                      <a:lnTo>
                        <a:pt x="11231" y="192"/>
                      </a:lnTo>
                      <a:lnTo>
                        <a:pt x="11208" y="160"/>
                      </a:lnTo>
                      <a:lnTo>
                        <a:pt x="11182" y="133"/>
                      </a:lnTo>
                      <a:lnTo>
                        <a:pt x="11151" y="108"/>
                      </a:lnTo>
                      <a:lnTo>
                        <a:pt x="11118" y="84"/>
                      </a:lnTo>
                      <a:lnTo>
                        <a:pt x="11083" y="63"/>
                      </a:lnTo>
                      <a:lnTo>
                        <a:pt x="11044" y="45"/>
                      </a:lnTo>
                      <a:lnTo>
                        <a:pt x="11003" y="30"/>
                      </a:lnTo>
                      <a:lnTo>
                        <a:pt x="10960" y="18"/>
                      </a:lnTo>
                      <a:lnTo>
                        <a:pt x="10915" y="8"/>
                      </a:lnTo>
                      <a:lnTo>
                        <a:pt x="10868" y="2"/>
                      </a:lnTo>
                      <a:lnTo>
                        <a:pt x="10819" y="0"/>
                      </a:lnTo>
                      <a:lnTo>
                        <a:pt x="469" y="0"/>
                      </a:lnTo>
                      <a:lnTo>
                        <a:pt x="422" y="2"/>
                      </a:lnTo>
                      <a:lnTo>
                        <a:pt x="375" y="8"/>
                      </a:lnTo>
                      <a:lnTo>
                        <a:pt x="330" y="18"/>
                      </a:lnTo>
                      <a:lnTo>
                        <a:pt x="287" y="30"/>
                      </a:lnTo>
                      <a:lnTo>
                        <a:pt x="246" y="45"/>
                      </a:lnTo>
                      <a:lnTo>
                        <a:pt x="207" y="63"/>
                      </a:lnTo>
                      <a:lnTo>
                        <a:pt x="172" y="84"/>
                      </a:lnTo>
                      <a:lnTo>
                        <a:pt x="139" y="108"/>
                      </a:lnTo>
                      <a:lnTo>
                        <a:pt x="108" y="133"/>
                      </a:lnTo>
                      <a:lnTo>
                        <a:pt x="80" y="160"/>
                      </a:lnTo>
                      <a:lnTo>
                        <a:pt x="57" y="192"/>
                      </a:lnTo>
                      <a:lnTo>
                        <a:pt x="37" y="223"/>
                      </a:lnTo>
                      <a:lnTo>
                        <a:pt x="22" y="256"/>
                      </a:lnTo>
                      <a:lnTo>
                        <a:pt x="10" y="291"/>
                      </a:lnTo>
                      <a:lnTo>
                        <a:pt x="6" y="309"/>
                      </a:lnTo>
                      <a:lnTo>
                        <a:pt x="4" y="328"/>
                      </a:lnTo>
                      <a:lnTo>
                        <a:pt x="2" y="346"/>
                      </a:lnTo>
                      <a:lnTo>
                        <a:pt x="0" y="365"/>
                      </a:lnTo>
                      <a:lnTo>
                        <a:pt x="2" y="383"/>
                      </a:lnTo>
                      <a:lnTo>
                        <a:pt x="4" y="403"/>
                      </a:lnTo>
                      <a:lnTo>
                        <a:pt x="6" y="420"/>
                      </a:lnTo>
                      <a:lnTo>
                        <a:pt x="10" y="438"/>
                      </a:lnTo>
                      <a:lnTo>
                        <a:pt x="22" y="473"/>
                      </a:lnTo>
                      <a:lnTo>
                        <a:pt x="37" y="506"/>
                      </a:lnTo>
                      <a:lnTo>
                        <a:pt x="57" y="539"/>
                      </a:lnTo>
                      <a:lnTo>
                        <a:pt x="80" y="569"/>
                      </a:lnTo>
                      <a:lnTo>
                        <a:pt x="108" y="596"/>
                      </a:lnTo>
                      <a:lnTo>
                        <a:pt x="139" y="623"/>
                      </a:lnTo>
                      <a:lnTo>
                        <a:pt x="172" y="647"/>
                      </a:lnTo>
                      <a:lnTo>
                        <a:pt x="207" y="666"/>
                      </a:lnTo>
                      <a:lnTo>
                        <a:pt x="246" y="686"/>
                      </a:lnTo>
                      <a:lnTo>
                        <a:pt x="287" y="699"/>
                      </a:lnTo>
                      <a:lnTo>
                        <a:pt x="330" y="713"/>
                      </a:lnTo>
                      <a:lnTo>
                        <a:pt x="375" y="721"/>
                      </a:lnTo>
                      <a:lnTo>
                        <a:pt x="422" y="727"/>
                      </a:lnTo>
                      <a:lnTo>
                        <a:pt x="469" y="729"/>
                      </a:lnTo>
                      <a:lnTo>
                        <a:pt x="10819" y="729"/>
                      </a:lnTo>
                      <a:close/>
                    </a:path>
                  </a:pathLst>
                </a:custGeom>
                <a:gradFill rotWithShape="0">
                  <a:gsLst>
                    <a:gs pos="0">
                      <a:srgbClr val="7c7c7c"/>
                    </a:gs>
                    <a:gs pos="100000">
                      <a:srgbClr val="a0a0a0"/>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769" name="Freeform 7"/>
                <p:cNvSpPr/>
                <p:nvPr/>
              </p:nvSpPr>
              <p:spPr>
                <a:xfrm flipV="1">
                  <a:off x="336240" y="5691960"/>
                  <a:ext cx="1545120" cy="27000"/>
                </a:xfrm>
                <a:custGeom>
                  <a:avLst/>
                  <a:gdLst/>
                  <a:ahLst/>
                  <a:rect l="l" t="t" r="r" b="b"/>
                  <a:pathLst>
                    <a:path w="10992" h="267">
                      <a:moveTo>
                        <a:pt x="10820" y="267"/>
                      </a:moveTo>
                      <a:lnTo>
                        <a:pt x="10820" y="267"/>
                      </a:lnTo>
                      <a:lnTo>
                        <a:pt x="10838" y="267"/>
                      </a:lnTo>
                      <a:lnTo>
                        <a:pt x="10854" y="265"/>
                      </a:lnTo>
                      <a:lnTo>
                        <a:pt x="10871" y="261"/>
                      </a:lnTo>
                      <a:lnTo>
                        <a:pt x="10887" y="257"/>
                      </a:lnTo>
                      <a:lnTo>
                        <a:pt x="10902" y="252"/>
                      </a:lnTo>
                      <a:lnTo>
                        <a:pt x="10916" y="244"/>
                      </a:lnTo>
                      <a:lnTo>
                        <a:pt x="10930" y="238"/>
                      </a:lnTo>
                      <a:lnTo>
                        <a:pt x="10942" y="228"/>
                      </a:lnTo>
                      <a:lnTo>
                        <a:pt x="10953" y="218"/>
                      </a:lnTo>
                      <a:lnTo>
                        <a:pt x="10963" y="209"/>
                      </a:lnTo>
                      <a:lnTo>
                        <a:pt x="10971" y="197"/>
                      </a:lnTo>
                      <a:lnTo>
                        <a:pt x="10979" y="185"/>
                      </a:lnTo>
                      <a:lnTo>
                        <a:pt x="10985" y="174"/>
                      </a:lnTo>
                      <a:lnTo>
                        <a:pt x="10988" y="160"/>
                      </a:lnTo>
                      <a:lnTo>
                        <a:pt x="10992" y="148"/>
                      </a:lnTo>
                      <a:lnTo>
                        <a:pt x="10992" y="134"/>
                      </a:lnTo>
                      <a:lnTo>
                        <a:pt x="10992" y="121"/>
                      </a:lnTo>
                      <a:lnTo>
                        <a:pt x="10988" y="107"/>
                      </a:lnTo>
                      <a:lnTo>
                        <a:pt x="10985" y="93"/>
                      </a:lnTo>
                      <a:lnTo>
                        <a:pt x="10979" y="82"/>
                      </a:lnTo>
                      <a:lnTo>
                        <a:pt x="10971" y="70"/>
                      </a:lnTo>
                      <a:lnTo>
                        <a:pt x="10963" y="58"/>
                      </a:lnTo>
                      <a:lnTo>
                        <a:pt x="10953" y="49"/>
                      </a:lnTo>
                      <a:lnTo>
                        <a:pt x="10942" y="39"/>
                      </a:lnTo>
                      <a:lnTo>
                        <a:pt x="10930" y="31"/>
                      </a:lnTo>
                      <a:lnTo>
                        <a:pt x="10916" y="23"/>
                      </a:lnTo>
                      <a:lnTo>
                        <a:pt x="10902" y="15"/>
                      </a:lnTo>
                      <a:lnTo>
                        <a:pt x="10887" y="9"/>
                      </a:lnTo>
                      <a:lnTo>
                        <a:pt x="10871" y="6"/>
                      </a:lnTo>
                      <a:lnTo>
                        <a:pt x="10854" y="2"/>
                      </a:lnTo>
                      <a:lnTo>
                        <a:pt x="10838" y="0"/>
                      </a:lnTo>
                      <a:lnTo>
                        <a:pt x="10820" y="0"/>
                      </a:lnTo>
                      <a:lnTo>
                        <a:pt x="172" y="0"/>
                      </a:lnTo>
                      <a:lnTo>
                        <a:pt x="154" y="0"/>
                      </a:lnTo>
                      <a:lnTo>
                        <a:pt x="136" y="2"/>
                      </a:lnTo>
                      <a:lnTo>
                        <a:pt x="121" y="6"/>
                      </a:lnTo>
                      <a:lnTo>
                        <a:pt x="105" y="9"/>
                      </a:lnTo>
                      <a:lnTo>
                        <a:pt x="90" y="15"/>
                      </a:lnTo>
                      <a:lnTo>
                        <a:pt x="76" y="23"/>
                      </a:lnTo>
                      <a:lnTo>
                        <a:pt x="62" y="31"/>
                      </a:lnTo>
                      <a:lnTo>
                        <a:pt x="50" y="39"/>
                      </a:lnTo>
                      <a:lnTo>
                        <a:pt x="39" y="49"/>
                      </a:lnTo>
                      <a:lnTo>
                        <a:pt x="29" y="58"/>
                      </a:lnTo>
                      <a:lnTo>
                        <a:pt x="21" y="70"/>
                      </a:lnTo>
                      <a:lnTo>
                        <a:pt x="13" y="82"/>
                      </a:lnTo>
                      <a:lnTo>
                        <a:pt x="7" y="93"/>
                      </a:lnTo>
                      <a:lnTo>
                        <a:pt x="4" y="107"/>
                      </a:lnTo>
                      <a:lnTo>
                        <a:pt x="0" y="121"/>
                      </a:lnTo>
                      <a:lnTo>
                        <a:pt x="0" y="134"/>
                      </a:lnTo>
                      <a:lnTo>
                        <a:pt x="0" y="148"/>
                      </a:lnTo>
                      <a:lnTo>
                        <a:pt x="4" y="160"/>
                      </a:lnTo>
                      <a:lnTo>
                        <a:pt x="7" y="174"/>
                      </a:lnTo>
                      <a:lnTo>
                        <a:pt x="13" y="185"/>
                      </a:lnTo>
                      <a:lnTo>
                        <a:pt x="21" y="197"/>
                      </a:lnTo>
                      <a:lnTo>
                        <a:pt x="29" y="209"/>
                      </a:lnTo>
                      <a:lnTo>
                        <a:pt x="39" y="218"/>
                      </a:lnTo>
                      <a:lnTo>
                        <a:pt x="50" y="228"/>
                      </a:lnTo>
                      <a:lnTo>
                        <a:pt x="62" y="238"/>
                      </a:lnTo>
                      <a:lnTo>
                        <a:pt x="76" y="244"/>
                      </a:lnTo>
                      <a:lnTo>
                        <a:pt x="90" y="252"/>
                      </a:lnTo>
                      <a:lnTo>
                        <a:pt x="105" y="257"/>
                      </a:lnTo>
                      <a:lnTo>
                        <a:pt x="121" y="261"/>
                      </a:lnTo>
                      <a:lnTo>
                        <a:pt x="136" y="265"/>
                      </a:lnTo>
                      <a:lnTo>
                        <a:pt x="154" y="267"/>
                      </a:lnTo>
                      <a:lnTo>
                        <a:pt x="172" y="267"/>
                      </a:lnTo>
                      <a:lnTo>
                        <a:pt x="10820" y="267"/>
                      </a:lnTo>
                      <a:close/>
                    </a:path>
                  </a:pathLst>
                </a:custGeom>
                <a:gradFill rotWithShape="0">
                  <a:gsLst>
                    <a:gs pos="0">
                      <a:srgbClr val="818181"/>
                    </a:gs>
                    <a:gs pos="100000">
                      <a:srgbClr val="a0a0a0"/>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770" name="Freeform 8"/>
                <p:cNvSpPr/>
                <p:nvPr/>
              </p:nvSpPr>
              <p:spPr>
                <a:xfrm flipV="1">
                  <a:off x="299880" y="5749200"/>
                  <a:ext cx="1617840" cy="28440"/>
                </a:xfrm>
                <a:custGeom>
                  <a:avLst/>
                  <a:gdLst/>
                  <a:ahLst/>
                  <a:rect l="l" t="t" r="r" b="b"/>
                  <a:pathLst>
                    <a:path w="11520" h="279">
                      <a:moveTo>
                        <a:pt x="11338" y="279"/>
                      </a:moveTo>
                      <a:lnTo>
                        <a:pt x="11338" y="279"/>
                      </a:lnTo>
                      <a:lnTo>
                        <a:pt x="11358" y="279"/>
                      </a:lnTo>
                      <a:lnTo>
                        <a:pt x="11375" y="277"/>
                      </a:lnTo>
                      <a:lnTo>
                        <a:pt x="11393" y="273"/>
                      </a:lnTo>
                      <a:lnTo>
                        <a:pt x="11409" y="269"/>
                      </a:lnTo>
                      <a:lnTo>
                        <a:pt x="11424" y="264"/>
                      </a:lnTo>
                      <a:lnTo>
                        <a:pt x="11440" y="256"/>
                      </a:lnTo>
                      <a:lnTo>
                        <a:pt x="11454" y="248"/>
                      </a:lnTo>
                      <a:lnTo>
                        <a:pt x="11467" y="238"/>
                      </a:lnTo>
                      <a:lnTo>
                        <a:pt x="11479" y="228"/>
                      </a:lnTo>
                      <a:lnTo>
                        <a:pt x="11489" y="219"/>
                      </a:lnTo>
                      <a:lnTo>
                        <a:pt x="11499" y="207"/>
                      </a:lnTo>
                      <a:lnTo>
                        <a:pt x="11506" y="195"/>
                      </a:lnTo>
                      <a:lnTo>
                        <a:pt x="11512" y="182"/>
                      </a:lnTo>
                      <a:lnTo>
                        <a:pt x="11516" y="168"/>
                      </a:lnTo>
                      <a:lnTo>
                        <a:pt x="11518" y="154"/>
                      </a:lnTo>
                      <a:lnTo>
                        <a:pt x="11520" y="141"/>
                      </a:lnTo>
                      <a:lnTo>
                        <a:pt x="11518" y="125"/>
                      </a:lnTo>
                      <a:lnTo>
                        <a:pt x="11516" y="111"/>
                      </a:lnTo>
                      <a:lnTo>
                        <a:pt x="11512" y="98"/>
                      </a:lnTo>
                      <a:lnTo>
                        <a:pt x="11506" y="86"/>
                      </a:lnTo>
                      <a:lnTo>
                        <a:pt x="11499" y="72"/>
                      </a:lnTo>
                      <a:lnTo>
                        <a:pt x="11489" y="61"/>
                      </a:lnTo>
                      <a:lnTo>
                        <a:pt x="11479" y="51"/>
                      </a:lnTo>
                      <a:lnTo>
                        <a:pt x="11467" y="41"/>
                      </a:lnTo>
                      <a:lnTo>
                        <a:pt x="11454" y="31"/>
                      </a:lnTo>
                      <a:lnTo>
                        <a:pt x="11440" y="23"/>
                      </a:lnTo>
                      <a:lnTo>
                        <a:pt x="11424" y="16"/>
                      </a:lnTo>
                      <a:lnTo>
                        <a:pt x="11409" y="10"/>
                      </a:lnTo>
                      <a:lnTo>
                        <a:pt x="11393" y="6"/>
                      </a:lnTo>
                      <a:lnTo>
                        <a:pt x="11375" y="2"/>
                      </a:lnTo>
                      <a:lnTo>
                        <a:pt x="11358" y="0"/>
                      </a:lnTo>
                      <a:lnTo>
                        <a:pt x="11338" y="0"/>
                      </a:lnTo>
                      <a:lnTo>
                        <a:pt x="182" y="0"/>
                      </a:lnTo>
                      <a:lnTo>
                        <a:pt x="162" y="0"/>
                      </a:lnTo>
                      <a:lnTo>
                        <a:pt x="145" y="2"/>
                      </a:lnTo>
                      <a:lnTo>
                        <a:pt x="127" y="6"/>
                      </a:lnTo>
                      <a:lnTo>
                        <a:pt x="111" y="10"/>
                      </a:lnTo>
                      <a:lnTo>
                        <a:pt x="96" y="16"/>
                      </a:lnTo>
                      <a:lnTo>
                        <a:pt x="80" y="23"/>
                      </a:lnTo>
                      <a:lnTo>
                        <a:pt x="66" y="31"/>
                      </a:lnTo>
                      <a:lnTo>
                        <a:pt x="53" y="41"/>
                      </a:lnTo>
                      <a:lnTo>
                        <a:pt x="41" y="51"/>
                      </a:lnTo>
                      <a:lnTo>
                        <a:pt x="31" y="61"/>
                      </a:lnTo>
                      <a:lnTo>
                        <a:pt x="21" y="72"/>
                      </a:lnTo>
                      <a:lnTo>
                        <a:pt x="14" y="86"/>
                      </a:lnTo>
                      <a:lnTo>
                        <a:pt x="8" y="98"/>
                      </a:lnTo>
                      <a:lnTo>
                        <a:pt x="4" y="111"/>
                      </a:lnTo>
                      <a:lnTo>
                        <a:pt x="2" y="125"/>
                      </a:lnTo>
                      <a:lnTo>
                        <a:pt x="0" y="141"/>
                      </a:lnTo>
                      <a:lnTo>
                        <a:pt x="2" y="154"/>
                      </a:lnTo>
                      <a:lnTo>
                        <a:pt x="4" y="168"/>
                      </a:lnTo>
                      <a:lnTo>
                        <a:pt x="8" y="182"/>
                      </a:lnTo>
                      <a:lnTo>
                        <a:pt x="14" y="195"/>
                      </a:lnTo>
                      <a:lnTo>
                        <a:pt x="21" y="207"/>
                      </a:lnTo>
                      <a:lnTo>
                        <a:pt x="31" y="219"/>
                      </a:lnTo>
                      <a:lnTo>
                        <a:pt x="41" y="228"/>
                      </a:lnTo>
                      <a:lnTo>
                        <a:pt x="53" y="238"/>
                      </a:lnTo>
                      <a:lnTo>
                        <a:pt x="66" y="248"/>
                      </a:lnTo>
                      <a:lnTo>
                        <a:pt x="80" y="256"/>
                      </a:lnTo>
                      <a:lnTo>
                        <a:pt x="96" y="264"/>
                      </a:lnTo>
                      <a:lnTo>
                        <a:pt x="111" y="269"/>
                      </a:lnTo>
                      <a:lnTo>
                        <a:pt x="127" y="273"/>
                      </a:lnTo>
                      <a:lnTo>
                        <a:pt x="145" y="277"/>
                      </a:lnTo>
                      <a:lnTo>
                        <a:pt x="162" y="279"/>
                      </a:lnTo>
                      <a:lnTo>
                        <a:pt x="182" y="279"/>
                      </a:lnTo>
                      <a:lnTo>
                        <a:pt x="11338" y="279"/>
                      </a:lnTo>
                      <a:close/>
                    </a:path>
                  </a:pathLst>
                </a:custGeom>
                <a:gradFill rotWithShape="0">
                  <a:gsLst>
                    <a:gs pos="0">
                      <a:srgbClr val="7c7c7c"/>
                    </a:gs>
                    <a:gs pos="100000">
                      <a:srgbClr val="a0a0a0"/>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771" name="Freeform 9"/>
                <p:cNvSpPr/>
                <p:nvPr/>
              </p:nvSpPr>
              <p:spPr>
                <a:xfrm flipV="1">
                  <a:off x="381600" y="5370480"/>
                  <a:ext cx="1454040" cy="47160"/>
                </a:xfrm>
                <a:custGeom>
                  <a:avLst/>
                  <a:gdLst>
                    <a:gd name="textAreaLeft" fmla="*/ 0 w 1454040"/>
                    <a:gd name="textAreaRight" fmla="*/ 1454400 w 1454040"/>
                    <a:gd name="textAreaTop" fmla="*/ -360 h 47160"/>
                    <a:gd name="textAreaBottom" fmla="*/ 47160 h 47160"/>
                  </a:gdLst>
                  <a:ahLst/>
                  <a:rect l="textAreaLeft" t="textAreaTop" r="textAreaRight" b="textAreaBottom"/>
                  <a:pathLst>
                    <a:path w="10352" h="471">
                      <a:moveTo>
                        <a:pt x="9580" y="471"/>
                      </a:moveTo>
                      <a:lnTo>
                        <a:pt x="772" y="471"/>
                      </a:lnTo>
                      <a:lnTo>
                        <a:pt x="0" y="0"/>
                      </a:lnTo>
                      <a:lnTo>
                        <a:pt x="10352" y="0"/>
                      </a:lnTo>
                      <a:lnTo>
                        <a:pt x="9580" y="471"/>
                      </a:lnTo>
                      <a:close/>
                    </a:path>
                  </a:pathLst>
                </a:custGeom>
                <a:gradFill rotWithShape="0">
                  <a:gsLst>
                    <a:gs pos="0">
                      <a:srgbClr val="383838"/>
                    </a:gs>
                    <a:gs pos="100000">
                      <a:srgbClr val="747474"/>
                    </a:gs>
                  </a:gsLst>
                  <a:lin ang="10800000"/>
                </a:gradFill>
                <a:ln w="0">
                  <a:noFill/>
                </a:ln>
              </p:spPr>
              <p:style>
                <a:lnRef idx="0"/>
                <a:fillRef idx="0"/>
                <a:effectRef idx="0"/>
                <a:fontRef idx="minor"/>
              </p:style>
              <p:txBody>
                <a:bodyPr lIns="18000" rIns="18000" tIns="9000" bIns="9000" anchor="ctr">
                  <a:noAutofit/>
                </a:bodyPr>
                <a:p>
                  <a:endParaRPr b="0" lang="en-US" sz="1800" spc="-1" strike="noStrike">
                    <a:solidFill>
                      <a:srgbClr val="000000"/>
                    </a:solidFill>
                    <a:latin typeface="Arial"/>
                  </a:endParaRPr>
                </a:p>
              </p:txBody>
            </p:sp>
            <p:sp>
              <p:nvSpPr>
                <p:cNvPr id="772" name="Rectangle 10"/>
                <p:cNvSpPr/>
                <p:nvPr/>
              </p:nvSpPr>
              <p:spPr>
                <a:xfrm flipV="1">
                  <a:off x="382320" y="5491800"/>
                  <a:ext cx="1452960" cy="127080"/>
                </a:xfrm>
                <a:prstGeom prst="rect">
                  <a:avLst/>
                </a:prstGeom>
                <a:gradFill rotWithShape="0">
                  <a:gsLst>
                    <a:gs pos="0">
                      <a:srgbClr val="535353"/>
                    </a:gs>
                    <a:gs pos="100000">
                      <a:srgbClr val="939393"/>
                    </a:gs>
                  </a:gsLst>
                  <a:lin ang="10800000"/>
                </a:gradFill>
                <a:ln w="0">
                  <a:noFill/>
                </a:ln>
              </p:spPr>
              <p:style>
                <a:lnRef idx="0"/>
                <a:fillRef idx="0"/>
                <a:effectRef idx="0"/>
                <a:fontRef idx="minor"/>
              </p:style>
              <p:txBody>
                <a:bodyPr lIns="18360" rIns="18360" tIns="9000" bIns="9000" anchor="ctr">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11"/>
                <p:cNvSpPr/>
                <p:nvPr/>
              </p:nvSpPr>
              <p:spPr>
                <a:xfrm flipV="1">
                  <a:off x="361440" y="5718960"/>
                  <a:ext cx="1494360" cy="31680"/>
                </a:xfrm>
                <a:prstGeom prst="rect">
                  <a:avLst/>
                </a:prstGeom>
                <a:gradFill rotWithShape="0">
                  <a:gsLst>
                    <a:gs pos="0">
                      <a:srgbClr val="383838"/>
                    </a:gs>
                    <a:gs pos="100000">
                      <a:srgbClr val="747474"/>
                    </a:gs>
                  </a:gsLst>
                  <a:lin ang="10800000"/>
                </a:gradFill>
                <a:ln w="0">
                  <a:noFill/>
                </a:ln>
              </p:spPr>
              <p:style>
                <a:lnRef idx="0"/>
                <a:fillRef idx="0"/>
                <a:effectRef idx="0"/>
                <a:fontRef idx="minor"/>
              </p:style>
              <p:txBody>
                <a:bodyPr lIns="18360" rIns="18360" tIns="9000" bIns="9000" anchor="ctr">
                  <a:norm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120"/>
                <p:cNvGrpSpPr/>
                <p:nvPr/>
              </p:nvGrpSpPr>
              <p:grpSpPr>
                <a:xfrm>
                  <a:off x="408240" y="5511240"/>
                  <a:ext cx="1394640" cy="92160"/>
                  <a:chOff x="408240" y="5511240"/>
                  <a:chExt cx="1394640" cy="92160"/>
                </a:xfrm>
              </p:grpSpPr>
              <p:grpSp>
                <p:nvGrpSpPr>
                  <p:cNvPr id="775" name="Group 121"/>
                  <p:cNvGrpSpPr/>
                  <p:nvPr/>
                </p:nvGrpSpPr>
                <p:grpSpPr>
                  <a:xfrm>
                    <a:off x="408240" y="5511240"/>
                    <a:ext cx="35640" cy="92160"/>
                    <a:chOff x="408240" y="5511240"/>
                    <a:chExt cx="35640" cy="92160"/>
                  </a:xfrm>
                </p:grpSpPr>
                <p:pic>
                  <p:nvPicPr>
                    <p:cNvPr id="776" name="Freeform 12" descr=""/>
                    <p:cNvPicPr/>
                    <p:nvPr/>
                  </p:nvPicPr>
                  <p:blipFill>
                    <a:blip r:embed="rId30"/>
                    <a:stretch/>
                  </p:blipFill>
                  <p:spPr>
                    <a:xfrm>
                      <a:off x="408240" y="5511240"/>
                      <a:ext cx="35640" cy="92160"/>
                    </a:xfrm>
                    <a:prstGeom prst="rect">
                      <a:avLst/>
                    </a:prstGeom>
                    <a:ln w="0">
                      <a:noFill/>
                    </a:ln>
                  </p:spPr>
                </p:pic>
                <p:sp>
                  <p:nvSpPr>
                    <p:cNvPr id="777" name="Text Box 123"/>
                    <p:cNvSpPr/>
                    <p:nvPr/>
                  </p:nvSpPr>
                  <p:spPr>
                    <a:xfrm rot="10800000">
                      <a:off x="419760" y="5520960"/>
                      <a:ext cx="900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8" name="Group 124"/>
                  <p:cNvGrpSpPr/>
                  <p:nvPr/>
                </p:nvGrpSpPr>
                <p:grpSpPr>
                  <a:xfrm>
                    <a:off x="443880" y="5511240"/>
                    <a:ext cx="41760" cy="92160"/>
                    <a:chOff x="443880" y="5511240"/>
                    <a:chExt cx="41760" cy="92160"/>
                  </a:xfrm>
                </p:grpSpPr>
                <p:pic>
                  <p:nvPicPr>
                    <p:cNvPr id="779" name="Freeform 13" descr=""/>
                    <p:cNvPicPr/>
                    <p:nvPr/>
                  </p:nvPicPr>
                  <p:blipFill>
                    <a:blip r:embed="rId31"/>
                    <a:stretch/>
                  </p:blipFill>
                  <p:spPr>
                    <a:xfrm>
                      <a:off x="443880" y="5511240"/>
                      <a:ext cx="41760" cy="92160"/>
                    </a:xfrm>
                    <a:prstGeom prst="rect">
                      <a:avLst/>
                    </a:prstGeom>
                    <a:ln w="0">
                      <a:noFill/>
                    </a:ln>
                  </p:spPr>
                </p:pic>
                <p:sp>
                  <p:nvSpPr>
                    <p:cNvPr id="780" name="Text Box 126"/>
                    <p:cNvSpPr/>
                    <p:nvPr/>
                  </p:nvSpPr>
                  <p:spPr>
                    <a:xfrm rot="10800000">
                      <a:off x="459720" y="5520960"/>
                      <a:ext cx="136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1" name="Group 127"/>
                  <p:cNvGrpSpPr/>
                  <p:nvPr/>
                </p:nvGrpSpPr>
                <p:grpSpPr>
                  <a:xfrm>
                    <a:off x="497880" y="5511240"/>
                    <a:ext cx="47880" cy="92160"/>
                    <a:chOff x="497880" y="5511240"/>
                    <a:chExt cx="47880" cy="92160"/>
                  </a:xfrm>
                </p:grpSpPr>
                <p:pic>
                  <p:nvPicPr>
                    <p:cNvPr id="782" name="Freeform 14" descr=""/>
                    <p:cNvPicPr/>
                    <p:nvPr/>
                  </p:nvPicPr>
                  <p:blipFill>
                    <a:blip r:embed="rId32"/>
                    <a:stretch/>
                  </p:blipFill>
                  <p:spPr>
                    <a:xfrm>
                      <a:off x="497880" y="5511240"/>
                      <a:ext cx="47880" cy="92160"/>
                    </a:xfrm>
                    <a:prstGeom prst="rect">
                      <a:avLst/>
                    </a:prstGeom>
                    <a:ln w="0">
                      <a:noFill/>
                    </a:ln>
                  </p:spPr>
                </p:pic>
                <p:sp>
                  <p:nvSpPr>
                    <p:cNvPr id="783" name="Text Box 129"/>
                    <p:cNvSpPr/>
                    <p:nvPr/>
                  </p:nvSpPr>
                  <p:spPr>
                    <a:xfrm rot="10800000">
                      <a:off x="510840" y="5520960"/>
                      <a:ext cx="176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4" name="Group 130"/>
                  <p:cNvGrpSpPr/>
                  <p:nvPr/>
                </p:nvGrpSpPr>
                <p:grpSpPr>
                  <a:xfrm>
                    <a:off x="563760" y="5511240"/>
                    <a:ext cx="65520" cy="92160"/>
                    <a:chOff x="563760" y="5511240"/>
                    <a:chExt cx="65520" cy="92160"/>
                  </a:xfrm>
                </p:grpSpPr>
                <p:pic>
                  <p:nvPicPr>
                    <p:cNvPr id="785" name="Freeform 15" descr=""/>
                    <p:cNvPicPr/>
                    <p:nvPr/>
                  </p:nvPicPr>
                  <p:blipFill>
                    <a:blip r:embed="rId33"/>
                    <a:stretch/>
                  </p:blipFill>
                  <p:spPr>
                    <a:xfrm>
                      <a:off x="563760" y="5511240"/>
                      <a:ext cx="65520" cy="92160"/>
                    </a:xfrm>
                    <a:prstGeom prst="rect">
                      <a:avLst/>
                    </a:prstGeom>
                    <a:ln w="0">
                      <a:noFill/>
                    </a:ln>
                  </p:spPr>
                </p:pic>
                <p:sp>
                  <p:nvSpPr>
                    <p:cNvPr id="786" name="Text Box 132"/>
                    <p:cNvSpPr/>
                    <p:nvPr/>
                  </p:nvSpPr>
                  <p:spPr>
                    <a:xfrm rot="10800000">
                      <a:off x="577800" y="5520960"/>
                      <a:ext cx="352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Group 133"/>
                  <p:cNvGrpSpPr/>
                  <p:nvPr/>
                </p:nvGrpSpPr>
                <p:grpSpPr>
                  <a:xfrm>
                    <a:off x="1767240" y="5511240"/>
                    <a:ext cx="35640" cy="92160"/>
                    <a:chOff x="1767240" y="5511240"/>
                    <a:chExt cx="35640" cy="92160"/>
                  </a:xfrm>
                </p:grpSpPr>
                <p:pic>
                  <p:nvPicPr>
                    <p:cNvPr id="788" name="Freeform 16" descr=""/>
                    <p:cNvPicPr/>
                    <p:nvPr/>
                  </p:nvPicPr>
                  <p:blipFill>
                    <a:blip r:embed="rId34"/>
                    <a:stretch/>
                  </p:blipFill>
                  <p:spPr>
                    <a:xfrm>
                      <a:off x="1767240" y="5511240"/>
                      <a:ext cx="35640" cy="92160"/>
                    </a:xfrm>
                    <a:prstGeom prst="rect">
                      <a:avLst/>
                    </a:prstGeom>
                    <a:ln w="0">
                      <a:noFill/>
                    </a:ln>
                  </p:spPr>
                </p:pic>
                <p:sp>
                  <p:nvSpPr>
                    <p:cNvPr id="789" name="Text Box 135"/>
                    <p:cNvSpPr/>
                    <p:nvPr/>
                  </p:nvSpPr>
                  <p:spPr>
                    <a:xfrm rot="10800000">
                      <a:off x="1780200" y="5520960"/>
                      <a:ext cx="900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Group 136"/>
                  <p:cNvGrpSpPr/>
                  <p:nvPr/>
                </p:nvGrpSpPr>
                <p:grpSpPr>
                  <a:xfrm>
                    <a:off x="1719360" y="5511240"/>
                    <a:ext cx="47880" cy="92160"/>
                    <a:chOff x="1719360" y="5511240"/>
                    <a:chExt cx="47880" cy="92160"/>
                  </a:xfrm>
                </p:grpSpPr>
                <p:pic>
                  <p:nvPicPr>
                    <p:cNvPr id="791" name="Freeform 17" descr=""/>
                    <p:cNvPicPr/>
                    <p:nvPr/>
                  </p:nvPicPr>
                  <p:blipFill>
                    <a:blip r:embed="rId35"/>
                    <a:stretch/>
                  </p:blipFill>
                  <p:spPr>
                    <a:xfrm>
                      <a:off x="1719360" y="5511240"/>
                      <a:ext cx="47880" cy="92160"/>
                    </a:xfrm>
                    <a:prstGeom prst="rect">
                      <a:avLst/>
                    </a:prstGeom>
                    <a:ln w="0">
                      <a:noFill/>
                    </a:ln>
                  </p:spPr>
                </p:pic>
                <p:sp>
                  <p:nvSpPr>
                    <p:cNvPr id="792" name="Text Box 138"/>
                    <p:cNvSpPr/>
                    <p:nvPr/>
                  </p:nvSpPr>
                  <p:spPr>
                    <a:xfrm rot="10800000">
                      <a:off x="1735560" y="5520960"/>
                      <a:ext cx="136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Group 139"/>
                  <p:cNvGrpSpPr/>
                  <p:nvPr/>
                </p:nvGrpSpPr>
                <p:grpSpPr>
                  <a:xfrm>
                    <a:off x="1665360" y="5511240"/>
                    <a:ext cx="47880" cy="92160"/>
                    <a:chOff x="1665360" y="5511240"/>
                    <a:chExt cx="47880" cy="92160"/>
                  </a:xfrm>
                </p:grpSpPr>
                <p:pic>
                  <p:nvPicPr>
                    <p:cNvPr id="794" name="Freeform 18" descr=""/>
                    <p:cNvPicPr/>
                    <p:nvPr/>
                  </p:nvPicPr>
                  <p:blipFill>
                    <a:blip r:embed="rId36"/>
                    <a:stretch/>
                  </p:blipFill>
                  <p:spPr>
                    <a:xfrm>
                      <a:off x="1665360" y="5511240"/>
                      <a:ext cx="47880" cy="92160"/>
                    </a:xfrm>
                    <a:prstGeom prst="rect">
                      <a:avLst/>
                    </a:prstGeom>
                    <a:ln w="0">
                      <a:noFill/>
                    </a:ln>
                  </p:spPr>
                </p:pic>
                <p:sp>
                  <p:nvSpPr>
                    <p:cNvPr id="795" name="Text Box 141"/>
                    <p:cNvSpPr/>
                    <p:nvPr/>
                  </p:nvSpPr>
                  <p:spPr>
                    <a:xfrm rot="10800000">
                      <a:off x="1680120" y="5520960"/>
                      <a:ext cx="176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6" name="Group 142"/>
                  <p:cNvGrpSpPr/>
                  <p:nvPr/>
                </p:nvGrpSpPr>
                <p:grpSpPr>
                  <a:xfrm>
                    <a:off x="1581480" y="5511240"/>
                    <a:ext cx="65520" cy="92160"/>
                    <a:chOff x="1581480" y="5511240"/>
                    <a:chExt cx="65520" cy="92160"/>
                  </a:xfrm>
                </p:grpSpPr>
                <p:pic>
                  <p:nvPicPr>
                    <p:cNvPr id="797" name="Freeform 19" descr=""/>
                    <p:cNvPicPr/>
                    <p:nvPr/>
                  </p:nvPicPr>
                  <p:blipFill>
                    <a:blip r:embed="rId37"/>
                    <a:stretch/>
                  </p:blipFill>
                  <p:spPr>
                    <a:xfrm>
                      <a:off x="1581480" y="5511240"/>
                      <a:ext cx="65520" cy="92160"/>
                    </a:xfrm>
                    <a:prstGeom prst="rect">
                      <a:avLst/>
                    </a:prstGeom>
                    <a:ln w="0">
                      <a:noFill/>
                    </a:ln>
                  </p:spPr>
                </p:pic>
                <p:sp>
                  <p:nvSpPr>
                    <p:cNvPr id="798" name="Text Box 144"/>
                    <p:cNvSpPr/>
                    <p:nvPr/>
                  </p:nvSpPr>
                  <p:spPr>
                    <a:xfrm rot="10800000">
                      <a:off x="1596240" y="5520960"/>
                      <a:ext cx="352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9" name="Group 145"/>
                  <p:cNvGrpSpPr/>
                  <p:nvPr/>
                </p:nvGrpSpPr>
                <p:grpSpPr>
                  <a:xfrm>
                    <a:off x="653400" y="5511240"/>
                    <a:ext cx="95760" cy="92160"/>
                    <a:chOff x="653400" y="5511240"/>
                    <a:chExt cx="95760" cy="92160"/>
                  </a:xfrm>
                </p:grpSpPr>
                <p:pic>
                  <p:nvPicPr>
                    <p:cNvPr id="800" name="Freeform 20" descr=""/>
                    <p:cNvPicPr/>
                    <p:nvPr/>
                  </p:nvPicPr>
                  <p:blipFill>
                    <a:blip r:embed="rId38"/>
                    <a:stretch/>
                  </p:blipFill>
                  <p:spPr>
                    <a:xfrm>
                      <a:off x="653400" y="5511240"/>
                      <a:ext cx="95760" cy="92160"/>
                    </a:xfrm>
                    <a:prstGeom prst="rect">
                      <a:avLst/>
                    </a:prstGeom>
                    <a:ln w="0">
                      <a:noFill/>
                    </a:ln>
                  </p:spPr>
                </p:pic>
                <p:sp>
                  <p:nvSpPr>
                    <p:cNvPr id="801" name="Text Box 147"/>
                    <p:cNvSpPr/>
                    <p:nvPr/>
                  </p:nvSpPr>
                  <p:spPr>
                    <a:xfrm rot="10800000">
                      <a:off x="665280" y="5520960"/>
                      <a:ext cx="680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2" name="Group 148"/>
                  <p:cNvGrpSpPr/>
                  <p:nvPr/>
                </p:nvGrpSpPr>
                <p:grpSpPr>
                  <a:xfrm>
                    <a:off x="785160" y="5511240"/>
                    <a:ext cx="95760" cy="92160"/>
                    <a:chOff x="785160" y="5511240"/>
                    <a:chExt cx="95760" cy="92160"/>
                  </a:xfrm>
                </p:grpSpPr>
                <p:pic>
                  <p:nvPicPr>
                    <p:cNvPr id="803" name="Freeform 21" descr=""/>
                    <p:cNvPicPr/>
                    <p:nvPr/>
                  </p:nvPicPr>
                  <p:blipFill>
                    <a:blip r:embed="rId39"/>
                    <a:stretch/>
                  </p:blipFill>
                  <p:spPr>
                    <a:xfrm>
                      <a:off x="785160" y="5511240"/>
                      <a:ext cx="95760" cy="92160"/>
                    </a:xfrm>
                    <a:prstGeom prst="rect">
                      <a:avLst/>
                    </a:prstGeom>
                    <a:ln w="0">
                      <a:noFill/>
                    </a:ln>
                  </p:spPr>
                </p:pic>
                <p:sp>
                  <p:nvSpPr>
                    <p:cNvPr id="804" name="Text Box 150"/>
                    <p:cNvSpPr/>
                    <p:nvPr/>
                  </p:nvSpPr>
                  <p:spPr>
                    <a:xfrm rot="10800000">
                      <a:off x="800280" y="5520960"/>
                      <a:ext cx="676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151"/>
                  <p:cNvGrpSpPr/>
                  <p:nvPr/>
                </p:nvGrpSpPr>
                <p:grpSpPr>
                  <a:xfrm>
                    <a:off x="916920" y="5511240"/>
                    <a:ext cx="101520" cy="92160"/>
                    <a:chOff x="916920" y="5511240"/>
                    <a:chExt cx="101520" cy="92160"/>
                  </a:xfrm>
                </p:grpSpPr>
                <p:pic>
                  <p:nvPicPr>
                    <p:cNvPr id="806" name="Freeform 22" descr=""/>
                    <p:cNvPicPr/>
                    <p:nvPr/>
                  </p:nvPicPr>
                  <p:blipFill>
                    <a:blip r:embed="rId40"/>
                    <a:stretch/>
                  </p:blipFill>
                  <p:spPr>
                    <a:xfrm>
                      <a:off x="916920" y="5511240"/>
                      <a:ext cx="101520" cy="92160"/>
                    </a:xfrm>
                    <a:prstGeom prst="rect">
                      <a:avLst/>
                    </a:prstGeom>
                    <a:ln w="0">
                      <a:noFill/>
                    </a:ln>
                  </p:spPr>
                </p:pic>
                <p:sp>
                  <p:nvSpPr>
                    <p:cNvPr id="807" name="Text Box 153"/>
                    <p:cNvSpPr/>
                    <p:nvPr/>
                  </p:nvSpPr>
                  <p:spPr>
                    <a:xfrm rot="10800000">
                      <a:off x="933840" y="5520960"/>
                      <a:ext cx="6732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8" name="Group 154"/>
                  <p:cNvGrpSpPr/>
                  <p:nvPr/>
                </p:nvGrpSpPr>
                <p:grpSpPr>
                  <a:xfrm>
                    <a:off x="1054800" y="5511240"/>
                    <a:ext cx="95760" cy="92160"/>
                    <a:chOff x="1054800" y="5511240"/>
                    <a:chExt cx="95760" cy="92160"/>
                  </a:xfrm>
                </p:grpSpPr>
                <p:pic>
                  <p:nvPicPr>
                    <p:cNvPr id="809" name="Freeform 23" descr=""/>
                    <p:cNvPicPr/>
                    <p:nvPr/>
                  </p:nvPicPr>
                  <p:blipFill>
                    <a:blip r:embed="rId41"/>
                    <a:stretch/>
                  </p:blipFill>
                  <p:spPr>
                    <a:xfrm>
                      <a:off x="1054800" y="5511240"/>
                      <a:ext cx="95760" cy="92160"/>
                    </a:xfrm>
                    <a:prstGeom prst="rect">
                      <a:avLst/>
                    </a:prstGeom>
                    <a:ln w="0">
                      <a:noFill/>
                    </a:ln>
                  </p:spPr>
                </p:pic>
                <p:sp>
                  <p:nvSpPr>
                    <p:cNvPr id="810" name="Text Box 156"/>
                    <p:cNvSpPr/>
                    <p:nvPr/>
                  </p:nvSpPr>
                  <p:spPr>
                    <a:xfrm rot="10800000">
                      <a:off x="1068120" y="5520960"/>
                      <a:ext cx="680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1" name="Group 157"/>
                  <p:cNvGrpSpPr/>
                  <p:nvPr/>
                </p:nvGrpSpPr>
                <p:grpSpPr>
                  <a:xfrm>
                    <a:off x="1186560" y="5511240"/>
                    <a:ext cx="101520" cy="92160"/>
                    <a:chOff x="1186560" y="5511240"/>
                    <a:chExt cx="101520" cy="92160"/>
                  </a:xfrm>
                </p:grpSpPr>
                <p:pic>
                  <p:nvPicPr>
                    <p:cNvPr id="812" name="Freeform 24" descr=""/>
                    <p:cNvPicPr/>
                    <p:nvPr/>
                  </p:nvPicPr>
                  <p:blipFill>
                    <a:blip r:embed="rId42"/>
                    <a:stretch/>
                  </p:blipFill>
                  <p:spPr>
                    <a:xfrm>
                      <a:off x="1186560" y="5511240"/>
                      <a:ext cx="101520" cy="92160"/>
                    </a:xfrm>
                    <a:prstGeom prst="rect">
                      <a:avLst/>
                    </a:prstGeom>
                    <a:ln w="0">
                      <a:noFill/>
                    </a:ln>
                  </p:spPr>
                </p:pic>
                <p:sp>
                  <p:nvSpPr>
                    <p:cNvPr id="813" name="Text Box 159"/>
                    <p:cNvSpPr/>
                    <p:nvPr/>
                  </p:nvSpPr>
                  <p:spPr>
                    <a:xfrm rot="10800000">
                      <a:off x="1202400" y="5520960"/>
                      <a:ext cx="6732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4" name="Group 160"/>
                  <p:cNvGrpSpPr/>
                  <p:nvPr/>
                </p:nvGrpSpPr>
                <p:grpSpPr>
                  <a:xfrm>
                    <a:off x="1324080" y="5511240"/>
                    <a:ext cx="95760" cy="92160"/>
                    <a:chOff x="1324080" y="5511240"/>
                    <a:chExt cx="95760" cy="92160"/>
                  </a:xfrm>
                </p:grpSpPr>
                <p:pic>
                  <p:nvPicPr>
                    <p:cNvPr id="815" name="Freeform 25" descr=""/>
                    <p:cNvPicPr/>
                    <p:nvPr/>
                  </p:nvPicPr>
                  <p:blipFill>
                    <a:blip r:embed="rId43"/>
                    <a:stretch/>
                  </p:blipFill>
                  <p:spPr>
                    <a:xfrm>
                      <a:off x="1324080" y="5511240"/>
                      <a:ext cx="95760" cy="92160"/>
                    </a:xfrm>
                    <a:prstGeom prst="rect">
                      <a:avLst/>
                    </a:prstGeom>
                    <a:ln w="0">
                      <a:noFill/>
                    </a:ln>
                  </p:spPr>
                </p:pic>
                <p:sp>
                  <p:nvSpPr>
                    <p:cNvPr id="816" name="Text Box 162"/>
                    <p:cNvSpPr/>
                    <p:nvPr/>
                  </p:nvSpPr>
                  <p:spPr>
                    <a:xfrm rot="10800000">
                      <a:off x="1336680" y="5520960"/>
                      <a:ext cx="6768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7" name="Group 163"/>
                  <p:cNvGrpSpPr/>
                  <p:nvPr/>
                </p:nvGrpSpPr>
                <p:grpSpPr>
                  <a:xfrm>
                    <a:off x="1455840" y="5511240"/>
                    <a:ext cx="95760" cy="92160"/>
                    <a:chOff x="1455840" y="5511240"/>
                    <a:chExt cx="95760" cy="92160"/>
                  </a:xfrm>
                </p:grpSpPr>
                <p:pic>
                  <p:nvPicPr>
                    <p:cNvPr id="818" name="Freeform 26" descr=""/>
                    <p:cNvPicPr/>
                    <p:nvPr/>
                  </p:nvPicPr>
                  <p:blipFill>
                    <a:blip r:embed="rId44"/>
                    <a:stretch/>
                  </p:blipFill>
                  <p:spPr>
                    <a:xfrm>
                      <a:off x="1455840" y="5511240"/>
                      <a:ext cx="95760" cy="92160"/>
                    </a:xfrm>
                    <a:prstGeom prst="rect">
                      <a:avLst/>
                    </a:prstGeom>
                    <a:ln w="0">
                      <a:noFill/>
                    </a:ln>
                  </p:spPr>
                </p:pic>
                <p:sp>
                  <p:nvSpPr>
                    <p:cNvPr id="819" name="Text Box 165"/>
                    <p:cNvSpPr/>
                    <p:nvPr/>
                  </p:nvSpPr>
                  <p:spPr>
                    <a:xfrm rot="10800000">
                      <a:off x="1470600" y="5520960"/>
                      <a:ext cx="68040" cy="698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820" name="TextBox 3"/>
            <p:cNvSpPr/>
            <p:nvPr/>
          </p:nvSpPr>
          <p:spPr>
            <a:xfrm>
              <a:off x="453600" y="1491840"/>
              <a:ext cx="1306800" cy="870480"/>
            </a:xfrm>
            <a:prstGeom prst="rect">
              <a:avLst/>
            </a:prstGeom>
            <a:noFill/>
            <a:ln w="0">
              <a:noFill/>
            </a:ln>
            <a:effectLst>
              <a:outerShdw dist="38222" dir="7196741" blurRad="0" rotWithShape="0">
                <a:srgbClr val="000000">
                  <a:alpha val="59000"/>
                </a:srgbClr>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emple Column Element 1</a:t>
              </a:r>
              <a:endParaRPr b="0" lang="en-US" sz="2000" spc="-1" strike="noStrike">
                <a:solidFill>
                  <a:srgbClr val="000000"/>
                </a:solidFill>
                <a:latin typeface="Arial"/>
              </a:endParaRPr>
            </a:p>
          </p:txBody>
        </p:sp>
        <p:pic>
          <p:nvPicPr>
            <p:cNvPr id="821" name="Group 189" descr=""/>
            <p:cNvPicPr/>
            <p:nvPr/>
          </p:nvPicPr>
          <p:blipFill>
            <a:blip r:embed="rId45"/>
            <a:stretch/>
          </p:blipFill>
          <p:spPr>
            <a:xfrm>
              <a:off x="353160" y="3047760"/>
              <a:ext cx="1512000" cy="408240"/>
            </a:xfrm>
            <a:prstGeom prst="rect">
              <a:avLst/>
            </a:prstGeom>
            <a:ln w="0">
              <a:noFill/>
            </a:ln>
          </p:spPr>
        </p:pic>
      </p:grpSp>
      <p:sp>
        <p:nvSpPr>
          <p:cNvPr id="822" name="TextBox 134"/>
          <p:cNvSpPr/>
          <p:nvPr/>
        </p:nvSpPr>
        <p:spPr>
          <a:xfrm>
            <a:off x="4165560" y="143496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a:t>
            </a:r>
            <a:endParaRPr b="0" lang="en-US" sz="2000" spc="-1" strike="noStrike">
              <a:solidFill>
                <a:srgbClr val="000000"/>
              </a:solidFill>
              <a:latin typeface="Arial"/>
            </a:endParaRPr>
          </a:p>
        </p:txBody>
      </p:sp>
      <p:sp>
        <p:nvSpPr>
          <p:cNvPr id="823" name="TextBox 135"/>
          <p:cNvSpPr/>
          <p:nvPr/>
        </p:nvSpPr>
        <p:spPr>
          <a:xfrm>
            <a:off x="4165560" y="175248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a:t>
            </a:r>
            <a:endParaRPr b="0" lang="en-US" sz="2000" spc="-1" strike="noStrike">
              <a:solidFill>
                <a:srgbClr val="000000"/>
              </a:solidFill>
              <a:latin typeface="Arial"/>
            </a:endParaRPr>
          </a:p>
        </p:txBody>
      </p:sp>
      <p:sp>
        <p:nvSpPr>
          <p:cNvPr id="824" name="TextBox 137"/>
          <p:cNvSpPr/>
          <p:nvPr/>
        </p:nvSpPr>
        <p:spPr>
          <a:xfrm>
            <a:off x="4165560" y="204480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a:t>
            </a:r>
            <a:endParaRPr b="0" lang="en-US" sz="2000" spc="-1" strike="noStrike">
              <a:solidFill>
                <a:srgbClr val="000000"/>
              </a:solidFill>
              <a:latin typeface="Arial"/>
            </a:endParaRPr>
          </a:p>
        </p:txBody>
      </p:sp>
      <p:sp>
        <p:nvSpPr>
          <p:cNvPr id="825" name="TextBox 138"/>
          <p:cNvSpPr/>
          <p:nvPr/>
        </p:nvSpPr>
        <p:spPr>
          <a:xfrm>
            <a:off x="4165560" y="235584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a:t>
            </a:r>
            <a:endParaRPr b="0" lang="en-US" sz="2000" spc="-1" strike="noStrike">
              <a:solidFill>
                <a:srgbClr val="000000"/>
              </a:solidFill>
              <a:latin typeface="Arial"/>
            </a:endParaRPr>
          </a:p>
        </p:txBody>
      </p:sp>
      <p:sp>
        <p:nvSpPr>
          <p:cNvPr id="826" name="TextBox 139"/>
          <p:cNvSpPr/>
          <p:nvPr/>
        </p:nvSpPr>
        <p:spPr>
          <a:xfrm>
            <a:off x="4165560" y="311148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a:t>
            </a:r>
            <a:endParaRPr b="0" lang="en-US" sz="2000" spc="-1" strike="noStrike">
              <a:solidFill>
                <a:srgbClr val="000000"/>
              </a:solidFill>
              <a:latin typeface="Arial"/>
            </a:endParaRPr>
          </a:p>
        </p:txBody>
      </p:sp>
      <p:sp>
        <p:nvSpPr>
          <p:cNvPr id="827" name="TextBox 141"/>
          <p:cNvSpPr/>
          <p:nvPr/>
        </p:nvSpPr>
        <p:spPr>
          <a:xfrm>
            <a:off x="4165560" y="2660760"/>
            <a:ext cx="5223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a:t>
            </a:r>
            <a:endParaRPr b="0" lang="en-US" sz="2000" spc="-1" strike="noStrike">
              <a:solidFill>
                <a:srgbClr val="000000"/>
              </a:solidFill>
              <a:latin typeface="Arial"/>
            </a:endParaRPr>
          </a:p>
        </p:txBody>
      </p:sp>
      <p:sp>
        <p:nvSpPr>
          <p:cNvPr id="828" name="Rectangle 70"/>
          <p:cNvSpPr/>
          <p:nvPr/>
        </p:nvSpPr>
        <p:spPr>
          <a:xfrm>
            <a:off x="6692760" y="97776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rm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in this location</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829" name="Oval 142"/>
          <p:cNvSpPr/>
          <p:nvPr/>
        </p:nvSpPr>
        <p:spPr>
          <a:xfrm>
            <a:off x="6400800" y="115560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a:t>
            </a:r>
            <a:endParaRPr b="0" lang="en-US" sz="2000" spc="-1" strike="noStrike">
              <a:solidFill>
                <a:srgbClr val="000000"/>
              </a:solidFill>
              <a:latin typeface="Arial"/>
            </a:endParaRPr>
          </a:p>
        </p:txBody>
      </p:sp>
      <p:sp>
        <p:nvSpPr>
          <p:cNvPr id="830" name="Rectangle 70"/>
          <p:cNvSpPr/>
          <p:nvPr/>
        </p:nvSpPr>
        <p:spPr>
          <a:xfrm>
            <a:off x="6692760" y="173520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rm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words in this area</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831" name="Oval 148"/>
          <p:cNvSpPr/>
          <p:nvPr/>
        </p:nvSpPr>
        <p:spPr>
          <a:xfrm>
            <a:off x="6400800" y="1913040"/>
            <a:ext cx="355680" cy="35532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a:t>
            </a:r>
            <a:endParaRPr b="0" lang="en-US" sz="2000" spc="-1" strike="noStrike">
              <a:solidFill>
                <a:srgbClr val="000000"/>
              </a:solidFill>
              <a:latin typeface="Arial"/>
            </a:endParaRPr>
          </a:p>
        </p:txBody>
      </p:sp>
      <p:sp>
        <p:nvSpPr>
          <p:cNvPr id="832" name="Rectangle 70"/>
          <p:cNvSpPr/>
          <p:nvPr/>
        </p:nvSpPr>
        <p:spPr>
          <a:xfrm>
            <a:off x="6692760" y="249228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rm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Place your text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833" name="Oval 151"/>
          <p:cNvSpPr/>
          <p:nvPr/>
        </p:nvSpPr>
        <p:spPr>
          <a:xfrm>
            <a:off x="6400800" y="267012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a:t>
            </a:r>
            <a:endParaRPr b="0" lang="en-US" sz="2000" spc="-1" strike="noStrike">
              <a:solidFill>
                <a:srgbClr val="000000"/>
              </a:solidFill>
              <a:latin typeface="Arial"/>
            </a:endParaRPr>
          </a:p>
        </p:txBody>
      </p:sp>
      <p:sp>
        <p:nvSpPr>
          <p:cNvPr id="834" name="Rectangle 70"/>
          <p:cNvSpPr/>
          <p:nvPr/>
        </p:nvSpPr>
        <p:spPr>
          <a:xfrm>
            <a:off x="6692760" y="324792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rm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in this location</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835" name="Oval 154"/>
          <p:cNvSpPr/>
          <p:nvPr/>
        </p:nvSpPr>
        <p:spPr>
          <a:xfrm>
            <a:off x="6400800" y="342576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a:t>
            </a:r>
            <a:endParaRPr b="0" lang="en-US" sz="2000" spc="-1" strike="noStrike">
              <a:solidFill>
                <a:srgbClr val="000000"/>
              </a:solidFill>
              <a:latin typeface="Arial"/>
            </a:endParaRPr>
          </a:p>
        </p:txBody>
      </p:sp>
      <p:sp>
        <p:nvSpPr>
          <p:cNvPr id="836" name="Rectangle 70"/>
          <p:cNvSpPr/>
          <p:nvPr/>
        </p:nvSpPr>
        <p:spPr>
          <a:xfrm>
            <a:off x="6692760" y="400536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rm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in this location</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837" name="Oval 157"/>
          <p:cNvSpPr/>
          <p:nvPr/>
        </p:nvSpPr>
        <p:spPr>
          <a:xfrm>
            <a:off x="6400800" y="4183200"/>
            <a:ext cx="355680" cy="35532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a:t>
            </a:r>
            <a:endParaRPr b="0" lang="en-US" sz="2000" spc="-1" strike="noStrike">
              <a:solidFill>
                <a:srgbClr val="000000"/>
              </a:solidFill>
              <a:latin typeface="Arial"/>
            </a:endParaRPr>
          </a:p>
        </p:txBody>
      </p:sp>
      <p:sp>
        <p:nvSpPr>
          <p:cNvPr id="838" name="Rectangle 70"/>
          <p:cNvSpPr/>
          <p:nvPr/>
        </p:nvSpPr>
        <p:spPr>
          <a:xfrm>
            <a:off x="6692760" y="4762440"/>
            <a:ext cx="2362320" cy="723960"/>
          </a:xfrm>
          <a:prstGeom prst="roundRect">
            <a:avLst>
              <a:gd name="adj" fmla="val 16667"/>
            </a:avLst>
          </a:prstGeom>
          <a:gradFill rotWithShape="0">
            <a:gsLst>
              <a:gs pos="0">
                <a:srgbClr val="ffffff">
                  <a:alpha val="0"/>
                </a:srgbClr>
              </a:gs>
              <a:gs pos="100000">
                <a:srgbClr val="f8e5ba"/>
              </a:gs>
            </a:gsLst>
            <a:lin ang="10800000"/>
          </a:gradFill>
          <a:ln w="0">
            <a:noFill/>
          </a:ln>
        </p:spPr>
        <p:style>
          <a:lnRef idx="0"/>
          <a:fillRef idx="0"/>
          <a:effectRef idx="0"/>
          <a:fontRef idx="minor"/>
        </p:style>
        <p:txBody>
          <a:bodyPr lIns="45720" rIns="27360" tIns="18360" bIns="18360" anchor="ctr">
            <a:normAutofit/>
          </a:bodyPr>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words in this area</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Your text can be placed here</a:t>
            </a:r>
            <a:endParaRPr b="0" lang="en-US" sz="1400" spc="-1" strike="noStrike">
              <a:solidFill>
                <a:srgbClr val="000000"/>
              </a:solidFill>
              <a:latin typeface="Arial"/>
            </a:endParaRPr>
          </a:p>
          <a:p>
            <a:pPr marL="111240" indent="-111240">
              <a:lnSpc>
                <a:spcPct val="85000"/>
              </a:lnSpc>
              <a:spcBef>
                <a:spcPts val="99"/>
              </a:spcBef>
              <a:buClr>
                <a:srgbClr val="936e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36e29"/>
                </a:solidFill>
                <a:latin typeface="Arial Narrow"/>
              </a:rPr>
              <a:t>Add your content here if needed</a:t>
            </a:r>
            <a:endParaRPr b="0" lang="en-US" sz="1400" spc="-1" strike="noStrike">
              <a:solidFill>
                <a:srgbClr val="000000"/>
              </a:solidFill>
              <a:latin typeface="Arial"/>
            </a:endParaRPr>
          </a:p>
        </p:txBody>
      </p:sp>
      <p:sp>
        <p:nvSpPr>
          <p:cNvPr id="839" name="Oval 160"/>
          <p:cNvSpPr/>
          <p:nvPr/>
        </p:nvSpPr>
        <p:spPr>
          <a:xfrm>
            <a:off x="6400800" y="4940280"/>
            <a:ext cx="355680" cy="355680"/>
          </a:xfrm>
          <a:prstGeom prst="ellipse">
            <a:avLst/>
          </a:prstGeom>
          <a:solidFill>
            <a:srgbClr val="4f3300"/>
          </a:solidFill>
          <a:ln w="12600">
            <a:solidFill>
              <a:srgbClr val="ffffff"/>
            </a:solidFill>
            <a:miter/>
          </a:ln>
        </p:spPr>
        <p:style>
          <a:lnRef idx="0"/>
          <a:fillRef idx="0"/>
          <a:effectRef idx="0"/>
          <a:fontRef idx="minor"/>
        </p:style>
        <p:txBody>
          <a:bodyPr lIns="18360" rIns="18360" tIns="9000" bIns="9000" anchor="ctr">
            <a:norm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a:t>
            </a:r>
            <a:endParaRPr b="0" lang="en-US" sz="2000" spc="-1" strike="noStrike">
              <a:solidFill>
                <a:srgbClr val="000000"/>
              </a:solidFill>
              <a:latin typeface="Arial"/>
            </a:endParaRPr>
          </a:p>
        </p:txBody>
      </p:sp>
      <p:sp>
        <p:nvSpPr>
          <p:cNvPr id="840" name="TextBox 308"/>
          <p:cNvSpPr/>
          <p:nvPr/>
        </p:nvSpPr>
        <p:spPr>
          <a:xfrm>
            <a:off x="1676520" y="6427800"/>
            <a:ext cx="57909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Arial"/>
                <a:ea typeface="Arial"/>
              </a:rPr>
              <a:t>When scaling, group all elements to be scaled. Scale as needed. Use the “Increase Font Size,” “Decrease Font Size” buttons or manually change the font size for the editable text.</a:t>
            </a:r>
            <a:endParaRPr b="0" lang="en-US" sz="1100" spc="-1" strike="noStrike">
              <a:solidFill>
                <a:srgbClr val="000000"/>
              </a:solidFill>
              <a:latin typeface="Arial"/>
            </a:endParaRPr>
          </a:p>
        </p:txBody>
      </p:sp>
      <p:sp>
        <p:nvSpPr>
          <p:cNvPr id="841" name="TextBox 38">
            <a:hlinkClick r:id="rId46"/>
          </p:cNvPr>
          <p:cNvSpPr/>
          <p:nvPr/>
        </p:nvSpPr>
        <p:spPr>
          <a:xfrm>
            <a:off x="4255920" y="6456240"/>
            <a:ext cx="488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Arial"/>
                <a:ea typeface="MS PGothic"/>
              </a:rPr>
              <a:t>锐普</a:t>
            </a:r>
            <a:r>
              <a:rPr b="0" lang="en-US" sz="1800" spc="-1" strike="noStrike">
                <a:solidFill>
                  <a:srgbClr val="000000"/>
                </a:solidFill>
                <a:latin typeface="Arial"/>
                <a:ea typeface="MS PGothic"/>
              </a:rPr>
              <a:t>PPT</a:t>
            </a:r>
            <a:r>
              <a:rPr b="0" lang="zh-CN" sz="1800" spc="-1" strike="noStrike">
                <a:solidFill>
                  <a:srgbClr val="000000"/>
                </a:solidFill>
                <a:latin typeface="Arial"/>
                <a:ea typeface="MS PGothic"/>
              </a:rPr>
              <a:t>论坛</a:t>
            </a:r>
            <a:r>
              <a:rPr b="0" lang="en-US" sz="1800" spc="-1" strike="noStrike">
                <a:solidFill>
                  <a:srgbClr val="000000"/>
                </a:solidFill>
                <a:latin typeface="Arial"/>
                <a:ea typeface="MS PGothic"/>
              </a:rPr>
              <a:t>sxt66329</a:t>
            </a:r>
            <a:r>
              <a:rPr b="0" lang="zh-CN" sz="1800" spc="-1" strike="noStrike">
                <a:solidFill>
                  <a:srgbClr val="000000"/>
                </a:solidFill>
                <a:latin typeface="Arial"/>
                <a:ea typeface="MS PGothic"/>
              </a:rPr>
              <a:t>首发：</a:t>
            </a:r>
            <a:r>
              <a:rPr b="0" lang="en-US" sz="1800" spc="-1" strike="noStrike">
                <a:solidFill>
                  <a:srgbClr val="000000"/>
                </a:solidFill>
                <a:latin typeface="Arial"/>
                <a:ea typeface="MS PGothic"/>
              </a:rPr>
              <a:t>www.rapidbbs.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2" name="Group 2"/>
          <p:cNvGrpSpPr/>
          <p:nvPr/>
        </p:nvGrpSpPr>
        <p:grpSpPr>
          <a:xfrm>
            <a:off x="1450800" y="5486400"/>
            <a:ext cx="4059360" cy="1066680"/>
            <a:chOff x="1450800" y="5486400"/>
            <a:chExt cx="4059360" cy="1066680"/>
          </a:xfrm>
        </p:grpSpPr>
        <p:pic>
          <p:nvPicPr>
            <p:cNvPr id="843" name="Oval 22" descr=""/>
            <p:cNvPicPr/>
            <p:nvPr/>
          </p:nvPicPr>
          <p:blipFill>
            <a:blip r:embed="rId1"/>
            <a:stretch/>
          </p:blipFill>
          <p:spPr>
            <a:xfrm>
              <a:off x="1450800" y="5486400"/>
              <a:ext cx="4059360" cy="1066680"/>
            </a:xfrm>
            <a:prstGeom prst="rect">
              <a:avLst/>
            </a:prstGeom>
            <a:ln w="0">
              <a:noFill/>
            </a:ln>
          </p:spPr>
        </p:pic>
        <p:sp>
          <p:nvSpPr>
            <p:cNvPr id="844" name="Text Box 4"/>
            <p:cNvSpPr/>
            <p:nvPr/>
          </p:nvSpPr>
          <p:spPr>
            <a:xfrm>
              <a:off x="2043000" y="5641920"/>
              <a:ext cx="2873160" cy="755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Group 5"/>
          <p:cNvGrpSpPr/>
          <p:nvPr/>
        </p:nvGrpSpPr>
        <p:grpSpPr>
          <a:xfrm>
            <a:off x="1320840" y="1203480"/>
            <a:ext cx="4419720" cy="4419360"/>
            <a:chOff x="1320840" y="1203480"/>
            <a:chExt cx="4419720" cy="4419360"/>
          </a:xfrm>
        </p:grpSpPr>
        <p:grpSp>
          <p:nvGrpSpPr>
            <p:cNvPr id="846" name="Group 6"/>
            <p:cNvGrpSpPr/>
            <p:nvPr/>
          </p:nvGrpSpPr>
          <p:grpSpPr>
            <a:xfrm>
              <a:off x="1320840" y="1203480"/>
              <a:ext cx="4419720" cy="4417200"/>
              <a:chOff x="1320840" y="1203480"/>
              <a:chExt cx="4419720" cy="4417200"/>
            </a:xfrm>
          </p:grpSpPr>
          <p:pic>
            <p:nvPicPr>
              <p:cNvPr id="847" name="Freeform 5" descr=""/>
              <p:cNvPicPr/>
              <p:nvPr/>
            </p:nvPicPr>
            <p:blipFill>
              <a:blip r:embed="rId2"/>
              <a:stretch/>
            </p:blipFill>
            <p:spPr>
              <a:xfrm>
                <a:off x="1322640" y="1203480"/>
                <a:ext cx="4417920" cy="4415040"/>
              </a:xfrm>
              <a:prstGeom prst="rect">
                <a:avLst/>
              </a:prstGeom>
              <a:ln w="0">
                <a:noFill/>
              </a:ln>
            </p:spPr>
          </p:pic>
          <p:sp>
            <p:nvSpPr>
              <p:cNvPr id="848" name="Text Box 8"/>
              <p:cNvSpPr/>
              <p:nvPr/>
            </p:nvSpPr>
            <p:spPr>
              <a:xfrm>
                <a:off x="1320840" y="1205640"/>
                <a:ext cx="4417920" cy="4415040"/>
              </a:xfrm>
              <a:prstGeom prst="rect">
                <a:avLst/>
              </a:prstGeom>
              <a:noFill/>
              <a:ln w="0">
                <a:noFill/>
              </a:ln>
            </p:spPr>
            <p:style>
              <a:lnRef idx="0"/>
              <a:fillRef idx="0"/>
              <a:effectRef idx="0"/>
              <a:fontRef idx="minor"/>
            </p:style>
            <p:txBody>
              <a:bodyPr lIns="18360" rIns="18360" tIns="18360" bIns="18360" anchor="ctr" anchorCtr="1">
                <a:norm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9" name="Group 9"/>
            <p:cNvGrpSpPr/>
            <p:nvPr/>
          </p:nvGrpSpPr>
          <p:grpSpPr>
            <a:xfrm>
              <a:off x="2152440" y="1205640"/>
              <a:ext cx="3585960" cy="4417200"/>
              <a:chOff x="2152440" y="1205640"/>
              <a:chExt cx="3585960" cy="4417200"/>
            </a:xfrm>
          </p:grpSpPr>
          <p:sp>
            <p:nvSpPr>
              <p:cNvPr id="850" name="Freeform 6"/>
              <p:cNvSpPr/>
              <p:nvPr/>
            </p:nvSpPr>
            <p:spPr>
              <a:xfrm>
                <a:off x="2152440" y="1205640"/>
                <a:ext cx="1375920" cy="4417200"/>
              </a:xfrm>
              <a:custGeom>
                <a:avLst/>
                <a:gdLst>
                  <a:gd name="textAreaLeft" fmla="*/ 0 w 1375920"/>
                  <a:gd name="textAreaRight" fmla="*/ 1376280 w 1375920"/>
                  <a:gd name="textAreaTop" fmla="*/ 0 h 4417200"/>
                  <a:gd name="textAreaBottom" fmla="*/ 4417560 h 4417200"/>
                </a:gdLst>
                <a:ahLst/>
                <a:rect l="textAreaLeft" t="textAreaTop" r="textAreaRight" b="textAreaBottom"/>
                <a:pathLst>
                  <a:path w="1345" h="4320">
                    <a:moveTo>
                      <a:pt x="1345" y="0"/>
                    </a:moveTo>
                    <a:lnTo>
                      <a:pt x="1345" y="0"/>
                    </a:lnTo>
                    <a:lnTo>
                      <a:pt x="1311" y="1"/>
                    </a:lnTo>
                    <a:lnTo>
                      <a:pt x="1275" y="3"/>
                    </a:lnTo>
                    <a:lnTo>
                      <a:pt x="1241" y="6"/>
                    </a:lnTo>
                    <a:lnTo>
                      <a:pt x="1207" y="12"/>
                    </a:lnTo>
                    <a:lnTo>
                      <a:pt x="1173" y="18"/>
                    </a:lnTo>
                    <a:lnTo>
                      <a:pt x="1141" y="25"/>
                    </a:lnTo>
                    <a:lnTo>
                      <a:pt x="1107" y="34"/>
                    </a:lnTo>
                    <a:lnTo>
                      <a:pt x="1074" y="44"/>
                    </a:lnTo>
                    <a:lnTo>
                      <a:pt x="1042" y="55"/>
                    </a:lnTo>
                    <a:lnTo>
                      <a:pt x="1009" y="68"/>
                    </a:lnTo>
                    <a:lnTo>
                      <a:pt x="977" y="81"/>
                    </a:lnTo>
                    <a:lnTo>
                      <a:pt x="946" y="98"/>
                    </a:lnTo>
                    <a:lnTo>
                      <a:pt x="913" y="114"/>
                    </a:lnTo>
                    <a:lnTo>
                      <a:pt x="882" y="132"/>
                    </a:lnTo>
                    <a:lnTo>
                      <a:pt x="852" y="149"/>
                    </a:lnTo>
                    <a:lnTo>
                      <a:pt x="821" y="170"/>
                    </a:lnTo>
                    <a:lnTo>
                      <a:pt x="792" y="191"/>
                    </a:lnTo>
                    <a:lnTo>
                      <a:pt x="762" y="213"/>
                    </a:lnTo>
                    <a:lnTo>
                      <a:pt x="733" y="237"/>
                    </a:lnTo>
                    <a:lnTo>
                      <a:pt x="704" y="260"/>
                    </a:lnTo>
                    <a:lnTo>
                      <a:pt x="675" y="287"/>
                    </a:lnTo>
                    <a:lnTo>
                      <a:pt x="648" y="312"/>
                    </a:lnTo>
                    <a:lnTo>
                      <a:pt x="620" y="340"/>
                    </a:lnTo>
                    <a:lnTo>
                      <a:pt x="593" y="368"/>
                    </a:lnTo>
                    <a:lnTo>
                      <a:pt x="567" y="398"/>
                    </a:lnTo>
                    <a:lnTo>
                      <a:pt x="540" y="429"/>
                    </a:lnTo>
                    <a:lnTo>
                      <a:pt x="515" y="462"/>
                    </a:lnTo>
                    <a:lnTo>
                      <a:pt x="490" y="494"/>
                    </a:lnTo>
                    <a:lnTo>
                      <a:pt x="465" y="527"/>
                    </a:lnTo>
                    <a:lnTo>
                      <a:pt x="441" y="561"/>
                    </a:lnTo>
                    <a:lnTo>
                      <a:pt x="417" y="596"/>
                    </a:lnTo>
                    <a:lnTo>
                      <a:pt x="394" y="633"/>
                    </a:lnTo>
                    <a:lnTo>
                      <a:pt x="372" y="670"/>
                    </a:lnTo>
                    <a:lnTo>
                      <a:pt x="349" y="707"/>
                    </a:lnTo>
                    <a:lnTo>
                      <a:pt x="327" y="747"/>
                    </a:lnTo>
                    <a:lnTo>
                      <a:pt x="306" y="786"/>
                    </a:lnTo>
                    <a:lnTo>
                      <a:pt x="266" y="868"/>
                    </a:lnTo>
                    <a:lnTo>
                      <a:pt x="229" y="953"/>
                    </a:lnTo>
                    <a:lnTo>
                      <a:pt x="194" y="1040"/>
                    </a:lnTo>
                    <a:lnTo>
                      <a:pt x="161" y="1130"/>
                    </a:lnTo>
                    <a:lnTo>
                      <a:pt x="132" y="1224"/>
                    </a:lnTo>
                    <a:lnTo>
                      <a:pt x="105" y="1320"/>
                    </a:lnTo>
                    <a:lnTo>
                      <a:pt x="82" y="1417"/>
                    </a:lnTo>
                    <a:lnTo>
                      <a:pt x="59" y="1518"/>
                    </a:lnTo>
                    <a:lnTo>
                      <a:pt x="42" y="1620"/>
                    </a:lnTo>
                    <a:lnTo>
                      <a:pt x="27" y="1725"/>
                    </a:lnTo>
                    <a:lnTo>
                      <a:pt x="15" y="1832"/>
                    </a:lnTo>
                    <a:lnTo>
                      <a:pt x="6" y="1940"/>
                    </a:lnTo>
                    <a:lnTo>
                      <a:pt x="2" y="2049"/>
                    </a:lnTo>
                    <a:lnTo>
                      <a:pt x="0" y="2160"/>
                    </a:lnTo>
                    <a:lnTo>
                      <a:pt x="2" y="2271"/>
                    </a:lnTo>
                    <a:lnTo>
                      <a:pt x="6" y="2380"/>
                    </a:lnTo>
                    <a:lnTo>
                      <a:pt x="15" y="2490"/>
                    </a:lnTo>
                    <a:lnTo>
                      <a:pt x="27" y="2595"/>
                    </a:lnTo>
                    <a:lnTo>
                      <a:pt x="42" y="2700"/>
                    </a:lnTo>
                    <a:lnTo>
                      <a:pt x="59" y="2802"/>
                    </a:lnTo>
                    <a:lnTo>
                      <a:pt x="82" y="2903"/>
                    </a:lnTo>
                    <a:lnTo>
                      <a:pt x="105" y="3002"/>
                    </a:lnTo>
                    <a:lnTo>
                      <a:pt x="132" y="3096"/>
                    </a:lnTo>
                    <a:lnTo>
                      <a:pt x="161" y="3190"/>
                    </a:lnTo>
                    <a:lnTo>
                      <a:pt x="194" y="3280"/>
                    </a:lnTo>
                    <a:lnTo>
                      <a:pt x="229" y="3369"/>
                    </a:lnTo>
                    <a:lnTo>
                      <a:pt x="266" y="3453"/>
                    </a:lnTo>
                    <a:lnTo>
                      <a:pt x="306" y="3534"/>
                    </a:lnTo>
                    <a:lnTo>
                      <a:pt x="327" y="3574"/>
                    </a:lnTo>
                    <a:lnTo>
                      <a:pt x="349" y="3613"/>
                    </a:lnTo>
                    <a:lnTo>
                      <a:pt x="372" y="3651"/>
                    </a:lnTo>
                    <a:lnTo>
                      <a:pt x="394" y="3688"/>
                    </a:lnTo>
                    <a:lnTo>
                      <a:pt x="417" y="3724"/>
                    </a:lnTo>
                    <a:lnTo>
                      <a:pt x="441" y="3759"/>
                    </a:lnTo>
                    <a:lnTo>
                      <a:pt x="465" y="3793"/>
                    </a:lnTo>
                    <a:lnTo>
                      <a:pt x="490" y="3827"/>
                    </a:lnTo>
                    <a:lnTo>
                      <a:pt x="515" y="3860"/>
                    </a:lnTo>
                    <a:lnTo>
                      <a:pt x="540" y="3891"/>
                    </a:lnTo>
                    <a:lnTo>
                      <a:pt x="567" y="3922"/>
                    </a:lnTo>
                    <a:lnTo>
                      <a:pt x="593" y="3952"/>
                    </a:lnTo>
                    <a:lnTo>
                      <a:pt x="620" y="3980"/>
                    </a:lnTo>
                    <a:lnTo>
                      <a:pt x="648" y="4008"/>
                    </a:lnTo>
                    <a:lnTo>
                      <a:pt x="675" y="4034"/>
                    </a:lnTo>
                    <a:lnTo>
                      <a:pt x="704" y="4060"/>
                    </a:lnTo>
                    <a:lnTo>
                      <a:pt x="733" y="4085"/>
                    </a:lnTo>
                    <a:lnTo>
                      <a:pt x="762" y="4107"/>
                    </a:lnTo>
                    <a:lnTo>
                      <a:pt x="792" y="4129"/>
                    </a:lnTo>
                    <a:lnTo>
                      <a:pt x="821" y="4151"/>
                    </a:lnTo>
                    <a:lnTo>
                      <a:pt x="852" y="4171"/>
                    </a:lnTo>
                    <a:lnTo>
                      <a:pt x="882" y="4190"/>
                    </a:lnTo>
                    <a:lnTo>
                      <a:pt x="913" y="4208"/>
                    </a:lnTo>
                    <a:lnTo>
                      <a:pt x="946" y="4224"/>
                    </a:lnTo>
                    <a:lnTo>
                      <a:pt x="977" y="4239"/>
                    </a:lnTo>
                    <a:lnTo>
                      <a:pt x="1009" y="4252"/>
                    </a:lnTo>
                    <a:lnTo>
                      <a:pt x="1042" y="4265"/>
                    </a:lnTo>
                    <a:lnTo>
                      <a:pt x="1074" y="4277"/>
                    </a:lnTo>
                    <a:lnTo>
                      <a:pt x="1107" y="4287"/>
                    </a:lnTo>
                    <a:lnTo>
                      <a:pt x="1141" y="4296"/>
                    </a:lnTo>
                    <a:lnTo>
                      <a:pt x="1173" y="4304"/>
                    </a:lnTo>
                    <a:lnTo>
                      <a:pt x="1207" y="4310"/>
                    </a:lnTo>
                    <a:lnTo>
                      <a:pt x="1241" y="4314"/>
                    </a:lnTo>
                    <a:lnTo>
                      <a:pt x="1275" y="4317"/>
                    </a:lnTo>
                    <a:lnTo>
                      <a:pt x="1311" y="4320"/>
                    </a:lnTo>
                    <a:lnTo>
                      <a:pt x="1345" y="4320"/>
                    </a:lnTo>
                    <a:lnTo>
                      <a:pt x="1345" y="0"/>
                    </a:lnTo>
                    <a:close/>
                  </a:path>
                </a:pathLst>
              </a:custGeom>
              <a:gradFill rotWithShape="0">
                <a:gsLst>
                  <a:gs pos="0">
                    <a:srgbClr val="061f4c"/>
                  </a:gs>
                  <a:gs pos="100000">
                    <a:srgbClr val="061f4c"/>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851" name="Freeform 8"/>
              <p:cNvSpPr/>
              <p:nvPr/>
            </p:nvSpPr>
            <p:spPr>
              <a:xfrm>
                <a:off x="3528360" y="1205640"/>
                <a:ext cx="2210040" cy="4417200"/>
              </a:xfrm>
              <a:custGeom>
                <a:avLst/>
                <a:gdLst>
                  <a:gd name="textAreaLeft" fmla="*/ 0 w 2210040"/>
                  <a:gd name="textAreaRight" fmla="*/ 2210400 w 2210040"/>
                  <a:gd name="textAreaTop" fmla="*/ 0 h 4417200"/>
                  <a:gd name="textAreaBottom" fmla="*/ 4417560 h 4417200"/>
                </a:gdLst>
                <a:ahLst/>
                <a:rect l="textAreaLeft" t="textAreaTop" r="textAreaRight" b="textAreaBottom"/>
                <a:pathLst>
                  <a:path w="2160" h="4320">
                    <a:moveTo>
                      <a:pt x="0" y="0"/>
                    </a:moveTo>
                    <a:lnTo>
                      <a:pt x="0" y="0"/>
                    </a:lnTo>
                    <a:lnTo>
                      <a:pt x="0" y="4320"/>
                    </a:lnTo>
                    <a:lnTo>
                      <a:pt x="56" y="4320"/>
                    </a:lnTo>
                    <a:lnTo>
                      <a:pt x="111" y="4317"/>
                    </a:lnTo>
                    <a:lnTo>
                      <a:pt x="167" y="4314"/>
                    </a:lnTo>
                    <a:lnTo>
                      <a:pt x="222" y="4310"/>
                    </a:lnTo>
                    <a:lnTo>
                      <a:pt x="275" y="4304"/>
                    </a:lnTo>
                    <a:lnTo>
                      <a:pt x="330" y="4296"/>
                    </a:lnTo>
                    <a:lnTo>
                      <a:pt x="383" y="4287"/>
                    </a:lnTo>
                    <a:lnTo>
                      <a:pt x="436" y="4277"/>
                    </a:lnTo>
                    <a:lnTo>
                      <a:pt x="488" y="4265"/>
                    </a:lnTo>
                    <a:lnTo>
                      <a:pt x="540" y="4252"/>
                    </a:lnTo>
                    <a:lnTo>
                      <a:pt x="592" y="4239"/>
                    </a:lnTo>
                    <a:lnTo>
                      <a:pt x="644" y="4224"/>
                    </a:lnTo>
                    <a:lnTo>
                      <a:pt x="694" y="4208"/>
                    </a:lnTo>
                    <a:lnTo>
                      <a:pt x="743" y="4190"/>
                    </a:lnTo>
                    <a:lnTo>
                      <a:pt x="793" y="4171"/>
                    </a:lnTo>
                    <a:lnTo>
                      <a:pt x="842" y="4151"/>
                    </a:lnTo>
                    <a:lnTo>
                      <a:pt x="889" y="4129"/>
                    </a:lnTo>
                    <a:lnTo>
                      <a:pt x="936" y="4107"/>
                    </a:lnTo>
                    <a:lnTo>
                      <a:pt x="984" y="4085"/>
                    </a:lnTo>
                    <a:lnTo>
                      <a:pt x="1030" y="4060"/>
                    </a:lnTo>
                    <a:lnTo>
                      <a:pt x="1076" y="4034"/>
                    </a:lnTo>
                    <a:lnTo>
                      <a:pt x="1120" y="4008"/>
                    </a:lnTo>
                    <a:lnTo>
                      <a:pt x="1164" y="3980"/>
                    </a:lnTo>
                    <a:lnTo>
                      <a:pt x="1209" y="3952"/>
                    </a:lnTo>
                    <a:lnTo>
                      <a:pt x="1252" y="3922"/>
                    </a:lnTo>
                    <a:lnTo>
                      <a:pt x="1293" y="3891"/>
                    </a:lnTo>
                    <a:lnTo>
                      <a:pt x="1334" y="3860"/>
                    </a:lnTo>
                    <a:lnTo>
                      <a:pt x="1374" y="3827"/>
                    </a:lnTo>
                    <a:lnTo>
                      <a:pt x="1414" y="3793"/>
                    </a:lnTo>
                    <a:lnTo>
                      <a:pt x="1453" y="3759"/>
                    </a:lnTo>
                    <a:lnTo>
                      <a:pt x="1491" y="3724"/>
                    </a:lnTo>
                    <a:lnTo>
                      <a:pt x="1528" y="3688"/>
                    </a:lnTo>
                    <a:lnTo>
                      <a:pt x="1564" y="3651"/>
                    </a:lnTo>
                    <a:lnTo>
                      <a:pt x="1599" y="3613"/>
                    </a:lnTo>
                    <a:lnTo>
                      <a:pt x="1633" y="3574"/>
                    </a:lnTo>
                    <a:lnTo>
                      <a:pt x="1667" y="3534"/>
                    </a:lnTo>
                    <a:lnTo>
                      <a:pt x="1700" y="3494"/>
                    </a:lnTo>
                    <a:lnTo>
                      <a:pt x="1731" y="3453"/>
                    </a:lnTo>
                    <a:lnTo>
                      <a:pt x="1762" y="3410"/>
                    </a:lnTo>
                    <a:lnTo>
                      <a:pt x="1792" y="3369"/>
                    </a:lnTo>
                    <a:lnTo>
                      <a:pt x="1820" y="3324"/>
                    </a:lnTo>
                    <a:lnTo>
                      <a:pt x="1848" y="3280"/>
                    </a:lnTo>
                    <a:lnTo>
                      <a:pt x="1874" y="3236"/>
                    </a:lnTo>
                    <a:lnTo>
                      <a:pt x="1900" y="3190"/>
                    </a:lnTo>
                    <a:lnTo>
                      <a:pt x="1925" y="3144"/>
                    </a:lnTo>
                    <a:lnTo>
                      <a:pt x="1947" y="3096"/>
                    </a:lnTo>
                    <a:lnTo>
                      <a:pt x="1969" y="3049"/>
                    </a:lnTo>
                    <a:lnTo>
                      <a:pt x="1991" y="3002"/>
                    </a:lnTo>
                    <a:lnTo>
                      <a:pt x="2011" y="2953"/>
                    </a:lnTo>
                    <a:lnTo>
                      <a:pt x="2030" y="2903"/>
                    </a:lnTo>
                    <a:lnTo>
                      <a:pt x="2048" y="2854"/>
                    </a:lnTo>
                    <a:lnTo>
                      <a:pt x="2064" y="2802"/>
                    </a:lnTo>
                    <a:lnTo>
                      <a:pt x="2079" y="2752"/>
                    </a:lnTo>
                    <a:lnTo>
                      <a:pt x="2092" y="2700"/>
                    </a:lnTo>
                    <a:lnTo>
                      <a:pt x="2105" y="2648"/>
                    </a:lnTo>
                    <a:lnTo>
                      <a:pt x="2117" y="2595"/>
                    </a:lnTo>
                    <a:lnTo>
                      <a:pt x="2127" y="2543"/>
                    </a:lnTo>
                    <a:lnTo>
                      <a:pt x="2136" y="2490"/>
                    </a:lnTo>
                    <a:lnTo>
                      <a:pt x="2144" y="2435"/>
                    </a:lnTo>
                    <a:lnTo>
                      <a:pt x="2150" y="2380"/>
                    </a:lnTo>
                    <a:lnTo>
                      <a:pt x="2154" y="2327"/>
                    </a:lnTo>
                    <a:lnTo>
                      <a:pt x="2159" y="2271"/>
                    </a:lnTo>
                    <a:lnTo>
                      <a:pt x="2160" y="2216"/>
                    </a:lnTo>
                    <a:lnTo>
                      <a:pt x="2160" y="2160"/>
                    </a:lnTo>
                    <a:lnTo>
                      <a:pt x="2160" y="2105"/>
                    </a:lnTo>
                    <a:lnTo>
                      <a:pt x="2159" y="2049"/>
                    </a:lnTo>
                    <a:lnTo>
                      <a:pt x="2154" y="1994"/>
                    </a:lnTo>
                    <a:lnTo>
                      <a:pt x="2150" y="1940"/>
                    </a:lnTo>
                    <a:lnTo>
                      <a:pt x="2144" y="1885"/>
                    </a:lnTo>
                    <a:lnTo>
                      <a:pt x="2136" y="1832"/>
                    </a:lnTo>
                    <a:lnTo>
                      <a:pt x="2127" y="1778"/>
                    </a:lnTo>
                    <a:lnTo>
                      <a:pt x="2117" y="1725"/>
                    </a:lnTo>
                    <a:lnTo>
                      <a:pt x="2105" y="1672"/>
                    </a:lnTo>
                    <a:lnTo>
                      <a:pt x="2092" y="1620"/>
                    </a:lnTo>
                    <a:lnTo>
                      <a:pt x="2079" y="1568"/>
                    </a:lnTo>
                    <a:lnTo>
                      <a:pt x="2064" y="1518"/>
                    </a:lnTo>
                    <a:lnTo>
                      <a:pt x="2048" y="1468"/>
                    </a:lnTo>
                    <a:lnTo>
                      <a:pt x="2030" y="1417"/>
                    </a:lnTo>
                    <a:lnTo>
                      <a:pt x="2011" y="1368"/>
                    </a:lnTo>
                    <a:lnTo>
                      <a:pt x="1991" y="1320"/>
                    </a:lnTo>
                    <a:lnTo>
                      <a:pt x="1969" y="1271"/>
                    </a:lnTo>
                    <a:lnTo>
                      <a:pt x="1947" y="1224"/>
                    </a:lnTo>
                    <a:lnTo>
                      <a:pt x="1925" y="1176"/>
                    </a:lnTo>
                    <a:lnTo>
                      <a:pt x="1900" y="1130"/>
                    </a:lnTo>
                    <a:lnTo>
                      <a:pt x="1874" y="1084"/>
                    </a:lnTo>
                    <a:lnTo>
                      <a:pt x="1848" y="1040"/>
                    </a:lnTo>
                    <a:lnTo>
                      <a:pt x="1820" y="996"/>
                    </a:lnTo>
                    <a:lnTo>
                      <a:pt x="1792" y="953"/>
                    </a:lnTo>
                    <a:lnTo>
                      <a:pt x="1762" y="910"/>
                    </a:lnTo>
                    <a:lnTo>
                      <a:pt x="1731" y="868"/>
                    </a:lnTo>
                    <a:lnTo>
                      <a:pt x="1700" y="827"/>
                    </a:lnTo>
                    <a:lnTo>
                      <a:pt x="1667" y="786"/>
                    </a:lnTo>
                    <a:lnTo>
                      <a:pt x="1633" y="747"/>
                    </a:lnTo>
                    <a:lnTo>
                      <a:pt x="1599" y="707"/>
                    </a:lnTo>
                    <a:lnTo>
                      <a:pt x="1564" y="670"/>
                    </a:lnTo>
                    <a:lnTo>
                      <a:pt x="1528" y="633"/>
                    </a:lnTo>
                    <a:lnTo>
                      <a:pt x="1491" y="596"/>
                    </a:lnTo>
                    <a:lnTo>
                      <a:pt x="1453" y="561"/>
                    </a:lnTo>
                    <a:lnTo>
                      <a:pt x="1414" y="527"/>
                    </a:lnTo>
                    <a:lnTo>
                      <a:pt x="1374" y="493"/>
                    </a:lnTo>
                    <a:lnTo>
                      <a:pt x="1334" y="460"/>
                    </a:lnTo>
                    <a:lnTo>
                      <a:pt x="1293" y="429"/>
                    </a:lnTo>
                    <a:lnTo>
                      <a:pt x="1252" y="398"/>
                    </a:lnTo>
                    <a:lnTo>
                      <a:pt x="1209" y="368"/>
                    </a:lnTo>
                    <a:lnTo>
                      <a:pt x="1164" y="340"/>
                    </a:lnTo>
                    <a:lnTo>
                      <a:pt x="1120" y="312"/>
                    </a:lnTo>
                    <a:lnTo>
                      <a:pt x="1076" y="287"/>
                    </a:lnTo>
                    <a:lnTo>
                      <a:pt x="1030" y="260"/>
                    </a:lnTo>
                    <a:lnTo>
                      <a:pt x="984" y="237"/>
                    </a:lnTo>
                    <a:lnTo>
                      <a:pt x="936" y="213"/>
                    </a:lnTo>
                    <a:lnTo>
                      <a:pt x="889" y="191"/>
                    </a:lnTo>
                    <a:lnTo>
                      <a:pt x="842" y="170"/>
                    </a:lnTo>
                    <a:lnTo>
                      <a:pt x="793" y="149"/>
                    </a:lnTo>
                    <a:lnTo>
                      <a:pt x="743" y="132"/>
                    </a:lnTo>
                    <a:lnTo>
                      <a:pt x="694" y="114"/>
                    </a:lnTo>
                    <a:lnTo>
                      <a:pt x="644" y="98"/>
                    </a:lnTo>
                    <a:lnTo>
                      <a:pt x="592" y="81"/>
                    </a:lnTo>
                    <a:lnTo>
                      <a:pt x="540" y="68"/>
                    </a:lnTo>
                    <a:lnTo>
                      <a:pt x="488" y="55"/>
                    </a:lnTo>
                    <a:lnTo>
                      <a:pt x="436" y="44"/>
                    </a:lnTo>
                    <a:lnTo>
                      <a:pt x="383" y="34"/>
                    </a:lnTo>
                    <a:lnTo>
                      <a:pt x="330" y="25"/>
                    </a:lnTo>
                    <a:lnTo>
                      <a:pt x="275" y="18"/>
                    </a:lnTo>
                    <a:lnTo>
                      <a:pt x="222" y="12"/>
                    </a:lnTo>
                    <a:lnTo>
                      <a:pt x="167" y="6"/>
                    </a:lnTo>
                    <a:lnTo>
                      <a:pt x="111" y="3"/>
                    </a:lnTo>
                    <a:lnTo>
                      <a:pt x="56" y="1"/>
                    </a:lnTo>
                    <a:lnTo>
                      <a:pt x="0" y="0"/>
                    </a:lnTo>
                    <a:close/>
                  </a:path>
                </a:pathLst>
              </a:custGeom>
              <a:gradFill rotWithShape="0">
                <a:gsLst>
                  <a:gs pos="0">
                    <a:srgbClr val="061f4c"/>
                  </a:gs>
                  <a:gs pos="100000">
                    <a:srgbClr val="061f4c"/>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852" name="Group 12"/>
            <p:cNvGrpSpPr/>
            <p:nvPr/>
          </p:nvGrpSpPr>
          <p:grpSpPr>
            <a:xfrm>
              <a:off x="2184120" y="1221120"/>
              <a:ext cx="3540960" cy="4386600"/>
              <a:chOff x="2184120" y="1221120"/>
              <a:chExt cx="3540960" cy="4386600"/>
            </a:xfrm>
          </p:grpSpPr>
          <p:sp>
            <p:nvSpPr>
              <p:cNvPr id="853" name="Freeform 7"/>
              <p:cNvSpPr/>
              <p:nvPr/>
            </p:nvSpPr>
            <p:spPr>
              <a:xfrm>
                <a:off x="2184120" y="1224000"/>
                <a:ext cx="1344240" cy="4383720"/>
              </a:xfrm>
              <a:custGeom>
                <a:avLst/>
                <a:gdLst>
                  <a:gd name="textAreaLeft" fmla="*/ 0 w 1344240"/>
                  <a:gd name="textAreaRight" fmla="*/ 1344600 w 1344240"/>
                  <a:gd name="textAreaTop" fmla="*/ 0 h 4383720"/>
                  <a:gd name="textAreaBottom" fmla="*/ 4384080 h 4383720"/>
                </a:gdLst>
                <a:ahLst/>
                <a:rect l="textAreaLeft" t="textAreaTop" r="textAreaRight" b="textAreaBottom"/>
                <a:pathLst>
                  <a:path w="1314" h="4287">
                    <a:moveTo>
                      <a:pt x="1314" y="0"/>
                    </a:moveTo>
                    <a:lnTo>
                      <a:pt x="1314" y="0"/>
                    </a:lnTo>
                    <a:lnTo>
                      <a:pt x="1280" y="1"/>
                    </a:lnTo>
                    <a:lnTo>
                      <a:pt x="1246" y="3"/>
                    </a:lnTo>
                    <a:lnTo>
                      <a:pt x="1213" y="7"/>
                    </a:lnTo>
                    <a:lnTo>
                      <a:pt x="1179" y="12"/>
                    </a:lnTo>
                    <a:lnTo>
                      <a:pt x="1147" y="18"/>
                    </a:lnTo>
                    <a:lnTo>
                      <a:pt x="1114" y="25"/>
                    </a:lnTo>
                    <a:lnTo>
                      <a:pt x="1082" y="34"/>
                    </a:lnTo>
                    <a:lnTo>
                      <a:pt x="1049" y="44"/>
                    </a:lnTo>
                    <a:lnTo>
                      <a:pt x="1017" y="54"/>
                    </a:lnTo>
                    <a:lnTo>
                      <a:pt x="986" y="68"/>
                    </a:lnTo>
                    <a:lnTo>
                      <a:pt x="954" y="81"/>
                    </a:lnTo>
                    <a:lnTo>
                      <a:pt x="923" y="96"/>
                    </a:lnTo>
                    <a:lnTo>
                      <a:pt x="892" y="112"/>
                    </a:lnTo>
                    <a:lnTo>
                      <a:pt x="861" y="130"/>
                    </a:lnTo>
                    <a:lnTo>
                      <a:pt x="832" y="149"/>
                    </a:lnTo>
                    <a:lnTo>
                      <a:pt x="802" y="168"/>
                    </a:lnTo>
                    <a:lnTo>
                      <a:pt x="773" y="189"/>
                    </a:lnTo>
                    <a:lnTo>
                      <a:pt x="744" y="211"/>
                    </a:lnTo>
                    <a:lnTo>
                      <a:pt x="716" y="235"/>
                    </a:lnTo>
                    <a:lnTo>
                      <a:pt x="688" y="259"/>
                    </a:lnTo>
                    <a:lnTo>
                      <a:pt x="660" y="284"/>
                    </a:lnTo>
                    <a:lnTo>
                      <a:pt x="632" y="310"/>
                    </a:lnTo>
                    <a:lnTo>
                      <a:pt x="605" y="339"/>
                    </a:lnTo>
                    <a:lnTo>
                      <a:pt x="579" y="367"/>
                    </a:lnTo>
                    <a:lnTo>
                      <a:pt x="554" y="396"/>
                    </a:lnTo>
                    <a:lnTo>
                      <a:pt x="527" y="426"/>
                    </a:lnTo>
                    <a:lnTo>
                      <a:pt x="502" y="457"/>
                    </a:lnTo>
                    <a:lnTo>
                      <a:pt x="478" y="489"/>
                    </a:lnTo>
                    <a:lnTo>
                      <a:pt x="454" y="523"/>
                    </a:lnTo>
                    <a:lnTo>
                      <a:pt x="431" y="558"/>
                    </a:lnTo>
                    <a:lnTo>
                      <a:pt x="407" y="592"/>
                    </a:lnTo>
                    <a:lnTo>
                      <a:pt x="385" y="629"/>
                    </a:lnTo>
                    <a:lnTo>
                      <a:pt x="363" y="666"/>
                    </a:lnTo>
                    <a:lnTo>
                      <a:pt x="341" y="702"/>
                    </a:lnTo>
                    <a:lnTo>
                      <a:pt x="299" y="781"/>
                    </a:lnTo>
                    <a:lnTo>
                      <a:pt x="261" y="861"/>
                    </a:lnTo>
                    <a:lnTo>
                      <a:pt x="224" y="945"/>
                    </a:lnTo>
                    <a:lnTo>
                      <a:pt x="190" y="1032"/>
                    </a:lnTo>
                    <a:lnTo>
                      <a:pt x="159" y="1123"/>
                    </a:lnTo>
                    <a:lnTo>
                      <a:pt x="129" y="1214"/>
                    </a:lnTo>
                    <a:lnTo>
                      <a:pt x="102" y="1309"/>
                    </a:lnTo>
                    <a:lnTo>
                      <a:pt x="80" y="1407"/>
                    </a:lnTo>
                    <a:lnTo>
                      <a:pt x="59" y="1506"/>
                    </a:lnTo>
                    <a:lnTo>
                      <a:pt x="42" y="1608"/>
                    </a:lnTo>
                    <a:lnTo>
                      <a:pt x="27" y="1711"/>
                    </a:lnTo>
                    <a:lnTo>
                      <a:pt x="15" y="1818"/>
                    </a:lnTo>
                    <a:lnTo>
                      <a:pt x="6" y="1925"/>
                    </a:lnTo>
                    <a:lnTo>
                      <a:pt x="2" y="2034"/>
                    </a:lnTo>
                    <a:lnTo>
                      <a:pt x="0" y="2143"/>
                    </a:lnTo>
                    <a:lnTo>
                      <a:pt x="2" y="2254"/>
                    </a:lnTo>
                    <a:lnTo>
                      <a:pt x="6" y="2362"/>
                    </a:lnTo>
                    <a:lnTo>
                      <a:pt x="15" y="2470"/>
                    </a:lnTo>
                    <a:lnTo>
                      <a:pt x="27" y="2575"/>
                    </a:lnTo>
                    <a:lnTo>
                      <a:pt x="42" y="2679"/>
                    </a:lnTo>
                    <a:lnTo>
                      <a:pt x="59" y="2781"/>
                    </a:lnTo>
                    <a:lnTo>
                      <a:pt x="80" y="2880"/>
                    </a:lnTo>
                    <a:lnTo>
                      <a:pt x="102" y="2978"/>
                    </a:lnTo>
                    <a:lnTo>
                      <a:pt x="129" y="3073"/>
                    </a:lnTo>
                    <a:lnTo>
                      <a:pt x="159" y="3166"/>
                    </a:lnTo>
                    <a:lnTo>
                      <a:pt x="190" y="3256"/>
                    </a:lnTo>
                    <a:lnTo>
                      <a:pt x="224" y="3342"/>
                    </a:lnTo>
                    <a:lnTo>
                      <a:pt x="261" y="3426"/>
                    </a:lnTo>
                    <a:lnTo>
                      <a:pt x="299" y="3508"/>
                    </a:lnTo>
                    <a:lnTo>
                      <a:pt x="341" y="3584"/>
                    </a:lnTo>
                    <a:lnTo>
                      <a:pt x="363" y="3623"/>
                    </a:lnTo>
                    <a:lnTo>
                      <a:pt x="385" y="3660"/>
                    </a:lnTo>
                    <a:lnTo>
                      <a:pt x="407" y="3695"/>
                    </a:lnTo>
                    <a:lnTo>
                      <a:pt x="431" y="3731"/>
                    </a:lnTo>
                    <a:lnTo>
                      <a:pt x="454" y="3765"/>
                    </a:lnTo>
                    <a:lnTo>
                      <a:pt x="478" y="3798"/>
                    </a:lnTo>
                    <a:lnTo>
                      <a:pt x="502" y="3830"/>
                    </a:lnTo>
                    <a:lnTo>
                      <a:pt x="527" y="3861"/>
                    </a:lnTo>
                    <a:lnTo>
                      <a:pt x="554" y="3892"/>
                    </a:lnTo>
                    <a:lnTo>
                      <a:pt x="579" y="3922"/>
                    </a:lnTo>
                    <a:lnTo>
                      <a:pt x="605" y="3950"/>
                    </a:lnTo>
                    <a:lnTo>
                      <a:pt x="632" y="3977"/>
                    </a:lnTo>
                    <a:lnTo>
                      <a:pt x="660" y="4003"/>
                    </a:lnTo>
                    <a:lnTo>
                      <a:pt x="688" y="4028"/>
                    </a:lnTo>
                    <a:lnTo>
                      <a:pt x="716" y="4053"/>
                    </a:lnTo>
                    <a:lnTo>
                      <a:pt x="744" y="4076"/>
                    </a:lnTo>
                    <a:lnTo>
                      <a:pt x="773" y="4098"/>
                    </a:lnTo>
                    <a:lnTo>
                      <a:pt x="802" y="4119"/>
                    </a:lnTo>
                    <a:lnTo>
                      <a:pt x="832" y="4139"/>
                    </a:lnTo>
                    <a:lnTo>
                      <a:pt x="861" y="4157"/>
                    </a:lnTo>
                    <a:lnTo>
                      <a:pt x="892" y="4175"/>
                    </a:lnTo>
                    <a:lnTo>
                      <a:pt x="923" y="4191"/>
                    </a:lnTo>
                    <a:lnTo>
                      <a:pt x="954" y="4206"/>
                    </a:lnTo>
                    <a:lnTo>
                      <a:pt x="986" y="4221"/>
                    </a:lnTo>
                    <a:lnTo>
                      <a:pt x="1017" y="4232"/>
                    </a:lnTo>
                    <a:lnTo>
                      <a:pt x="1049" y="4244"/>
                    </a:lnTo>
                    <a:lnTo>
                      <a:pt x="1082" y="4255"/>
                    </a:lnTo>
                    <a:lnTo>
                      <a:pt x="1114" y="4264"/>
                    </a:lnTo>
                    <a:lnTo>
                      <a:pt x="1147" y="4271"/>
                    </a:lnTo>
                    <a:lnTo>
                      <a:pt x="1179" y="4277"/>
                    </a:lnTo>
                    <a:lnTo>
                      <a:pt x="1213" y="4281"/>
                    </a:lnTo>
                    <a:lnTo>
                      <a:pt x="1246" y="4284"/>
                    </a:lnTo>
                    <a:lnTo>
                      <a:pt x="1280" y="4287"/>
                    </a:lnTo>
                    <a:lnTo>
                      <a:pt x="1314" y="4287"/>
                    </a:lnTo>
                    <a:lnTo>
                      <a:pt x="1314" y="0"/>
                    </a:lnTo>
                    <a:close/>
                  </a:path>
                </a:pathLst>
              </a:custGeom>
              <a:gradFill rotWithShape="0">
                <a:gsLst>
                  <a:gs pos="0">
                    <a:srgbClr val="1c3758"/>
                  </a:gs>
                  <a:gs pos="100000">
                    <a:srgbClr val="1f497d"/>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854" name="Freeform 9"/>
              <p:cNvSpPr/>
              <p:nvPr/>
            </p:nvSpPr>
            <p:spPr>
              <a:xfrm>
                <a:off x="3528360" y="1221120"/>
                <a:ext cx="2196720" cy="4386600"/>
              </a:xfrm>
              <a:custGeom>
                <a:avLst/>
                <a:gdLst>
                  <a:gd name="textAreaLeft" fmla="*/ 0 w 2196720"/>
                  <a:gd name="textAreaRight" fmla="*/ 2197080 w 2196720"/>
                  <a:gd name="textAreaTop" fmla="*/ 0 h 4386600"/>
                  <a:gd name="textAreaBottom" fmla="*/ 4386960 h 4386600"/>
                </a:gdLst>
                <a:ahLst/>
                <a:rect l="textAreaLeft" t="textAreaTop" r="textAreaRight" b="textAreaBottom"/>
                <a:pathLst>
                  <a:path w="2147" h="4290">
                    <a:moveTo>
                      <a:pt x="0" y="0"/>
                    </a:moveTo>
                    <a:lnTo>
                      <a:pt x="0" y="0"/>
                    </a:lnTo>
                    <a:lnTo>
                      <a:pt x="0" y="4290"/>
                    </a:lnTo>
                    <a:lnTo>
                      <a:pt x="56" y="4290"/>
                    </a:lnTo>
                    <a:lnTo>
                      <a:pt x="111" y="4287"/>
                    </a:lnTo>
                    <a:lnTo>
                      <a:pt x="166" y="4284"/>
                    </a:lnTo>
                    <a:lnTo>
                      <a:pt x="220" y="4280"/>
                    </a:lnTo>
                    <a:lnTo>
                      <a:pt x="274" y="4274"/>
                    </a:lnTo>
                    <a:lnTo>
                      <a:pt x="327" y="4267"/>
                    </a:lnTo>
                    <a:lnTo>
                      <a:pt x="380" y="4258"/>
                    </a:lnTo>
                    <a:lnTo>
                      <a:pt x="433" y="4247"/>
                    </a:lnTo>
                    <a:lnTo>
                      <a:pt x="485" y="4235"/>
                    </a:lnTo>
                    <a:lnTo>
                      <a:pt x="537" y="4224"/>
                    </a:lnTo>
                    <a:lnTo>
                      <a:pt x="587" y="4209"/>
                    </a:lnTo>
                    <a:lnTo>
                      <a:pt x="639" y="4194"/>
                    </a:lnTo>
                    <a:lnTo>
                      <a:pt x="689" y="4178"/>
                    </a:lnTo>
                    <a:lnTo>
                      <a:pt x="738" y="4160"/>
                    </a:lnTo>
                    <a:lnTo>
                      <a:pt x="787" y="4142"/>
                    </a:lnTo>
                    <a:lnTo>
                      <a:pt x="836" y="4122"/>
                    </a:lnTo>
                    <a:lnTo>
                      <a:pt x="883" y="4101"/>
                    </a:lnTo>
                    <a:lnTo>
                      <a:pt x="931" y="4079"/>
                    </a:lnTo>
                    <a:lnTo>
                      <a:pt x="978" y="4056"/>
                    </a:lnTo>
                    <a:lnTo>
                      <a:pt x="1024" y="4031"/>
                    </a:lnTo>
                    <a:lnTo>
                      <a:pt x="1068" y="4006"/>
                    </a:lnTo>
                    <a:lnTo>
                      <a:pt x="1113" y="3980"/>
                    </a:lnTo>
                    <a:lnTo>
                      <a:pt x="1157" y="3953"/>
                    </a:lnTo>
                    <a:lnTo>
                      <a:pt x="1200" y="3925"/>
                    </a:lnTo>
                    <a:lnTo>
                      <a:pt x="1243" y="3895"/>
                    </a:lnTo>
                    <a:lnTo>
                      <a:pt x="1284" y="3864"/>
                    </a:lnTo>
                    <a:lnTo>
                      <a:pt x="1326" y="3833"/>
                    </a:lnTo>
                    <a:lnTo>
                      <a:pt x="1366" y="3801"/>
                    </a:lnTo>
                    <a:lnTo>
                      <a:pt x="1404" y="3768"/>
                    </a:lnTo>
                    <a:lnTo>
                      <a:pt x="1442" y="3734"/>
                    </a:lnTo>
                    <a:lnTo>
                      <a:pt x="1481" y="3698"/>
                    </a:lnTo>
                    <a:lnTo>
                      <a:pt x="1518" y="3663"/>
                    </a:lnTo>
                    <a:lnTo>
                      <a:pt x="1553" y="3626"/>
                    </a:lnTo>
                    <a:lnTo>
                      <a:pt x="1589" y="3587"/>
                    </a:lnTo>
                    <a:lnTo>
                      <a:pt x="1623" y="3549"/>
                    </a:lnTo>
                    <a:lnTo>
                      <a:pt x="1656" y="3511"/>
                    </a:lnTo>
                    <a:lnTo>
                      <a:pt x="1688" y="3471"/>
                    </a:lnTo>
                    <a:lnTo>
                      <a:pt x="1719" y="3429"/>
                    </a:lnTo>
                    <a:lnTo>
                      <a:pt x="1750" y="3388"/>
                    </a:lnTo>
                    <a:lnTo>
                      <a:pt x="1780" y="3345"/>
                    </a:lnTo>
                    <a:lnTo>
                      <a:pt x="1808" y="3302"/>
                    </a:lnTo>
                    <a:lnTo>
                      <a:pt x="1836" y="3258"/>
                    </a:lnTo>
                    <a:lnTo>
                      <a:pt x="1861" y="3213"/>
                    </a:lnTo>
                    <a:lnTo>
                      <a:pt x="1888" y="3167"/>
                    </a:lnTo>
                    <a:lnTo>
                      <a:pt x="1911" y="3121"/>
                    </a:lnTo>
                    <a:lnTo>
                      <a:pt x="1935" y="3076"/>
                    </a:lnTo>
                    <a:lnTo>
                      <a:pt x="1956" y="3028"/>
                    </a:lnTo>
                    <a:lnTo>
                      <a:pt x="1978" y="2981"/>
                    </a:lnTo>
                    <a:lnTo>
                      <a:pt x="1997" y="2932"/>
                    </a:lnTo>
                    <a:lnTo>
                      <a:pt x="2016" y="2883"/>
                    </a:lnTo>
                    <a:lnTo>
                      <a:pt x="2033" y="2833"/>
                    </a:lnTo>
                    <a:lnTo>
                      <a:pt x="2049" y="2783"/>
                    </a:lnTo>
                    <a:lnTo>
                      <a:pt x="2065" y="2732"/>
                    </a:lnTo>
                    <a:lnTo>
                      <a:pt x="2079" y="2682"/>
                    </a:lnTo>
                    <a:lnTo>
                      <a:pt x="2090" y="2630"/>
                    </a:lnTo>
                    <a:lnTo>
                      <a:pt x="2102" y="2577"/>
                    </a:lnTo>
                    <a:lnTo>
                      <a:pt x="2113" y="2525"/>
                    </a:lnTo>
                    <a:lnTo>
                      <a:pt x="2122" y="2472"/>
                    </a:lnTo>
                    <a:lnTo>
                      <a:pt x="2129" y="2419"/>
                    </a:lnTo>
                    <a:lnTo>
                      <a:pt x="2135" y="2364"/>
                    </a:lnTo>
                    <a:lnTo>
                      <a:pt x="2139" y="2311"/>
                    </a:lnTo>
                    <a:lnTo>
                      <a:pt x="2144" y="2256"/>
                    </a:lnTo>
                    <a:lnTo>
                      <a:pt x="2145" y="2201"/>
                    </a:lnTo>
                    <a:lnTo>
                      <a:pt x="2147" y="2145"/>
                    </a:lnTo>
                    <a:lnTo>
                      <a:pt x="2145" y="2090"/>
                    </a:lnTo>
                    <a:lnTo>
                      <a:pt x="2144" y="2036"/>
                    </a:lnTo>
                    <a:lnTo>
                      <a:pt x="2139" y="1981"/>
                    </a:lnTo>
                    <a:lnTo>
                      <a:pt x="2135" y="1926"/>
                    </a:lnTo>
                    <a:lnTo>
                      <a:pt x="2129" y="1873"/>
                    </a:lnTo>
                    <a:lnTo>
                      <a:pt x="2122" y="1818"/>
                    </a:lnTo>
                    <a:lnTo>
                      <a:pt x="2113" y="1765"/>
                    </a:lnTo>
                    <a:lnTo>
                      <a:pt x="2102" y="1713"/>
                    </a:lnTo>
                    <a:lnTo>
                      <a:pt x="2090" y="1661"/>
                    </a:lnTo>
                    <a:lnTo>
                      <a:pt x="2079" y="1609"/>
                    </a:lnTo>
                    <a:lnTo>
                      <a:pt x="2065" y="1558"/>
                    </a:lnTo>
                    <a:lnTo>
                      <a:pt x="2049" y="1507"/>
                    </a:lnTo>
                    <a:lnTo>
                      <a:pt x="2033" y="1457"/>
                    </a:lnTo>
                    <a:lnTo>
                      <a:pt x="2016" y="1408"/>
                    </a:lnTo>
                    <a:lnTo>
                      <a:pt x="1997" y="1358"/>
                    </a:lnTo>
                    <a:lnTo>
                      <a:pt x="1978" y="1311"/>
                    </a:lnTo>
                    <a:lnTo>
                      <a:pt x="1956" y="1262"/>
                    </a:lnTo>
                    <a:lnTo>
                      <a:pt x="1935" y="1214"/>
                    </a:lnTo>
                    <a:lnTo>
                      <a:pt x="1911" y="1169"/>
                    </a:lnTo>
                    <a:lnTo>
                      <a:pt x="1888" y="1123"/>
                    </a:lnTo>
                    <a:lnTo>
                      <a:pt x="1861" y="1077"/>
                    </a:lnTo>
                    <a:lnTo>
                      <a:pt x="1836" y="1032"/>
                    </a:lnTo>
                    <a:lnTo>
                      <a:pt x="1808" y="990"/>
                    </a:lnTo>
                    <a:lnTo>
                      <a:pt x="1780" y="945"/>
                    </a:lnTo>
                    <a:lnTo>
                      <a:pt x="1750" y="904"/>
                    </a:lnTo>
                    <a:lnTo>
                      <a:pt x="1719" y="862"/>
                    </a:lnTo>
                    <a:lnTo>
                      <a:pt x="1688" y="821"/>
                    </a:lnTo>
                    <a:lnTo>
                      <a:pt x="1656" y="781"/>
                    </a:lnTo>
                    <a:lnTo>
                      <a:pt x="1623" y="741"/>
                    </a:lnTo>
                    <a:lnTo>
                      <a:pt x="1589" y="703"/>
                    </a:lnTo>
                    <a:lnTo>
                      <a:pt x="1553" y="666"/>
                    </a:lnTo>
                    <a:lnTo>
                      <a:pt x="1518" y="629"/>
                    </a:lnTo>
                    <a:lnTo>
                      <a:pt x="1481" y="592"/>
                    </a:lnTo>
                    <a:lnTo>
                      <a:pt x="1442" y="558"/>
                    </a:lnTo>
                    <a:lnTo>
                      <a:pt x="1404" y="524"/>
                    </a:lnTo>
                    <a:lnTo>
                      <a:pt x="1366" y="489"/>
                    </a:lnTo>
                    <a:lnTo>
                      <a:pt x="1326" y="457"/>
                    </a:lnTo>
                    <a:lnTo>
                      <a:pt x="1284" y="426"/>
                    </a:lnTo>
                    <a:lnTo>
                      <a:pt x="1243" y="396"/>
                    </a:lnTo>
                    <a:lnTo>
                      <a:pt x="1200" y="367"/>
                    </a:lnTo>
                    <a:lnTo>
                      <a:pt x="1157" y="337"/>
                    </a:lnTo>
                    <a:lnTo>
                      <a:pt x="1113" y="310"/>
                    </a:lnTo>
                    <a:lnTo>
                      <a:pt x="1068" y="284"/>
                    </a:lnTo>
                    <a:lnTo>
                      <a:pt x="1024" y="259"/>
                    </a:lnTo>
                    <a:lnTo>
                      <a:pt x="978" y="235"/>
                    </a:lnTo>
                    <a:lnTo>
                      <a:pt x="931" y="211"/>
                    </a:lnTo>
                    <a:lnTo>
                      <a:pt x="883" y="189"/>
                    </a:lnTo>
                    <a:lnTo>
                      <a:pt x="836" y="168"/>
                    </a:lnTo>
                    <a:lnTo>
                      <a:pt x="787" y="149"/>
                    </a:lnTo>
                    <a:lnTo>
                      <a:pt x="738" y="130"/>
                    </a:lnTo>
                    <a:lnTo>
                      <a:pt x="689" y="112"/>
                    </a:lnTo>
                    <a:lnTo>
                      <a:pt x="639" y="96"/>
                    </a:lnTo>
                    <a:lnTo>
                      <a:pt x="587" y="81"/>
                    </a:lnTo>
                    <a:lnTo>
                      <a:pt x="537" y="68"/>
                    </a:lnTo>
                    <a:lnTo>
                      <a:pt x="485" y="55"/>
                    </a:lnTo>
                    <a:lnTo>
                      <a:pt x="433" y="43"/>
                    </a:lnTo>
                    <a:lnTo>
                      <a:pt x="380" y="34"/>
                    </a:lnTo>
                    <a:lnTo>
                      <a:pt x="327" y="25"/>
                    </a:lnTo>
                    <a:lnTo>
                      <a:pt x="274" y="18"/>
                    </a:lnTo>
                    <a:lnTo>
                      <a:pt x="220" y="12"/>
                    </a:lnTo>
                    <a:lnTo>
                      <a:pt x="166" y="6"/>
                    </a:lnTo>
                    <a:lnTo>
                      <a:pt x="111" y="3"/>
                    </a:lnTo>
                    <a:lnTo>
                      <a:pt x="56" y="0"/>
                    </a:lnTo>
                    <a:lnTo>
                      <a:pt x="0" y="0"/>
                    </a:lnTo>
                    <a:close/>
                  </a:path>
                </a:pathLst>
              </a:custGeom>
              <a:gradFill rotWithShape="0">
                <a:gsLst>
                  <a:gs pos="0">
                    <a:srgbClr val="29507f"/>
                  </a:gs>
                  <a:gs pos="100000">
                    <a:srgbClr val="30639c"/>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855" name="Group 15"/>
            <p:cNvGrpSpPr/>
            <p:nvPr/>
          </p:nvGrpSpPr>
          <p:grpSpPr>
            <a:xfrm>
              <a:off x="2472480" y="1531080"/>
              <a:ext cx="2898720" cy="3737880"/>
              <a:chOff x="2472480" y="1531080"/>
              <a:chExt cx="2898720" cy="3737880"/>
            </a:xfrm>
          </p:grpSpPr>
          <p:sp>
            <p:nvSpPr>
              <p:cNvPr id="856" name="Freeform 13"/>
              <p:cNvSpPr/>
              <p:nvPr/>
            </p:nvSpPr>
            <p:spPr>
              <a:xfrm>
                <a:off x="2472480" y="1531080"/>
                <a:ext cx="1059840" cy="3737880"/>
              </a:xfrm>
              <a:custGeom>
                <a:avLst/>
                <a:gdLst>
                  <a:gd name="textAreaLeft" fmla="*/ 0 w 1059840"/>
                  <a:gd name="textAreaRight" fmla="*/ 1060200 w 1059840"/>
                  <a:gd name="textAreaTop" fmla="*/ 0 h 3737880"/>
                  <a:gd name="textAreaBottom" fmla="*/ 3738240 h 3737880"/>
                </a:gdLst>
                <a:ahLst/>
                <a:rect l="textAreaLeft" t="textAreaTop" r="textAreaRight" b="textAreaBottom"/>
                <a:pathLst>
                  <a:path w="1224" h="4320">
                    <a:moveTo>
                      <a:pt x="1224" y="0"/>
                    </a:moveTo>
                    <a:lnTo>
                      <a:pt x="1224" y="0"/>
                    </a:lnTo>
                    <a:lnTo>
                      <a:pt x="1191" y="1"/>
                    </a:lnTo>
                    <a:lnTo>
                      <a:pt x="1160" y="3"/>
                    </a:lnTo>
                    <a:lnTo>
                      <a:pt x="1129" y="6"/>
                    </a:lnTo>
                    <a:lnTo>
                      <a:pt x="1098" y="11"/>
                    </a:lnTo>
                    <a:lnTo>
                      <a:pt x="1067" y="18"/>
                    </a:lnTo>
                    <a:lnTo>
                      <a:pt x="1037" y="25"/>
                    </a:lnTo>
                    <a:lnTo>
                      <a:pt x="1007" y="34"/>
                    </a:lnTo>
                    <a:lnTo>
                      <a:pt x="977" y="44"/>
                    </a:lnTo>
                    <a:lnTo>
                      <a:pt x="947" y="55"/>
                    </a:lnTo>
                    <a:lnTo>
                      <a:pt x="918" y="68"/>
                    </a:lnTo>
                    <a:lnTo>
                      <a:pt x="888" y="82"/>
                    </a:lnTo>
                    <a:lnTo>
                      <a:pt x="859" y="97"/>
                    </a:lnTo>
                    <a:lnTo>
                      <a:pt x="831" y="114"/>
                    </a:lnTo>
                    <a:lnTo>
                      <a:pt x="803" y="132"/>
                    </a:lnTo>
                    <a:lnTo>
                      <a:pt x="775" y="149"/>
                    </a:lnTo>
                    <a:lnTo>
                      <a:pt x="747" y="169"/>
                    </a:lnTo>
                    <a:lnTo>
                      <a:pt x="720" y="191"/>
                    </a:lnTo>
                    <a:lnTo>
                      <a:pt x="692" y="213"/>
                    </a:lnTo>
                    <a:lnTo>
                      <a:pt x="666" y="236"/>
                    </a:lnTo>
                    <a:lnTo>
                      <a:pt x="640" y="261"/>
                    </a:lnTo>
                    <a:lnTo>
                      <a:pt x="614" y="286"/>
                    </a:lnTo>
                    <a:lnTo>
                      <a:pt x="589" y="312"/>
                    </a:lnTo>
                    <a:lnTo>
                      <a:pt x="564" y="340"/>
                    </a:lnTo>
                    <a:lnTo>
                      <a:pt x="539" y="369"/>
                    </a:lnTo>
                    <a:lnTo>
                      <a:pt x="515" y="399"/>
                    </a:lnTo>
                    <a:lnTo>
                      <a:pt x="492" y="429"/>
                    </a:lnTo>
                    <a:lnTo>
                      <a:pt x="468" y="460"/>
                    </a:lnTo>
                    <a:lnTo>
                      <a:pt x="445" y="493"/>
                    </a:lnTo>
                    <a:lnTo>
                      <a:pt x="423" y="527"/>
                    </a:lnTo>
                    <a:lnTo>
                      <a:pt x="400" y="562"/>
                    </a:lnTo>
                    <a:lnTo>
                      <a:pt x="379" y="597"/>
                    </a:lnTo>
                    <a:lnTo>
                      <a:pt x="357" y="633"/>
                    </a:lnTo>
                    <a:lnTo>
                      <a:pt x="337" y="670"/>
                    </a:lnTo>
                    <a:lnTo>
                      <a:pt x="317" y="707"/>
                    </a:lnTo>
                    <a:lnTo>
                      <a:pt x="298" y="746"/>
                    </a:lnTo>
                    <a:lnTo>
                      <a:pt x="278" y="786"/>
                    </a:lnTo>
                    <a:lnTo>
                      <a:pt x="261" y="826"/>
                    </a:lnTo>
                    <a:lnTo>
                      <a:pt x="243" y="868"/>
                    </a:lnTo>
                    <a:lnTo>
                      <a:pt x="226" y="909"/>
                    </a:lnTo>
                    <a:lnTo>
                      <a:pt x="208" y="952"/>
                    </a:lnTo>
                    <a:lnTo>
                      <a:pt x="192" y="996"/>
                    </a:lnTo>
                    <a:lnTo>
                      <a:pt x="177" y="1040"/>
                    </a:lnTo>
                    <a:lnTo>
                      <a:pt x="162" y="1085"/>
                    </a:lnTo>
                    <a:lnTo>
                      <a:pt x="147" y="1130"/>
                    </a:lnTo>
                    <a:lnTo>
                      <a:pt x="133" y="1176"/>
                    </a:lnTo>
                    <a:lnTo>
                      <a:pt x="120" y="1224"/>
                    </a:lnTo>
                    <a:lnTo>
                      <a:pt x="108" y="1272"/>
                    </a:lnTo>
                    <a:lnTo>
                      <a:pt x="95" y="1319"/>
                    </a:lnTo>
                    <a:lnTo>
                      <a:pt x="84" y="1368"/>
                    </a:lnTo>
                    <a:lnTo>
                      <a:pt x="74" y="1417"/>
                    </a:lnTo>
                    <a:lnTo>
                      <a:pt x="64" y="1467"/>
                    </a:lnTo>
                    <a:lnTo>
                      <a:pt x="55" y="1517"/>
                    </a:lnTo>
                    <a:lnTo>
                      <a:pt x="46" y="1569"/>
                    </a:lnTo>
                    <a:lnTo>
                      <a:pt x="38" y="1620"/>
                    </a:lnTo>
                    <a:lnTo>
                      <a:pt x="31" y="1673"/>
                    </a:lnTo>
                    <a:lnTo>
                      <a:pt x="24" y="1724"/>
                    </a:lnTo>
                    <a:lnTo>
                      <a:pt x="19" y="1778"/>
                    </a:lnTo>
                    <a:lnTo>
                      <a:pt x="14" y="1831"/>
                    </a:lnTo>
                    <a:lnTo>
                      <a:pt x="9" y="1885"/>
                    </a:lnTo>
                    <a:lnTo>
                      <a:pt x="6" y="1939"/>
                    </a:lnTo>
                    <a:lnTo>
                      <a:pt x="3" y="1994"/>
                    </a:lnTo>
                    <a:lnTo>
                      <a:pt x="1" y="2049"/>
                    </a:lnTo>
                    <a:lnTo>
                      <a:pt x="0" y="2104"/>
                    </a:lnTo>
                    <a:lnTo>
                      <a:pt x="0" y="2161"/>
                    </a:lnTo>
                    <a:lnTo>
                      <a:pt x="0" y="2216"/>
                    </a:lnTo>
                    <a:lnTo>
                      <a:pt x="1" y="2271"/>
                    </a:lnTo>
                    <a:lnTo>
                      <a:pt x="3" y="2326"/>
                    </a:lnTo>
                    <a:lnTo>
                      <a:pt x="6" y="2381"/>
                    </a:lnTo>
                    <a:lnTo>
                      <a:pt x="9" y="2435"/>
                    </a:lnTo>
                    <a:lnTo>
                      <a:pt x="14" y="2489"/>
                    </a:lnTo>
                    <a:lnTo>
                      <a:pt x="19" y="2542"/>
                    </a:lnTo>
                    <a:lnTo>
                      <a:pt x="24" y="2596"/>
                    </a:lnTo>
                    <a:lnTo>
                      <a:pt x="31" y="2648"/>
                    </a:lnTo>
                    <a:lnTo>
                      <a:pt x="38" y="2700"/>
                    </a:lnTo>
                    <a:lnTo>
                      <a:pt x="46" y="2751"/>
                    </a:lnTo>
                    <a:lnTo>
                      <a:pt x="55" y="2803"/>
                    </a:lnTo>
                    <a:lnTo>
                      <a:pt x="64" y="2853"/>
                    </a:lnTo>
                    <a:lnTo>
                      <a:pt x="74" y="2903"/>
                    </a:lnTo>
                    <a:lnTo>
                      <a:pt x="84" y="2952"/>
                    </a:lnTo>
                    <a:lnTo>
                      <a:pt x="95" y="3001"/>
                    </a:lnTo>
                    <a:lnTo>
                      <a:pt x="108" y="3048"/>
                    </a:lnTo>
                    <a:lnTo>
                      <a:pt x="120" y="3096"/>
                    </a:lnTo>
                    <a:lnTo>
                      <a:pt x="133" y="3144"/>
                    </a:lnTo>
                    <a:lnTo>
                      <a:pt x="147" y="3190"/>
                    </a:lnTo>
                    <a:lnTo>
                      <a:pt x="162" y="3235"/>
                    </a:lnTo>
                    <a:lnTo>
                      <a:pt x="177" y="3280"/>
                    </a:lnTo>
                    <a:lnTo>
                      <a:pt x="192" y="3324"/>
                    </a:lnTo>
                    <a:lnTo>
                      <a:pt x="208" y="3368"/>
                    </a:lnTo>
                    <a:lnTo>
                      <a:pt x="226" y="3411"/>
                    </a:lnTo>
                    <a:lnTo>
                      <a:pt x="243" y="3452"/>
                    </a:lnTo>
                    <a:lnTo>
                      <a:pt x="261" y="3494"/>
                    </a:lnTo>
                    <a:lnTo>
                      <a:pt x="278" y="3534"/>
                    </a:lnTo>
                    <a:lnTo>
                      <a:pt x="298" y="3574"/>
                    </a:lnTo>
                    <a:lnTo>
                      <a:pt x="317" y="3613"/>
                    </a:lnTo>
                    <a:lnTo>
                      <a:pt x="337" y="3650"/>
                    </a:lnTo>
                    <a:lnTo>
                      <a:pt x="357" y="3688"/>
                    </a:lnTo>
                    <a:lnTo>
                      <a:pt x="379" y="3723"/>
                    </a:lnTo>
                    <a:lnTo>
                      <a:pt x="400" y="3759"/>
                    </a:lnTo>
                    <a:lnTo>
                      <a:pt x="423" y="3793"/>
                    </a:lnTo>
                    <a:lnTo>
                      <a:pt x="445" y="3827"/>
                    </a:lnTo>
                    <a:lnTo>
                      <a:pt x="468" y="3860"/>
                    </a:lnTo>
                    <a:lnTo>
                      <a:pt x="492" y="3891"/>
                    </a:lnTo>
                    <a:lnTo>
                      <a:pt x="515" y="3921"/>
                    </a:lnTo>
                    <a:lnTo>
                      <a:pt x="539" y="3951"/>
                    </a:lnTo>
                    <a:lnTo>
                      <a:pt x="564" y="3980"/>
                    </a:lnTo>
                    <a:lnTo>
                      <a:pt x="589" y="4008"/>
                    </a:lnTo>
                    <a:lnTo>
                      <a:pt x="614" y="4034"/>
                    </a:lnTo>
                    <a:lnTo>
                      <a:pt x="640" y="4059"/>
                    </a:lnTo>
                    <a:lnTo>
                      <a:pt x="666" y="4084"/>
                    </a:lnTo>
                    <a:lnTo>
                      <a:pt x="692" y="4107"/>
                    </a:lnTo>
                    <a:lnTo>
                      <a:pt x="720" y="4129"/>
                    </a:lnTo>
                    <a:lnTo>
                      <a:pt x="747" y="4151"/>
                    </a:lnTo>
                    <a:lnTo>
                      <a:pt x="775" y="4171"/>
                    </a:lnTo>
                    <a:lnTo>
                      <a:pt x="803" y="4190"/>
                    </a:lnTo>
                    <a:lnTo>
                      <a:pt x="831" y="4207"/>
                    </a:lnTo>
                    <a:lnTo>
                      <a:pt x="859" y="4223"/>
                    </a:lnTo>
                    <a:lnTo>
                      <a:pt x="888" y="4238"/>
                    </a:lnTo>
                    <a:lnTo>
                      <a:pt x="918" y="4252"/>
                    </a:lnTo>
                    <a:lnTo>
                      <a:pt x="947" y="4265"/>
                    </a:lnTo>
                    <a:lnTo>
                      <a:pt x="977" y="4276"/>
                    </a:lnTo>
                    <a:lnTo>
                      <a:pt x="1007" y="4286"/>
                    </a:lnTo>
                    <a:lnTo>
                      <a:pt x="1037" y="4295"/>
                    </a:lnTo>
                    <a:lnTo>
                      <a:pt x="1067" y="4302"/>
                    </a:lnTo>
                    <a:lnTo>
                      <a:pt x="1098" y="4309"/>
                    </a:lnTo>
                    <a:lnTo>
                      <a:pt x="1129" y="4314"/>
                    </a:lnTo>
                    <a:lnTo>
                      <a:pt x="1160" y="4317"/>
                    </a:lnTo>
                    <a:lnTo>
                      <a:pt x="1191" y="4319"/>
                    </a:lnTo>
                    <a:lnTo>
                      <a:pt x="1224" y="4320"/>
                    </a:lnTo>
                    <a:lnTo>
                      <a:pt x="1224" y="0"/>
                    </a:lnTo>
                    <a:close/>
                  </a:path>
                </a:pathLst>
              </a:custGeom>
              <a:gradFill rotWithShape="0">
                <a:gsLst>
                  <a:gs pos="0">
                    <a:srgbClr val="23456f"/>
                  </a:gs>
                  <a:gs pos="100000">
                    <a:srgbClr val="3d629d"/>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857" name="Freeform 14"/>
              <p:cNvSpPr/>
              <p:nvPr/>
            </p:nvSpPr>
            <p:spPr>
              <a:xfrm>
                <a:off x="3532320" y="1531080"/>
                <a:ext cx="1838880" cy="3737880"/>
              </a:xfrm>
              <a:custGeom>
                <a:avLst/>
                <a:gdLst>
                  <a:gd name="textAreaLeft" fmla="*/ 0 w 1838880"/>
                  <a:gd name="textAreaRight" fmla="*/ 1839240 w 1838880"/>
                  <a:gd name="textAreaTop" fmla="*/ 0 h 3737880"/>
                  <a:gd name="textAreaBottom" fmla="*/ 3738240 h 3737880"/>
                </a:gdLst>
                <a:ahLst/>
                <a:rect l="textAreaLeft" t="textAreaTop" r="textAreaRight" b="textAreaBottom"/>
                <a:pathLst>
                  <a:path w="2124" h="4320">
                    <a:moveTo>
                      <a:pt x="0" y="0"/>
                    </a:moveTo>
                    <a:lnTo>
                      <a:pt x="0" y="0"/>
                    </a:lnTo>
                    <a:lnTo>
                      <a:pt x="0" y="4320"/>
                    </a:lnTo>
                    <a:lnTo>
                      <a:pt x="55" y="4320"/>
                    </a:lnTo>
                    <a:lnTo>
                      <a:pt x="109" y="4317"/>
                    </a:lnTo>
                    <a:lnTo>
                      <a:pt x="163" y="4314"/>
                    </a:lnTo>
                    <a:lnTo>
                      <a:pt x="217" y="4309"/>
                    </a:lnTo>
                    <a:lnTo>
                      <a:pt x="271" y="4302"/>
                    </a:lnTo>
                    <a:lnTo>
                      <a:pt x="323" y="4295"/>
                    </a:lnTo>
                    <a:lnTo>
                      <a:pt x="376" y="4286"/>
                    </a:lnTo>
                    <a:lnTo>
                      <a:pt x="429" y="4276"/>
                    </a:lnTo>
                    <a:lnTo>
                      <a:pt x="480" y="4265"/>
                    </a:lnTo>
                    <a:lnTo>
                      <a:pt x="530" y="4252"/>
                    </a:lnTo>
                    <a:lnTo>
                      <a:pt x="582" y="4238"/>
                    </a:lnTo>
                    <a:lnTo>
                      <a:pt x="632" y="4223"/>
                    </a:lnTo>
                    <a:lnTo>
                      <a:pt x="681" y="4207"/>
                    </a:lnTo>
                    <a:lnTo>
                      <a:pt x="731" y="4190"/>
                    </a:lnTo>
                    <a:lnTo>
                      <a:pt x="779" y="4171"/>
                    </a:lnTo>
                    <a:lnTo>
                      <a:pt x="827" y="4151"/>
                    </a:lnTo>
                    <a:lnTo>
                      <a:pt x="874" y="4129"/>
                    </a:lnTo>
                    <a:lnTo>
                      <a:pt x="921" y="4107"/>
                    </a:lnTo>
                    <a:lnTo>
                      <a:pt x="967" y="4084"/>
                    </a:lnTo>
                    <a:lnTo>
                      <a:pt x="1013" y="4059"/>
                    </a:lnTo>
                    <a:lnTo>
                      <a:pt x="1057" y="4034"/>
                    </a:lnTo>
                    <a:lnTo>
                      <a:pt x="1102" y="4008"/>
                    </a:lnTo>
                    <a:lnTo>
                      <a:pt x="1145" y="3980"/>
                    </a:lnTo>
                    <a:lnTo>
                      <a:pt x="1187" y="3951"/>
                    </a:lnTo>
                    <a:lnTo>
                      <a:pt x="1230" y="3921"/>
                    </a:lnTo>
                    <a:lnTo>
                      <a:pt x="1271" y="3891"/>
                    </a:lnTo>
                    <a:lnTo>
                      <a:pt x="1311" y="3860"/>
                    </a:lnTo>
                    <a:lnTo>
                      <a:pt x="1352" y="3827"/>
                    </a:lnTo>
                    <a:lnTo>
                      <a:pt x="1390" y="3793"/>
                    </a:lnTo>
                    <a:lnTo>
                      <a:pt x="1428" y="3759"/>
                    </a:lnTo>
                    <a:lnTo>
                      <a:pt x="1466" y="3724"/>
                    </a:lnTo>
                    <a:lnTo>
                      <a:pt x="1502" y="3688"/>
                    </a:lnTo>
                    <a:lnTo>
                      <a:pt x="1537" y="3650"/>
                    </a:lnTo>
                    <a:lnTo>
                      <a:pt x="1572" y="3613"/>
                    </a:lnTo>
                    <a:lnTo>
                      <a:pt x="1606" y="3574"/>
                    </a:lnTo>
                    <a:lnTo>
                      <a:pt x="1639" y="3534"/>
                    </a:lnTo>
                    <a:lnTo>
                      <a:pt x="1671" y="3494"/>
                    </a:lnTo>
                    <a:lnTo>
                      <a:pt x="1703" y="3452"/>
                    </a:lnTo>
                    <a:lnTo>
                      <a:pt x="1733" y="3411"/>
                    </a:lnTo>
                    <a:lnTo>
                      <a:pt x="1762" y="3368"/>
                    </a:lnTo>
                    <a:lnTo>
                      <a:pt x="1789" y="3324"/>
                    </a:lnTo>
                    <a:lnTo>
                      <a:pt x="1817" y="3280"/>
                    </a:lnTo>
                    <a:lnTo>
                      <a:pt x="1843" y="3235"/>
                    </a:lnTo>
                    <a:lnTo>
                      <a:pt x="1868" y="3190"/>
                    </a:lnTo>
                    <a:lnTo>
                      <a:pt x="1892" y="3144"/>
                    </a:lnTo>
                    <a:lnTo>
                      <a:pt x="1915" y="3096"/>
                    </a:lnTo>
                    <a:lnTo>
                      <a:pt x="1936" y="3050"/>
                    </a:lnTo>
                    <a:lnTo>
                      <a:pt x="1957" y="3001"/>
                    </a:lnTo>
                    <a:lnTo>
                      <a:pt x="1977" y="2952"/>
                    </a:lnTo>
                    <a:lnTo>
                      <a:pt x="1995" y="2903"/>
                    </a:lnTo>
                    <a:lnTo>
                      <a:pt x="2012" y="2853"/>
                    </a:lnTo>
                    <a:lnTo>
                      <a:pt x="2029" y="2803"/>
                    </a:lnTo>
                    <a:lnTo>
                      <a:pt x="2044" y="2751"/>
                    </a:lnTo>
                    <a:lnTo>
                      <a:pt x="2058" y="2700"/>
                    </a:lnTo>
                    <a:lnTo>
                      <a:pt x="2070" y="2648"/>
                    </a:lnTo>
                    <a:lnTo>
                      <a:pt x="2081" y="2596"/>
                    </a:lnTo>
                    <a:lnTo>
                      <a:pt x="2091" y="2542"/>
                    </a:lnTo>
                    <a:lnTo>
                      <a:pt x="2100" y="2489"/>
                    </a:lnTo>
                    <a:lnTo>
                      <a:pt x="2108" y="2435"/>
                    </a:lnTo>
                    <a:lnTo>
                      <a:pt x="2113" y="2381"/>
                    </a:lnTo>
                    <a:lnTo>
                      <a:pt x="2118" y="2326"/>
                    </a:lnTo>
                    <a:lnTo>
                      <a:pt x="2121" y="2271"/>
                    </a:lnTo>
                    <a:lnTo>
                      <a:pt x="2124" y="2216"/>
                    </a:lnTo>
                    <a:lnTo>
                      <a:pt x="2124" y="2161"/>
                    </a:lnTo>
                    <a:lnTo>
                      <a:pt x="2124" y="2104"/>
                    </a:lnTo>
                    <a:lnTo>
                      <a:pt x="2121" y="2049"/>
                    </a:lnTo>
                    <a:lnTo>
                      <a:pt x="2118" y="1994"/>
                    </a:lnTo>
                    <a:lnTo>
                      <a:pt x="2113" y="1939"/>
                    </a:lnTo>
                    <a:lnTo>
                      <a:pt x="2108" y="1885"/>
                    </a:lnTo>
                    <a:lnTo>
                      <a:pt x="2100" y="1831"/>
                    </a:lnTo>
                    <a:lnTo>
                      <a:pt x="2091" y="1778"/>
                    </a:lnTo>
                    <a:lnTo>
                      <a:pt x="2081" y="1724"/>
                    </a:lnTo>
                    <a:lnTo>
                      <a:pt x="2070" y="1672"/>
                    </a:lnTo>
                    <a:lnTo>
                      <a:pt x="2058" y="1620"/>
                    </a:lnTo>
                    <a:lnTo>
                      <a:pt x="2044" y="1569"/>
                    </a:lnTo>
                    <a:lnTo>
                      <a:pt x="2029" y="1517"/>
                    </a:lnTo>
                    <a:lnTo>
                      <a:pt x="2012" y="1467"/>
                    </a:lnTo>
                    <a:lnTo>
                      <a:pt x="1995" y="1417"/>
                    </a:lnTo>
                    <a:lnTo>
                      <a:pt x="1977" y="1368"/>
                    </a:lnTo>
                    <a:lnTo>
                      <a:pt x="1957" y="1319"/>
                    </a:lnTo>
                    <a:lnTo>
                      <a:pt x="1936" y="1272"/>
                    </a:lnTo>
                    <a:lnTo>
                      <a:pt x="1915" y="1224"/>
                    </a:lnTo>
                    <a:lnTo>
                      <a:pt x="1892" y="1176"/>
                    </a:lnTo>
                    <a:lnTo>
                      <a:pt x="1868" y="1130"/>
                    </a:lnTo>
                    <a:lnTo>
                      <a:pt x="1843" y="1085"/>
                    </a:lnTo>
                    <a:lnTo>
                      <a:pt x="1817" y="1040"/>
                    </a:lnTo>
                    <a:lnTo>
                      <a:pt x="1789" y="996"/>
                    </a:lnTo>
                    <a:lnTo>
                      <a:pt x="1762" y="952"/>
                    </a:lnTo>
                    <a:lnTo>
                      <a:pt x="1733" y="909"/>
                    </a:lnTo>
                    <a:lnTo>
                      <a:pt x="1703" y="868"/>
                    </a:lnTo>
                    <a:lnTo>
                      <a:pt x="1671" y="826"/>
                    </a:lnTo>
                    <a:lnTo>
                      <a:pt x="1639" y="786"/>
                    </a:lnTo>
                    <a:lnTo>
                      <a:pt x="1606" y="746"/>
                    </a:lnTo>
                    <a:lnTo>
                      <a:pt x="1572" y="707"/>
                    </a:lnTo>
                    <a:lnTo>
                      <a:pt x="1537" y="670"/>
                    </a:lnTo>
                    <a:lnTo>
                      <a:pt x="1502" y="632"/>
                    </a:lnTo>
                    <a:lnTo>
                      <a:pt x="1466" y="597"/>
                    </a:lnTo>
                    <a:lnTo>
                      <a:pt x="1428" y="561"/>
                    </a:lnTo>
                    <a:lnTo>
                      <a:pt x="1390" y="527"/>
                    </a:lnTo>
                    <a:lnTo>
                      <a:pt x="1352" y="493"/>
                    </a:lnTo>
                    <a:lnTo>
                      <a:pt x="1311" y="460"/>
                    </a:lnTo>
                    <a:lnTo>
                      <a:pt x="1271" y="429"/>
                    </a:lnTo>
                    <a:lnTo>
                      <a:pt x="1230" y="399"/>
                    </a:lnTo>
                    <a:lnTo>
                      <a:pt x="1187" y="369"/>
                    </a:lnTo>
                    <a:lnTo>
                      <a:pt x="1145" y="340"/>
                    </a:lnTo>
                    <a:lnTo>
                      <a:pt x="1102" y="312"/>
                    </a:lnTo>
                    <a:lnTo>
                      <a:pt x="1057" y="286"/>
                    </a:lnTo>
                    <a:lnTo>
                      <a:pt x="1013" y="261"/>
                    </a:lnTo>
                    <a:lnTo>
                      <a:pt x="967" y="236"/>
                    </a:lnTo>
                    <a:lnTo>
                      <a:pt x="921" y="213"/>
                    </a:lnTo>
                    <a:lnTo>
                      <a:pt x="874" y="191"/>
                    </a:lnTo>
                    <a:lnTo>
                      <a:pt x="827" y="169"/>
                    </a:lnTo>
                    <a:lnTo>
                      <a:pt x="779" y="149"/>
                    </a:lnTo>
                    <a:lnTo>
                      <a:pt x="731" y="130"/>
                    </a:lnTo>
                    <a:lnTo>
                      <a:pt x="681" y="113"/>
                    </a:lnTo>
                    <a:lnTo>
                      <a:pt x="632" y="97"/>
                    </a:lnTo>
                    <a:lnTo>
                      <a:pt x="582" y="82"/>
                    </a:lnTo>
                    <a:lnTo>
                      <a:pt x="530" y="68"/>
                    </a:lnTo>
                    <a:lnTo>
                      <a:pt x="480" y="55"/>
                    </a:lnTo>
                    <a:lnTo>
                      <a:pt x="429" y="44"/>
                    </a:lnTo>
                    <a:lnTo>
                      <a:pt x="376" y="34"/>
                    </a:lnTo>
                    <a:lnTo>
                      <a:pt x="323" y="25"/>
                    </a:lnTo>
                    <a:lnTo>
                      <a:pt x="271" y="18"/>
                    </a:lnTo>
                    <a:lnTo>
                      <a:pt x="217" y="11"/>
                    </a:lnTo>
                    <a:lnTo>
                      <a:pt x="163" y="6"/>
                    </a:lnTo>
                    <a:lnTo>
                      <a:pt x="109" y="3"/>
                    </a:lnTo>
                    <a:lnTo>
                      <a:pt x="55" y="0"/>
                    </a:lnTo>
                    <a:lnTo>
                      <a:pt x="0" y="0"/>
                    </a:lnTo>
                    <a:close/>
                  </a:path>
                </a:pathLst>
              </a:custGeom>
              <a:gradFill rotWithShape="0">
                <a:gsLst>
                  <a:gs pos="0">
                    <a:srgbClr val="376daf"/>
                  </a:gs>
                  <a:gs pos="100000">
                    <a:srgbClr val="6d8fc5"/>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858" name="Group 18"/>
            <p:cNvGrpSpPr/>
            <p:nvPr/>
          </p:nvGrpSpPr>
          <p:grpSpPr>
            <a:xfrm>
              <a:off x="2786040" y="1907640"/>
              <a:ext cx="2172960" cy="3006000"/>
              <a:chOff x="2786040" y="1907640"/>
              <a:chExt cx="2172960" cy="3006000"/>
            </a:xfrm>
          </p:grpSpPr>
          <p:sp>
            <p:nvSpPr>
              <p:cNvPr id="859" name="Freeform 15"/>
              <p:cNvSpPr/>
              <p:nvPr/>
            </p:nvSpPr>
            <p:spPr>
              <a:xfrm>
                <a:off x="2786040" y="1907640"/>
                <a:ext cx="745200" cy="3006000"/>
              </a:xfrm>
              <a:custGeom>
                <a:avLst/>
                <a:gdLst>
                  <a:gd name="textAreaLeft" fmla="*/ 0 w 745200"/>
                  <a:gd name="textAreaRight" fmla="*/ 745560 w 745200"/>
                  <a:gd name="textAreaTop" fmla="*/ 0 h 3006000"/>
                  <a:gd name="textAreaBottom" fmla="*/ 3006360 h 3006000"/>
                </a:gdLst>
                <a:ahLst/>
                <a:rect l="textAreaLeft" t="textAreaTop" r="textAreaRight" b="textAreaBottom"/>
                <a:pathLst>
                  <a:path w="861" h="3474">
                    <a:moveTo>
                      <a:pt x="861" y="0"/>
                    </a:moveTo>
                    <a:lnTo>
                      <a:pt x="861" y="0"/>
                    </a:lnTo>
                    <a:lnTo>
                      <a:pt x="839" y="1"/>
                    </a:lnTo>
                    <a:lnTo>
                      <a:pt x="817" y="3"/>
                    </a:lnTo>
                    <a:lnTo>
                      <a:pt x="795" y="5"/>
                    </a:lnTo>
                    <a:lnTo>
                      <a:pt x="773" y="9"/>
                    </a:lnTo>
                    <a:lnTo>
                      <a:pt x="751" y="14"/>
                    </a:lnTo>
                    <a:lnTo>
                      <a:pt x="730" y="20"/>
                    </a:lnTo>
                    <a:lnTo>
                      <a:pt x="709" y="28"/>
                    </a:lnTo>
                    <a:lnTo>
                      <a:pt x="688" y="35"/>
                    </a:lnTo>
                    <a:lnTo>
                      <a:pt x="666" y="45"/>
                    </a:lnTo>
                    <a:lnTo>
                      <a:pt x="646" y="55"/>
                    </a:lnTo>
                    <a:lnTo>
                      <a:pt x="625" y="67"/>
                    </a:lnTo>
                    <a:lnTo>
                      <a:pt x="605" y="79"/>
                    </a:lnTo>
                    <a:lnTo>
                      <a:pt x="585" y="92"/>
                    </a:lnTo>
                    <a:lnTo>
                      <a:pt x="565" y="105"/>
                    </a:lnTo>
                    <a:lnTo>
                      <a:pt x="546" y="121"/>
                    </a:lnTo>
                    <a:lnTo>
                      <a:pt x="526" y="137"/>
                    </a:lnTo>
                    <a:lnTo>
                      <a:pt x="507" y="154"/>
                    </a:lnTo>
                    <a:lnTo>
                      <a:pt x="488" y="172"/>
                    </a:lnTo>
                    <a:lnTo>
                      <a:pt x="469" y="191"/>
                    </a:lnTo>
                    <a:lnTo>
                      <a:pt x="451" y="210"/>
                    </a:lnTo>
                    <a:lnTo>
                      <a:pt x="433" y="231"/>
                    </a:lnTo>
                    <a:lnTo>
                      <a:pt x="415" y="252"/>
                    </a:lnTo>
                    <a:lnTo>
                      <a:pt x="380" y="297"/>
                    </a:lnTo>
                    <a:lnTo>
                      <a:pt x="346" y="345"/>
                    </a:lnTo>
                    <a:lnTo>
                      <a:pt x="314" y="398"/>
                    </a:lnTo>
                    <a:lnTo>
                      <a:pt x="283" y="452"/>
                    </a:lnTo>
                    <a:lnTo>
                      <a:pt x="252" y="509"/>
                    </a:lnTo>
                    <a:lnTo>
                      <a:pt x="224" y="569"/>
                    </a:lnTo>
                    <a:lnTo>
                      <a:pt x="197" y="632"/>
                    </a:lnTo>
                    <a:lnTo>
                      <a:pt x="171" y="699"/>
                    </a:lnTo>
                    <a:lnTo>
                      <a:pt x="147" y="766"/>
                    </a:lnTo>
                    <a:lnTo>
                      <a:pt x="125" y="837"/>
                    </a:lnTo>
                    <a:lnTo>
                      <a:pt x="104" y="909"/>
                    </a:lnTo>
                    <a:lnTo>
                      <a:pt x="86" y="985"/>
                    </a:lnTo>
                    <a:lnTo>
                      <a:pt x="68" y="1061"/>
                    </a:lnTo>
                    <a:lnTo>
                      <a:pt x="53" y="1140"/>
                    </a:lnTo>
                    <a:lnTo>
                      <a:pt x="39" y="1220"/>
                    </a:lnTo>
                    <a:lnTo>
                      <a:pt x="28" y="1303"/>
                    </a:lnTo>
                    <a:lnTo>
                      <a:pt x="18" y="1387"/>
                    </a:lnTo>
                    <a:lnTo>
                      <a:pt x="10" y="1472"/>
                    </a:lnTo>
                    <a:lnTo>
                      <a:pt x="5" y="1560"/>
                    </a:lnTo>
                    <a:lnTo>
                      <a:pt x="2" y="1648"/>
                    </a:lnTo>
                    <a:lnTo>
                      <a:pt x="0" y="1737"/>
                    </a:lnTo>
                    <a:lnTo>
                      <a:pt x="2" y="1827"/>
                    </a:lnTo>
                    <a:lnTo>
                      <a:pt x="5" y="1915"/>
                    </a:lnTo>
                    <a:lnTo>
                      <a:pt x="10" y="2002"/>
                    </a:lnTo>
                    <a:lnTo>
                      <a:pt x="18" y="2087"/>
                    </a:lnTo>
                    <a:lnTo>
                      <a:pt x="28" y="2171"/>
                    </a:lnTo>
                    <a:lnTo>
                      <a:pt x="39" y="2254"/>
                    </a:lnTo>
                    <a:lnTo>
                      <a:pt x="53" y="2334"/>
                    </a:lnTo>
                    <a:lnTo>
                      <a:pt x="68" y="2413"/>
                    </a:lnTo>
                    <a:lnTo>
                      <a:pt x="86" y="2491"/>
                    </a:lnTo>
                    <a:lnTo>
                      <a:pt x="104" y="2565"/>
                    </a:lnTo>
                    <a:lnTo>
                      <a:pt x="125" y="2637"/>
                    </a:lnTo>
                    <a:lnTo>
                      <a:pt x="147" y="2709"/>
                    </a:lnTo>
                    <a:lnTo>
                      <a:pt x="171" y="2776"/>
                    </a:lnTo>
                    <a:lnTo>
                      <a:pt x="197" y="2842"/>
                    </a:lnTo>
                    <a:lnTo>
                      <a:pt x="224" y="2906"/>
                    </a:lnTo>
                    <a:lnTo>
                      <a:pt x="252" y="2966"/>
                    </a:lnTo>
                    <a:lnTo>
                      <a:pt x="283" y="3022"/>
                    </a:lnTo>
                    <a:lnTo>
                      <a:pt x="314" y="3077"/>
                    </a:lnTo>
                    <a:lnTo>
                      <a:pt x="346" y="3129"/>
                    </a:lnTo>
                    <a:lnTo>
                      <a:pt x="380" y="3178"/>
                    </a:lnTo>
                    <a:lnTo>
                      <a:pt x="415" y="3223"/>
                    </a:lnTo>
                    <a:lnTo>
                      <a:pt x="433" y="3244"/>
                    </a:lnTo>
                    <a:lnTo>
                      <a:pt x="451" y="3264"/>
                    </a:lnTo>
                    <a:lnTo>
                      <a:pt x="469" y="3284"/>
                    </a:lnTo>
                    <a:lnTo>
                      <a:pt x="488" y="3303"/>
                    </a:lnTo>
                    <a:lnTo>
                      <a:pt x="507" y="3321"/>
                    </a:lnTo>
                    <a:lnTo>
                      <a:pt x="526" y="3337"/>
                    </a:lnTo>
                    <a:lnTo>
                      <a:pt x="546" y="3353"/>
                    </a:lnTo>
                    <a:lnTo>
                      <a:pt x="565" y="3368"/>
                    </a:lnTo>
                    <a:lnTo>
                      <a:pt x="585" y="3382"/>
                    </a:lnTo>
                    <a:lnTo>
                      <a:pt x="605" y="3396"/>
                    </a:lnTo>
                    <a:lnTo>
                      <a:pt x="625" y="3408"/>
                    </a:lnTo>
                    <a:lnTo>
                      <a:pt x="646" y="3420"/>
                    </a:lnTo>
                    <a:lnTo>
                      <a:pt x="666" y="3430"/>
                    </a:lnTo>
                    <a:lnTo>
                      <a:pt x="688" y="3439"/>
                    </a:lnTo>
                    <a:lnTo>
                      <a:pt x="709" y="3447"/>
                    </a:lnTo>
                    <a:lnTo>
                      <a:pt x="730" y="3454"/>
                    </a:lnTo>
                    <a:lnTo>
                      <a:pt x="751" y="3460"/>
                    </a:lnTo>
                    <a:lnTo>
                      <a:pt x="773" y="3465"/>
                    </a:lnTo>
                    <a:lnTo>
                      <a:pt x="795" y="3469"/>
                    </a:lnTo>
                    <a:lnTo>
                      <a:pt x="817" y="3471"/>
                    </a:lnTo>
                    <a:lnTo>
                      <a:pt x="839" y="3474"/>
                    </a:lnTo>
                    <a:lnTo>
                      <a:pt x="861" y="3474"/>
                    </a:lnTo>
                    <a:lnTo>
                      <a:pt x="861" y="0"/>
                    </a:lnTo>
                    <a:close/>
                  </a:path>
                </a:pathLst>
              </a:custGeom>
              <a:gradFill rotWithShape="0">
                <a:gsLst>
                  <a:gs pos="0">
                    <a:srgbClr val="264b78"/>
                  </a:gs>
                  <a:gs pos="100000">
                    <a:srgbClr val="5e7db6"/>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860" name="Freeform 16"/>
              <p:cNvSpPr/>
              <p:nvPr/>
            </p:nvSpPr>
            <p:spPr>
              <a:xfrm>
                <a:off x="3531240" y="1907640"/>
                <a:ext cx="1427760" cy="3006000"/>
              </a:xfrm>
              <a:custGeom>
                <a:avLst/>
                <a:gdLst>
                  <a:gd name="textAreaLeft" fmla="*/ 0 w 1427760"/>
                  <a:gd name="textAreaRight" fmla="*/ 1428120 w 1427760"/>
                  <a:gd name="textAreaTop" fmla="*/ 0 h 3006000"/>
                  <a:gd name="textAreaBottom" fmla="*/ 3006360 h 3006000"/>
                </a:gdLst>
                <a:ahLst/>
                <a:rect l="textAreaLeft" t="textAreaTop" r="textAreaRight" b="textAreaBottom"/>
                <a:pathLst>
                  <a:path w="1649" h="3474">
                    <a:moveTo>
                      <a:pt x="1" y="0"/>
                    </a:moveTo>
                    <a:lnTo>
                      <a:pt x="1" y="0"/>
                    </a:lnTo>
                    <a:lnTo>
                      <a:pt x="0" y="0"/>
                    </a:lnTo>
                    <a:lnTo>
                      <a:pt x="0" y="3474"/>
                    </a:lnTo>
                    <a:lnTo>
                      <a:pt x="1" y="3474"/>
                    </a:lnTo>
                    <a:lnTo>
                      <a:pt x="43" y="3474"/>
                    </a:lnTo>
                    <a:lnTo>
                      <a:pt x="85" y="3472"/>
                    </a:lnTo>
                    <a:lnTo>
                      <a:pt x="127" y="3469"/>
                    </a:lnTo>
                    <a:lnTo>
                      <a:pt x="169" y="3465"/>
                    </a:lnTo>
                    <a:lnTo>
                      <a:pt x="210" y="3460"/>
                    </a:lnTo>
                    <a:lnTo>
                      <a:pt x="252" y="3454"/>
                    </a:lnTo>
                    <a:lnTo>
                      <a:pt x="292" y="3447"/>
                    </a:lnTo>
                    <a:lnTo>
                      <a:pt x="333" y="3439"/>
                    </a:lnTo>
                    <a:lnTo>
                      <a:pt x="372" y="3430"/>
                    </a:lnTo>
                    <a:lnTo>
                      <a:pt x="412" y="3420"/>
                    </a:lnTo>
                    <a:lnTo>
                      <a:pt x="451" y="3408"/>
                    </a:lnTo>
                    <a:lnTo>
                      <a:pt x="490" y="3396"/>
                    </a:lnTo>
                    <a:lnTo>
                      <a:pt x="529" y="3383"/>
                    </a:lnTo>
                    <a:lnTo>
                      <a:pt x="568" y="3368"/>
                    </a:lnTo>
                    <a:lnTo>
                      <a:pt x="605" y="3353"/>
                    </a:lnTo>
                    <a:lnTo>
                      <a:pt x="642" y="3338"/>
                    </a:lnTo>
                    <a:lnTo>
                      <a:pt x="678" y="3321"/>
                    </a:lnTo>
                    <a:lnTo>
                      <a:pt x="714" y="3303"/>
                    </a:lnTo>
                    <a:lnTo>
                      <a:pt x="751" y="3284"/>
                    </a:lnTo>
                    <a:lnTo>
                      <a:pt x="786" y="3264"/>
                    </a:lnTo>
                    <a:lnTo>
                      <a:pt x="821" y="3244"/>
                    </a:lnTo>
                    <a:lnTo>
                      <a:pt x="855" y="3223"/>
                    </a:lnTo>
                    <a:lnTo>
                      <a:pt x="889" y="3200"/>
                    </a:lnTo>
                    <a:lnTo>
                      <a:pt x="921" y="3178"/>
                    </a:lnTo>
                    <a:lnTo>
                      <a:pt x="954" y="3154"/>
                    </a:lnTo>
                    <a:lnTo>
                      <a:pt x="986" y="3129"/>
                    </a:lnTo>
                    <a:lnTo>
                      <a:pt x="1018" y="3104"/>
                    </a:lnTo>
                    <a:lnTo>
                      <a:pt x="1048" y="3077"/>
                    </a:lnTo>
                    <a:lnTo>
                      <a:pt x="1079" y="3051"/>
                    </a:lnTo>
                    <a:lnTo>
                      <a:pt x="1108" y="3024"/>
                    </a:lnTo>
                    <a:lnTo>
                      <a:pt x="1137" y="2995"/>
                    </a:lnTo>
                    <a:lnTo>
                      <a:pt x="1166" y="2966"/>
                    </a:lnTo>
                    <a:lnTo>
                      <a:pt x="1193" y="2936"/>
                    </a:lnTo>
                    <a:lnTo>
                      <a:pt x="1220" y="2906"/>
                    </a:lnTo>
                    <a:lnTo>
                      <a:pt x="1246" y="2874"/>
                    </a:lnTo>
                    <a:lnTo>
                      <a:pt x="1272" y="2842"/>
                    </a:lnTo>
                    <a:lnTo>
                      <a:pt x="1296" y="2809"/>
                    </a:lnTo>
                    <a:lnTo>
                      <a:pt x="1321" y="2776"/>
                    </a:lnTo>
                    <a:lnTo>
                      <a:pt x="1344" y="2743"/>
                    </a:lnTo>
                    <a:lnTo>
                      <a:pt x="1366" y="2709"/>
                    </a:lnTo>
                    <a:lnTo>
                      <a:pt x="1389" y="2674"/>
                    </a:lnTo>
                    <a:lnTo>
                      <a:pt x="1409" y="2639"/>
                    </a:lnTo>
                    <a:lnTo>
                      <a:pt x="1429" y="2602"/>
                    </a:lnTo>
                    <a:lnTo>
                      <a:pt x="1449" y="2566"/>
                    </a:lnTo>
                    <a:lnTo>
                      <a:pt x="1468" y="2528"/>
                    </a:lnTo>
                    <a:lnTo>
                      <a:pt x="1485" y="2491"/>
                    </a:lnTo>
                    <a:lnTo>
                      <a:pt x="1502" y="2452"/>
                    </a:lnTo>
                    <a:lnTo>
                      <a:pt x="1518" y="2413"/>
                    </a:lnTo>
                    <a:lnTo>
                      <a:pt x="1533" y="2374"/>
                    </a:lnTo>
                    <a:lnTo>
                      <a:pt x="1548" y="2335"/>
                    </a:lnTo>
                    <a:lnTo>
                      <a:pt x="1562" y="2295"/>
                    </a:lnTo>
                    <a:lnTo>
                      <a:pt x="1573" y="2254"/>
                    </a:lnTo>
                    <a:lnTo>
                      <a:pt x="1586" y="2212"/>
                    </a:lnTo>
                    <a:lnTo>
                      <a:pt x="1596" y="2171"/>
                    </a:lnTo>
                    <a:lnTo>
                      <a:pt x="1606" y="2129"/>
                    </a:lnTo>
                    <a:lnTo>
                      <a:pt x="1615" y="2087"/>
                    </a:lnTo>
                    <a:lnTo>
                      <a:pt x="1622" y="2044"/>
                    </a:lnTo>
                    <a:lnTo>
                      <a:pt x="1628" y="2002"/>
                    </a:lnTo>
                    <a:lnTo>
                      <a:pt x="1635" y="1959"/>
                    </a:lnTo>
                    <a:lnTo>
                      <a:pt x="1640" y="1915"/>
                    </a:lnTo>
                    <a:lnTo>
                      <a:pt x="1643" y="1871"/>
                    </a:lnTo>
                    <a:lnTo>
                      <a:pt x="1646" y="1827"/>
                    </a:lnTo>
                    <a:lnTo>
                      <a:pt x="1647" y="1782"/>
                    </a:lnTo>
                    <a:lnTo>
                      <a:pt x="1649" y="1737"/>
                    </a:lnTo>
                    <a:lnTo>
                      <a:pt x="1647" y="1692"/>
                    </a:lnTo>
                    <a:lnTo>
                      <a:pt x="1646" y="1648"/>
                    </a:lnTo>
                    <a:lnTo>
                      <a:pt x="1643" y="1604"/>
                    </a:lnTo>
                    <a:lnTo>
                      <a:pt x="1640" y="1560"/>
                    </a:lnTo>
                    <a:lnTo>
                      <a:pt x="1635" y="1516"/>
                    </a:lnTo>
                    <a:lnTo>
                      <a:pt x="1628" y="1472"/>
                    </a:lnTo>
                    <a:lnTo>
                      <a:pt x="1622" y="1430"/>
                    </a:lnTo>
                    <a:lnTo>
                      <a:pt x="1615" y="1387"/>
                    </a:lnTo>
                    <a:lnTo>
                      <a:pt x="1606" y="1344"/>
                    </a:lnTo>
                    <a:lnTo>
                      <a:pt x="1596" y="1303"/>
                    </a:lnTo>
                    <a:lnTo>
                      <a:pt x="1586" y="1262"/>
                    </a:lnTo>
                    <a:lnTo>
                      <a:pt x="1573" y="1220"/>
                    </a:lnTo>
                    <a:lnTo>
                      <a:pt x="1562" y="1180"/>
                    </a:lnTo>
                    <a:lnTo>
                      <a:pt x="1548" y="1140"/>
                    </a:lnTo>
                    <a:lnTo>
                      <a:pt x="1533" y="1100"/>
                    </a:lnTo>
                    <a:lnTo>
                      <a:pt x="1518" y="1061"/>
                    </a:lnTo>
                    <a:lnTo>
                      <a:pt x="1502" y="1022"/>
                    </a:lnTo>
                    <a:lnTo>
                      <a:pt x="1485" y="985"/>
                    </a:lnTo>
                    <a:lnTo>
                      <a:pt x="1468" y="947"/>
                    </a:lnTo>
                    <a:lnTo>
                      <a:pt x="1449" y="909"/>
                    </a:lnTo>
                    <a:lnTo>
                      <a:pt x="1429" y="873"/>
                    </a:lnTo>
                    <a:lnTo>
                      <a:pt x="1409" y="837"/>
                    </a:lnTo>
                    <a:lnTo>
                      <a:pt x="1389" y="801"/>
                    </a:lnTo>
                    <a:lnTo>
                      <a:pt x="1366" y="766"/>
                    </a:lnTo>
                    <a:lnTo>
                      <a:pt x="1344" y="731"/>
                    </a:lnTo>
                    <a:lnTo>
                      <a:pt x="1321" y="697"/>
                    </a:lnTo>
                    <a:lnTo>
                      <a:pt x="1296" y="665"/>
                    </a:lnTo>
                    <a:lnTo>
                      <a:pt x="1272" y="632"/>
                    </a:lnTo>
                    <a:lnTo>
                      <a:pt x="1246" y="601"/>
                    </a:lnTo>
                    <a:lnTo>
                      <a:pt x="1220" y="569"/>
                    </a:lnTo>
                    <a:lnTo>
                      <a:pt x="1193" y="539"/>
                    </a:lnTo>
                    <a:lnTo>
                      <a:pt x="1166" y="509"/>
                    </a:lnTo>
                    <a:lnTo>
                      <a:pt x="1137" y="480"/>
                    </a:lnTo>
                    <a:lnTo>
                      <a:pt x="1108" y="452"/>
                    </a:lnTo>
                    <a:lnTo>
                      <a:pt x="1079" y="424"/>
                    </a:lnTo>
                    <a:lnTo>
                      <a:pt x="1048" y="396"/>
                    </a:lnTo>
                    <a:lnTo>
                      <a:pt x="1018" y="370"/>
                    </a:lnTo>
                    <a:lnTo>
                      <a:pt x="986" y="345"/>
                    </a:lnTo>
                    <a:lnTo>
                      <a:pt x="954" y="321"/>
                    </a:lnTo>
                    <a:lnTo>
                      <a:pt x="921" y="297"/>
                    </a:lnTo>
                    <a:lnTo>
                      <a:pt x="889" y="274"/>
                    </a:lnTo>
                    <a:lnTo>
                      <a:pt x="855" y="252"/>
                    </a:lnTo>
                    <a:lnTo>
                      <a:pt x="821" y="231"/>
                    </a:lnTo>
                    <a:lnTo>
                      <a:pt x="786" y="210"/>
                    </a:lnTo>
                    <a:lnTo>
                      <a:pt x="751" y="191"/>
                    </a:lnTo>
                    <a:lnTo>
                      <a:pt x="714" y="172"/>
                    </a:lnTo>
                    <a:lnTo>
                      <a:pt x="678" y="153"/>
                    </a:lnTo>
                    <a:lnTo>
                      <a:pt x="642" y="137"/>
                    </a:lnTo>
                    <a:lnTo>
                      <a:pt x="605" y="121"/>
                    </a:lnTo>
                    <a:lnTo>
                      <a:pt x="568" y="105"/>
                    </a:lnTo>
                    <a:lnTo>
                      <a:pt x="529" y="92"/>
                    </a:lnTo>
                    <a:lnTo>
                      <a:pt x="490" y="78"/>
                    </a:lnTo>
                    <a:lnTo>
                      <a:pt x="451" y="67"/>
                    </a:lnTo>
                    <a:lnTo>
                      <a:pt x="412" y="55"/>
                    </a:lnTo>
                    <a:lnTo>
                      <a:pt x="372" y="44"/>
                    </a:lnTo>
                    <a:lnTo>
                      <a:pt x="333" y="35"/>
                    </a:lnTo>
                    <a:lnTo>
                      <a:pt x="292" y="28"/>
                    </a:lnTo>
                    <a:lnTo>
                      <a:pt x="252" y="20"/>
                    </a:lnTo>
                    <a:lnTo>
                      <a:pt x="210" y="14"/>
                    </a:lnTo>
                    <a:lnTo>
                      <a:pt x="169" y="9"/>
                    </a:lnTo>
                    <a:lnTo>
                      <a:pt x="127" y="5"/>
                    </a:lnTo>
                    <a:lnTo>
                      <a:pt x="85" y="3"/>
                    </a:lnTo>
                    <a:lnTo>
                      <a:pt x="43" y="0"/>
                    </a:lnTo>
                    <a:lnTo>
                      <a:pt x="1" y="0"/>
                    </a:lnTo>
                    <a:close/>
                  </a:path>
                </a:pathLst>
              </a:custGeom>
              <a:gradFill rotWithShape="0">
                <a:gsLst>
                  <a:gs pos="0">
                    <a:srgbClr val="84aad8"/>
                  </a:gs>
                  <a:gs pos="100000">
                    <a:srgbClr val="4b82c5"/>
                  </a:gs>
                </a:gsLst>
                <a:lin ang="6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861" name="Group 21"/>
            <p:cNvGrpSpPr/>
            <p:nvPr/>
          </p:nvGrpSpPr>
          <p:grpSpPr>
            <a:xfrm>
              <a:off x="3071520" y="2296800"/>
              <a:ext cx="1516680" cy="2226960"/>
              <a:chOff x="3071520" y="2296800"/>
              <a:chExt cx="1516680" cy="2226960"/>
            </a:xfrm>
          </p:grpSpPr>
          <p:sp>
            <p:nvSpPr>
              <p:cNvPr id="862" name="Freeform 17"/>
              <p:cNvSpPr/>
              <p:nvPr/>
            </p:nvSpPr>
            <p:spPr>
              <a:xfrm>
                <a:off x="3071520" y="2298240"/>
                <a:ext cx="459720" cy="2225520"/>
              </a:xfrm>
              <a:custGeom>
                <a:avLst/>
                <a:gdLst>
                  <a:gd name="textAreaLeft" fmla="*/ 0 w 459720"/>
                  <a:gd name="textAreaRight" fmla="*/ 460080 w 459720"/>
                  <a:gd name="textAreaTop" fmla="*/ 0 h 2225520"/>
                  <a:gd name="textAreaBottom" fmla="*/ 2225880 h 2225520"/>
                </a:gdLst>
                <a:ahLst/>
                <a:rect l="textAreaLeft" t="textAreaTop" r="textAreaRight" b="textAreaBottom"/>
                <a:pathLst>
                  <a:path w="531" h="2572">
                    <a:moveTo>
                      <a:pt x="531" y="0"/>
                    </a:moveTo>
                    <a:lnTo>
                      <a:pt x="531" y="0"/>
                    </a:lnTo>
                    <a:lnTo>
                      <a:pt x="518" y="0"/>
                    </a:lnTo>
                    <a:lnTo>
                      <a:pt x="504" y="1"/>
                    </a:lnTo>
                    <a:lnTo>
                      <a:pt x="490" y="3"/>
                    </a:lnTo>
                    <a:lnTo>
                      <a:pt x="477" y="6"/>
                    </a:lnTo>
                    <a:lnTo>
                      <a:pt x="464" y="10"/>
                    </a:lnTo>
                    <a:lnTo>
                      <a:pt x="450" y="15"/>
                    </a:lnTo>
                    <a:lnTo>
                      <a:pt x="438" y="20"/>
                    </a:lnTo>
                    <a:lnTo>
                      <a:pt x="424" y="26"/>
                    </a:lnTo>
                    <a:lnTo>
                      <a:pt x="399" y="40"/>
                    </a:lnTo>
                    <a:lnTo>
                      <a:pt x="374" y="57"/>
                    </a:lnTo>
                    <a:lnTo>
                      <a:pt x="349" y="77"/>
                    </a:lnTo>
                    <a:lnTo>
                      <a:pt x="325" y="100"/>
                    </a:lnTo>
                    <a:lnTo>
                      <a:pt x="301" y="126"/>
                    </a:lnTo>
                    <a:lnTo>
                      <a:pt x="279" y="154"/>
                    </a:lnTo>
                    <a:lnTo>
                      <a:pt x="256" y="185"/>
                    </a:lnTo>
                    <a:lnTo>
                      <a:pt x="235" y="219"/>
                    </a:lnTo>
                    <a:lnTo>
                      <a:pt x="213" y="254"/>
                    </a:lnTo>
                    <a:lnTo>
                      <a:pt x="193" y="293"/>
                    </a:lnTo>
                    <a:lnTo>
                      <a:pt x="174" y="333"/>
                    </a:lnTo>
                    <a:lnTo>
                      <a:pt x="156" y="376"/>
                    </a:lnTo>
                    <a:lnTo>
                      <a:pt x="138" y="421"/>
                    </a:lnTo>
                    <a:lnTo>
                      <a:pt x="122" y="467"/>
                    </a:lnTo>
                    <a:lnTo>
                      <a:pt x="106" y="516"/>
                    </a:lnTo>
                    <a:lnTo>
                      <a:pt x="92" y="566"/>
                    </a:lnTo>
                    <a:lnTo>
                      <a:pt x="78" y="618"/>
                    </a:lnTo>
                    <a:lnTo>
                      <a:pt x="64" y="672"/>
                    </a:lnTo>
                    <a:lnTo>
                      <a:pt x="53" y="728"/>
                    </a:lnTo>
                    <a:lnTo>
                      <a:pt x="43" y="785"/>
                    </a:lnTo>
                    <a:lnTo>
                      <a:pt x="33" y="844"/>
                    </a:lnTo>
                    <a:lnTo>
                      <a:pt x="24" y="902"/>
                    </a:lnTo>
                    <a:lnTo>
                      <a:pt x="18" y="964"/>
                    </a:lnTo>
                    <a:lnTo>
                      <a:pt x="11" y="1027"/>
                    </a:lnTo>
                    <a:lnTo>
                      <a:pt x="6" y="1089"/>
                    </a:lnTo>
                    <a:lnTo>
                      <a:pt x="4" y="1153"/>
                    </a:lnTo>
                    <a:lnTo>
                      <a:pt x="1" y="1218"/>
                    </a:lnTo>
                    <a:lnTo>
                      <a:pt x="0" y="1285"/>
                    </a:lnTo>
                    <a:lnTo>
                      <a:pt x="1" y="1351"/>
                    </a:lnTo>
                    <a:lnTo>
                      <a:pt x="4" y="1417"/>
                    </a:lnTo>
                    <a:lnTo>
                      <a:pt x="6" y="1481"/>
                    </a:lnTo>
                    <a:lnTo>
                      <a:pt x="11" y="1544"/>
                    </a:lnTo>
                    <a:lnTo>
                      <a:pt x="18" y="1607"/>
                    </a:lnTo>
                    <a:lnTo>
                      <a:pt x="24" y="1667"/>
                    </a:lnTo>
                    <a:lnTo>
                      <a:pt x="33" y="1728"/>
                    </a:lnTo>
                    <a:lnTo>
                      <a:pt x="43" y="1785"/>
                    </a:lnTo>
                    <a:lnTo>
                      <a:pt x="53" y="1843"/>
                    </a:lnTo>
                    <a:lnTo>
                      <a:pt x="64" y="1898"/>
                    </a:lnTo>
                    <a:lnTo>
                      <a:pt x="78" y="1952"/>
                    </a:lnTo>
                    <a:lnTo>
                      <a:pt x="92" y="2005"/>
                    </a:lnTo>
                    <a:lnTo>
                      <a:pt x="106" y="2055"/>
                    </a:lnTo>
                    <a:lnTo>
                      <a:pt x="122" y="2104"/>
                    </a:lnTo>
                    <a:lnTo>
                      <a:pt x="138" y="2150"/>
                    </a:lnTo>
                    <a:lnTo>
                      <a:pt x="156" y="2194"/>
                    </a:lnTo>
                    <a:lnTo>
                      <a:pt x="174" y="2237"/>
                    </a:lnTo>
                    <a:lnTo>
                      <a:pt x="193" y="2278"/>
                    </a:lnTo>
                    <a:lnTo>
                      <a:pt x="213" y="2316"/>
                    </a:lnTo>
                    <a:lnTo>
                      <a:pt x="235" y="2352"/>
                    </a:lnTo>
                    <a:lnTo>
                      <a:pt x="256" y="2385"/>
                    </a:lnTo>
                    <a:lnTo>
                      <a:pt x="279" y="2416"/>
                    </a:lnTo>
                    <a:lnTo>
                      <a:pt x="301" y="2445"/>
                    </a:lnTo>
                    <a:lnTo>
                      <a:pt x="325" y="2470"/>
                    </a:lnTo>
                    <a:lnTo>
                      <a:pt x="349" y="2494"/>
                    </a:lnTo>
                    <a:lnTo>
                      <a:pt x="374" y="2514"/>
                    </a:lnTo>
                    <a:lnTo>
                      <a:pt x="399" y="2531"/>
                    </a:lnTo>
                    <a:lnTo>
                      <a:pt x="424" y="2545"/>
                    </a:lnTo>
                    <a:lnTo>
                      <a:pt x="438" y="2551"/>
                    </a:lnTo>
                    <a:lnTo>
                      <a:pt x="450" y="2556"/>
                    </a:lnTo>
                    <a:lnTo>
                      <a:pt x="464" y="2561"/>
                    </a:lnTo>
                    <a:lnTo>
                      <a:pt x="477" y="2565"/>
                    </a:lnTo>
                    <a:lnTo>
                      <a:pt x="490" y="2568"/>
                    </a:lnTo>
                    <a:lnTo>
                      <a:pt x="504" y="2570"/>
                    </a:lnTo>
                    <a:lnTo>
                      <a:pt x="518" y="2572"/>
                    </a:lnTo>
                    <a:lnTo>
                      <a:pt x="531" y="2572"/>
                    </a:lnTo>
                    <a:lnTo>
                      <a:pt x="531" y="0"/>
                    </a:lnTo>
                    <a:close/>
                  </a:path>
                </a:pathLst>
              </a:custGeom>
              <a:gradFill rotWithShape="0">
                <a:gsLst>
                  <a:gs pos="0">
                    <a:srgbClr val="32639e"/>
                  </a:gs>
                  <a:gs pos="100000">
                    <a:srgbClr val="7094ce"/>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863" name="Freeform 18"/>
              <p:cNvSpPr/>
              <p:nvPr/>
            </p:nvSpPr>
            <p:spPr>
              <a:xfrm>
                <a:off x="3531960" y="2296800"/>
                <a:ext cx="1056240" cy="2226960"/>
              </a:xfrm>
              <a:custGeom>
                <a:avLst/>
                <a:gdLst>
                  <a:gd name="textAreaLeft" fmla="*/ 0 w 1056240"/>
                  <a:gd name="textAreaRight" fmla="*/ 1056600 w 1056240"/>
                  <a:gd name="textAreaTop" fmla="*/ 0 h 2226960"/>
                  <a:gd name="textAreaBottom" fmla="*/ 2227320 h 2226960"/>
                </a:gdLst>
                <a:ahLst/>
                <a:rect l="textAreaLeft" t="textAreaTop" r="textAreaRight" b="textAreaBottom"/>
                <a:pathLst>
                  <a:path w="1220" h="2574">
                    <a:moveTo>
                      <a:pt x="0" y="0"/>
                    </a:moveTo>
                    <a:lnTo>
                      <a:pt x="0" y="0"/>
                    </a:lnTo>
                    <a:lnTo>
                      <a:pt x="0" y="2574"/>
                    </a:lnTo>
                    <a:lnTo>
                      <a:pt x="31" y="2574"/>
                    </a:lnTo>
                    <a:lnTo>
                      <a:pt x="63" y="2572"/>
                    </a:lnTo>
                    <a:lnTo>
                      <a:pt x="94" y="2570"/>
                    </a:lnTo>
                    <a:lnTo>
                      <a:pt x="124" y="2567"/>
                    </a:lnTo>
                    <a:lnTo>
                      <a:pt x="155" y="2563"/>
                    </a:lnTo>
                    <a:lnTo>
                      <a:pt x="185" y="2558"/>
                    </a:lnTo>
                    <a:lnTo>
                      <a:pt x="216" y="2553"/>
                    </a:lnTo>
                    <a:lnTo>
                      <a:pt x="246" y="2547"/>
                    </a:lnTo>
                    <a:lnTo>
                      <a:pt x="274" y="2541"/>
                    </a:lnTo>
                    <a:lnTo>
                      <a:pt x="305" y="2533"/>
                    </a:lnTo>
                    <a:lnTo>
                      <a:pt x="333" y="2525"/>
                    </a:lnTo>
                    <a:lnTo>
                      <a:pt x="362" y="2516"/>
                    </a:lnTo>
                    <a:lnTo>
                      <a:pt x="391" y="2506"/>
                    </a:lnTo>
                    <a:lnTo>
                      <a:pt x="419" y="2496"/>
                    </a:lnTo>
                    <a:lnTo>
                      <a:pt x="446" y="2484"/>
                    </a:lnTo>
                    <a:lnTo>
                      <a:pt x="474" y="2472"/>
                    </a:lnTo>
                    <a:lnTo>
                      <a:pt x="501" y="2459"/>
                    </a:lnTo>
                    <a:lnTo>
                      <a:pt x="529" y="2447"/>
                    </a:lnTo>
                    <a:lnTo>
                      <a:pt x="580" y="2418"/>
                    </a:lnTo>
                    <a:lnTo>
                      <a:pt x="632" y="2387"/>
                    </a:lnTo>
                    <a:lnTo>
                      <a:pt x="682" y="2354"/>
                    </a:lnTo>
                    <a:lnTo>
                      <a:pt x="730" y="2318"/>
                    </a:lnTo>
                    <a:lnTo>
                      <a:pt x="776" y="2280"/>
                    </a:lnTo>
                    <a:lnTo>
                      <a:pt x="820" y="2240"/>
                    </a:lnTo>
                    <a:lnTo>
                      <a:pt x="863" y="2197"/>
                    </a:lnTo>
                    <a:lnTo>
                      <a:pt x="903" y="2152"/>
                    </a:lnTo>
                    <a:lnTo>
                      <a:pt x="940" y="2106"/>
                    </a:lnTo>
                    <a:lnTo>
                      <a:pt x="977" y="2057"/>
                    </a:lnTo>
                    <a:lnTo>
                      <a:pt x="1011" y="2007"/>
                    </a:lnTo>
                    <a:lnTo>
                      <a:pt x="1043" y="1954"/>
                    </a:lnTo>
                    <a:lnTo>
                      <a:pt x="1072" y="1900"/>
                    </a:lnTo>
                    <a:lnTo>
                      <a:pt x="1100" y="1845"/>
                    </a:lnTo>
                    <a:lnTo>
                      <a:pt x="1123" y="1789"/>
                    </a:lnTo>
                    <a:lnTo>
                      <a:pt x="1146" y="1730"/>
                    </a:lnTo>
                    <a:lnTo>
                      <a:pt x="1165" y="1669"/>
                    </a:lnTo>
                    <a:lnTo>
                      <a:pt x="1174" y="1639"/>
                    </a:lnTo>
                    <a:lnTo>
                      <a:pt x="1181" y="1609"/>
                    </a:lnTo>
                    <a:lnTo>
                      <a:pt x="1189" y="1578"/>
                    </a:lnTo>
                    <a:lnTo>
                      <a:pt x="1195" y="1546"/>
                    </a:lnTo>
                    <a:lnTo>
                      <a:pt x="1200" y="1515"/>
                    </a:lnTo>
                    <a:lnTo>
                      <a:pt x="1205" y="1483"/>
                    </a:lnTo>
                    <a:lnTo>
                      <a:pt x="1210" y="1451"/>
                    </a:lnTo>
                    <a:lnTo>
                      <a:pt x="1214" y="1419"/>
                    </a:lnTo>
                    <a:lnTo>
                      <a:pt x="1216" y="1386"/>
                    </a:lnTo>
                    <a:lnTo>
                      <a:pt x="1217" y="1353"/>
                    </a:lnTo>
                    <a:lnTo>
                      <a:pt x="1219" y="1321"/>
                    </a:lnTo>
                    <a:lnTo>
                      <a:pt x="1220" y="1287"/>
                    </a:lnTo>
                    <a:lnTo>
                      <a:pt x="1219" y="1254"/>
                    </a:lnTo>
                    <a:lnTo>
                      <a:pt x="1217" y="1220"/>
                    </a:lnTo>
                    <a:lnTo>
                      <a:pt x="1216" y="1188"/>
                    </a:lnTo>
                    <a:lnTo>
                      <a:pt x="1214" y="1155"/>
                    </a:lnTo>
                    <a:lnTo>
                      <a:pt x="1210" y="1124"/>
                    </a:lnTo>
                    <a:lnTo>
                      <a:pt x="1205" y="1091"/>
                    </a:lnTo>
                    <a:lnTo>
                      <a:pt x="1200" y="1060"/>
                    </a:lnTo>
                    <a:lnTo>
                      <a:pt x="1195" y="1027"/>
                    </a:lnTo>
                    <a:lnTo>
                      <a:pt x="1189" y="997"/>
                    </a:lnTo>
                    <a:lnTo>
                      <a:pt x="1181" y="966"/>
                    </a:lnTo>
                    <a:lnTo>
                      <a:pt x="1174" y="935"/>
                    </a:lnTo>
                    <a:lnTo>
                      <a:pt x="1165" y="904"/>
                    </a:lnTo>
                    <a:lnTo>
                      <a:pt x="1146" y="846"/>
                    </a:lnTo>
                    <a:lnTo>
                      <a:pt x="1123" y="787"/>
                    </a:lnTo>
                    <a:lnTo>
                      <a:pt x="1100" y="730"/>
                    </a:lnTo>
                    <a:lnTo>
                      <a:pt x="1072" y="674"/>
                    </a:lnTo>
                    <a:lnTo>
                      <a:pt x="1043" y="620"/>
                    </a:lnTo>
                    <a:lnTo>
                      <a:pt x="1011" y="568"/>
                    </a:lnTo>
                    <a:lnTo>
                      <a:pt x="977" y="517"/>
                    </a:lnTo>
                    <a:lnTo>
                      <a:pt x="940" y="469"/>
                    </a:lnTo>
                    <a:lnTo>
                      <a:pt x="903" y="423"/>
                    </a:lnTo>
                    <a:lnTo>
                      <a:pt x="863" y="378"/>
                    </a:lnTo>
                    <a:lnTo>
                      <a:pt x="820" y="335"/>
                    </a:lnTo>
                    <a:lnTo>
                      <a:pt x="776" y="295"/>
                    </a:lnTo>
                    <a:lnTo>
                      <a:pt x="730" y="256"/>
                    </a:lnTo>
                    <a:lnTo>
                      <a:pt x="682" y="221"/>
                    </a:lnTo>
                    <a:lnTo>
                      <a:pt x="632" y="187"/>
                    </a:lnTo>
                    <a:lnTo>
                      <a:pt x="580" y="156"/>
                    </a:lnTo>
                    <a:lnTo>
                      <a:pt x="529" y="128"/>
                    </a:lnTo>
                    <a:lnTo>
                      <a:pt x="501" y="114"/>
                    </a:lnTo>
                    <a:lnTo>
                      <a:pt x="474" y="102"/>
                    </a:lnTo>
                    <a:lnTo>
                      <a:pt x="446" y="91"/>
                    </a:lnTo>
                    <a:lnTo>
                      <a:pt x="419" y="79"/>
                    </a:lnTo>
                    <a:lnTo>
                      <a:pt x="391" y="68"/>
                    </a:lnTo>
                    <a:lnTo>
                      <a:pt x="362" y="59"/>
                    </a:lnTo>
                    <a:lnTo>
                      <a:pt x="333" y="49"/>
                    </a:lnTo>
                    <a:lnTo>
                      <a:pt x="305" y="42"/>
                    </a:lnTo>
                    <a:lnTo>
                      <a:pt x="274" y="34"/>
                    </a:lnTo>
                    <a:lnTo>
                      <a:pt x="246" y="27"/>
                    </a:lnTo>
                    <a:lnTo>
                      <a:pt x="216" y="20"/>
                    </a:lnTo>
                    <a:lnTo>
                      <a:pt x="185" y="15"/>
                    </a:lnTo>
                    <a:lnTo>
                      <a:pt x="155" y="12"/>
                    </a:lnTo>
                    <a:lnTo>
                      <a:pt x="124" y="8"/>
                    </a:lnTo>
                    <a:lnTo>
                      <a:pt x="94" y="4"/>
                    </a:lnTo>
                    <a:lnTo>
                      <a:pt x="63" y="3"/>
                    </a:lnTo>
                    <a:lnTo>
                      <a:pt x="31" y="2"/>
                    </a:lnTo>
                    <a:lnTo>
                      <a:pt x="0" y="0"/>
                    </a:lnTo>
                    <a:close/>
                  </a:path>
                </a:pathLst>
              </a:custGeom>
              <a:gradFill rotWithShape="0">
                <a:gsLst>
                  <a:gs pos="0">
                    <a:srgbClr val="a7c2e3"/>
                  </a:gs>
                  <a:gs pos="100000">
                    <a:srgbClr val="6594cd"/>
                  </a:gs>
                </a:gsLst>
                <a:lin ang="6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864" name="Group 24"/>
            <p:cNvGrpSpPr/>
            <p:nvPr/>
          </p:nvGrpSpPr>
          <p:grpSpPr>
            <a:xfrm>
              <a:off x="3281040" y="2645640"/>
              <a:ext cx="977400" cy="1530720"/>
              <a:chOff x="3281040" y="2645640"/>
              <a:chExt cx="977400" cy="1530720"/>
            </a:xfrm>
          </p:grpSpPr>
          <p:sp>
            <p:nvSpPr>
              <p:cNvPr id="865" name="Freeform 19"/>
              <p:cNvSpPr/>
              <p:nvPr/>
            </p:nvSpPr>
            <p:spPr>
              <a:xfrm>
                <a:off x="3281040" y="2645640"/>
                <a:ext cx="250920" cy="1530720"/>
              </a:xfrm>
              <a:custGeom>
                <a:avLst/>
                <a:gdLst>
                  <a:gd name="textAreaLeft" fmla="*/ 0 w 250920"/>
                  <a:gd name="textAreaRight" fmla="*/ 251280 w 250920"/>
                  <a:gd name="textAreaTop" fmla="*/ 0 h 1530720"/>
                  <a:gd name="textAreaBottom" fmla="*/ 1531080 h 1530720"/>
                </a:gdLst>
                <a:ahLst/>
                <a:rect l="textAreaLeft" t="textAreaTop" r="textAreaRight" b="textAreaBottom"/>
                <a:pathLst>
                  <a:path w="290" h="1769">
                    <a:moveTo>
                      <a:pt x="290" y="0"/>
                    </a:moveTo>
                    <a:lnTo>
                      <a:pt x="290" y="0"/>
                    </a:lnTo>
                    <a:lnTo>
                      <a:pt x="275" y="1"/>
                    </a:lnTo>
                    <a:lnTo>
                      <a:pt x="260" y="4"/>
                    </a:lnTo>
                    <a:lnTo>
                      <a:pt x="245" y="10"/>
                    </a:lnTo>
                    <a:lnTo>
                      <a:pt x="231" y="17"/>
                    </a:lnTo>
                    <a:lnTo>
                      <a:pt x="217" y="27"/>
                    </a:lnTo>
                    <a:lnTo>
                      <a:pt x="203" y="39"/>
                    </a:lnTo>
                    <a:lnTo>
                      <a:pt x="190" y="53"/>
                    </a:lnTo>
                    <a:lnTo>
                      <a:pt x="177" y="69"/>
                    </a:lnTo>
                    <a:lnTo>
                      <a:pt x="163" y="86"/>
                    </a:lnTo>
                    <a:lnTo>
                      <a:pt x="151" y="106"/>
                    </a:lnTo>
                    <a:lnTo>
                      <a:pt x="139" y="128"/>
                    </a:lnTo>
                    <a:lnTo>
                      <a:pt x="127" y="150"/>
                    </a:lnTo>
                    <a:lnTo>
                      <a:pt x="116" y="175"/>
                    </a:lnTo>
                    <a:lnTo>
                      <a:pt x="106" y="202"/>
                    </a:lnTo>
                    <a:lnTo>
                      <a:pt x="94" y="229"/>
                    </a:lnTo>
                    <a:lnTo>
                      <a:pt x="84" y="258"/>
                    </a:lnTo>
                    <a:lnTo>
                      <a:pt x="75" y="290"/>
                    </a:lnTo>
                    <a:lnTo>
                      <a:pt x="65" y="321"/>
                    </a:lnTo>
                    <a:lnTo>
                      <a:pt x="57" y="355"/>
                    </a:lnTo>
                    <a:lnTo>
                      <a:pt x="49" y="390"/>
                    </a:lnTo>
                    <a:lnTo>
                      <a:pt x="42" y="425"/>
                    </a:lnTo>
                    <a:lnTo>
                      <a:pt x="34" y="463"/>
                    </a:lnTo>
                    <a:lnTo>
                      <a:pt x="28" y="500"/>
                    </a:lnTo>
                    <a:lnTo>
                      <a:pt x="23" y="540"/>
                    </a:lnTo>
                    <a:lnTo>
                      <a:pt x="13" y="621"/>
                    </a:lnTo>
                    <a:lnTo>
                      <a:pt x="5" y="706"/>
                    </a:lnTo>
                    <a:lnTo>
                      <a:pt x="1" y="794"/>
                    </a:lnTo>
                    <a:lnTo>
                      <a:pt x="0" y="839"/>
                    </a:lnTo>
                    <a:lnTo>
                      <a:pt x="0" y="884"/>
                    </a:lnTo>
                    <a:lnTo>
                      <a:pt x="0" y="930"/>
                    </a:lnTo>
                    <a:lnTo>
                      <a:pt x="1" y="974"/>
                    </a:lnTo>
                    <a:lnTo>
                      <a:pt x="5" y="1062"/>
                    </a:lnTo>
                    <a:lnTo>
                      <a:pt x="13" y="1147"/>
                    </a:lnTo>
                    <a:lnTo>
                      <a:pt x="23" y="1229"/>
                    </a:lnTo>
                    <a:lnTo>
                      <a:pt x="28" y="1268"/>
                    </a:lnTo>
                    <a:lnTo>
                      <a:pt x="34" y="1307"/>
                    </a:lnTo>
                    <a:lnTo>
                      <a:pt x="42" y="1343"/>
                    </a:lnTo>
                    <a:lnTo>
                      <a:pt x="49" y="1379"/>
                    </a:lnTo>
                    <a:lnTo>
                      <a:pt x="57" y="1413"/>
                    </a:lnTo>
                    <a:lnTo>
                      <a:pt x="65" y="1447"/>
                    </a:lnTo>
                    <a:lnTo>
                      <a:pt x="75" y="1480"/>
                    </a:lnTo>
                    <a:lnTo>
                      <a:pt x="84" y="1510"/>
                    </a:lnTo>
                    <a:lnTo>
                      <a:pt x="94" y="1540"/>
                    </a:lnTo>
                    <a:lnTo>
                      <a:pt x="106" y="1567"/>
                    </a:lnTo>
                    <a:lnTo>
                      <a:pt x="116" y="1594"/>
                    </a:lnTo>
                    <a:lnTo>
                      <a:pt x="127" y="1617"/>
                    </a:lnTo>
                    <a:lnTo>
                      <a:pt x="139" y="1641"/>
                    </a:lnTo>
                    <a:lnTo>
                      <a:pt x="151" y="1663"/>
                    </a:lnTo>
                    <a:lnTo>
                      <a:pt x="163" y="1681"/>
                    </a:lnTo>
                    <a:lnTo>
                      <a:pt x="177" y="1699"/>
                    </a:lnTo>
                    <a:lnTo>
                      <a:pt x="190" y="1715"/>
                    </a:lnTo>
                    <a:lnTo>
                      <a:pt x="203" y="1729"/>
                    </a:lnTo>
                    <a:lnTo>
                      <a:pt x="217" y="1742"/>
                    </a:lnTo>
                    <a:lnTo>
                      <a:pt x="231" y="1752"/>
                    </a:lnTo>
                    <a:lnTo>
                      <a:pt x="245" y="1759"/>
                    </a:lnTo>
                    <a:lnTo>
                      <a:pt x="260" y="1764"/>
                    </a:lnTo>
                    <a:lnTo>
                      <a:pt x="275" y="1768"/>
                    </a:lnTo>
                    <a:lnTo>
                      <a:pt x="290" y="1769"/>
                    </a:lnTo>
                    <a:lnTo>
                      <a:pt x="290" y="0"/>
                    </a:lnTo>
                    <a:close/>
                  </a:path>
                </a:pathLst>
              </a:custGeom>
              <a:gradFill rotWithShape="0">
                <a:gsLst>
                  <a:gs pos="0">
                    <a:srgbClr val="5e90c6"/>
                  </a:gs>
                  <a:gs pos="100000">
                    <a:srgbClr val="93b8e5"/>
                  </a:gs>
                </a:gsLst>
                <a:lin ang="135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sp>
            <p:nvSpPr>
              <p:cNvPr id="866" name="Freeform 20"/>
              <p:cNvSpPr/>
              <p:nvPr/>
            </p:nvSpPr>
            <p:spPr>
              <a:xfrm>
                <a:off x="3531960" y="2645640"/>
                <a:ext cx="726480" cy="1530720"/>
              </a:xfrm>
              <a:custGeom>
                <a:avLst/>
                <a:gdLst>
                  <a:gd name="textAreaLeft" fmla="*/ 0 w 726480"/>
                  <a:gd name="textAreaRight" fmla="*/ 726480 w 726480"/>
                  <a:gd name="textAreaTop" fmla="*/ 0 h 1530720"/>
                  <a:gd name="textAreaBottom" fmla="*/ 1531080 h 1530720"/>
                </a:gdLst>
                <a:ahLst/>
                <a:rect l="textAreaLeft" t="textAreaTop" r="textAreaRight" b="textAreaBottom"/>
                <a:pathLst>
                  <a:path w="839" h="1769">
                    <a:moveTo>
                      <a:pt x="0" y="0"/>
                    </a:moveTo>
                    <a:lnTo>
                      <a:pt x="0" y="0"/>
                    </a:lnTo>
                    <a:lnTo>
                      <a:pt x="0" y="1769"/>
                    </a:lnTo>
                    <a:lnTo>
                      <a:pt x="42" y="1768"/>
                    </a:lnTo>
                    <a:lnTo>
                      <a:pt x="85" y="1764"/>
                    </a:lnTo>
                    <a:lnTo>
                      <a:pt x="128" y="1759"/>
                    </a:lnTo>
                    <a:lnTo>
                      <a:pt x="169" y="1752"/>
                    </a:lnTo>
                    <a:lnTo>
                      <a:pt x="209" y="1742"/>
                    </a:lnTo>
                    <a:lnTo>
                      <a:pt x="249" y="1729"/>
                    </a:lnTo>
                    <a:lnTo>
                      <a:pt x="288" y="1715"/>
                    </a:lnTo>
                    <a:lnTo>
                      <a:pt x="326" y="1699"/>
                    </a:lnTo>
                    <a:lnTo>
                      <a:pt x="363" y="1681"/>
                    </a:lnTo>
                    <a:lnTo>
                      <a:pt x="400" y="1663"/>
                    </a:lnTo>
                    <a:lnTo>
                      <a:pt x="435" y="1641"/>
                    </a:lnTo>
                    <a:lnTo>
                      <a:pt x="469" y="1617"/>
                    </a:lnTo>
                    <a:lnTo>
                      <a:pt x="501" y="1594"/>
                    </a:lnTo>
                    <a:lnTo>
                      <a:pt x="534" y="1567"/>
                    </a:lnTo>
                    <a:lnTo>
                      <a:pt x="564" y="1540"/>
                    </a:lnTo>
                    <a:lnTo>
                      <a:pt x="593" y="1510"/>
                    </a:lnTo>
                    <a:lnTo>
                      <a:pt x="621" y="1480"/>
                    </a:lnTo>
                    <a:lnTo>
                      <a:pt x="647" y="1447"/>
                    </a:lnTo>
                    <a:lnTo>
                      <a:pt x="672" y="1413"/>
                    </a:lnTo>
                    <a:lnTo>
                      <a:pt x="696" y="1379"/>
                    </a:lnTo>
                    <a:lnTo>
                      <a:pt x="717" y="1343"/>
                    </a:lnTo>
                    <a:lnTo>
                      <a:pt x="737" y="1307"/>
                    </a:lnTo>
                    <a:lnTo>
                      <a:pt x="756" y="1268"/>
                    </a:lnTo>
                    <a:lnTo>
                      <a:pt x="774" y="1229"/>
                    </a:lnTo>
                    <a:lnTo>
                      <a:pt x="787" y="1189"/>
                    </a:lnTo>
                    <a:lnTo>
                      <a:pt x="801" y="1147"/>
                    </a:lnTo>
                    <a:lnTo>
                      <a:pt x="812" y="1106"/>
                    </a:lnTo>
                    <a:lnTo>
                      <a:pt x="822" y="1062"/>
                    </a:lnTo>
                    <a:lnTo>
                      <a:pt x="829" y="1019"/>
                    </a:lnTo>
                    <a:lnTo>
                      <a:pt x="835" y="974"/>
                    </a:lnTo>
                    <a:lnTo>
                      <a:pt x="837" y="930"/>
                    </a:lnTo>
                    <a:lnTo>
                      <a:pt x="839" y="884"/>
                    </a:lnTo>
                    <a:lnTo>
                      <a:pt x="837" y="839"/>
                    </a:lnTo>
                    <a:lnTo>
                      <a:pt x="835" y="794"/>
                    </a:lnTo>
                    <a:lnTo>
                      <a:pt x="829" y="750"/>
                    </a:lnTo>
                    <a:lnTo>
                      <a:pt x="822" y="706"/>
                    </a:lnTo>
                    <a:lnTo>
                      <a:pt x="812" y="663"/>
                    </a:lnTo>
                    <a:lnTo>
                      <a:pt x="801" y="621"/>
                    </a:lnTo>
                    <a:lnTo>
                      <a:pt x="787" y="580"/>
                    </a:lnTo>
                    <a:lnTo>
                      <a:pt x="774" y="540"/>
                    </a:lnTo>
                    <a:lnTo>
                      <a:pt x="756" y="500"/>
                    </a:lnTo>
                    <a:lnTo>
                      <a:pt x="737" y="463"/>
                    </a:lnTo>
                    <a:lnTo>
                      <a:pt x="717" y="425"/>
                    </a:lnTo>
                    <a:lnTo>
                      <a:pt x="696" y="390"/>
                    </a:lnTo>
                    <a:lnTo>
                      <a:pt x="672" y="355"/>
                    </a:lnTo>
                    <a:lnTo>
                      <a:pt x="647" y="321"/>
                    </a:lnTo>
                    <a:lnTo>
                      <a:pt x="621" y="290"/>
                    </a:lnTo>
                    <a:lnTo>
                      <a:pt x="593" y="258"/>
                    </a:lnTo>
                    <a:lnTo>
                      <a:pt x="564" y="229"/>
                    </a:lnTo>
                    <a:lnTo>
                      <a:pt x="534" y="202"/>
                    </a:lnTo>
                    <a:lnTo>
                      <a:pt x="501" y="175"/>
                    </a:lnTo>
                    <a:lnTo>
                      <a:pt x="469" y="150"/>
                    </a:lnTo>
                    <a:lnTo>
                      <a:pt x="435" y="128"/>
                    </a:lnTo>
                    <a:lnTo>
                      <a:pt x="400" y="106"/>
                    </a:lnTo>
                    <a:lnTo>
                      <a:pt x="363" y="86"/>
                    </a:lnTo>
                    <a:lnTo>
                      <a:pt x="326" y="69"/>
                    </a:lnTo>
                    <a:lnTo>
                      <a:pt x="288" y="53"/>
                    </a:lnTo>
                    <a:lnTo>
                      <a:pt x="249" y="39"/>
                    </a:lnTo>
                    <a:lnTo>
                      <a:pt x="209" y="27"/>
                    </a:lnTo>
                    <a:lnTo>
                      <a:pt x="169" y="17"/>
                    </a:lnTo>
                    <a:lnTo>
                      <a:pt x="128" y="10"/>
                    </a:lnTo>
                    <a:lnTo>
                      <a:pt x="85" y="4"/>
                    </a:lnTo>
                    <a:lnTo>
                      <a:pt x="42" y="0"/>
                    </a:lnTo>
                    <a:lnTo>
                      <a:pt x="0" y="0"/>
                    </a:lnTo>
                    <a:close/>
                  </a:path>
                </a:pathLst>
              </a:custGeom>
              <a:gradFill rotWithShape="0">
                <a:gsLst>
                  <a:gs pos="0">
                    <a:srgbClr val="aac4e4"/>
                  </a:gs>
                  <a:gs pos="100000">
                    <a:srgbClr val="dbe9f9"/>
                  </a:gs>
                </a:gsLst>
                <a:lin ang="10800000"/>
              </a:gradFill>
              <a:ln w="0">
                <a:noFill/>
              </a:ln>
            </p:spPr>
            <p:style>
              <a:lnRef idx="0"/>
              <a:fillRef idx="0"/>
              <a:effectRef idx="0"/>
              <a:fontRef idx="minor"/>
            </p:style>
            <p:txBody>
              <a:bodyPr lIns="18000" rIns="18000" tIns="18000" bIns="18000" anchor="ctr" anchorCtr="1">
                <a:noAutofit/>
              </a:bodyPr>
              <a:p>
                <a:endParaRPr b="0" lang="en-US" sz="1800" spc="-1" strike="noStrike">
                  <a:solidFill>
                    <a:srgbClr val="000000"/>
                  </a:solidFill>
                  <a:latin typeface="Arial"/>
                </a:endParaRPr>
              </a:p>
            </p:txBody>
          </p:sp>
        </p:grpSp>
        <p:grpSp>
          <p:nvGrpSpPr>
            <p:cNvPr id="867" name="Group 27"/>
            <p:cNvGrpSpPr/>
            <p:nvPr/>
          </p:nvGrpSpPr>
          <p:grpSpPr>
            <a:xfrm>
              <a:off x="3410280" y="3002040"/>
              <a:ext cx="507240" cy="815760"/>
              <a:chOff x="3410280" y="3002040"/>
              <a:chExt cx="507240" cy="815760"/>
            </a:xfrm>
          </p:grpSpPr>
          <p:sp>
            <p:nvSpPr>
              <p:cNvPr id="868" name="Freeform 21"/>
              <p:cNvSpPr/>
              <p:nvPr/>
            </p:nvSpPr>
            <p:spPr>
              <a:xfrm>
                <a:off x="3410280" y="3002040"/>
                <a:ext cx="507240" cy="815760"/>
              </a:xfrm>
              <a:custGeom>
                <a:avLst/>
                <a:gdLst/>
                <a:ahLst/>
                <a:rect l="l" t="t" r="r" b="b"/>
                <a:pathLst>
                  <a:path w="586" h="943">
                    <a:moveTo>
                      <a:pt x="138" y="0"/>
                    </a:moveTo>
                    <a:lnTo>
                      <a:pt x="138" y="0"/>
                    </a:lnTo>
                    <a:lnTo>
                      <a:pt x="131" y="2"/>
                    </a:lnTo>
                    <a:lnTo>
                      <a:pt x="123" y="3"/>
                    </a:lnTo>
                    <a:lnTo>
                      <a:pt x="116" y="7"/>
                    </a:lnTo>
                    <a:lnTo>
                      <a:pt x="108" y="10"/>
                    </a:lnTo>
                    <a:lnTo>
                      <a:pt x="101" y="15"/>
                    </a:lnTo>
                    <a:lnTo>
                      <a:pt x="94" y="22"/>
                    </a:lnTo>
                    <a:lnTo>
                      <a:pt x="87" y="29"/>
                    </a:lnTo>
                    <a:lnTo>
                      <a:pt x="81" y="38"/>
                    </a:lnTo>
                    <a:lnTo>
                      <a:pt x="68" y="57"/>
                    </a:lnTo>
                    <a:lnTo>
                      <a:pt x="57" y="81"/>
                    </a:lnTo>
                    <a:lnTo>
                      <a:pt x="47" y="107"/>
                    </a:lnTo>
                    <a:lnTo>
                      <a:pt x="38" y="137"/>
                    </a:lnTo>
                    <a:lnTo>
                      <a:pt x="29" y="170"/>
                    </a:lnTo>
                    <a:lnTo>
                      <a:pt x="22" y="206"/>
                    </a:lnTo>
                    <a:lnTo>
                      <a:pt x="15" y="245"/>
                    </a:lnTo>
                    <a:lnTo>
                      <a:pt x="10" y="285"/>
                    </a:lnTo>
                    <a:lnTo>
                      <a:pt x="5" y="328"/>
                    </a:lnTo>
                    <a:lnTo>
                      <a:pt x="3" y="373"/>
                    </a:lnTo>
                    <a:lnTo>
                      <a:pt x="2" y="419"/>
                    </a:lnTo>
                    <a:lnTo>
                      <a:pt x="0" y="468"/>
                    </a:lnTo>
                    <a:lnTo>
                      <a:pt x="2" y="516"/>
                    </a:lnTo>
                    <a:lnTo>
                      <a:pt x="3" y="562"/>
                    </a:lnTo>
                    <a:lnTo>
                      <a:pt x="5" y="609"/>
                    </a:lnTo>
                    <a:lnTo>
                      <a:pt x="10" y="651"/>
                    </a:lnTo>
                    <a:lnTo>
                      <a:pt x="15" y="693"/>
                    </a:lnTo>
                    <a:lnTo>
                      <a:pt x="22" y="733"/>
                    </a:lnTo>
                    <a:lnTo>
                      <a:pt x="29" y="769"/>
                    </a:lnTo>
                    <a:lnTo>
                      <a:pt x="38" y="803"/>
                    </a:lnTo>
                    <a:lnTo>
                      <a:pt x="47" y="833"/>
                    </a:lnTo>
                    <a:lnTo>
                      <a:pt x="57" y="861"/>
                    </a:lnTo>
                    <a:lnTo>
                      <a:pt x="68" y="886"/>
                    </a:lnTo>
                    <a:lnTo>
                      <a:pt x="81" y="906"/>
                    </a:lnTo>
                    <a:lnTo>
                      <a:pt x="87" y="915"/>
                    </a:lnTo>
                    <a:lnTo>
                      <a:pt x="94" y="922"/>
                    </a:lnTo>
                    <a:lnTo>
                      <a:pt x="101" y="928"/>
                    </a:lnTo>
                    <a:lnTo>
                      <a:pt x="108" y="933"/>
                    </a:lnTo>
                    <a:lnTo>
                      <a:pt x="116" y="938"/>
                    </a:lnTo>
                    <a:lnTo>
                      <a:pt x="123" y="941"/>
                    </a:lnTo>
                    <a:lnTo>
                      <a:pt x="131" y="943"/>
                    </a:lnTo>
                    <a:lnTo>
                      <a:pt x="138" y="943"/>
                    </a:lnTo>
                    <a:lnTo>
                      <a:pt x="161" y="943"/>
                    </a:lnTo>
                    <a:lnTo>
                      <a:pt x="185" y="941"/>
                    </a:lnTo>
                    <a:lnTo>
                      <a:pt x="206" y="938"/>
                    </a:lnTo>
                    <a:lnTo>
                      <a:pt x="229" y="935"/>
                    </a:lnTo>
                    <a:lnTo>
                      <a:pt x="250" y="928"/>
                    </a:lnTo>
                    <a:lnTo>
                      <a:pt x="271" y="922"/>
                    </a:lnTo>
                    <a:lnTo>
                      <a:pt x="293" y="915"/>
                    </a:lnTo>
                    <a:lnTo>
                      <a:pt x="313" y="907"/>
                    </a:lnTo>
                    <a:lnTo>
                      <a:pt x="333" y="897"/>
                    </a:lnTo>
                    <a:lnTo>
                      <a:pt x="351" y="887"/>
                    </a:lnTo>
                    <a:lnTo>
                      <a:pt x="370" y="876"/>
                    </a:lnTo>
                    <a:lnTo>
                      <a:pt x="388" y="863"/>
                    </a:lnTo>
                    <a:lnTo>
                      <a:pt x="405" y="851"/>
                    </a:lnTo>
                    <a:lnTo>
                      <a:pt x="423" y="836"/>
                    </a:lnTo>
                    <a:lnTo>
                      <a:pt x="439" y="822"/>
                    </a:lnTo>
                    <a:lnTo>
                      <a:pt x="454" y="805"/>
                    </a:lnTo>
                    <a:lnTo>
                      <a:pt x="469" y="789"/>
                    </a:lnTo>
                    <a:lnTo>
                      <a:pt x="483" y="772"/>
                    </a:lnTo>
                    <a:lnTo>
                      <a:pt x="497" y="754"/>
                    </a:lnTo>
                    <a:lnTo>
                      <a:pt x="509" y="735"/>
                    </a:lnTo>
                    <a:lnTo>
                      <a:pt x="521" y="716"/>
                    </a:lnTo>
                    <a:lnTo>
                      <a:pt x="532" y="696"/>
                    </a:lnTo>
                    <a:lnTo>
                      <a:pt x="542" y="676"/>
                    </a:lnTo>
                    <a:lnTo>
                      <a:pt x="551" y="656"/>
                    </a:lnTo>
                    <a:lnTo>
                      <a:pt x="558" y="635"/>
                    </a:lnTo>
                    <a:lnTo>
                      <a:pt x="566" y="612"/>
                    </a:lnTo>
                    <a:lnTo>
                      <a:pt x="571" y="590"/>
                    </a:lnTo>
                    <a:lnTo>
                      <a:pt x="576" y="567"/>
                    </a:lnTo>
                    <a:lnTo>
                      <a:pt x="581" y="543"/>
                    </a:lnTo>
                    <a:lnTo>
                      <a:pt x="583" y="521"/>
                    </a:lnTo>
                    <a:lnTo>
                      <a:pt x="585" y="497"/>
                    </a:lnTo>
                    <a:lnTo>
                      <a:pt x="586" y="472"/>
                    </a:lnTo>
                    <a:lnTo>
                      <a:pt x="585" y="448"/>
                    </a:lnTo>
                    <a:lnTo>
                      <a:pt x="583" y="424"/>
                    </a:lnTo>
                    <a:lnTo>
                      <a:pt x="581" y="400"/>
                    </a:lnTo>
                    <a:lnTo>
                      <a:pt x="576" y="377"/>
                    </a:lnTo>
                    <a:lnTo>
                      <a:pt x="571" y="354"/>
                    </a:lnTo>
                    <a:lnTo>
                      <a:pt x="566" y="331"/>
                    </a:lnTo>
                    <a:lnTo>
                      <a:pt x="558" y="310"/>
                    </a:lnTo>
                    <a:lnTo>
                      <a:pt x="551" y="289"/>
                    </a:lnTo>
                    <a:lnTo>
                      <a:pt x="542" y="268"/>
                    </a:lnTo>
                    <a:lnTo>
                      <a:pt x="532" y="247"/>
                    </a:lnTo>
                    <a:lnTo>
                      <a:pt x="521" y="227"/>
                    </a:lnTo>
                    <a:lnTo>
                      <a:pt x="509" y="209"/>
                    </a:lnTo>
                    <a:lnTo>
                      <a:pt x="497" y="190"/>
                    </a:lnTo>
                    <a:lnTo>
                      <a:pt x="483" y="172"/>
                    </a:lnTo>
                    <a:lnTo>
                      <a:pt x="469" y="155"/>
                    </a:lnTo>
                    <a:lnTo>
                      <a:pt x="454" y="138"/>
                    </a:lnTo>
                    <a:lnTo>
                      <a:pt x="439" y="123"/>
                    </a:lnTo>
                    <a:lnTo>
                      <a:pt x="423" y="108"/>
                    </a:lnTo>
                    <a:lnTo>
                      <a:pt x="405" y="94"/>
                    </a:lnTo>
                    <a:lnTo>
                      <a:pt x="388" y="81"/>
                    </a:lnTo>
                    <a:lnTo>
                      <a:pt x="370" y="69"/>
                    </a:lnTo>
                    <a:lnTo>
                      <a:pt x="351" y="58"/>
                    </a:lnTo>
                    <a:lnTo>
                      <a:pt x="333" y="47"/>
                    </a:lnTo>
                    <a:lnTo>
                      <a:pt x="313" y="38"/>
                    </a:lnTo>
                    <a:lnTo>
                      <a:pt x="293" y="29"/>
                    </a:lnTo>
                    <a:lnTo>
                      <a:pt x="271" y="22"/>
                    </a:lnTo>
                    <a:lnTo>
                      <a:pt x="250" y="15"/>
                    </a:lnTo>
                    <a:lnTo>
                      <a:pt x="229" y="10"/>
                    </a:lnTo>
                    <a:lnTo>
                      <a:pt x="206" y="7"/>
                    </a:lnTo>
                    <a:lnTo>
                      <a:pt x="185" y="3"/>
                    </a:lnTo>
                    <a:lnTo>
                      <a:pt x="161" y="2"/>
                    </a:lnTo>
                    <a:lnTo>
                      <a:pt x="138" y="0"/>
                    </a:lnTo>
                    <a:close/>
                  </a:path>
                </a:pathLst>
              </a:custGeom>
              <a:gradFill rotWithShape="0">
                <a:gsLst>
                  <a:gs pos="0">
                    <a:srgbClr val="faff2f"/>
                  </a:gs>
                  <a:gs pos="100000">
                    <a:srgbClr val="ad8d03"/>
                  </a:gs>
                </a:gsLst>
                <a:lin ang="5400000"/>
              </a:gradFill>
              <a:ln w="0">
                <a:noFill/>
              </a:ln>
              <a:effectLst>
                <a:outerShdw dist="38160" dir="5400000" blurRad="0" rotWithShape="0">
                  <a:srgbClr val="000000">
                    <a:alpha val="33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Group 29"/>
              <p:cNvGrpSpPr/>
              <p:nvPr/>
            </p:nvGrpSpPr>
            <p:grpSpPr>
              <a:xfrm>
                <a:off x="3454920" y="3037320"/>
                <a:ext cx="395640" cy="621720"/>
                <a:chOff x="3454920" y="3037320"/>
                <a:chExt cx="395640" cy="621720"/>
              </a:xfrm>
            </p:grpSpPr>
            <p:pic>
              <p:nvPicPr>
                <p:cNvPr id="870" name="Freeform 21" descr=""/>
                <p:cNvPicPr/>
                <p:nvPr/>
              </p:nvPicPr>
              <p:blipFill>
                <a:blip r:embed="rId3"/>
                <a:stretch/>
              </p:blipFill>
              <p:spPr>
                <a:xfrm>
                  <a:off x="3456720" y="3039840"/>
                  <a:ext cx="393840" cy="619200"/>
                </a:xfrm>
                <a:prstGeom prst="rect">
                  <a:avLst/>
                </a:prstGeom>
                <a:ln w="0">
                  <a:noFill/>
                </a:ln>
              </p:spPr>
            </p:pic>
            <p:sp>
              <p:nvSpPr>
                <p:cNvPr id="871" name="Text Box 31"/>
                <p:cNvSpPr/>
                <p:nvPr/>
              </p:nvSpPr>
              <p:spPr>
                <a:xfrm>
                  <a:off x="3454920" y="3037320"/>
                  <a:ext cx="393120" cy="62136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72" name="Group 32"/>
          <p:cNvGrpSpPr/>
          <p:nvPr/>
        </p:nvGrpSpPr>
        <p:grpSpPr>
          <a:xfrm>
            <a:off x="4647960" y="1523880"/>
            <a:ext cx="3733920" cy="304920"/>
            <a:chOff x="4647960" y="1523880"/>
            <a:chExt cx="3733920" cy="304920"/>
          </a:xfrm>
        </p:grpSpPr>
        <p:sp>
          <p:nvSpPr>
            <p:cNvPr id="873" name="Rectangle 36"/>
            <p:cNvSpPr/>
            <p:nvPr/>
          </p:nvSpPr>
          <p:spPr>
            <a:xfrm>
              <a:off x="6095880" y="1523880"/>
              <a:ext cx="2286000" cy="304920"/>
            </a:xfrm>
            <a:prstGeom prst="rect">
              <a:avLst/>
            </a:prstGeom>
            <a:noFill/>
            <a:ln w="0">
              <a:noFill/>
            </a:ln>
          </p:spPr>
          <p:style>
            <a:lnRef idx="0"/>
            <a:fillRef idx="0"/>
            <a:effectRef idx="0"/>
            <a:fontRef idx="minor"/>
          </p:style>
          <p:txBody>
            <a:bodyPr lIns="45720" rIns="27360" tIns="18360" bIns="18360" anchor="ctr">
              <a:norm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lace Description Here</a:t>
              </a:r>
              <a:endParaRPr b="0" lang="en-US" sz="1600" spc="-1" strike="noStrike">
                <a:solidFill>
                  <a:srgbClr val="000000"/>
                </a:solidFill>
                <a:latin typeface="Arial"/>
              </a:endParaRPr>
            </a:p>
          </p:txBody>
        </p:sp>
        <p:cxnSp>
          <p:nvCxnSpPr>
            <p:cNvPr id="874" name="Straight Arrow Connector 40"/>
            <p:cNvCxnSpPr/>
            <p:nvPr/>
          </p:nvCxnSpPr>
          <p:spPr>
            <a:xfrm flipH="1">
              <a:off x="4647960" y="1675440"/>
              <a:ext cx="1372320" cy="1080"/>
            </a:xfrm>
            <a:prstGeom prst="straightConnector1">
              <a:avLst/>
            </a:prstGeom>
            <a:ln w="12600">
              <a:solidFill>
                <a:srgbClr val="0a317a"/>
              </a:solidFill>
              <a:miter/>
              <a:tailEnd len="lg" type="oval" w="lg"/>
            </a:ln>
          </p:spPr>
        </p:cxnSp>
      </p:grpSp>
      <p:grpSp>
        <p:nvGrpSpPr>
          <p:cNvPr id="875" name="Group 35"/>
          <p:cNvGrpSpPr/>
          <p:nvPr/>
        </p:nvGrpSpPr>
        <p:grpSpPr>
          <a:xfrm>
            <a:off x="4494960" y="1859040"/>
            <a:ext cx="3886920" cy="304560"/>
            <a:chOff x="4494960" y="1859040"/>
            <a:chExt cx="3886920" cy="304560"/>
          </a:xfrm>
        </p:grpSpPr>
        <p:sp>
          <p:nvSpPr>
            <p:cNvPr id="876" name="Rectangle 42"/>
            <p:cNvSpPr/>
            <p:nvPr/>
          </p:nvSpPr>
          <p:spPr>
            <a:xfrm>
              <a:off x="6095880" y="1859040"/>
              <a:ext cx="2286000" cy="304560"/>
            </a:xfrm>
            <a:prstGeom prst="rect">
              <a:avLst/>
            </a:prstGeom>
            <a:noFill/>
            <a:ln w="0">
              <a:noFill/>
            </a:ln>
          </p:spPr>
          <p:style>
            <a:lnRef idx="0"/>
            <a:fillRef idx="0"/>
            <a:effectRef idx="0"/>
            <a:fontRef idx="minor"/>
          </p:style>
          <p:txBody>
            <a:bodyPr lIns="45720" rIns="27360" tIns="18360" bIns="18360" anchor="ctr">
              <a:norm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lace Description Here</a:t>
              </a:r>
              <a:endParaRPr b="0" lang="en-US" sz="1600" spc="-1" strike="noStrike">
                <a:solidFill>
                  <a:srgbClr val="000000"/>
                </a:solidFill>
                <a:latin typeface="Arial"/>
              </a:endParaRPr>
            </a:p>
          </p:txBody>
        </p:sp>
        <p:cxnSp>
          <p:nvCxnSpPr>
            <p:cNvPr id="877" name="Straight Arrow Connector 43"/>
            <p:cNvCxnSpPr/>
            <p:nvPr/>
          </p:nvCxnSpPr>
          <p:spPr>
            <a:xfrm flipH="1" flipV="1">
              <a:off x="4494960" y="2010960"/>
              <a:ext cx="1524600" cy="2160"/>
            </a:xfrm>
            <a:prstGeom prst="straightConnector1">
              <a:avLst/>
            </a:prstGeom>
            <a:ln w="12600">
              <a:solidFill>
                <a:srgbClr val="0a317a"/>
              </a:solidFill>
              <a:miter/>
              <a:tailEnd len="lg" type="oval" w="lg"/>
            </a:ln>
          </p:spPr>
        </p:cxnSp>
      </p:grpSp>
      <p:grpSp>
        <p:nvGrpSpPr>
          <p:cNvPr id="878" name="Group 38"/>
          <p:cNvGrpSpPr/>
          <p:nvPr/>
        </p:nvGrpSpPr>
        <p:grpSpPr>
          <a:xfrm>
            <a:off x="4343040" y="2193840"/>
            <a:ext cx="4038840" cy="304920"/>
            <a:chOff x="4343040" y="2193840"/>
            <a:chExt cx="4038840" cy="304920"/>
          </a:xfrm>
        </p:grpSpPr>
        <p:sp>
          <p:nvSpPr>
            <p:cNvPr id="879" name="Rectangle 44"/>
            <p:cNvSpPr/>
            <p:nvPr/>
          </p:nvSpPr>
          <p:spPr>
            <a:xfrm>
              <a:off x="6095880" y="2193840"/>
              <a:ext cx="2286000" cy="304920"/>
            </a:xfrm>
            <a:prstGeom prst="rect">
              <a:avLst/>
            </a:prstGeom>
            <a:noFill/>
            <a:ln w="0">
              <a:noFill/>
            </a:ln>
          </p:spPr>
          <p:style>
            <a:lnRef idx="0"/>
            <a:fillRef idx="0"/>
            <a:effectRef idx="0"/>
            <a:fontRef idx="minor"/>
          </p:style>
          <p:txBody>
            <a:bodyPr lIns="45720" rIns="27360" tIns="18360" bIns="18360" anchor="ctr">
              <a:norm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lace Description Here</a:t>
              </a:r>
              <a:endParaRPr b="0" lang="en-US" sz="1600" spc="-1" strike="noStrike">
                <a:solidFill>
                  <a:srgbClr val="000000"/>
                </a:solidFill>
                <a:latin typeface="Arial"/>
              </a:endParaRPr>
            </a:p>
          </p:txBody>
        </p:sp>
        <p:cxnSp>
          <p:nvCxnSpPr>
            <p:cNvPr id="880" name="Straight Arrow Connector 45"/>
            <p:cNvCxnSpPr/>
            <p:nvPr/>
          </p:nvCxnSpPr>
          <p:spPr>
            <a:xfrm flipH="1" flipV="1">
              <a:off x="4343040" y="2344320"/>
              <a:ext cx="1676880" cy="3600"/>
            </a:xfrm>
            <a:prstGeom prst="straightConnector1">
              <a:avLst/>
            </a:prstGeom>
            <a:ln w="12600">
              <a:solidFill>
                <a:srgbClr val="0a317a"/>
              </a:solidFill>
              <a:miter/>
              <a:tailEnd len="lg" type="oval" w="lg"/>
            </a:ln>
          </p:spPr>
        </p:cxnSp>
      </p:grpSp>
      <p:grpSp>
        <p:nvGrpSpPr>
          <p:cNvPr id="881" name="Group 41"/>
          <p:cNvGrpSpPr/>
          <p:nvPr/>
        </p:nvGrpSpPr>
        <p:grpSpPr>
          <a:xfrm>
            <a:off x="4190760" y="2530440"/>
            <a:ext cx="4191120" cy="304920"/>
            <a:chOff x="4190760" y="2530440"/>
            <a:chExt cx="4191120" cy="304920"/>
          </a:xfrm>
        </p:grpSpPr>
        <p:sp>
          <p:nvSpPr>
            <p:cNvPr id="882" name="Rectangle 48"/>
            <p:cNvSpPr/>
            <p:nvPr/>
          </p:nvSpPr>
          <p:spPr>
            <a:xfrm>
              <a:off x="6095880" y="2530440"/>
              <a:ext cx="2286000" cy="304920"/>
            </a:xfrm>
            <a:prstGeom prst="rect">
              <a:avLst/>
            </a:prstGeom>
            <a:noFill/>
            <a:ln w="0">
              <a:noFill/>
            </a:ln>
          </p:spPr>
          <p:style>
            <a:lnRef idx="0"/>
            <a:fillRef idx="0"/>
            <a:effectRef idx="0"/>
            <a:fontRef idx="minor"/>
          </p:style>
          <p:txBody>
            <a:bodyPr lIns="45720" rIns="27360" tIns="18360" bIns="18360" anchor="ctr">
              <a:norm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lace Description Here</a:t>
              </a:r>
              <a:endParaRPr b="0" lang="en-US" sz="1600" spc="-1" strike="noStrike">
                <a:solidFill>
                  <a:srgbClr val="000000"/>
                </a:solidFill>
                <a:latin typeface="Arial"/>
              </a:endParaRPr>
            </a:p>
          </p:txBody>
        </p:sp>
        <p:cxnSp>
          <p:nvCxnSpPr>
            <p:cNvPr id="883" name="Straight Arrow Connector 49"/>
            <p:cNvCxnSpPr/>
            <p:nvPr/>
          </p:nvCxnSpPr>
          <p:spPr>
            <a:xfrm flipH="1" flipV="1">
              <a:off x="4190760" y="2682720"/>
              <a:ext cx="1829520" cy="2160"/>
            </a:xfrm>
            <a:prstGeom prst="straightConnector1">
              <a:avLst/>
            </a:prstGeom>
            <a:ln w="12600">
              <a:solidFill>
                <a:srgbClr val="0a317a"/>
              </a:solidFill>
              <a:miter/>
              <a:tailEnd len="lg" type="oval" w="lg"/>
            </a:ln>
          </p:spPr>
        </p:cxnSp>
      </p:grpSp>
      <p:grpSp>
        <p:nvGrpSpPr>
          <p:cNvPr id="884" name="Group 44"/>
          <p:cNvGrpSpPr/>
          <p:nvPr/>
        </p:nvGrpSpPr>
        <p:grpSpPr>
          <a:xfrm>
            <a:off x="4037760" y="2865600"/>
            <a:ext cx="4344120" cy="304560"/>
            <a:chOff x="4037760" y="2865600"/>
            <a:chExt cx="4344120" cy="304560"/>
          </a:xfrm>
        </p:grpSpPr>
        <p:sp>
          <p:nvSpPr>
            <p:cNvPr id="885" name="Rectangle 51"/>
            <p:cNvSpPr/>
            <p:nvPr/>
          </p:nvSpPr>
          <p:spPr>
            <a:xfrm>
              <a:off x="6095880" y="2865600"/>
              <a:ext cx="2286000" cy="304560"/>
            </a:xfrm>
            <a:prstGeom prst="rect">
              <a:avLst/>
            </a:prstGeom>
            <a:noFill/>
            <a:ln w="0">
              <a:noFill/>
            </a:ln>
          </p:spPr>
          <p:style>
            <a:lnRef idx="0"/>
            <a:fillRef idx="0"/>
            <a:effectRef idx="0"/>
            <a:fontRef idx="minor"/>
          </p:style>
          <p:txBody>
            <a:bodyPr lIns="45720" rIns="27360" tIns="18360" bIns="18360" anchor="ctr">
              <a:norm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lace Description Here</a:t>
              </a:r>
              <a:endParaRPr b="0" lang="en-US" sz="1600" spc="-1" strike="noStrike">
                <a:solidFill>
                  <a:srgbClr val="000000"/>
                </a:solidFill>
                <a:latin typeface="Arial"/>
              </a:endParaRPr>
            </a:p>
          </p:txBody>
        </p:sp>
        <p:cxnSp>
          <p:nvCxnSpPr>
            <p:cNvPr id="886" name="Straight Arrow Connector 52"/>
            <p:cNvCxnSpPr/>
            <p:nvPr/>
          </p:nvCxnSpPr>
          <p:spPr>
            <a:xfrm flipH="1" flipV="1">
              <a:off x="4037760" y="3017520"/>
              <a:ext cx="1981800" cy="2160"/>
            </a:xfrm>
            <a:prstGeom prst="straightConnector1">
              <a:avLst/>
            </a:prstGeom>
            <a:ln w="12600">
              <a:solidFill>
                <a:srgbClr val="0a317a"/>
              </a:solidFill>
              <a:miter/>
              <a:tailEnd len="lg" type="oval" w="lg"/>
            </a:ln>
          </p:spPr>
        </p:cxnSp>
      </p:grpSp>
      <p:grpSp>
        <p:nvGrpSpPr>
          <p:cNvPr id="887" name="Group 47"/>
          <p:cNvGrpSpPr/>
          <p:nvPr/>
        </p:nvGrpSpPr>
        <p:grpSpPr>
          <a:xfrm>
            <a:off x="3809520" y="3200400"/>
            <a:ext cx="4572360" cy="304920"/>
            <a:chOff x="3809520" y="3200400"/>
            <a:chExt cx="4572360" cy="304920"/>
          </a:xfrm>
        </p:grpSpPr>
        <p:sp>
          <p:nvSpPr>
            <p:cNvPr id="888" name="Rectangle 54"/>
            <p:cNvSpPr/>
            <p:nvPr/>
          </p:nvSpPr>
          <p:spPr>
            <a:xfrm>
              <a:off x="6095880" y="3200400"/>
              <a:ext cx="2286000" cy="304920"/>
            </a:xfrm>
            <a:prstGeom prst="rect">
              <a:avLst/>
            </a:prstGeom>
            <a:noFill/>
            <a:ln w="0">
              <a:noFill/>
            </a:ln>
          </p:spPr>
          <p:style>
            <a:lnRef idx="0"/>
            <a:fillRef idx="0"/>
            <a:effectRef idx="0"/>
            <a:fontRef idx="minor"/>
          </p:style>
          <p:txBody>
            <a:bodyPr lIns="45720" rIns="27360" tIns="18360" bIns="18360" anchor="ctr">
              <a:normAutofit/>
            </a:bodyPr>
            <a:p>
              <a:pPr lvl="1">
                <a:lnSpc>
                  <a:spcPct val="8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lace Description Here</a:t>
              </a:r>
              <a:endParaRPr b="0" lang="en-US" sz="1600" spc="-1" strike="noStrike">
                <a:solidFill>
                  <a:srgbClr val="000000"/>
                </a:solidFill>
                <a:latin typeface="Arial"/>
              </a:endParaRPr>
            </a:p>
          </p:txBody>
        </p:sp>
        <p:cxnSp>
          <p:nvCxnSpPr>
            <p:cNvPr id="889" name="Straight Arrow Connector 55"/>
            <p:cNvCxnSpPr/>
            <p:nvPr/>
          </p:nvCxnSpPr>
          <p:spPr>
            <a:xfrm flipH="1" flipV="1">
              <a:off x="3809520" y="3352680"/>
              <a:ext cx="2210400" cy="2160"/>
            </a:xfrm>
            <a:prstGeom prst="straightConnector1">
              <a:avLst/>
            </a:prstGeom>
            <a:ln w="12600">
              <a:solidFill>
                <a:srgbClr val="0a317a"/>
              </a:solidFill>
              <a:miter/>
              <a:tailEnd len="lg" type="oval" w="lg"/>
            </a:ln>
          </p:spPr>
        </p:cxnSp>
      </p:grpSp>
      <p:pic>
        <p:nvPicPr>
          <p:cNvPr id="890" name="Rectangle 63" descr=""/>
          <p:cNvPicPr/>
          <p:nvPr/>
        </p:nvPicPr>
        <p:blipFill>
          <a:blip r:embed="rId4"/>
          <a:stretch/>
        </p:blipFill>
        <p:spPr>
          <a:xfrm>
            <a:off x="1755720" y="731880"/>
            <a:ext cx="3505320" cy="216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09:26:21Z</dcterms:created>
  <dc:creator/>
  <dc:description/>
  <cp:keywords>幻灯片之家 http:/www.eeppt.com</cp:keywords>
  <dc:language>en-US</dc:language>
  <cp:lastModifiedBy/>
  <dcterms:modified xsi:type="dcterms:W3CDTF">2015-07-13T13:23:31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