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0678-7B38-4258-9656-F47AA56FB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AAD8-BAAF-4F73-9AB3-CED5BE45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F76B-079D-4AF6-A35F-C61248D3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61C9-0175-4012-86FF-B5E97B7F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769A-13FF-4905-9272-5B63D62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4B2D-F5A3-4CAD-A2E0-87664D537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F340-5E07-40B5-838F-067ECC9A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0F1-258F-492F-8DAF-5A12356C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A040-207D-46B3-B691-A3026280C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0412E-4962-4A94-B071-3222DB9C6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7C60-FB16-4389-AD1D-4FE09411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9E30-8948-43E7-BC8E-32131015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651181_144728034525_21 拷贝"/>
          <p:cNvPicPr/>
          <p:nvPr/>
        </p:nvPicPr>
        <p:blipFill>
          <a:blip r:embed="rId2"/>
          <a:stretch/>
        </p:blipFill>
        <p:spPr>
          <a:xfrm>
            <a:off x="6324480" y="4648320"/>
            <a:ext cx="2819520" cy="2209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A8551-6F60-4891-A14A-5F17DE79D2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651181_144728034525_21"/>
          <p:cNvPicPr/>
          <p:nvPr/>
        </p:nvPicPr>
        <p:blipFill>
          <a:blip r:embed="rId2"/>
          <a:srcRect l="0" t="0" r="0" b="4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651181_144728034525_21"/>
          <p:cNvPicPr/>
          <p:nvPr/>
        </p:nvPicPr>
        <p:blipFill>
          <a:blip r:embed="rId2"/>
          <a:srcRect l="0" t="0" r="0" b="409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幻灯片之家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06440" y="762120"/>
            <a:ext cx="25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d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图表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20880" y="2749680"/>
            <a:ext cx="7611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9:05:23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7T01:15:28Z</dcterms:modified>
  <cp:revision>13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