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583-B2E6-46FA-8875-76AC4D1A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C6D-63F3-4AF0-B058-0B572D1E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513-9A79-4DD1-98AF-2C8709DC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A31-82E9-4C08-98EF-19438E75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9BC-F0CA-4CC4-9A00-3AE744B1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E55-72C7-48AC-A439-0C07F52F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A21-BFC6-4540-ACB9-161EC59B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705-6563-46BF-8BFD-755993EC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296-BBB4-4001-B3AA-3E6B5314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DD4-D720-4277-834D-19B79A7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B19-6A39-4B80-97CE-918D89F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90E-81B5-48F3-B41F-95D6B6D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3F6-BB2F-4742-81C9-0C070CBD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2"/>
          <p:cNvGrpSpPr/>
          <p:nvPr/>
        </p:nvGrpSpPr>
        <p:grpSpPr>
          <a:xfrm>
            <a:off x="228600" y="609480"/>
            <a:ext cx="9143640" cy="5790960"/>
            <a:chOff x="228600" y="609480"/>
            <a:chExt cx="9143640" cy="5790960"/>
          </a:xfrm>
        </p:grpSpPr>
        <p:pic>
          <p:nvPicPr>
            <p:cNvPr id="43" name="Picture 15" descr="200671120440642"/>
            <p:cNvPicPr/>
            <p:nvPr/>
          </p:nvPicPr>
          <p:blipFill>
            <a:blip r:embed="rId17"/>
            <a:stretch/>
          </p:blipFill>
          <p:spPr>
            <a:xfrm>
              <a:off x="228600" y="609480"/>
              <a:ext cx="914364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AutoShape 20"/>
            <p:cNvSpPr/>
            <p:nvPr/>
          </p:nvSpPr>
          <p:spPr>
            <a:xfrm>
              <a:off x="7187400" y="4035240"/>
              <a:ext cx="2184840" cy="220212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8" descr="ma2_004"/>
            <p:cNvPicPr/>
            <p:nvPr/>
          </p:nvPicPr>
          <p:blipFill>
            <a:blip r:embed="rId18"/>
            <a:stretch/>
          </p:blipFill>
          <p:spPr>
            <a:xfrm>
              <a:off x="7511400" y="4442760"/>
              <a:ext cx="145656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WordArt 23"/>
          <p:cNvSpPr txBox="1"/>
          <p:nvPr/>
        </p:nvSpPr>
        <p:spPr>
          <a:xfrm>
            <a:off x="1676520" y="5627520"/>
            <a:ext cx="59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-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1143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别饿坏了那匹马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打你不为别的事，都像你这样白看书，人家怎么过日子？搬运队的马车夫需要马草，你可以扯马草换钱。</a:t>
            </a:r>
            <a:r>
              <a:rPr b="1" lang="zh-CN" sz="3200" spc="-1" strike="noStrike">
                <a:solidFill>
                  <a:srgbClr val="006600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</a:t>
            </a:r>
            <a:r>
              <a:rPr b="1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6" name="AutoShape 9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7467480" y="190476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86728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</a:t>
            </a:r>
            <a:r>
              <a:rPr b="1" lang="en-US" sz="3600" spc="-1" strike="noStrike">
                <a:solidFill>
                  <a:srgbClr val="0066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104" name="AutoShape 7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7467480" y="190476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9" name="Picture 5" descr="ma2_004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13" name="Picture 4" descr="01a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01a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01a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WordArt 8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</a:t>
            </a:r>
            <a:r>
              <a:rPr b="1" lang="zh-CN" sz="4400" spc="-1" strike="noStrike">
                <a:solidFill>
                  <a:srgbClr val="00cc00"/>
                </a:solidFill>
                <a:latin typeface="宋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既是课文的题目，也是推动故事发生的关键句。文章用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</a:t>
            </a:r>
            <a:r>
              <a:rPr b="1" lang="zh-CN" sz="32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20067112044064202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ma2_004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推开了木板房的门，真相终于大白。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站在那一堆枯黄的马草前，脑海中也许会浮现出一幕幕往事；耳畔也许还会回响着守摊的残疾青年说过的每一句话；也许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-4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8654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0067112044064202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8654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在失去看书机会时，摆书摊的残疾青年谎称家中有马，买下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的马草，让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67112044064201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8654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Picture 8" descr="Gif0405_136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坐下慢慢看吧！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年轻人竭力想从轮椅上挣扎起来阻止我父亲，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孩子看书不是坏事。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0067112044064201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过来，让我看看你的马草。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认真地看过马草后，冲里屋叫道：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，你出来一下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</a:t>
            </a:r>
            <a:r>
              <a:rPr b="1" lang="en-US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急了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碧云！碧云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用双手拼命摇着轮椅，想挡住我的路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你放下！等碧云来拿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在身后喊道，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那马会踢伤你的！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back1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67112044064202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0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82" name="AutoShape 11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769644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88D-AAAB-477D-B01D-38007A03D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0T07:58:02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5:28Z</dcterms:modified>
  <cp:revision>2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