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CD510-DF4B-448E-BD4C-E44CD7030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BF859-AC95-4CD7-96F7-947B5616C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4E867-9712-480D-9ED7-58FAA0A00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7BB53-66D9-442E-8989-61C6A469B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16346-4C95-4D2B-BA9F-DCE87D34A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EEA67-ACE2-42DB-9260-CE8DD285C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76BEE-562D-4FC5-B660-B4BD0223D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1F6F6-2435-4B13-9962-DB1DA2817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C79DF-CEF2-4B16-B5AE-C134143AE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76E13-EDEC-474F-8B91-2143C7964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F6ABF-BF9D-44D8-9849-BBFFC2406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42F53-0287-4DBB-BE9A-277E53892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E3B3E-64E0-40CB-8B22-300918E89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9815F-8CBE-4A41-9366-F64B93645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FC680-A072-4ECE-A9C4-B7D3134E5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86B6F-4D93-4EEE-972F-E9CF9782B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B257A-7E43-4E67-B0A7-7B73B7C26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C21D2-5679-44CF-BFCE-4FFFCC607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DAD44-A013-47BB-897B-6FDA763EF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BC686-2CDB-4EE5-9941-7D75B8900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8965B-542B-4F52-B0F2-568B1C11B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8964E-2864-47C2-ABDF-42AFAF31E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48474-8F41-4D88-83DE-32962968D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A8939-23E1-43CE-8672-8E7FAB1CB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2C3A-FCC7-41EA-AC59-325C4B2A6A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29E6-472D-4FD5-ABD7-E82D6152E8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辩证唯物主义自然观</a:t>
            </a:r>
            <a:endParaRPr b="0" lang="en-US" sz="44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幻灯片之家 </a:t>
            </a:r>
            <a:r>
              <a:rPr b="1" lang="zh-CN" sz="2000" spc="-1" strike="noStrike">
                <a:solidFill>
                  <a:srgbClr val="ffffff"/>
                </a:solidFill>
                <a:latin typeface="Times New Roman"/>
              </a:rPr>
              <a:t>http://www.eeppt.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 </a:t>
            </a:r>
            <a:r>
              <a:rPr b="0" lang="zh-CN" sz="4400" spc="-1" strike="noStrike">
                <a:solidFill>
                  <a:srgbClr val="ffcc66"/>
                </a:solidFill>
                <a:latin typeface="Times New Roman"/>
              </a:rPr>
              <a:t>辩证唯物主义自然观的建立</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恩格斯自然辩证法的中心思想：</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物质和运动之不可分离（运动是物质的存在形态）；</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zh-CN" sz="2800" spc="-1" strike="noStrike">
                <a:solidFill>
                  <a:srgbClr val="ffffff"/>
                </a:solidFill>
                <a:latin typeface="Times New Roman"/>
              </a:rPr>
              <a:t>）运动的各种在性质上不同的形态以及研究这些形态的各种不同的科学（力学——物理学——化学——生物学）；</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zh-CN" sz="2800" spc="-1" strike="noStrike">
                <a:solidFill>
                  <a:srgbClr val="ffffff"/>
                </a:solidFill>
                <a:latin typeface="Times New Roman"/>
              </a:rPr>
              <a:t>）从一种运动形式辨证地过渡到另一种运动形式以及相应地从 一种科学辩正地过渡到另一种科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a:t>
            </a:r>
            <a:r>
              <a:rPr b="0" lang="zh-CN" sz="4400" spc="-1" strike="noStrike">
                <a:solidFill>
                  <a:srgbClr val="ffcc66"/>
                </a:solidFill>
                <a:latin typeface="Times New Roman"/>
              </a:rPr>
              <a:t>辩正唯物主义自然观的发展</a:t>
            </a:r>
            <a:endParaRPr b="0" lang="en-US" sz="4400" spc="-1" strike="noStrike">
              <a:solidFill>
                <a:srgbClr val="ffcc66"/>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列宁在《唯物论与经验批判论》中提出了与恩格斯相近的思想，而这些被物理学革命所证实；</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运动是物质存在的形式，世界具有物质的统一性，物质和运动不能创造也不能消灭，运动着的物质的一种形态可以转化为另一种形态。</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 </a:t>
            </a:r>
            <a:r>
              <a:rPr b="0" lang="zh-CN" sz="4400" spc="-1" strike="noStrike">
                <a:solidFill>
                  <a:srgbClr val="ffcc66"/>
                </a:solidFill>
                <a:latin typeface="Times New Roman"/>
              </a:rPr>
              <a:t>物质运动的基本形式与还原论的方法</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 力学运动形式</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自然界中已知的四种相互作用（强相互作用、弱相互作用、电磁力、万有引力）所引起的物质在时空中的位置变化（移动、转移、振动）。</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本粒子的力学运动。基本粒子由于强相互作用、弱相互作用和电磁力而运动。强相互作用</a:t>
            </a:r>
            <a:r>
              <a:rPr b="0" lang="en-US" sz="2400" spc="-1" strike="noStrike">
                <a:solidFill>
                  <a:srgbClr val="ffffff"/>
                </a:solidFill>
                <a:latin typeface="Times New Roman"/>
              </a:rPr>
              <a:t>&gt;</a:t>
            </a:r>
            <a:r>
              <a:rPr b="0" lang="zh-CN" sz="2400" spc="-1" strike="noStrike">
                <a:solidFill>
                  <a:srgbClr val="ffffff"/>
                </a:solidFill>
                <a:latin typeface="Times New Roman"/>
              </a:rPr>
              <a:t>电磁力</a:t>
            </a:r>
            <a:r>
              <a:rPr b="0" lang="en-US" sz="2400" spc="-1" strike="noStrike">
                <a:solidFill>
                  <a:srgbClr val="ffffff"/>
                </a:solidFill>
                <a:latin typeface="Times New Roman"/>
              </a:rPr>
              <a:t>&gt;</a:t>
            </a:r>
            <a:r>
              <a:rPr b="0" lang="zh-CN" sz="2400" spc="-1" strike="noStrike">
                <a:solidFill>
                  <a:srgbClr val="ffffff"/>
                </a:solidFill>
                <a:latin typeface="Times New Roman"/>
              </a:rPr>
              <a:t>弱相互作用，带电粒子参与电磁相互作用，强子与光子、电子等参与弱相互作用。服从量子力学规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宏观物体的机械运动：地球上的宏观物体，及质量不是太大的低速运动的天体，由万有引力和电磁力和“热力”而进行的宏观的空间位置的变动，服从牛顿力学规律，电磁体服从电动力学规律。</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宏观力学运动：物质承担者为恒星、星系、星系团、总星系等以及遍布宇宙的引力场。万有引力起支配作用，服从相对论力学和星系动力学的规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 物理运动形式</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力学运动为基础，由大量同质或同层次要素组成的物体系统运动和相互转化。特点是同层次要素的聚集体的整体行为，没有分化出异质层次，也没有组合成为新的物质形态。</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 化学运动形式</a:t>
            </a:r>
            <a:endParaRPr b="0" lang="en-US" sz="4400" spc="-1" strike="noStrike">
              <a:solidFill>
                <a:srgbClr val="ffcc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承担者为分子和原子。一般表现为分子的分解和原子的化合，在原子核组成不变的情况下，分子的组合和结构发生质变。以物理和力学运动形式为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四 生命运动形式</a:t>
            </a:r>
            <a:endParaRPr b="0" lang="en-US" sz="4400" spc="-1" strike="noStrike">
              <a:solidFill>
                <a:srgbClr val="ffcc66"/>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蛋白质和核算为主的多分子系统的存在和运动的方式。</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生命运动形式主要表现为：</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物的新陈代谢（同化、异化）</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物的遗传和变异；</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物反映即生物体与外界交换信息进行反馈自调节和适应外界环境的过程；</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生命运动包含化学运动、物理运动和力学运动各个层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3</a:t>
            </a:r>
            <a:r>
              <a:rPr b="0" lang="zh-CN" sz="4400" spc="-1" strike="noStrike">
                <a:solidFill>
                  <a:srgbClr val="ffcc66"/>
                </a:solidFill>
                <a:latin typeface="Times New Roman"/>
              </a:rPr>
              <a:t>物理学革命</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 旧的物质理论</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然界被看作是分割开的固体颗粒，在空间中运动。</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每个颗粒是一个原子，基本性质不可入性即不可分，也不可毁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 旧物质理论面对的难题：</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碰撞与吸引的矛盾；</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物质的颗粒性与以太的矛盾；</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原子量与化学性质的矛盾；</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 物理学新发现及其意义：</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新发现：</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95</a:t>
            </a:r>
            <a:r>
              <a:rPr b="0" lang="zh-CN" sz="2800" spc="-1" strike="noStrike">
                <a:solidFill>
                  <a:srgbClr val="ffffff"/>
                </a:solidFill>
                <a:latin typeface="Times New Roman"/>
              </a:rPr>
              <a:t>年伦琴发现</a:t>
            </a:r>
            <a:r>
              <a:rPr b="0" lang="en-US" sz="2800" spc="-1" strike="noStrike">
                <a:solidFill>
                  <a:srgbClr val="ffffff"/>
                </a:solidFill>
                <a:latin typeface="Times New Roman"/>
              </a:rPr>
              <a:t>X</a:t>
            </a:r>
            <a:r>
              <a:rPr b="0" lang="zh-CN" sz="2800" spc="-1" strike="noStrike">
                <a:solidFill>
                  <a:srgbClr val="ffffff"/>
                </a:solidFill>
                <a:latin typeface="Times New Roman"/>
              </a:rPr>
              <a:t>射线；</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96</a:t>
            </a:r>
            <a:r>
              <a:rPr b="0" lang="zh-CN" sz="2800" spc="-1" strike="noStrike">
                <a:solidFill>
                  <a:srgbClr val="ffffff"/>
                </a:solidFill>
                <a:latin typeface="Times New Roman"/>
              </a:rPr>
              <a:t>年贝克勒尔发现铀的放射性；</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97</a:t>
            </a:r>
            <a:r>
              <a:rPr b="0" lang="zh-CN" sz="2800" spc="-1" strike="noStrike">
                <a:solidFill>
                  <a:srgbClr val="ffffff"/>
                </a:solidFill>
                <a:latin typeface="Times New Roman"/>
              </a:rPr>
              <a:t>年汤姆逊发现电子；</a:t>
            </a:r>
            <a:endParaRPr b="0" lang="en-US" sz="2800" spc="-1" strike="noStrike">
              <a:solidFill>
                <a:srgbClr val="ffffff"/>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意义：</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动摇原子不可分的思想；</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解决旧物质理论难题；</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成为新物理学建立的基础；</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开创了放射性研究和原子物理学的研究。</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1</a:t>
            </a:r>
            <a:r>
              <a:rPr b="0" lang="zh-CN" sz="4400" spc="-1" strike="noStrike">
                <a:solidFill>
                  <a:srgbClr val="ffcc66"/>
                </a:solidFill>
                <a:latin typeface="Times New Roman"/>
              </a:rPr>
              <a:t>对机械论自然观的突破</a:t>
            </a:r>
            <a:endParaRPr b="0" lang="en-US" sz="44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 天文学方面</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55</a:t>
            </a:r>
            <a:r>
              <a:rPr b="0" lang="zh-CN" sz="2800" spc="-1" strike="noStrike">
                <a:solidFill>
                  <a:srgbClr val="ffffff"/>
                </a:solidFill>
                <a:latin typeface="Times New Roman"/>
              </a:rPr>
              <a:t>年康德《自然通史与天体论》，提出天体的星云演化假说，在这一假说中，康德指出了太阳系不可避免的毁灭。在僵死的机械论自然观上打开了第一道缺口。对宇宙神创论是一个有力的批判，为辩正唯物主义自然观的形成提供了天文学方面的基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 物理学革命</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相对论的提出</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以太检验：麦克尔逊</a:t>
            </a:r>
            <a:r>
              <a:rPr b="0" lang="en-US" sz="3200" spc="-1" strike="noStrike">
                <a:solidFill>
                  <a:srgbClr val="ffffff"/>
                </a:solidFill>
                <a:latin typeface="Times New Roman"/>
              </a:rPr>
              <a:t>-</a:t>
            </a:r>
            <a:r>
              <a:rPr b="0" lang="zh-CN" sz="3200" spc="-1" strike="noStrike">
                <a:solidFill>
                  <a:srgbClr val="ffffff"/>
                </a:solidFill>
                <a:latin typeface="Times New Roman"/>
              </a:rPr>
              <a:t>莫雷实验</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zh-CN" sz="3200" spc="-1" strike="noStrike">
                <a:solidFill>
                  <a:srgbClr val="ffffff"/>
                </a:solidFill>
                <a:latin typeface="Times New Roman"/>
              </a:rPr>
              <a:t>）相对论的提出：</a:t>
            </a:r>
            <a:r>
              <a:rPr b="0" lang="en-US" sz="3200" spc="-1" strike="noStrike">
                <a:solidFill>
                  <a:srgbClr val="ffffff"/>
                </a:solidFill>
                <a:latin typeface="Times New Roman"/>
              </a:rPr>
              <a:t>1905</a:t>
            </a:r>
            <a:r>
              <a:rPr b="0" lang="zh-CN" sz="3200" spc="-1" strike="noStrike">
                <a:solidFill>
                  <a:srgbClr val="ffffff"/>
                </a:solidFill>
                <a:latin typeface="Times New Roman"/>
              </a:rPr>
              <a:t>年狭义相对论，该理论表明绝对空间与绝对时间的概念是想象中的虚构，不是直接由物理学的观察和实验得来的。牛顿的时空观是一种经验感觉。相对论中的质能方程表明以光速运动，质量与能量等效。</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引力场中，钟长尺缩，光的路程要弯曲；指出时间与空间不能离开物质而独立存在，时空的结构和性质取决于物质的分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 </a:t>
            </a:r>
            <a:r>
              <a:rPr b="0" lang="zh-CN" sz="4400" spc="-1" strike="noStrike">
                <a:solidFill>
                  <a:srgbClr val="ffcc66"/>
                </a:solidFill>
                <a:latin typeface="Times New Roman"/>
              </a:rPr>
              <a:t>量子论和量子力学建立：</a:t>
            </a:r>
            <a:endParaRPr b="0" lang="en-US" sz="4400" spc="-1" strike="noStrike">
              <a:solidFill>
                <a:srgbClr val="ffcc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黑体辐射的紫外灾难；</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00</a:t>
            </a:r>
            <a:r>
              <a:rPr b="0" lang="zh-CN" sz="3200" spc="-1" strike="noStrike">
                <a:solidFill>
                  <a:srgbClr val="ffffff"/>
                </a:solidFill>
                <a:latin typeface="Times New Roman"/>
              </a:rPr>
              <a:t>年普朗克提出能量子假说：能量只能以分立的能量子发射或吸收。</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05</a:t>
            </a:r>
            <a:r>
              <a:rPr b="0" lang="zh-CN" sz="3200" spc="-1" strike="noStrike">
                <a:solidFill>
                  <a:srgbClr val="ffffff"/>
                </a:solidFill>
                <a:latin typeface="Times New Roman"/>
              </a:rPr>
              <a:t>年爱因斯坦提出光量子假说及理论；</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a:t>
            </a:r>
            <a:r>
              <a:rPr b="0" lang="zh-CN" sz="3200" spc="-1" strike="noStrike">
                <a:solidFill>
                  <a:srgbClr val="ffffff"/>
                </a:solidFill>
                <a:latin typeface="Times New Roman"/>
              </a:rPr>
              <a:t>世纪初，卢瑟福提出原子的有核模型——太阳系模型；</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13</a:t>
            </a:r>
            <a:r>
              <a:rPr b="0" lang="zh-CN" sz="3200" spc="-1" strike="noStrike">
                <a:solidFill>
                  <a:srgbClr val="ffffff"/>
                </a:solidFill>
                <a:latin typeface="Times New Roman"/>
              </a:rPr>
              <a:t>年，波尔量子论原子模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23</a:t>
            </a:r>
            <a:r>
              <a:rPr b="0" lang="zh-CN" sz="2800" spc="-1" strike="noStrike">
                <a:solidFill>
                  <a:srgbClr val="ffffff"/>
                </a:solidFill>
                <a:latin typeface="Times New Roman"/>
              </a:rPr>
              <a:t>年，德布洛意提出物质波假说；</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25-1926</a:t>
            </a:r>
            <a:r>
              <a:rPr b="0" lang="zh-CN" sz="2800" spc="-1" strike="noStrike">
                <a:solidFill>
                  <a:srgbClr val="ffffff"/>
                </a:solidFill>
                <a:latin typeface="Times New Roman"/>
              </a:rPr>
              <a:t>，薛定谔提出波动力学，海森堡提出矩阵力学。</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27</a:t>
            </a:r>
            <a:r>
              <a:rPr b="0" lang="zh-CN" sz="2800" spc="-1" strike="noStrike">
                <a:solidFill>
                  <a:srgbClr val="ffffff"/>
                </a:solidFill>
                <a:latin typeface="Times New Roman"/>
              </a:rPr>
              <a:t>年证明二者等价。</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测不准原理：不能同时以任意高的准确度测定电子的位置和速度。</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玻尔的互补概念：电子的粒子图象与波动图象看作是同一个实在的两个互补的描述。这两个描述中的任何一个都只能是部分正确的。有关实在的基本概念发生了巨大变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揭示了崭新的、不同于宏观客体规律的微观客体规律，阐明了连续性与间断性、波动性与粒子性的对立统一，突现了量子（微观）世界的概率随机性，从而根本改变了精确确定的连续轨迹的经典概念，经典理论中的严格决定论，被作为一种近似的统计趋势的概念所代替。</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人只有在与自然互动中才能达到认识自然的目的。自然不但在置色子，还在玩桥牌。</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 地质学方面</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30</a:t>
            </a:r>
            <a:r>
              <a:rPr b="0" lang="zh-CN" sz="3200" spc="-1" strike="noStrike">
                <a:solidFill>
                  <a:srgbClr val="ffffff"/>
                </a:solidFill>
                <a:latin typeface="Times New Roman"/>
              </a:rPr>
              <a:t>年，赖尔出版《地质学原理》，该书强调渐变，认为地球在变化中。人们觉得利用岩石的记录，印证眼前仍在进行的自然作用进行推理，可以寻出地球的历史，至少可以寻出地球上有生物的一段时期的历史。</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 物理学方面</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物质守恒定律：拉瓦锡用科学方法证明物质经过化学作用，虽然在表面上有改变与消灭的现象，然由其重量测得，总质量恒定不变。物质守恒原理加强了把物质看作最后实在的看法，引起一种朴素的唯物主义，并为能量守恒定律做了铺垫。</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
            </a:r>
            <a:r>
              <a:rPr b="0" lang="zh-CN" sz="3200" spc="-1" strike="noStrike">
                <a:solidFill>
                  <a:srgbClr val="ffffff"/>
                </a:solidFill>
                <a:latin typeface="Times New Roman"/>
              </a:rPr>
              <a:t>能量守恒定律：自然界各种物质运动形式之间的相互联系，相互转化，而不是彼此无关。物理学的第二次大综合。</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t>
            </a:r>
            <a:r>
              <a:rPr b="0" lang="zh-CN" sz="3200" spc="-1" strike="noStrike">
                <a:solidFill>
                  <a:srgbClr val="ffffff"/>
                </a:solidFill>
                <a:latin typeface="Times New Roman"/>
              </a:rPr>
              <a:t>电磁理论：即法拉第把电和磁联系起来。麦克斯韦证明光是一种电磁波。把世界统一了起来。</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四 化学方面</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有机物、无机物统一。</a:t>
            </a:r>
            <a:r>
              <a:rPr b="0" lang="en-US" sz="3200" spc="-1" strike="noStrike">
                <a:solidFill>
                  <a:srgbClr val="ffffff"/>
                </a:solidFill>
                <a:latin typeface="Times New Roman"/>
              </a:rPr>
              <a:t>1828</a:t>
            </a:r>
            <a:r>
              <a:rPr b="0" lang="zh-CN" sz="3200" spc="-1" strike="noStrike">
                <a:solidFill>
                  <a:srgbClr val="ffffff"/>
                </a:solidFill>
                <a:latin typeface="Times New Roman"/>
              </a:rPr>
              <a:t>年韦勒用氰酸与氨合成了尿素，打破了有机物与无机物之间的界线。</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门捷列夫制定的元素周期表把各种元素联系起来。</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五 生物学方面</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细胞学说：动植物由细胞组成，打破了物种之间的界线。</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达尔文《物种起源》说明生物演化的连续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2</a:t>
            </a:r>
            <a:r>
              <a:rPr b="0" lang="zh-CN" sz="4400" spc="-1" strike="noStrike">
                <a:solidFill>
                  <a:srgbClr val="ffcc66"/>
                </a:solidFill>
                <a:latin typeface="Times New Roman"/>
              </a:rPr>
              <a:t>自然辩证法的创立</a:t>
            </a: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辩证唯物主义自然观，是马克思与恩格斯创立的。主要是恩格斯创立的，集中体现在《自然辩证法》和《反杜林论》中。</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括和总结了时代自然科学的成果，批判地吸收了德国古典哲学的合理成分，建立起辩证唯物主义的自然观。</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一 辩证唯物主义自然观的形成</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最初转变：</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马克思《</a:t>
            </a:r>
            <a:r>
              <a:rPr b="0" lang="en-US" sz="3200" spc="-1" strike="noStrike">
                <a:solidFill>
                  <a:srgbClr val="ffffff"/>
                </a:solidFill>
                <a:latin typeface="Times New Roman"/>
              </a:rPr>
              <a:t>1844</a:t>
            </a:r>
            <a:r>
              <a:rPr b="0" lang="zh-CN" sz="3200" spc="-1" strike="noStrike">
                <a:solidFill>
                  <a:srgbClr val="ffffff"/>
                </a:solidFill>
                <a:latin typeface="Times New Roman"/>
              </a:rPr>
              <a:t>年经济学——哲学手稿》：自然界是人类赖以生存的物质基础；自然界在人类出现之前已存在，人类是自然界的一部分，人类发展的历史本身是自然史的即自然界成为人的这一过程的一部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27:44Z</dcterms:created>
  <dc:creator>幻灯片之家 http://www.eeppt.com</dc:creator>
  <dc:description/>
  <cp:keywords>幻灯片之家 http:/www.eeppt.com</cp:keywords>
  <dc:language>en-US</dc:language>
  <cp:lastModifiedBy/>
  <dcterms:modified xsi:type="dcterms:W3CDTF">2015-07-10T02:58:5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