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  <p:custShowLst>
    <p:custShow name="种子植物分类" id="0">
      <p:sldLst>
        <p:sld r:id="rId3"/>
        <p:sld r:id="rId3"/>
        <p:sld r:id="rId3"/>
        <p:sld r:id="rId3"/>
        <p:sld r:id="rId3"/>
        <p:sld r:id="rId3"/>
        <p:sld r:id="rId3"/>
        <p:sld r:id="rId3"/>
        <p:sld r:id="rId3"/>
        <p:sld r:id="rId3"/>
        <p:sld r:id="rId3"/>
        <p:sld r:id="rId3"/>
        <p:sld r:id="rId3"/>
        <p:sld r:id="rId3"/>
        <p:sld r:id="rId3"/>
        <p:sld r:id="rId3"/>
        <p:sld r:id="rId3"/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32B-B657-4E05-813A-762A1AC9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BAB2-94AA-4DA2-8443-85B9B243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7623-2867-4C7F-8FDE-7FFAA550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535D-438E-4CF7-8C5B-DEBD0A9C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47A3-D5FB-430D-B0E1-5768C546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80F7-1A4F-426B-9B15-8665F029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277D-B9D3-4FD9-8F34-2B1CEEAE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63C-1CBC-4170-8A1B-5808A81A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3B25-1899-497D-A107-C150AE09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6C3F-E191-4B1B-9820-F74F494D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AA1-F401-452E-BE21-9D47D2C4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E89E-02F2-4671-B2DD-C80DA6AA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3C3D-E173-424E-A83B-EED3475E6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986200"/>
            <a:ext cx="6858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81240" y="1295280"/>
            <a:ext cx="4874760" cy="143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被子植物分类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07040" y="3200400"/>
            <a:ext cx="41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52388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重点特征：草本，常有辛辣汁液。花两性，整齐；萼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；十字花冠；四强雄蕊；子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室，侧膜胎座，有假隔膜。角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82440 w 380880"/>
              <a:gd name="textAreaRight" fmla="*/ 298440 w 380880"/>
              <a:gd name="textAreaTop" fmla="*/ 82440 h 380880"/>
              <a:gd name="textAreaBottom" fmla="*/ 2984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920" y="4680"/>
                </a:lnTo>
                <a:lnTo>
                  <a:pt x="4680" y="468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920" y="16920"/>
                </a:lnTo>
                <a:lnTo>
                  <a:pt x="16920" y="468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680" y="16920"/>
                </a:lnTo>
                <a:lnTo>
                  <a:pt x="16920" y="1692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680" y="4680"/>
                </a:lnTo>
                <a:lnTo>
                  <a:pt x="4680" y="16920"/>
                </a:lnTo>
                <a:close/>
              </a:path>
              <a:path fill="darken" w="21600" h="21600">
                <a:moveTo>
                  <a:pt x="6238" y="10800"/>
                </a:moveTo>
                <a:lnTo>
                  <a:pt x="15362" y="6238"/>
                </a:lnTo>
                <a:lnTo>
                  <a:pt x="15362" y="15362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十字花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44792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重点特征：木本，单叶互生。花单性，雌雄异株，柔荑花序；无花被，有花盘或蜜腺，侧膜胎座。蒴果，种子微小，基部有多数丝状长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763120" y="6324480"/>
            <a:ext cx="380880" cy="533520"/>
          </a:xfrm>
          <a:custGeom>
            <a:avLst/>
            <a:gdLst>
              <a:gd name="textAreaLeft" fmla="*/ 95040 w 380880"/>
              <a:gd name="textAreaRight" fmla="*/ 285840 w 380880"/>
              <a:gd name="textAreaTop" fmla="*/ 95040 h 533520"/>
              <a:gd name="textAreaBottom" fmla="*/ 43848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16200" y="24848"/>
                </a:lnTo>
                <a:lnTo>
                  <a:pt x="16200" y="5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5400" y="24848"/>
                </a:lnTo>
                <a:lnTo>
                  <a:pt x="16200" y="24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5400" y="5400"/>
                </a:lnTo>
                <a:lnTo>
                  <a:pt x="5400" y="24848"/>
                </a:lnTo>
                <a:close/>
              </a:path>
              <a:path fill="darken" w="21600" h="30248">
                <a:moveTo>
                  <a:pt x="6775" y="15124"/>
                </a:moveTo>
                <a:lnTo>
                  <a:pt x="14825" y="11099"/>
                </a:lnTo>
                <a:lnTo>
                  <a:pt x="14825" y="1914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杨柳科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68580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重点特征：木本，常有乳汁。单叶互生。花小，单性，集成各种花序，单被花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基数。坚果、核果聚合为各式聚花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114120 w 457200"/>
              <a:gd name="textAreaRight" fmla="*/ 343080 w 457200"/>
              <a:gd name="textAreaTop" fmla="*/ 114120 h 533520"/>
              <a:gd name="textAreaBottom" fmla="*/ 4194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16200" y="19803"/>
                </a:lnTo>
                <a:lnTo>
                  <a:pt x="16200" y="5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5400" y="19803"/>
                </a:lnTo>
                <a:lnTo>
                  <a:pt x="16200" y="19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5400" y="5400"/>
                </a:lnTo>
                <a:lnTo>
                  <a:pt x="5400" y="19803"/>
                </a:lnTo>
                <a:close/>
              </a:path>
              <a:path fill="darken" w="21600" h="25203">
                <a:moveTo>
                  <a:pt x="6775" y="12601"/>
                </a:moveTo>
                <a:lnTo>
                  <a:pt x="14825" y="8576"/>
                </a:lnTo>
                <a:lnTo>
                  <a:pt x="14825" y="1662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桑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21932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重点特征：纤维发达。花两性，整齐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基数；有副萼，单体雄蕊，花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室，花粉粒大，具刺。蒴果或分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632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632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632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632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锦葵科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763120" y="6400800"/>
            <a:ext cx="380880" cy="457200"/>
          </a:xfrm>
          <a:custGeom>
            <a:avLst/>
            <a:gdLst>
              <a:gd name="textAreaLeft" fmla="*/ 95040 w 380880"/>
              <a:gd name="textAreaRight" fmla="*/ 285840 w 38088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16200" y="20524"/>
                </a:lnTo>
                <a:lnTo>
                  <a:pt x="16200" y="5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5400" y="20524"/>
                </a:lnTo>
                <a:lnTo>
                  <a:pt x="16200" y="20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5400" y="5400"/>
                </a:lnTo>
                <a:lnTo>
                  <a:pt x="5400" y="20524"/>
                </a:lnTo>
                <a:close/>
              </a:path>
              <a:path fill="darken" w="21600" h="25924">
                <a:moveTo>
                  <a:pt x="6775" y="12962"/>
                </a:moveTo>
                <a:lnTo>
                  <a:pt x="14825" y="8937"/>
                </a:lnTo>
                <a:lnTo>
                  <a:pt x="14825" y="16987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CC35-F567-4010-A79B-94FA91DE62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91440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重点特征：常草本，含挥发性芳香油，茎四棱。单叶，对生或轮生。轮伞花絮；唇形花冠；雄蕊四强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枚；子房上位，四分，小坚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400800"/>
            <a:ext cx="380880" cy="457200"/>
          </a:xfrm>
          <a:custGeom>
            <a:avLst/>
            <a:gdLst>
              <a:gd name="textAreaLeft" fmla="*/ 95040 w 380880"/>
              <a:gd name="textAreaRight" fmla="*/ 285840 w 38088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16200" y="20524"/>
                </a:lnTo>
                <a:lnTo>
                  <a:pt x="16200" y="5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5400" y="20524"/>
                </a:lnTo>
                <a:lnTo>
                  <a:pt x="16200" y="20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5400" y="5400"/>
                </a:lnTo>
                <a:lnTo>
                  <a:pt x="5400" y="20524"/>
                </a:lnTo>
                <a:close/>
              </a:path>
              <a:path fill="darken" w="21600" h="25924">
                <a:moveTo>
                  <a:pt x="6775" y="12962"/>
                </a:moveTo>
                <a:lnTo>
                  <a:pt x="14825" y="8937"/>
                </a:lnTo>
                <a:lnTo>
                  <a:pt x="14825" y="16987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唇形科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83808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重点特征：常草本，单叶互生。花两性，整齐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基数；药常孔裂；心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室，位置偏斜；多数胚珠，浆果或蒴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63120" y="6400800"/>
            <a:ext cx="380880" cy="457200"/>
          </a:xfrm>
          <a:custGeom>
            <a:avLst/>
            <a:gdLst>
              <a:gd name="textAreaLeft" fmla="*/ 95040 w 380880"/>
              <a:gd name="textAreaRight" fmla="*/ 285840 w 38088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16200" y="20524"/>
                </a:lnTo>
                <a:lnTo>
                  <a:pt x="16200" y="5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5400" y="20524"/>
                </a:lnTo>
                <a:lnTo>
                  <a:pt x="16200" y="20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5400" y="5400"/>
                </a:lnTo>
                <a:lnTo>
                  <a:pt x="5400" y="20524"/>
                </a:lnTo>
                <a:close/>
              </a:path>
              <a:path fill="darken" w="21600" h="25924">
                <a:moveTo>
                  <a:pt x="6775" y="12962"/>
                </a:moveTo>
                <a:lnTo>
                  <a:pt x="14825" y="8937"/>
                </a:lnTo>
                <a:lnTo>
                  <a:pt x="14825" y="16987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茄科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44792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重点特征：常木本。叶对生，常无托叶。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基数，辐射对称或两侧对称，花冠常覆瓦状排列，子房下位，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632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632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632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39080" y="6477120"/>
            <a:ext cx="304920" cy="380880"/>
          </a:xfrm>
          <a:custGeom>
            <a:avLst/>
            <a:gdLst>
              <a:gd name="textAreaLeft" fmla="*/ 76320 w 304920"/>
              <a:gd name="textAreaRight" fmla="*/ 228960 w 304920"/>
              <a:gd name="textAreaTop" fmla="*/ 76320 h 380880"/>
              <a:gd name="textAreaBottom" fmla="*/ 30492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16200" y="21575"/>
                </a:lnTo>
                <a:lnTo>
                  <a:pt x="16200" y="5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5400" y="21575"/>
                </a:lnTo>
                <a:lnTo>
                  <a:pt x="16200" y="21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5400" y="5400"/>
                </a:lnTo>
                <a:lnTo>
                  <a:pt x="5400" y="21575"/>
                </a:lnTo>
                <a:close/>
              </a:path>
              <a:path fill="darken" w="21600" h="26975">
                <a:moveTo>
                  <a:pt x="6775" y="13487"/>
                </a:moveTo>
                <a:lnTo>
                  <a:pt x="14825" y="9462"/>
                </a:lnTo>
                <a:lnTo>
                  <a:pt x="14825" y="17512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忍冬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9810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重点特征：叶对生，常掌状分裂。花辐射对成。分果，具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9560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9560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9560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槭树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114120 w 457200"/>
              <a:gd name="textAreaRight" fmla="*/ 343080 w 457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2860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重点特征：曼生草本，具有双韧维管束，有卷须。叶互生，掌裂。花单性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基数；聚药雄蕊，花丝两两结合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条分离；雌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心皮组成，侧膜胎座，子房下位。瓠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葫芦科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95040 w 380880"/>
              <a:gd name="textAreaRight" fmla="*/ 28584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5000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第一章、裸子植物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</a:rPr>
              <a:t>一、裸子植物的主要 特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</a:rPr>
              <a:t>二、裸子植物的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06668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重点特征：草本，节膨大。单叶，全缘，互生，有托叶鞘。花两性，单被；萼片花瓣状；子房上位。坚果，三棱形或凸镜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蓼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839080" y="6477120"/>
            <a:ext cx="304920" cy="380880"/>
          </a:xfrm>
          <a:custGeom>
            <a:avLst/>
            <a:gdLst>
              <a:gd name="textAreaLeft" fmla="*/ 76320 w 304920"/>
              <a:gd name="textAreaRight" fmla="*/ 228960 w 304920"/>
              <a:gd name="textAreaTop" fmla="*/ 76320 h 380880"/>
              <a:gd name="textAreaBottom" fmla="*/ 30492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16200" y="21575"/>
                </a:lnTo>
                <a:lnTo>
                  <a:pt x="16200" y="5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5400" y="21575"/>
                </a:lnTo>
                <a:lnTo>
                  <a:pt x="16200" y="21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5400" y="5400"/>
                </a:lnTo>
                <a:lnTo>
                  <a:pt x="5400" y="21575"/>
                </a:lnTo>
                <a:close/>
              </a:path>
              <a:path fill="darken" w="21600" h="26975">
                <a:moveTo>
                  <a:pt x="6775" y="13487"/>
                </a:moveTo>
                <a:lnTo>
                  <a:pt x="14825" y="9462"/>
                </a:lnTo>
                <a:lnTo>
                  <a:pt x="14825" y="17512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68580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重点特征：草本，具泡状毛。花小，单被；雄蕊对萼；子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—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心皮结合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室，基底胎座。胞果，胚弯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藜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839080" y="6477120"/>
            <a:ext cx="304920" cy="380880"/>
          </a:xfrm>
          <a:custGeom>
            <a:avLst/>
            <a:gdLst>
              <a:gd name="textAreaLeft" fmla="*/ 76320 w 304920"/>
              <a:gd name="textAreaRight" fmla="*/ 228960 w 304920"/>
              <a:gd name="textAreaTop" fmla="*/ 76320 h 380880"/>
              <a:gd name="textAreaBottom" fmla="*/ 30492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16200" y="21575"/>
                </a:lnTo>
                <a:lnTo>
                  <a:pt x="16200" y="5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5400" y="21575"/>
                </a:lnTo>
                <a:lnTo>
                  <a:pt x="16200" y="21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5400" y="5400"/>
                </a:lnTo>
                <a:lnTo>
                  <a:pt x="5400" y="21575"/>
                </a:lnTo>
                <a:close/>
              </a:path>
              <a:path fill="darken" w="21600" h="26975">
                <a:moveTo>
                  <a:pt x="6775" y="13487"/>
                </a:moveTo>
                <a:lnTo>
                  <a:pt x="14825" y="9462"/>
                </a:lnTo>
                <a:lnTo>
                  <a:pt x="14825" y="17512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14300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重点特征：芳香草本，常有鞘状叶柄，据典型的复形伞花序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基数花，两室的下位子房及双悬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5752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5752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752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伞形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63120" y="6400800"/>
            <a:ext cx="380880" cy="457200"/>
          </a:xfrm>
          <a:custGeom>
            <a:avLst/>
            <a:gdLst>
              <a:gd name="textAreaLeft" fmla="*/ 95040 w 380880"/>
              <a:gd name="textAreaRight" fmla="*/ 285840 w 38088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16200" y="20524"/>
                </a:lnTo>
                <a:lnTo>
                  <a:pt x="16200" y="5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5400" y="20524"/>
                </a:lnTo>
                <a:lnTo>
                  <a:pt x="16200" y="20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5400" y="5400"/>
                </a:lnTo>
                <a:lnTo>
                  <a:pt x="5400" y="20524"/>
                </a:lnTo>
                <a:close/>
              </a:path>
              <a:path fill="darken" w="21600" h="25924">
                <a:moveTo>
                  <a:pt x="6775" y="12962"/>
                </a:moveTo>
                <a:lnTo>
                  <a:pt x="14825" y="8937"/>
                </a:lnTo>
                <a:lnTo>
                  <a:pt x="14825" y="16987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828800" y="19051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1066680"/>
            <a:ext cx="75438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重点特征：草本，节膨大；二岐聚伞花序，花两性，五基数；花萼具膜质边缘，宿存；子房上位，特立中央胎座，蒴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石竹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114120 w 457200"/>
              <a:gd name="textAreaRight" fmla="*/ 343080 w 457200"/>
              <a:gd name="textAreaTop" fmla="*/ 114120 h 533520"/>
              <a:gd name="textAreaBottom" fmla="*/ 4194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16200" y="19803"/>
                </a:lnTo>
                <a:lnTo>
                  <a:pt x="16200" y="5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5400" y="19803"/>
                </a:lnTo>
                <a:lnTo>
                  <a:pt x="16200" y="19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5400" y="5400"/>
                </a:lnTo>
                <a:lnTo>
                  <a:pt x="5400" y="19803"/>
                </a:lnTo>
                <a:close/>
              </a:path>
              <a:path fill="darken" w="21600" h="25203">
                <a:moveTo>
                  <a:pt x="6775" y="12601"/>
                </a:moveTo>
                <a:lnTo>
                  <a:pt x="14825" y="8576"/>
                </a:lnTo>
                <a:lnTo>
                  <a:pt x="14825" y="1662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蔷薇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重点特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叶互生，常有托叶。花两性，整齐；花托凸隆至凹陷；花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基数，轮状排列；花被与雄蕊常结合成花筒；子房上位，少下位。种子无胚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2）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绣线菊亚科         梅亚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蔷薇亚科             苹果亚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3）代表植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133200 w 533520"/>
              <a:gd name="textAreaRight" fmla="*/ 400320 w 5335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F66E-6151-42C8-8FD6-12B77EC022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蝶形花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重点特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花两侧对称；花瓣下降覆瓦状排列；雄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常结合成两体或单体。荚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133200 w 533520"/>
              <a:gd name="textAreaRight" fmla="*/ 400320 w 5335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700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4496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2912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菊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重点特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常为草本。叶互生，头状花序，有总苞，合瓣花冠，聚药雄蕊，子房下位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室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胚珠，连萼瘦果，屡有冠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筒状花亚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舌状花亚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114120 w 457200"/>
              <a:gd name="textAreaRight" fmla="*/ 343080 w 457200"/>
              <a:gd name="textAreaTop" fmla="*/ 114120 h 533520"/>
              <a:gd name="textAreaBottom" fmla="*/ 4194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16200" y="19803"/>
                </a:lnTo>
                <a:lnTo>
                  <a:pt x="16200" y="5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5400" y="19803"/>
                </a:lnTo>
                <a:lnTo>
                  <a:pt x="16200" y="19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5400" y="5400"/>
                </a:lnTo>
                <a:lnTo>
                  <a:pt x="5400" y="19803"/>
                </a:lnTo>
                <a:close/>
              </a:path>
              <a:path fill="darken" w="21600" h="25203">
                <a:moveTo>
                  <a:pt x="6775" y="12601"/>
                </a:moveTo>
                <a:lnTo>
                  <a:pt x="14825" y="8576"/>
                </a:lnTo>
                <a:lnTo>
                  <a:pt x="14825" y="1662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44960" y="290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81560" y="273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59436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舌状花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22096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头  状  花  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34320" y="594360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聚药雄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百合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重点特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基数，花被花瓣状，子房上尉，中轴胎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2）代表植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114120 w 457200"/>
              <a:gd name="textAreaRight" fmla="*/ 343080 w 457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129528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重点特征：茎圆柱形，中空，有节，叶鞘开裂，叶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列，常有叶舌，叶耳，颖果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禾本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50000">
              <a:srgbClr val="156b13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1371600"/>
            <a:ext cx="472464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</a:rPr>
              <a:t>一、苏铁纲Cycadops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2590920"/>
            <a:ext cx="52578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</a:rPr>
              <a:t>二、银杏纲Ginkgops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3886200"/>
            <a:ext cx="48765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</a:rPr>
              <a:t>三、松杉纲Coniferops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144792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二、银杏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438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落叶乔木，有长、短枝之分。叶扇形，先短二裂或波状缺刻，具分叉的脉序，叶在长枝上互生，在短枝上簇生。球花单性，雌雄异株，精子具多数鞭毛。种子核果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6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95040 w 380880"/>
              <a:gd name="textAreaRight" fmla="*/ 28584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0666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三、松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9810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乔木，叶针形或线形，针形叶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—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针一束，生于极度退化的短枝上，基部包有叶鞘；条形叶在长枝上散生，在短枝上簇生。球花单形同株。小孢子叶螺旋状排列，小孢子多有气囊。雌球花由多数螺旋状着生的株鳞与苞鳞组成，苞鳞与株鳞分离（仅基部结合），种子具翅，稀无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98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114120 w 457200"/>
              <a:gd name="textAreaRight" fmla="*/ 343080 w 457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5000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二章  被子植物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华文中宋"/>
              </a:rPr>
              <a:t>一、被子植物的一般特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华文中宋"/>
              </a:rPr>
              <a:t>二、被子植物的分类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华文中宋"/>
              </a:rPr>
              <a:t>三、被子植物的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</a:rPr>
              <a:t>（一）双子叶植物纲(Dicotyledoneae)（木兰纲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</a:rPr>
              <a:t>（二）单子叶植物纲(Monocotyledoneae)（百合纲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95040 w 533520"/>
              <a:gd name="textAreaRight" fmla="*/ 438480 w 533520"/>
              <a:gd name="textAreaTop" fmla="*/ 95040 h 533520"/>
              <a:gd name="textAreaBottom" fmla="*/ 4384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743" y="3857"/>
                </a:lnTo>
                <a:lnTo>
                  <a:pt x="3857" y="3857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743" y="17743"/>
                </a:lnTo>
                <a:lnTo>
                  <a:pt x="17743" y="3857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857" y="17743"/>
                </a:lnTo>
                <a:lnTo>
                  <a:pt x="17743" y="17743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857" y="3857"/>
                </a:lnTo>
                <a:lnTo>
                  <a:pt x="3857" y="17743"/>
                </a:lnTo>
                <a:close/>
              </a:path>
              <a:path fill="darken" w="21600" h="21600">
                <a:moveTo>
                  <a:pt x="5625" y="10800"/>
                </a:moveTo>
                <a:lnTo>
                  <a:pt x="15975" y="5625"/>
                </a:lnTo>
                <a:lnTo>
                  <a:pt x="15975" y="1597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838080" y="685800"/>
            <a:ext cx="7497720" cy="5486400"/>
            <a:chOff x="838080" y="685800"/>
            <a:chExt cx="7497720" cy="5486400"/>
          </a:xfrm>
        </p:grpSpPr>
        <p:sp>
          <p:nvSpPr>
            <p:cNvPr id="64" name=""/>
            <p:cNvSpPr/>
            <p:nvPr/>
          </p:nvSpPr>
          <p:spPr>
            <a:xfrm>
              <a:off x="838080" y="685800"/>
              <a:ext cx="3805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1.</a:t>
              </a: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       </a:t>
              </a:r>
              <a:r>
                <a:rPr b="0" lang="zh-CN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木兰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43280" y="685800"/>
              <a:ext cx="3692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2.</a:t>
              </a: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       </a:t>
              </a:r>
              <a:r>
                <a:rPr b="0" lang="zh-CN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毛茛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8080" y="1295280"/>
              <a:ext cx="3805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3.</a:t>
              </a: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       </a:t>
              </a:r>
              <a:r>
                <a:rPr b="0" lang="zh-CN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十字花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643280" y="1295280"/>
              <a:ext cx="3692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4.</a:t>
              </a: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       </a:t>
              </a:r>
              <a:r>
                <a:rPr b="0" lang="zh-CN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蔷薇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38080" y="1905120"/>
              <a:ext cx="3805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5.</a:t>
              </a: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       </a:t>
              </a:r>
              <a:r>
                <a:rPr b="0" lang="zh-CN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杨柳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43280" y="1905120"/>
              <a:ext cx="3692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6.</a:t>
              </a: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       </a:t>
              </a:r>
              <a:r>
                <a:rPr b="0" lang="zh-CN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蝶形花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8080" y="2514600"/>
              <a:ext cx="3805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7.</a:t>
              </a: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       </a:t>
              </a:r>
              <a:r>
                <a:rPr b="0" lang="zh-CN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桑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43280" y="2514600"/>
              <a:ext cx="3692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495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8.</a:t>
              </a: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       </a:t>
              </a:r>
              <a:r>
                <a:rPr b="0" lang="zh-CN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锦葵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495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8080" y="3124080"/>
              <a:ext cx="3805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9.</a:t>
              </a: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       </a:t>
              </a:r>
              <a:r>
                <a:rPr b="0" lang="zh-CN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藜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43280" y="3124080"/>
              <a:ext cx="3692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10.</a:t>
              </a: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    </a:t>
              </a:r>
              <a:r>
                <a:rPr b="0" lang="zh-CN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伞形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8080" y="3733920"/>
              <a:ext cx="3805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11.</a:t>
              </a: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    </a:t>
              </a:r>
              <a:r>
                <a:rPr b="0" lang="zh-CN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蓼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43280" y="3733920"/>
              <a:ext cx="3692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12.</a:t>
              </a: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    </a:t>
              </a:r>
              <a:r>
                <a:rPr b="0" lang="zh-CN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茄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8080" y="4343400"/>
              <a:ext cx="3805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13.</a:t>
              </a: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    </a:t>
              </a:r>
              <a:r>
                <a:rPr b="0" lang="zh-CN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槭树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43280" y="4343400"/>
              <a:ext cx="3692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14.</a:t>
              </a: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    </a:t>
              </a:r>
              <a:r>
                <a:rPr b="0" lang="zh-CN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唇形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8080" y="4952880"/>
              <a:ext cx="3805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15.</a:t>
              </a: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    </a:t>
              </a:r>
              <a:r>
                <a:rPr b="0" lang="zh-CN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葫芦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43280" y="4952880"/>
              <a:ext cx="3692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16.</a:t>
              </a: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    </a:t>
              </a:r>
              <a:r>
                <a:rPr b="0" lang="zh-CN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忍冬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8080" y="5562720"/>
              <a:ext cx="3805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17.</a:t>
              </a: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    </a:t>
              </a:r>
              <a:r>
                <a:rPr b="0" lang="zh-CN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石竹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43280" y="5562720"/>
              <a:ext cx="3692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18.</a:t>
              </a: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    </a:t>
              </a:r>
              <a:r>
                <a:rPr b="0" lang="zh-CN" sz="2400" spc="-1" strike="noStrike" u="sng">
                  <a:solidFill>
                    <a:srgbClr val="ccccff"/>
                  </a:solidFill>
                  <a:uFillTx/>
                  <a:latin typeface="Times New Roman"/>
                  <a:ea typeface="Times New Roman"/>
                </a:rPr>
                <a:t>菊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114120 w 533520"/>
              <a:gd name="textAreaRight" fmla="*/ 419400 w 533520"/>
              <a:gd name="textAreaTop" fmla="*/ 114120 h 533520"/>
              <a:gd name="textAreaBottom" fmla="*/ 419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971" y="4629"/>
                </a:lnTo>
                <a:lnTo>
                  <a:pt x="4629" y="462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971" y="16971"/>
                </a:lnTo>
                <a:lnTo>
                  <a:pt x="16971" y="462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16971" y="1697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  <a:path fill="darken" w="21600" h="21600">
                <a:moveTo>
                  <a:pt x="6200" y="10800"/>
                </a:moveTo>
                <a:lnTo>
                  <a:pt x="15400" y="6200"/>
                </a:lnTo>
                <a:lnTo>
                  <a:pt x="15400" y="1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4572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重点特征：草本。叶分裂或复叶。花两性，整齐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基数；花萼和花瓣均离生；雄蕊及雌蕊多数，离生，螺旋状排列于膨大的花托上。瘦果聚合，或蓇葖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76320 w 380880"/>
              <a:gd name="textAreaRight" fmla="*/ 30492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1575" y="5400"/>
                </a:lnTo>
                <a:lnTo>
                  <a:pt x="5400" y="5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1575" y="16200"/>
                </a:lnTo>
                <a:lnTo>
                  <a:pt x="21575" y="5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1575" y="16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975" h="21600">
                <a:moveTo>
                  <a:pt x="9462" y="10800"/>
                </a:moveTo>
                <a:lnTo>
                  <a:pt x="17512" y="6775"/>
                </a:lnTo>
                <a:lnTo>
                  <a:pt x="17512" y="14825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毛茛科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27:4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17:1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