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E952-B627-48E3-A7B9-7201555D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A42-6004-4F5C-9608-8FEFDF5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FF1-F375-44A6-8577-1C38F99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903-39CE-4BC7-BAC2-8749DA3D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192-F6E5-4EBF-9ABC-CF524C38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6AD8-62D4-4BAB-8F3A-94ECFF16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FAF6-9BD5-4758-A88C-8599E6F7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09A2-64F6-4D12-9B89-D89FB437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DCC7-B95F-47F9-B936-E0656A6F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02F-EC22-48D6-92E4-79B1FF77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7520-C9DE-4750-AC62-B7A86EBB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4C3-6891-4E8A-9549-19F2758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F469-41E8-419F-9339-B1F779C1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8784-A5AA-4FC8-A38F-52A63B5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6C14-E464-47DE-A6B4-9740823B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8BAE-2EE2-4C5E-A358-5E02B8DA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36CD-9B1F-44B9-9CB0-EA8C9539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FE7-2371-4F3E-9457-E069CA0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609-BCB6-41FF-9729-65F76A42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60E-A74B-40B5-83D6-8C6C23D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FFD-2104-47FC-8A78-BDFDACB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F67C-6000-4A45-B7AC-010E55DC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437-6956-43BC-BD49-6A7301A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E12-2516-42EC-B81A-E155767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330E-2C9C-4FDD-BAD8-CCFAF2EB799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1582-B7E9-4B98-84A7-4AE00142550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6104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</a:t>
            </a:r>
            <a:r>
              <a:rPr b="1" lang="zh-CN" sz="5400" spc="-1" strike="noStrike">
                <a:solidFill>
                  <a:srgbClr val="89351b"/>
                </a:solidFill>
                <a:latin typeface="Webdings"/>
                <a:ea typeface="Webdings"/>
              </a:rPr>
              <a:t>《成本会计》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3800" y="3213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九章     成本报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§9-1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成本报表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一、成本报表的内涵及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、内涵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、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成本报表属于</a:t>
            </a:r>
            <a:r>
              <a:rPr b="1" lang="zh-CN" sz="2800" spc="-1" strike="noStrike">
                <a:solidFill>
                  <a:srgbClr val="861e6b"/>
                </a:solidFill>
                <a:latin typeface="Times New Roman"/>
              </a:rPr>
              <a:t>内部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报表，旨在为企业内部管理提供服务。它的格式、指标项目、编制日期、报送对象，都由企业根据自身的生产经营特点和内部管理要求而定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二、成本报表的作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………………………………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十章      成本分析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§10-1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成本分析概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一、成本分析的内容及意义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成本事前分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、内容：成本事中分析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  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成本事后分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本章所讲的成本分析，仅指成本事后分析。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二、成本事后分析的内容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…………………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73392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solidFill>
              <a:srgbClr val="5b5249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28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9351b"/>
                </a:solidFill>
                <a:latin typeface="Webdings"/>
                <a:ea typeface="Webdings"/>
              </a:rPr>
              <a:t></a:t>
            </a:r>
            <a:r>
              <a:rPr b="1" lang="zh-CN" sz="4400" spc="-1" strike="noStrike">
                <a:solidFill>
                  <a:srgbClr val="89351b"/>
                </a:solidFill>
                <a:latin typeface="Webdings"/>
                <a:ea typeface="Webdings"/>
              </a:rPr>
              <a:t>第一章总论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495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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§1-1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成本的意义和作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1460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351b"/>
                </a:solidFill>
                <a:latin typeface="Webdings"/>
                <a:ea typeface="Webdings"/>
              </a:rPr>
              <a:t>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一、成本的概念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广义的成本：指取得资产的代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狭义的成本：仅指制造成本，为制造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351b"/>
                </a:solidFill>
                <a:latin typeface="Webdings"/>
                <a:ea typeface="Webdings"/>
              </a:rPr>
              <a:t></a:t>
            </a: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产品而发生成本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351b"/>
                </a:solidFill>
                <a:latin typeface="Times New Roman"/>
              </a:rPr>
              <a:t>二、成本的经济实质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89351b"/>
              </a:buClr>
              <a:buFont typeface="Web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9351b"/>
                </a:solidFill>
                <a:latin typeface="Webdings"/>
                <a:ea typeface="Webdings"/>
              </a:rPr>
              <a:t>。。。。。。。。。。。。。。。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467480" y="5084640"/>
            <a:ext cx="13464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二章 产品成本核算原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§2-1    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产品成本核算的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实际成本计价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成本分期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合法性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重要性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一贯性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、权责发生制原则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a0a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§2-2   </a:t>
            </a:r>
            <a:r>
              <a:rPr b="1" lang="zh-CN" sz="2800" spc="-1" strike="noStrike">
                <a:solidFill>
                  <a:srgbClr val="9a0a22"/>
                </a:solidFill>
                <a:latin typeface="Times New Roman"/>
              </a:rPr>
              <a:t>成本核算的要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a0a22"/>
                </a:solidFill>
                <a:latin typeface="Times New Roman"/>
              </a:rPr>
              <a:t>………………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三章  生产费用的归集与分配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第一节     各项要素费用的分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一、材料费用的归集与分配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、材料费用的内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产品生产过程中耗用的，构成产品实体或有助于产品形成的各种材料物资的货币表现。包括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…………………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第四章 产品成本计算方法概述</a:t>
            </a:r>
            <a:br>
              <a:rPr sz="4000"/>
            </a:b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§4-1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企业的生产类型及特点</a:t>
            </a:r>
            <a:br>
              <a:rPr sz="3200"/>
            </a:b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…………………………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五章         品种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7"/>
                </a:solidFill>
                <a:latin typeface="Times New Roman"/>
              </a:rPr>
              <a:t>§5-1         </a:t>
            </a:r>
            <a:r>
              <a:rPr b="1" lang="zh-CN" sz="3200" spc="-1" strike="noStrike">
                <a:solidFill>
                  <a:srgbClr val="1d5287"/>
                </a:solidFill>
                <a:latin typeface="Times New Roman"/>
              </a:rPr>
              <a:t>品种法概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7"/>
                </a:solidFill>
                <a:latin typeface="Times New Roman"/>
              </a:rPr>
              <a:t>一、品种法的特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按照产品品种作为成本计算对象来归集生产费用、计算产品成本的一种方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它是最基本的成本计算方法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a3d7a"/>
                </a:solidFill>
                <a:latin typeface="Times New Roman"/>
              </a:rPr>
              <a:t>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…………………………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六章      分步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§6-1 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分步法概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一、概念及特点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以产品的生产步骤为成本计算对象，归集生产费用，计算产品成本的一种方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Times New Roman"/>
              </a:rPr>
              <a:t>分步法的特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2a3d7a"/>
                </a:solidFill>
                <a:latin typeface="Times New Roman"/>
              </a:rPr>
              <a:t>…………………………………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七章     分批法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1e6b"/>
                </a:solidFill>
                <a:latin typeface="Times New Roman"/>
              </a:rPr>
              <a:t>分批法的特点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）以产品批别或定单作为成本计算对象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）以每批或每一定单产品的生产周期作为成本计算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2a3d7a"/>
                </a:solidFill>
                <a:latin typeface="Times New Roman"/>
              </a:rPr>
              <a:t>）月末，一般不需把生产费用在完工产品和在产品之间进行分配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61e6b"/>
                </a:solidFill>
                <a:latin typeface="Times New Roman"/>
              </a:rPr>
              <a:t>分批法的成本计算程序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1e6b"/>
                </a:solidFill>
                <a:latin typeface="Times New Roman"/>
              </a:rPr>
              <a:t>………………………………………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第八章 其他行业的成本计算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§8-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商品流通企业的成本计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§8-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施工企业的成本计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§8-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房地产开发企业的成本计算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2:59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