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EEA-1D5A-4098-A44C-D0456C3A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74F-F295-4336-A181-2E4E01FA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A48-9F7F-4193-B3FE-EE50686C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480-209C-4551-B284-E336AF16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958-5446-4251-BE31-073BF82C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535-E0DE-4285-A9C3-D3DB7F81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A7E-CCE9-4AA0-AC2A-125F9633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549-8936-436F-A3B8-4AA10DB0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32E-A83B-4A05-B1E0-20ED7715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71E-42E9-4761-A71D-1371F8A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2EB-10C7-40D5-B41D-9A77C0F1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E98-294C-4C42-9D2D-AE503ED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F34B-27FA-4E97-A89A-5153C2EB0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400" y="1294920"/>
            <a:ext cx="5410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ff"/>
                </a:solidFill>
                <a:latin typeface="Times New Roman"/>
              </a:rPr>
              <a:t>与 成 功 有 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666880" cy="448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29000" y="3657600"/>
            <a:ext cx="525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———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高效能人士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七种习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86520" y="285444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主 动 积 极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e Proa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666880"/>
            <a:ext cx="6172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做一个真正“操之在我”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26080" y="2438280"/>
            <a:ext cx="10335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个 人 愿 景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8720" y="2133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主 动 积 极 的 行 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133720"/>
            <a:ext cx="7925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消极被动的行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刺激————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动积极的行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刺激——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用价值观做自由的选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主动积极与被动消极的语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133720"/>
            <a:ext cx="4114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动积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选择去．．．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能．．．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打算．．．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试看有没有其他可能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可以控制自己的情绪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2133720"/>
            <a:ext cx="3429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被动消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必须去．．．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无能为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就是这样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除非．．才能．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们是不会接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905120"/>
            <a:ext cx="807732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6668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人 类 最 终 的 自 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81080"/>
            <a:ext cx="769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这些生活在集中营的人，总记得那经常走动于茅屋中安慰别人的人。他们也许只是少数，但是他们提供了足够的证明：你可以取走一个人的所有，但你无法取走“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人类最终的自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，即在任何环境中，人有能力自由选择自己的态度及回应方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—————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ktor Frank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四 种 人 类 天 赋 潜 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981080"/>
            <a:ext cx="716292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自    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——检验思想、情绪及行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想象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——能超越经验及现实的视野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良    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——明辨对与错及遵循正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独立意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——不受外力影响的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名　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05740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管对方做什么来伤害我们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往往是我们所选择的回应伤害了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你认为问题都是外界造成的，那么这样的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就是问题的所在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可以选择你的行动，但你不能选择后果．后果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被自然法则或原则所主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68A-ECD1-4B5D-8379-4D152F4FF8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以　终　为　始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egin with the end in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二：以终为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362320"/>
            <a:ext cx="6248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许多人埋头苦干，却不知所为何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到头来发现追求成功的阶梯搭错了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却为时以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因此，我们务必掌握真正的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并拟订目标的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澄明思虑，凝聚继续向前的力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2400" y="2362320"/>
            <a:ext cx="1033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个 人 领 导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选择不同的生活重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二：以终为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209680"/>
            <a:ext cx="784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．以配偶为重心　　　六．以享乐为重心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．以家庭为重心　　　七．以朋友为重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．以金钱为重心　　　八．以敌人为重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四．以工作为重心　　　九．以宗教为重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五．以名利为重心　　　十．以自我为重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5715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以 原 则 为 重 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使 命 宣 言 的 益 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二：以终为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438280"/>
            <a:ext cx="7010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鼓励更深入地思考你的人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澄清什么对你是真正重要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自我抉择的价值观及目的牢记心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供方向及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协助你向长期目标进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由内而外全面造就自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43828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希望获得信任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希望在工作上享有更多的自主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惟有反求于己，从思维与品德做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内而外的全面造就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才能使你在人生各个层面表现出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个 人 使 命 宣 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二：以终为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13372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究竟是什么样的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最强的才能及天赋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 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感到真正的快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想成为什么样的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哪些品格是我想拥有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哪些东西是我觉得重要并想拥有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名   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二：以终为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286000"/>
            <a:ext cx="7772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味良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仔细地倾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２．尝试去追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３．重新检视你的动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４．在沙里写下你的烦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要 事 第 一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Put First Things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三：要事第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438280"/>
            <a:ext cx="60962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勤奋，运气或灵活的手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固然重要，却非关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惟有掌握重点才是成功不二的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辨别事情的轻重缓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急所当急，充分授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个人管理的钥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29000" y="2362320"/>
            <a:ext cx="60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个 人 管 理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时间管理矩阵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三：要事第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2362320"/>
            <a:ext cx="72388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4267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23623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93680" y="2286000"/>
            <a:ext cx="103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重要              不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8288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紧急                                  不紧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2514600"/>
            <a:ext cx="358164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危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急迫的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期的任务，会议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准备事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2590920"/>
            <a:ext cx="358128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准备及预防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系的建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培训，授权，创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495680"/>
            <a:ext cx="365760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干扰，一些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些会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些紧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凑热闹的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4495680"/>
            <a:ext cx="350532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琐的工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浪费时间的闲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关紧要的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太多的电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时 间 管 理 要 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三：要事第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75248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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焦点放在真正重要的事上，对不重要的事说“不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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参照你的使命宣言、目标规划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124080"/>
            <a:ext cx="8839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要的事绝不应被极不重要的事情所牵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—————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歌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在各种领域中努力经营，百分之八十的结果是来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百分之二十的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————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/8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0" y="182844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zh-CN" sz="6600" spc="-1" strike="noStrike">
                <a:solidFill>
                  <a:srgbClr val="ff66ff"/>
                </a:solidFill>
                <a:latin typeface="Times New Roman"/>
              </a:rPr>
              <a:t>人际关系的成功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从独立到互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5909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你 不 是 一 座 孤 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514600"/>
            <a:ext cx="7696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圆满的人生不仅限于个人的独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还须追求人际关系的成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维系人与人之间的情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重要的不是技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而在于诚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感 　情　 帐　 户</a:t>
            </a:r>
            <a:br>
              <a:rPr sz="4400"/>
            </a:b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　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514600"/>
            <a:ext cx="6933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存款                               提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首先了解对方               要求对方先了解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遵守承诺                       违背承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礼貌                           不礼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道歉                                傲慢，自负，高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受回馈                        抗拒回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362320"/>
            <a:ext cx="7010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30481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存 入 感 情 存 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286000"/>
            <a:ext cx="73911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．了解别人　　　　　四．阐明期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．注意小节　　　　　五．诚恳正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．信守承诺　　　　　六．勇于道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双　赢　思　维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hink Win-W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四：双赢思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2666880"/>
            <a:ext cx="5791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般人看事情多持二分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强即弱，非胜即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实世界之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人都有足够的立足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人之得不必视为自己之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73800" y="2362320"/>
            <a:ext cx="1033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人 际 关 系 领 导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思 维 转 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8108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建立全新的观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每个人都守着一扇自内开启的“改变之门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除了自己，没有人能为你开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要你愿意敞开心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抛却原有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良好的原则化为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成功的圆满就在掌握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23814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基本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四：双赢思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23623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相互的利益能建立有效长久的人际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11480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我寻求自己的利益也照顾别人的利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要得到更佳的成果，我以互赖合作代替独立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人际交流的六种思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四：双赢思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2438280"/>
            <a:ext cx="8229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．利人利己（赢赢）　四．两败俱伤（输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．损人利己（赢输）    五．独善其身（独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．损己利人（输赢）　六．好聚好散（无交易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什 么 是 双 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四：双赢思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1981080"/>
            <a:ext cx="76960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                                     不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有勇气的努力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扮演“好人”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达到互赖人际关系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每次都办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最好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种以富足心态为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操纵的技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础的生活哲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品格为基础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做人技巧为基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人际交流                          的思维模式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1905120"/>
            <a:ext cx="716256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25146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19051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知  己  解  彼</a:t>
            </a:r>
            <a:br>
              <a:rPr sz="4400"/>
            </a:b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eek first to understand, then to be understood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590920"/>
            <a:ext cx="5867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沟通有两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己充分表达意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而且对方容易了解真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听人说话，很简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身处地的倾听，却非易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聆听、回馈与表达因而同等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45200" y="2743200"/>
            <a:ext cx="103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同 理 心 沟 通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倾 听 的 层 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057400"/>
            <a:ext cx="441936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忽 视 式 倾 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假 装 式 倾 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 择 式 倾 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留 意 地 倾 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同 理 心 倾 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18576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自 传 式 回 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362320"/>
            <a:ext cx="845820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建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：给予建议、劝告及问题解决对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探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 ：以自己的观点及动机去问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诠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：以自己的经验去诠释他人的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机及作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评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：判断及同意或不同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同 理 心 的 沟 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1981080"/>
            <a:ext cx="434340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428640" y="22096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666880" y="2819520"/>
            <a:ext cx="18288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505320"/>
            <a:ext cx="167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身体语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38098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语气；语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2286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我们使用的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988-DAE2-451B-AB64-3EB94D4D79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同理心沟通回应的五步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514600"/>
            <a:ext cx="69339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重述字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重整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反应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重整内容及反应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觉察同理心是否适当或必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听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1752480"/>
            <a:ext cx="29718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5181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口去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057400" y="35053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1752480"/>
            <a:ext cx="289548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495288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耳朵听；用眼睛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心聆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1828800"/>
            <a:ext cx="2667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宋体"/>
              </a:rPr>
              <a:t>聽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257800" y="3047760"/>
            <a:ext cx="0" cy="1904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257800" y="2590560"/>
            <a:ext cx="4572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696080" y="31240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7238880" y="2819520"/>
            <a:ext cx="4572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705720" y="4114800"/>
            <a:ext cx="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习 惯 的 建 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057400"/>
            <a:ext cx="3886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知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做什么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技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何做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意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想要做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2057400"/>
            <a:ext cx="2667240" cy="26668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3048120"/>
            <a:ext cx="2590920" cy="27432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2971800"/>
            <a:ext cx="2743200" cy="28195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514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495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技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4495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意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38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统 合 综 效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Synerg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六：统合综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2438280"/>
            <a:ext cx="6781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妥协意味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加一只等于一又二分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集思广益则使一加一等于八、十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甚至一千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类的潜能因而激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即使面对再大挑战也不畏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52680" y="2286000"/>
            <a:ext cx="60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创 意 合 作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统 合 综 效 的 概 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六：统合综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828800"/>
            <a:ext cx="87631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                                          不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果导向，正面统合         一种自由的脑力激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元展望                             完全接受别人的意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作的                                 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输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就“以终为始”取得         团队思考，受同伴压力放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值得努力且效能最高         总是容易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种过程                             一种谈判技巧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18288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3623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统 合 综 效 的 流 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六：统合综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1981080"/>
            <a:ext cx="2361960" cy="4343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1905120"/>
            <a:ext cx="2210040" cy="441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1981080"/>
            <a:ext cx="2438280" cy="4267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3048120"/>
            <a:ext cx="1676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机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3200400"/>
            <a:ext cx="2133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统合综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习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行动及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3048120"/>
            <a:ext cx="1904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统合综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名       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六：统合综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133720"/>
            <a:ext cx="8229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Strength lies in difference, not in simila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力量往往来自于差异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而非相似之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The key to objectivity is to accept subje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客观的关键是接受主观的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I do not see the world as it is ,I see the world as I am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往往用主观的想法去看世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0" lang="zh-CN" sz="6000" spc="-1" strike="noStrike">
                <a:solidFill>
                  <a:srgbClr val="ff66ff"/>
                </a:solidFill>
                <a:latin typeface="Times New Roman"/>
              </a:rPr>
              <a:t>全 面 观 照 生 命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           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最佳的“自我投资”策略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均衡发展的成长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22860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不  断  更  新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Sharpen the S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七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不断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45200" y="2362320"/>
            <a:ext cx="1033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持 续 更 新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209680"/>
            <a:ext cx="6629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生最高明的投资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莫过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理，心智，心灵及社会情感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严格要求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日积月累的进展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但拓展了自我成长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也协助了他人成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基本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七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不断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23623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产出（结果）需要产能（资源）的开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4038480"/>
            <a:ext cx="838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我将透过人生的四大面向的自我更新而增加效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我将持续地改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更 新 的 四 面 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七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不断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2209680"/>
            <a:ext cx="83818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生　理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透过适当的营养、运动、休息及压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管理来强化身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心　智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由阅读、写作及思考增进心智成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心　灵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透过阅读、沉思与大自然相处提升心灵健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社交／情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要的人际关系情感帐户每日持续存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持　续　增　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七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不断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2209680"/>
            <a:ext cx="7315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生历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新是一种原则及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七种习惯”是有力的学习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你刻意使用“七种习惯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便开始跟进一条持续发展的完整的人生之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914400"/>
            <a:ext cx="525780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七大习惯相辅相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越是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主动积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一）的人，越能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掌握人生方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二），也能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有效管理人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能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不断更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七）的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方懂得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如何了解别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五），寻求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圆满的解决之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同理，一个人越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独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就越善于与别人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相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1904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三 人 学 习 模 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370188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205740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掌握——了解基本内容或想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扩展——分析及加入个人经验或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应用——身体力行，分享应用的实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02920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选定至少两位愿意课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分享的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成 长 三 层 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187720"/>
            <a:ext cx="80773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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成长的三层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依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围绕“你”的概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照顾我；你为我的成败负责；事情若有差错，我便怪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独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着眼“我”的观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可以自立；我为自己负责；我可以自由选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互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从“我们”的观念出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自主，合作，集思广益，共同开创伟大的前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七大习惯与三大成长层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752480"/>
            <a:ext cx="396864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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七大习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人的成功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主动积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以终为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要事第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2666880"/>
            <a:ext cx="3200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际关系的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双赢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知己解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统合综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438280"/>
            <a:ext cx="31240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2438280"/>
            <a:ext cx="31240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5257800"/>
            <a:ext cx="2667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均衡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不断更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5105520"/>
            <a:ext cx="2819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920" y="2514600"/>
            <a:ext cx="60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依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7720" y="2438280"/>
            <a:ext cx="60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独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9880" y="2438280"/>
            <a:ext cx="606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互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产  出 </a:t>
            </a:r>
            <a:r>
              <a:rPr b="0" lang="en-US" sz="4400" spc="-1" strike="noStrike">
                <a:solidFill>
                  <a:srgbClr val="ff66ff"/>
                </a:solidFill>
                <a:latin typeface="Times New Roman"/>
              </a:rPr>
              <a:t>&amp;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产  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效率两要素（产出与产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产出与产能必须平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429000"/>
            <a:ext cx="754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范例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鹅；金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物质资产（机器；产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金融资产（本金；利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人力资产（亲子关系；管教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65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ff"/>
                </a:solidFill>
                <a:latin typeface="Times New Roman"/>
              </a:rPr>
              <a:t>个人的成功</a:t>
            </a:r>
            <a:br>
              <a:rPr sz="6600"/>
            </a:br>
            <a:br>
              <a:rPr sz="6600"/>
            </a:b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从依赖到独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18288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8:0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5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