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45E-BF5B-4CA0-BA16-68525109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DEE3-8E39-4903-B8CB-D9B9E3E4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AEE-6EAF-4273-88FF-1EA5B4DDF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C6B7-DE2C-4904-8F95-3209EC4A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76DD-3C03-48DC-AE12-09C2592F9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0804-EF6A-407D-9D8F-A5590357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7A4D-32BC-4BD2-A21C-38D94A46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6412-18FF-4D8B-9446-466CC488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0ED4-E13B-4443-AFF4-681954F9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9EC1-BA02-4231-BF2D-766C12A1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E0A3-689E-4A41-823A-A6005A53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03E-334E-4C00-912A-421EED96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AEB2-FE8D-49D0-97F8-BC16A3E0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C387-136A-420B-BB3C-293C4C7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2B7C-2B59-4DEE-A380-B1F5AF37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FA76-AAA0-44C5-978B-3E4CE0DF6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672E-FC1F-439D-A7CB-4B8C5C4F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3B2-E746-4A32-BAEB-83975247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E24-D0AE-4D0C-9B46-0EB9973C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74A-FF75-4E2D-B8F0-CE7E0061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312D-A0C6-4B9E-8D99-4D0EE981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5D7-78B9-406B-80B8-EA73254F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0543-A49C-49F8-BE3A-A850137F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DE7-AEB5-470D-AF94-8FCA2EA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8160"/>
              <a:ext cx="8164800" cy="301932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4008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48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A5C8-C9E6-46E3-966B-3531ECAE133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8160"/>
              <a:ext cx="8164800" cy="301932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4008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48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9318-5DB5-477A-A84A-4409D86B202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采购市场调查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67652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目的：确保采购所购入之商品在市场中具有强的竞争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46880" y="256536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cc66"/>
                </a:solidFill>
                <a:latin typeface="Times New Roman"/>
              </a:rPr>
              <a:t>结   论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商品流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生鲜商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产地        （基地）      批发市场        批发商       零售商家        顾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杂货、百货商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工厂        公司直营         经销商、代理商        零售商家         顾客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外国厂家          进出口贸易公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27432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7432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27432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274320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27432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4114800"/>
            <a:ext cx="507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1148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1148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411480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6483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2000" y="42667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市调之时机</a:t>
            </a:r>
            <a:br>
              <a:rPr sz="36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14240" y="1828440"/>
            <a:ext cx="5257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促销上档前后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竞争对手、公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业绩、毛利低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销售量比预期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新品上市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其他：天然灾害发生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原物料成品变化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关税调整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市调对象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52320" y="190512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竞争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批发市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产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工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专卖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特展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国外直供厂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网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一般市调内容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掌握市场贩售商品之包装、价格、规格、品质状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了解同行竞争店的促销活动及卖场布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了解同行竞争店之商品组织、品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了解现在市场最新上市之新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掌握市场商品之流行趋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掌握市场商品之供需状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5805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公司市调作业规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、品项确认，须和采购讨论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、选择市调对象，尽量以大型店为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、进行市调（周三、周四）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、填写市调表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、经理审核，并建议价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、店总签核，并于每周四下午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前传真至总公司采购处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、若采购于周五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前无回复，店内可自行改价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200" spc="-1" strike="noStrike">
                <a:solidFill>
                  <a:srgbClr val="ffffff"/>
                </a:solidFill>
                <a:latin typeface="Times New Roman"/>
              </a:rPr>
              <a:t>、若采购回复可按采购处方案执行，如部门经理不同意，可直接和采购讨论争取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295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存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市调采购权责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5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采购经理审核市调品项之后，在市调项栏内注明意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店市调资料传给采购后，采购签核后于周五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前回传分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485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、如采购对分店部分市调内容有疑问，可妥请分店再派人确认或亲自市调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366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1D2-DA65-430A-B29A-231188D4BA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采购人员对市调工作应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6520" y="1905120"/>
            <a:ext cx="403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具有该商品之专业知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具有精明的定价技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对市场的分析准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彻底了解消费者的需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4:3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