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DED-C9D4-4D56-9C63-C450DD86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135-06DB-4D86-A17F-F6D2736B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881-71C9-481B-A4D9-30B4110A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8C6-64F2-42AB-A95C-3D9838C4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F08-ABA1-4D6D-8D18-15C627D2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B9C-B3A6-463A-A434-7E53ED1C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7F7-892E-4147-9D79-95D56AC4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602-3AD7-48C9-A684-5AE0FA0A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EF0-912D-4EC7-AB29-C006C6D8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65D-05C6-417C-ADC1-7BF66DD0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B45-D2D9-4471-8501-B237402D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205-B8BF-4D0D-BDA2-03413C2F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4858-7003-4555-9B5B-C01DE6867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创建农村合格中小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27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2240" y="324648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一、统一思想，端正态度，充分认识创建农村合格中小学的重要意义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9429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创建农村合格中小学工作是保持共产党员先进性，提高党的执政能力的具体体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396960"/>
            <a:ext cx="81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创建农村合格中小学工作是促进教育公平，构建社会主义和谐社会的迫切需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48362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创建农村合格中小学是落实科学发展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91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二、硬件从实，软件从严，高水平、高质量完成创建农村合格中小学目标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1715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以“六有”工程为抓手，进一步改善农村中小学办学条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5880" y="3468600"/>
            <a:ext cx="78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以提高资源利用效率为重点，进一步推进教育信息化工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48369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以强化管理为重点，进一步提高农村中小学教学质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91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落实责任，加大投入，切实加强对创建农村合格中小学工作的领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1840" y="2087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坚持“以县为主”，层层落实创建农村合格中小学的办学责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5080" y="3455640"/>
            <a:ext cx="777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坚持政府主导，切实保障创建农村合格中小学的教育投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4824000"/>
            <a:ext cx="78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坚持严格督查，把创建农村合格中小学工作纳入各级党委、政府考核范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D6C-F79D-4E6D-B5D9-A19551EEA6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22874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建农村合格学校是改善农村基础教育条件，实现教育公平，为农民办实事的民心工程；也是促进教育事业健康协调可持续发展，让人民满意教育的德政工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23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