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CB6-6828-46BD-8CE9-AE179E28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B40-18FD-477C-928F-98EEEA60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BD7-D842-4EAC-86F5-FCC1A3D9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D17-38CD-46B7-B517-F1B48BE7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B694-DB3B-436A-A0C6-B0F7E1B1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69AB-F671-419C-96B2-EE54D72E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4F40-D09F-4A73-ADCD-0B9511B2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C974-DF94-4EE5-9252-B0EC302E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0956-4AAB-4208-9EDA-50A1B823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2E7D-99E2-4B00-BE33-00619710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E9F5-3BF9-42C7-BD28-084A74B0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887-E627-4014-81B7-C7EFB3EB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92BF-7853-4CA4-8447-620064AF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AEFC-2A32-4BDA-BD97-64D2838D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6299-254D-4559-B121-62F77698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3824-8264-4CB7-8544-A42CBC3D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9D67-A1A1-4CD9-A9CA-098F46C7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AD1-F6F3-4941-802D-BC14768F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D80-BC28-4DEF-967B-5469F752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7CD-4738-43D0-BC29-FDA051A9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031-C829-4401-93C9-30D122B3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246-F37D-4D4E-9018-CF7242FB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052-1FEA-4B4A-95CD-57F603DD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9F9-25C2-4186-8FBA-5DEAE138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5880"/>
            <a:chOff x="0" y="152280"/>
            <a:chExt cx="8686800" cy="6095880"/>
          </a:xfrm>
        </p:grpSpPr>
        <p:sp>
          <p:nvSpPr>
            <p:cNvPr id="1" name=""/>
            <p:cNvSpPr/>
            <p:nvPr/>
          </p:nvSpPr>
          <p:spPr>
            <a:xfrm>
              <a:off x="380880" y="53316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896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AE8D-0A0E-4C7F-880B-AAD7879C1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5680"/>
            <a:chOff x="0" y="927000"/>
            <a:chExt cx="8991720" cy="449568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26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927B-5B44-4C9D-8C12-5416C3CD8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76360" y="14130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6600"/>
                </a:solidFill>
                <a:latin typeface="文鼎CS魏碑"/>
                <a:ea typeface="文鼎CS魏碑"/>
              </a:rPr>
              <a:t>测量与误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2240" y="324648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8380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②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.</a:t>
            </a:r>
            <a:r>
              <a:rPr b="1" lang="zh-CN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相对误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64960" y="2743200"/>
                <a:ext cx="35863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误差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测量值）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（真值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313160" y="2743200"/>
                <a:ext cx="4481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 txBox="1"/>
          <p:nvPr/>
        </p:nvSpPr>
        <p:spPr>
          <a:xfrm>
            <a:off x="609480" y="182880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7f76f0"/>
                  </a:solidFill>
                  <a:miter/>
                </a:ln>
                <a:solidFill>
                  <a:srgbClr val="7f76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例：</a:t>
            </a:r>
            <a:endParaRPr b="0" lang="en-US" sz="1800" spc="-1" strike="noStrike">
              <a:ln w="9360">
                <a:solidFill>
                  <a:srgbClr val="7f76f0"/>
                </a:solidFill>
                <a:miter/>
              </a:ln>
              <a:solidFill>
                <a:srgbClr val="7f76f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33960" y="608040"/>
                <a:ext cx="3114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7280" y="3946680"/>
                <a:ext cx="483732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04840" y="5241960"/>
                <a:ext cx="53816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811840" y="4800600"/>
                <a:ext cx="2320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8380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②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.</a:t>
            </a:r>
            <a:r>
              <a:rPr b="1" lang="zh-CN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相对误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64960" y="2743200"/>
                <a:ext cx="35863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误差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测量值）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（真值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313160" y="2743200"/>
                <a:ext cx="4481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 txBox="1"/>
          <p:nvPr/>
        </p:nvSpPr>
        <p:spPr>
          <a:xfrm>
            <a:off x="609480" y="182880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7f76f0"/>
                  </a:solidFill>
                  <a:miter/>
                </a:ln>
                <a:solidFill>
                  <a:srgbClr val="7f76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例：</a:t>
            </a:r>
            <a:endParaRPr b="0" lang="en-US" sz="1800" spc="-1" strike="noStrike">
              <a:ln w="9360">
                <a:solidFill>
                  <a:srgbClr val="7f76f0"/>
                </a:solidFill>
                <a:miter/>
              </a:ln>
              <a:solidFill>
                <a:srgbClr val="7f76f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233960" y="608040"/>
                <a:ext cx="3114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87280" y="3946680"/>
                <a:ext cx="483732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04840" y="5241960"/>
                <a:ext cx="53816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811840" y="4800600"/>
                <a:ext cx="2320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75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4695840" cy="3851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38080" y="7621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6bf0"/>
                </a:solidFill>
                <a:latin typeface="Times New Roman"/>
                <a:ea typeface="仿宋_GB2312"/>
              </a:rPr>
              <a:t>偶然误差分布的三个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3092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1.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单峰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2.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有界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5105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3.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对称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057040" y="45720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隶书"/>
              </a:rPr>
              <a:t>系统误差与偶然误差的关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4080" y="2286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偶然误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90680" y="2362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随机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65600" y="32004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可通过多次测量来减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4080" y="4191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系统误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14720" y="4191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确定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96400" y="5105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可用特定方法来消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48769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            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：精密度与正确度的综合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                       反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1240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            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：实验结果与真值的符合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                       程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137160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             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：重复测量数据相互分散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                       的程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876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准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876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准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876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准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4876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17"/>
                </a:solidFill>
                <a:latin typeface="Times New Roman"/>
                <a:ea typeface="文鼎CS魏碑"/>
              </a:rPr>
              <a:t>准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8769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17"/>
                </a:solidFill>
                <a:latin typeface="Times New Roman"/>
                <a:ea typeface="文鼎CS魏碑"/>
              </a:rPr>
              <a:t>准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3124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正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3124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正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3124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正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3124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17"/>
                </a:solidFill>
                <a:latin typeface="Times New Roman"/>
                <a:ea typeface="文鼎CS魏碑"/>
              </a:rPr>
              <a:t>正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3124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17"/>
                </a:solidFill>
                <a:latin typeface="Times New Roman"/>
                <a:ea typeface="文鼎CS魏碑"/>
              </a:rPr>
              <a:t>正确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1371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精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371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17"/>
                </a:solidFill>
                <a:latin typeface="Times New Roman"/>
                <a:ea typeface="文鼎CS魏碑"/>
              </a:rPr>
              <a:t>精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1371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精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1371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17"/>
                </a:solidFill>
                <a:latin typeface="Times New Roman"/>
                <a:ea typeface="文鼎CS魏碑"/>
              </a:rPr>
              <a:t>精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1371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  <a:ea typeface="文鼎CS魏碑"/>
              </a:rPr>
              <a:t>精密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8360" y="333000"/>
            <a:ext cx="6750000" cy="4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4.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误差的几个基本概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3657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ff"/>
                </a:solidFill>
                <a:latin typeface="Times New Roman"/>
                <a:ea typeface="仿宋_GB2312"/>
              </a:rPr>
              <a:t>系统误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4038480"/>
            <a:ext cx="685800" cy="0"/>
          </a:xfrm>
          <a:prstGeom prst="line">
            <a:avLst/>
          </a:prstGeom>
          <a:ln w="38160">
            <a:solidFill>
              <a:srgbClr val="ff48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2286000"/>
            <a:ext cx="685800" cy="0"/>
          </a:xfrm>
          <a:prstGeom prst="line">
            <a:avLst/>
          </a:prstGeom>
          <a:ln w="38160">
            <a:solidFill>
              <a:srgbClr val="ff48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1905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ff"/>
                </a:solidFill>
                <a:latin typeface="Times New Roman"/>
                <a:ea typeface="仿宋_GB2312"/>
              </a:rPr>
              <a:t>偶然误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371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①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4876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③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3200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②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75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7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7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75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200400" y="2133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267080" y="3200400"/>
            <a:ext cx="90720" cy="9036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3276720"/>
            <a:ext cx="75960" cy="7596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3352680"/>
            <a:ext cx="76320" cy="7632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81280"/>
            <a:ext cx="90720" cy="9072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3581280"/>
            <a:ext cx="90360" cy="9072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743200"/>
            <a:ext cx="76320" cy="76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2743200"/>
            <a:ext cx="76320" cy="76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2590920"/>
            <a:ext cx="76320" cy="75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743200"/>
            <a:ext cx="76320" cy="76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2666880"/>
            <a:ext cx="76320" cy="76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3352680"/>
            <a:ext cx="90360" cy="9072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15200" y="3352680"/>
            <a:ext cx="90360" cy="9072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3505320"/>
            <a:ext cx="90360" cy="9036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38880" y="3505320"/>
            <a:ext cx="90720" cy="9036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3429000"/>
            <a:ext cx="90720" cy="90360"/>
          </a:xfrm>
          <a:prstGeom prst="ellipse">
            <a:avLst/>
          </a:prstGeom>
          <a:solidFill>
            <a:srgbClr val="519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5105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51814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图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  <a:ea typeface="仿宋_GB2312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25240" y="5181480"/>
            <a:ext cx="10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Symbol"/>
                <a:ea typeface="Symbol"/>
              </a:rPr>
              <a:t>图</a:t>
            </a:r>
            <a:r>
              <a:rPr b="1" lang="en-US" sz="2800" spc="-1" strike="noStrike">
                <a:solidFill>
                  <a:srgbClr val="ff0000"/>
                </a:solidFill>
                <a:latin typeface="Book Antiqua"/>
                <a:ea typeface="仿宋_GB2312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Book Antiqua"/>
                <a:ea typeface="仿宋_GB2312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8580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精密度高正确度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精密度低正确度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70520" y="9144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Symbol"/>
                <a:ea typeface="Symbol"/>
              </a:rPr>
              <a:t>准确度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500"/>
                            </p:stCondLst>
                            <p:childTnLst>
                              <p:par>
                                <p:cTn id="59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500"/>
                            </p:stCondLst>
                            <p:childTnLst>
                              <p:par>
                                <p:cTn id="63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7000"/>
                            </p:stCondLst>
                            <p:childTnLst>
                              <p:par>
                                <p:cTn id="64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6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000"/>
                            </p:stCondLst>
                            <p:childTnLst>
                              <p:par>
                                <p:cTn id="67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500"/>
                            </p:stCondLst>
                            <p:childTnLst>
                              <p:par>
                                <p:cTn id="67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8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059120" y="304920"/>
            <a:ext cx="7340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测量的四要素是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和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误差按性质可分为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和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</a:t>
            </a:r>
            <a:br>
              <a:rPr sz="4000"/>
            </a:b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误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5292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Impact"/>
              </a:rPr>
              <a:t>对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6752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Impact"/>
              </a:rPr>
              <a:t>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144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Impact"/>
              </a:rPr>
              <a:t>单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33080" y="1447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Impact"/>
              </a:rPr>
              <a:t>准确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4160" y="3276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Impact"/>
              </a:rPr>
              <a:t>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20160" y="3276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Impact"/>
              </a:rPr>
              <a:t>偶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9360" y="5334120"/>
            <a:ext cx="150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宋体"/>
              </a:rPr>
              <a:t>修正值</a:t>
            </a: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93360" y="53341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宋体"/>
              </a:rPr>
              <a:t>真值 </a:t>
            </a:r>
            <a:r>
              <a:rPr b="1" i="1" lang="en-US" sz="4000" spc="-1" strike="noStrike">
                <a:solidFill>
                  <a:srgbClr val="cc3300"/>
                </a:solidFill>
                <a:latin typeface="宋体"/>
              </a:rPr>
              <a:t>- </a:t>
            </a:r>
            <a:r>
              <a:rPr b="1" i="1" lang="zh-CN" sz="4000" spc="-1" strike="noStrike">
                <a:solidFill>
                  <a:srgbClr val="cc3300"/>
                </a:solidFill>
                <a:latin typeface="宋体"/>
              </a:rPr>
              <a:t>测量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432080" y="15408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85320" y="914400"/>
            <a:ext cx="717804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凡可用仪器量具直接读出某物理量值</a:t>
            </a:r>
            <a:br>
              <a:rPr sz="4000"/>
            </a:b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称为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测量，例如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__</a:t>
            </a:r>
            <a:r>
              <a:rPr b="1" lang="en-US" sz="4000" spc="-1" strike="noStrike" u="sng">
                <a:solidFill>
                  <a:srgbClr val="177810"/>
                </a:solidFill>
                <a:uFillTx/>
                <a:latin typeface="Times New Roman"/>
                <a:ea typeface="宋体"/>
              </a:rPr>
              <a:t>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；</a:t>
            </a:r>
            <a:br>
              <a:rPr sz="4000"/>
            </a:b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在直接测出与被量具有一定函数关系</a:t>
            </a:r>
            <a:br>
              <a:rPr sz="4000"/>
            </a:b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的几个量后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通过函数关系式确定被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量的大小的测量称为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测量，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如</a:t>
            </a:r>
            <a:r>
              <a:rPr b="1" lang="en-US" sz="4000" spc="-1" strike="noStrike">
                <a:solidFill>
                  <a:srgbClr val="177810"/>
                </a:solidFill>
                <a:latin typeface="Times New Roman"/>
              </a:rPr>
              <a:t>____________</a:t>
            </a:r>
            <a:r>
              <a:rPr b="1" lang="zh-CN" sz="4000" spc="-1" strike="noStrike">
                <a:solidFill>
                  <a:srgbClr val="17781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64080" y="1471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3300"/>
                </a:solidFill>
                <a:latin typeface="Impact"/>
              </a:rPr>
              <a:t>直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29280" y="1471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3300"/>
                </a:solidFill>
                <a:latin typeface="Impact"/>
              </a:rPr>
              <a:t>米尺测长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45360" y="3452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3300"/>
                </a:solidFill>
                <a:latin typeface="Impact"/>
              </a:rPr>
              <a:t>间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45400" y="4216320"/>
            <a:ext cx="23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3300"/>
                </a:solidFill>
                <a:latin typeface="Times New Roman"/>
              </a:rPr>
              <a:t>V=S/t </a:t>
            </a:r>
            <a:r>
              <a:rPr b="1" i="1" lang="zh-CN" sz="3600" spc="-1" strike="noStrike">
                <a:solidFill>
                  <a:srgbClr val="cc3300"/>
                </a:solidFill>
                <a:latin typeface="Times New Roman"/>
              </a:rPr>
              <a:t>测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81560" y="533520"/>
            <a:ext cx="755064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Impact"/>
              </a:rPr>
              <a:t>三角形三内角和的测量值是                               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Impact"/>
              </a:rPr>
              <a:t>其绝对误差等于</a:t>
            </a:r>
            <a:r>
              <a:rPr b="1" lang="en-US" sz="3600" spc="-1" strike="noStrike">
                <a:solidFill>
                  <a:srgbClr val="996633"/>
                </a:solidFill>
                <a:latin typeface="Impact"/>
              </a:rPr>
              <a:t>_________</a:t>
            </a:r>
            <a:r>
              <a:rPr b="1" lang="zh-CN" sz="3600" spc="-1" strike="noStrike">
                <a:solidFill>
                  <a:srgbClr val="996633"/>
                </a:solidFill>
                <a:latin typeface="Impact"/>
              </a:rPr>
              <a:t>，修正值是</a:t>
            </a:r>
            <a:r>
              <a:rPr b="1" lang="en-US" sz="3600" spc="-1" strike="noStrike">
                <a:solidFill>
                  <a:srgbClr val="996633"/>
                </a:solidFill>
                <a:latin typeface="Impact"/>
              </a:rPr>
              <a:t>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Impact"/>
              </a:rPr>
              <a:t>_____________</a:t>
            </a:r>
            <a:r>
              <a:rPr b="1" lang="zh-CN" sz="3600" spc="-1" strike="noStrike">
                <a:solidFill>
                  <a:srgbClr val="996633"/>
                </a:solidFill>
                <a:latin typeface="Impact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Impact"/>
              </a:rPr>
              <a:t>下列几个测量结果中，测量精度最低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Impact"/>
              </a:rPr>
              <a:t>（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01520" y="4648320"/>
                <a:ext cx="90424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867280" y="609480"/>
                <a:ext cx="2248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657600" y="1143000"/>
                <a:ext cx="22827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914400" y="1828800"/>
                <a:ext cx="22287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068120" y="3809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5120" y="533160"/>
            <a:ext cx="43228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1.</a:t>
            </a:r>
            <a:r>
              <a:rPr b="1" lang="en-US" sz="4200" spc="-1" strike="noStrike">
                <a:solidFill>
                  <a:srgbClr val="ff3d3d"/>
                </a:solidFill>
                <a:latin typeface="楷体_GB2312"/>
                <a:ea typeface="楷体_GB2312"/>
              </a:rPr>
              <a:t>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测量的含义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898640"/>
            <a:ext cx="77788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876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测量就是把待测物理量与作为计量单位的同类已知量相比较，找出被测量是单位的多少倍的过程</a:t>
            </a:r>
            <a:r>
              <a:rPr b="0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1055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876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测量的要素：对象，单位，方法，准确度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lvl="2" marL="937080" indent="-187200">
              <a:spcBef>
                <a:spcPts val="876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倍数→ 读数</a:t>
            </a:r>
            <a:r>
              <a:rPr b="1" lang="en-US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+</a:t>
            </a: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单位→数据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593640"/>
            <a:ext cx="518508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2.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测量的分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905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按方法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3434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按条件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63600" y="2500200"/>
            <a:ext cx="2408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直接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间接测量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仿宋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间接测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间接测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间接测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13336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7960" y="480060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7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306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 u="sng">
                <a:solidFill>
                  <a:srgbClr val="003366"/>
                </a:solidFill>
                <a:uFillTx/>
                <a:latin typeface="文鼎CS舒同体"/>
                <a:ea typeface="文鼎CS舒同体"/>
              </a:rPr>
              <a:t>二</a:t>
            </a:r>
            <a:r>
              <a:rPr b="1" lang="en-US" sz="4200" spc="-1" strike="noStrike" u="sng">
                <a:solidFill>
                  <a:srgbClr val="003366"/>
                </a:solidFill>
                <a:uFillTx/>
                <a:latin typeface="文鼎CS舒同体"/>
                <a:ea typeface="文鼎CS舒同体"/>
              </a:rPr>
              <a:t>. </a:t>
            </a:r>
            <a:r>
              <a:rPr b="1" lang="zh-CN" sz="4200" spc="-1" strike="noStrike" u="sng">
                <a:solidFill>
                  <a:srgbClr val="003366"/>
                </a:solidFill>
                <a:uFillTx/>
                <a:latin typeface="文鼎CS舒同体"/>
                <a:ea typeface="文鼎CS舒同体"/>
              </a:rPr>
              <a:t>误差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828800"/>
            <a:ext cx="5257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1. 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绝对误差与相对误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809880"/>
            <a:ext cx="38098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3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．误差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800600"/>
            <a:ext cx="50292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4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．误差的几个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819520"/>
            <a:ext cx="30481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2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．误差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141ff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5120" y="352080"/>
            <a:ext cx="6600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1.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绝对误差与相对误差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141ff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①</a:t>
            </a:r>
            <a:r>
              <a:rPr b="1" lang="en-US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.</a:t>
            </a:r>
            <a:r>
              <a:rPr b="1" lang="zh-CN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绝对误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76240" y="4038480"/>
            <a:ext cx="7240680" cy="685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5120" y="533160"/>
            <a:ext cx="43228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1.</a:t>
            </a:r>
            <a:r>
              <a:rPr b="1" lang="en-US" sz="4200" spc="-1" strike="noStrike">
                <a:solidFill>
                  <a:srgbClr val="ff3d3d"/>
                </a:solidFill>
                <a:latin typeface="楷体_GB2312"/>
                <a:ea typeface="楷体_GB2312"/>
              </a:rPr>
              <a:t>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测量的含义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898640"/>
            <a:ext cx="77788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876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测量就是把待测物理量与作为计量单位的同类已知量相比较，找出被测量是单位的多少倍的过程</a:t>
            </a:r>
            <a:r>
              <a:rPr b="0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1055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876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测量的要素：对象，单位，方法，准确度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lvl="2" marL="937080" indent="-187200">
              <a:spcBef>
                <a:spcPts val="876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倍数→ 读数</a:t>
            </a:r>
            <a:r>
              <a:rPr b="1" lang="en-US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+</a:t>
            </a:r>
            <a:r>
              <a:rPr b="1" lang="zh-CN" sz="3500" spc="-1" strike="noStrike">
                <a:solidFill>
                  <a:srgbClr val="003366"/>
                </a:solidFill>
                <a:latin typeface="Arial"/>
                <a:ea typeface="仿宋_GB2312"/>
              </a:rPr>
              <a:t>单位→数据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7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593640"/>
            <a:ext cx="518508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2.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测量的分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905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按方法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43434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按条件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63600" y="2500200"/>
            <a:ext cx="2408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直接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间接测量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仿宋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间接测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间接测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34290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间接测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50292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13336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5638680"/>
            <a:ext cx="3352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仿宋_GB2312"/>
              </a:rPr>
              <a:t>非等精度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7960" y="480060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306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 u="sng">
                <a:solidFill>
                  <a:srgbClr val="003366"/>
                </a:solidFill>
                <a:uFillTx/>
                <a:latin typeface="文鼎CS舒同体"/>
                <a:ea typeface="文鼎CS舒同体"/>
              </a:rPr>
              <a:t>二</a:t>
            </a:r>
            <a:r>
              <a:rPr b="1" lang="en-US" sz="4200" spc="-1" strike="noStrike" u="sng">
                <a:solidFill>
                  <a:srgbClr val="003366"/>
                </a:solidFill>
                <a:uFillTx/>
                <a:latin typeface="文鼎CS舒同体"/>
                <a:ea typeface="文鼎CS舒同体"/>
              </a:rPr>
              <a:t>. </a:t>
            </a:r>
            <a:r>
              <a:rPr b="1" lang="zh-CN" sz="4200" spc="-1" strike="noStrike" u="sng">
                <a:solidFill>
                  <a:srgbClr val="003366"/>
                </a:solidFill>
                <a:uFillTx/>
                <a:latin typeface="文鼎CS舒同体"/>
                <a:ea typeface="文鼎CS舒同体"/>
              </a:rPr>
              <a:t>误差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1828800"/>
            <a:ext cx="52578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1. 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绝对误差与相对误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3809880"/>
            <a:ext cx="38098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3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．误差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4800600"/>
            <a:ext cx="50292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4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．误差的几个基本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819520"/>
            <a:ext cx="30481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2</a:t>
            </a:r>
            <a:r>
              <a:rPr b="1" lang="zh-CN" sz="3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．误差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7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141ff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5120" y="352080"/>
            <a:ext cx="660096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1. </a:t>
            </a:r>
            <a:r>
              <a:rPr b="1" lang="zh-CN" sz="4200" spc="-1" strike="noStrike">
                <a:solidFill>
                  <a:srgbClr val="ff3d3d"/>
                </a:solidFill>
                <a:latin typeface="文鼎CS舒同体"/>
                <a:ea typeface="文鼎CS舒同体"/>
              </a:rPr>
              <a:t>绝对误差与相对误差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141ff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①</a:t>
            </a:r>
            <a:r>
              <a:rPr b="1" lang="en-US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.</a:t>
            </a:r>
            <a:r>
              <a:rPr b="1" lang="zh-CN" sz="36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绝对误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2819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真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76240" y="4038480"/>
            <a:ext cx="724068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5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3:00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