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D72-F6F2-4A9D-A447-C8DE13E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A15-DFD5-43ED-8A64-EC30C20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2FD-92AC-4BE8-8E2C-1E235923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094-D395-4221-AAD9-CC59DD78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DF4-9E4C-48D6-9DA6-E6ECD103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7CA-186D-4BC9-A48E-8309C199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33C-C7CB-4145-A6D7-FE322503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B57-786A-4857-AE2B-8DF88EC1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E0A-3EEE-4694-9483-2B101F4F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5C6-74D7-4071-97D1-89438A0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331-7835-4F25-ABA9-CB112C2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D11-B0BC-4E1F-9CA3-F331EAD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1E5-0212-4FCE-9D63-E98C3A66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2a971d47b0c398412d98030dffcc37a_m"/>
          <p:cNvPicPr/>
          <p:nvPr/>
        </p:nvPicPr>
        <p:blipFill>
          <a:blip r:embed="rId2"/>
          <a:stretch/>
        </p:blipFill>
        <p:spPr>
          <a:xfrm>
            <a:off x="1116000" y="1125360"/>
            <a:ext cx="6985080" cy="469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692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90800" y="2133720"/>
            <a:ext cx="30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彩色的非洲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42920" y="1484280"/>
            <a:ext cx="7632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让我们一起来看看，到底是什么孕育了怎样一个彩色的世界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如果你刚踏上非洲这片神秘的土地，沐浴在这样明亮的阳光之下，看到的是蓝得如此单纯的浩瀚天穹，感受到的是这种炽热的原始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想对非洲说什么？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的，一踏上非洲的这片神秘的土地，扑面而来的就是一种原始、强悍、粗犷而热烈的气息。请你再次朗读，再次感受这种不同寻常的美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92360" y="765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一）初悟非洲风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200603091457235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89080" y="177336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你从哪里看出这片蓝天之下的植物世界是彩色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充沛的阳光和雨水，使得除了沙漠之外的非洲大地，繁花似锦，绿海荡漾，到处是绿色，处处是花海。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　　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芒果树开的是星星点点的白花，仙人树开的是金灿灿的黄花，玉兰树高擎着白色或白里透青的玉杯，火炬树绽放的花朵比绿叶还要多，一棵似一团火，一排是一片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340000" y="692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二）深悟非洲风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16000" y="126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植物世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）到了开花季节，一条条街道，都成了彩色的长河。人在街上走，就像置身于花海深处。</a:t>
            </a:r>
            <a:br>
              <a:rPr sz="3200"/>
            </a:b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　 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）还有一种叫做花树的树，更是妙不可言。远远望去，树上像是开满了五彩缤纷的花，非常壮观；走近一看，却是满树的彩叶，紫的、黄的、绿的、红的，像含情脉脉的少女，向人们频频点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op557"/>
          <p:cNvPicPr/>
          <p:nvPr/>
        </p:nvPicPr>
        <p:blipFill>
          <a:blip r:embed="rId2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0" name="Picture 4" descr="op422"/>
            <p:cNvPicPr/>
            <p:nvPr/>
          </p:nvPicPr>
          <p:blipFill>
            <a:blip r:embed="rId3"/>
            <a:stretch/>
          </p:blipFill>
          <p:spPr>
            <a:xfrm>
              <a:off x="0" y="3595680"/>
              <a:ext cx="4871160" cy="32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ha1"/>
            <p:cNvPicPr/>
            <p:nvPr/>
          </p:nvPicPr>
          <p:blipFill>
            <a:blip r:embed="rId4"/>
            <a:stretch/>
          </p:blipFill>
          <p:spPr>
            <a:xfrm>
              <a:off x="4871160" y="0"/>
              <a:ext cx="427248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r_100-0049_IM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871160" cy="35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755640" y="1095480"/>
            <a:ext cx="7920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“非洲不仅植物世界是彩色的，动物世界也是彩色的。” 在非洲彩色的动物世界这一部分内容中，你印象最深刻的是什么，为什么？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600" spc="-1" strike="noStrike">
                <a:solidFill>
                  <a:srgbClr val="6600cc"/>
                </a:solidFill>
                <a:latin typeface="Arial"/>
                <a:ea typeface="楷体_GB2312"/>
              </a:rPr>
              <a:t>“其颜色不仅有赤橙黄绿青蓝紫，而且在不断地变幻着，交织着，渗透着，辉映着，令你目不暇接，不住地发出赞叹。这还是凝固的色彩呢，你若到盛产蝴蝶的刚果奥旺多省，置身于五彩缤纷的蝴蝶世界，细细聆听这彩色小天使飞翔的轻微音韵，简直如同步入仙境。”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    人们曾说：非洲是上帝创造的伊甸园，这里是植物的乐园，也是动物的天堂。世界上最大的野生动物园，就在非洲！说说你所知道的非洲彩色的动物世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771640" y="4017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动物世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无标题[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200603091457235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无标题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55640" y="13413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非洲的自然景观是彩色的，非洲人的日常生活也无一不是彩色的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不管男女老少都喜欢穿花衣服，妇女则更讲究颜色的搭配，喜欢颜色有较大的反差，那些蓝底白花、黄底红花、红绿相间的大花布，最为畅销。你在节日的市场上放眼望去，看到的是花花绿绿的衣服交汇成的彩色河流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炽热的赤道骄阳孕育了这一方皮肤油黑发亮的非洲人，他们以自己的热情奔放营造了七彩的生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你还知道非洲哪些彩色的日常生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484360" y="692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日常生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1628640"/>
            <a:ext cx="712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同学们，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世纪英国名作家汤玛斯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布朗曾经写道：“人类总是向外追寻那原本就隐藏在我们心灵深处的奥秘。其实，我们每个人都蕴藏着非洲的原始与神秘。”今天，就让我们走进这片神秘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69840" y="1197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非洲人彩色的日常生活造就了彩色的非洲艺术。　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如果你有幸参加他们的篝火晚会，那熊熊燃烧的火焰旁那穿着花衣裙欢跳的人群，不，那是流动的、五彩的旋律，你就会更深地领悟非洲彩色的美，非洲彩色的涌动与无限的活力。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人们常说，非洲舞蹈是非洲艺术的灵魂，非洲的舞蹈质朴、清纯、火热。请同学们朗读这句话，一起来感受非洲舞蹈的魅力。你能向同学们介绍一下非洲的工艺品吗？能介绍一下你所知道的非洲舞蹈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059280" y="549360"/>
            <a:ext cx="27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艺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47bbfd68f4d669fa60acad466f96d9e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826920" y="1413000"/>
            <a:ext cx="7705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激情洋溢的舞蹈，来自舞者的心灵。它诉说着非洲的原始与神秘，诉说非洲的热烈与奔放。难怪作者发出了这样的感叹：</a:t>
            </a:r>
            <a:br>
              <a:rPr sz="3200"/>
            </a:b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非洲真是一个色彩斑斓的世界啊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啊，非洲，好一个多姿多彩的世界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是啊！说非洲是彩色的在于它的色彩斑斓，更在于它的多姿多彩！让我们再一次赞叹这彩色的非洲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三）总结风情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F10-2854-4CBA-A45D-5061FA1C50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U508P115T9D141809F167DT200602081015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258920" y="177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非洲是一方热土，他古朴、自然、美丽；他吸引了世界人的目光，他更呼唤人们对和平的心态对待这片淳朴的土地；非洲人正渴望你伸出友谊之手，共同保护这片奇异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71640" y="10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212400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pic_2515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。读读记记“斑斓、炽热、湛蓝、充沛、硕大、火炬、巨蟒、渗透、聆听、木薯、强悍、粗犷、篝火、繁花似锦、含情脉脉、目不暇接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有感情地朗读课文，了解非洲独特的自然景观与风土人情，体会作者对非洲的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领悟文章的表达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3203640" y="693720"/>
            <a:ext cx="21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斓                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沛                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炬                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渗             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19280" y="39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47640" y="17683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916360" y="1763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斑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4764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pè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987640" y="2849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充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98764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火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2916360" y="98100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403280" y="4941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è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987640" y="49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渗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076720" y="38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ǎ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219640" y="1704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732720" y="1700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炽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148360" y="2789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732720" y="27860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硕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6732720" y="3870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蟒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旺                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薯                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悍                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篝             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476360" y="39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03280" y="17683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916360" y="1763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兴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4764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987640" y="2849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红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98764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强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476360" y="49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ō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987640" y="49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篝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076720" y="38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uǎ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5219640" y="1704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659640" y="1700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聆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148360" y="2789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659640" y="2786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瓜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673092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粗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187280" y="1411200"/>
            <a:ext cx="280836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篝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妙不可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含情脉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195640" y="13255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050920" y="19018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擎，向上托、举。高擎，高高举着，托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4000" y="24782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又称作色拉。西餐中的一种凉拌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800" y="299736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豪放、豪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95640" y="3573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指用笼子罩着的火，现借指在空旷处或野外架木柴、树枝燃烧的火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844720" y="4653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美妙得无法用语言形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916360" y="5229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眼神传达或内心怀着情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2843280" y="6922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71640" y="1052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为什么说非洲是彩色的？浏览课文，找出文中三个直接说明非洲是彩色的感叹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9640" y="306864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非洲真是一个色彩斑斓的世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蓝天、骄阳、绿树、红土、鲜花，以及皮肤油黑发亮的非洲人，构成了七彩的非洲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啊，非洲，好一个多姿多彩的世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图片3"/>
          <p:cNvPicPr/>
          <p:nvPr/>
        </p:nvPicPr>
        <p:blipFill>
          <a:blip r:embed="rId2"/>
          <a:stretch/>
        </p:blipFill>
        <p:spPr>
          <a:xfrm>
            <a:off x="2916360" y="620640"/>
            <a:ext cx="2011320" cy="503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图10"/>
          <p:cNvPicPr/>
          <p:nvPr/>
        </p:nvPicPr>
        <p:blipFill>
          <a:blip r:embed="rId2"/>
          <a:stretch/>
        </p:blipFill>
        <p:spPr>
          <a:xfrm>
            <a:off x="2987640" y="692280"/>
            <a:ext cx="2087640" cy="556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11280" y="1413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　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“非洲真是一个色彩斑斓的世界啊！”课文从哪几个方面来介绍非洲是一个“色彩斑斓”的世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00000" y="3357720"/>
            <a:ext cx="76327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蓝天、骄阳是彩色的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植物世界是彩色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动物世界也是彩色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艺术是彩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2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1:29:5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