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B38-20F3-4951-B316-1D055D32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113480"/>
            <a:ext cx="73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10E-3139-4167-8FAE-DC5B9C7C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113480"/>
            <a:ext cx="73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76E-DB1B-49B9-A89D-25039ADE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113480"/>
            <a:ext cx="73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BD3-E76E-4601-9922-496E4372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113480"/>
            <a:ext cx="73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AB2-0FE9-498D-A33E-C26FEA30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113480"/>
            <a:ext cx="73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B11-515E-4EA0-8B5C-1180B138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113480"/>
            <a:ext cx="73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3B48-2F3A-4345-889F-605FFF97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113480"/>
            <a:ext cx="73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1720-1875-4F59-8921-44BB5798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118880"/>
            <a:ext cx="73803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F9C-5057-4D03-96D2-181FAFA9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113480"/>
            <a:ext cx="73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A6F-F717-4FA1-817C-0D0B9AFB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113480"/>
            <a:ext cx="73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416-8D11-4159-B957-6BE752D6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113480"/>
            <a:ext cx="73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7A3-94F5-4CC3-898C-9F3E3DEB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-1440" y="-3240"/>
            <a:ext cx="7731000" cy="2514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118880"/>
            <a:ext cx="738036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4BAA-1EAA-4460-8877-91E273E5B088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直接连接符 6" descr=""/>
          <p:cNvPicPr/>
          <p:nvPr/>
        </p:nvPicPr>
        <p:blipFill>
          <a:blip r:embed="rId2"/>
          <a:stretch/>
        </p:blipFill>
        <p:spPr>
          <a:xfrm>
            <a:off x="890640" y="5827680"/>
            <a:ext cx="38160" cy="365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12880" y="20750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6010200"/>
            <a:ext cx="5643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0560" y="90972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橙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5CF-2B49-49CB-9293-62EB74E1EC3A}" type="slidenum">
              <a:t>2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2T01:51:0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55:3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