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himes.wav" ContentType="audio/x-wav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478F-4E78-4389-923B-D8CE7290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341B-008E-4DE4-B34B-98080CE2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35D3-D5F1-43EB-A7D8-ECC368F4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2547-B61F-4C62-B083-E0C92EA3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45E8-4113-4127-A632-1E326A65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256-A455-4844-8C8D-9CD79D4D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C8E8-59AF-4DD5-87DB-A56A6506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4846-FBEB-4C26-ABCE-11C9B168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E6FA-D072-48D6-89DE-517F6F02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5EB4-9AC5-499C-9FBF-FF95DCED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C2C0-3206-4094-8EA9-81BF7A24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A0C4-A085-4F3C-B747-735AB5F1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5238-29B0-4A0F-B49A-EB4D9D0C7D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2.jpeg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0024545"/>
          <p:cNvPicPr/>
          <p:nvPr/>
        </p:nvPicPr>
        <p:blipFill>
          <a:blip r:embed="rId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388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华文行楷"/>
                <a:ea typeface="华文行楷"/>
              </a:rPr>
              <a:t>春望</a:t>
            </a:r>
            <a:r>
              <a:rPr b="0" lang="en-US" sz="3600" spc="-1" strike="noStrike">
                <a:solidFill>
                  <a:srgbClr val="ff9900"/>
                </a:solidFill>
                <a:latin typeface="华文行楷"/>
                <a:ea typeface="华文行楷"/>
              </a:rPr>
              <a:t>PPT</a:t>
            </a:r>
            <a:r>
              <a:rPr b="0" lang="zh-CN" sz="3600" spc="-1" strike="noStrike">
                <a:solidFill>
                  <a:srgbClr val="ff9900"/>
                </a:solidFill>
                <a:latin typeface="华文行楷"/>
                <a:ea typeface="华文行楷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651280" y="1412640"/>
            <a:ext cx="165708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杜  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4201200" y="2492280"/>
            <a:ext cx="5158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国破山河在，城春草木深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感时花溅泪，恨别鸟惊心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烽火连三月，家书抵万金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白头搔更短，浑欲不胜簪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8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850"/>
                            </p:stCondLst>
                            <p:childTnLst>
                              <p:par>
                                <p:cTn id="24" nodeType="afterEffect" fill="hold" presetClass="emph" presetID="8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60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  <a:ea typeface="华文行楷"/>
              </a:rPr>
              <a:t>掌握下列字的正确读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763640" y="1557360"/>
            <a:ext cx="302436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新魏"/>
              </a:rPr>
              <a:t>花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溅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新魏"/>
              </a:rPr>
              <a:t>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搔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新魏"/>
              </a:rPr>
              <a:t>更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烽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新魏"/>
              </a:rPr>
              <a:t>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新魏"/>
              </a:rPr>
              <a:t>不胜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148360" y="177336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jià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148360" y="306864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ā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148360" y="446724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ē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148360" y="576252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Zā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551808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3" name="chimes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7013-ADF7-4A59-98E6-2AE47C67FF51}" type="slidenum">
              <a:t>3</a:t>
            </a:fld>
          </a:p>
        </p:txBody>
      </p:sp>
    </p:spTree>
  </p:cSld>
  <p:transition spd="slow">
    <p:wheel spokes="8"/>
    <p:sndAc>
      <p:stSnd>
        <p:snd r:embed="rId26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48528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  <a:ea typeface="华文行楷"/>
              </a:rPr>
              <a:t>掌握下列词语的不同含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1773360"/>
            <a:ext cx="5113080" cy="38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新魏"/>
              </a:rPr>
              <a:t>国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破山河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属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新魏"/>
              </a:rPr>
              <a:t>国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过居延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00360" y="3213000"/>
            <a:ext cx="64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Arial"/>
                <a:ea typeface="方正姚体"/>
              </a:rPr>
              <a:t>国都，这里指长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771640" y="5734080"/>
            <a:ext cx="44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Arial"/>
                <a:ea typeface="方正姚体"/>
              </a:rPr>
              <a:t>国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mph" presetID="36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20">
                                      <p:cBhvr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184560" y="48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758600" y="714240"/>
            <a:ext cx="552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华文行楷"/>
              </a:rPr>
              <a:t>掌握下列词语的词类活用现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543480" y="2859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403280" y="219240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Arial"/>
                <a:ea typeface="方正舒体"/>
              </a:rPr>
              <a:t>恨别鸟</a:t>
            </a: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方正舒体"/>
              </a:rPr>
              <a:t>惊</a:t>
            </a:r>
            <a:r>
              <a:rPr b="1" lang="zh-CN" sz="9600" spc="-1" strike="noStrike">
                <a:solidFill>
                  <a:srgbClr val="0000ff"/>
                </a:solidFill>
                <a:latin typeface="Arial"/>
                <a:ea typeface="方正舒体"/>
              </a:rPr>
              <a:t>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77800" y="4508640"/>
            <a:ext cx="831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使动用法，使</a:t>
            </a:r>
            <a:r>
              <a:rPr b="1" lang="en-US" sz="6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......</a:t>
            </a:r>
            <a:r>
              <a:rPr b="1" lang="zh-CN" sz="6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3" name="chimes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0:00:0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4T11:28:42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