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B40-C6A5-4CFD-9924-7E77DFAB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60260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D6A-2DA9-41CA-AE9B-9129CF55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97F-07EC-4ECD-AC52-82466E0F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58669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58669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60260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60260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60260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ECF-0BE2-43AD-A94D-86F89AF9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B75A-98E6-4848-81DE-AB59CE72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5866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3EBC-D770-47A9-8A68-2D525A16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E338-8D7A-4ED2-8415-CE6547D1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E142-8ED3-46CC-825A-DA4AF56F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B41B-7408-4C87-ACE1-EE9CA2D9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53337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64B8-7991-44EA-BF3F-60305EE4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01F1-9881-4FF5-92D4-A26920AB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5866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453-FB3A-46D0-AC30-595D90CE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93D1-4DE5-4E22-8CFF-A6A0587E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60260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B26F-1050-4805-9DC7-19EE35AF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60260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DD9A-F2B7-406A-A77C-81C58679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26A0-02AC-42F7-98EA-7B90210F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58669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58669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60260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60260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60260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AF3A-0A53-479F-B2B2-D464946F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E5F-6F21-4033-B3E5-4C6A6B99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C45-E53F-4B88-A7A9-0A5E6643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BD5-A900-4451-84D3-70C29214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53337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8D2-60A0-448E-BCFA-79534B4E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6FB-89AD-4815-80DC-7CBE5B20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60260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AD2-A9C0-4C39-B7FB-50EADA7B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58669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60260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7BD-8A3E-4EEC-B255-8044FE4E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305b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f305b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335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3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f3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3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f30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05b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f305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B91B-914D-4758-B029-CE9845198D2E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60AD-26DB-40DC-8197-8C15144FDB4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05b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f305b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f305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05b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f305b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f305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305b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f305b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抽象</a:t>
            </a:r>
            <a:r>
              <a:rPr b="0" lang="zh-CN" sz="4800" spc="-1" strike="noStrike">
                <a:solidFill>
                  <a:srgbClr val="ffffff"/>
                </a:solidFill>
                <a:latin typeface="Impact"/>
                <a:ea typeface="宋体"/>
              </a:rPr>
              <a:t>派</a:t>
            </a: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艺术</a:t>
            </a: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5866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305b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f305b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f3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05b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f3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5866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3800"/>
            <a:ext cx="6819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创意设计ppt模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chuangy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305b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f305b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f30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05b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f3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6:04:4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5T07:30:50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