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16040" y="2286000"/>
            <a:ext cx="5219640" cy="11556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r">
              <a:buNone/>
              <a:tabLst>
                <a:tab algn="l" pos="0"/>
                <a:tab algn="l" pos="1363680"/>
                <a:tab algn="l" pos="2727360"/>
                <a:tab algn="l" pos="4091040"/>
                <a:tab algn="l" pos="5454720"/>
                <a:tab algn="l" pos="6818400"/>
                <a:tab algn="l" pos="8182080"/>
                <a:tab algn="l" pos="9545760"/>
                <a:tab algn="l" pos="10909440"/>
              </a:tabLst>
            </a:pPr>
            <a:endParaRPr b="1" lang="en-US" sz="3600" spc="-1" strike="noStrike">
              <a:solidFill>
                <a:srgbClr val="ffff00"/>
              </a:solidFill>
              <a:latin typeface="楷体_GB2312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55880" y="4145040"/>
            <a:ext cx="487980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5880" y="5105160"/>
            <a:ext cx="487980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16040" y="2286000"/>
            <a:ext cx="5219640" cy="11556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r">
              <a:buNone/>
              <a:tabLst>
                <a:tab algn="l" pos="0"/>
                <a:tab algn="l" pos="1363680"/>
                <a:tab algn="l" pos="2727360"/>
                <a:tab algn="l" pos="4091040"/>
                <a:tab algn="l" pos="5454720"/>
                <a:tab algn="l" pos="6818400"/>
                <a:tab algn="l" pos="8182080"/>
                <a:tab algn="l" pos="9545760"/>
                <a:tab algn="l" pos="10909440"/>
              </a:tabLst>
            </a:pPr>
            <a:endParaRPr b="1" lang="en-US" sz="3600" spc="-1" strike="noStrike">
              <a:solidFill>
                <a:srgbClr val="ffff00"/>
              </a:solidFill>
              <a:latin typeface="楷体_GB2312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55880" y="4145040"/>
            <a:ext cx="2381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83196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56440" y="4145040"/>
            <a:ext cx="2381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83196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5880" y="5105160"/>
            <a:ext cx="2381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83196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7156440" y="5105160"/>
            <a:ext cx="2381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83196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316040" y="2286000"/>
            <a:ext cx="5219640" cy="11556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r">
              <a:buNone/>
              <a:tabLst>
                <a:tab algn="l" pos="0"/>
                <a:tab algn="l" pos="1363680"/>
                <a:tab algn="l" pos="2727360"/>
                <a:tab algn="l" pos="4091040"/>
                <a:tab algn="l" pos="5454720"/>
                <a:tab algn="l" pos="6818400"/>
                <a:tab algn="l" pos="8182080"/>
                <a:tab algn="l" pos="9545760"/>
                <a:tab algn="l" pos="10909440"/>
              </a:tabLst>
            </a:pPr>
            <a:endParaRPr b="1" lang="en-US" sz="3600" spc="-1" strike="noStrike">
              <a:solidFill>
                <a:srgbClr val="ffff00"/>
              </a:solidFill>
              <a:latin typeface="楷体_GB2312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55880" y="4145040"/>
            <a:ext cx="1571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marL="61236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305760" y="4145040"/>
            <a:ext cx="1571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marL="61236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956000" y="4145040"/>
            <a:ext cx="1571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marL="61236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5880" y="5105160"/>
            <a:ext cx="1571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marL="61236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6305760" y="5105160"/>
            <a:ext cx="1571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marL="61236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956000" y="5105160"/>
            <a:ext cx="1571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marL="61236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16040" y="2286000"/>
            <a:ext cx="5219640" cy="11556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r">
              <a:buNone/>
              <a:tabLst>
                <a:tab algn="l" pos="0"/>
                <a:tab algn="l" pos="1363680"/>
                <a:tab algn="l" pos="2727360"/>
                <a:tab algn="l" pos="4091040"/>
                <a:tab algn="l" pos="5454720"/>
                <a:tab algn="l" pos="6818400"/>
                <a:tab algn="l" pos="8182080"/>
                <a:tab algn="l" pos="9545760"/>
                <a:tab algn="l" pos="10909440"/>
              </a:tabLst>
            </a:pPr>
            <a:endParaRPr b="1" lang="en-US" sz="3600" spc="-1" strike="noStrike">
              <a:solidFill>
                <a:srgbClr val="ffff00"/>
              </a:solidFill>
              <a:latin typeface="楷体_GB2312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55880" y="4145040"/>
            <a:ext cx="4879800" cy="183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91440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16040" y="2286000"/>
            <a:ext cx="5219640" cy="11556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r">
              <a:buNone/>
              <a:tabLst>
                <a:tab algn="l" pos="0"/>
                <a:tab algn="l" pos="1363680"/>
                <a:tab algn="l" pos="2727360"/>
                <a:tab algn="l" pos="4091040"/>
                <a:tab algn="l" pos="5454720"/>
                <a:tab algn="l" pos="6818400"/>
                <a:tab algn="l" pos="8182080"/>
                <a:tab algn="l" pos="9545760"/>
                <a:tab algn="l" pos="10909440"/>
              </a:tabLst>
            </a:pPr>
            <a:endParaRPr b="1" lang="en-US" sz="3600" spc="-1" strike="noStrike">
              <a:solidFill>
                <a:srgbClr val="ffff00"/>
              </a:solidFill>
              <a:latin typeface="楷体_GB2312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55880" y="4145040"/>
            <a:ext cx="487980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16040" y="2286000"/>
            <a:ext cx="5219640" cy="11556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r">
              <a:buNone/>
              <a:tabLst>
                <a:tab algn="l" pos="0"/>
                <a:tab algn="l" pos="1363680"/>
                <a:tab algn="l" pos="2727360"/>
                <a:tab algn="l" pos="4091040"/>
                <a:tab algn="l" pos="5454720"/>
                <a:tab algn="l" pos="6818400"/>
                <a:tab algn="l" pos="8182080"/>
                <a:tab algn="l" pos="9545760"/>
                <a:tab algn="l" pos="10909440"/>
              </a:tabLst>
            </a:pPr>
            <a:endParaRPr b="1" lang="en-US" sz="3600" spc="-1" strike="noStrike">
              <a:solidFill>
                <a:srgbClr val="ffff00"/>
              </a:solidFill>
              <a:latin typeface="楷体_GB2312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55880" y="4145040"/>
            <a:ext cx="23810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156440" y="4145040"/>
            <a:ext cx="23810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16040" y="2286000"/>
            <a:ext cx="5219640" cy="11556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r">
              <a:buNone/>
              <a:tabLst>
                <a:tab algn="l" pos="0"/>
                <a:tab algn="l" pos="1363680"/>
                <a:tab algn="l" pos="2727360"/>
                <a:tab algn="l" pos="4091040"/>
                <a:tab algn="l" pos="5454720"/>
                <a:tab algn="l" pos="6818400"/>
                <a:tab algn="l" pos="8182080"/>
                <a:tab algn="l" pos="9545760"/>
                <a:tab algn="l" pos="10909440"/>
              </a:tabLst>
            </a:pPr>
            <a:endParaRPr b="1" lang="en-US" sz="3600" spc="-1" strike="noStrike">
              <a:solidFill>
                <a:srgbClr val="ffff00"/>
              </a:solidFill>
              <a:latin typeface="楷体_GB2312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316040" y="2286000"/>
            <a:ext cx="5219640" cy="535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914400" indent="-914400" algn="r"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6040" y="2286000"/>
            <a:ext cx="5219640" cy="11556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r">
              <a:buNone/>
              <a:tabLst>
                <a:tab algn="l" pos="0"/>
                <a:tab algn="l" pos="1363680"/>
                <a:tab algn="l" pos="2727360"/>
                <a:tab algn="l" pos="4091040"/>
                <a:tab algn="l" pos="5454720"/>
                <a:tab algn="l" pos="6818400"/>
                <a:tab algn="l" pos="8182080"/>
                <a:tab algn="l" pos="9545760"/>
                <a:tab algn="l" pos="10909440"/>
              </a:tabLst>
            </a:pPr>
            <a:endParaRPr b="1" lang="en-US" sz="3600" spc="-1" strike="noStrike">
              <a:solidFill>
                <a:srgbClr val="ffff00"/>
              </a:solidFill>
              <a:latin typeface="楷体_GB2312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55880" y="4145040"/>
            <a:ext cx="2381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83196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156440" y="4145040"/>
            <a:ext cx="23810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55880" y="5105160"/>
            <a:ext cx="2381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83196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316040" y="2286000"/>
            <a:ext cx="5219640" cy="11556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r">
              <a:buNone/>
              <a:tabLst>
                <a:tab algn="l" pos="0"/>
                <a:tab algn="l" pos="1363680"/>
                <a:tab algn="l" pos="2727360"/>
                <a:tab algn="l" pos="4091040"/>
                <a:tab algn="l" pos="5454720"/>
                <a:tab algn="l" pos="6818400"/>
                <a:tab algn="l" pos="8182080"/>
                <a:tab algn="l" pos="9545760"/>
                <a:tab algn="l" pos="10909440"/>
              </a:tabLst>
            </a:pPr>
            <a:endParaRPr b="1" lang="en-US" sz="3600" spc="-1" strike="noStrike">
              <a:solidFill>
                <a:srgbClr val="ffff00"/>
              </a:solidFill>
              <a:latin typeface="楷体_GB2312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55880" y="4145040"/>
            <a:ext cx="4879800" cy="183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91440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16040" y="2286000"/>
            <a:ext cx="5219640" cy="11556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r">
              <a:buNone/>
              <a:tabLst>
                <a:tab algn="l" pos="0"/>
                <a:tab algn="l" pos="1363680"/>
                <a:tab algn="l" pos="2727360"/>
                <a:tab algn="l" pos="4091040"/>
                <a:tab algn="l" pos="5454720"/>
                <a:tab algn="l" pos="6818400"/>
                <a:tab algn="l" pos="8182080"/>
                <a:tab algn="l" pos="9545760"/>
                <a:tab algn="l" pos="10909440"/>
              </a:tabLst>
            </a:pPr>
            <a:endParaRPr b="1" lang="en-US" sz="3600" spc="-1" strike="noStrike">
              <a:solidFill>
                <a:srgbClr val="ffff00"/>
              </a:solidFill>
              <a:latin typeface="楷体_GB2312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55880" y="4145040"/>
            <a:ext cx="23810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156440" y="4145040"/>
            <a:ext cx="2381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83196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156440" y="5105160"/>
            <a:ext cx="2381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83196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16040" y="2286000"/>
            <a:ext cx="5219640" cy="11556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r">
              <a:buNone/>
              <a:tabLst>
                <a:tab algn="l" pos="0"/>
                <a:tab algn="l" pos="1363680"/>
                <a:tab algn="l" pos="2727360"/>
                <a:tab algn="l" pos="4091040"/>
                <a:tab algn="l" pos="5454720"/>
                <a:tab algn="l" pos="6818400"/>
                <a:tab algn="l" pos="8182080"/>
                <a:tab algn="l" pos="9545760"/>
                <a:tab algn="l" pos="10909440"/>
              </a:tabLst>
            </a:pPr>
            <a:endParaRPr b="1" lang="en-US" sz="3600" spc="-1" strike="noStrike">
              <a:solidFill>
                <a:srgbClr val="ffff00"/>
              </a:solidFill>
              <a:latin typeface="楷体_GB2312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55880" y="4145040"/>
            <a:ext cx="2381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83196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156440" y="4145040"/>
            <a:ext cx="2381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83196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5880" y="5105160"/>
            <a:ext cx="487980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16040" y="2286000"/>
            <a:ext cx="5219640" cy="11556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r">
              <a:buNone/>
              <a:tabLst>
                <a:tab algn="l" pos="0"/>
                <a:tab algn="l" pos="1363680"/>
                <a:tab algn="l" pos="2727360"/>
                <a:tab algn="l" pos="4091040"/>
                <a:tab algn="l" pos="5454720"/>
                <a:tab algn="l" pos="6818400"/>
                <a:tab algn="l" pos="8182080"/>
                <a:tab algn="l" pos="9545760"/>
                <a:tab algn="l" pos="10909440"/>
              </a:tabLst>
            </a:pPr>
            <a:endParaRPr b="1" lang="en-US" sz="3600" spc="-1" strike="noStrike">
              <a:solidFill>
                <a:srgbClr val="ffff00"/>
              </a:solidFill>
              <a:latin typeface="楷体_GB2312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55880" y="4145040"/>
            <a:ext cx="487980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5880" y="5105160"/>
            <a:ext cx="487980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16040" y="2286000"/>
            <a:ext cx="5219640" cy="11556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r">
              <a:buNone/>
              <a:tabLst>
                <a:tab algn="l" pos="0"/>
                <a:tab algn="l" pos="1363680"/>
                <a:tab algn="l" pos="2727360"/>
                <a:tab algn="l" pos="4091040"/>
                <a:tab algn="l" pos="5454720"/>
                <a:tab algn="l" pos="6818400"/>
                <a:tab algn="l" pos="8182080"/>
                <a:tab algn="l" pos="9545760"/>
                <a:tab algn="l" pos="10909440"/>
              </a:tabLst>
            </a:pPr>
            <a:endParaRPr b="1" lang="en-US" sz="3600" spc="-1" strike="noStrike">
              <a:solidFill>
                <a:srgbClr val="ffff00"/>
              </a:solidFill>
              <a:latin typeface="楷体_GB2312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55880" y="4145040"/>
            <a:ext cx="2381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83196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156440" y="4145040"/>
            <a:ext cx="2381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83196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55880" y="5105160"/>
            <a:ext cx="2381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83196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7156440" y="5105160"/>
            <a:ext cx="2381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83196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16040" y="2286000"/>
            <a:ext cx="5219640" cy="11556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r">
              <a:buNone/>
              <a:tabLst>
                <a:tab algn="l" pos="0"/>
                <a:tab algn="l" pos="1363680"/>
                <a:tab algn="l" pos="2727360"/>
                <a:tab algn="l" pos="4091040"/>
                <a:tab algn="l" pos="5454720"/>
                <a:tab algn="l" pos="6818400"/>
                <a:tab algn="l" pos="8182080"/>
                <a:tab algn="l" pos="9545760"/>
                <a:tab algn="l" pos="10909440"/>
              </a:tabLst>
            </a:pPr>
            <a:endParaRPr b="1" lang="en-US" sz="3600" spc="-1" strike="noStrike">
              <a:solidFill>
                <a:srgbClr val="ffff00"/>
              </a:solidFill>
              <a:latin typeface="楷体_GB2312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55880" y="4145040"/>
            <a:ext cx="1571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marL="61236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05760" y="4145040"/>
            <a:ext cx="1571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marL="61236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956000" y="4145040"/>
            <a:ext cx="1571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marL="61236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5880" y="5105160"/>
            <a:ext cx="1571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marL="61236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6305760" y="5105160"/>
            <a:ext cx="1571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marL="61236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7956000" y="5105160"/>
            <a:ext cx="1571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marL="61236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16040" y="2286000"/>
            <a:ext cx="5219640" cy="11556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r">
              <a:buNone/>
              <a:tabLst>
                <a:tab algn="l" pos="0"/>
                <a:tab algn="l" pos="1363680"/>
                <a:tab algn="l" pos="2727360"/>
                <a:tab algn="l" pos="4091040"/>
                <a:tab algn="l" pos="5454720"/>
                <a:tab algn="l" pos="6818400"/>
                <a:tab algn="l" pos="8182080"/>
                <a:tab algn="l" pos="9545760"/>
                <a:tab algn="l" pos="10909440"/>
              </a:tabLst>
            </a:pPr>
            <a:endParaRPr b="1" lang="en-US" sz="3600" spc="-1" strike="noStrike">
              <a:solidFill>
                <a:srgbClr val="ffff00"/>
              </a:solidFill>
              <a:latin typeface="楷体_GB2312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55880" y="4145040"/>
            <a:ext cx="487980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16040" y="2286000"/>
            <a:ext cx="5219640" cy="11556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r">
              <a:buNone/>
              <a:tabLst>
                <a:tab algn="l" pos="0"/>
                <a:tab algn="l" pos="1363680"/>
                <a:tab algn="l" pos="2727360"/>
                <a:tab algn="l" pos="4091040"/>
                <a:tab algn="l" pos="5454720"/>
                <a:tab algn="l" pos="6818400"/>
                <a:tab algn="l" pos="8182080"/>
                <a:tab algn="l" pos="9545760"/>
                <a:tab algn="l" pos="10909440"/>
              </a:tabLst>
            </a:pPr>
            <a:endParaRPr b="1" lang="en-US" sz="3600" spc="-1" strike="noStrike">
              <a:solidFill>
                <a:srgbClr val="ffff00"/>
              </a:solidFill>
              <a:latin typeface="楷体_GB2312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55880" y="4145040"/>
            <a:ext cx="23810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7156440" y="4145040"/>
            <a:ext cx="23810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16040" y="2286000"/>
            <a:ext cx="5219640" cy="11556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r">
              <a:buNone/>
              <a:tabLst>
                <a:tab algn="l" pos="0"/>
                <a:tab algn="l" pos="1363680"/>
                <a:tab algn="l" pos="2727360"/>
                <a:tab algn="l" pos="4091040"/>
                <a:tab algn="l" pos="5454720"/>
                <a:tab algn="l" pos="6818400"/>
                <a:tab algn="l" pos="8182080"/>
                <a:tab algn="l" pos="9545760"/>
                <a:tab algn="l" pos="10909440"/>
              </a:tabLst>
            </a:pPr>
            <a:endParaRPr b="1" lang="en-US" sz="3600" spc="-1" strike="noStrike">
              <a:solidFill>
                <a:srgbClr val="ffff00"/>
              </a:solidFill>
              <a:latin typeface="楷体_GB2312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316040" y="2286000"/>
            <a:ext cx="5219640" cy="535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914400" indent="-914400" algn="r"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16040" y="2286000"/>
            <a:ext cx="5219640" cy="11556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r">
              <a:buNone/>
              <a:tabLst>
                <a:tab algn="l" pos="0"/>
                <a:tab algn="l" pos="1363680"/>
                <a:tab algn="l" pos="2727360"/>
                <a:tab algn="l" pos="4091040"/>
                <a:tab algn="l" pos="5454720"/>
                <a:tab algn="l" pos="6818400"/>
                <a:tab algn="l" pos="8182080"/>
                <a:tab algn="l" pos="9545760"/>
                <a:tab algn="l" pos="10909440"/>
              </a:tabLst>
            </a:pPr>
            <a:endParaRPr b="1" lang="en-US" sz="3600" spc="-1" strike="noStrike">
              <a:solidFill>
                <a:srgbClr val="ffff00"/>
              </a:solidFill>
              <a:latin typeface="楷体_GB2312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55880" y="4145040"/>
            <a:ext cx="2381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83196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156440" y="4145040"/>
            <a:ext cx="23810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55880" y="5105160"/>
            <a:ext cx="2381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83196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16040" y="2286000"/>
            <a:ext cx="5219640" cy="11556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r">
              <a:buNone/>
              <a:tabLst>
                <a:tab algn="l" pos="0"/>
                <a:tab algn="l" pos="1363680"/>
                <a:tab algn="l" pos="2727360"/>
                <a:tab algn="l" pos="4091040"/>
                <a:tab algn="l" pos="5454720"/>
                <a:tab algn="l" pos="6818400"/>
                <a:tab algn="l" pos="8182080"/>
                <a:tab algn="l" pos="9545760"/>
                <a:tab algn="l" pos="10909440"/>
              </a:tabLst>
            </a:pPr>
            <a:endParaRPr b="1" lang="en-US" sz="3600" spc="-1" strike="noStrike">
              <a:solidFill>
                <a:srgbClr val="ffff00"/>
              </a:solidFill>
              <a:latin typeface="楷体_GB2312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55880" y="4145040"/>
            <a:ext cx="2381040" cy="183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156440" y="4145040"/>
            <a:ext cx="2381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83196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156440" y="5105160"/>
            <a:ext cx="2381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83196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16040" y="2286000"/>
            <a:ext cx="5219640" cy="11556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r">
              <a:buNone/>
              <a:tabLst>
                <a:tab algn="l" pos="0"/>
                <a:tab algn="l" pos="1363680"/>
                <a:tab algn="l" pos="2727360"/>
                <a:tab algn="l" pos="4091040"/>
                <a:tab algn="l" pos="5454720"/>
                <a:tab algn="l" pos="6818400"/>
                <a:tab algn="l" pos="8182080"/>
                <a:tab algn="l" pos="9545760"/>
                <a:tab algn="l" pos="10909440"/>
              </a:tabLst>
            </a:pPr>
            <a:endParaRPr b="1" lang="en-US" sz="3600" spc="-1" strike="noStrike">
              <a:solidFill>
                <a:srgbClr val="ffff00"/>
              </a:solidFill>
              <a:latin typeface="楷体_GB2312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55880" y="4145040"/>
            <a:ext cx="2381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83196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156440" y="4145040"/>
            <a:ext cx="238104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83196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5880" y="5105160"/>
            <a:ext cx="4879800" cy="8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r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43480"/>
            <a:ext cx="9906120" cy="613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SzPct val="63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63680"/>
                <a:tab algn="l" pos="2727360"/>
                <a:tab algn="l" pos="4091040"/>
                <a:tab algn="l" pos="5454720"/>
                <a:tab algn="l" pos="6818400"/>
                <a:tab algn="l" pos="8182080"/>
                <a:tab algn="l" pos="9545760"/>
                <a:tab algn="l" pos="1090944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_GB2312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楷体_GB2312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7000" indent="-297000">
              <a:spcBef>
                <a:spcPts val="876"/>
              </a:spcBef>
              <a:buClr>
                <a:srgbClr val="ff0000"/>
              </a:buClr>
              <a:buSzPct val="63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  <a:p>
            <a:pPr lvl="1" marL="625320" indent="-214200">
              <a:buClr>
                <a:srgbClr val="ffffff"/>
              </a:buClr>
              <a:buSzPct val="116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  <a:p>
            <a:pPr lvl="2" marL="974880" indent="-235080"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楷体_GB2312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 lvl="3" marL="1311120" indent="-222120"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楷体_GB2312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 lvl="4" marL="1660680" indent="-228600">
              <a:buClr>
                <a:srgbClr val="ffffff"/>
              </a:buClr>
              <a:buFont typeface="Wingdings" charset="2"/>
              <a:buChar char="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楷体_GB2312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 lvl="5" marL="166068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楷体_GB2312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 lvl="6" marL="166068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楷体_GB2312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6243480"/>
            <a:ext cx="9906120" cy="613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316040" y="2286000"/>
            <a:ext cx="5219640" cy="115560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r">
              <a:buNone/>
              <a:tabLst>
                <a:tab algn="l" pos="0"/>
                <a:tab algn="l" pos="1363680"/>
                <a:tab algn="l" pos="2727360"/>
                <a:tab algn="l" pos="4091040"/>
                <a:tab algn="l" pos="5454720"/>
                <a:tab algn="l" pos="6818400"/>
                <a:tab algn="l" pos="8182080"/>
                <a:tab algn="l" pos="9545760"/>
                <a:tab algn="l" pos="1090944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_GB2312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楷体_GB2312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914400" indent="0" algn="r"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  <a:p>
            <a:pPr lvl="1" marL="4111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  <a:p>
            <a:pPr lvl="2" marL="739800" algn="ctr">
              <a:buClr>
                <a:srgbClr val="ffff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楷体_GB2312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 lvl="3" marL="1089000" algn="ctr">
              <a:buClr>
                <a:srgbClr val="ffffff"/>
              </a:buClr>
              <a:buFont typeface="Wingding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楷体_GB2312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 lvl="4" marL="1432080" algn="ctr">
              <a:buClr>
                <a:srgbClr val="ffffff"/>
              </a:buClr>
              <a:buFont typeface="Wingdings" charset="2"/>
              <a:buChar char="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楷体_GB2312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 lvl="5" marL="1432080">
              <a:spcBef>
                <a:spcPts val="601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楷体_GB2312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楷体_GB2312"/>
            </a:endParaRPr>
          </a:p>
          <a:p>
            <a:pPr lvl="6" marL="1432080">
              <a:spcBef>
                <a:spcPts val="601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楷体_GB2312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97280" y="6400800"/>
            <a:ext cx="313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5240" y="981000"/>
            <a:ext cx="7848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57240" y="1496880"/>
            <a:ext cx="7056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×××</a:t>
            </a:r>
            <a:r>
              <a:rPr b="0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餐饮管理系统介绍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52600" y="4370400"/>
            <a:ext cx="6129360" cy="11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××××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限公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间：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××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29640" y="2854440"/>
            <a:ext cx="3794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fade thruBlk="true"/>
      </p:transition>
    </mc:Choice>
    <mc:Fallback>
      <p:transition spd="slow">
        <p:fade thruBlk="true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363680"/>
                <a:tab algn="l" pos="2727360"/>
                <a:tab algn="l" pos="4091040"/>
                <a:tab algn="l" pos="5454720"/>
                <a:tab algn="l" pos="6818400"/>
                <a:tab algn="l" pos="8182080"/>
                <a:tab algn="l" pos="9545760"/>
                <a:tab algn="l" pos="1090944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_GB2312"/>
              </a:rPr>
              <a:t>×××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</a:rPr>
              <a:t>餐饮管理系统包含模块</a:t>
            </a:r>
            <a:endParaRPr b="1" lang="en-US" sz="3600" spc="-1" strike="noStrike">
              <a:solidFill>
                <a:srgbClr val="ffff00"/>
              </a:solidFill>
              <a:latin typeface="楷体_GB2312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44880" y="2276280"/>
            <a:ext cx="2160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876"/>
              </a:spcBef>
              <a:buClr>
                <a:srgbClr val="ff0000"/>
              </a:buClr>
              <a:buSzPct val="63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模块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  <a:p>
            <a:pPr marL="533520" indent="-533520">
              <a:spcBef>
                <a:spcPts val="876"/>
              </a:spcBef>
              <a:buClr>
                <a:srgbClr val="ff0000"/>
              </a:buClr>
              <a:buSzPct val="63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模块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  <a:p>
            <a:pPr marL="533520" indent="-533520">
              <a:spcBef>
                <a:spcPts val="876"/>
              </a:spcBef>
              <a:buClr>
                <a:srgbClr val="ff0000"/>
              </a:buClr>
              <a:buSzPct val="63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模块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  <a:p>
            <a:pPr marL="533520" indent="-533520">
              <a:spcBef>
                <a:spcPts val="876"/>
              </a:spcBef>
              <a:buClr>
                <a:srgbClr val="ff0000"/>
              </a:buClr>
              <a:buSzPct val="63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模块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4</a:t>
            </a: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  <a:p>
            <a:pPr marL="533520" indent="-533520">
              <a:spcBef>
                <a:spcPts val="876"/>
              </a:spcBef>
              <a:buClr>
                <a:srgbClr val="ff0000"/>
              </a:buClr>
              <a:buSzPct val="63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模块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  <a:p>
            <a:pPr marL="533520" indent="-533520">
              <a:spcBef>
                <a:spcPts val="876"/>
              </a:spcBef>
              <a:buClr>
                <a:srgbClr val="ff0000"/>
              </a:buClr>
              <a:buSzPct val="63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……</a:t>
            </a: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363680"/>
                <a:tab algn="l" pos="2727360"/>
                <a:tab algn="l" pos="4091040"/>
                <a:tab algn="l" pos="5454720"/>
                <a:tab algn="l" pos="6818400"/>
                <a:tab algn="l" pos="8182080"/>
                <a:tab algn="l" pos="9545760"/>
                <a:tab algn="l" pos="1090944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_GB2312"/>
              </a:rPr>
              <a:t>×××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</a:rPr>
              <a:t>餐饮管理系统信息化图</a:t>
            </a:r>
            <a:endParaRPr b="1" lang="en-US" sz="3600" spc="-1" strike="noStrike">
              <a:solidFill>
                <a:srgbClr val="ffff00"/>
              </a:solidFill>
              <a:latin typeface="楷体_GB2312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7000" indent="-297000">
              <a:spcBef>
                <a:spcPts val="876"/>
              </a:spcBef>
              <a:buClr>
                <a:srgbClr val="ff0000"/>
              </a:buClr>
              <a:buSzPct val="63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8916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363680"/>
                <a:tab algn="l" pos="2727360"/>
                <a:tab algn="l" pos="4091040"/>
                <a:tab algn="l" pos="5454720"/>
                <a:tab algn="l" pos="6818400"/>
                <a:tab algn="l" pos="8182080"/>
                <a:tab algn="l" pos="9545760"/>
                <a:tab algn="l" pos="1090944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</a:rPr>
              <a:t>使用规范说明</a:t>
            </a:r>
            <a:endParaRPr b="1" lang="en-US" sz="3600" spc="-1" strike="noStrike">
              <a:solidFill>
                <a:srgbClr val="ffff00"/>
              </a:solidFill>
              <a:latin typeface="楷体_GB2312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7360" y="1269720"/>
            <a:ext cx="9671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楷体_GB2312"/>
              </a:rPr>
              <a:t>站点介绍：</a:t>
            </a:r>
            <a:endParaRPr b="1" lang="en-US" sz="1500" spc="-1" strike="noStrike">
              <a:solidFill>
                <a:srgbClr val="ffffff"/>
              </a:solidFill>
              <a:latin typeface="楷体_GB2312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楷体_GB2312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楷体_GB2312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楷体_GB2312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楷体_GB2312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楷体_GB2312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楷体_GB2312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楷体_GB2312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楷体_GB2312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楷体_GB2312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楷体_GB2312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楷体_GB2312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楷体_GB2312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楷体_GB2312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楷体_GB2312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楷体_GB2312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楷体_GB2312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楷体_GB2312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楷体_GB2312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楷体_GB2312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楷体_GB2312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楷体_GB2312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楷体_GB2312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楷体_GB2312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楷体_GB2312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ae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ae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楷体_GB2312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楷体_GB2312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楷体_GB2312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楷体_GB2312"/>
              </a:rPr>
              <a:t>特别说明：</a:t>
            </a:r>
            <a:endParaRPr b="1" lang="en-US" sz="1500" spc="-1" strike="noStrike">
              <a:solidFill>
                <a:srgbClr val="ffffff"/>
              </a:solidFill>
              <a:latin typeface="楷体_GB2312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楷体_GB2312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楷体_GB2312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楷体_GB2312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楷体_GB2312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楷体_GB2312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楷体_GB2312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楷体_GB2312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楷体_GB2312"/>
            </a:endParaRPr>
          </a:p>
          <a:p>
            <a:pPr indent="0">
              <a:lnSpc>
                <a:spcPct val="80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楷体_GB2312"/>
              </a:rPr>
              <a:t>栏目推荐：</a:t>
            </a:r>
            <a:endParaRPr b="1" lang="en-US" sz="1500" spc="-1" strike="noStrike">
              <a:solidFill>
                <a:srgbClr val="ffffff"/>
              </a:solidFill>
              <a:latin typeface="楷体_GB2312"/>
            </a:endParaRPr>
          </a:p>
          <a:p>
            <a:pPr indent="0">
              <a:lnSpc>
                <a:spcPct val="80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楷体_GB2312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ae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00ae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ffffff"/>
              </a:solidFill>
              <a:latin typeface="楷体_GB2312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ae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00ae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ffffff"/>
              </a:solidFill>
              <a:latin typeface="楷体_GB2312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ae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00ae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ffffff"/>
              </a:solidFill>
              <a:latin typeface="楷体_GB2312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ae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00ae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ffffff"/>
              </a:solidFill>
              <a:latin typeface="楷体_GB2312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ae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00ae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ffffff"/>
              </a:solidFill>
              <a:latin typeface="楷体_GB2312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ae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00ae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ffffff"/>
              </a:solidFill>
              <a:latin typeface="楷体_GB2312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ae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00ae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ffffff"/>
              </a:solidFill>
              <a:latin typeface="楷体_GB2312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ae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00ae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ffffff"/>
              </a:solidFill>
              <a:latin typeface="楷体_GB2312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ae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00ae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ffffff"/>
              </a:solidFill>
              <a:latin typeface="楷体_GB2312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ae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00ae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ffffff"/>
              </a:solidFill>
              <a:latin typeface="楷体_GB2312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00ae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00ae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ffffff"/>
              </a:solidFill>
              <a:latin typeface="楷体_GB2312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ff"/>
              </a:solidFill>
              <a:latin typeface="楷体_GB2312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ff"/>
              </a:solidFill>
              <a:latin typeface="楷体_GB2312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楷体_GB2312"/>
            </a:endParaRPr>
          </a:p>
          <a:p>
            <a:pPr indent="0">
              <a:lnSpc>
                <a:spcPct val="8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楷体_GB2312"/>
            </a:endParaRPr>
          </a:p>
          <a:p>
            <a:pPr indent="0">
              <a:lnSpc>
                <a:spcPct val="8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楷体_GB2312"/>
            </a:endParaRPr>
          </a:p>
          <a:p>
            <a:pPr indent="0">
              <a:lnSpc>
                <a:spcPct val="8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楷体_GB2312"/>
            </a:endParaRPr>
          </a:p>
          <a:p>
            <a:pPr indent="0">
              <a:lnSpc>
                <a:spcPct val="8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楷体_GB2312"/>
            </a:endParaRPr>
          </a:p>
          <a:p>
            <a:pPr indent="0">
              <a:lnSpc>
                <a:spcPct val="8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894800" y="333360"/>
            <a:ext cx="150480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363680"/>
                <a:tab algn="l" pos="2727360"/>
                <a:tab algn="l" pos="4091040"/>
                <a:tab algn="l" pos="5454720"/>
                <a:tab algn="l" pos="6818400"/>
                <a:tab algn="l" pos="8182080"/>
                <a:tab algn="l" pos="9545760"/>
                <a:tab algn="l" pos="1090944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_GB2312"/>
              </a:rPr>
              <a:t>×××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</a:rPr>
              <a:t>餐饮管理系统界面介绍</a:t>
            </a:r>
            <a:endParaRPr b="1" lang="en-US" sz="3600" spc="-1" strike="noStrike">
              <a:solidFill>
                <a:srgbClr val="ffff00"/>
              </a:solidFill>
              <a:latin typeface="楷体_GB2312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7000" indent="-297000">
              <a:spcBef>
                <a:spcPts val="876"/>
              </a:spcBef>
              <a:buClr>
                <a:srgbClr val="ff0000"/>
              </a:buClr>
              <a:buSzPct val="63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ae00"/>
                </a:solidFill>
                <a:uFillTx/>
                <a:latin typeface="Times New Roman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363680"/>
                <a:tab algn="l" pos="2727360"/>
                <a:tab algn="l" pos="4091040"/>
                <a:tab algn="l" pos="5454720"/>
                <a:tab algn="l" pos="6818400"/>
                <a:tab algn="l" pos="8182080"/>
                <a:tab algn="l" pos="9545760"/>
                <a:tab algn="l" pos="1090944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_GB2312"/>
              </a:rPr>
              <a:t>×××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</a:rPr>
              <a:t>餐饮管理系统亮点</a:t>
            </a:r>
            <a:endParaRPr b="1" lang="en-US" sz="3600" spc="-1" strike="noStrike">
              <a:solidFill>
                <a:srgbClr val="ffff00"/>
              </a:solidFill>
              <a:latin typeface="楷体_GB2312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000" y="981000"/>
            <a:ext cx="89154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7000" indent="-297000">
              <a:spcBef>
                <a:spcPts val="876"/>
              </a:spcBef>
              <a:buClr>
                <a:srgbClr val="ff0000"/>
              </a:buClr>
              <a:buSzPct val="63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亮点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  <a:p>
            <a:pPr marL="297000" indent="-297000">
              <a:spcBef>
                <a:spcPts val="876"/>
              </a:spcBef>
              <a:buClr>
                <a:srgbClr val="ff0000"/>
              </a:buClr>
              <a:buSzPct val="63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亮点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  <a:p>
            <a:pPr marL="297000" indent="-297000">
              <a:spcBef>
                <a:spcPts val="876"/>
              </a:spcBef>
              <a:buClr>
                <a:srgbClr val="ff0000"/>
              </a:buClr>
              <a:buSzPct val="63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亮点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  <a:p>
            <a:pPr marL="297000" indent="-297000">
              <a:spcBef>
                <a:spcPts val="876"/>
              </a:spcBef>
              <a:buClr>
                <a:srgbClr val="ff0000"/>
              </a:buClr>
              <a:buSzPct val="63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……</a:t>
            </a:r>
            <a:endParaRPr b="1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1800" y="2285640"/>
            <a:ext cx="5219640" cy="97164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buNone/>
              <a:tabLst>
                <a:tab algn="l" pos="0"/>
                <a:tab algn="l" pos="1363680"/>
                <a:tab algn="l" pos="2727360"/>
                <a:tab algn="l" pos="4091040"/>
                <a:tab algn="l" pos="5454720"/>
                <a:tab algn="l" pos="6818400"/>
                <a:tab algn="l" pos="8182080"/>
                <a:tab algn="l" pos="9545760"/>
                <a:tab algn="l" pos="10909440"/>
              </a:tabLst>
            </a:pPr>
            <a:r>
              <a:rPr b="1" lang="en-US" sz="6000" spc="-1" strike="noStrike">
                <a:solidFill>
                  <a:srgbClr val="c1ceff"/>
                </a:solidFill>
                <a:latin typeface="楷体_GB2312"/>
              </a:rPr>
              <a:t>Q &amp; A</a:t>
            </a:r>
            <a:endParaRPr b="1" lang="en-US" sz="6000" spc="-1" strike="noStrike">
              <a:solidFill>
                <a:srgbClr val="ffff00"/>
              </a:solidFill>
              <a:latin typeface="楷体_GB2312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4:27:1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24:4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