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DDD-ADF8-4AD9-A4A7-6FFA0EAC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782-DEF7-4946-8DE3-EBAE225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805-B035-45F8-B026-D0933933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57-E0F0-438E-93B3-CF9B39CF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0B3-06F9-431E-B987-DA3E2FA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170-C290-4A95-808C-36A0A41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6FC-7AFE-480A-A0F5-F19ABEA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C9E-D1B0-42DD-BAB9-FC352C1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6E-B0DA-4D81-9CB3-F17A68A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F56-CB94-4BF5-98D6-F182814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A0A-D3A0-45B8-944A-45BA1CB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91C-2860-4B51-B84F-8D3CFFA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735-6297-4A2F-8255-9AE935D0EAB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66680" y="25909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</a:t>
            </a:r>
            <a:r>
              <a:rPr b="1" lang="zh-CN" sz="8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788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32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5040" y="1989000"/>
            <a:ext cx="22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称赞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4419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刺  猬  板  凳  糙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但  傍  椅  瞧  留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600200" y="1873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ì     wèi    bǎn  dèng   cāo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600200" y="39625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àn   bàng    yǐ    qiáo    li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8720" y="566100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302200" y="2043000"/>
            <a:ext cx="45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刺  猬  板  凳  糙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但  傍  椅  瞧  留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6" name="Picture 5" descr="F:\haha\返回\back.gif"/>
          <p:cNvPicPr/>
          <p:nvPr/>
        </p:nvPicPr>
        <p:blipFill>
          <a:blip r:embed="rId1"/>
          <a:stretch/>
        </p:blipFill>
        <p:spPr>
          <a:xfrm>
            <a:off x="6934320" y="5211720"/>
            <a:ext cx="1676160" cy="134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刺猬走到小獾身边，拿起板凳仔细地看了看。他对小獾说：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你真能干，小板凳做的一个比一个好！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刺猬走到小獾身边，拿起板凳仔细地看了看。他对小獾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c7d5a"/>
                </a:solidFill>
                <a:latin typeface="楷体_GB2312"/>
                <a:ea typeface="楷体_GB2312"/>
              </a:rPr>
              <a:t>你真能干，小板凳做得一个比一个好！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C76-4318-4990-8093-9B3DAAFB9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143000" y="16765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小獾拉着小刺猬的手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c7d5a"/>
                </a:solidFill>
                <a:latin typeface="楷体_GB2312"/>
                <a:ea typeface="楷体_GB2312"/>
              </a:rPr>
              <a:t>在我有点儿泄气的时候，是你称赞了我，让我有了自信。瞧，我已经学会做椅子了。这是我的一点儿心意，收下吧。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90720" y="1447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小獾接过苹果闻了闻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你的苹果香极了，我从来没有见过这么好的苹果。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143000" y="350532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小刺猬也高兴极了，说：</a:t>
            </a:r>
            <a:r>
              <a:rPr b="1" lang="zh-CN" sz="4000" spc="-1" strike="noStrike">
                <a:solidFill>
                  <a:srgbClr val="fc7d5a"/>
                </a:solidFill>
                <a:latin typeface="Times New Roman"/>
                <a:ea typeface="楷体_GB2312"/>
              </a:rPr>
              <a:t>“谢谢你，你的称赞消除了我一天的疲劳！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8:05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1:1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