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F7F-082B-4401-9300-57A62C4B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B0D-76F7-4FE2-9D5A-0C9F279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E9D-B2DE-4E2B-BD7C-6BCE4D35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46B-A28C-4D57-95BE-89116C54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243C-64B8-4FEC-A855-44045D6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9F94-1860-4EE1-86C8-099873E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B6C-F823-4024-BD79-6CDE12D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369-FB5E-4CC6-8557-6E992BA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7ABA-2E20-4B72-9068-3E41FFE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C47A-99FE-4BBC-B075-7912931D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D0E1-3425-495B-9EAF-839A268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DED-E614-4B97-B1BF-8DDCB91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BAD7-BC00-40E8-B4DB-A471460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85C1-F88E-48C2-8B33-FC60978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B1DA-F96B-4E58-BED5-F272284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0EAA-17F0-4D61-A0A2-49402E09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076-244C-4F5B-B716-01995CF4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D2C-322B-44A1-B583-4859B11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970-3198-4B95-9426-20191E1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13E-E021-454C-B67D-FF73628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E93-C434-42AA-8FCC-28116D7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112-1A11-4625-AB52-326AE01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776-8DA1-40B4-95F6-8867386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E5C-66DC-48AA-8B29-C07D991E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70B-8F6D-4280-8550-49B4EFB11F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C120-565D-4A90-928F-E97BE29B32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df3"/>
            </a:gs>
            <a:gs pos="100000">
              <a:srgbClr val="adc4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1077840"/>
            <a:ext cx="3327120" cy="581400"/>
          </a:xfrm>
          <a:prstGeom prst="rect">
            <a:avLst/>
          </a:prstGeom>
          <a:solidFill>
            <a:srgbClr val="339966">
              <a:alpha val="50000"/>
            </a:srgbClr>
          </a:solidFill>
          <a:ln cap="sq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什么是电磁铁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57880" y="4495680"/>
            <a:ext cx="2286000" cy="609480"/>
            <a:chOff x="4457880" y="4495680"/>
            <a:chExt cx="2286000" cy="609480"/>
          </a:xfrm>
        </p:grpSpPr>
        <p:sp>
          <p:nvSpPr>
            <p:cNvPr id="91" name=""/>
            <p:cNvSpPr/>
            <p:nvPr/>
          </p:nvSpPr>
          <p:spPr>
            <a:xfrm>
              <a:off x="445788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736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7228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7720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084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67560" y="4495680"/>
              <a:ext cx="7632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84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0" y="4495680"/>
              <a:ext cx="0" cy="609480"/>
            </a:xfrm>
            <a:prstGeom prst="line">
              <a:avLst/>
            </a:prstGeom>
            <a:ln w="3816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076640" y="4495680"/>
            <a:ext cx="2819520" cy="685800"/>
          </a:xfrm>
          <a:prstGeom prst="rect">
            <a:avLst/>
          </a:prstGeom>
          <a:solidFill>
            <a:srgbClr val="f3f907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9036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   </a:t>
            </a:r>
            <a:r>
              <a:rPr b="1" lang="en-US" sz="48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78272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定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03848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构造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2960" y="4191120"/>
            <a:ext cx="2666880" cy="1586880"/>
            <a:chOff x="4152960" y="4191120"/>
            <a:chExt cx="2666880" cy="1586880"/>
          </a:xfrm>
        </p:grpSpPr>
        <p:sp>
          <p:nvSpPr>
            <p:cNvPr id="104" name=""/>
            <p:cNvSpPr/>
            <p:nvPr/>
          </p:nvSpPr>
          <p:spPr>
            <a:xfrm>
              <a:off x="4476960" y="4191120"/>
              <a:ext cx="30456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2440" y="4191120"/>
              <a:ext cx="30492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7360" y="4191120"/>
              <a:ext cx="30492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1360" y="4191120"/>
              <a:ext cx="30456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95920" y="4191120"/>
              <a:ext cx="30492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9920" y="4191120"/>
              <a:ext cx="30492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43560" y="4191120"/>
              <a:ext cx="304920" cy="1170000"/>
            </a:xfrm>
            <a:custGeom>
              <a:avLst/>
              <a:gdLst/>
              <a:ahLst/>
              <a:rect l="l" t="t" r="r" b="b"/>
              <a:pathLst>
                <a:path w="192" h="920">
                  <a:moveTo>
                    <a:pt x="0" y="720"/>
                  </a:moveTo>
                  <a:cubicBezTo>
                    <a:pt x="12" y="820"/>
                    <a:pt x="24" y="920"/>
                    <a:pt x="48" y="816"/>
                  </a:cubicBezTo>
                  <a:cubicBezTo>
                    <a:pt x="72" y="712"/>
                    <a:pt x="120" y="192"/>
                    <a:pt x="144" y="96"/>
                  </a:cubicBezTo>
                  <a:cubicBezTo>
                    <a:pt x="168" y="0"/>
                    <a:pt x="184" y="216"/>
                    <a:pt x="192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43880" y="5106600"/>
              <a:ext cx="75960" cy="671400"/>
            </a:xfrm>
            <a:custGeom>
              <a:avLst/>
              <a:gdLst/>
              <a:ahLst/>
              <a:rect l="l" t="t" r="r" b="b"/>
              <a:pathLst>
                <a:path w="48" h="528">
                  <a:moveTo>
                    <a:pt x="0" y="0"/>
                  </a:moveTo>
                  <a:cubicBezTo>
                    <a:pt x="20" y="216"/>
                    <a:pt x="40" y="432"/>
                    <a:pt x="48" y="528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2960" y="4191120"/>
              <a:ext cx="304920" cy="1546560"/>
            </a:xfrm>
            <a:custGeom>
              <a:avLst/>
              <a:gdLst/>
              <a:ahLst/>
              <a:rect l="l" t="t" r="r" b="b"/>
              <a:pathLst>
                <a:path w="192" h="1216">
                  <a:moveTo>
                    <a:pt x="0" y="1216"/>
                  </a:moveTo>
                  <a:cubicBezTo>
                    <a:pt x="56" y="768"/>
                    <a:pt x="112" y="320"/>
                    <a:pt x="144" y="160"/>
                  </a:cubicBezTo>
                  <a:cubicBezTo>
                    <a:pt x="176" y="0"/>
                    <a:pt x="184" y="128"/>
                    <a:pt x="192" y="25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93640" y="2620800"/>
            <a:ext cx="27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电磁铁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有铁芯的螺线管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90480" y="3505320"/>
            <a:ext cx="1295640" cy="685800"/>
            <a:chOff x="3390480" y="3505320"/>
            <a:chExt cx="1295640" cy="685800"/>
          </a:xfrm>
        </p:grpSpPr>
        <p:sp>
          <p:nvSpPr>
            <p:cNvPr id="115" name=""/>
            <p:cNvSpPr/>
            <p:nvPr/>
          </p:nvSpPr>
          <p:spPr>
            <a:xfrm flipH="1">
              <a:off x="3390120" y="3505320"/>
              <a:ext cx="1066680" cy="685800"/>
            </a:xfrm>
            <a:prstGeom prst="wedgeRoundRectCallout">
              <a:avLst>
                <a:gd name="adj1" fmla="val -41518"/>
                <a:gd name="adj2" fmla="val 76384"/>
                <a:gd name="adj3" fmla="val 16667"/>
              </a:avLst>
            </a:prstGeom>
            <a:solidFill>
              <a:srgbClr val="ff99cc">
                <a:alpha val="50000"/>
              </a:srgbClr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90840" y="3543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线圈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800760" y="3809880"/>
            <a:ext cx="1314360" cy="647640"/>
            <a:chOff x="6800760" y="3809880"/>
            <a:chExt cx="1314360" cy="647640"/>
          </a:xfrm>
        </p:grpSpPr>
        <p:sp>
          <p:nvSpPr>
            <p:cNvPr id="118" name=""/>
            <p:cNvSpPr/>
            <p:nvPr/>
          </p:nvSpPr>
          <p:spPr>
            <a:xfrm>
              <a:off x="6800760" y="3809880"/>
              <a:ext cx="1085760" cy="647640"/>
            </a:xfrm>
            <a:prstGeom prst="wedgeRoundRectCallout">
              <a:avLst>
                <a:gd name="adj1" fmla="val -41666"/>
                <a:gd name="adj2" fmla="val 78185"/>
                <a:gd name="adj3" fmla="val 16667"/>
              </a:avLst>
            </a:prstGeom>
            <a:solidFill>
              <a:srgbClr val="ff99cc">
                <a:alpha val="50000"/>
              </a:srgbClr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19840" y="38480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铁芯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02000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53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7000" y="333360"/>
            <a:ext cx="28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00b5b"/>
                </a:solidFill>
                <a:latin typeface="Times New Roman"/>
              </a:rPr>
              <a:t>电磁铁</a:t>
            </a:r>
            <a:r>
              <a:rPr b="0" lang="en-US" sz="4000" spc="-1" strike="noStrike">
                <a:solidFill>
                  <a:srgbClr val="200b5b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200b5b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6477120" cy="5299200"/>
          </a:xfrm>
          <a:prstGeom prst="rect">
            <a:avLst/>
          </a:prstGeom>
          <a:ln w="0">
            <a:noFill/>
          </a:ln>
        </p:spPr>
      </p:pic>
      <p:sp>
        <p:nvSpPr>
          <p:cNvPr id="479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10800"/>
                </a:moveTo>
                <a:lnTo>
                  <a:pt x="19645" y="3756"/>
                </a:lnTo>
                <a:lnTo>
                  <a:pt x="19645" y="17844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6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081-8596-4E7D-B3AA-FC12DB8477B5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b95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-8640" y="333360"/>
            <a:ext cx="9151920" cy="5325480"/>
            <a:chOff x="-8640" y="333360"/>
            <a:chExt cx="9151920" cy="5325480"/>
          </a:xfrm>
        </p:grpSpPr>
        <p:grpSp>
          <p:nvGrpSpPr>
            <p:cNvPr id="486" name=""/>
            <p:cNvGrpSpPr/>
            <p:nvPr/>
          </p:nvGrpSpPr>
          <p:grpSpPr>
            <a:xfrm>
              <a:off x="-8640" y="2046240"/>
              <a:ext cx="3584160" cy="3384000"/>
              <a:chOff x="-8640" y="2046240"/>
              <a:chExt cx="3584160" cy="3384000"/>
            </a:xfrm>
          </p:grpSpPr>
          <p:sp>
            <p:nvSpPr>
              <p:cNvPr id="487" name=""/>
              <p:cNvSpPr/>
              <p:nvPr/>
            </p:nvSpPr>
            <p:spPr>
              <a:xfrm>
                <a:off x="-8640" y="2046240"/>
                <a:ext cx="3393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  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A.  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，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960" y="4781520"/>
                <a:ext cx="3189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D.  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，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6560" y="3776760"/>
                <a:ext cx="3189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C.  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，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040" y="2902320"/>
                <a:ext cx="3552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B.  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，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S</a:t>
                </a:r>
                <a:r>
                  <a:rPr b="1" lang="en-US" sz="3200" spc="-1" strike="noStrike" baseline="-25000">
                    <a:solidFill>
                      <a:srgbClr val="00ff99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ff99"/>
                    </a:solidFill>
                    <a:latin typeface="Times New Roman"/>
                  </a:rPr>
                  <a:t>接</a:t>
                </a:r>
                <a:r>
                  <a:rPr b="1" lang="en-US" sz="3200" spc="-1" strike="noStrike">
                    <a:solidFill>
                      <a:srgbClr val="00ff99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33360"/>
              <a:ext cx="9143280" cy="5325480"/>
              <a:chOff x="0" y="333360"/>
              <a:chExt cx="9143280" cy="53254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33360"/>
                <a:ext cx="91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ffff"/>
                    </a:solidFill>
                    <a:latin typeface="Times New Roman"/>
                  </a:rPr>
                  <a:t>2.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如图所示，要使电磁铁磁性最强，正确的接法是  （    ）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223520" y="1855800"/>
                <a:ext cx="4873680" cy="3803040"/>
                <a:chOff x="4223520" y="1855800"/>
                <a:chExt cx="4873680" cy="38030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5964840" y="2307240"/>
                  <a:ext cx="609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4223520" y="1855800"/>
                  <a:ext cx="4873680" cy="3803040"/>
                  <a:chOff x="4223520" y="1855800"/>
                  <a:chExt cx="4873680" cy="380304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223520" y="1855800"/>
                    <a:ext cx="4873680" cy="3803040"/>
                    <a:chOff x="4223520" y="1855800"/>
                    <a:chExt cx="4873680" cy="380304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4223520" y="1855800"/>
                      <a:ext cx="4873680" cy="3803040"/>
                      <a:chOff x="4223520" y="1855800"/>
                      <a:chExt cx="4873680" cy="380304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4223520" y="1855800"/>
                        <a:ext cx="4873680" cy="3803040"/>
                        <a:chOff x="4223520" y="1855800"/>
                        <a:chExt cx="4873680" cy="380304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4789080" y="4352040"/>
                          <a:ext cx="102960" cy="113040"/>
                        </a:xfrm>
                        <a:prstGeom prst="ellipse">
                          <a:avLst/>
                        </a:prstGeom>
                        <a:solidFill>
                          <a:srgbClr val="eeb00b"/>
                        </a:solidFill>
                        <a:ln cap="sq" w="12600">
                          <a:solidFill>
                            <a:srgbClr val="eaeaea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120" bIns="33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00" name=""/>
                        <p:cNvGrpSpPr/>
                        <p:nvPr/>
                      </p:nvGrpSpPr>
                      <p:grpSpPr>
                        <a:xfrm>
                          <a:off x="4223520" y="1855800"/>
                          <a:ext cx="4873680" cy="3803040"/>
                          <a:chOff x="4223520" y="1855800"/>
                          <a:chExt cx="4873680" cy="3803040"/>
                        </a:xfrm>
                      </p:grpSpPr>
                      <p:sp>
                        <p:nvSpPr>
                          <p:cNvPr id="501" name=""/>
                          <p:cNvSpPr/>
                          <p:nvPr/>
                        </p:nvSpPr>
                        <p:spPr>
                          <a:xfrm flipH="1">
                            <a:off x="4811040" y="5088960"/>
                            <a:ext cx="522000" cy="0"/>
                          </a:xfrm>
                          <a:prstGeom prst="line">
                            <a:avLst/>
                          </a:prstGeom>
                          <a:ln cap="sq" w="28440">
                            <a:solidFill>
                              <a:srgbClr val="00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02" name=""/>
                          <p:cNvGrpSpPr/>
                          <p:nvPr/>
                        </p:nvGrpSpPr>
                        <p:grpSpPr>
                          <a:xfrm>
                            <a:off x="4223520" y="1855800"/>
                            <a:ext cx="4873680" cy="3803040"/>
                            <a:chOff x="4223520" y="1855800"/>
                            <a:chExt cx="4873680" cy="3803040"/>
                          </a:xfrm>
                        </p:grpSpPr>
                        <p:grpSp>
                          <p:nvGrpSpPr>
                            <p:cNvPr id="503" name=""/>
                            <p:cNvGrpSpPr/>
                            <p:nvPr/>
                          </p:nvGrpSpPr>
                          <p:grpSpPr>
                            <a:xfrm>
                              <a:off x="7095960" y="1855800"/>
                              <a:ext cx="2001240" cy="3803040"/>
                              <a:chOff x="7095960" y="1855800"/>
                              <a:chExt cx="2001240" cy="3803040"/>
                            </a:xfrm>
                          </p:grpSpPr>
                          <p:sp>
                            <p:nvSpPr>
                              <p:cNvPr id="504" name=""/>
                              <p:cNvSpPr/>
                              <p:nvPr/>
                            </p:nvSpPr>
                            <p:spPr>
                              <a:xfrm rot="5400000">
                                <a:off x="6412680" y="3409200"/>
                                <a:ext cx="3803040" cy="6962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eeb00b"/>
                              </a:solidFill>
                              <a:ln w="28440">
                                <a:solidFill>
                                  <a:srgbClr val="00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5" name=""/>
                              <p:cNvSpPr/>
                              <p:nvPr/>
                            </p:nvSpPr>
                            <p:spPr>
                              <a:xfrm rot="5400000">
                                <a:off x="8171280" y="2044080"/>
                                <a:ext cx="285120" cy="1334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6" name=""/>
                              <p:cNvSpPr/>
                              <p:nvPr/>
                            </p:nvSpPr>
                            <p:spPr>
                              <a:xfrm rot="5400000">
                                <a:off x="8200440" y="237672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 rot="5400000">
                                <a:off x="8200440" y="273348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 rot="5400000">
                                <a:off x="8200440" y="413568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 rot="5400000">
                                <a:off x="8200440" y="380304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0" name=""/>
                              <p:cNvSpPr/>
                              <p:nvPr/>
                            </p:nvSpPr>
                            <p:spPr>
                              <a:xfrm rot="5400000">
                                <a:off x="8040960" y="4047840"/>
                                <a:ext cx="110880" cy="2001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6" h="1104">
                                    <a:moveTo>
                                      <a:pt x="0" y="240"/>
                                    </a:moveTo>
                                    <a:cubicBezTo>
                                      <a:pt x="20" y="120"/>
                                      <a:pt x="40" y="0"/>
                                      <a:pt x="48" y="144"/>
                                    </a:cubicBezTo>
                                    <a:cubicBezTo>
                                      <a:pt x="56" y="288"/>
                                      <a:pt x="52" y="696"/>
                                      <a:pt x="48" y="1104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1" name=""/>
                              <p:cNvSpPr/>
                              <p:nvPr/>
                            </p:nvSpPr>
                            <p:spPr>
                              <a:xfrm rot="5400000">
                                <a:off x="7573320" y="2130480"/>
                                <a:ext cx="1440" cy="783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432">
                                    <a:moveTo>
                                      <a:pt x="0" y="0"/>
                                    </a:moveTo>
                                    <a:cubicBezTo>
                                      <a:pt x="0" y="180"/>
                                      <a:pt x="0" y="360"/>
                                      <a:pt x="0" y="432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2" name=""/>
                              <p:cNvSpPr/>
                              <p:nvPr/>
                            </p:nvSpPr>
                            <p:spPr>
                              <a:xfrm rot="5400000">
                                <a:off x="8200440" y="344664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3" name=""/>
                              <p:cNvSpPr/>
                              <p:nvPr/>
                            </p:nvSpPr>
                            <p:spPr>
                              <a:xfrm rot="5400000">
                                <a:off x="8200440" y="3090240"/>
                                <a:ext cx="285120" cy="1334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4" h="736">
                                    <a:moveTo>
                                      <a:pt x="0" y="176"/>
                                    </a:moveTo>
                                    <a:cubicBezTo>
                                      <a:pt x="16" y="88"/>
                                      <a:pt x="32" y="0"/>
                                      <a:pt x="48" y="80"/>
                                    </a:cubicBezTo>
                                    <a:cubicBezTo>
                                      <a:pt x="64" y="160"/>
                                      <a:pt x="80" y="576"/>
                                      <a:pt x="96" y="656"/>
                                    </a:cubicBezTo>
                                    <a:cubicBezTo>
                                      <a:pt x="112" y="736"/>
                                      <a:pt x="128" y="648"/>
                                      <a:pt x="144" y="560"/>
                                    </a:cubicBezTo>
                                  </a:path>
                                </a:pathLst>
                              </a:custGeom>
                              <a:noFill/>
                              <a:ln w="28440">
                                <a:solidFill>
                                  <a:srgbClr val="00ff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14" name=""/>
                            <p:cNvSpPr/>
                            <p:nvPr/>
                          </p:nvSpPr>
                          <p:spPr>
                            <a:xfrm flipH="1">
                              <a:off x="7182360" y="3471840"/>
                              <a:ext cx="60876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5" name=""/>
                            <p:cNvSpPr/>
                            <p:nvPr/>
                          </p:nvSpPr>
                          <p:spPr>
                            <a:xfrm>
                              <a:off x="6573240" y="2996640"/>
                              <a:ext cx="78300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6" name=""/>
                            <p:cNvSpPr/>
                            <p:nvPr/>
                          </p:nvSpPr>
                          <p:spPr>
                            <a:xfrm>
                              <a:off x="5877360" y="2877480"/>
                              <a:ext cx="695880" cy="285120"/>
                            </a:xfrm>
                            <a:prstGeom prst="rect">
                              <a:avLst/>
                            </a:prstGeom>
                            <a:solidFill>
                              <a:srgbClr val="eeb00b"/>
                            </a:solidFill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7" name=""/>
                            <p:cNvSpPr/>
                            <p:nvPr/>
                          </p:nvSpPr>
                          <p:spPr>
                            <a:xfrm>
                              <a:off x="4658400" y="2877480"/>
                              <a:ext cx="696240" cy="285120"/>
                            </a:xfrm>
                            <a:prstGeom prst="rect">
                              <a:avLst/>
                            </a:prstGeom>
                            <a:solidFill>
                              <a:srgbClr val="eeb00b"/>
                            </a:solidFill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 flipH="1">
                              <a:off x="5355000" y="3020400"/>
                              <a:ext cx="52200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4223520" y="3020400"/>
                              <a:ext cx="43488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" name=""/>
                            <p:cNvSpPr/>
                            <p:nvPr/>
                          </p:nvSpPr>
                          <p:spPr>
                            <a:xfrm>
                              <a:off x="5616000" y="3020400"/>
                              <a:ext cx="0" cy="104580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" name=""/>
                            <p:cNvSpPr/>
                            <p:nvPr/>
                          </p:nvSpPr>
                          <p:spPr>
                            <a:xfrm>
                              <a:off x="4223520" y="3020400"/>
                              <a:ext cx="0" cy="104580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" name=""/>
                            <p:cNvSpPr/>
                            <p:nvPr/>
                          </p:nvSpPr>
                          <p:spPr>
                            <a:xfrm>
                              <a:off x="4223520" y="4042440"/>
                              <a:ext cx="43488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/>
                            <p:nvPr/>
                          </p:nvSpPr>
                          <p:spPr>
                            <a:xfrm>
                              <a:off x="5006520" y="4042440"/>
                              <a:ext cx="60912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4" name=""/>
                            <p:cNvSpPr/>
                            <p:nvPr/>
                          </p:nvSpPr>
                          <p:spPr>
                            <a:xfrm flipV="1">
                              <a:off x="4832640" y="3804480"/>
                              <a:ext cx="0" cy="66564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25" name=""/>
                            <p:cNvGrpSpPr/>
                            <p:nvPr/>
                          </p:nvGrpSpPr>
                          <p:grpSpPr>
                            <a:xfrm>
                              <a:off x="5311440" y="4803480"/>
                              <a:ext cx="956880" cy="664920"/>
                              <a:chOff x="5311440" y="4803480"/>
                              <a:chExt cx="956880" cy="664920"/>
                            </a:xfrm>
                          </p:grpSpPr>
                          <p:sp>
                            <p:nvSpPr>
                              <p:cNvPr id="526" name=""/>
                              <p:cNvSpPr/>
                              <p:nvPr/>
                            </p:nvSpPr>
                            <p:spPr>
                              <a:xfrm>
                                <a:off x="5311440" y="5088240"/>
                                <a:ext cx="783000" cy="0"/>
                              </a:xfrm>
                              <a:prstGeom prst="line">
                                <a:avLst/>
                              </a:prstGeom>
                              <a:ln cap="sq" w="28440">
                                <a:solidFill>
                                  <a:srgbClr val="00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7" name=""/>
                              <p:cNvSpPr/>
                              <p:nvPr/>
                            </p:nvSpPr>
                            <p:spPr>
                              <a:xfrm>
                                <a:off x="6094440" y="4803480"/>
                                <a:ext cx="0" cy="664920"/>
                              </a:xfrm>
                              <a:prstGeom prst="line">
                                <a:avLst/>
                              </a:prstGeom>
                              <a:ln cap="sq" w="28440">
                                <a:solidFill>
                                  <a:srgbClr val="00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8" name=""/>
                              <p:cNvSpPr/>
                              <p:nvPr/>
                            </p:nvSpPr>
                            <p:spPr>
                              <a:xfrm>
                                <a:off x="6268320" y="4993200"/>
                                <a:ext cx="0" cy="284760"/>
                              </a:xfrm>
                              <a:prstGeom prst="line">
                                <a:avLst/>
                              </a:prstGeom>
                              <a:ln cap="sq" w="28440">
                                <a:solidFill>
                                  <a:srgbClr val="00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eaeaea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29" name=""/>
                            <p:cNvSpPr/>
                            <p:nvPr/>
                          </p:nvSpPr>
                          <p:spPr>
                            <a:xfrm>
                              <a:off x="6268680" y="5088600"/>
                              <a:ext cx="957600" cy="0"/>
                            </a:xfrm>
                            <a:prstGeom prst="line">
                              <a:avLst/>
                            </a:prstGeom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0" name=""/>
                            <p:cNvSpPr/>
                            <p:nvPr/>
                          </p:nvSpPr>
                          <p:spPr>
                            <a:xfrm>
                              <a:off x="6834600" y="2925360"/>
                              <a:ext cx="102960" cy="113040"/>
                            </a:xfrm>
                            <a:prstGeom prst="ellipse">
                              <a:avLst/>
                            </a:prstGeom>
                            <a:solidFill>
                              <a:srgbClr val="eeb00b"/>
                            </a:solidFill>
                            <a:ln cap="sq" w="28440">
                              <a:solidFill>
                                <a:srgbClr val="00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3120" bIns="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1" name=""/>
                          <p:cNvSpPr/>
                          <p:nvPr/>
                        </p:nvSpPr>
                        <p:spPr>
                          <a:xfrm>
                            <a:off x="4832640" y="4423320"/>
                            <a:ext cx="0" cy="665640"/>
                          </a:xfrm>
                          <a:prstGeom prst="line">
                            <a:avLst/>
                          </a:prstGeom>
                          <a:ln cap="sq" w="28440">
                            <a:solidFill>
                              <a:srgbClr val="00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4555080" y="4001760"/>
                        <a:ext cx="102960" cy="112680"/>
                      </a:xfrm>
                      <a:prstGeom prst="ellipse">
                        <a:avLst/>
                      </a:prstGeom>
                      <a:solidFill>
                        <a:srgbClr val="eeb00b"/>
                      </a:solidFill>
                      <a:ln cap="sq" w="12600">
                        <a:solidFill>
                          <a:srgbClr val="eaeae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006880" y="4002120"/>
                      <a:ext cx="102960" cy="112680"/>
                    </a:xfrm>
                    <a:prstGeom prst="ellipse">
                      <a:avLst/>
                    </a:prstGeom>
                    <a:solidFill>
                      <a:srgbClr val="eeb00b"/>
                    </a:solidFill>
                    <a:ln cap="sq" w="1260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4" name=""/>
                  <p:cNvSpPr/>
                  <p:nvPr/>
                </p:nvSpPr>
                <p:spPr>
                  <a:xfrm>
                    <a:off x="7183800" y="2473920"/>
                    <a:ext cx="102960" cy="112680"/>
                  </a:xfrm>
                  <a:prstGeom prst="ellipse">
                    <a:avLst/>
                  </a:prstGeom>
                  <a:solidFill>
                    <a:srgbClr val="eeb00b"/>
                  </a:solidFill>
                  <a:ln cap="sq"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183800" y="3425400"/>
                    <a:ext cx="102960" cy="112680"/>
                  </a:xfrm>
                  <a:prstGeom prst="ellipse">
                    <a:avLst/>
                  </a:prstGeom>
                  <a:solidFill>
                    <a:srgbClr val="eeb00b"/>
                  </a:solidFill>
                  <a:ln cap="sq"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010640" y="34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10640" y="1855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15080" y="2307240"/>
                  <a:ext cx="48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eaeaea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293720" y="4028040"/>
                  <a:ext cx="48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856760" y="34192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65720" y="34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748040" y="23072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eaeaea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3" name=""/>
          <p:cNvSpPr/>
          <p:nvPr/>
        </p:nvSpPr>
        <p:spPr>
          <a:xfrm>
            <a:off x="47052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cc"/>
            </a:gs>
            <a:gs pos="100000">
              <a:srgbClr val="f3f9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684360" y="333360"/>
            <a:ext cx="9288000" cy="6524280"/>
            <a:chOff x="684360" y="333360"/>
            <a:chExt cx="9288000" cy="6524280"/>
          </a:xfrm>
        </p:grpSpPr>
        <p:sp>
          <p:nvSpPr>
            <p:cNvPr id="545" name=""/>
            <p:cNvSpPr/>
            <p:nvPr/>
          </p:nvSpPr>
          <p:spPr>
            <a:xfrm>
              <a:off x="971280" y="333360"/>
              <a:ext cx="7851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66ff99"/>
                  </a:solidFill>
                  <a:latin typeface="Times New Roman"/>
                  <a:ea typeface="方正舒体"/>
                </a:rPr>
                <a:t>祝同学们学习进步！</a:t>
              </a:r>
              <a:endParaRPr b="0" lang="en-US" sz="9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4360" y="4254120"/>
              <a:ext cx="92880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11920" y="5852160"/>
              <a:ext cx="526644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82872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cc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9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934320" cy="6203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238880" y="6705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2920" y="129528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制作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2952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线圈匝数不同的两个电磁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7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研究电磁铁的磁性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657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猜测：电磁铁的磁性跟哪些因素有关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956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电磁铁的磁性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6483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438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3440" y="53722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线圈匝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42840" y="1905120"/>
            <a:ext cx="3047760" cy="642600"/>
            <a:chOff x="2742840" y="1905120"/>
            <a:chExt cx="3047760" cy="642600"/>
          </a:xfrm>
        </p:grpSpPr>
        <p:sp>
          <p:nvSpPr>
            <p:cNvPr id="134" name=""/>
            <p:cNvSpPr/>
            <p:nvPr/>
          </p:nvSpPr>
          <p:spPr>
            <a:xfrm>
              <a:off x="2838600" y="1905120"/>
              <a:ext cx="290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匝和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80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匝）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2840" y="1905120"/>
              <a:ext cx="3047760" cy="609120"/>
            </a:xfrm>
            <a:prstGeom prst="rect">
              <a:avLst/>
            </a:prstGeom>
            <a:noFill/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33520" y="457200"/>
            <a:ext cx="403848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制作、研究电磁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387560" y="2057400"/>
            <a:ext cx="308520" cy="1405080"/>
            <a:chOff x="7387560" y="2057400"/>
            <a:chExt cx="308520" cy="1405080"/>
          </a:xfrm>
        </p:grpSpPr>
        <p:sp>
          <p:nvSpPr>
            <p:cNvPr id="138" name=""/>
            <p:cNvSpPr/>
            <p:nvPr/>
          </p:nvSpPr>
          <p:spPr>
            <a:xfrm>
              <a:off x="7391520" y="2057400"/>
              <a:ext cx="304560" cy="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387560" y="2282400"/>
              <a:ext cx="236160" cy="4536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91520" y="2528640"/>
              <a:ext cx="228240" cy="1152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7480" y="2743200"/>
              <a:ext cx="151920" cy="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2971800"/>
              <a:ext cx="151920" cy="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3200400"/>
              <a:ext cx="151920" cy="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460640" y="3358800"/>
              <a:ext cx="203760" cy="103680"/>
            </a:xfrm>
            <a:prstGeom prst="line">
              <a:avLst/>
            </a:prstGeom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8600" y="609480"/>
            <a:ext cx="1333440" cy="581400"/>
            <a:chOff x="228600" y="609480"/>
            <a:chExt cx="1333440" cy="581400"/>
          </a:xfrm>
        </p:grpSpPr>
        <p:sp>
          <p:nvSpPr>
            <p:cNvPr id="146" name=""/>
            <p:cNvSpPr/>
            <p:nvPr/>
          </p:nvSpPr>
          <p:spPr>
            <a:xfrm>
              <a:off x="228600" y="647640"/>
              <a:ext cx="1066680" cy="533520"/>
            </a:xfrm>
            <a:prstGeom prst="rect">
              <a:avLst/>
            </a:prstGeom>
            <a:solidFill>
              <a:srgbClr val="eeb00b">
                <a:alpha val="50000"/>
              </a:srgbClr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00" y="609480"/>
              <a:ext cx="13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实验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8600" y="1467000"/>
            <a:ext cx="1562040" cy="581400"/>
            <a:chOff x="228600" y="1467000"/>
            <a:chExt cx="1562040" cy="581400"/>
          </a:xfrm>
        </p:grpSpPr>
        <p:sp>
          <p:nvSpPr>
            <p:cNvPr id="149" name=""/>
            <p:cNvSpPr/>
            <p:nvPr/>
          </p:nvSpPr>
          <p:spPr>
            <a:xfrm>
              <a:off x="228600" y="1504800"/>
              <a:ext cx="1066680" cy="533160"/>
            </a:xfrm>
            <a:prstGeom prst="rect">
              <a:avLst/>
            </a:prstGeom>
            <a:solidFill>
              <a:srgbClr val="eeb00b">
                <a:alpha val="50000"/>
              </a:srgbClr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760" y="14670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象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" y="4876920"/>
            <a:ext cx="1409760" cy="581400"/>
            <a:chOff x="228600" y="4876920"/>
            <a:chExt cx="1409760" cy="581400"/>
          </a:xfrm>
        </p:grpSpPr>
        <p:sp>
          <p:nvSpPr>
            <p:cNvPr id="152" name=""/>
            <p:cNvSpPr/>
            <p:nvPr/>
          </p:nvSpPr>
          <p:spPr>
            <a:xfrm>
              <a:off x="228600" y="4914720"/>
              <a:ext cx="1066680" cy="533160"/>
            </a:xfrm>
            <a:prstGeom prst="rect">
              <a:avLst/>
            </a:prstGeom>
            <a:solidFill>
              <a:srgbClr val="eeb00b">
                <a:alpha val="50000"/>
              </a:srgbClr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6760" y="48769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结论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447920" y="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）研究电磁铁的磁性有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0" y="1523880"/>
            <a:ext cx="1371600" cy="3200400"/>
            <a:chOff x="6858000" y="1523880"/>
            <a:chExt cx="1371600" cy="3200400"/>
          </a:xfrm>
        </p:grpSpPr>
        <p:sp>
          <p:nvSpPr>
            <p:cNvPr id="156" name=""/>
            <p:cNvSpPr/>
            <p:nvPr/>
          </p:nvSpPr>
          <p:spPr>
            <a:xfrm>
              <a:off x="6858000" y="1523880"/>
              <a:ext cx="1371600" cy="228600"/>
            </a:xfrm>
            <a:prstGeom prst="flowChartMerg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353360" y="1676160"/>
              <a:ext cx="380880" cy="3048120"/>
              <a:chOff x="7353360" y="1676160"/>
              <a:chExt cx="380880" cy="3048120"/>
            </a:xfrm>
          </p:grpSpPr>
          <p:sp>
            <p:nvSpPr>
              <p:cNvPr id="158" name=""/>
              <p:cNvSpPr/>
              <p:nvPr/>
            </p:nvSpPr>
            <p:spPr>
              <a:xfrm>
                <a:off x="7353360" y="1676160"/>
                <a:ext cx="380880" cy="1523880"/>
              </a:xfrm>
              <a:custGeom>
                <a:avLst/>
                <a:gdLst>
                  <a:gd name="textAreaLeft" fmla="*/ 83520 w 380880"/>
                  <a:gd name="textAreaRight" fmla="*/ 297360 w 380880"/>
                  <a:gd name="textAreaTop" fmla="*/ 335160 h 1523880"/>
                  <a:gd name="textAreaBottom" fmla="*/ 11887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67840" y="3200040"/>
                <a:ext cx="152280" cy="990720"/>
              </a:xfrm>
              <a:custGeom>
                <a:avLst/>
                <a:gdLst>
                  <a:gd name="textAreaLeft" fmla="*/ 33480 w 152280"/>
                  <a:gd name="textAreaRight" fmla="*/ 118800 w 152280"/>
                  <a:gd name="textAreaTop" fmla="*/ 217800 h 990720"/>
                  <a:gd name="textAreaBottom" fmla="*/ 7729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05640" y="4190760"/>
                <a:ext cx="76320" cy="533520"/>
              </a:xfrm>
              <a:prstGeom prst="flowChartMerge">
                <a:avLst/>
              </a:pr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629400" y="1886040"/>
            <a:ext cx="1359000" cy="1771560"/>
            <a:chOff x="6629400" y="1886040"/>
            <a:chExt cx="1359000" cy="1771560"/>
          </a:xfrm>
        </p:grpSpPr>
        <p:sp>
          <p:nvSpPr>
            <p:cNvPr id="162" name=""/>
            <p:cNvSpPr/>
            <p:nvPr/>
          </p:nvSpPr>
          <p:spPr>
            <a:xfrm>
              <a:off x="7175520" y="2514600"/>
              <a:ext cx="660240" cy="228600"/>
            </a:xfrm>
            <a:custGeom>
              <a:avLst/>
              <a:gdLst/>
              <a:ahLst/>
              <a:rect l="l" t="t" r="r" b="b"/>
              <a:pathLst>
                <a:path w="416" h="144">
                  <a:moveTo>
                    <a:pt x="136" y="0"/>
                  </a:moveTo>
                  <a:cubicBezTo>
                    <a:pt x="68" y="16"/>
                    <a:pt x="0" y="32"/>
                    <a:pt x="40" y="48"/>
                  </a:cubicBezTo>
                  <a:cubicBezTo>
                    <a:pt x="80" y="64"/>
                    <a:pt x="336" y="80"/>
                    <a:pt x="376" y="96"/>
                  </a:cubicBezTo>
                  <a:cubicBezTo>
                    <a:pt x="416" y="112"/>
                    <a:pt x="296" y="136"/>
                    <a:pt x="280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2057400"/>
              <a:ext cx="749160" cy="228600"/>
            </a:xfrm>
            <a:custGeom>
              <a:avLst/>
              <a:gdLst/>
              <a:ahLst/>
              <a:rect l="l" t="t" r="r" b="b"/>
              <a:pathLst>
                <a:path w="472" h="144">
                  <a:moveTo>
                    <a:pt x="144" y="0"/>
                  </a:moveTo>
                  <a:cubicBezTo>
                    <a:pt x="72" y="16"/>
                    <a:pt x="0" y="32"/>
                    <a:pt x="48" y="48"/>
                  </a:cubicBezTo>
                  <a:cubicBezTo>
                    <a:pt x="96" y="64"/>
                    <a:pt x="392" y="80"/>
                    <a:pt x="432" y="96"/>
                  </a:cubicBezTo>
                  <a:cubicBezTo>
                    <a:pt x="472" y="112"/>
                    <a:pt x="312" y="136"/>
                    <a:pt x="288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64440" y="2743200"/>
              <a:ext cx="558720" cy="228600"/>
            </a:xfrm>
            <a:custGeom>
              <a:avLst/>
              <a:gdLst/>
              <a:ahLst/>
              <a:rect l="l" t="t" r="r" b="b"/>
              <a:pathLst>
                <a:path w="352" h="144">
                  <a:moveTo>
                    <a:pt x="128" y="0"/>
                  </a:moveTo>
                  <a:cubicBezTo>
                    <a:pt x="64" y="16"/>
                    <a:pt x="0" y="32"/>
                    <a:pt x="32" y="48"/>
                  </a:cubicBezTo>
                  <a:cubicBezTo>
                    <a:pt x="64" y="64"/>
                    <a:pt x="288" y="80"/>
                    <a:pt x="320" y="96"/>
                  </a:cubicBezTo>
                  <a:cubicBezTo>
                    <a:pt x="352" y="112"/>
                    <a:pt x="240" y="136"/>
                    <a:pt x="224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4440" y="2971800"/>
              <a:ext cx="558720" cy="228600"/>
            </a:xfrm>
            <a:custGeom>
              <a:avLst/>
              <a:gdLst/>
              <a:ahLst/>
              <a:rect l="l" t="t" r="r" b="b"/>
              <a:pathLst>
                <a:path w="352" h="144">
                  <a:moveTo>
                    <a:pt x="128" y="0"/>
                  </a:moveTo>
                  <a:cubicBezTo>
                    <a:pt x="64" y="16"/>
                    <a:pt x="0" y="32"/>
                    <a:pt x="32" y="48"/>
                  </a:cubicBezTo>
                  <a:cubicBezTo>
                    <a:pt x="64" y="64"/>
                    <a:pt x="288" y="80"/>
                    <a:pt x="320" y="96"/>
                  </a:cubicBezTo>
                  <a:cubicBezTo>
                    <a:pt x="352" y="112"/>
                    <a:pt x="240" y="136"/>
                    <a:pt x="224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75520" y="2324160"/>
              <a:ext cx="660240" cy="228600"/>
            </a:xfrm>
            <a:custGeom>
              <a:avLst/>
              <a:gdLst/>
              <a:ahLst/>
              <a:rect l="l" t="t" r="r" b="b"/>
              <a:pathLst>
                <a:path w="416" h="144">
                  <a:moveTo>
                    <a:pt x="136" y="0"/>
                  </a:moveTo>
                  <a:cubicBezTo>
                    <a:pt x="68" y="16"/>
                    <a:pt x="0" y="32"/>
                    <a:pt x="40" y="48"/>
                  </a:cubicBezTo>
                  <a:cubicBezTo>
                    <a:pt x="80" y="64"/>
                    <a:pt x="336" y="80"/>
                    <a:pt x="376" y="96"/>
                  </a:cubicBezTo>
                  <a:cubicBezTo>
                    <a:pt x="416" y="112"/>
                    <a:pt x="296" y="136"/>
                    <a:pt x="280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77040" y="3200400"/>
              <a:ext cx="419040" cy="152640"/>
            </a:xfrm>
            <a:custGeom>
              <a:avLst/>
              <a:gdLst/>
              <a:ahLst/>
              <a:rect l="l" t="t" r="r" b="b"/>
              <a:pathLst>
                <a:path w="264" h="96">
                  <a:moveTo>
                    <a:pt x="120" y="0"/>
                  </a:moveTo>
                  <a:cubicBezTo>
                    <a:pt x="60" y="16"/>
                    <a:pt x="0" y="32"/>
                    <a:pt x="24" y="48"/>
                  </a:cubicBezTo>
                  <a:cubicBezTo>
                    <a:pt x="48" y="64"/>
                    <a:pt x="232" y="80"/>
                    <a:pt x="264" y="96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77040" y="3429000"/>
              <a:ext cx="419040" cy="152640"/>
            </a:xfrm>
            <a:custGeom>
              <a:avLst/>
              <a:gdLst/>
              <a:ahLst/>
              <a:rect l="l" t="t" r="r" b="b"/>
              <a:pathLst>
                <a:path w="264" h="96">
                  <a:moveTo>
                    <a:pt x="120" y="0"/>
                  </a:moveTo>
                  <a:cubicBezTo>
                    <a:pt x="60" y="16"/>
                    <a:pt x="0" y="32"/>
                    <a:pt x="24" y="48"/>
                  </a:cubicBezTo>
                  <a:cubicBezTo>
                    <a:pt x="48" y="64"/>
                    <a:pt x="232" y="80"/>
                    <a:pt x="264" y="96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629400" y="3657600"/>
              <a:ext cx="838080" cy="0"/>
            </a:xfrm>
            <a:prstGeom prst="line">
              <a:avLst/>
            </a:prstGeom>
            <a:ln cap="sq"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5200" y="1886040"/>
              <a:ext cx="673200" cy="152280"/>
            </a:xfrm>
            <a:custGeom>
              <a:avLst/>
              <a:gdLst/>
              <a:ahLst/>
              <a:rect l="l" t="t" r="r" b="b"/>
              <a:pathLst>
                <a:path w="424" h="96">
                  <a:moveTo>
                    <a:pt x="0" y="0"/>
                  </a:moveTo>
                  <a:cubicBezTo>
                    <a:pt x="172" y="16"/>
                    <a:pt x="344" y="32"/>
                    <a:pt x="384" y="48"/>
                  </a:cubicBezTo>
                  <a:cubicBezTo>
                    <a:pt x="424" y="64"/>
                    <a:pt x="264" y="88"/>
                    <a:pt x="240" y="96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04880" y="1523880"/>
            <a:ext cx="3124440" cy="2381400"/>
            <a:chOff x="4304880" y="1523880"/>
            <a:chExt cx="3124440" cy="2381400"/>
          </a:xfrm>
        </p:grpSpPr>
        <p:sp>
          <p:nvSpPr>
            <p:cNvPr id="172" name=""/>
            <p:cNvSpPr/>
            <p:nvPr/>
          </p:nvSpPr>
          <p:spPr>
            <a:xfrm>
              <a:off x="6362640" y="1523880"/>
              <a:ext cx="0" cy="3808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304880" y="1523880"/>
              <a:ext cx="3124440" cy="2381400"/>
              <a:chOff x="4304880" y="1523880"/>
              <a:chExt cx="3124440" cy="2381400"/>
            </a:xfrm>
          </p:grpSpPr>
          <p:sp>
            <p:nvSpPr>
              <p:cNvPr id="174" name=""/>
              <p:cNvSpPr/>
              <p:nvPr/>
            </p:nvSpPr>
            <p:spPr>
              <a:xfrm>
                <a:off x="4991040" y="1981080"/>
                <a:ext cx="914400" cy="304920"/>
              </a:xfrm>
              <a:prstGeom prst="rect">
                <a:avLst/>
              </a:prstGeom>
              <a:gradFill rotWithShape="0">
                <a:gsLst>
                  <a:gs pos="0">
                    <a:srgbClr val="eeb00b"/>
                  </a:gs>
                  <a:gs pos="100000">
                    <a:srgbClr val="6e5105"/>
                  </a:gs>
                </a:gsLst>
                <a:lin ang="54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304880" y="1523880"/>
                <a:ext cx="3124440" cy="2381400"/>
                <a:chOff x="4304880" y="1523880"/>
                <a:chExt cx="3124440" cy="2381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448240" y="1523880"/>
                  <a:ext cx="0" cy="45720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48240" y="1523880"/>
                  <a:ext cx="91440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305240" y="2133360"/>
                  <a:ext cx="68580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305240" y="2133360"/>
                  <a:ext cx="0" cy="152424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286320" y="3657600"/>
                  <a:ext cx="91440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86320" y="3543120"/>
                  <a:ext cx="0" cy="22860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53120" y="3448080"/>
                  <a:ext cx="0" cy="45720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5371560" y="3657600"/>
                  <a:ext cx="76212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304880" y="3657600"/>
                  <a:ext cx="68580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4991040" y="3504960"/>
                  <a:ext cx="380880" cy="15264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62640" y="1904760"/>
                  <a:ext cx="1066680" cy="0"/>
                </a:xfrm>
                <a:prstGeom prst="line">
                  <a:avLst/>
                </a:prstGeom>
                <a:ln cap="sq"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"/>
          <p:cNvGrpSpPr/>
          <p:nvPr/>
        </p:nvGrpSpPr>
        <p:grpSpPr>
          <a:xfrm>
            <a:off x="7315200" y="4648320"/>
            <a:ext cx="457200" cy="228600"/>
            <a:chOff x="7315200" y="4648320"/>
            <a:chExt cx="457200" cy="228600"/>
          </a:xfrm>
        </p:grpSpPr>
        <p:sp>
          <p:nvSpPr>
            <p:cNvPr id="188" name=""/>
            <p:cNvSpPr/>
            <p:nvPr/>
          </p:nvSpPr>
          <p:spPr>
            <a:xfrm flipV="1" rot="5400000">
              <a:off x="7238880" y="472392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5400000">
              <a:off x="7543800" y="457164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317000" y="4797000"/>
            <a:ext cx="481320" cy="306720"/>
            <a:chOff x="7317000" y="4797000"/>
            <a:chExt cx="481320" cy="306720"/>
          </a:xfrm>
        </p:grpSpPr>
        <p:sp>
          <p:nvSpPr>
            <p:cNvPr id="191" name=""/>
            <p:cNvSpPr/>
            <p:nvPr/>
          </p:nvSpPr>
          <p:spPr>
            <a:xfrm flipV="1" rot="17472000">
              <a:off x="7606800" y="494460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7472000">
              <a:off x="7470000" y="4710600"/>
              <a:ext cx="75960" cy="3805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62920" y="4648320"/>
            <a:ext cx="228600" cy="457200"/>
            <a:chOff x="7162920" y="4648320"/>
            <a:chExt cx="228600" cy="457200"/>
          </a:xfrm>
        </p:grpSpPr>
        <p:sp>
          <p:nvSpPr>
            <p:cNvPr id="194" name=""/>
            <p:cNvSpPr/>
            <p:nvPr/>
          </p:nvSpPr>
          <p:spPr>
            <a:xfrm flipV="1">
              <a:off x="7162920" y="502920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39240" y="464832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315200" y="4876920"/>
            <a:ext cx="228600" cy="457200"/>
            <a:chOff x="7315200" y="4876920"/>
            <a:chExt cx="228600" cy="457200"/>
          </a:xfrm>
        </p:grpSpPr>
        <p:sp>
          <p:nvSpPr>
            <p:cNvPr id="197" name=""/>
            <p:cNvSpPr/>
            <p:nvPr/>
          </p:nvSpPr>
          <p:spPr>
            <a:xfrm flipV="1">
              <a:off x="7315200" y="525780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91520" y="487692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553160" y="4799520"/>
            <a:ext cx="282240" cy="482040"/>
            <a:chOff x="7553160" y="4799520"/>
            <a:chExt cx="282240" cy="482040"/>
          </a:xfrm>
        </p:grpSpPr>
        <p:sp>
          <p:nvSpPr>
            <p:cNvPr id="200" name=""/>
            <p:cNvSpPr/>
            <p:nvPr/>
          </p:nvSpPr>
          <p:spPr>
            <a:xfrm flipV="1" rot="20557800">
              <a:off x="7600320" y="517284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20557800">
              <a:off x="7608240" y="480168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297200" y="4589640"/>
            <a:ext cx="266400" cy="480600"/>
            <a:chOff x="7297200" y="4589640"/>
            <a:chExt cx="266400" cy="480600"/>
          </a:xfrm>
        </p:grpSpPr>
        <p:sp>
          <p:nvSpPr>
            <p:cNvPr id="203" name=""/>
            <p:cNvSpPr/>
            <p:nvPr/>
          </p:nvSpPr>
          <p:spPr>
            <a:xfrm flipV="1" rot="913800">
              <a:off x="7302960" y="496476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13800">
              <a:off x="7439040" y="4592520"/>
              <a:ext cx="75960" cy="3805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494840" y="4547160"/>
            <a:ext cx="475920" cy="345600"/>
            <a:chOff x="7494840" y="4547160"/>
            <a:chExt cx="475920" cy="345600"/>
          </a:xfrm>
        </p:grpSpPr>
        <p:sp>
          <p:nvSpPr>
            <p:cNvPr id="206" name=""/>
            <p:cNvSpPr/>
            <p:nvPr/>
          </p:nvSpPr>
          <p:spPr>
            <a:xfrm flipV="1" rot="17847000">
              <a:off x="7769880" y="473508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7847000">
              <a:off x="7643160" y="447804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488000" y="4645440"/>
            <a:ext cx="236520" cy="473040"/>
            <a:chOff x="7488000" y="4645440"/>
            <a:chExt cx="236520" cy="473040"/>
          </a:xfrm>
        </p:grpSpPr>
        <p:sp>
          <p:nvSpPr>
            <p:cNvPr id="209" name=""/>
            <p:cNvSpPr/>
            <p:nvPr/>
          </p:nvSpPr>
          <p:spPr>
            <a:xfrm flipV="1" rot="21156000">
              <a:off x="7491600" y="502776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21156000">
              <a:off x="7538760" y="464868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137360" y="4532760"/>
            <a:ext cx="468720" cy="372240"/>
            <a:chOff x="7137360" y="4532760"/>
            <a:chExt cx="468720" cy="372240"/>
          </a:xfrm>
        </p:grpSpPr>
        <p:sp>
          <p:nvSpPr>
            <p:cNvPr id="212" name=""/>
            <p:cNvSpPr/>
            <p:nvPr/>
          </p:nvSpPr>
          <p:spPr>
            <a:xfrm flipV="1" rot="3470400">
              <a:off x="7116120" y="474984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3470400">
              <a:off x="7386120" y="4474800"/>
              <a:ext cx="75960" cy="38124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539840" y="4626360"/>
            <a:ext cx="376560" cy="466200"/>
            <a:chOff x="7539840" y="4626360"/>
            <a:chExt cx="376560" cy="466200"/>
          </a:xfrm>
        </p:grpSpPr>
        <p:sp>
          <p:nvSpPr>
            <p:cNvPr id="215" name=""/>
            <p:cNvSpPr/>
            <p:nvPr/>
          </p:nvSpPr>
          <p:spPr>
            <a:xfrm flipV="1" rot="19618800">
              <a:off x="7685280" y="4959720"/>
              <a:ext cx="228600" cy="7632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19618800">
              <a:off x="7637040" y="4616280"/>
              <a:ext cx="75960" cy="380880"/>
            </a:xfrm>
            <a:prstGeom prst="flowChartMerg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b00b"/>
                </a:gs>
              </a:gsLst>
              <a:lin ang="108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162400" y="3333600"/>
            <a:ext cx="304920" cy="457200"/>
          </a:xfrm>
          <a:prstGeom prst="line">
            <a:avLst/>
          </a:prstGeom>
          <a:ln cap="sq" w="3816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60720"/>
            <a:ext cx="3353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通电时电磁铁</a:t>
            </a: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6386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电磁铁通电时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磁性，断电时磁性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__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1000" y="609480"/>
            <a:ext cx="36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闭合和断开开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920" y="2773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吸引大头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9840" y="3924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不吸引大头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" y="3314880"/>
            <a:ext cx="2667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断电时电磁铁</a:t>
            </a: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56577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产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565776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消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533520"/>
            <a:ext cx="4191120" cy="0"/>
          </a:xfrm>
          <a:prstGeom prst="line">
            <a:avLst/>
          </a:prstGeom>
          <a:ln cap="sq"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973080"/>
            <a:ext cx="1066680" cy="581400"/>
          </a:xfrm>
          <a:prstGeom prst="rect">
            <a:avLst/>
          </a:prstGeom>
          <a:solidFill>
            <a:srgbClr val="008080">
              <a:alpha val="50000"/>
            </a:srgbClr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87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研究电磁铁的磁性强弱跟电流的关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71480" y="1430280"/>
            <a:ext cx="2991240" cy="2399760"/>
            <a:chOff x="2571480" y="1430280"/>
            <a:chExt cx="2991240" cy="2399760"/>
          </a:xfrm>
        </p:grpSpPr>
        <p:grpSp>
          <p:nvGrpSpPr>
            <p:cNvPr id="230" name=""/>
            <p:cNvGrpSpPr/>
            <p:nvPr/>
          </p:nvGrpSpPr>
          <p:grpSpPr>
            <a:xfrm>
              <a:off x="4533840" y="1430280"/>
              <a:ext cx="1028880" cy="2399760"/>
              <a:chOff x="4533840" y="1430280"/>
              <a:chExt cx="1028880" cy="2399760"/>
            </a:xfrm>
          </p:grpSpPr>
          <p:sp>
            <p:nvSpPr>
              <p:cNvPr id="231" name=""/>
              <p:cNvSpPr/>
              <p:nvPr/>
            </p:nvSpPr>
            <p:spPr>
              <a:xfrm>
                <a:off x="4533840" y="1430280"/>
                <a:ext cx="1028880" cy="171360"/>
              </a:xfrm>
              <a:prstGeom prst="flowChartMerge">
                <a:avLst/>
              </a:pr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4905360" y="1544400"/>
                <a:ext cx="285480" cy="2285640"/>
                <a:chOff x="4905360" y="1544400"/>
                <a:chExt cx="285480" cy="22856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905360" y="1544400"/>
                  <a:ext cx="285480" cy="1142640"/>
                </a:xfrm>
                <a:custGeom>
                  <a:avLst/>
                  <a:gdLst>
                    <a:gd name="textAreaLeft" fmla="*/ 62640 w 285480"/>
                    <a:gd name="textAreaRight" fmla="*/ 222840 w 285480"/>
                    <a:gd name="textAreaTop" fmla="*/ 251280 h 1142640"/>
                    <a:gd name="textAreaBottom" fmla="*/ 891360 h 114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991040" y="2687040"/>
                  <a:ext cx="114120" cy="743040"/>
                </a:xfrm>
                <a:custGeom>
                  <a:avLst/>
                  <a:gdLst>
                    <a:gd name="textAreaLeft" fmla="*/ 24840 w 114120"/>
                    <a:gd name="textAreaRight" fmla="*/ 89280 w 114120"/>
                    <a:gd name="textAreaTop" fmla="*/ 163440 h 743040"/>
                    <a:gd name="textAreaBottom" fmla="*/ 579600 h 74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19480" y="3430080"/>
                  <a:ext cx="56880" cy="399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4381560" y="1811160"/>
              <a:ext cx="1018800" cy="1328760"/>
              <a:chOff x="4381560" y="1811160"/>
              <a:chExt cx="1018800" cy="1328760"/>
            </a:xfrm>
          </p:grpSpPr>
          <p:sp>
            <p:nvSpPr>
              <p:cNvPr id="237" name=""/>
              <p:cNvSpPr/>
              <p:nvPr/>
            </p:nvSpPr>
            <p:spPr>
              <a:xfrm>
                <a:off x="4790880" y="228240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81520" y="1939680"/>
                <a:ext cx="561600" cy="171360"/>
              </a:xfrm>
              <a:custGeom>
                <a:avLst/>
                <a:gdLst/>
                <a:ahLst/>
                <a:rect l="l" t="t" r="r" b="b"/>
                <a:pathLst>
                  <a:path w="472" h="144">
                    <a:moveTo>
                      <a:pt x="144" y="0"/>
                    </a:moveTo>
                    <a:cubicBezTo>
                      <a:pt x="72" y="16"/>
                      <a:pt x="0" y="32"/>
                      <a:pt x="48" y="48"/>
                    </a:cubicBezTo>
                    <a:cubicBezTo>
                      <a:pt x="96" y="64"/>
                      <a:pt x="392" y="80"/>
                      <a:pt x="432" y="96"/>
                    </a:cubicBezTo>
                    <a:cubicBezTo>
                      <a:pt x="472" y="112"/>
                      <a:pt x="312" y="136"/>
                      <a:pt x="288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57840" y="245376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57840" y="262548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90880" y="213948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67200" y="279684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67200" y="296820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381560" y="3139920"/>
                <a:ext cx="628560" cy="0"/>
              </a:xfrm>
              <a:prstGeom prst="line">
                <a:avLst/>
              </a:prstGeom>
              <a:ln cap="sq"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95640" y="1811160"/>
                <a:ext cx="504720" cy="114120"/>
              </a:xfrm>
              <a:custGeom>
                <a:avLst/>
                <a:gdLst/>
                <a:ahLst/>
                <a:rect l="l" t="t" r="r" b="b"/>
                <a:pathLst>
                  <a:path w="424" h="96">
                    <a:moveTo>
                      <a:pt x="0" y="0"/>
                    </a:moveTo>
                    <a:cubicBezTo>
                      <a:pt x="172" y="16"/>
                      <a:pt x="344" y="32"/>
                      <a:pt x="384" y="48"/>
                    </a:cubicBezTo>
                    <a:cubicBezTo>
                      <a:pt x="424" y="64"/>
                      <a:pt x="264" y="88"/>
                      <a:pt x="240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114800" y="1544760"/>
              <a:ext cx="0" cy="2854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6280" y="1887480"/>
              <a:ext cx="685800" cy="22860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6e5105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9440" y="1544760"/>
              <a:ext cx="0" cy="342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8520" y="1544760"/>
              <a:ext cx="457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71840" y="2001960"/>
              <a:ext cx="51444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1840" y="2001960"/>
              <a:ext cx="0" cy="1143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057560" y="3144960"/>
              <a:ext cx="685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57920" y="3058920"/>
              <a:ext cx="0" cy="171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57840" y="2987640"/>
              <a:ext cx="0" cy="342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371760" y="3144960"/>
              <a:ext cx="5713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571480" y="3144960"/>
              <a:ext cx="51444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086280" y="3030480"/>
              <a:ext cx="285840" cy="1144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14800" y="1830240"/>
              <a:ext cx="80028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638320" y="1392120"/>
            <a:ext cx="2991240" cy="2399760"/>
            <a:chOff x="5638320" y="1392120"/>
            <a:chExt cx="2991240" cy="2399760"/>
          </a:xfrm>
        </p:grpSpPr>
        <p:grpSp>
          <p:nvGrpSpPr>
            <p:cNvPr id="260" name=""/>
            <p:cNvGrpSpPr/>
            <p:nvPr/>
          </p:nvGrpSpPr>
          <p:grpSpPr>
            <a:xfrm>
              <a:off x="7600680" y="1392120"/>
              <a:ext cx="1028880" cy="2399760"/>
              <a:chOff x="7600680" y="1392120"/>
              <a:chExt cx="1028880" cy="2399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600680" y="1392120"/>
                <a:ext cx="1028880" cy="171360"/>
              </a:xfrm>
              <a:prstGeom prst="flowChartMerge">
                <a:avLst/>
              </a:pr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972200" y="1506240"/>
                <a:ext cx="285480" cy="2285640"/>
                <a:chOff x="7972200" y="1506240"/>
                <a:chExt cx="285480" cy="22856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972200" y="1506240"/>
                  <a:ext cx="285480" cy="1142640"/>
                </a:xfrm>
                <a:custGeom>
                  <a:avLst/>
                  <a:gdLst>
                    <a:gd name="textAreaLeft" fmla="*/ 62640 w 285480"/>
                    <a:gd name="textAreaRight" fmla="*/ 222840 w 285480"/>
                    <a:gd name="textAreaTop" fmla="*/ 251280 h 1142640"/>
                    <a:gd name="textAreaBottom" fmla="*/ 891360 h 114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57880" y="2648880"/>
                  <a:ext cx="114120" cy="743040"/>
                </a:xfrm>
                <a:custGeom>
                  <a:avLst/>
                  <a:gdLst>
                    <a:gd name="textAreaLeft" fmla="*/ 24840 w 114120"/>
                    <a:gd name="textAreaRight" fmla="*/ 89280 w 114120"/>
                    <a:gd name="textAreaTop" fmla="*/ 163440 h 743040"/>
                    <a:gd name="textAreaBottom" fmla="*/ 579600 h 74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086320" y="3391920"/>
                  <a:ext cx="56880" cy="399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7448400" y="1773000"/>
              <a:ext cx="1018800" cy="1328760"/>
              <a:chOff x="7448400" y="1773000"/>
              <a:chExt cx="1018800" cy="1328760"/>
            </a:xfrm>
          </p:grpSpPr>
          <p:sp>
            <p:nvSpPr>
              <p:cNvPr id="267" name=""/>
              <p:cNvSpPr/>
              <p:nvPr/>
            </p:nvSpPr>
            <p:spPr>
              <a:xfrm>
                <a:off x="7857720" y="224424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48360" y="1901520"/>
                <a:ext cx="561600" cy="171360"/>
              </a:xfrm>
              <a:custGeom>
                <a:avLst/>
                <a:gdLst/>
                <a:ahLst/>
                <a:rect l="l" t="t" r="r" b="b"/>
                <a:pathLst>
                  <a:path w="472" h="144">
                    <a:moveTo>
                      <a:pt x="144" y="0"/>
                    </a:moveTo>
                    <a:cubicBezTo>
                      <a:pt x="72" y="16"/>
                      <a:pt x="0" y="32"/>
                      <a:pt x="48" y="48"/>
                    </a:cubicBezTo>
                    <a:cubicBezTo>
                      <a:pt x="96" y="64"/>
                      <a:pt x="392" y="80"/>
                      <a:pt x="432" y="96"/>
                    </a:cubicBezTo>
                    <a:cubicBezTo>
                      <a:pt x="472" y="112"/>
                      <a:pt x="312" y="136"/>
                      <a:pt x="288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24680" y="241560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24680" y="258732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57720" y="210132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34040" y="275868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34040" y="293004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48400" y="3101760"/>
                <a:ext cx="628560" cy="0"/>
              </a:xfrm>
              <a:prstGeom prst="line">
                <a:avLst/>
              </a:prstGeom>
              <a:ln cap="sq"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62480" y="1773000"/>
                <a:ext cx="504720" cy="114120"/>
              </a:xfrm>
              <a:custGeom>
                <a:avLst/>
                <a:gdLst/>
                <a:ahLst/>
                <a:rect l="l" t="t" r="r" b="b"/>
                <a:pathLst>
                  <a:path w="424" h="96">
                    <a:moveTo>
                      <a:pt x="0" y="0"/>
                    </a:moveTo>
                    <a:cubicBezTo>
                      <a:pt x="172" y="16"/>
                      <a:pt x="344" y="32"/>
                      <a:pt x="384" y="48"/>
                    </a:cubicBezTo>
                    <a:cubicBezTo>
                      <a:pt x="424" y="64"/>
                      <a:pt x="264" y="88"/>
                      <a:pt x="240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181640" y="1506600"/>
              <a:ext cx="0" cy="2854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53120" y="1849320"/>
              <a:ext cx="685800" cy="22860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6e5105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62640" y="1506600"/>
              <a:ext cx="0" cy="342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95840" y="1506600"/>
              <a:ext cx="685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8680" y="1963800"/>
              <a:ext cx="51444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8680" y="1963800"/>
              <a:ext cx="0" cy="1143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124400" y="3106800"/>
              <a:ext cx="685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24760" y="3020760"/>
              <a:ext cx="0" cy="171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24680" y="2949480"/>
              <a:ext cx="0" cy="3427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38600" y="3106800"/>
              <a:ext cx="5713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638320" y="3106800"/>
              <a:ext cx="51444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153120" y="2992320"/>
              <a:ext cx="285840" cy="1144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1640" y="1792080"/>
              <a:ext cx="80028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362640" y="1506600"/>
              <a:ext cx="457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295280" y="97308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改变电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32120" y="3657960"/>
            <a:ext cx="833760" cy="585720"/>
            <a:chOff x="4632120" y="3657960"/>
            <a:chExt cx="833760" cy="585720"/>
          </a:xfrm>
        </p:grpSpPr>
        <p:grpSp>
          <p:nvGrpSpPr>
            <p:cNvPr id="292" name=""/>
            <p:cNvGrpSpPr/>
            <p:nvPr/>
          </p:nvGrpSpPr>
          <p:grpSpPr>
            <a:xfrm>
              <a:off x="4791960" y="3714840"/>
              <a:ext cx="266400" cy="480600"/>
              <a:chOff x="4791960" y="3714840"/>
              <a:chExt cx="266400" cy="480600"/>
            </a:xfrm>
          </p:grpSpPr>
          <p:sp>
            <p:nvSpPr>
              <p:cNvPr id="293" name=""/>
              <p:cNvSpPr/>
              <p:nvPr/>
            </p:nvSpPr>
            <p:spPr>
              <a:xfrm flipV="1" rot="913800">
                <a:off x="4797720" y="408996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913800">
                <a:off x="4933800" y="3717720"/>
                <a:ext cx="75960" cy="3805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989960" y="3672360"/>
              <a:ext cx="475920" cy="345600"/>
              <a:chOff x="4989960" y="3672360"/>
              <a:chExt cx="475920" cy="345600"/>
            </a:xfrm>
          </p:grpSpPr>
          <p:sp>
            <p:nvSpPr>
              <p:cNvPr id="296" name=""/>
              <p:cNvSpPr/>
              <p:nvPr/>
            </p:nvSpPr>
            <p:spPr>
              <a:xfrm flipV="1" rot="17847000">
                <a:off x="5265000" y="386028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17847000">
                <a:off x="5138280" y="360324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983120" y="3770640"/>
              <a:ext cx="236520" cy="473040"/>
              <a:chOff x="4983120" y="3770640"/>
              <a:chExt cx="236520" cy="473040"/>
            </a:xfrm>
          </p:grpSpPr>
          <p:sp>
            <p:nvSpPr>
              <p:cNvPr id="299" name=""/>
              <p:cNvSpPr/>
              <p:nvPr/>
            </p:nvSpPr>
            <p:spPr>
              <a:xfrm flipV="1" rot="21156000">
                <a:off x="4986720" y="415296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21156000">
                <a:off x="5033880" y="377388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632120" y="3657960"/>
              <a:ext cx="468720" cy="372240"/>
              <a:chOff x="4632120" y="3657960"/>
              <a:chExt cx="468720" cy="372240"/>
            </a:xfrm>
          </p:grpSpPr>
          <p:sp>
            <p:nvSpPr>
              <p:cNvPr id="302" name=""/>
              <p:cNvSpPr/>
              <p:nvPr/>
            </p:nvSpPr>
            <p:spPr>
              <a:xfrm flipV="1" rot="3470400">
                <a:off x="4610880" y="387504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3470400">
                <a:off x="4880880" y="3600000"/>
                <a:ext cx="75960" cy="38124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034600" y="3751560"/>
              <a:ext cx="376560" cy="466200"/>
              <a:chOff x="5034600" y="3751560"/>
              <a:chExt cx="376560" cy="466200"/>
            </a:xfrm>
          </p:grpSpPr>
          <p:sp>
            <p:nvSpPr>
              <p:cNvPr id="305" name=""/>
              <p:cNvSpPr/>
              <p:nvPr/>
            </p:nvSpPr>
            <p:spPr>
              <a:xfrm flipV="1" rot="19618800">
                <a:off x="5180040" y="408492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 rot="19618800">
                <a:off x="5131800" y="374148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708680" y="3657960"/>
            <a:ext cx="833760" cy="801360"/>
            <a:chOff x="7708680" y="3657960"/>
            <a:chExt cx="833760" cy="801360"/>
          </a:xfrm>
        </p:grpSpPr>
        <p:grpSp>
          <p:nvGrpSpPr>
            <p:cNvPr id="308" name=""/>
            <p:cNvGrpSpPr/>
            <p:nvPr/>
          </p:nvGrpSpPr>
          <p:grpSpPr>
            <a:xfrm>
              <a:off x="7734240" y="3773520"/>
              <a:ext cx="228600" cy="457200"/>
              <a:chOff x="7734240" y="3773520"/>
              <a:chExt cx="228600" cy="45720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7734240" y="415440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810560" y="377352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7886520" y="4002120"/>
              <a:ext cx="228600" cy="457200"/>
              <a:chOff x="7886520" y="4002120"/>
              <a:chExt cx="228600" cy="45720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7886520" y="438300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962840" y="400212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8124480" y="3924720"/>
              <a:ext cx="282240" cy="482040"/>
              <a:chOff x="8124480" y="3924720"/>
              <a:chExt cx="282240" cy="482040"/>
            </a:xfrm>
          </p:grpSpPr>
          <p:sp>
            <p:nvSpPr>
              <p:cNvPr id="315" name=""/>
              <p:cNvSpPr/>
              <p:nvPr/>
            </p:nvSpPr>
            <p:spPr>
              <a:xfrm flipV="1" rot="20557800">
                <a:off x="8171640" y="429804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 rot="20557800">
                <a:off x="8179560" y="392688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868520" y="3714840"/>
              <a:ext cx="266400" cy="480600"/>
              <a:chOff x="7868520" y="3714840"/>
              <a:chExt cx="266400" cy="480600"/>
            </a:xfrm>
          </p:grpSpPr>
          <p:sp>
            <p:nvSpPr>
              <p:cNvPr id="318" name=""/>
              <p:cNvSpPr/>
              <p:nvPr/>
            </p:nvSpPr>
            <p:spPr>
              <a:xfrm flipV="1" rot="913800">
                <a:off x="7874280" y="408996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 rot="913800">
                <a:off x="8010360" y="3717720"/>
                <a:ext cx="75960" cy="3805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66520" y="3672360"/>
              <a:ext cx="475920" cy="345600"/>
              <a:chOff x="8066520" y="3672360"/>
              <a:chExt cx="475920" cy="345600"/>
            </a:xfrm>
          </p:grpSpPr>
          <p:sp>
            <p:nvSpPr>
              <p:cNvPr id="321" name=""/>
              <p:cNvSpPr/>
              <p:nvPr/>
            </p:nvSpPr>
            <p:spPr>
              <a:xfrm flipV="1" rot="17847000">
                <a:off x="8341560" y="386028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 rot="17847000">
                <a:off x="8214840" y="360324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9680" y="3770640"/>
              <a:ext cx="236520" cy="473040"/>
              <a:chOff x="8059680" y="3770640"/>
              <a:chExt cx="236520" cy="473040"/>
            </a:xfrm>
          </p:grpSpPr>
          <p:sp>
            <p:nvSpPr>
              <p:cNvPr id="324" name=""/>
              <p:cNvSpPr/>
              <p:nvPr/>
            </p:nvSpPr>
            <p:spPr>
              <a:xfrm flipV="1" rot="21156000">
                <a:off x="8063280" y="415296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21156000">
                <a:off x="8110440" y="377388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708680" y="3657960"/>
              <a:ext cx="468720" cy="372240"/>
              <a:chOff x="7708680" y="3657960"/>
              <a:chExt cx="468720" cy="372240"/>
            </a:xfrm>
          </p:grpSpPr>
          <p:sp>
            <p:nvSpPr>
              <p:cNvPr id="327" name=""/>
              <p:cNvSpPr/>
              <p:nvPr/>
            </p:nvSpPr>
            <p:spPr>
              <a:xfrm flipV="1" rot="3470400">
                <a:off x="7687440" y="387504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3470400">
                <a:off x="7957440" y="3600000"/>
                <a:ext cx="75960" cy="38124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8111160" y="3751560"/>
              <a:ext cx="376560" cy="466200"/>
              <a:chOff x="8111160" y="3751560"/>
              <a:chExt cx="376560" cy="466200"/>
            </a:xfrm>
          </p:grpSpPr>
          <p:sp>
            <p:nvSpPr>
              <p:cNvPr id="330" name=""/>
              <p:cNvSpPr/>
              <p:nvPr/>
            </p:nvSpPr>
            <p:spPr>
              <a:xfrm flipV="1" rot="19618800">
                <a:off x="8256600" y="4084920"/>
                <a:ext cx="228600" cy="7632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 rot="19618800">
                <a:off x="8208360" y="3741480"/>
                <a:ext cx="75960" cy="380880"/>
              </a:xfrm>
              <a:prstGeom prst="flowChartMerg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304920" y="5011560"/>
            <a:ext cx="8458200" cy="1248120"/>
            <a:chOff x="304920" y="5011560"/>
            <a:chExt cx="8458200" cy="1248120"/>
          </a:xfrm>
        </p:grpSpPr>
        <p:sp>
          <p:nvSpPr>
            <p:cNvPr id="333" name=""/>
            <p:cNvSpPr/>
            <p:nvPr/>
          </p:nvSpPr>
          <p:spPr>
            <a:xfrm>
              <a:off x="304920" y="5678280"/>
              <a:ext cx="8458200" cy="581400"/>
            </a:xfrm>
            <a:prstGeom prst="rect">
              <a:avLst/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ff"/>
                  </a:solidFill>
                  <a:latin typeface="Times New Roman"/>
                </a:rPr>
                <a:t>通过电磁铁的电流越</a:t>
              </a:r>
              <a:r>
                <a:rPr b="1" lang="en-US" sz="3200" spc="-1" strike="noStrike">
                  <a:solidFill>
                    <a:srgbClr val="66ffff"/>
                  </a:solidFill>
                  <a:latin typeface="Times New Roman"/>
                </a:rPr>
                <a:t>____,</a:t>
              </a:r>
              <a:r>
                <a:rPr b="1" lang="zh-CN" sz="3200" spc="-1" strike="noStrike">
                  <a:solidFill>
                    <a:srgbClr val="66ffff"/>
                  </a:solidFill>
                  <a:latin typeface="Times New Roman"/>
                </a:rPr>
                <a:t>电磁铁的磁性</a:t>
              </a:r>
              <a:r>
                <a:rPr b="1" lang="en-US" sz="3200" spc="-1" strike="noStrike">
                  <a:solidFill>
                    <a:srgbClr val="66ffff"/>
                  </a:solidFill>
                  <a:latin typeface="Times New Roman"/>
                </a:rPr>
                <a:t>_____.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1240" y="5011560"/>
              <a:ext cx="1066680" cy="58140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cap="sq"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结论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04920" y="2500200"/>
            <a:ext cx="4267080" cy="2251800"/>
            <a:chOff x="304920" y="2500200"/>
            <a:chExt cx="4267080" cy="2251800"/>
          </a:xfrm>
        </p:grpSpPr>
        <p:sp>
          <p:nvSpPr>
            <p:cNvPr id="336" name=""/>
            <p:cNvSpPr/>
            <p:nvPr/>
          </p:nvSpPr>
          <p:spPr>
            <a:xfrm>
              <a:off x="304920" y="3429000"/>
              <a:ext cx="4267080" cy="1323000"/>
            </a:xfrm>
            <a:prstGeom prst="rect">
              <a:avLst/>
            </a:prstGeom>
            <a:noFill/>
            <a:ln cap="sq"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ff"/>
                  </a:solidFill>
                  <a:latin typeface="Times New Roman"/>
                </a:rPr>
                <a:t>增大电流电磁铁吸引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ff"/>
                  </a:solidFill>
                  <a:latin typeface="Times New Roman"/>
                </a:rPr>
                <a:t>的大头针数目</a:t>
              </a:r>
              <a:r>
                <a:rPr b="1" lang="en-US" sz="3200" spc="-1" strike="noStrike">
                  <a:solidFill>
                    <a:srgbClr val="66ffff"/>
                  </a:solidFill>
                  <a:latin typeface="Times New Roman"/>
                </a:rPr>
                <a:t>_____.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2500200"/>
              <a:ext cx="1066680" cy="58140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cap="sq"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象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7467480" y="564048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37200" y="56214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838080"/>
            <a:ext cx="6629400" cy="0"/>
          </a:xfrm>
          <a:prstGeom prst="line">
            <a:avLst/>
          </a:prstGeom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4114800"/>
            <a:ext cx="11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增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2971800"/>
            <a:ext cx="228600" cy="228600"/>
          </a:xfrm>
          <a:prstGeom prst="line">
            <a:avLst/>
          </a:prstGeom>
          <a:ln cap="sq" w="3816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24480" y="2895480"/>
            <a:ext cx="228600" cy="304920"/>
          </a:xfrm>
          <a:prstGeom prst="line">
            <a:avLst/>
          </a:prstGeom>
          <a:ln cap="sq" w="3816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6381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419280" y="1413000"/>
            <a:ext cx="4972320" cy="2895480"/>
            <a:chOff x="3419280" y="1413000"/>
            <a:chExt cx="4972320" cy="2895480"/>
          </a:xfrm>
        </p:grpSpPr>
        <p:sp>
          <p:nvSpPr>
            <p:cNvPr id="346" name=""/>
            <p:cNvSpPr/>
            <p:nvPr/>
          </p:nvSpPr>
          <p:spPr>
            <a:xfrm>
              <a:off x="5857920" y="3051360"/>
              <a:ext cx="175284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077240" y="1470240"/>
              <a:ext cx="1028880" cy="2399760"/>
              <a:chOff x="7077240" y="1470240"/>
              <a:chExt cx="1028880" cy="2399760"/>
            </a:xfrm>
          </p:grpSpPr>
          <p:sp>
            <p:nvSpPr>
              <p:cNvPr id="348" name=""/>
              <p:cNvSpPr/>
              <p:nvPr/>
            </p:nvSpPr>
            <p:spPr>
              <a:xfrm>
                <a:off x="7077240" y="1470240"/>
                <a:ext cx="1028880" cy="171360"/>
              </a:xfrm>
              <a:prstGeom prst="flowChartMerge">
                <a:avLst/>
              </a:pr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7448760" y="1584360"/>
                <a:ext cx="285480" cy="2285640"/>
                <a:chOff x="7448760" y="1584360"/>
                <a:chExt cx="285480" cy="22856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448760" y="1584360"/>
                  <a:ext cx="285480" cy="1142640"/>
                </a:xfrm>
                <a:custGeom>
                  <a:avLst/>
                  <a:gdLst>
                    <a:gd name="textAreaLeft" fmla="*/ 62640 w 285480"/>
                    <a:gd name="textAreaRight" fmla="*/ 222840 w 285480"/>
                    <a:gd name="textAreaTop" fmla="*/ 251280 h 1142640"/>
                    <a:gd name="textAreaBottom" fmla="*/ 891360 h 114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534440" y="2727000"/>
                  <a:ext cx="114120" cy="743040"/>
                </a:xfrm>
                <a:custGeom>
                  <a:avLst/>
                  <a:gdLst>
                    <a:gd name="textAreaLeft" fmla="*/ 24840 w 114120"/>
                    <a:gd name="textAreaRight" fmla="*/ 89280 w 114120"/>
                    <a:gd name="textAreaTop" fmla="*/ 163440 h 743040"/>
                    <a:gd name="textAreaBottom" fmla="*/ 579600 h 74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562880" y="3470040"/>
                  <a:ext cx="56880" cy="399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>
              <a:off x="7305840" y="1903680"/>
              <a:ext cx="561960" cy="171360"/>
            </a:xfrm>
            <a:custGeom>
              <a:avLst/>
              <a:gdLst/>
              <a:ahLst/>
              <a:rect l="l" t="t" r="r" b="b"/>
              <a:pathLst>
                <a:path w="472" h="144">
                  <a:moveTo>
                    <a:pt x="144" y="0"/>
                  </a:moveTo>
                  <a:cubicBezTo>
                    <a:pt x="72" y="16"/>
                    <a:pt x="0" y="32"/>
                    <a:pt x="48" y="48"/>
                  </a:cubicBezTo>
                  <a:cubicBezTo>
                    <a:pt x="96" y="64"/>
                    <a:pt x="392" y="80"/>
                    <a:pt x="432" y="96"/>
                  </a:cubicBezTo>
                  <a:cubicBezTo>
                    <a:pt x="472" y="112"/>
                    <a:pt x="312" y="136"/>
                    <a:pt x="288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01240" y="2570400"/>
              <a:ext cx="419040" cy="171360"/>
            </a:xfrm>
            <a:custGeom>
              <a:avLst/>
              <a:gdLst/>
              <a:ahLst/>
              <a:rect l="l" t="t" r="r" b="b"/>
              <a:pathLst>
                <a:path w="352" h="144">
                  <a:moveTo>
                    <a:pt x="128" y="0"/>
                  </a:moveTo>
                  <a:cubicBezTo>
                    <a:pt x="64" y="16"/>
                    <a:pt x="0" y="32"/>
                    <a:pt x="32" y="48"/>
                  </a:cubicBezTo>
                  <a:cubicBezTo>
                    <a:pt x="64" y="64"/>
                    <a:pt x="288" y="80"/>
                    <a:pt x="320" y="96"/>
                  </a:cubicBezTo>
                  <a:cubicBezTo>
                    <a:pt x="352" y="112"/>
                    <a:pt x="240" y="136"/>
                    <a:pt x="224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34280" y="2256120"/>
              <a:ext cx="495360" cy="171360"/>
            </a:xfrm>
            <a:custGeom>
              <a:avLst/>
              <a:gdLst/>
              <a:ahLst/>
              <a:rect l="l" t="t" r="r" b="b"/>
              <a:pathLst>
                <a:path w="416" h="144">
                  <a:moveTo>
                    <a:pt x="136" y="0"/>
                  </a:moveTo>
                  <a:cubicBezTo>
                    <a:pt x="68" y="16"/>
                    <a:pt x="0" y="32"/>
                    <a:pt x="40" y="48"/>
                  </a:cubicBezTo>
                  <a:cubicBezTo>
                    <a:pt x="80" y="64"/>
                    <a:pt x="336" y="80"/>
                    <a:pt x="376" y="96"/>
                  </a:cubicBezTo>
                  <a:cubicBezTo>
                    <a:pt x="416" y="112"/>
                    <a:pt x="296" y="136"/>
                    <a:pt x="280" y="144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10600" y="2855880"/>
              <a:ext cx="314280" cy="114480"/>
            </a:xfrm>
            <a:custGeom>
              <a:avLst/>
              <a:gdLst/>
              <a:ahLst/>
              <a:rect l="l" t="t" r="r" b="b"/>
              <a:pathLst>
                <a:path w="264" h="96">
                  <a:moveTo>
                    <a:pt x="120" y="0"/>
                  </a:moveTo>
                  <a:cubicBezTo>
                    <a:pt x="60" y="16"/>
                    <a:pt x="0" y="32"/>
                    <a:pt x="24" y="48"/>
                  </a:cubicBezTo>
                  <a:cubicBezTo>
                    <a:pt x="48" y="64"/>
                    <a:pt x="232" y="80"/>
                    <a:pt x="264" y="96"/>
                  </a:cubicBezTo>
                </a:path>
              </a:pathLst>
            </a:custGeom>
            <a:noFill/>
            <a:ln cap="sq" w="34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381640" y="1413000"/>
              <a:ext cx="1028880" cy="2399760"/>
              <a:chOff x="5381640" y="1413000"/>
              <a:chExt cx="1028880" cy="2399760"/>
            </a:xfrm>
          </p:grpSpPr>
          <p:sp>
            <p:nvSpPr>
              <p:cNvPr id="358" name=""/>
              <p:cNvSpPr/>
              <p:nvPr/>
            </p:nvSpPr>
            <p:spPr>
              <a:xfrm>
                <a:off x="5381640" y="1413000"/>
                <a:ext cx="1028880" cy="171360"/>
              </a:xfrm>
              <a:prstGeom prst="flowChartMerge">
                <a:avLst/>
              </a:prstGeom>
              <a:gradFill rotWithShape="0">
                <a:gsLst>
                  <a:gs pos="0">
                    <a:srgbClr val="6600ff"/>
                  </a:gs>
                  <a:gs pos="100000">
                    <a:srgbClr val="eeb00b"/>
                  </a:gs>
                </a:gsLst>
                <a:lin ang="108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5753160" y="1527120"/>
                <a:ext cx="285480" cy="2285640"/>
                <a:chOff x="5753160" y="1527120"/>
                <a:chExt cx="285480" cy="22856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753160" y="1527120"/>
                  <a:ext cx="285480" cy="1142640"/>
                </a:xfrm>
                <a:custGeom>
                  <a:avLst/>
                  <a:gdLst>
                    <a:gd name="textAreaLeft" fmla="*/ 62640 w 285480"/>
                    <a:gd name="textAreaRight" fmla="*/ 222840 w 285480"/>
                    <a:gd name="textAreaTop" fmla="*/ 251280 h 1142640"/>
                    <a:gd name="textAreaBottom" fmla="*/ 891360 h 114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838840" y="2669760"/>
                  <a:ext cx="114120" cy="743040"/>
                </a:xfrm>
                <a:custGeom>
                  <a:avLst/>
                  <a:gdLst>
                    <a:gd name="textAreaLeft" fmla="*/ 24840 w 114120"/>
                    <a:gd name="textAreaRight" fmla="*/ 89280 w 114120"/>
                    <a:gd name="textAreaTop" fmla="*/ 163440 h 743040"/>
                    <a:gd name="textAreaBottom" fmla="*/ 579600 h 74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867280" y="3412800"/>
                  <a:ext cx="56880" cy="399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6600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5629320" y="1793880"/>
              <a:ext cx="619200" cy="1271520"/>
              <a:chOff x="5629320" y="1793880"/>
              <a:chExt cx="619200" cy="1271520"/>
            </a:xfrm>
          </p:grpSpPr>
          <p:sp>
            <p:nvSpPr>
              <p:cNvPr id="364" name=""/>
              <p:cNvSpPr/>
              <p:nvPr/>
            </p:nvSpPr>
            <p:spPr>
              <a:xfrm>
                <a:off x="5638680" y="2265480"/>
                <a:ext cx="49536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29320" y="1922400"/>
                <a:ext cx="561960" cy="171360"/>
              </a:xfrm>
              <a:custGeom>
                <a:avLst/>
                <a:gdLst/>
                <a:ahLst/>
                <a:rect l="l" t="t" r="r" b="b"/>
                <a:pathLst>
                  <a:path w="472" h="144">
                    <a:moveTo>
                      <a:pt x="144" y="0"/>
                    </a:moveTo>
                    <a:cubicBezTo>
                      <a:pt x="72" y="16"/>
                      <a:pt x="0" y="32"/>
                      <a:pt x="48" y="48"/>
                    </a:cubicBezTo>
                    <a:cubicBezTo>
                      <a:pt x="96" y="64"/>
                      <a:pt x="392" y="80"/>
                      <a:pt x="432" y="96"/>
                    </a:cubicBezTo>
                    <a:cubicBezTo>
                      <a:pt x="472" y="112"/>
                      <a:pt x="312" y="136"/>
                      <a:pt x="288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05640" y="243684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05640" y="2608200"/>
                <a:ext cx="419040" cy="17136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128" y="0"/>
                    </a:moveTo>
                    <a:cubicBezTo>
                      <a:pt x="64" y="16"/>
                      <a:pt x="0" y="32"/>
                      <a:pt x="32" y="48"/>
                    </a:cubicBezTo>
                    <a:cubicBezTo>
                      <a:pt x="64" y="64"/>
                      <a:pt x="288" y="80"/>
                      <a:pt x="320" y="96"/>
                    </a:cubicBezTo>
                    <a:cubicBezTo>
                      <a:pt x="352" y="112"/>
                      <a:pt x="240" y="136"/>
                      <a:pt x="224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638680" y="2122560"/>
                <a:ext cx="495360" cy="171360"/>
              </a:xfrm>
              <a:custGeom>
                <a:avLst/>
                <a:gdLst/>
                <a:ahLst/>
                <a:rect l="l" t="t" r="r" b="b"/>
                <a:pathLst>
                  <a:path w="416" h="144">
                    <a:moveTo>
                      <a:pt x="136" y="0"/>
                    </a:moveTo>
                    <a:cubicBezTo>
                      <a:pt x="68" y="16"/>
                      <a:pt x="0" y="32"/>
                      <a:pt x="40" y="48"/>
                    </a:cubicBezTo>
                    <a:cubicBezTo>
                      <a:pt x="80" y="64"/>
                      <a:pt x="336" y="80"/>
                      <a:pt x="376" y="96"/>
                    </a:cubicBezTo>
                    <a:cubicBezTo>
                      <a:pt x="416" y="112"/>
                      <a:pt x="296" y="136"/>
                      <a:pt x="280" y="144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15000" y="277956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15000" y="2951280"/>
                <a:ext cx="314280" cy="114120"/>
              </a:xfrm>
              <a:custGeom>
                <a:avLst/>
                <a:gdLst/>
                <a:ahLst/>
                <a:rect l="l" t="t" r="r" b="b"/>
                <a:pathLst>
                  <a:path w="264" h="96">
                    <a:moveTo>
                      <a:pt x="120" y="0"/>
                    </a:moveTo>
                    <a:cubicBezTo>
                      <a:pt x="60" y="16"/>
                      <a:pt x="0" y="32"/>
                      <a:pt x="24" y="48"/>
                    </a:cubicBezTo>
                    <a:cubicBezTo>
                      <a:pt x="48" y="64"/>
                      <a:pt x="232" y="80"/>
                      <a:pt x="264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43800" y="1793880"/>
                <a:ext cx="504720" cy="114480"/>
              </a:xfrm>
              <a:custGeom>
                <a:avLst/>
                <a:gdLst/>
                <a:ahLst/>
                <a:rect l="l" t="t" r="r" b="b"/>
                <a:pathLst>
                  <a:path w="424" h="96">
                    <a:moveTo>
                      <a:pt x="0" y="0"/>
                    </a:moveTo>
                    <a:cubicBezTo>
                      <a:pt x="172" y="16"/>
                      <a:pt x="344" y="32"/>
                      <a:pt x="384" y="48"/>
                    </a:cubicBezTo>
                    <a:cubicBezTo>
                      <a:pt x="424" y="64"/>
                      <a:pt x="264" y="88"/>
                      <a:pt x="240" y="96"/>
                    </a:cubicBezTo>
                  </a:path>
                </a:pathLst>
              </a:custGeom>
              <a:noFill/>
              <a:ln cap="sq" w="34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7705440" y="1870200"/>
              <a:ext cx="685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419280" y="1527480"/>
              <a:ext cx="2343600" cy="1785240"/>
              <a:chOff x="3419280" y="1527480"/>
              <a:chExt cx="2343600" cy="1785240"/>
            </a:xfrm>
          </p:grpSpPr>
          <p:sp>
            <p:nvSpPr>
              <p:cNvPr id="374" name=""/>
              <p:cNvSpPr/>
              <p:nvPr/>
            </p:nvSpPr>
            <p:spPr>
              <a:xfrm>
                <a:off x="4962600" y="1527480"/>
                <a:ext cx="0" cy="2854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34080" y="1870200"/>
                <a:ext cx="685800" cy="228240"/>
              </a:xfrm>
              <a:prstGeom prst="rect">
                <a:avLst/>
              </a:prstGeom>
              <a:gradFill rotWithShape="0">
                <a:gsLst>
                  <a:gs pos="0">
                    <a:srgbClr val="eeb00b"/>
                  </a:gs>
                  <a:gs pos="100000">
                    <a:srgbClr val="6e5105"/>
                  </a:gs>
                </a:gsLst>
                <a:lin ang="54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143600" y="1527480"/>
                <a:ext cx="0" cy="34272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76800" y="1527480"/>
                <a:ext cx="6858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19640" y="1984320"/>
                <a:ext cx="51444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19640" y="1984320"/>
                <a:ext cx="0" cy="114264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05720" y="3041640"/>
                <a:ext cx="0" cy="17100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05640" y="2970000"/>
                <a:ext cx="0" cy="34272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4219560" y="3127320"/>
                <a:ext cx="57132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419280" y="3127320"/>
                <a:ext cx="51444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3934080" y="3013200"/>
                <a:ext cx="285840" cy="11376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62600" y="1812960"/>
                <a:ext cx="80028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143600" y="1527480"/>
                <a:ext cx="4572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4886640" y="3127680"/>
              <a:ext cx="457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43840" y="3165480"/>
              <a:ext cx="0" cy="1143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43840" y="4308480"/>
              <a:ext cx="30477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91600" y="1870200"/>
              <a:ext cx="0" cy="24382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022840" y="838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改变线圈匝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838080"/>
            <a:ext cx="1143000" cy="581400"/>
          </a:xfrm>
          <a:prstGeom prst="rect">
            <a:avLst/>
          </a:prstGeom>
          <a:solidFill>
            <a:srgbClr val="339966">
              <a:alpha val="50000"/>
            </a:srgbClr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460840" y="3465360"/>
            <a:ext cx="2508840" cy="801000"/>
            <a:chOff x="5460840" y="3465360"/>
            <a:chExt cx="2508840" cy="801000"/>
          </a:xfrm>
        </p:grpSpPr>
        <p:grpSp>
          <p:nvGrpSpPr>
            <p:cNvPr id="394" name=""/>
            <p:cNvGrpSpPr/>
            <p:nvPr/>
          </p:nvGrpSpPr>
          <p:grpSpPr>
            <a:xfrm>
              <a:off x="7137360" y="3465360"/>
              <a:ext cx="832320" cy="585360"/>
              <a:chOff x="7137360" y="3465360"/>
              <a:chExt cx="832320" cy="5853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7297200" y="3521880"/>
                <a:ext cx="265680" cy="480600"/>
                <a:chOff x="7297200" y="3521880"/>
                <a:chExt cx="265680" cy="480600"/>
              </a:xfrm>
            </p:grpSpPr>
            <p:sp>
              <p:nvSpPr>
                <p:cNvPr id="396" name=""/>
                <p:cNvSpPr/>
                <p:nvPr/>
              </p:nvSpPr>
              <p:spPr>
                <a:xfrm flipV="1" rot="913800">
                  <a:off x="7302960" y="3897720"/>
                  <a:ext cx="22824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 rot="913800">
                  <a:off x="7438680" y="3524760"/>
                  <a:ext cx="7560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494840" y="3480480"/>
                <a:ext cx="474840" cy="345600"/>
                <a:chOff x="7494840" y="3480480"/>
                <a:chExt cx="474840" cy="345600"/>
              </a:xfrm>
            </p:grpSpPr>
            <p:sp>
              <p:nvSpPr>
                <p:cNvPr id="399" name=""/>
                <p:cNvSpPr/>
                <p:nvPr/>
              </p:nvSpPr>
              <p:spPr>
                <a:xfrm flipV="1" rot="17847000">
                  <a:off x="7769160" y="3669120"/>
                  <a:ext cx="22824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 rot="17847000">
                  <a:off x="7642800" y="3411000"/>
                  <a:ext cx="7560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488000" y="3578400"/>
                <a:ext cx="236160" cy="472320"/>
                <a:chOff x="7488000" y="3578400"/>
                <a:chExt cx="236160" cy="472320"/>
              </a:xfrm>
            </p:grpSpPr>
            <p:sp>
              <p:nvSpPr>
                <p:cNvPr id="402" name=""/>
                <p:cNvSpPr/>
                <p:nvPr/>
              </p:nvSpPr>
              <p:spPr>
                <a:xfrm flipV="1" rot="21156000">
                  <a:off x="7491600" y="3960000"/>
                  <a:ext cx="22824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 rot="21156000">
                  <a:off x="7538400" y="3581280"/>
                  <a:ext cx="7560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137360" y="3465360"/>
                <a:ext cx="466920" cy="372240"/>
                <a:chOff x="7137360" y="3465360"/>
                <a:chExt cx="466920" cy="372240"/>
              </a:xfrm>
            </p:grpSpPr>
            <p:sp>
              <p:nvSpPr>
                <p:cNvPr id="405" name=""/>
                <p:cNvSpPr/>
                <p:nvPr/>
              </p:nvSpPr>
              <p:spPr>
                <a:xfrm flipV="1" rot="3470400">
                  <a:off x="7116120" y="3682080"/>
                  <a:ext cx="228240" cy="763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 rot="3470400">
                  <a:off x="7385040" y="3408120"/>
                  <a:ext cx="7560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7539840" y="3558960"/>
                <a:ext cx="376200" cy="465840"/>
                <a:chOff x="7539840" y="3558960"/>
                <a:chExt cx="376200" cy="465840"/>
              </a:xfrm>
            </p:grpSpPr>
            <p:sp>
              <p:nvSpPr>
                <p:cNvPr id="408" name=""/>
                <p:cNvSpPr/>
                <p:nvPr/>
              </p:nvSpPr>
              <p:spPr>
                <a:xfrm flipV="1" rot="19618800">
                  <a:off x="7685280" y="3892680"/>
                  <a:ext cx="22824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 rot="19618800">
                  <a:off x="7637040" y="3548880"/>
                  <a:ext cx="75600" cy="38088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5460840" y="3465360"/>
              <a:ext cx="833400" cy="801000"/>
              <a:chOff x="5460840" y="3465360"/>
              <a:chExt cx="833400" cy="8010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486400" y="3581280"/>
                <a:ext cx="228600" cy="456480"/>
                <a:chOff x="5486400" y="3581280"/>
                <a:chExt cx="228600" cy="456480"/>
              </a:xfrm>
            </p:grpSpPr>
            <p:sp>
              <p:nvSpPr>
                <p:cNvPr id="412" name=""/>
                <p:cNvSpPr/>
                <p:nvPr/>
              </p:nvSpPr>
              <p:spPr>
                <a:xfrm flipV="1">
                  <a:off x="5486400" y="396144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5562720" y="3580920"/>
                  <a:ext cx="7596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638680" y="3809880"/>
                <a:ext cx="228600" cy="456480"/>
                <a:chOff x="5638680" y="3809880"/>
                <a:chExt cx="228600" cy="456480"/>
              </a:xfrm>
            </p:grpSpPr>
            <p:sp>
              <p:nvSpPr>
                <p:cNvPr id="415" name=""/>
                <p:cNvSpPr/>
                <p:nvPr/>
              </p:nvSpPr>
              <p:spPr>
                <a:xfrm flipV="1">
                  <a:off x="5638680" y="419004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5715000" y="3809520"/>
                  <a:ext cx="7596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877000" y="3732480"/>
                <a:ext cx="281880" cy="481320"/>
                <a:chOff x="5877000" y="3732480"/>
                <a:chExt cx="281880" cy="481320"/>
              </a:xfrm>
            </p:grpSpPr>
            <p:sp>
              <p:nvSpPr>
                <p:cNvPr id="418" name=""/>
                <p:cNvSpPr/>
                <p:nvPr/>
              </p:nvSpPr>
              <p:spPr>
                <a:xfrm flipV="1" rot="20557800">
                  <a:off x="5923800" y="410508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 rot="20557800">
                  <a:off x="5932080" y="3735000"/>
                  <a:ext cx="7596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621040" y="3522240"/>
                <a:ext cx="266040" cy="480240"/>
                <a:chOff x="5621040" y="3522240"/>
                <a:chExt cx="266040" cy="480240"/>
              </a:xfrm>
            </p:grpSpPr>
            <p:sp>
              <p:nvSpPr>
                <p:cNvPr id="421" name=""/>
                <p:cNvSpPr/>
                <p:nvPr/>
              </p:nvSpPr>
              <p:spPr>
                <a:xfrm flipV="1" rot="913800">
                  <a:off x="5626800" y="389772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 rot="913800">
                  <a:off x="5762520" y="3525120"/>
                  <a:ext cx="75960" cy="3801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5818680" y="3480480"/>
                <a:ext cx="475560" cy="345600"/>
                <a:chOff x="5818680" y="3480480"/>
                <a:chExt cx="475560" cy="345600"/>
              </a:xfrm>
            </p:grpSpPr>
            <p:sp>
              <p:nvSpPr>
                <p:cNvPr id="424" name=""/>
                <p:cNvSpPr/>
                <p:nvPr/>
              </p:nvSpPr>
              <p:spPr>
                <a:xfrm flipV="1" rot="17847000">
                  <a:off x="6093360" y="3668400"/>
                  <a:ext cx="228240" cy="763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 rot="17847000">
                  <a:off x="5967000" y="3411000"/>
                  <a:ext cx="75600" cy="38088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5811840" y="3578400"/>
                <a:ext cx="236520" cy="472320"/>
                <a:chOff x="5811840" y="3578400"/>
                <a:chExt cx="236520" cy="472320"/>
              </a:xfrm>
            </p:grpSpPr>
            <p:sp>
              <p:nvSpPr>
                <p:cNvPr id="427" name=""/>
                <p:cNvSpPr/>
                <p:nvPr/>
              </p:nvSpPr>
              <p:spPr>
                <a:xfrm flipV="1" rot="21156000">
                  <a:off x="5815440" y="396000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 rot="21156000">
                  <a:off x="5862600" y="3581280"/>
                  <a:ext cx="7596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5460840" y="3465360"/>
                <a:ext cx="467280" cy="372600"/>
                <a:chOff x="5460840" y="3465360"/>
                <a:chExt cx="467280" cy="372600"/>
              </a:xfrm>
            </p:grpSpPr>
            <p:sp>
              <p:nvSpPr>
                <p:cNvPr id="430" name=""/>
                <p:cNvSpPr/>
                <p:nvPr/>
              </p:nvSpPr>
              <p:spPr>
                <a:xfrm flipV="1" rot="3470400">
                  <a:off x="5439600" y="3682440"/>
                  <a:ext cx="228240" cy="7668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 rot="3470400">
                  <a:off x="5708880" y="3408120"/>
                  <a:ext cx="7560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5863320" y="3559320"/>
                <a:ext cx="376560" cy="465480"/>
                <a:chOff x="5863320" y="3559320"/>
                <a:chExt cx="376560" cy="465480"/>
              </a:xfrm>
            </p:grpSpPr>
            <p:sp>
              <p:nvSpPr>
                <p:cNvPr id="433" name=""/>
                <p:cNvSpPr/>
                <p:nvPr/>
              </p:nvSpPr>
              <p:spPr>
                <a:xfrm flipV="1" rot="19618800">
                  <a:off x="6009120" y="3892320"/>
                  <a:ext cx="228600" cy="7596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 rot="19618800">
                  <a:off x="5960880" y="3548880"/>
                  <a:ext cx="75960" cy="380520"/>
                </a:xfrm>
                <a:prstGeom prst="flowChartMerg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eb00b"/>
                    </a:gs>
                  </a:gsLst>
                  <a:lin ang="10800000"/>
                </a:gradFill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5" name=""/>
          <p:cNvGrpSpPr/>
          <p:nvPr/>
        </p:nvGrpSpPr>
        <p:grpSpPr>
          <a:xfrm>
            <a:off x="228600" y="2184480"/>
            <a:ext cx="2971800" cy="2065680"/>
            <a:chOff x="228600" y="2184480"/>
            <a:chExt cx="2971800" cy="2065680"/>
          </a:xfrm>
        </p:grpSpPr>
        <p:sp>
          <p:nvSpPr>
            <p:cNvPr id="436" name=""/>
            <p:cNvSpPr/>
            <p:nvPr/>
          </p:nvSpPr>
          <p:spPr>
            <a:xfrm>
              <a:off x="380880" y="2184480"/>
              <a:ext cx="1143000" cy="58140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cap="sq"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象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600" y="2927160"/>
              <a:ext cx="2971800" cy="1323000"/>
            </a:xfrm>
            <a:prstGeom prst="rect">
              <a:avLst/>
            </a:prstGeom>
            <a:noFill/>
            <a:ln cap="sq"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匝数越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______,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磁性越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______.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951560" y="2890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13400" y="3600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04920" y="4572000"/>
            <a:ext cx="7772400" cy="1314720"/>
            <a:chOff x="304920" y="4572000"/>
            <a:chExt cx="7772400" cy="1314720"/>
          </a:xfrm>
        </p:grpSpPr>
        <p:sp>
          <p:nvSpPr>
            <p:cNvPr id="441" name=""/>
            <p:cNvSpPr/>
            <p:nvPr/>
          </p:nvSpPr>
          <p:spPr>
            <a:xfrm>
              <a:off x="381240" y="4572000"/>
              <a:ext cx="1143000" cy="58140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cap="sq"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结论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5305320"/>
              <a:ext cx="7772400" cy="581400"/>
            </a:xfrm>
            <a:prstGeom prst="rect">
              <a:avLst/>
            </a:prstGeom>
            <a:noFill/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当电流一定时，电磁铁线圈的匝数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______,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磁性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______.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7312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24520" y="573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04920" y="38160"/>
            <a:ext cx="7696080" cy="581400"/>
            <a:chOff x="304920" y="38160"/>
            <a:chExt cx="7696080" cy="581400"/>
          </a:xfrm>
        </p:grpSpPr>
        <p:sp>
          <p:nvSpPr>
            <p:cNvPr id="446" name=""/>
            <p:cNvSpPr/>
            <p:nvPr/>
          </p:nvSpPr>
          <p:spPr>
            <a:xfrm>
              <a:off x="304920" y="381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(3)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研究电磁铁的磁性跟线圈匝数的关系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14400" y="609480"/>
              <a:ext cx="66294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114800" y="2895480"/>
            <a:ext cx="15228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9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304920" y="228600"/>
            <a:ext cx="7696080" cy="2318400"/>
            <a:chOff x="304920" y="228600"/>
            <a:chExt cx="7696080" cy="2318400"/>
          </a:xfrm>
        </p:grpSpPr>
        <p:sp>
          <p:nvSpPr>
            <p:cNvPr id="450" name=""/>
            <p:cNvSpPr/>
            <p:nvPr/>
          </p:nvSpPr>
          <p:spPr>
            <a:xfrm>
              <a:off x="304920" y="228600"/>
              <a:ext cx="1905120" cy="581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cap="sq"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实验结论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990720"/>
              <a:ext cx="7696080" cy="1556280"/>
            </a:xfrm>
            <a:prstGeom prst="rect">
              <a:avLst/>
            </a:prstGeom>
            <a:noFill/>
            <a:ln cap="sq"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电磁铁通电时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磁性，断电时磁性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__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；通过电磁铁的电流越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，电磁铁的磁性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__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；当电流一定时，电磁铁线圈的匝数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，磁性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____.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733920" y="990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5848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0568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7708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越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75920" y="1447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92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消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889560" y="3429000"/>
            <a:ext cx="6926040" cy="2891520"/>
            <a:chOff x="889560" y="3429000"/>
            <a:chExt cx="6926040" cy="2891520"/>
          </a:xfrm>
        </p:grpSpPr>
        <p:sp>
          <p:nvSpPr>
            <p:cNvPr id="459" name=""/>
            <p:cNvSpPr/>
            <p:nvPr/>
          </p:nvSpPr>
          <p:spPr>
            <a:xfrm>
              <a:off x="889560" y="3429000"/>
              <a:ext cx="1643760" cy="5814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电磁铁的优点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16040" y="4255920"/>
              <a:ext cx="619956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电磁铁磁性有无，可用</a:t>
              </a:r>
              <a:r>
                <a:rPr b="1" lang="en-US" sz="3200" spc="-1" strike="noStrike">
                  <a:solidFill>
                    <a:srgbClr val="99ff33"/>
                  </a:solidFill>
                  <a:latin typeface="Times New Roman"/>
                </a:rPr>
                <a:t>________</a:t>
              </a: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来控制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电磁铁磁性强弱，可用</a:t>
              </a:r>
              <a:r>
                <a:rPr b="1" lang="en-US" sz="3200" spc="-1" strike="noStrike">
                  <a:solidFill>
                    <a:srgbClr val="99ff33"/>
                  </a:solidFill>
                  <a:latin typeface="Times New Roman"/>
                </a:rPr>
                <a:t>_____________</a:t>
              </a: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来控制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电磁铁的极性变换，可用</a:t>
              </a:r>
              <a:r>
                <a:rPr b="1" lang="en-US" sz="3200" spc="-1" strike="noStrike">
                  <a:solidFill>
                    <a:srgbClr val="99ff33"/>
                  </a:solidFill>
                  <a:latin typeface="Times New Roman"/>
                </a:rPr>
                <a:t>_____________</a:t>
              </a: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</a:rPr>
                <a:t>来实现。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764960" y="4152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断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24800" y="4915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变电流大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7720" y="560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变电流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520560" y="1839960"/>
            <a:ext cx="203544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课堂练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04920"/>
            <a:ext cx="1371600" cy="71712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cc"/>
                </a:solidFill>
                <a:uFillTx/>
                <a:latin typeface="Times New Roman"/>
              </a:rPr>
              <a:t>应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10969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电磁起重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25000" y="1096920"/>
            <a:ext cx="19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电磁继电器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94520" y="1096920"/>
            <a:ext cx="15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电话听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57320" y="1096920"/>
            <a:ext cx="10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</a:rPr>
              <a:t>电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5080" y="2438280"/>
            <a:ext cx="8680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电磁铁有许多优点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它的磁性有无可以由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来控制，磁性强弱可以由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来控制，磁极的极性可以由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来控制；  在线圈中插入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______  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就成为电磁铁而使其磁性大大增强。在电流一定时，电磁铁线圈的匝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66ff99"/>
                </a:solidFill>
                <a:latin typeface="Times New Roman"/>
              </a:rPr>
              <a:t>，极性越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2997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通电断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720" y="2971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流大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08480" y="36021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流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12840" y="419112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铁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4596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75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75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75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75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3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533520" y="-60480"/>
            <a:ext cx="7619760" cy="6232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2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10:22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02:17:10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