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43E-D26A-4562-9979-7C1ADCE0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B23-9267-43E7-854A-BFBA2094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AFC-46C2-4591-B90B-36C3171E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0FF-D12B-451E-9378-2398705E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22D-878D-4AF0-9C61-9AC1ACF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30D-FEAA-4806-88C3-CE674DC3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211-1DD6-418E-8115-2E45511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5E9-D9FE-4407-89F4-85D2C70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716-B68E-4397-A393-F6E8CD0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3B5-E519-4647-8E75-087CE33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185-6D18-42E7-8022-3A3EE51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F7A-A172-410A-A590-E7DB0F45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0A0D-B41C-4841-A02A-9FE4B4E00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..\..\..\&#28783;&#20809;\&#38428;&#38451;&#25945;&#32946;&#20449;&#24687;&#32593;&#27426;&#36814;&#24744;!.htm" TargetMode="External"/><Relationship Id="rId3" Type="http://schemas.openxmlformats.org/officeDocument/2006/relationships/hyperlink" Target="..\..\..\..\&#28783;&#20809;\&#38428;&#38451;&#25945;&#32946;&#20449;&#24687;&#32593;&#27426;&#36814;&#24744;!.htm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93,31,&#24187;&#28783;&#29255; 31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93,31,&#24187;&#28783;&#29255; 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2"/>
          <a:srcRect l="0" t="0" r="0" b="4192"/>
          <a:stretch/>
        </p:blipFill>
        <p:spPr>
          <a:xfrm>
            <a:off x="0" y="404640"/>
            <a:ext cx="9144000" cy="600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35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9040" y="191772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灯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7"/>
          <p:cNvSpPr/>
          <p:nvPr/>
        </p:nvSpPr>
        <p:spPr>
          <a:xfrm>
            <a:off x="3492360" y="765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语回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395280" y="1557360"/>
            <a:ext cx="7920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未来的美好期待与向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形容珠玉、灯光等光彩耀眼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己对自己说话。    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千钧的重量系在一根头发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极其危险。      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29"/>
          <p:cNvSpPr/>
          <p:nvPr/>
        </p:nvSpPr>
        <p:spPr>
          <a:xfrm>
            <a:off x="6300720" y="314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璀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30"/>
          <p:cNvSpPr/>
          <p:nvPr/>
        </p:nvSpPr>
        <p:spPr>
          <a:xfrm>
            <a:off x="6227640" y="5229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钧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31"/>
          <p:cNvSpPr/>
          <p:nvPr/>
        </p:nvSpPr>
        <p:spPr>
          <a:xfrm flipV="1" rot="10800000">
            <a:off x="6226200" y="39301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言自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32"/>
          <p:cNvSpPr/>
          <p:nvPr/>
        </p:nvSpPr>
        <p:spPr>
          <a:xfrm>
            <a:off x="6227640" y="22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读记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7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 地     突 击      陷 入      憧 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阻 击     点 燃      焦 急      璀 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钧一发     聚精会神      震天动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、浏览课文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说文章的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09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现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往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现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2859120" y="2421000"/>
            <a:ext cx="410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WordArt 11" descr="窄竖线"/>
          <p:cNvPicPr/>
          <p:nvPr/>
        </p:nvPicPr>
        <p:blipFill>
          <a:blip r:embed="rId2"/>
          <a:stretch/>
        </p:blipFill>
        <p:spPr>
          <a:xfrm>
            <a:off x="676440" y="1481040"/>
            <a:ext cx="1060200" cy="725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32400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边读边发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答阅读提示中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965680" y="981000"/>
            <a:ext cx="37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628360" y="486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游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WordArt 7" descr="窄竖线"/>
          <p:cNvPicPr/>
          <p:nvPr/>
        </p:nvPicPr>
        <p:blipFill>
          <a:blip r:embed="rId2"/>
          <a:stretch/>
        </p:blipFill>
        <p:spPr>
          <a:xfrm>
            <a:off x="317520" y="334800"/>
            <a:ext cx="1060560" cy="719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3539520" y="2852280"/>
            <a:ext cx="240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明节前的一个晚上，我又漫步在广场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背后传来一声赞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513320" y="4867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赏灯 感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53960" y="2852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30200" y="2276640"/>
            <a:ext cx="295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一切准备工作都完成了，这会儿，他正倚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沟的胸墙坐着，一手夹着自制的烟卷，拿着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，一手轻轻地划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柴。他并没有点烟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着微弱的亮光看摆在双膝上的一本破书。书上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插图，画的是一盏吊着的电灯，一个孩子正在灯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精会神地读书。他注视着那幅图，默默地沉思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自言自语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894040" y="476280"/>
            <a:ext cx="37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WordArt 8" descr="窄竖线"/>
          <p:cNvPicPr/>
          <p:nvPr/>
        </p:nvPicPr>
        <p:blipFill>
          <a:blip r:embed="rId2"/>
          <a:stretch/>
        </p:blipFill>
        <p:spPr>
          <a:xfrm>
            <a:off x="317520" y="334800"/>
            <a:ext cx="10605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3006720" y="57330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郝副营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5685480" y="57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看书 羡慕！！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25240" y="1628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877760" y="2536920"/>
            <a:ext cx="522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又划着一根火柴，点燃了烟，又望了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画，深情地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明儿胜利了，咱们也能用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灯，让孩子们都在那样亮的灯光底下学习，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头靠在胸墙上，望着漆黑的夜空，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陷入了对未来的憧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65680" y="981000"/>
            <a:ext cx="37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好啊！”这句话分别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什么情况下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8" descr="窄竖线"/>
          <p:cNvPicPr/>
          <p:nvPr/>
        </p:nvPicPr>
        <p:blipFill>
          <a:blip r:embed="rId2"/>
          <a:stretch/>
        </p:blipFill>
        <p:spPr>
          <a:xfrm>
            <a:off x="317520" y="334800"/>
            <a:ext cx="106056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2862360" y="52999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郝副营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773320" y="534276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憧憬未来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‥‥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80880" y="19162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195640" y="2421000"/>
            <a:ext cx="5898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WordArt 3" descr="窄竖线"/>
          <p:cNvPicPr/>
          <p:nvPr/>
        </p:nvPicPr>
        <p:blipFill>
          <a:blip r:embed="rId2"/>
          <a:stretch/>
        </p:blipFill>
        <p:spPr>
          <a:xfrm>
            <a:off x="384120" y="1414440"/>
            <a:ext cx="1066680" cy="719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2400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边读边发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答阅读提示中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060360" y="549360"/>
            <a:ext cx="359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WordArt 3" descr="窄竖线"/>
          <p:cNvPicPr/>
          <p:nvPr/>
        </p:nvPicPr>
        <p:blipFill>
          <a:blip r:embed="rId2"/>
          <a:stretch/>
        </p:blipFill>
        <p:spPr>
          <a:xfrm>
            <a:off x="317520" y="262080"/>
            <a:ext cx="1060560" cy="718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539520" y="2852280"/>
            <a:ext cx="240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明节前的一个晚上，我又漫步在广场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背后传来一声赞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23000" y="1988280"/>
            <a:ext cx="25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   游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492000" y="260280"/>
            <a:ext cx="359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3" descr="窄竖线"/>
          <p:cNvPicPr/>
          <p:nvPr/>
        </p:nvPicPr>
        <p:blipFill>
          <a:blip r:embed="rId2"/>
          <a:stretch/>
        </p:blipFill>
        <p:spPr>
          <a:xfrm>
            <a:off x="317520" y="262080"/>
            <a:ext cx="1060560" cy="718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3130200" y="2565720"/>
            <a:ext cx="295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一切准备工作都完成了，这会儿，他正倚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沟的胸墙坐着，一手夹着自制的烟卷，拿着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，一手轻轻地划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柴。他并没有点烟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着微弱的亮光看摆在双膝上的一本破书。书上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插图，画的是一盏吊着的电灯，一个孩子正在灯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精会神地读书。他注视着那幅图，默默地沉思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自言自语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106080" y="184392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   郝副营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1763640" y="17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40000" y="981000"/>
            <a:ext cx="43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愿坚，山东人，当代军旅作家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参加八路军，做过报社记者和编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作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粮食的故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根火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普通劳动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足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及电影文学剧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闪闪的红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4430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492000" y="620640"/>
            <a:ext cx="359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在说这句话时，看到的是什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能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WordArt 3" descr="窄竖线"/>
          <p:cNvPicPr/>
          <p:nvPr/>
        </p:nvPicPr>
        <p:blipFill>
          <a:blip r:embed="rId2"/>
          <a:stretch/>
        </p:blipFill>
        <p:spPr>
          <a:xfrm>
            <a:off x="317520" y="262080"/>
            <a:ext cx="10605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1804680" y="2924280"/>
            <a:ext cx="522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又划着一根火柴，点燃了烟，又望了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画，深情地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明儿胜利了，咱们也能用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灯，让孩子们都在那样亮的灯光底下学习，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好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把头靠在胸墙上，望着漆黑的夜空，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陷入了对未来的憧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106080" y="2204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   郝副营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千钧一发的时刻，是郝副营长划着了火柴，点燃了那本书，举得高高的，为后续部队照亮了前进的路。可是，火光暴露了他自己，他被敌人的机枪打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位年轻的战友不惜自己的性命，为了让孩子们能够在电灯底下学习，他自己却没有来得及见一见电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32"/>
          <p:cNvSpPr/>
          <p:nvPr/>
        </p:nvSpPr>
        <p:spPr>
          <a:xfrm>
            <a:off x="324000" y="333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边读边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的愿望实现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2852280"/>
            <a:ext cx="360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郝副营长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莲花.mp3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684360" y="83664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位年轻的战友不惜自己的性命，为了让孩子们能够在电灯底下学习，他自己却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没有来得及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见一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34574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125" dur="45530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997000"/>
            <a:ext cx="7643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想对郝副营长说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莲花.mp3" descr=""/>
          <p:cNvPicPr/>
          <p:nvPr/>
        </p:nvPicPr>
        <p:blipFill>
          <a:blip r:embed="rId2"/>
          <a:stretch/>
        </p:blipFill>
        <p:spPr>
          <a:xfrm>
            <a:off x="6084720" y="4292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539640" y="692280"/>
            <a:ext cx="806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位年轻的战友不惜自己的性命，为了让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们能够在电灯底下学习，他自己却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没有来得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见一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46330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灯  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4859280" y="3500280"/>
            <a:ext cx="73080" cy="7938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859280" y="3933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00000" y="558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幸福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195640" y="2708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6948360" y="2997360"/>
            <a:ext cx="71640" cy="1800000"/>
          </a:xfrm>
          <a:custGeom>
            <a:avLst/>
            <a:gdLst>
              <a:gd name="textAreaLeft" fmla="*/ 0 w 71640"/>
              <a:gd name="textAreaRight" fmla="*/ 25920 w 71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23600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68360" y="3573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19564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122560" y="306864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28472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愿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859280" y="321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5796000" y="3500280"/>
            <a:ext cx="149040" cy="792360"/>
          </a:xfrm>
          <a:custGeom>
            <a:avLst/>
            <a:gdLst>
              <a:gd name="textAreaLeft" fmla="*/ 0 w 149040"/>
              <a:gd name="textAreaRight" fmla="*/ 53640 w 1490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94036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7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84080" cy="792000"/>
          </a:xfrm>
          <a:prstGeom prst="rect">
            <a:avLst/>
          </a:prstGeom>
          <a:ln w="0">
            <a:noFill/>
          </a:ln>
        </p:spPr>
      </p:pic>
      <p:sp>
        <p:nvSpPr>
          <p:cNvPr id="174" name="Line 18"/>
          <p:cNvSpPr/>
          <p:nvPr/>
        </p:nvSpPr>
        <p:spPr>
          <a:xfrm>
            <a:off x="197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6804000" y="566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2627280" y="5950080"/>
            <a:ext cx="374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411280" y="5084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首尾照应           倒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3635280" y="2708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4859280" y="2708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3852720" y="450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500328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3489480" y="35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郝副营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郝副营长或其他为你付出的人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拿出你的笔，对他们说出你想说的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也可以投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阜阳教育信息网欢迎您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!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358920" y="382680"/>
            <a:ext cx="8785080" cy="64753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8172360" y="564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00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后考上大学了，我要学我喜欢的东西，没课的时候要出学校好好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无标题"/>
          <p:cNvPicPr/>
          <p:nvPr/>
        </p:nvPicPr>
        <p:blipFill>
          <a:blip r:embed="rId2"/>
          <a:stretch/>
        </p:blipFill>
        <p:spPr>
          <a:xfrm>
            <a:off x="179280" y="1268280"/>
            <a:ext cx="4640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后有了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给爸爸妈妈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大房子，再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车，然后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无标1"/>
          <p:cNvPicPr/>
          <p:nvPr/>
        </p:nvPicPr>
        <p:blipFill>
          <a:blip r:embed="rId2"/>
          <a:stretch/>
        </p:blipFill>
        <p:spPr>
          <a:xfrm>
            <a:off x="3708360" y="100080"/>
            <a:ext cx="5057640" cy="6757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>
            <a:off x="1332000" y="5445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2900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阅读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33520" y="17524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革命先辈心怀崇高的理想，在敌人面前坚贞不屈，视死如归。下面这篇课文也讲述了一位革命战士为理想而献身的感人故事。阅读课文，想想课文讲了一件什么事。“多好啊！”这句话分别是谁在什么情况下说的？他们在说这句话时，看到的是什么，可能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4920" y="1341000"/>
            <a:ext cx="43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灯    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16000" y="2852640"/>
            <a:ext cx="3251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  王愿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文，学习生字新词，积累优美词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同学们默读课文。同时画出自己不会的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自学生字新词，说说你的自学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借助字典或工具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联系上下文或结合课文注释来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会的请教同学或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交流不会字词，共同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说你认为书中有哪些优美的词语值得我们积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324000" y="2205000"/>
            <a:ext cx="8229600" cy="2200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次：看到天安门广场千万盏灯照耀着其周围的宏伟建筑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衬托出首都的壮美，他可能会想到，我生活在这样美好的的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家里是多么温暖，多么幸福，多么自豪啊！我们祖国的明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会更加灿烂辉煌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250920" y="69228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次：郝副营长借火柴的亮光入神地看一本破书上的插图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他看到图上画着一个孩子正在吊着的电灯下聚精会神地读书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他可能会想，那电灯多亮啊！灯光多柔和啊！我要是能亲眼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看这又方便又明亮地电灯该多好啊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395280" y="836640"/>
            <a:ext cx="8280360" cy="561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三次：郝副营长又望了一眼图画，望着漆黑的夜空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完全陷入了对未来的憧憬里。这时他也许会想，革命胜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利以后将会把自己的祖国建设好，为创造幸福生活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辛勤地工作，我们千千万万的劳苦大众将在明亮地灯光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下工作，劳动人民的子女们将在那样亮的灯底下学习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不再像父辈那样被剥夺上学的权利和人身自由，那是多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么幸福的社会啊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759636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”的四个读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uó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着、着装、着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á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火、着凉、着急、着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ā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法、着数、高着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走着、开着会、顺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7596360" y="5157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581360"/>
            <a:ext cx="611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533520" y="1752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浏览课文，  “多好啊！”这句话分别是谁在什么情况下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52280" y="1295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间隙，郝副营长划着（   ），借着（      ）看一本书，书上的插图画的是（              ）。他充满了对未来的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守敌的围墙被炸开一个（    ），突击连马上（       ），后续部队在黑暗里（           ），在这（        ）的时刻，郝副营长划着火柴，点燃了（      ），（    ）为后续部队照亮了前进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胜利了，现在孩子们能够在（        ）学习，可他却没有来得及见一见（    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410080" y="27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缺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57200" y="32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冲了进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57200" y="2147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盏吊着的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934320" y="2133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867280" y="3214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找不到突破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4008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33520" y="1690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微弱的亮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295280" y="3595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钧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838080" y="40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124080" y="40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858000" y="5119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底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5486400" y="5562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105-BD54-4FEA-A6A4-F9D9CF0119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11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灯  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4859280" y="3500280"/>
            <a:ext cx="73080" cy="7938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859280" y="39337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00000" y="558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幸福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195640" y="270828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游客        感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7020000" y="2708280"/>
            <a:ext cx="75960" cy="2089080"/>
          </a:xfrm>
          <a:custGeom>
            <a:avLst/>
            <a:gdLst>
              <a:gd name="textAreaLeft" fmla="*/ 0 w 75960"/>
              <a:gd name="textAreaRight" fmla="*/ 27360 w 759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723600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268360" y="3573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事：郝副营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195640" y="4508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赏灯        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122560" y="2637000"/>
            <a:ext cx="73080" cy="2232000"/>
          </a:xfrm>
          <a:custGeom>
            <a:avLst/>
            <a:gdLst>
              <a:gd name="textAreaLeft" fmla="*/ 46800 w 73080"/>
              <a:gd name="textAreaRight" fmla="*/ 73440 w 73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428472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愿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859280" y="321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5796000" y="3500280"/>
            <a:ext cx="149040" cy="792360"/>
          </a:xfrm>
          <a:custGeom>
            <a:avLst/>
            <a:gdLst>
              <a:gd name="textAreaLeft" fmla="*/ 0 w 149040"/>
              <a:gd name="textAreaRight" fmla="*/ 53640 w 1490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5940360" y="36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84080" cy="792000"/>
          </a:xfrm>
          <a:prstGeom prst="rect">
            <a:avLst/>
          </a:prstGeom>
          <a:ln w="0">
            <a:noFill/>
          </a:ln>
        </p:spPr>
      </p:pic>
      <p:sp>
        <p:nvSpPr>
          <p:cNvPr id="247" name="Line 18"/>
          <p:cNvSpPr/>
          <p:nvPr/>
        </p:nvSpPr>
        <p:spPr>
          <a:xfrm>
            <a:off x="197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1979640" y="378936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4932360" y="386064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6659640" y="3860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680400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之不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2627280" y="5805360"/>
            <a:ext cx="374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2411280" y="5084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首尾照应           倒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42900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阅读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3520" y="17524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阅读课文，想想课文讲了一件什么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“多好啊！”这句话分别是谁在什么情况下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他们在说这句话时，看到的是什么，可能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11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灯  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274920" y="3355920"/>
            <a:ext cx="216000" cy="12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08360" y="36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柴灯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635280" y="4221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书灯照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042920" y="35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68360" y="2421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游客  感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7020000" y="2637000"/>
            <a:ext cx="75960" cy="2376360"/>
          </a:xfrm>
          <a:custGeom>
            <a:avLst/>
            <a:gdLst>
              <a:gd name="textAreaLeft" fmla="*/ 0 w 75960"/>
              <a:gd name="textAreaRight" fmla="*/ 27360 w 759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7415280" y="342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心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38560" y="3645000"/>
            <a:ext cx="25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往事：郝副营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340000" y="4941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：赏灯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>
            <a:off x="2122560" y="2637000"/>
            <a:ext cx="71280" cy="2520720"/>
          </a:xfrm>
          <a:custGeom>
            <a:avLst/>
            <a:gdLst>
              <a:gd name="textAreaLeft" fmla="*/ 45720 w 71280"/>
              <a:gd name="textAreaRight" fmla="*/ 71640 w 712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4284720" y="1628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王愿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3520" y="175248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听课文朗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想课文讲了一件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26"/>
          <p:cNvSpPr/>
          <p:nvPr/>
        </p:nvSpPr>
        <p:spPr>
          <a:xfrm>
            <a:off x="1476360" y="155736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想课文讲了一件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WordArt 1027" descr="窄竖线"/>
          <p:cNvPicPr/>
          <p:nvPr/>
        </p:nvPicPr>
        <p:blipFill>
          <a:blip r:embed="rId2"/>
          <a:stretch/>
        </p:blipFill>
        <p:spPr>
          <a:xfrm>
            <a:off x="603360" y="476280"/>
            <a:ext cx="1060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自由读文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求：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出不认识的字词，自学生字新词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出你认为好的词语，积累优美词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2133720"/>
            <a:ext cx="799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  入    憧  憬      璀  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  歼    阻  击      黑魆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郝副营长  划着火柴    千钧一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97440" y="1557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869200" y="163512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ōngj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990400" y="16351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uǐ    c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324440" y="3429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059280" y="3429000"/>
            <a:ext cx="5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z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64308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297600" y="53071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26880" y="53802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ă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6"/>
          <p:cNvGrpSpPr/>
          <p:nvPr/>
        </p:nvGrpSpPr>
        <p:grpSpPr>
          <a:xfrm>
            <a:off x="684360" y="2781360"/>
            <a:ext cx="6697080" cy="3744360"/>
            <a:chOff x="684360" y="2781360"/>
            <a:chExt cx="6697080" cy="3744360"/>
          </a:xfrm>
        </p:grpSpPr>
        <p:sp>
          <p:nvSpPr>
            <p:cNvPr id="67" name="AutoShape 15"/>
            <p:cNvSpPr/>
            <p:nvPr/>
          </p:nvSpPr>
          <p:spPr>
            <a:xfrm>
              <a:off x="75528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6"/>
            <p:cNvSpPr/>
            <p:nvPr/>
          </p:nvSpPr>
          <p:spPr>
            <a:xfrm>
              <a:off x="327636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7"/>
            <p:cNvSpPr/>
            <p:nvPr/>
          </p:nvSpPr>
          <p:spPr>
            <a:xfrm>
              <a:off x="6300720" y="2852280"/>
              <a:ext cx="7236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>
              <a:off x="169200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>
              <a:off x="428436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>
              <a:off x="730872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>
              <a:off x="68436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22"/>
            <p:cNvSpPr/>
            <p:nvPr/>
          </p:nvSpPr>
          <p:spPr>
            <a:xfrm>
              <a:off x="327636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23"/>
            <p:cNvSpPr/>
            <p:nvPr/>
          </p:nvSpPr>
          <p:spPr>
            <a:xfrm>
              <a:off x="377964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4"/>
            <p:cNvSpPr/>
            <p:nvPr/>
          </p:nvSpPr>
          <p:spPr>
            <a:xfrm>
              <a:off x="687672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5"/>
            <p:cNvSpPr/>
            <p:nvPr/>
          </p:nvSpPr>
          <p:spPr>
            <a:xfrm>
              <a:off x="687672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95280" y="2133720"/>
            <a:ext cx="799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陷  入    憧  憬      璀  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  歼    阻  击      黑魆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郝副营长  划着火柴    千钧一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97440" y="1557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843280" y="16351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ōngj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990400" y="16351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uǐ    c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332000" y="3429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59280" y="3429000"/>
            <a:ext cx="5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z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659640" y="342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297600" y="53071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26880" y="53802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ă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516720" y="51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j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684360" y="2781360"/>
            <a:ext cx="6697080" cy="3744360"/>
            <a:chOff x="684360" y="2781360"/>
            <a:chExt cx="6697080" cy="3744360"/>
          </a:xfrm>
        </p:grpSpPr>
        <p:sp>
          <p:nvSpPr>
            <p:cNvPr id="90" name="AutoShape 14"/>
            <p:cNvSpPr/>
            <p:nvPr/>
          </p:nvSpPr>
          <p:spPr>
            <a:xfrm>
              <a:off x="75528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>
              <a:off x="327636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>
              <a:off x="6300720" y="2852280"/>
              <a:ext cx="7236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7"/>
            <p:cNvSpPr/>
            <p:nvPr/>
          </p:nvSpPr>
          <p:spPr>
            <a:xfrm>
              <a:off x="169200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284360" y="285228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9"/>
            <p:cNvSpPr/>
            <p:nvPr/>
          </p:nvSpPr>
          <p:spPr>
            <a:xfrm>
              <a:off x="7308720" y="278136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20"/>
            <p:cNvSpPr/>
            <p:nvPr/>
          </p:nvSpPr>
          <p:spPr>
            <a:xfrm>
              <a:off x="68436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1"/>
            <p:cNvSpPr/>
            <p:nvPr/>
          </p:nvSpPr>
          <p:spPr>
            <a:xfrm>
              <a:off x="327636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2"/>
            <p:cNvSpPr/>
            <p:nvPr/>
          </p:nvSpPr>
          <p:spPr>
            <a:xfrm>
              <a:off x="377964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23"/>
            <p:cNvSpPr/>
            <p:nvPr/>
          </p:nvSpPr>
          <p:spPr>
            <a:xfrm>
              <a:off x="6876720" y="4724280"/>
              <a:ext cx="72720" cy="72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4"/>
            <p:cNvSpPr/>
            <p:nvPr/>
          </p:nvSpPr>
          <p:spPr>
            <a:xfrm>
              <a:off x="6876720" y="6453000"/>
              <a:ext cx="72720" cy="72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8:57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02:12:16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