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F361-625A-4C4E-8A5B-59CD3030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C12-BAB8-4454-8B07-19A0E76E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6DE-7C0D-4DF2-9C44-DB23E72C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632-E484-4C1B-82BE-19659C84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AF2C-4FD6-4979-B07F-BE09FAE7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27FC-194B-4B63-AB84-749E634E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D822-DD2C-46C6-967E-BC780A69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69E4-8F6B-4B8F-99A1-2A25DB35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B1CA-AA62-4AB4-B3E6-9AA78CF9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D783-0942-4ADF-B4C3-7FBC577D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466B-3BA2-4379-A1D9-20A6F306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1EE-36E4-4230-8186-D2A275A7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B1BB-52D9-441B-872A-19D79FF9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6FBA-E8FA-4179-8CEB-564FE865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5A8B-D52C-446C-936C-992CBB37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4146-6F2E-4DB0-AB09-A5C1D954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80FE-A9DD-4BEA-8736-F9A41782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7CB2-8197-435C-AFEE-497C7D76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19E-0F20-4487-82D7-BE9DC119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1099-165E-4D13-AA27-DA32CF34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7F5-CE54-4050-8D16-C553DA05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92F8-E95D-46B6-A238-CE8A69AF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09AB-7FA7-4A6D-942F-914B523B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30B4-F78B-4C0E-AE2B-DE6C1784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2f2e"/>
              </a:gs>
              <a:gs pos="50000">
                <a:srgbClr val="00cc99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8A76-7069-4124-BCD6-D4CDE3903F6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2f2e"/>
              </a:gs>
              <a:gs pos="50000">
                <a:srgbClr val="00cc99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91FC-3ECE-405F-AA25-3AE5AF780926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XX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国游戏市场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分析与展望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——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XXX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股份有限公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XX</a:t>
            </a:r>
            <a:endParaRPr b="0" lang="en-US" sz="2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78520" y="6381720"/>
            <a:ext cx="28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XX</a:t>
            </a:r>
            <a:r>
              <a:rPr b="1" lang="en-US" sz="40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国未来经济的发展和信息业的发展</a:t>
            </a:r>
            <a:br>
              <a:rPr sz="4000"/>
            </a:b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XX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国巨大的经济增长势头和潜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装机台数的增长——上网人数增长—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单机游戏用户——网络游戏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社会观念的改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庞大的潜在用户群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五千万电脑游戏用户以及大量的游戏机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社会文化和意识形态的影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盗版向正版的转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WTO</a:t>
            </a:r>
            <a:r>
              <a:rPr b="1" lang="en-US" sz="44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对</a:t>
            </a:r>
            <a:r>
              <a:rPr b="1" lang="en-US" sz="44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XX</a:t>
            </a:r>
            <a:r>
              <a:rPr b="1" lang="en-US" sz="44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国的影响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国际规则的压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政府形象与法律的实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渠道的广泛化与正规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cccc"/>
                </a:solidFill>
                <a:latin typeface="楷体_GB2312"/>
                <a:ea typeface="楷体_GB2312"/>
              </a:rPr>
              <a:t>（三）与合作</a:t>
            </a:r>
            <a:endParaRPr b="0" lang="en-US" sz="6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共同研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进入市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进入国际市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0"/>
            <a:ext cx="3581280" cy="838080"/>
          </a:xfrm>
          <a:prstGeom prst="cloudCallout">
            <a:avLst>
              <a:gd name="adj1" fmla="val -43750"/>
              <a:gd name="adj2" fmla="val 70074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SH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长期的打算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游戏的发展不是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-3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的事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品牌建设的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力资源的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媒体的成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稳定可靠的合作伙伴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规模与商业诚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地政府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彼此的品牌提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资源的共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彼此的沟通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nternet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代带来的变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共同的理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资本的结合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用资本的语言说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按资本的规则做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15364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o be or not to be, this is a question 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95440" y="3388320"/>
            <a:ext cx="2379600" cy="12614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25160" y="3245040"/>
            <a:ext cx="117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谢谢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大家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（一）游戏市场的现状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——想象空间与市场空间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99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年以来游戏市场迅猛增大，目前单机游戏市场份额已经达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.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亿人民币，网络游戏市场份额已经达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9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万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发行游戏的数量，制作与代理公司的数量增加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cc"/>
                </a:solidFill>
                <a:latin typeface="Times New Roman"/>
              </a:rPr>
              <a:t>游戏业的增长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24996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cc"/>
                </a:solidFill>
                <a:latin typeface="Times New Roman"/>
              </a:rPr>
              <a:t>游戏业的增长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2209680"/>
          <a:ext cx="6249960" cy="43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6249960" cy="43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年各类单机游戏市场比例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1638360"/>
          <a:ext cx="8400960" cy="48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38360"/>
                    <a:ext cx="840096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游戏市场的几方面的特点——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单机游戏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3123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文化界面和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XX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国文化的题材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短期市场操作与长期品牌运作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渠道复杂，管理困难，信用度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市场周期短，与盗版直接赛跑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cc"/>
                </a:solidFill>
                <a:uFillTx/>
                <a:latin typeface="Times New Roman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游戏市场的几方面的特点——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网络游戏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3123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卡和点数卡价格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网络带宽情况不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带宽租用和服务器租用成本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运营管理决定盈利与否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二）游戏的未来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电子游戏将成为未来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XX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国人的主要休闲方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XX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国未来经济的发展和信息业的发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庞大的潜在用户群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WTO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XX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国的影响。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4716360" y="0"/>
            <a:ext cx="4724640" cy="1447920"/>
          </a:xfrm>
          <a:custGeom>
            <a:avLst/>
            <a:gdLst>
              <a:gd name="textAreaLeft" fmla="*/ 1109520 w 4724640"/>
              <a:gd name="textAreaRight" fmla="*/ 3615120 w 4724640"/>
              <a:gd name="textAreaTop" fmla="*/ 339840 h 1447920"/>
              <a:gd name="textAreaBottom" fmla="*/ 11080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Futu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电子游戏将成为未来</a:t>
            </a:r>
            <a:r>
              <a:rPr b="1" lang="en-US" sz="40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XX</a:t>
            </a:r>
            <a:r>
              <a:rPr b="1" lang="en-US" sz="4000" spc="-1" strike="noStrike">
                <a:solidFill>
                  <a:srgbClr val="66ffcc"/>
                </a:solidFill>
                <a:latin typeface="楷体_GB2312"/>
                <a:ea typeface="楷体_GB2312"/>
              </a:rPr>
              <a:t>国人的主要休闲方式</a:t>
            </a:r>
            <a:br>
              <a:rPr sz="4000"/>
            </a:b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亚洲地区人口多，居住面积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东方人外静内动的性格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资源消耗小，投入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8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2:48:2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