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0CA-7A6B-4164-AD2F-9F556A18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DC0-4D49-47C4-9406-0DF80679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473-0496-404B-B20D-BA0A2553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76C-D88E-4CC4-8056-5AA94F80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BB4-3082-4760-B302-E4863348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636-6446-442C-9AF2-206B6722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EFA-87D2-4CCD-A86D-1EFA6CBD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FF1-BED5-4593-BC7E-E3FC4832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CF3-3198-408A-8D31-DF7FE34B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982-0030-4D9C-AF5D-EA0E05DC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DDB-81D3-41D6-92A6-0A570191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0B2-96AC-45AB-B4AF-91C9A38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02EB-DB9B-4A98-8347-FA0060CDE1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-441720"/>
            <a:ext cx="7848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5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645336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307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mic Sans MS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omic Sans MS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1260360" y="184464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倒数的认识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2492280"/>
                <a:ext cx="1676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513240" y="2492280"/>
                <a:ext cx="2117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372360" y="2492280"/>
                <a:ext cx="15429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 Box 8"/>
          <p:cNvSpPr/>
          <p:nvPr/>
        </p:nvSpPr>
        <p:spPr>
          <a:xfrm>
            <a:off x="2556000" y="27496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435640" y="270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81200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23960" y="1989000"/>
            <a:ext cx="7696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乘积是</a:t>
            </a:r>
            <a:r>
              <a:rPr b="1" lang="en-US" sz="6600" spc="-1" strike="noStrike">
                <a:solidFill>
                  <a:srgbClr val="703dff"/>
                </a:solidFill>
                <a:latin typeface="宋体"/>
              </a:rPr>
              <a:t>1</a:t>
            </a: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的两个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互为倒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65600" y="198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乘积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219120" y="19890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065600" y="31989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互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BB1-B821-405D-87BD-980BB2B843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2"/>
          <p:cNvSpPr/>
          <p:nvPr/>
        </p:nvSpPr>
        <p:spPr>
          <a:xfrm>
            <a:off x="250920" y="62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85680"/>
            <a:ext cx="4321080" cy="1575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345960"/>
            <a:ext cx="9352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1735200"/>
            <a:ext cx="2519280" cy="1131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068720" y="1735200"/>
            <a:ext cx="2232000" cy="111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64000" y="1692360"/>
            <a:ext cx="411480" cy="1060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39640" y="2959200"/>
            <a:ext cx="2519640" cy="113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068720" y="2959200"/>
            <a:ext cx="2232000" cy="111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380200" y="2930400"/>
            <a:ext cx="377640" cy="1060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2050920" y="41148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求一个数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除外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的倒数，只要把这个数的分子、分母调换位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64548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5" descr=""/>
          <p:cNvPicPr/>
          <p:nvPr/>
        </p:nvPicPr>
        <p:blipFill>
          <a:blip r:embed="rId1"/>
          <a:stretch/>
        </p:blipFill>
        <p:spPr>
          <a:xfrm>
            <a:off x="316080" y="698400"/>
            <a:ext cx="7448400" cy="5869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06640" y="6261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48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1:25:2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