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8.gif" ContentType="image/gif"/>
  <Override PartName="/ppt/media/image12.wmf" ContentType="image/x-wmf"/>
  <Override PartName="/ppt/media/image7.wmf" ContentType="image/x-wmf"/>
  <Override PartName="/ppt/media/image11.gif" ContentType="image/gif"/>
  <Override PartName="/ppt/media/image9.wmf" ContentType="image/x-wmf"/>
  <Override PartName="/ppt/media/image19.gif" ContentType="image/gif"/>
  <Override PartName="/ppt/media/image4.wmf" ContentType="image/x-wmf"/>
  <Override PartName="/ppt/media/image18.gif" ContentType="image/gif"/>
  <Override PartName="/ppt/media/image3.wmf" ContentType="image/x-wmf"/>
  <Override PartName="/ppt/media/image16.wmf" ContentType="image/x-wmf"/>
  <Override PartName="/ppt/media/image13.gif" ContentType="image/gif"/>
  <Override PartName="/ppt/media/image14.wmf" ContentType="image/x-wmf"/>
  <Override PartName="/ppt/media/image1.jpeg" ContentType="image/jpeg"/>
  <Override PartName="/ppt/media/image15.wmf" ContentType="image/x-wmf"/>
  <Override PartName="/ppt/media/type.wav" ContentType="audio/x-wav"/>
  <Override PartName="/ppt/media/image6.gif" ContentType="image/gif"/>
  <Override PartName="/ppt/media/image17.wmf" ContentType="image/x-wmf"/>
  <Override PartName="/ppt/media/image5.png" ContentType="image/pn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DEA9-ED38-469F-8E47-B2740CBE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9AA-6594-497D-8AD5-473E0796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46F5-041C-4524-BD8B-FF7075A3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70DD-C480-465C-BC6F-26D63B8B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9AC-FFAE-4793-8DEF-C2162764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5078-24FC-499F-9750-A9106772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D25C-DFED-4326-84E4-8A9A639C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4D2-D88C-4C6E-A37D-060B77BC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395-7792-46C2-A6DB-73B7DD65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B05B-9636-4AEE-B577-6877070A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776-515E-46FC-9578-DB3F6B5C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E232-814C-41B5-8E09-DF3E47BB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0B8C-EBD7-45BF-AEE9-A7BF1B687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8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99ff"/>
                </a:solidFill>
                <a:latin typeface="Times New Roman"/>
              </a:rPr>
              <a:t>大学生思想道德修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62520" y="429408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b150f"/>
                </a:solidFill>
                <a:latin typeface="Times New Roman"/>
              </a:rPr>
              <a:t>要注意解决的问题是</a:t>
            </a:r>
            <a:r>
              <a:rPr b="0" lang="zh-CN" sz="4400" spc="-1" strike="noStrike">
                <a:solidFill>
                  <a:srgbClr val="fb150f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　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确认识年轻给自己带来的优势与劣势，长处与不足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培养积极向上的健康心理和精神面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516720" y="2924280"/>
            <a:ext cx="1727280" cy="2468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b150f"/>
                </a:solidFill>
                <a:latin typeface="Comic Sans MS"/>
              </a:rPr>
              <a:t>二、人才成长的关键时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大学阶段是学习知识、掌握技能的最佳时期：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精力充沛；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环境良好；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时间充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大学阶段是思想观念形成的重要时期：影响人一生的关键时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大学阶段是步入社会的前奏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type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b150f"/>
                </a:solidFill>
                <a:latin typeface="Times New Roman"/>
                <a:ea typeface="黑体"/>
              </a:rPr>
              <a:t>第二节　大学生活的新环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23640" y="2491920"/>
            <a:ext cx="49690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本节的主要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大学与大学教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大学生的社会责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3" name="type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b150f"/>
                </a:solidFill>
                <a:latin typeface="Times New Roman"/>
                <a:ea typeface="隶书"/>
              </a:rPr>
              <a:t>一、大学与大学教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15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150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b150f"/>
                </a:solidFill>
                <a:latin typeface="Times New Roman"/>
              </a:rPr>
              <a:t>、什么是大学？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般认为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638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年英国伦敦大学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69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年德国哈雷大学的成立，是近代意义大学成立的标志。特别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1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年柏林大学建立后，校长洪堡确立了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University”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办学理念，大学一词源于德语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Univera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即普遍、无所不包、万有、广博之义。由此可见，大学是一个新的理性组织，是对世界进行新的解释，发现新规律，不断地向真理接近，增长人类的新知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type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547056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我国最早建立的近代大学为天津西学堂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89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年）和北京京师大学堂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898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年）。至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世纪末，我国已拥有普通高校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02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所，在校大学生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00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万，形成了学科门类齐全的高等教育体系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652840" cy="2990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150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b150f"/>
                </a:solidFill>
                <a:latin typeface="Times New Roman"/>
              </a:rPr>
              <a:t>、大学的内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60469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首先，大学是高等教育的场所，培养高层次的种类人才是大学的核心功能。“高层次”是指教学内容、教育对象、教育目标的高层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其次，大学具有学科覆盖的广泛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再次，大学教育是有标准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732720" y="4292640"/>
            <a:ext cx="1657080" cy="1819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150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b150f"/>
                </a:solidFill>
                <a:latin typeface="Times New Roman"/>
              </a:rPr>
              <a:t>、大学的功能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7928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学习知识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承知识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创造知识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实践知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143760" y="3652920"/>
            <a:ext cx="1884240" cy="177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54936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b150f"/>
                </a:solidFill>
                <a:latin typeface="Times New Roman"/>
                <a:ea typeface="隶书"/>
              </a:rPr>
              <a:t>二、大学生活新变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1337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bb6"/>
                </a:solidFill>
                <a:latin typeface="隶书"/>
                <a:ea typeface="隶书"/>
              </a:rPr>
              <a:t>与中学相比</a:t>
            </a:r>
            <a:r>
              <a:rPr b="1" lang="en-US" sz="4000" spc="-1" strike="noStrike">
                <a:solidFill>
                  <a:srgbClr val="002bb6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2bb6"/>
                </a:solidFill>
                <a:latin typeface="隶书"/>
                <a:ea typeface="隶书"/>
              </a:rPr>
              <a:t>大学的生活环境发生了一系列的变化</a:t>
            </a:r>
            <a:r>
              <a:rPr b="1" lang="en-US" sz="4000" spc="-1" strike="noStrike">
                <a:solidFill>
                  <a:srgbClr val="002bb6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3581280"/>
            <a:ext cx="306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想想看</a:t>
            </a:r>
            <a:r>
              <a:rPr b="0" lang="en-US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通过半个月多的大学生活</a:t>
            </a:r>
            <a:r>
              <a:rPr b="0" lang="en-US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大学与中学到底有哪些不同</a:t>
            </a:r>
            <a:r>
              <a:rPr b="0" lang="en-US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38680" y="3276720"/>
            <a:ext cx="3033720" cy="3200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1295280" cy="1752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4" name="type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75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675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175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675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175"/>
                            </p:stCondLst>
                            <p:childTnLst>
                              <p:par>
                                <p:cTn id="28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553080" y="4572000"/>
            <a:ext cx="2495520" cy="13716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648320"/>
            <a:ext cx="2514600" cy="1523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1981080"/>
            <a:ext cx="4800600" cy="7621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189000"/>
            <a:ext cx="567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b150f"/>
                </a:solidFill>
                <a:latin typeface="Times New Roman"/>
                <a:ea typeface="隶书"/>
              </a:rPr>
              <a:t>（一）环境的变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19051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校园环境的变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学习环境的变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61280" y="4365720"/>
            <a:ext cx="268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生活环境的变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type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47628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b150f"/>
                </a:solidFill>
                <a:latin typeface="Times New Roman"/>
                <a:ea typeface="隶书"/>
              </a:rPr>
              <a:t>（二）目标的变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64800" y="2209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中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79600" y="2133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大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124080"/>
            <a:ext cx="259056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单一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5029200"/>
            <a:ext cx="251460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潜在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3200400"/>
            <a:ext cx="251460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多向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952880"/>
            <a:ext cx="2514600" cy="129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现实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373392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556272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4572000"/>
            <a:ext cx="1655640" cy="1905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总体概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</a:rPr>
              <a:t>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600" spc="-1" strike="noStrike" u="sng">
                <a:solidFill>
                  <a:srgbClr val="ccccff"/>
                </a:solidFill>
                <a:uFillTx/>
                <a:latin typeface="Times New Roman"/>
              </a:rPr>
              <a:t>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</a:rPr>
              <a:t>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意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</a:rPr>
              <a:t>考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b150f"/>
                </a:solidFill>
                <a:latin typeface="Times New Roman"/>
                <a:ea typeface="隶书"/>
              </a:rPr>
              <a:t>三、大学生的社会责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830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个人发展与社会责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中国的发展需要大学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按照大学的培养目标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　社会发展的要求塑造自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20000" y="3573360"/>
            <a:ext cx="1663560" cy="2611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b150f"/>
                </a:solidFill>
                <a:latin typeface="Times New Roman"/>
                <a:ea typeface="黑体"/>
              </a:rPr>
              <a:t>第三节　大学生活的新设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95280" y="2276640"/>
            <a:ext cx="59022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Comic Sans MS"/>
              </a:rPr>
              <a:t>本节的主要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高职大学生的新视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大学生活的新方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全面发展与发展特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type.wav"/>
      </p:stSnd>
    </p:sndAc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b150f"/>
                </a:solidFill>
                <a:latin typeface="Times New Roman"/>
                <a:ea typeface="隶书"/>
              </a:rPr>
              <a:t>一、高职大学生的新视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这里我们须着重讲清一个问题，即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消除偏见，树立信心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抓住机遇，立志成才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468360" cy="444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68360" y="3941640"/>
            <a:ext cx="431640" cy="408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580000" y="2421000"/>
            <a:ext cx="2746440" cy="3456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5" name="type.wav"/>
      </p:stSnd>
    </p:sndAc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404640"/>
            <a:ext cx="778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b150f"/>
                </a:solidFill>
                <a:latin typeface="隶书"/>
                <a:ea typeface="隶书"/>
              </a:rPr>
              <a:t>二、大学生活新方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1989000"/>
            <a:ext cx="4496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bb6"/>
                </a:solidFill>
                <a:latin typeface="Lucida Sans"/>
                <a:ea typeface="黑体"/>
              </a:rPr>
              <a:t>“</a:t>
            </a:r>
            <a:r>
              <a:rPr b="1" lang="en-US" sz="4400" spc="-1" strike="noStrike">
                <a:solidFill>
                  <a:srgbClr val="002bb6"/>
                </a:solidFill>
                <a:latin typeface="Lucida Sans"/>
                <a:ea typeface="黑体"/>
              </a:rPr>
              <a:t>Learning to know,learning to do,learning to live together, learning to be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867280" y="2997360"/>
            <a:ext cx="3019680" cy="2946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7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2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150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b150f"/>
                </a:solidFill>
                <a:latin typeface="Times New Roman"/>
              </a:rPr>
              <a:t>、大学生活方式的新特点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6584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）日常生活：有序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）消费：　　有度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）闲暇娱乐：有益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）社会交往：有心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）学习：　　有志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095880" y="2286000"/>
            <a:ext cx="2351160" cy="3048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500"/>
                            </p:stCondLst>
                            <p:childTnLst>
                              <p:par>
                                <p:cTn id="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150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b150f"/>
                </a:solidFill>
                <a:latin typeface="Times New Roman"/>
              </a:rPr>
              <a:t>、做新生活的主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10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）紧握自我教育的金钥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）做时间的主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）培养角色意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715000" y="2666880"/>
            <a:ext cx="3124080" cy="3868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b150f"/>
                </a:solidFill>
                <a:latin typeface="Times New Roman"/>
                <a:ea typeface="隶书"/>
              </a:rPr>
              <a:t>三、全面发展与发展特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547056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全面发展，人人做得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150f"/>
                </a:solidFill>
                <a:latin typeface="Times New Roman"/>
              </a:rPr>
              <a:t>　全面发展：</a:t>
            </a:r>
            <a:r>
              <a:rPr b="1" lang="zh-CN" sz="3200" spc="-1" strike="noStrike">
                <a:solidFill>
                  <a:srgbClr val="002bb6"/>
                </a:solidFill>
                <a:latin typeface="Times New Roman"/>
              </a:rPr>
              <a:t>德、智、体、美、劳等全面和谐地发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发展特长，人人都需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948360" y="4221000"/>
            <a:ext cx="1095480" cy="1854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b150f"/>
                </a:solidFill>
                <a:latin typeface="Times New Roman"/>
              </a:rPr>
              <a:t>四、如何做一个适当的个人规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95640" y="1268280"/>
            <a:ext cx="57578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、制定一个“跳起来就能抅得着的目标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、合理安排自己的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、认识和利用现有的资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、总体目标的稳定与阶段目标的修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2141640" cy="1866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500"/>
                            </p:stCondLst>
                            <p:childTnLst>
                              <p:par>
                                <p:cTn id="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000"/>
                            </p:stCondLst>
                            <p:childTnLst>
                              <p:par>
                                <p:cTn id="5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52280" y="88920"/>
          <a:ext cx="8839080" cy="6678720"/>
        </p:xfrm>
        <a:graphic>
          <a:graphicData uri="http://schemas.openxmlformats.org/drawingml/2006/table">
            <a:tbl>
              <a:tblPr/>
              <a:tblGrid>
                <a:gridCol w="5943600"/>
                <a:gridCol w="289548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学四年总目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取得优异成绩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拥有本专业特长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提高自身修养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b150f"/>
                      </a:solidFill>
                    </a:lnL>
                    <a:lnR w="13680">
                      <a:solidFill>
                        <a:srgbClr val="fb150f"/>
                      </a:solidFill>
                    </a:lnR>
                    <a:lnT w="13680">
                      <a:solidFill>
                        <a:srgbClr val="fb150f"/>
                      </a:solidFill>
                    </a:lnT>
                    <a:lnB w="13680">
                      <a:solidFill>
                        <a:srgbClr val="fb150f"/>
                      </a:solidFill>
                    </a:lnB>
                    <a:solidFill>
                      <a:srgbClr val="bce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大学四年总目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拿到文凭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做个社会欢迎的大学生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b150f"/>
                      </a:solidFill>
                    </a:lnL>
                    <a:lnR w="13680">
                      <a:solidFill>
                        <a:srgbClr val="fb150f"/>
                      </a:solidFill>
                    </a:lnR>
                    <a:lnT w="13680">
                      <a:solidFill>
                        <a:srgbClr val="fb150f"/>
                      </a:solidFill>
                    </a:lnT>
                    <a:lnB w="13680">
                      <a:solidFill>
                        <a:srgbClr val="fb150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3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阶段目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: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各门课程争取好成绩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;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练好书法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;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通过英语四级考试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;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提高写作能力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: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各门课程争取好成绩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;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学好计算机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;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力争通过英语六级考试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并开始用英语写信和日记等小文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三、：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b150f"/>
                      </a:solidFill>
                    </a:lnL>
                    <a:lnR w="13680">
                      <a:solidFill>
                        <a:srgbClr val="fb150f"/>
                      </a:solidFill>
                    </a:lnR>
                    <a:lnT w="13680">
                      <a:solidFill>
                        <a:srgbClr val="fb150f"/>
                      </a:solidFill>
                    </a:lnT>
                    <a:lnB w="13680">
                      <a:solidFill>
                        <a:srgbClr val="fb150f"/>
                      </a:solidFill>
                    </a:lnB>
                    <a:solidFill>
                      <a:srgbClr val="bce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阶段目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用心学习，争取好成绩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b150f"/>
                      </a:solidFill>
                    </a:lnL>
                    <a:lnR w="13680">
                      <a:solidFill>
                        <a:srgbClr val="fb150f"/>
                      </a:solidFill>
                    </a:lnR>
                    <a:lnT w="13680">
                      <a:solidFill>
                        <a:srgbClr val="fb150f"/>
                      </a:solidFill>
                    </a:lnT>
                    <a:lnB w="13680">
                      <a:solidFill>
                        <a:srgbClr val="fb150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88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他目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努力加强书法练习；下好围棋，进入院前四名；锻炼好身体；处理好人际关系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b150f"/>
                      </a:solidFill>
                    </a:lnL>
                    <a:lnR w="13680">
                      <a:solidFill>
                        <a:srgbClr val="fb150f"/>
                      </a:solidFill>
                    </a:lnR>
                    <a:lnT w="13680">
                      <a:solidFill>
                        <a:srgbClr val="fb150f"/>
                      </a:solidFill>
                    </a:lnT>
                    <a:lnB w="13680">
                      <a:solidFill>
                        <a:srgbClr val="fb150f"/>
                      </a:solidFill>
                    </a:lnB>
                    <a:solidFill>
                      <a:srgbClr val="bce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其他目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提高自我能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b150f"/>
                      </a:solidFill>
                    </a:lnL>
                    <a:lnR w="13680">
                      <a:solidFill>
                        <a:srgbClr val="fb150f"/>
                      </a:solidFill>
                    </a:lnR>
                    <a:lnT w="13680">
                      <a:solidFill>
                        <a:srgbClr val="fb150f"/>
                      </a:solidFill>
                    </a:lnT>
                    <a:lnB w="13680">
                      <a:solidFill>
                        <a:srgbClr val="fb150f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</p:spTree>
  </p:cSld>
  <p:transition>
    <p:blinds dir="horz"/>
    <p:sndAc>
      <p:stSnd>
        <p:snd r:embed="rId2" name="type.wav"/>
      </p:stSnd>
    </p:sndAc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476360" y="620640"/>
            <a:ext cx="6983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b150f"/>
                </a:solidFill>
                <a:latin typeface="Times New Roman"/>
                <a:ea typeface="隶书"/>
              </a:rPr>
              <a:t>你对这门课的认识和要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451640" y="4365720"/>
            <a:ext cx="1524240" cy="1914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79280" y="620640"/>
            <a:ext cx="1081080" cy="107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8920" y="1628640"/>
            <a:ext cx="64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、你以前接触过思想道德方面的哪些知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、你认为我们现在应当讲哪些内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、你现在最关心的问题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　回答以上问题可在下课后书面交给老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4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88000" y="4437000"/>
            <a:ext cx="2178000" cy="2122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280" y="98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bb6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2bb6"/>
                </a:solidFill>
                <a:latin typeface="隶书"/>
                <a:ea typeface="隶书"/>
              </a:rPr>
              <a:t>考上大学后，自己本打算从头开始，把学习、工作做得更有成绩。可入校后，觉得无所适从，整天就这么打发时间。空虚、无聊，没有目标，不知应如何努力、上进，甚至不知道自己到底该干什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3" name="type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907920"/>
            <a:ext cx="801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999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年调查显示，约有一半的大学生对自己目前的大学生活不满意。理想和现实的差距，导致大学生茫然不知所措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971800" y="3352680"/>
            <a:ext cx="2895480" cy="2666880"/>
            <a:chOff x="2971800" y="3352680"/>
            <a:chExt cx="2895480" cy="2666880"/>
          </a:xfrm>
        </p:grpSpPr>
        <p:sp>
          <p:nvSpPr>
            <p:cNvPr id="53" name=""/>
            <p:cNvSpPr/>
            <p:nvPr/>
          </p:nvSpPr>
          <p:spPr>
            <a:xfrm flipV="1">
              <a:off x="2971800" y="3352680"/>
              <a:ext cx="0" cy="266688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71800" y="6019560"/>
              <a:ext cx="289548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886200" y="4191120"/>
            <a:ext cx="495360" cy="1790640"/>
          </a:xfrm>
          <a:prstGeom prst="rect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65600" y="35244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150f"/>
                </a:solidFill>
                <a:latin typeface="Times New Roman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type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 rot="1200">
            <a:off x="1115640" y="1844640"/>
            <a:ext cx="7010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第一讲 人生旅程的新阶段</a:t>
            </a:r>
            <a:endParaRPr b="1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57400" y="3809880"/>
            <a:ext cx="57229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黑体"/>
              </a:rPr>
              <a:t>——</a:t>
            </a:r>
            <a:r>
              <a:rPr b="1" lang="zh-CN" sz="4000" spc="-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黑体"/>
              </a:rPr>
              <a:t>创造美好的大学生活</a:t>
            </a:r>
            <a:endParaRPr b="1" lang="en-US" sz="4000" spc="-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黑体"/>
              <a:ea typeface="黑体"/>
            </a:endParaRPr>
          </a:p>
        </p:txBody>
      </p:sp>
    </p:spTree>
  </p:cSld>
  <p:transition>
    <p:blinds dir="horz"/>
    <p:sndAc>
      <p:stSnd>
        <p:snd r:embed="rId2" name="type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626920" y="2636640"/>
            <a:ext cx="5545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Comic Sans MS"/>
              </a:rPr>
              <a:t>本节的主要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1.</a:t>
            </a:r>
            <a:r>
              <a:rPr b="1" lang="zh-CN" sz="3200" spc="-1" strike="noStrike">
                <a:solidFill>
                  <a:srgbClr val="6600cc"/>
                </a:solidFill>
                <a:latin typeface="Comic Sans MS"/>
              </a:rPr>
              <a:t>身心发展变化的新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2.</a:t>
            </a:r>
            <a:r>
              <a:rPr b="1" lang="zh-CN" sz="3200" spc="-1" strike="noStrike">
                <a:solidFill>
                  <a:srgbClr val="6600cc"/>
                </a:solidFill>
                <a:latin typeface="Comic Sans MS"/>
              </a:rPr>
              <a:t>人才成长的关键时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b150f"/>
                </a:solidFill>
                <a:latin typeface="Comic Sans MS"/>
                <a:ea typeface="黑体"/>
              </a:rPr>
              <a:t>第一节　人生发展的新阶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type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b150f"/>
                </a:solidFill>
                <a:latin typeface="Comic Sans MS"/>
                <a:ea typeface="黑体"/>
              </a:rPr>
              <a:t>一、身心发展变化的新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Comic Sans MS"/>
                <a:ea typeface="黑体"/>
              </a:rPr>
              <a:t>（一）生理变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3657600"/>
            <a:ext cx="1657080" cy="1081080"/>
          </a:xfrm>
          <a:prstGeom prst="ellipse">
            <a:avLst/>
          </a:prstGeom>
          <a:solidFill>
            <a:srgbClr val="00cc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隶书"/>
                <a:ea typeface="隶书"/>
              </a:rPr>
              <a:t>身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2852640"/>
            <a:ext cx="1657080" cy="1152720"/>
          </a:xfrm>
          <a:prstGeom prst="ellipse">
            <a:avLst/>
          </a:prstGeom>
          <a:solidFill>
            <a:srgbClr val="00cc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隶书"/>
                <a:ea typeface="隶书"/>
              </a:rPr>
              <a:t>大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3809880"/>
            <a:ext cx="1657440" cy="1081080"/>
          </a:xfrm>
          <a:prstGeom prst="ellipse">
            <a:avLst/>
          </a:prstGeom>
          <a:solidFill>
            <a:srgbClr val="00cc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隶书"/>
                <a:ea typeface="隶书"/>
              </a:rPr>
              <a:t>意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62520" y="4572000"/>
            <a:ext cx="1152360" cy="1333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500"/>
                            </p:stCondLst>
                            <p:childTnLst>
                              <p:par>
                                <p:cTn id="1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446256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Comic Sans MS"/>
                <a:ea typeface="黑体"/>
              </a:rPr>
              <a:t>（二）心理变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3068640"/>
            <a:ext cx="2146320" cy="1670040"/>
          </a:xfrm>
          <a:prstGeom prst="ellipse">
            <a:avLst/>
          </a:prstGeom>
          <a:solidFill>
            <a:srgbClr val="00cc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认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08360" y="1989000"/>
            <a:ext cx="1657440" cy="1944720"/>
          </a:xfrm>
          <a:prstGeom prst="ellipse">
            <a:avLst/>
          </a:prstGeom>
          <a:solidFill>
            <a:srgbClr val="00cc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情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068640"/>
            <a:ext cx="2005200" cy="1822320"/>
          </a:xfrm>
          <a:prstGeom prst="ellipse">
            <a:avLst/>
          </a:prstGeom>
          <a:solidFill>
            <a:srgbClr val="00cc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自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4572000"/>
            <a:ext cx="1152360" cy="1333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7:5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2:59:5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