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631-6ADA-48C4-802B-9D4882BF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A39-2AFD-41BF-8286-60FD64E9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6A5-5585-41B3-9AD9-F9F1AE6F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D11-3C23-45C7-A08A-A8C8B0E4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E818-4BBB-4E33-B3AF-54850884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328B-C7AF-454D-A9BB-22A61C29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A649-F927-4601-90AB-54E76B42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DC4C-952C-4674-A667-3A5983A8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0FE3-3896-453B-8BCD-5475A3E8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6A94-9FFC-4B62-973D-6CCBC902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A21-5C09-4D89-B791-2FB5B004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839-638B-4558-91B4-9A4424B1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B56C-7809-4164-B6FA-433CE4DA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5C84-6CB2-4042-866B-ECA09D46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F5C9-A24D-4751-9642-968FF76C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1D03-6E82-4D36-9CC2-17DA2D15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7CC2-0107-44CC-85C9-7AA51A10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403-3A88-4368-B6CE-55E0DC31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55D-62EC-41C8-B96A-FE193398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010-5F62-44F9-9F60-6D844E7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5A4-F49C-48FB-9DD1-3C6340E0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83D-1699-4AE0-B22D-B04E9D4F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F63-1CF9-4754-8515-0BC0176B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EDE-1D0F-4FF2-BE2F-E5992A5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55D8-C5DA-429F-AA1F-CD1FA73011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DD35-CF39-46E3-83B2-98E7F0DB19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76520" y="108756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981080"/>
            <a:ext cx="35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隶书"/>
              </a:rPr>
              <a:t>教学设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8680" y="411480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青县花沟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63680" y="76212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280" y="617544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560" y="819000"/>
            <a:ext cx="28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二次函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325760" y="9144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三，归纳小结，问题解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1160" y="18288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四，变式探究，问题迁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76600" y="2971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给学生留下思考题，继续探究，开拓思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057400" y="1752480"/>
            <a:ext cx="63244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谢谢指导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1844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</a:rPr>
              <a:t>课程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2860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</a:rPr>
              <a:t>熟练的利用二次函数的概念和性质解决实际生活，生产中的最值问题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000" y="585936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C0D-3EFE-45E7-B091-C7B73E8453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37120" y="68580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</a:rPr>
              <a:t>教学方法和手段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，探究性学习教学法：具体是在教师的指导下，以发现、发明的心理动机去探索、寻求解决问题的办法，以类似科学研究的方法去获取知识，应用知识解决实际问题。从而在掌握知识内容的同时，让学生体验、理解、应用科学方法，培养创新精神和实践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，多媒体辅助教学：通过多媒体课件的动态演示，可以极大提高学生的学习兴趣，增加课堂容量，从而更好的完成课堂目标，提高课堂效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59800" y="6951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</a:rPr>
              <a:t>学法指导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4760" y="17524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隶书"/>
              </a:rPr>
              <a:t>主动发现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251460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76720"/>
            <a:ext cx="71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隶书"/>
              </a:rPr>
              <a:t>（自主探索，共同研究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隶书"/>
              </a:rPr>
              <a:t>分析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05280" y="54864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隶书"/>
              </a:rPr>
              <a:t>创造性解决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800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6280" y="617544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73760" y="762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隶书"/>
              </a:rPr>
              <a:t>教学活动过程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9400" y="1903320"/>
            <a:ext cx="8994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，创设情景，发现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引例   用长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60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米篱笆围成一个矩形园子，请同学们写出自己的设计方案，并计算矩形的面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962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（学生可能设计出多种，教师可以利用多媒体列举出几种，并利用课件演示所有可能的情况，让学生观察发现面积最大的一种设计方案，出示解题过程，并总结归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利用二次函数的性质求实际最值问题的一般步骤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84000" y="6112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二，分析讨论，研究问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680" y="206532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训练题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如图，用长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60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米的篱笆，一面靠墙围成矩形园子，该如何设计，使矩形面积最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172200" y="3352680"/>
            <a:ext cx="2971800" cy="1219320"/>
            <a:chOff x="6172200" y="3352680"/>
            <a:chExt cx="2971800" cy="1219320"/>
          </a:xfrm>
        </p:grpSpPr>
        <p:sp>
          <p:nvSpPr>
            <p:cNvPr id="125" name=""/>
            <p:cNvSpPr/>
            <p:nvPr/>
          </p:nvSpPr>
          <p:spPr>
            <a:xfrm>
              <a:off x="6172200" y="3352680"/>
              <a:ext cx="29718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0" y="3352680"/>
              <a:ext cx="0" cy="1219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34520" y="3352680"/>
              <a:ext cx="0" cy="1219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0" y="4495680"/>
              <a:ext cx="1676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49440" y="380988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（让学生发现本题与引例的区别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联系，自己来解决问题，并说明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两种解题方法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21337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用长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米的铝合金条制成如图形状的矩形窗框，问宽和高各是多少米时，窗户的透光面积最大？最大面积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08280" y="68580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训练题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238880" y="3809880"/>
            <a:ext cx="1371600" cy="2209680"/>
            <a:chOff x="7238880" y="3809880"/>
            <a:chExt cx="1371600" cy="2209680"/>
          </a:xfrm>
        </p:grpSpPr>
        <p:sp>
          <p:nvSpPr>
            <p:cNvPr id="133" name=""/>
            <p:cNvSpPr/>
            <p:nvPr/>
          </p:nvSpPr>
          <p:spPr>
            <a:xfrm>
              <a:off x="7238880" y="3809880"/>
              <a:ext cx="1371600" cy="2209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8880" y="44193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232440" y="434340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（通过问题变形，进一步培养学生解决实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问题的能力。利用多媒体演示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617544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606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21040" y="49068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训练题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隶书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362320"/>
            <a:ext cx="84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如图，矩形的对角线长是否随边长的变化而变化？有最大值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3962520"/>
            <a:ext cx="2209680" cy="1447560"/>
            <a:chOff x="762120" y="3962520"/>
            <a:chExt cx="2209680" cy="1447560"/>
          </a:xfrm>
        </p:grpSpPr>
        <p:sp>
          <p:nvSpPr>
            <p:cNvPr id="141" name=""/>
            <p:cNvSpPr/>
            <p:nvPr/>
          </p:nvSpPr>
          <p:spPr>
            <a:xfrm>
              <a:off x="762120" y="3962520"/>
              <a:ext cx="2209680" cy="1447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3962520"/>
              <a:ext cx="2209680" cy="14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76720" y="388620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（先利用多媒体进行演示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情况，在让学生自己来解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问题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1T02:12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3T08:08:46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