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17279938" cy="9723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864000" y="522072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883296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216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37996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86400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612216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1137996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864000" y="387720"/>
            <a:ext cx="15551640" cy="75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83296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864000" y="522072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883296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12216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37996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86400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612216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1137996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864000" y="387720"/>
            <a:ext cx="15551640" cy="75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83296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864000" y="522072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83296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12216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137996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86400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612216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1137996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864000" y="387720"/>
            <a:ext cx="15551640" cy="75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83296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64000" y="522072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83296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12216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1379960" y="227520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6400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612216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11379960" y="5220720"/>
            <a:ext cx="50072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864000" y="387720"/>
            <a:ext cx="15551640" cy="75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832960" y="522072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6400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8832960" y="2275200"/>
            <a:ext cx="758916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64000" y="5220720"/>
            <a:ext cx="1555164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20" descr=""/>
          <p:cNvPicPr/>
          <p:nvPr/>
        </p:nvPicPr>
        <p:blipFill>
          <a:blip r:embed="rId2"/>
          <a:stretch/>
        </p:blipFill>
        <p:spPr>
          <a:xfrm>
            <a:off x="0" y="0"/>
            <a:ext cx="17278200" cy="9721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7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865080">
              <a:spcBef>
                <a:spcPts val="1324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lvl="2" marL="172872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593800" indent="-86508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4" marL="3457440" indent="-172872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5" marL="3457440" indent="-172872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6" marL="3457440" indent="-172872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4000" y="387720"/>
            <a:ext cx="15551640" cy="162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8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64000" y="2275200"/>
            <a:ext cx="155516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47640" indent="-647640">
              <a:spcBef>
                <a:spcPts val="1500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lvl="1" marL="863640" indent="865080">
              <a:spcBef>
                <a:spcPts val="1324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  <a:p>
            <a:pPr lvl="2" marL="1728720">
              <a:spcBef>
                <a:spcPts val="1125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  <a:p>
            <a:pPr lvl="3" marL="2593800" indent="-86508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4" marL="3457440" indent="-172872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5" marL="3457440" indent="-172872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6" marL="3457440" indent="-172872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05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7307280" y="1368360"/>
            <a:ext cx="2663640" cy="266400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4032360" y="4861080"/>
            <a:ext cx="9217080" cy="1008000"/>
            <a:chOff x="4032360" y="4861080"/>
            <a:chExt cx="9217080" cy="1008000"/>
          </a:xfrm>
        </p:grpSpPr>
        <p:sp>
          <p:nvSpPr>
            <p:cNvPr id="151" name="矩形 6"/>
            <p:cNvSpPr/>
            <p:nvPr/>
          </p:nvSpPr>
          <p:spPr>
            <a:xfrm>
              <a:off x="4032360" y="4861080"/>
              <a:ext cx="9217080" cy="1008000"/>
            </a:xfrm>
            <a:prstGeom prst="rect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7"/>
            <p:cNvSpPr/>
            <p:nvPr/>
          </p:nvSpPr>
          <p:spPr>
            <a:xfrm>
              <a:off x="4497840" y="4980240"/>
              <a:ext cx="8282520" cy="769320"/>
            </a:xfrm>
            <a:prstGeom prst="rect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8"/>
          <p:cNvSpPr/>
          <p:nvPr/>
        </p:nvSpPr>
        <p:spPr>
          <a:xfrm>
            <a:off x="4497480" y="6219720"/>
            <a:ext cx="82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"/>
              </a:rPr>
              <a:t>FRANKIE CHEN 20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0200" y="9112320"/>
            <a:ext cx="460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173360" y="5005440"/>
            <a:ext cx="3308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高端动态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Box 7"/>
          <p:cNvSpPr/>
          <p:nvPr/>
        </p:nvSpPr>
        <p:spPr>
          <a:xfrm>
            <a:off x="4464000" y="843120"/>
            <a:ext cx="828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entury"/>
              </a:rPr>
              <a:t>CONTENT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2"/>
          <p:cNvSpPr/>
          <p:nvPr/>
        </p:nvSpPr>
        <p:spPr>
          <a:xfrm>
            <a:off x="1511280" y="3205080"/>
            <a:ext cx="2233800" cy="2232000"/>
          </a:xfrm>
          <a:prstGeom prst="ellipse">
            <a:avLst/>
          </a:pr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5521320" y="3205080"/>
            <a:ext cx="2232000" cy="2232000"/>
          </a:xfrm>
          <a:prstGeom prst="ellipse">
            <a:avLst/>
          </a:prstGeom>
          <a:solidFill>
            <a:srgbClr val="a005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10"/>
          <p:cNvSpPr/>
          <p:nvPr/>
        </p:nvSpPr>
        <p:spPr>
          <a:xfrm>
            <a:off x="9528120" y="3205080"/>
            <a:ext cx="2232000" cy="2232000"/>
          </a:xfrm>
          <a:prstGeom prst="ellipse">
            <a:avLst/>
          </a:prstGeom>
          <a:solidFill>
            <a:srgbClr val="d1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13536720" y="3205080"/>
            <a:ext cx="2233440" cy="2232000"/>
          </a:xfrm>
          <a:prstGeom prst="ellipse">
            <a:avLst/>
          </a:prstGeom>
          <a:solidFill>
            <a:srgbClr val="a005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2"/>
          <p:cNvSpPr/>
          <p:nvPr/>
        </p:nvSpPr>
        <p:spPr>
          <a:xfrm>
            <a:off x="1206360" y="5913360"/>
            <a:ext cx="28432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rinda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3"/>
          <p:cNvSpPr/>
          <p:nvPr/>
        </p:nvSpPr>
        <p:spPr>
          <a:xfrm>
            <a:off x="5214960" y="5913360"/>
            <a:ext cx="284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rinda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4"/>
          <p:cNvSpPr/>
          <p:nvPr/>
        </p:nvSpPr>
        <p:spPr>
          <a:xfrm>
            <a:off x="9221760" y="5913360"/>
            <a:ext cx="284472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rinda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5"/>
          <p:cNvSpPr/>
          <p:nvPr/>
        </p:nvSpPr>
        <p:spPr>
          <a:xfrm>
            <a:off x="13231800" y="5913360"/>
            <a:ext cx="284328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rinda"/>
              </a:rPr>
              <a:t>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1"/>
          <p:cNvSpPr/>
          <p:nvPr/>
        </p:nvSpPr>
        <p:spPr>
          <a:xfrm>
            <a:off x="7524720" y="8245440"/>
            <a:ext cx="2160720" cy="868320"/>
          </a:xfrm>
          <a:prstGeom prst="rect">
            <a:avLst/>
          </a:prstGeom>
          <a:solidFill>
            <a:srgbClr val="06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YOUR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17480" y="9328320"/>
            <a:ext cx="6410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600" spc="-1" strike="noStrike" u="sng">
                <a:solidFill>
                  <a:srgbClr val="0c2d83"/>
                </a:solidFill>
                <a:uFillTx/>
                <a:latin typeface="Arial"/>
                <a:hlinkClick r:id="rId1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push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1"/>
                            </p:stCondLst>
                            <p:childTnLst>
                              <p:par>
                                <p:cTn id="3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0426E-006 -0.24649 L -2.20426E-006 0.00359 E">
                                      <p:cBhvr>
                                        <p:cTn id="33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0426E-006 0.22852 L -2.20426E-006 -8.85332E-007 E">
                                      <p:cBhvr>
                                        <p:cTn id="35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2"/>
                            </p:stCondLst>
                            <p:childTnLst>
                              <p:par>
                                <p:cTn id="4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0426E-006 -0.24649 L -2.20426E-006 0.00359 E">
                                      <p:cBhvr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0426E-006 0.22852 L -2.20426E-006 -8.85332E-007 E">
                                      <p:cBhvr>
                                        <p:cTn id="45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2"/>
                            </p:stCondLst>
                            <p:childTnLst>
                              <p:par>
                                <p:cTn id="4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3"/>
                            </p:stCondLst>
                            <p:childTnLst>
                              <p:par>
                                <p:cTn id="5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0426E-006 -0.24649 L -2.20426E-006 0.00359 E">
                                      <p:cBhvr>
                                        <p:cTn id="53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0426E-006 0.22852 L -2.20426E-006 -8.85332E-007 E">
                                      <p:cBhvr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3"/>
                            </p:stCondLst>
                            <p:childTnLst>
                              <p:par>
                                <p:cTn id="5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4"/>
                            </p:stCondLst>
                            <p:childTnLst>
                              <p:par>
                                <p:cTn id="62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0426E-006 -0.24649 L -2.20426E-006 0.00359 E">
                                      <p:cBhvr>
                                        <p:cTn id="63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0426E-006 0.22852 L -2.20426E-006 -8.85332E-007 E">
                                      <p:cBhvr>
                                        <p:cTn id="65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同心圆 1"/>
          <p:cNvSpPr/>
          <p:nvPr/>
        </p:nvSpPr>
        <p:spPr>
          <a:xfrm>
            <a:off x="4681440" y="1620720"/>
            <a:ext cx="2160720" cy="2160720"/>
          </a:xfrm>
          <a:prstGeom prst="donut">
            <a:avLst>
              <a:gd name="adj" fmla="val 63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8136000" y="3935520"/>
            <a:ext cx="8281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Century"/>
              </a:rPr>
              <a:t>PART 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"/>
          <p:cNvSpPr/>
          <p:nvPr/>
        </p:nvSpPr>
        <p:spPr>
          <a:xfrm>
            <a:off x="8136000" y="6013440"/>
            <a:ext cx="90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Vrinda"/>
              </a:rPr>
              <a:t>ADD YOUR WORDS HERE </a:t>
            </a:r>
            <a:r>
              <a:rPr b="0" lang="en-US" sz="2400" spc="-1" strike="noStrike">
                <a:solidFill>
                  <a:srgbClr val="ed0f77"/>
                </a:solidFill>
                <a:latin typeface="Vrinda"/>
              </a:rPr>
              <a:t>SOMETHING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Vrinda"/>
              </a:rPr>
              <a:t>ADD YOUR WORD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Vrinda"/>
              </a:rPr>
              <a:t>ADD YOUR WORD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任意多边形 7"/>
          <p:cNvSpPr/>
          <p:nvPr/>
        </p:nvSpPr>
        <p:spPr>
          <a:xfrm>
            <a:off x="2268360" y="2666880"/>
            <a:ext cx="2419560" cy="7220160"/>
          </a:xfrm>
          <a:prstGeom prst="pie">
            <a:avLst/>
          </a:prstGeom>
          <a:noFill/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14695560" y="8245440"/>
            <a:ext cx="2158920" cy="868320"/>
          </a:xfrm>
          <a:prstGeom prst="rect">
            <a:avLst/>
          </a:prstGeom>
          <a:solidFill>
            <a:srgbClr val="0821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YOUR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push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dur="indefinite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05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27"/>
          <p:cNvSpPr/>
          <p:nvPr/>
        </p:nvSpPr>
        <p:spPr>
          <a:xfrm flipH="1">
            <a:off x="4290840" y="4832280"/>
            <a:ext cx="6480" cy="2816280"/>
          </a:xfrm>
          <a:prstGeom prst="line">
            <a:avLst/>
          </a:prstGeom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同心圆 4"/>
          <p:cNvSpPr/>
          <p:nvPr/>
        </p:nvSpPr>
        <p:spPr>
          <a:xfrm>
            <a:off x="2206800" y="3795840"/>
            <a:ext cx="2158920" cy="2160360"/>
          </a:xfrm>
          <a:prstGeom prst="donut">
            <a:avLst>
              <a:gd name="adj" fmla="val 690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任意多边形 6"/>
          <p:cNvSpPr/>
          <p:nvPr/>
        </p:nvSpPr>
        <p:spPr>
          <a:xfrm>
            <a:off x="4276800" y="7566120"/>
            <a:ext cx="4172040" cy="2200320"/>
          </a:xfrm>
          <a:prstGeom prst="pie">
            <a:avLst/>
          </a:prstGeom>
          <a:noFill/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5111640" y="982800"/>
            <a:ext cx="82821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Century"/>
              </a:rPr>
              <a:t>PART 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5183280" y="2700360"/>
            <a:ext cx="90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Vrinda"/>
              </a:rPr>
              <a:t>ADD YOUR WORDS HERE </a:t>
            </a:r>
            <a:r>
              <a:rPr b="0" lang="en-US" sz="2400" spc="-1" strike="noStrike">
                <a:solidFill>
                  <a:srgbClr val="ffffff"/>
                </a:solidFill>
                <a:latin typeface="Vrinda"/>
              </a:rPr>
              <a:t>SOMETHING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Vrinda"/>
              </a:rPr>
              <a:t>ADD YOUR WORD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12"/>
          <p:cNvSpPr/>
          <p:nvPr/>
        </p:nvSpPr>
        <p:spPr>
          <a:xfrm>
            <a:off x="4321080" y="5310360"/>
            <a:ext cx="11076120" cy="1573200"/>
          </a:xfrm>
          <a:prstGeom prst="pie">
            <a:avLst/>
          </a:prstGeom>
          <a:noFill/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13"/>
          <p:cNvSpPr/>
          <p:nvPr/>
        </p:nvSpPr>
        <p:spPr>
          <a:xfrm>
            <a:off x="4113360" y="6719760"/>
            <a:ext cx="325440" cy="327240"/>
          </a:xfrm>
          <a:prstGeom prst="ellipse">
            <a:avLst/>
          </a:prstGeom>
          <a:solidFill>
            <a:srgbClr val="ed0f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823080" y="5197320"/>
            <a:ext cx="2413080" cy="1368720"/>
            <a:chOff x="6823080" y="5197320"/>
            <a:chExt cx="2413080" cy="1368720"/>
          </a:xfrm>
        </p:grpSpPr>
        <p:sp>
          <p:nvSpPr>
            <p:cNvPr id="180" name="圆角矩形 9"/>
            <p:cNvSpPr/>
            <p:nvPr/>
          </p:nvSpPr>
          <p:spPr>
            <a:xfrm>
              <a:off x="6823080" y="5197320"/>
              <a:ext cx="2413080" cy="1368720"/>
            </a:xfrm>
            <a:prstGeom prst="roundRect">
              <a:avLst>
                <a:gd name="adj" fmla="val 24528"/>
              </a:avLst>
            </a:prstGeom>
            <a:noFill/>
            <a:ln w="76320">
              <a:solidFill>
                <a:srgbClr val="0c2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4"/>
            <p:cNvSpPr/>
            <p:nvPr/>
          </p:nvSpPr>
          <p:spPr>
            <a:xfrm>
              <a:off x="6823080" y="5234760"/>
              <a:ext cx="24130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rinda"/>
                </a:rPr>
                <a:t>SUB-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rinda"/>
                </a:rPr>
                <a:t>ADD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0107720" y="4349880"/>
            <a:ext cx="2412720" cy="1368360"/>
            <a:chOff x="10107720" y="4349880"/>
            <a:chExt cx="2412720" cy="1368360"/>
          </a:xfrm>
        </p:grpSpPr>
        <p:sp>
          <p:nvSpPr>
            <p:cNvPr id="183" name="圆角矩形 10"/>
            <p:cNvSpPr/>
            <p:nvPr/>
          </p:nvSpPr>
          <p:spPr>
            <a:xfrm>
              <a:off x="10107720" y="4349880"/>
              <a:ext cx="2412720" cy="1368360"/>
            </a:xfrm>
            <a:prstGeom prst="roundRect">
              <a:avLst>
                <a:gd name="adj" fmla="val 24528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15"/>
            <p:cNvSpPr/>
            <p:nvPr/>
          </p:nvSpPr>
          <p:spPr>
            <a:xfrm>
              <a:off x="10107720" y="4387320"/>
              <a:ext cx="241272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rinda"/>
                </a:rPr>
                <a:t>SUB-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rinda"/>
                </a:rPr>
                <a:t>ADD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3227120" y="3637080"/>
            <a:ext cx="2413080" cy="1368360"/>
            <a:chOff x="13227120" y="3637080"/>
            <a:chExt cx="2413080" cy="1368360"/>
          </a:xfrm>
        </p:grpSpPr>
        <p:sp>
          <p:nvSpPr>
            <p:cNvPr id="186" name="圆角矩形 11"/>
            <p:cNvSpPr/>
            <p:nvPr/>
          </p:nvSpPr>
          <p:spPr>
            <a:xfrm>
              <a:off x="13227120" y="3637080"/>
              <a:ext cx="2413080" cy="1368360"/>
            </a:xfrm>
            <a:prstGeom prst="roundRect">
              <a:avLst>
                <a:gd name="adj" fmla="val 24528"/>
              </a:avLst>
            </a:prstGeom>
            <a:noFill/>
            <a:ln w="76320">
              <a:solidFill>
                <a:srgbClr val="0c2d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6"/>
            <p:cNvSpPr/>
            <p:nvPr/>
          </p:nvSpPr>
          <p:spPr>
            <a:xfrm>
              <a:off x="13227120" y="3674520"/>
              <a:ext cx="2413080" cy="128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Vrinda"/>
                </a:rPr>
                <a:t>SUB-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rinda"/>
                </a:rPr>
                <a:t>ADD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17"/>
          <p:cNvSpPr/>
          <p:nvPr/>
        </p:nvSpPr>
        <p:spPr>
          <a:xfrm>
            <a:off x="6624720" y="6996240"/>
            <a:ext cx="28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8"/>
          <p:cNvSpPr/>
          <p:nvPr/>
        </p:nvSpPr>
        <p:spPr>
          <a:xfrm>
            <a:off x="9893160" y="6216480"/>
            <a:ext cx="28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9"/>
          <p:cNvSpPr/>
          <p:nvPr/>
        </p:nvSpPr>
        <p:spPr>
          <a:xfrm>
            <a:off x="13012560" y="5477040"/>
            <a:ext cx="284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TEXT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24"/>
          <p:cNvSpPr/>
          <p:nvPr/>
        </p:nvSpPr>
        <p:spPr>
          <a:xfrm flipH="1">
            <a:off x="2268000" y="-212760"/>
            <a:ext cx="9720" cy="5141880"/>
          </a:xfrm>
          <a:prstGeom prst="line">
            <a:avLst/>
          </a:prstGeom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22"/>
          <p:cNvSpPr/>
          <p:nvPr/>
        </p:nvSpPr>
        <p:spPr>
          <a:xfrm>
            <a:off x="14695560" y="8245440"/>
            <a:ext cx="2158920" cy="868320"/>
          </a:xfrm>
          <a:prstGeom prst="rect">
            <a:avLst/>
          </a:prstGeom>
          <a:solidFill>
            <a:srgbClr val="780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YOUR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push dir="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50"/>
                            </p:stCondLst>
                            <p:childTnLst>
                              <p:par>
                                <p:cTn id="1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751"/>
                            </p:stCondLst>
                            <p:childTnLst>
                              <p:par>
                                <p:cTn id="108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251"/>
                            </p:stCondLst>
                            <p:childTnLst>
                              <p:par>
                                <p:cTn id="11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751"/>
                            </p:stCondLst>
                            <p:childTnLst>
                              <p:par>
                                <p:cTn id="1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752"/>
                            </p:stCondLst>
                            <p:childTnLst>
                              <p:par>
                                <p:cTn id="12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1785E-006 -0.13476 L 3.71785E-006 -1.89807E-006 E">
                                      <p:cBhvr>
                                        <p:cTn id="122" dur="5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88791E-007 0.11928 L 4.88791E-007 0.00065 E">
                                      <p:cBhvr>
                                        <p:cTn id="124" dur="5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252"/>
                            </p:stCondLst>
                            <p:childTnLst>
                              <p:par>
                                <p:cTn id="1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253"/>
                            </p:stCondLst>
                            <p:childTnLst>
                              <p:par>
                                <p:cTn id="13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1785E-006 -0.13476 L 3.71785E-006 -1.89807E-006 E">
                                      <p:cBhvr>
                                        <p:cTn id="132" dur="5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88791E-007 0.11928 L 4.88791E-007 0.00065 E">
                                      <p:cBhvr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3753"/>
                            </p:stCondLst>
                            <p:childTnLst>
                              <p:par>
                                <p:cTn id="13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754"/>
                            </p:stCondLst>
                            <p:childTnLst>
                              <p:par>
                                <p:cTn id="141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1785E-006 -0.13476 L 3.71785E-006 -1.89807E-006 E">
                                      <p:cBhvr>
                                        <p:cTn id="142" dur="5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88791E-007 0.11928 L 4.88791E-007 0.00065 E">
                                      <p:cBhvr>
                                        <p:cTn id="144" dur="5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254"/>
                            </p:stCondLst>
                            <p:childTnLst>
                              <p:par>
                                <p:cTn id="146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f7f7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0"/>
          <p:cNvSpPr/>
          <p:nvPr/>
        </p:nvSpPr>
        <p:spPr>
          <a:xfrm>
            <a:off x="0" y="0"/>
            <a:ext cx="10872720" cy="9721800"/>
          </a:xfrm>
          <a:prstGeom prst="pie">
            <a:avLst/>
          </a:prstGeom>
          <a:solidFill>
            <a:srgbClr val="d1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"/>
          <p:cNvSpPr/>
          <p:nvPr/>
        </p:nvSpPr>
        <p:spPr>
          <a:xfrm>
            <a:off x="8391600" y="-119160"/>
            <a:ext cx="1074600" cy="2513160"/>
          </a:xfrm>
          <a:prstGeom prst="line">
            <a:avLst/>
          </a:prstGeom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同心圆 2"/>
          <p:cNvSpPr/>
          <p:nvPr/>
        </p:nvSpPr>
        <p:spPr>
          <a:xfrm>
            <a:off x="8977320" y="2109960"/>
            <a:ext cx="2160720" cy="2160360"/>
          </a:xfrm>
          <a:prstGeom prst="donut">
            <a:avLst>
              <a:gd name="adj" fmla="val 690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3"/>
          <p:cNvSpPr/>
          <p:nvPr/>
        </p:nvSpPr>
        <p:spPr>
          <a:xfrm>
            <a:off x="11020320" y="3408480"/>
            <a:ext cx="2948040" cy="6618240"/>
          </a:xfrm>
          <a:prstGeom prst="line">
            <a:avLst/>
          </a:prstGeom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647640" y="1981080"/>
            <a:ext cx="82836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Century"/>
              </a:rPr>
              <a:t>PART 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"/>
          <p:cNvSpPr/>
          <p:nvPr/>
        </p:nvSpPr>
        <p:spPr>
          <a:xfrm>
            <a:off x="646200" y="3708360"/>
            <a:ext cx="90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rinda"/>
              </a:rPr>
              <a:t>ADD YOUR WORDS HERE </a:t>
            </a:r>
            <a:r>
              <a:rPr b="1" lang="en-US" sz="2400" spc="-1" strike="noStrike">
                <a:solidFill>
                  <a:srgbClr val="a00563"/>
                </a:solidFill>
                <a:latin typeface="Vrinda"/>
              </a:rPr>
              <a:t>SOMETHING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rinda"/>
              </a:rPr>
              <a:t>ADD YOUR WORD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7"/>
          <p:cNvSpPr/>
          <p:nvPr/>
        </p:nvSpPr>
        <p:spPr>
          <a:xfrm>
            <a:off x="3040200" y="6261120"/>
            <a:ext cx="172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rinda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rind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rind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8"/>
          <p:cNvSpPr/>
          <p:nvPr/>
        </p:nvSpPr>
        <p:spPr>
          <a:xfrm>
            <a:off x="7416720" y="6261120"/>
            <a:ext cx="172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rinda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rind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rinda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179000" y="5491080"/>
            <a:ext cx="1860840" cy="2232000"/>
            <a:chOff x="1179000" y="5491080"/>
            <a:chExt cx="1860840" cy="2232000"/>
          </a:xfrm>
        </p:grpSpPr>
        <p:sp>
          <p:nvSpPr>
            <p:cNvPr id="202" name="梯形 13"/>
            <p:cNvSpPr/>
            <p:nvPr/>
          </p:nvSpPr>
          <p:spPr>
            <a:xfrm flipV="1" rot="10800000">
              <a:off x="1266120" y="5724360"/>
              <a:ext cx="1686960" cy="882720"/>
            </a:xfrm>
            <a:custGeom>
              <a:avLst/>
              <a:gdLst>
                <a:gd name="textAreaLeft" fmla="*/ 217800 w 1686960"/>
                <a:gd name="textAreaRight" fmla="*/ 1469160 w 1686960"/>
                <a:gd name="textAreaTop" fmla="*/ 114120 h 882720"/>
                <a:gd name="textAreaBottom" fmla="*/ 768600 h 88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25" y="21600"/>
                  </a:lnTo>
                  <a:lnTo>
                    <a:pt x="1875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梯形 12"/>
            <p:cNvSpPr/>
            <p:nvPr/>
          </p:nvSpPr>
          <p:spPr>
            <a:xfrm flipV="1" rot="10800000">
              <a:off x="1460520" y="6607080"/>
              <a:ext cx="1297800" cy="1116000"/>
            </a:xfrm>
            <a:custGeom>
              <a:avLst/>
              <a:gdLst>
                <a:gd name="textAreaLeft" fmla="*/ 207720 w 1297800"/>
                <a:gd name="textAreaRight" fmla="*/ 1090080 w 1297800"/>
                <a:gd name="textAreaTop" fmla="*/ 178560 h 1116000"/>
                <a:gd name="textAreaBottom" fmla="*/ 937440 h 11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519" y="21600"/>
                  </a:lnTo>
                  <a:lnTo>
                    <a:pt x="3081" y="21600"/>
                  </a:lnTo>
                  <a:close/>
                </a:path>
              </a:pathLst>
            </a:custGeom>
            <a:solidFill>
              <a:srgbClr val="a00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梯形 10"/>
            <p:cNvSpPr/>
            <p:nvPr/>
          </p:nvSpPr>
          <p:spPr>
            <a:xfrm flipV="1" rot="10800000">
              <a:off x="1179000" y="5491080"/>
              <a:ext cx="1860840" cy="2232000"/>
            </a:xfrm>
            <a:custGeom>
              <a:avLst/>
              <a:gdLst>
                <a:gd name="textAreaLeft" fmla="*/ 408960 w 1860840"/>
                <a:gd name="textAreaRight" fmla="*/ 1451880 w 1860840"/>
                <a:gd name="textAreaTop" fmla="*/ 490680 h 2232000"/>
                <a:gd name="textAreaBottom" fmla="*/ 17413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14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21"/>
            <p:cNvSpPr/>
            <p:nvPr/>
          </p:nvSpPr>
          <p:spPr>
            <a:xfrm>
              <a:off x="1460880" y="5940360"/>
              <a:ext cx="12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rinda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22"/>
            <p:cNvSpPr/>
            <p:nvPr/>
          </p:nvSpPr>
          <p:spPr>
            <a:xfrm>
              <a:off x="1460880" y="6951600"/>
              <a:ext cx="12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rinda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472000" y="5491080"/>
            <a:ext cx="1859040" cy="2232000"/>
            <a:chOff x="5472000" y="5491080"/>
            <a:chExt cx="1859040" cy="2232000"/>
          </a:xfrm>
        </p:grpSpPr>
        <p:sp>
          <p:nvSpPr>
            <p:cNvPr id="208" name="梯形 14"/>
            <p:cNvSpPr/>
            <p:nvPr/>
          </p:nvSpPr>
          <p:spPr>
            <a:xfrm flipV="1" rot="10800000">
              <a:off x="5807880" y="6948360"/>
              <a:ext cx="1187280" cy="774720"/>
            </a:xfrm>
            <a:custGeom>
              <a:avLst/>
              <a:gdLst>
                <a:gd name="textAreaLeft" fmla="*/ 167400 w 1187280"/>
                <a:gd name="textAreaRight" fmla="*/ 1019880 w 1187280"/>
                <a:gd name="textAreaTop" fmla="*/ 109080 h 774720"/>
                <a:gd name="textAreaBottom" fmla="*/ 66564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64" y="21600"/>
                  </a:lnTo>
                  <a:lnTo>
                    <a:pt x="2336" y="21600"/>
                  </a:lnTo>
                  <a:close/>
                </a:path>
              </a:pathLst>
            </a:cu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梯形 16"/>
            <p:cNvSpPr/>
            <p:nvPr/>
          </p:nvSpPr>
          <p:spPr>
            <a:xfrm flipV="1" rot="10800000">
              <a:off x="5573880" y="5681520"/>
              <a:ext cx="1685160" cy="882720"/>
            </a:xfrm>
            <a:custGeom>
              <a:avLst/>
              <a:gdLst>
                <a:gd name="textAreaLeft" fmla="*/ 217800 w 1685160"/>
                <a:gd name="textAreaRight" fmla="*/ 1467360 w 1685160"/>
                <a:gd name="textAreaTop" fmla="*/ 114120 h 882720"/>
                <a:gd name="textAreaBottom" fmla="*/ 768600 h 88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25" y="21600"/>
                  </a:lnTo>
                  <a:lnTo>
                    <a:pt x="1875" y="216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梯形 15"/>
            <p:cNvSpPr/>
            <p:nvPr/>
          </p:nvSpPr>
          <p:spPr>
            <a:xfrm flipV="1" rot="10800000">
              <a:off x="5616000" y="6176880"/>
              <a:ext cx="1571040" cy="774720"/>
            </a:xfrm>
            <a:custGeom>
              <a:avLst/>
              <a:gdLst>
                <a:gd name="textAreaLeft" fmla="*/ 213480 w 1571040"/>
                <a:gd name="textAreaRight" fmla="*/ 1357560 w 1571040"/>
                <a:gd name="textAreaTop" fmla="*/ 105120 h 774720"/>
                <a:gd name="textAreaBottom" fmla="*/ 669600 h 77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65" y="21600"/>
                  </a:lnTo>
                  <a:lnTo>
                    <a:pt x="2135" y="21600"/>
                  </a:lnTo>
                  <a:close/>
                </a:path>
              </a:pathLst>
            </a:custGeom>
            <a:solidFill>
              <a:srgbClr val="a00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梯形 11"/>
            <p:cNvSpPr/>
            <p:nvPr/>
          </p:nvSpPr>
          <p:spPr>
            <a:xfrm flipV="1" rot="10800000">
              <a:off x="5472000" y="5491080"/>
              <a:ext cx="1859040" cy="2232000"/>
            </a:xfrm>
            <a:custGeom>
              <a:avLst/>
              <a:gdLst>
                <a:gd name="textAreaLeft" fmla="*/ 408600 w 1859040"/>
                <a:gd name="textAreaRight" fmla="*/ 1450440 w 1859040"/>
                <a:gd name="textAreaTop" fmla="*/ 490680 h 2232000"/>
                <a:gd name="textAreaBottom" fmla="*/ 1741320 h 22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114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23"/>
            <p:cNvSpPr/>
            <p:nvPr/>
          </p:nvSpPr>
          <p:spPr>
            <a:xfrm>
              <a:off x="5768640" y="6376320"/>
              <a:ext cx="12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rinda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24"/>
            <p:cNvSpPr/>
            <p:nvPr/>
          </p:nvSpPr>
          <p:spPr>
            <a:xfrm>
              <a:off x="5768640" y="7104960"/>
              <a:ext cx="129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rinda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矩形 25"/>
          <p:cNvSpPr/>
          <p:nvPr/>
        </p:nvSpPr>
        <p:spPr>
          <a:xfrm>
            <a:off x="14695560" y="8245440"/>
            <a:ext cx="2158920" cy="8683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YOUR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1"/>
                            </p:stCondLst>
                            <p:childTnLst>
                              <p:par>
                                <p:cTn id="1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1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2"/>
                            </p:stCondLst>
                            <p:childTnLst>
                              <p:par>
                                <p:cTn id="1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502"/>
                            </p:stCondLst>
                            <p:childTnLst>
                              <p:par>
                                <p:cTn id="188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85600" y="268200"/>
            <a:ext cx="15511320" cy="81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83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8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03040" y="1800000"/>
            <a:ext cx="16875360" cy="73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c2d8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3771440" y="473040"/>
            <a:ext cx="2625840" cy="4953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05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4438800" y="3882960"/>
            <a:ext cx="6327720" cy="5111640"/>
            <a:chOff x="4438800" y="3882960"/>
            <a:chExt cx="6327720" cy="5111640"/>
          </a:xfrm>
        </p:grpSpPr>
        <p:sp>
          <p:nvSpPr>
            <p:cNvPr id="219" name="xizang"/>
            <p:cNvSpPr/>
            <p:nvPr/>
          </p:nvSpPr>
          <p:spPr>
            <a:xfrm>
              <a:off x="4636080" y="6036120"/>
              <a:ext cx="2385720" cy="144504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9283680" y="3882960"/>
              <a:ext cx="1482840" cy="2098440"/>
              <a:chOff x="9283680" y="3882960"/>
              <a:chExt cx="1482840" cy="2098440"/>
            </a:xfrm>
          </p:grpSpPr>
          <p:sp>
            <p:nvSpPr>
              <p:cNvPr id="221" name="heilongjiang"/>
              <p:cNvSpPr/>
              <p:nvPr/>
            </p:nvSpPr>
            <p:spPr>
              <a:xfrm>
                <a:off x="9382680" y="3882960"/>
                <a:ext cx="1383840" cy="1267200"/>
              </a:xfrm>
              <a:prstGeom prst="pie">
                <a:avLst/>
              </a:prstGeom>
              <a:solidFill>
                <a:srgbClr val="ffffff"/>
              </a:solidFill>
              <a:ln cap="rnd"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28720"/>
                    <a:tab algn="l" pos="3457440"/>
                    <a:tab algn="l" pos="5186520"/>
                    <a:tab algn="l" pos="6915240"/>
                    <a:tab algn="l" pos="8643960"/>
                    <a:tab algn="l" pos="1037268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jilin"/>
              <p:cNvSpPr/>
              <p:nvPr/>
            </p:nvSpPr>
            <p:spPr>
              <a:xfrm>
                <a:off x="9511200" y="4859280"/>
                <a:ext cx="1032840" cy="737640"/>
              </a:xfrm>
              <a:prstGeom prst="pie">
                <a:avLst/>
              </a:prstGeom>
              <a:solidFill>
                <a:srgbClr val="ffffff"/>
              </a:solidFill>
              <a:ln cap="rnd"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28720"/>
                    <a:tab algn="l" pos="3457440"/>
                    <a:tab algn="l" pos="5186520"/>
                    <a:tab algn="l" pos="6915240"/>
                    <a:tab algn="l" pos="8643960"/>
                    <a:tab algn="l" pos="1037268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aoning"/>
              <p:cNvSpPr/>
              <p:nvPr/>
            </p:nvSpPr>
            <p:spPr>
              <a:xfrm>
                <a:off x="9283680" y="5267520"/>
                <a:ext cx="752040" cy="713880"/>
              </a:xfrm>
              <a:prstGeom prst="pie">
                <a:avLst/>
              </a:prstGeom>
              <a:solidFill>
                <a:srgbClr val="ffffff"/>
              </a:solidFill>
              <a:ln cap="rnd" w="648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728720"/>
                    <a:tab algn="l" pos="3457440"/>
                    <a:tab algn="l" pos="5186520"/>
                    <a:tab algn="l" pos="6915240"/>
                    <a:tab algn="l" pos="8643960"/>
                    <a:tab algn="l" pos="10372680"/>
                  </a:tabLst>
                </a:pP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hainan"/>
            <p:cNvSpPr/>
            <p:nvPr/>
          </p:nvSpPr>
          <p:spPr>
            <a:xfrm>
              <a:off x="8125920" y="8688240"/>
              <a:ext cx="341280" cy="30636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guangdong"/>
            <p:cNvSpPr/>
            <p:nvPr/>
          </p:nvSpPr>
          <p:spPr>
            <a:xfrm>
              <a:off x="8297280" y="7908120"/>
              <a:ext cx="987480" cy="70740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guangxi"/>
            <p:cNvSpPr/>
            <p:nvPr/>
          </p:nvSpPr>
          <p:spPr>
            <a:xfrm>
              <a:off x="7635240" y="7775640"/>
              <a:ext cx="973080" cy="70524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ujian"/>
            <p:cNvSpPr/>
            <p:nvPr/>
          </p:nvSpPr>
          <p:spPr>
            <a:xfrm>
              <a:off x="9114840" y="7479360"/>
              <a:ext cx="538920" cy="68040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jiangxi"/>
            <p:cNvSpPr/>
            <p:nvPr/>
          </p:nvSpPr>
          <p:spPr>
            <a:xfrm>
              <a:off x="8804160" y="7243920"/>
              <a:ext cx="601920" cy="771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ts val="1137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hunan"/>
            <p:cNvSpPr/>
            <p:nvPr/>
          </p:nvSpPr>
          <p:spPr>
            <a:xfrm>
              <a:off x="8203680" y="7243920"/>
              <a:ext cx="694080" cy="75708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hubei"/>
            <p:cNvSpPr/>
            <p:nvPr/>
          </p:nvSpPr>
          <p:spPr>
            <a:xfrm>
              <a:off x="8145000" y="6801840"/>
              <a:ext cx="956520" cy="59256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jiangsu"/>
            <p:cNvSpPr/>
            <p:nvPr/>
          </p:nvSpPr>
          <p:spPr>
            <a:xfrm>
              <a:off x="9085680" y="6495480"/>
              <a:ext cx="707040" cy="60300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shanghai"/>
            <p:cNvSpPr/>
            <p:nvPr/>
          </p:nvSpPr>
          <p:spPr>
            <a:xfrm>
              <a:off x="9668520" y="6978240"/>
              <a:ext cx="124560" cy="10404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zhejiang"/>
            <p:cNvSpPr/>
            <p:nvPr/>
          </p:nvSpPr>
          <p:spPr>
            <a:xfrm>
              <a:off x="9361080" y="7053480"/>
              <a:ext cx="462600" cy="54576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nhui"/>
            <p:cNvSpPr/>
            <p:nvPr/>
          </p:nvSpPr>
          <p:spPr>
            <a:xfrm>
              <a:off x="8912520" y="6595560"/>
              <a:ext cx="600480" cy="70884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hebei"/>
            <p:cNvSpPr/>
            <p:nvPr/>
          </p:nvSpPr>
          <p:spPr>
            <a:xfrm>
              <a:off x="8731440" y="5432040"/>
              <a:ext cx="689400" cy="98856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beijing"/>
            <p:cNvSpPr/>
            <p:nvPr/>
          </p:nvSpPr>
          <p:spPr>
            <a:xfrm>
              <a:off x="8926920" y="5683320"/>
              <a:ext cx="219960" cy="23688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20"/>
            <p:cNvSpPr/>
            <p:nvPr/>
          </p:nvSpPr>
          <p:spPr>
            <a:xfrm>
              <a:off x="9068040" y="5802120"/>
              <a:ext cx="66240" cy="8748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shandong"/>
            <p:cNvSpPr/>
            <p:nvPr/>
          </p:nvSpPr>
          <p:spPr>
            <a:xfrm>
              <a:off x="8912520" y="6080040"/>
              <a:ext cx="851040" cy="53280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henan"/>
            <p:cNvSpPr/>
            <p:nvPr/>
          </p:nvSpPr>
          <p:spPr>
            <a:xfrm>
              <a:off x="8376840" y="6376320"/>
              <a:ext cx="741240" cy="66276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shanxi"/>
            <p:cNvSpPr/>
            <p:nvPr/>
          </p:nvSpPr>
          <p:spPr>
            <a:xfrm>
              <a:off x="8362080" y="5771520"/>
              <a:ext cx="491760" cy="84132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neimenggu"/>
            <p:cNvSpPr/>
            <p:nvPr/>
          </p:nvSpPr>
          <p:spPr>
            <a:xfrm>
              <a:off x="7021800" y="3929400"/>
              <a:ext cx="2801520" cy="228672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qinghai"/>
            <p:cNvSpPr/>
            <p:nvPr/>
          </p:nvSpPr>
          <p:spPr>
            <a:xfrm>
              <a:off x="5995800" y="5787720"/>
              <a:ext cx="1550520" cy="114876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guizhou"/>
            <p:cNvSpPr/>
            <p:nvPr/>
          </p:nvSpPr>
          <p:spPr>
            <a:xfrm>
              <a:off x="7543080" y="7376760"/>
              <a:ext cx="726480" cy="63864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yunnan"/>
            <p:cNvSpPr/>
            <p:nvPr/>
          </p:nvSpPr>
          <p:spPr>
            <a:xfrm>
              <a:off x="6713280" y="7319160"/>
              <a:ext cx="1126080" cy="114696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sichuan"/>
            <p:cNvSpPr/>
            <p:nvPr/>
          </p:nvSpPr>
          <p:spPr>
            <a:xfrm>
              <a:off x="6869520" y="6609960"/>
              <a:ext cx="1492200" cy="116712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shaanxi"/>
            <p:cNvSpPr/>
            <p:nvPr/>
          </p:nvSpPr>
          <p:spPr>
            <a:xfrm>
              <a:off x="7839360" y="5919120"/>
              <a:ext cx="632880" cy="112032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ningxia"/>
            <p:cNvSpPr/>
            <p:nvPr/>
          </p:nvSpPr>
          <p:spPr>
            <a:xfrm>
              <a:off x="7722720" y="5933160"/>
              <a:ext cx="338400" cy="563400"/>
            </a:xfrm>
            <a:prstGeom prst="pie">
              <a:avLst/>
            </a:prstGeom>
            <a:solidFill>
              <a:srgbClr val="ffffff"/>
            </a:solidFill>
            <a:ln cap="rnd"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gansu"/>
            <p:cNvSpPr/>
            <p:nvPr/>
          </p:nvSpPr>
          <p:spPr>
            <a:xfrm>
              <a:off x="6484680" y="5361840"/>
              <a:ext cx="1691280" cy="154584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xinjiang"/>
            <p:cNvSpPr/>
            <p:nvPr/>
          </p:nvSpPr>
          <p:spPr>
            <a:xfrm>
              <a:off x="4438800" y="4315320"/>
              <a:ext cx="2507040" cy="190080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sichuan"/>
            <p:cNvSpPr/>
            <p:nvPr/>
          </p:nvSpPr>
          <p:spPr>
            <a:xfrm>
              <a:off x="7593120" y="6870600"/>
              <a:ext cx="768960" cy="66348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aiwan"/>
            <p:cNvSpPr/>
            <p:nvPr/>
          </p:nvSpPr>
          <p:spPr>
            <a:xfrm>
              <a:off x="9653760" y="7804080"/>
              <a:ext cx="244800" cy="474840"/>
            </a:xfrm>
            <a:prstGeom prst="pie">
              <a:avLst/>
            </a:prstGeom>
            <a:solidFill>
              <a:srgbClr val="ffffff"/>
            </a:solidFill>
            <a:ln cap="rnd" w="648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任意多边形 3"/>
          <p:cNvSpPr/>
          <p:nvPr/>
        </p:nvSpPr>
        <p:spPr>
          <a:xfrm>
            <a:off x="12774600" y="-60480"/>
            <a:ext cx="1090800" cy="2457720"/>
          </a:xfrm>
          <a:prstGeom prst="pie">
            <a:avLst/>
          </a:prstGeom>
          <a:noFill/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同心圆 4"/>
          <p:cNvSpPr/>
          <p:nvPr/>
        </p:nvSpPr>
        <p:spPr>
          <a:xfrm>
            <a:off x="12049200" y="2247840"/>
            <a:ext cx="2158920" cy="2160720"/>
          </a:xfrm>
          <a:prstGeom prst="donut">
            <a:avLst>
              <a:gd name="adj" fmla="val 690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直接连接符 6"/>
          <p:cNvSpPr/>
          <p:nvPr/>
        </p:nvSpPr>
        <p:spPr>
          <a:xfrm>
            <a:off x="13728600" y="4156200"/>
            <a:ext cx="0" cy="5730840"/>
          </a:xfrm>
          <a:prstGeom prst="line">
            <a:avLst/>
          </a:prstGeom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1619280" y="1332000"/>
            <a:ext cx="8281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Century"/>
              </a:rPr>
              <a:t>PART 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1692360" y="3051000"/>
            <a:ext cx="90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Vrinda"/>
              </a:rPr>
              <a:t>ADD YOUR WORDS HERE </a:t>
            </a:r>
            <a:r>
              <a:rPr b="1" lang="en-US" sz="2400" spc="-1" strike="noStrike">
                <a:solidFill>
                  <a:srgbClr val="ffffff"/>
                </a:solidFill>
                <a:latin typeface="Vrinda"/>
              </a:rPr>
              <a:t>SOMETHING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d8d8d8"/>
                </a:solidFill>
                <a:latin typeface="Vrinda"/>
              </a:rPr>
              <a:t>ADD YOUR WORD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xizang"/>
          <p:cNvSpPr/>
          <p:nvPr/>
        </p:nvSpPr>
        <p:spPr>
          <a:xfrm>
            <a:off x="4626000" y="6019920"/>
            <a:ext cx="2384280" cy="1446120"/>
          </a:xfrm>
          <a:prstGeom prst="pie">
            <a:avLst/>
          </a:prstGeom>
          <a:solidFill>
            <a:srgbClr val="0c2d83"/>
          </a:solidFill>
          <a:ln cap="rnd"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49"/>
          <p:cNvSpPr/>
          <p:nvPr/>
        </p:nvSpPr>
        <p:spPr>
          <a:xfrm>
            <a:off x="1481040" y="6746760"/>
            <a:ext cx="4589640" cy="411120"/>
          </a:xfrm>
          <a:prstGeom prst="pie">
            <a:avLst/>
          </a:prstGeom>
          <a:noFill/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48"/>
          <p:cNvSpPr/>
          <p:nvPr/>
        </p:nvSpPr>
        <p:spPr>
          <a:xfrm>
            <a:off x="1292400" y="6595920"/>
            <a:ext cx="326880" cy="327240"/>
          </a:xfrm>
          <a:prstGeom prst="ellipse">
            <a:avLst/>
          </a:pr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0"/>
          <p:cNvSpPr/>
          <p:nvPr/>
        </p:nvSpPr>
        <p:spPr>
          <a:xfrm>
            <a:off x="1660680" y="602460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rinda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53"/>
          <p:cNvSpPr/>
          <p:nvPr/>
        </p:nvSpPr>
        <p:spPr>
          <a:xfrm>
            <a:off x="14695560" y="8245440"/>
            <a:ext cx="2158920" cy="868320"/>
          </a:xfrm>
          <a:prstGeom prst="rect">
            <a:avLst/>
          </a:prstGeom>
          <a:solidFill>
            <a:srgbClr val="7803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rinda"/>
              </a:rPr>
              <a:t>YOUR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push dir="u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2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"/>
                            </p:stCondLst>
                            <p:childTnLst>
                              <p:par>
                                <p:cTn id="19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5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250"/>
                            </p:stCondLst>
                            <p:childTnLst>
                              <p:par>
                                <p:cTn id="20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1"/>
                            </p:stCondLst>
                            <p:childTnLst>
                              <p:par>
                                <p:cTn id="227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250" autoRev="1" fill="hold"/>
                                        <p:tgtEl>
                                          <p:spTgt spid="2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1"/>
                            </p:stCondLst>
                            <p:childTnLst>
                              <p:par>
                                <p:cTn id="2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1"/>
                            </p:stCondLst>
                            <p:childTnLst>
                              <p:par>
                                <p:cTn id="23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d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直接连接符 1"/>
          <p:cNvSpPr/>
          <p:nvPr/>
        </p:nvSpPr>
        <p:spPr>
          <a:xfrm>
            <a:off x="13728600" y="-681120"/>
            <a:ext cx="0" cy="3382920"/>
          </a:xfrm>
          <a:prstGeom prst="line">
            <a:avLst/>
          </a:prstGeom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六角星 3"/>
          <p:cNvSpPr/>
          <p:nvPr/>
        </p:nvSpPr>
        <p:spPr>
          <a:xfrm>
            <a:off x="12509640" y="2556000"/>
            <a:ext cx="2436840" cy="2774880"/>
          </a:xfrm>
          <a:prstGeom prst="pie">
            <a:avLst/>
          </a:prstGeom>
          <a:solidFill>
            <a:srgbClr val="ffffff"/>
          </a:solidFill>
          <a:ln w="139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728720"/>
                <a:tab algn="l" pos="3457440"/>
                <a:tab algn="l" pos="5186520"/>
                <a:tab algn="l" pos="6915240"/>
                <a:tab algn="l" pos="8643960"/>
                <a:tab algn="l" pos="10372680"/>
              </a:tabLst>
            </a:pPr>
            <a:r>
              <a:rPr b="1" lang="zh-CN" sz="8800" spc="-1" strike="noStrike">
                <a:solidFill>
                  <a:srgbClr val="0c2d83"/>
                </a:solidFill>
                <a:latin typeface="微软雅黑"/>
                <a:ea typeface="微软雅黑"/>
              </a:rPr>
              <a:t>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2230560" y="2413080"/>
            <a:ext cx="9361440" cy="4138200"/>
            <a:chOff x="2230560" y="2413080"/>
            <a:chExt cx="9361440" cy="4138200"/>
          </a:xfrm>
        </p:grpSpPr>
        <p:sp>
          <p:nvSpPr>
            <p:cNvPr id="265" name="TextBox 4"/>
            <p:cNvSpPr/>
            <p:nvPr/>
          </p:nvSpPr>
          <p:spPr>
            <a:xfrm>
              <a:off x="2230560" y="2413080"/>
              <a:ext cx="828144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11500" spc="-1" strike="noStrike">
                  <a:solidFill>
                    <a:srgbClr val="ffffff"/>
                  </a:solidFill>
                  <a:latin typeface="Century"/>
                </a:rPr>
                <a:t>THANKS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矩形 5"/>
            <p:cNvSpPr/>
            <p:nvPr/>
          </p:nvSpPr>
          <p:spPr>
            <a:xfrm>
              <a:off x="2376000" y="4573440"/>
              <a:ext cx="9216000" cy="1008000"/>
            </a:xfrm>
            <a:prstGeom prst="rect">
              <a:avLst/>
            </a:prstGeom>
            <a:solidFill>
              <a:srgbClr val="a005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6"/>
            <p:cNvSpPr/>
            <p:nvPr/>
          </p:nvSpPr>
          <p:spPr>
            <a:xfrm>
              <a:off x="2302560" y="5787000"/>
              <a:ext cx="828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entury"/>
                </a:rPr>
                <a:t>BY Franki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7"/>
            <p:cNvSpPr/>
            <p:nvPr/>
          </p:nvSpPr>
          <p:spPr>
            <a:xfrm>
              <a:off x="2376000" y="4692600"/>
              <a:ext cx="82814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728720"/>
                  <a:tab algn="l" pos="3457440"/>
                  <a:tab algn="l" pos="5186520"/>
                  <a:tab algn="l" pos="6915240"/>
                  <a:tab algn="l" pos="8643960"/>
                  <a:tab algn="l" pos="1037268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Century"/>
                </a:rPr>
                <a:t>ANIMATION TEMPLAT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000">
    <p:push dir="u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7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2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02:13Z</dcterms:modified>
  <cp:revision>5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