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4.png" ContentType="image/png"/>
  <Override PartName="/ppt/media/image13.jpeg" ContentType="image/jpeg"/>
  <Override PartName="/ppt/media/image23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8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35.png" ContentType="image/png"/>
  <Override PartName="/ppt/media/image5.png" ContentType="image/png"/>
  <Override PartName="/ppt/media/image28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2883-0811-49CA-8C4F-97153A3E6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EAE7-ECBA-405D-AB0A-23CF1060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FA0F-7E33-4715-8F31-3AFC89C3C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9B22-198C-452E-A066-2EE32E3F4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C93B-07A0-4FDB-8FB9-D00875F7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30B1-14A5-4909-A48C-0C7E7C7E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B671-BFE6-424D-B2E8-B4146AEF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8AFF-0499-45C8-B248-82B6DA35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AE82-34E4-41C9-AC55-B0533EE0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6C80-6340-481D-8B27-E4980C9A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D03B-5C3C-41B2-B400-BB4A1612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C4A2-7907-408A-88F6-F7448349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9EAF-7C80-4F1D-BF48-51E796ADC98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0ACF-EB1F-4A36-9BB4-A8210A5022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jpe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jpeg"/><Relationship Id="rId31" Type="http://schemas.openxmlformats.org/officeDocument/2006/relationships/image" Target="../media/image31.png"/><Relationship Id="rId32" Type="http://schemas.openxmlformats.org/officeDocument/2006/relationships/image" Target="../media/image32.jpeg"/><Relationship Id="rId33" Type="http://schemas.openxmlformats.org/officeDocument/2006/relationships/image" Target="../media/image33.png"/><Relationship Id="rId34" Type="http://schemas.openxmlformats.org/officeDocument/2006/relationships/image" Target="../media/image34.jpeg"/><Relationship Id="rId35" Type="http://schemas.openxmlformats.org/officeDocument/2006/relationships/image" Target="../media/image35.png"/><Relationship Id="rId3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 rot="10800000">
            <a:off x="0" y="-360"/>
            <a:ext cx="9144000" cy="3365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uppe 198"/>
          <p:cNvGrpSpPr/>
          <p:nvPr/>
        </p:nvGrpSpPr>
        <p:grpSpPr>
          <a:xfrm>
            <a:off x="1195560" y="4349880"/>
            <a:ext cx="1709640" cy="1531800"/>
            <a:chOff x="1195560" y="4349880"/>
            <a:chExt cx="1709640" cy="1531800"/>
          </a:xfrm>
        </p:grpSpPr>
        <p:grpSp>
          <p:nvGrpSpPr>
            <p:cNvPr id="43" name="Gruppe 526"/>
            <p:cNvGrpSpPr/>
            <p:nvPr/>
          </p:nvGrpSpPr>
          <p:grpSpPr>
            <a:xfrm>
              <a:off x="1195560" y="4349880"/>
              <a:ext cx="1709640" cy="1531800"/>
              <a:chOff x="1195560" y="4349880"/>
              <a:chExt cx="1709640" cy="1531800"/>
            </a:xfrm>
          </p:grpSpPr>
          <p:sp>
            <p:nvSpPr>
              <p:cNvPr id="44" name="Ellipse 128"/>
              <p:cNvSpPr/>
              <p:nvPr/>
            </p:nvSpPr>
            <p:spPr>
              <a:xfrm>
                <a:off x="1349280" y="4349880"/>
                <a:ext cx="1311120" cy="1315440"/>
              </a:xfrm>
              <a:prstGeom prst="ellipse">
                <a:avLst/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" name="Ellipse 129"/>
              <p:cNvGrpSpPr/>
              <p:nvPr/>
            </p:nvGrpSpPr>
            <p:grpSpPr>
              <a:xfrm>
                <a:off x="1195560" y="5645160"/>
                <a:ext cx="1709640" cy="236520"/>
                <a:chOff x="1195560" y="5645160"/>
                <a:chExt cx="1709640" cy="236520"/>
              </a:xfrm>
            </p:grpSpPr>
            <p:pic>
              <p:nvPicPr>
                <p:cNvPr id="46" name="Ellipse 129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195560" y="5645160"/>
                  <a:ext cx="1709640" cy="236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" name=""/>
                <p:cNvSpPr/>
                <p:nvPr/>
              </p:nvSpPr>
              <p:spPr>
                <a:xfrm>
                  <a:off x="1450080" y="5685480"/>
                  <a:ext cx="1198080" cy="15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" name="Måne 103"/>
            <p:cNvGrpSpPr/>
            <p:nvPr/>
          </p:nvGrpSpPr>
          <p:grpSpPr>
            <a:xfrm>
              <a:off x="1347120" y="5022720"/>
              <a:ext cx="1268280" cy="645840"/>
              <a:chOff x="1347120" y="5022720"/>
              <a:chExt cx="1268280" cy="645840"/>
            </a:xfrm>
          </p:grpSpPr>
          <p:pic>
            <p:nvPicPr>
              <p:cNvPr id="49" name="Måne 103" descr=""/>
              <p:cNvPicPr/>
              <p:nvPr/>
            </p:nvPicPr>
            <p:blipFill>
              <a:blip r:embed="rId3"/>
              <a:stretch/>
            </p:blipFill>
            <p:spPr>
              <a:xfrm>
                <a:off x="1347120" y="5022720"/>
                <a:ext cx="126828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"/>
              <p:cNvSpPr/>
              <p:nvPr/>
            </p:nvSpPr>
            <p:spPr>
              <a:xfrm rot="16551600">
                <a:off x="1911960" y="5491440"/>
                <a:ext cx="33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Ellipse 45"/>
            <p:cNvSpPr/>
            <p:nvPr/>
          </p:nvSpPr>
          <p:spPr>
            <a:xfrm>
              <a:off x="1536840" y="4399200"/>
              <a:ext cx="944640" cy="706320"/>
            </a:xfrm>
            <a:prstGeom prst="ellipse">
              <a:avLst/>
            </a:prstGeom>
            <a:gradFill rotWithShape="0">
              <a:gsLst>
                <a:gs pos="0">
                  <a:srgbClr val="fffcf9">
                    <a:alpha val="7725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Måne 3"/>
          <p:cNvGrpSpPr/>
          <p:nvPr/>
        </p:nvGrpSpPr>
        <p:grpSpPr>
          <a:xfrm>
            <a:off x="3114720" y="5010120"/>
            <a:ext cx="1274760" cy="652320"/>
            <a:chOff x="3114720" y="5010120"/>
            <a:chExt cx="1274760" cy="652320"/>
          </a:xfrm>
        </p:grpSpPr>
        <p:pic>
          <p:nvPicPr>
            <p:cNvPr id="53" name="Måne 3" descr=""/>
            <p:cNvPicPr/>
            <p:nvPr/>
          </p:nvPicPr>
          <p:blipFill>
            <a:blip r:embed="rId4"/>
            <a:stretch/>
          </p:blipFill>
          <p:spPr>
            <a:xfrm>
              <a:off x="3114720" y="5010120"/>
              <a:ext cx="127476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6551600">
              <a:off x="3678840" y="5477040"/>
              <a:ext cx="33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uppe 83"/>
          <p:cNvGrpSpPr/>
          <p:nvPr/>
        </p:nvGrpSpPr>
        <p:grpSpPr>
          <a:xfrm>
            <a:off x="4692600" y="2679840"/>
            <a:ext cx="1711440" cy="1533240"/>
            <a:chOff x="4692600" y="2679840"/>
            <a:chExt cx="1711440" cy="1533240"/>
          </a:xfrm>
        </p:grpSpPr>
        <p:grpSp>
          <p:nvGrpSpPr>
            <p:cNvPr id="56" name="Gruppe 526"/>
            <p:cNvGrpSpPr/>
            <p:nvPr/>
          </p:nvGrpSpPr>
          <p:grpSpPr>
            <a:xfrm>
              <a:off x="4692600" y="2679840"/>
              <a:ext cx="1711440" cy="1533240"/>
              <a:chOff x="4692600" y="2679840"/>
              <a:chExt cx="1711440" cy="1533240"/>
            </a:xfrm>
          </p:grpSpPr>
          <p:grpSp>
            <p:nvGrpSpPr>
              <p:cNvPr id="57" name="Ellipse 31"/>
              <p:cNvGrpSpPr/>
              <p:nvPr/>
            </p:nvGrpSpPr>
            <p:grpSpPr>
              <a:xfrm>
                <a:off x="4831920" y="2679840"/>
                <a:ext cx="1341360" cy="1328040"/>
                <a:chOff x="4831920" y="2679840"/>
                <a:chExt cx="1341360" cy="1328040"/>
              </a:xfrm>
            </p:grpSpPr>
            <p:pic>
              <p:nvPicPr>
                <p:cNvPr id="58" name="Ellipse 3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831920" y="2679840"/>
                  <a:ext cx="1341360" cy="132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" name=""/>
                <p:cNvSpPr/>
                <p:nvPr/>
              </p:nvSpPr>
              <p:spPr>
                <a:xfrm>
                  <a:off x="5037840" y="2881080"/>
                  <a:ext cx="932400" cy="92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Ellipse 32"/>
              <p:cNvGrpSpPr/>
              <p:nvPr/>
            </p:nvGrpSpPr>
            <p:grpSpPr>
              <a:xfrm>
                <a:off x="4692600" y="3977640"/>
                <a:ext cx="1711440" cy="235440"/>
                <a:chOff x="4692600" y="3977640"/>
                <a:chExt cx="1711440" cy="235440"/>
              </a:xfrm>
            </p:grpSpPr>
            <p:pic>
              <p:nvPicPr>
                <p:cNvPr id="61" name="Ellipse 3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692600" y="3977640"/>
                  <a:ext cx="1711440" cy="23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" name=""/>
                <p:cNvSpPr/>
                <p:nvPr/>
              </p:nvSpPr>
              <p:spPr>
                <a:xfrm>
                  <a:off x="4946400" y="4017960"/>
                  <a:ext cx="1204560" cy="15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3" name="Ellipse 45"/>
            <p:cNvSpPr/>
            <p:nvPr/>
          </p:nvSpPr>
          <p:spPr>
            <a:xfrm>
              <a:off x="5018400" y="2729160"/>
              <a:ext cx="943560" cy="707040"/>
            </a:xfrm>
            <a:prstGeom prst="ellipse">
              <a:avLst/>
            </a:prstGeom>
            <a:gradFill rotWithShape="0">
              <a:gsLst>
                <a:gs pos="0">
                  <a:srgbClr val="fffcf9">
                    <a:alpha val="7725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Måne 33"/>
          <p:cNvGrpSpPr/>
          <p:nvPr/>
        </p:nvGrpSpPr>
        <p:grpSpPr>
          <a:xfrm>
            <a:off x="1359000" y="1719360"/>
            <a:ext cx="1274760" cy="652320"/>
            <a:chOff x="1359000" y="1719360"/>
            <a:chExt cx="1274760" cy="652320"/>
          </a:xfrm>
        </p:grpSpPr>
        <p:pic>
          <p:nvPicPr>
            <p:cNvPr id="65" name="Måne 33" descr=""/>
            <p:cNvPicPr/>
            <p:nvPr/>
          </p:nvPicPr>
          <p:blipFill>
            <a:blip r:embed="rId7"/>
            <a:stretch/>
          </p:blipFill>
          <p:spPr>
            <a:xfrm>
              <a:off x="1359000" y="1719360"/>
              <a:ext cx="127476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 rot="16551600">
              <a:off x="1925280" y="2192040"/>
              <a:ext cx="3492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Måne 34"/>
          <p:cNvGrpSpPr/>
          <p:nvPr/>
        </p:nvGrpSpPr>
        <p:grpSpPr>
          <a:xfrm>
            <a:off x="3121200" y="1743120"/>
            <a:ext cx="1274760" cy="652320"/>
            <a:chOff x="3121200" y="1743120"/>
            <a:chExt cx="1274760" cy="652320"/>
          </a:xfrm>
        </p:grpSpPr>
        <p:pic>
          <p:nvPicPr>
            <p:cNvPr id="68" name="Måne 34" descr=""/>
            <p:cNvPicPr/>
            <p:nvPr/>
          </p:nvPicPr>
          <p:blipFill>
            <a:blip r:embed="rId8"/>
            <a:stretch/>
          </p:blipFill>
          <p:spPr>
            <a:xfrm>
              <a:off x="3121200" y="1743120"/>
              <a:ext cx="127476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 rot="16551600">
              <a:off x="3684600" y="2210760"/>
              <a:ext cx="3348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Måne 35"/>
          <p:cNvGrpSpPr/>
          <p:nvPr/>
        </p:nvGrpSpPr>
        <p:grpSpPr>
          <a:xfrm>
            <a:off x="3121200" y="3365640"/>
            <a:ext cx="1268280" cy="645840"/>
            <a:chOff x="3121200" y="3365640"/>
            <a:chExt cx="1268280" cy="645840"/>
          </a:xfrm>
        </p:grpSpPr>
        <p:pic>
          <p:nvPicPr>
            <p:cNvPr id="71" name="Måne 35" descr=""/>
            <p:cNvPicPr/>
            <p:nvPr/>
          </p:nvPicPr>
          <p:blipFill>
            <a:blip r:embed="rId9"/>
            <a:stretch/>
          </p:blipFill>
          <p:spPr>
            <a:xfrm>
              <a:off x="3121200" y="3365640"/>
              <a:ext cx="126828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 rot="16551600">
              <a:off x="3682440" y="3830400"/>
              <a:ext cx="32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Måne 38"/>
          <p:cNvGrpSpPr/>
          <p:nvPr/>
        </p:nvGrpSpPr>
        <p:grpSpPr>
          <a:xfrm>
            <a:off x="4870440" y="3365640"/>
            <a:ext cx="1274760" cy="652320"/>
            <a:chOff x="4870440" y="3365640"/>
            <a:chExt cx="1274760" cy="652320"/>
          </a:xfrm>
        </p:grpSpPr>
        <p:pic>
          <p:nvPicPr>
            <p:cNvPr id="74" name="Måne 38" descr=""/>
            <p:cNvPicPr/>
            <p:nvPr/>
          </p:nvPicPr>
          <p:blipFill>
            <a:blip r:embed="rId10"/>
            <a:stretch/>
          </p:blipFill>
          <p:spPr>
            <a:xfrm>
              <a:off x="4870440" y="3365640"/>
              <a:ext cx="127476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 rot="16551600">
              <a:off x="5434560" y="3832560"/>
              <a:ext cx="33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uppe 149"/>
          <p:cNvGrpSpPr/>
          <p:nvPr/>
        </p:nvGrpSpPr>
        <p:grpSpPr>
          <a:xfrm>
            <a:off x="1209600" y="1066680"/>
            <a:ext cx="1711440" cy="1532160"/>
            <a:chOff x="1209600" y="1066680"/>
            <a:chExt cx="1711440" cy="1532160"/>
          </a:xfrm>
        </p:grpSpPr>
        <p:grpSp>
          <p:nvGrpSpPr>
            <p:cNvPr id="77" name="Gruppe 526"/>
            <p:cNvGrpSpPr/>
            <p:nvPr/>
          </p:nvGrpSpPr>
          <p:grpSpPr>
            <a:xfrm>
              <a:off x="1209600" y="1066680"/>
              <a:ext cx="1711440" cy="1532160"/>
              <a:chOff x="1209600" y="1066680"/>
              <a:chExt cx="1711440" cy="1532160"/>
            </a:xfrm>
          </p:grpSpPr>
          <p:grpSp>
            <p:nvGrpSpPr>
              <p:cNvPr id="78" name="Ellipse 43"/>
              <p:cNvGrpSpPr/>
              <p:nvPr/>
            </p:nvGrpSpPr>
            <p:grpSpPr>
              <a:xfrm>
                <a:off x="1348560" y="1066680"/>
                <a:ext cx="1330560" cy="1326240"/>
                <a:chOff x="1348560" y="1066680"/>
                <a:chExt cx="1330560" cy="1326240"/>
              </a:xfrm>
            </p:grpSpPr>
            <p:pic>
              <p:nvPicPr>
                <p:cNvPr id="79" name="Ellipse 43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48560" y="1066680"/>
                  <a:ext cx="1330560" cy="1326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" name=""/>
                <p:cNvSpPr/>
                <p:nvPr/>
              </p:nvSpPr>
              <p:spPr>
                <a:xfrm>
                  <a:off x="1549440" y="1264680"/>
                  <a:ext cx="929160" cy="92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Ellipse 44"/>
              <p:cNvGrpSpPr/>
              <p:nvPr/>
            </p:nvGrpSpPr>
            <p:grpSpPr>
              <a:xfrm>
                <a:off x="1209600" y="2368800"/>
                <a:ext cx="1711440" cy="230040"/>
                <a:chOff x="1209600" y="2368800"/>
                <a:chExt cx="1711440" cy="230040"/>
              </a:xfrm>
            </p:grpSpPr>
            <p:pic>
              <p:nvPicPr>
                <p:cNvPr id="82" name="Ellipse 44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1209600" y="2368800"/>
                  <a:ext cx="1711440" cy="230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" name=""/>
                <p:cNvSpPr/>
                <p:nvPr/>
              </p:nvSpPr>
              <p:spPr>
                <a:xfrm>
                  <a:off x="1466640" y="2405520"/>
                  <a:ext cx="1200240" cy="15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" name="Ellipse 45"/>
            <p:cNvSpPr/>
            <p:nvPr/>
          </p:nvSpPr>
          <p:spPr>
            <a:xfrm>
              <a:off x="1552320" y="1116000"/>
              <a:ext cx="945000" cy="706680"/>
            </a:xfrm>
            <a:prstGeom prst="ellipse">
              <a:avLst/>
            </a:prstGeom>
            <a:gradFill rotWithShape="0">
              <a:gsLst>
                <a:gs pos="0">
                  <a:srgbClr val="fffcf9">
                    <a:alpha val="7725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uppe 153"/>
          <p:cNvGrpSpPr/>
          <p:nvPr/>
        </p:nvGrpSpPr>
        <p:grpSpPr>
          <a:xfrm>
            <a:off x="2916360" y="1066680"/>
            <a:ext cx="1709640" cy="1532160"/>
            <a:chOff x="2916360" y="1066680"/>
            <a:chExt cx="1709640" cy="1532160"/>
          </a:xfrm>
        </p:grpSpPr>
        <p:grpSp>
          <p:nvGrpSpPr>
            <p:cNvPr id="86" name="Gruppe 527"/>
            <p:cNvGrpSpPr/>
            <p:nvPr/>
          </p:nvGrpSpPr>
          <p:grpSpPr>
            <a:xfrm>
              <a:off x="2916360" y="1066680"/>
              <a:ext cx="1709640" cy="1532160"/>
              <a:chOff x="2916360" y="1066680"/>
              <a:chExt cx="1709640" cy="1532160"/>
            </a:xfrm>
          </p:grpSpPr>
          <p:sp>
            <p:nvSpPr>
              <p:cNvPr id="87" name="Ellipse 49"/>
              <p:cNvSpPr/>
              <p:nvPr/>
            </p:nvSpPr>
            <p:spPr>
              <a:xfrm>
                <a:off x="3114000" y="1066680"/>
                <a:ext cx="1309680" cy="13179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" name="Ellipse 50"/>
              <p:cNvGrpSpPr/>
              <p:nvPr/>
            </p:nvGrpSpPr>
            <p:grpSpPr>
              <a:xfrm>
                <a:off x="2916360" y="2368080"/>
                <a:ext cx="1709640" cy="230760"/>
                <a:chOff x="2916360" y="2368080"/>
                <a:chExt cx="1709640" cy="230760"/>
              </a:xfrm>
            </p:grpSpPr>
            <p:pic>
              <p:nvPicPr>
                <p:cNvPr id="89" name="Ellipse 5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2916360" y="2368080"/>
                  <a:ext cx="1709640" cy="230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" name=""/>
                <p:cNvSpPr/>
                <p:nvPr/>
              </p:nvSpPr>
              <p:spPr>
                <a:xfrm>
                  <a:off x="3172680" y="2404800"/>
                  <a:ext cx="1198080" cy="15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Ellipse 45"/>
            <p:cNvSpPr/>
            <p:nvPr/>
          </p:nvSpPr>
          <p:spPr>
            <a:xfrm>
              <a:off x="3301560" y="1106280"/>
              <a:ext cx="944640" cy="703800"/>
            </a:xfrm>
            <a:prstGeom prst="ellipse">
              <a:avLst/>
            </a:prstGeom>
            <a:gradFill rotWithShape="0">
              <a:gsLst>
                <a:gs pos="0">
                  <a:srgbClr val="fffcf9">
                    <a:alpha val="7725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uppe 155"/>
          <p:cNvGrpSpPr/>
          <p:nvPr/>
        </p:nvGrpSpPr>
        <p:grpSpPr>
          <a:xfrm>
            <a:off x="4622760" y="1066680"/>
            <a:ext cx="1708200" cy="1532160"/>
            <a:chOff x="4622760" y="1066680"/>
            <a:chExt cx="1708200" cy="1532160"/>
          </a:xfrm>
        </p:grpSpPr>
        <p:grpSp>
          <p:nvGrpSpPr>
            <p:cNvPr id="93" name="Gruppe 528"/>
            <p:cNvGrpSpPr/>
            <p:nvPr/>
          </p:nvGrpSpPr>
          <p:grpSpPr>
            <a:xfrm>
              <a:off x="4622760" y="1066680"/>
              <a:ext cx="1708200" cy="1532160"/>
              <a:chOff x="4622760" y="1066680"/>
              <a:chExt cx="1708200" cy="1532160"/>
            </a:xfrm>
          </p:grpSpPr>
          <p:grpSp>
            <p:nvGrpSpPr>
              <p:cNvPr id="94" name="Ellipse 56"/>
              <p:cNvGrpSpPr/>
              <p:nvPr/>
            </p:nvGrpSpPr>
            <p:grpSpPr>
              <a:xfrm>
                <a:off x="4852080" y="1066680"/>
                <a:ext cx="1321920" cy="1326240"/>
                <a:chOff x="4852080" y="1066680"/>
                <a:chExt cx="1321920" cy="1326240"/>
              </a:xfrm>
            </p:grpSpPr>
            <p:pic>
              <p:nvPicPr>
                <p:cNvPr id="95" name="Ellipse 56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4852080" y="1066680"/>
                  <a:ext cx="1321920" cy="1326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" name=""/>
                <p:cNvSpPr/>
                <p:nvPr/>
              </p:nvSpPr>
              <p:spPr>
                <a:xfrm>
                  <a:off x="5051880" y="1264680"/>
                  <a:ext cx="923400" cy="92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Ellipse 57"/>
              <p:cNvGrpSpPr/>
              <p:nvPr/>
            </p:nvGrpSpPr>
            <p:grpSpPr>
              <a:xfrm>
                <a:off x="4622760" y="2368800"/>
                <a:ext cx="1708200" cy="230040"/>
                <a:chOff x="4622760" y="2368800"/>
                <a:chExt cx="1708200" cy="230040"/>
              </a:xfrm>
            </p:grpSpPr>
            <p:pic>
              <p:nvPicPr>
                <p:cNvPr id="98" name="Ellipse 57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4622760" y="2368800"/>
                  <a:ext cx="1708200" cy="230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" name=""/>
                <p:cNvSpPr/>
                <p:nvPr/>
              </p:nvSpPr>
              <p:spPr>
                <a:xfrm>
                  <a:off x="4878360" y="2405520"/>
                  <a:ext cx="1195920" cy="15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" name="Måne 53"/>
            <p:cNvGrpSpPr/>
            <p:nvPr/>
          </p:nvGrpSpPr>
          <p:grpSpPr>
            <a:xfrm>
              <a:off x="4876560" y="1743120"/>
              <a:ext cx="1268280" cy="651960"/>
              <a:chOff x="4876560" y="1743120"/>
              <a:chExt cx="1268280" cy="651960"/>
            </a:xfrm>
          </p:grpSpPr>
          <p:pic>
            <p:nvPicPr>
              <p:cNvPr id="101" name="Måne 53" descr=""/>
              <p:cNvPicPr/>
              <p:nvPr/>
            </p:nvPicPr>
            <p:blipFill>
              <a:blip r:embed="rId17"/>
              <a:stretch/>
            </p:blipFill>
            <p:spPr>
              <a:xfrm>
                <a:off x="4876560" y="1743120"/>
                <a:ext cx="1268280" cy="65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"/>
              <p:cNvSpPr/>
              <p:nvPr/>
            </p:nvSpPr>
            <p:spPr>
              <a:xfrm rot="16551600">
                <a:off x="5440680" y="2215080"/>
                <a:ext cx="33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Ellipse 45"/>
            <p:cNvSpPr/>
            <p:nvPr/>
          </p:nvSpPr>
          <p:spPr>
            <a:xfrm>
              <a:off x="5038920" y="1116000"/>
              <a:ext cx="937800" cy="703800"/>
            </a:xfrm>
            <a:prstGeom prst="ellipse">
              <a:avLst/>
            </a:prstGeom>
            <a:gradFill rotWithShape="0">
              <a:gsLst>
                <a:gs pos="0">
                  <a:srgbClr val="fffcf9">
                    <a:alpha val="7725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uppe 157"/>
          <p:cNvGrpSpPr/>
          <p:nvPr/>
        </p:nvGrpSpPr>
        <p:grpSpPr>
          <a:xfrm>
            <a:off x="6327720" y="1066680"/>
            <a:ext cx="1711440" cy="1532160"/>
            <a:chOff x="6327720" y="1066680"/>
            <a:chExt cx="1711440" cy="1532160"/>
          </a:xfrm>
        </p:grpSpPr>
        <p:grpSp>
          <p:nvGrpSpPr>
            <p:cNvPr id="105" name="Gruppe 529"/>
            <p:cNvGrpSpPr/>
            <p:nvPr/>
          </p:nvGrpSpPr>
          <p:grpSpPr>
            <a:xfrm>
              <a:off x="6327720" y="1066680"/>
              <a:ext cx="1711440" cy="1532160"/>
              <a:chOff x="6327720" y="1066680"/>
              <a:chExt cx="1711440" cy="1532160"/>
            </a:xfrm>
          </p:grpSpPr>
          <p:grpSp>
            <p:nvGrpSpPr>
              <p:cNvPr id="106" name="Ellipse 63"/>
              <p:cNvGrpSpPr/>
              <p:nvPr/>
            </p:nvGrpSpPr>
            <p:grpSpPr>
              <a:xfrm>
                <a:off x="6599880" y="1066680"/>
                <a:ext cx="1324440" cy="1326240"/>
                <a:chOff x="6599880" y="1066680"/>
                <a:chExt cx="1324440" cy="1326240"/>
              </a:xfrm>
            </p:grpSpPr>
            <p:pic>
              <p:nvPicPr>
                <p:cNvPr id="107" name="Ellipse 63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6599880" y="1066680"/>
                  <a:ext cx="1324440" cy="1326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" name=""/>
                <p:cNvSpPr/>
                <p:nvPr/>
              </p:nvSpPr>
              <p:spPr>
                <a:xfrm>
                  <a:off x="6796080" y="1264680"/>
                  <a:ext cx="928080" cy="92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Ellipse 64"/>
              <p:cNvGrpSpPr/>
              <p:nvPr/>
            </p:nvGrpSpPr>
            <p:grpSpPr>
              <a:xfrm>
                <a:off x="6327720" y="2368800"/>
                <a:ext cx="1711440" cy="230040"/>
                <a:chOff x="6327720" y="2368800"/>
                <a:chExt cx="1711440" cy="230040"/>
              </a:xfrm>
            </p:grpSpPr>
            <p:pic>
              <p:nvPicPr>
                <p:cNvPr id="110" name="Ellipse 64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6327720" y="2368800"/>
                  <a:ext cx="1711440" cy="230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" name=""/>
                <p:cNvSpPr/>
                <p:nvPr/>
              </p:nvSpPr>
              <p:spPr>
                <a:xfrm>
                  <a:off x="6582600" y="2405520"/>
                  <a:ext cx="1200240" cy="15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" name="Måne 60"/>
            <p:cNvGrpSpPr/>
            <p:nvPr/>
          </p:nvGrpSpPr>
          <p:grpSpPr>
            <a:xfrm>
              <a:off x="6619680" y="1761480"/>
              <a:ext cx="1268280" cy="645840"/>
              <a:chOff x="6619680" y="1761480"/>
              <a:chExt cx="1268280" cy="645840"/>
            </a:xfrm>
          </p:grpSpPr>
          <p:pic>
            <p:nvPicPr>
              <p:cNvPr id="113" name="Måne 60" descr=""/>
              <p:cNvPicPr/>
              <p:nvPr/>
            </p:nvPicPr>
            <p:blipFill>
              <a:blip r:embed="rId20"/>
              <a:stretch/>
            </p:blipFill>
            <p:spPr>
              <a:xfrm>
                <a:off x="6619680" y="1761480"/>
                <a:ext cx="126828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"/>
              <p:cNvSpPr/>
              <p:nvPr/>
            </p:nvSpPr>
            <p:spPr>
              <a:xfrm rot="16551600">
                <a:off x="7184160" y="2230560"/>
                <a:ext cx="3348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Ellipse 45"/>
            <p:cNvSpPr/>
            <p:nvPr/>
          </p:nvSpPr>
          <p:spPr>
            <a:xfrm>
              <a:off x="6788160" y="1099080"/>
              <a:ext cx="947880" cy="706680"/>
            </a:xfrm>
            <a:prstGeom prst="ellipse">
              <a:avLst/>
            </a:prstGeom>
            <a:gradFill rotWithShape="0">
              <a:gsLst>
                <a:gs pos="0">
                  <a:srgbClr val="fffcf9">
                    <a:alpha val="7725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uppe 526"/>
          <p:cNvGrpSpPr/>
          <p:nvPr/>
        </p:nvGrpSpPr>
        <p:grpSpPr>
          <a:xfrm>
            <a:off x="1206360" y="2687760"/>
            <a:ext cx="1711440" cy="1531800"/>
            <a:chOff x="1206360" y="2687760"/>
            <a:chExt cx="1711440" cy="1531800"/>
          </a:xfrm>
        </p:grpSpPr>
        <p:grpSp>
          <p:nvGrpSpPr>
            <p:cNvPr id="117" name="Ellipse 76"/>
            <p:cNvGrpSpPr/>
            <p:nvPr/>
          </p:nvGrpSpPr>
          <p:grpSpPr>
            <a:xfrm>
              <a:off x="1351440" y="2687760"/>
              <a:ext cx="1330560" cy="1326240"/>
              <a:chOff x="1351440" y="2687760"/>
              <a:chExt cx="1330560" cy="1326240"/>
            </a:xfrm>
          </p:grpSpPr>
          <p:pic>
            <p:nvPicPr>
              <p:cNvPr id="118" name="Ellipse 76" descr=""/>
              <p:cNvPicPr/>
              <p:nvPr/>
            </p:nvPicPr>
            <p:blipFill>
              <a:blip r:embed="rId21"/>
              <a:stretch/>
            </p:blipFill>
            <p:spPr>
              <a:xfrm>
                <a:off x="1351440" y="2687760"/>
                <a:ext cx="1330560" cy="132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1551960" y="2884680"/>
                <a:ext cx="929160" cy="92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Ellipse 77"/>
            <p:cNvGrpSpPr/>
            <p:nvPr/>
          </p:nvGrpSpPr>
          <p:grpSpPr>
            <a:xfrm>
              <a:off x="1206360" y="3989520"/>
              <a:ext cx="1711440" cy="230040"/>
              <a:chOff x="1206360" y="3989520"/>
              <a:chExt cx="1711440" cy="230040"/>
            </a:xfrm>
          </p:grpSpPr>
          <p:pic>
            <p:nvPicPr>
              <p:cNvPr id="121" name="Ellipse 77" descr=""/>
              <p:cNvPicPr/>
              <p:nvPr/>
            </p:nvPicPr>
            <p:blipFill>
              <a:blip r:embed="rId22"/>
              <a:stretch/>
            </p:blipFill>
            <p:spPr>
              <a:xfrm>
                <a:off x="1206360" y="3989520"/>
                <a:ext cx="1711440" cy="23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"/>
              <p:cNvSpPr/>
              <p:nvPr/>
            </p:nvSpPr>
            <p:spPr>
              <a:xfrm>
                <a:off x="1460520" y="4025160"/>
                <a:ext cx="1200240" cy="15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Måne 67"/>
          <p:cNvGrpSpPr/>
          <p:nvPr/>
        </p:nvGrpSpPr>
        <p:grpSpPr>
          <a:xfrm>
            <a:off x="1359000" y="3340080"/>
            <a:ext cx="1268280" cy="652320"/>
            <a:chOff x="1359000" y="3340080"/>
            <a:chExt cx="1268280" cy="652320"/>
          </a:xfrm>
        </p:grpSpPr>
        <p:pic>
          <p:nvPicPr>
            <p:cNvPr id="124" name="Måne 67" descr=""/>
            <p:cNvPicPr/>
            <p:nvPr/>
          </p:nvPicPr>
          <p:blipFill>
            <a:blip r:embed="rId23"/>
            <a:stretch/>
          </p:blipFill>
          <p:spPr>
            <a:xfrm>
              <a:off x="1359000" y="3340080"/>
              <a:ext cx="126828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 rot="16551600">
              <a:off x="1920600" y="3807720"/>
              <a:ext cx="3348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Måne 146"/>
          <p:cNvGrpSpPr/>
          <p:nvPr/>
        </p:nvGrpSpPr>
        <p:grpSpPr>
          <a:xfrm>
            <a:off x="6576840" y="4973760"/>
            <a:ext cx="1274760" cy="652320"/>
            <a:chOff x="6576840" y="4973760"/>
            <a:chExt cx="1274760" cy="652320"/>
          </a:xfrm>
        </p:grpSpPr>
        <p:pic>
          <p:nvPicPr>
            <p:cNvPr id="127" name="Måne 146" descr=""/>
            <p:cNvPicPr/>
            <p:nvPr/>
          </p:nvPicPr>
          <p:blipFill>
            <a:blip r:embed="rId24"/>
            <a:stretch/>
          </p:blipFill>
          <p:spPr>
            <a:xfrm>
              <a:off x="6576840" y="4973760"/>
              <a:ext cx="127476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 rot="16551600">
              <a:off x="7140960" y="5440680"/>
              <a:ext cx="33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Ellipse 45"/>
          <p:cNvSpPr/>
          <p:nvPr/>
        </p:nvSpPr>
        <p:spPr>
          <a:xfrm>
            <a:off x="1531800" y="2736720"/>
            <a:ext cx="944640" cy="706680"/>
          </a:xfrm>
          <a:prstGeom prst="ellipse">
            <a:avLst/>
          </a:prstGeom>
          <a:gradFill rotWithShape="0">
            <a:gsLst>
              <a:gs pos="0">
                <a:srgbClr val="fffcf9">
                  <a:alpha val="77254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uppe 82"/>
          <p:cNvGrpSpPr/>
          <p:nvPr/>
        </p:nvGrpSpPr>
        <p:grpSpPr>
          <a:xfrm>
            <a:off x="2913120" y="2687760"/>
            <a:ext cx="1709640" cy="1531800"/>
            <a:chOff x="2913120" y="2687760"/>
            <a:chExt cx="1709640" cy="1531800"/>
          </a:xfrm>
        </p:grpSpPr>
        <p:grpSp>
          <p:nvGrpSpPr>
            <p:cNvPr id="131" name="Gruppe 527"/>
            <p:cNvGrpSpPr/>
            <p:nvPr/>
          </p:nvGrpSpPr>
          <p:grpSpPr>
            <a:xfrm>
              <a:off x="2913120" y="2687760"/>
              <a:ext cx="1709640" cy="1531800"/>
              <a:chOff x="2913120" y="2687760"/>
              <a:chExt cx="1709640" cy="1531800"/>
            </a:xfrm>
          </p:grpSpPr>
          <p:grpSp>
            <p:nvGrpSpPr>
              <p:cNvPr id="132" name="Ellipse 86"/>
              <p:cNvGrpSpPr/>
              <p:nvPr/>
            </p:nvGrpSpPr>
            <p:grpSpPr>
              <a:xfrm>
                <a:off x="3101040" y="2687760"/>
                <a:ext cx="1327680" cy="1326240"/>
                <a:chOff x="3101040" y="2687760"/>
                <a:chExt cx="1327680" cy="1326240"/>
              </a:xfrm>
            </p:grpSpPr>
            <p:pic>
              <p:nvPicPr>
                <p:cNvPr id="133" name="Ellipse 86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3101040" y="2687760"/>
                  <a:ext cx="1327680" cy="1326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" name=""/>
                <p:cNvSpPr/>
                <p:nvPr/>
              </p:nvSpPr>
              <p:spPr>
                <a:xfrm>
                  <a:off x="3301200" y="2884680"/>
                  <a:ext cx="929160" cy="92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Ellipse 87"/>
              <p:cNvGrpSpPr/>
              <p:nvPr/>
            </p:nvGrpSpPr>
            <p:grpSpPr>
              <a:xfrm>
                <a:off x="2913120" y="3989520"/>
                <a:ext cx="1709640" cy="230040"/>
                <a:chOff x="2913120" y="3989520"/>
                <a:chExt cx="1709640" cy="230040"/>
              </a:xfrm>
            </p:grpSpPr>
            <p:pic>
              <p:nvPicPr>
                <p:cNvPr id="136" name="Ellipse 87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2913120" y="3989520"/>
                  <a:ext cx="1709640" cy="230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" name=""/>
                <p:cNvSpPr/>
                <p:nvPr/>
              </p:nvSpPr>
              <p:spPr>
                <a:xfrm>
                  <a:off x="3167640" y="4025160"/>
                  <a:ext cx="1202400" cy="15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8" name="Ellipse 45"/>
            <p:cNvSpPr/>
            <p:nvPr/>
          </p:nvSpPr>
          <p:spPr>
            <a:xfrm>
              <a:off x="3281400" y="2727360"/>
              <a:ext cx="944640" cy="703440"/>
            </a:xfrm>
            <a:prstGeom prst="ellipse">
              <a:avLst/>
            </a:prstGeom>
            <a:gradFill rotWithShape="0">
              <a:gsLst>
                <a:gs pos="0">
                  <a:srgbClr val="fffcf9">
                    <a:alpha val="7725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uppe 84"/>
          <p:cNvGrpSpPr/>
          <p:nvPr/>
        </p:nvGrpSpPr>
        <p:grpSpPr>
          <a:xfrm>
            <a:off x="6324480" y="2687760"/>
            <a:ext cx="1711440" cy="1531800"/>
            <a:chOff x="6324480" y="2687760"/>
            <a:chExt cx="1711440" cy="1531800"/>
          </a:xfrm>
        </p:grpSpPr>
        <p:grpSp>
          <p:nvGrpSpPr>
            <p:cNvPr id="140" name="Gruppe 199"/>
            <p:cNvGrpSpPr/>
            <p:nvPr/>
          </p:nvGrpSpPr>
          <p:grpSpPr>
            <a:xfrm>
              <a:off x="6324480" y="2687760"/>
              <a:ext cx="1711440" cy="1531800"/>
              <a:chOff x="6324480" y="2687760"/>
              <a:chExt cx="1711440" cy="1531800"/>
            </a:xfrm>
          </p:grpSpPr>
          <p:grpSp>
            <p:nvGrpSpPr>
              <p:cNvPr id="141" name="Gruppe 529"/>
              <p:cNvGrpSpPr/>
              <p:nvPr/>
            </p:nvGrpSpPr>
            <p:grpSpPr>
              <a:xfrm>
                <a:off x="6324480" y="2687760"/>
                <a:ext cx="1711440" cy="1531800"/>
                <a:chOff x="6324480" y="2687760"/>
                <a:chExt cx="1711440" cy="1531800"/>
              </a:xfrm>
            </p:grpSpPr>
            <p:sp>
              <p:nvSpPr>
                <p:cNvPr id="142" name="Ellipse 99"/>
                <p:cNvSpPr/>
                <p:nvPr/>
              </p:nvSpPr>
              <p:spPr>
                <a:xfrm>
                  <a:off x="6598800" y="2687760"/>
                  <a:ext cx="1317240" cy="1316880"/>
                </a:xfrm>
                <a:prstGeom prst="ellipse">
                  <a:avLst/>
                </a:prstGeom>
                <a:blipFill rotWithShape="0">
                  <a:blip r:embed="rId27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3" name="Ellipse 100"/>
                <p:cNvGrpSpPr/>
                <p:nvPr/>
              </p:nvGrpSpPr>
              <p:grpSpPr>
                <a:xfrm>
                  <a:off x="6324480" y="3988800"/>
                  <a:ext cx="1711440" cy="230760"/>
                  <a:chOff x="6324480" y="3988800"/>
                  <a:chExt cx="1711440" cy="230760"/>
                </a:xfrm>
              </p:grpSpPr>
              <p:pic>
                <p:nvPicPr>
                  <p:cNvPr id="144" name="Ellipse 100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324480" y="3988800"/>
                    <a:ext cx="1711440" cy="2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5" name=""/>
                  <p:cNvSpPr/>
                  <p:nvPr/>
                </p:nvSpPr>
                <p:spPr>
                  <a:xfrm>
                    <a:off x="6577560" y="4024440"/>
                    <a:ext cx="1204560" cy="15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6" name="Måne 90"/>
              <p:cNvGrpSpPr/>
              <p:nvPr/>
            </p:nvGrpSpPr>
            <p:grpSpPr>
              <a:xfrm>
                <a:off x="6619320" y="3353040"/>
                <a:ext cx="1268280" cy="651960"/>
                <a:chOff x="6619320" y="3353040"/>
                <a:chExt cx="1268280" cy="651960"/>
              </a:xfrm>
            </p:grpSpPr>
            <p:pic>
              <p:nvPicPr>
                <p:cNvPr id="147" name="Måne 90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6619320" y="3353040"/>
                  <a:ext cx="1268280" cy="651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" name=""/>
                <p:cNvSpPr/>
                <p:nvPr/>
              </p:nvSpPr>
              <p:spPr>
                <a:xfrm rot="16551600">
                  <a:off x="7180920" y="3825360"/>
                  <a:ext cx="33480" cy="27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" name="Ellipse 45"/>
            <p:cNvSpPr/>
            <p:nvPr/>
          </p:nvSpPr>
          <p:spPr>
            <a:xfrm>
              <a:off x="6784920" y="2720160"/>
              <a:ext cx="947880" cy="706320"/>
            </a:xfrm>
            <a:prstGeom prst="ellipse">
              <a:avLst/>
            </a:prstGeom>
            <a:gradFill rotWithShape="0">
              <a:gsLst>
                <a:gs pos="0">
                  <a:srgbClr val="fffcf9">
                    <a:alpha val="7725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uppe 81"/>
          <p:cNvGrpSpPr/>
          <p:nvPr/>
        </p:nvGrpSpPr>
        <p:grpSpPr>
          <a:xfrm>
            <a:off x="2909880" y="4332240"/>
            <a:ext cx="1709640" cy="1533600"/>
            <a:chOff x="2909880" y="4332240"/>
            <a:chExt cx="1709640" cy="1533600"/>
          </a:xfrm>
        </p:grpSpPr>
        <p:grpSp>
          <p:nvGrpSpPr>
            <p:cNvPr id="151" name="Gruppe 527"/>
            <p:cNvGrpSpPr/>
            <p:nvPr/>
          </p:nvGrpSpPr>
          <p:grpSpPr>
            <a:xfrm>
              <a:off x="2909880" y="4332240"/>
              <a:ext cx="1709640" cy="1533600"/>
              <a:chOff x="2909880" y="4332240"/>
              <a:chExt cx="1709640" cy="1533600"/>
            </a:xfrm>
          </p:grpSpPr>
          <p:sp>
            <p:nvSpPr>
              <p:cNvPr id="152" name="Ellipse 134"/>
              <p:cNvSpPr/>
              <p:nvPr/>
            </p:nvSpPr>
            <p:spPr>
              <a:xfrm>
                <a:off x="3107880" y="4332240"/>
                <a:ext cx="1309680" cy="13183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3" name="Ellipse 135"/>
              <p:cNvGrpSpPr/>
              <p:nvPr/>
            </p:nvGrpSpPr>
            <p:grpSpPr>
              <a:xfrm>
                <a:off x="2909880" y="5628960"/>
                <a:ext cx="1709640" cy="236880"/>
                <a:chOff x="2909880" y="5628960"/>
                <a:chExt cx="1709640" cy="236880"/>
              </a:xfrm>
            </p:grpSpPr>
            <p:pic>
              <p:nvPicPr>
                <p:cNvPr id="154" name="Ellipse 135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2909880" y="5628960"/>
                  <a:ext cx="1709640" cy="23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" name=""/>
                <p:cNvSpPr/>
                <p:nvPr/>
              </p:nvSpPr>
              <p:spPr>
                <a:xfrm>
                  <a:off x="3166560" y="5670360"/>
                  <a:ext cx="1198080" cy="15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6" name="Ellipse 45"/>
            <p:cNvSpPr/>
            <p:nvPr/>
          </p:nvSpPr>
          <p:spPr>
            <a:xfrm>
              <a:off x="3295080" y="4371840"/>
              <a:ext cx="944640" cy="704520"/>
            </a:xfrm>
            <a:prstGeom prst="ellipse">
              <a:avLst/>
            </a:prstGeom>
            <a:gradFill rotWithShape="0">
              <a:gsLst>
                <a:gs pos="0">
                  <a:srgbClr val="fffcf9">
                    <a:alpha val="7725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uppe 79"/>
          <p:cNvGrpSpPr/>
          <p:nvPr/>
        </p:nvGrpSpPr>
        <p:grpSpPr>
          <a:xfrm>
            <a:off x="4616280" y="4332240"/>
            <a:ext cx="1708200" cy="1533600"/>
            <a:chOff x="4616280" y="4332240"/>
            <a:chExt cx="1708200" cy="1533600"/>
          </a:xfrm>
        </p:grpSpPr>
        <p:grpSp>
          <p:nvGrpSpPr>
            <p:cNvPr id="158" name="Gruppe 528"/>
            <p:cNvGrpSpPr/>
            <p:nvPr/>
          </p:nvGrpSpPr>
          <p:grpSpPr>
            <a:xfrm>
              <a:off x="4616280" y="4332240"/>
              <a:ext cx="1708200" cy="1533600"/>
              <a:chOff x="4616280" y="4332240"/>
              <a:chExt cx="1708200" cy="1533600"/>
            </a:xfrm>
          </p:grpSpPr>
          <p:sp>
            <p:nvSpPr>
              <p:cNvPr id="159" name="Ellipse 142"/>
              <p:cNvSpPr/>
              <p:nvPr/>
            </p:nvSpPr>
            <p:spPr>
              <a:xfrm>
                <a:off x="4853160" y="4332240"/>
                <a:ext cx="1307160" cy="13183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93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Ellipse 143"/>
              <p:cNvGrpSpPr/>
              <p:nvPr/>
            </p:nvGrpSpPr>
            <p:grpSpPr>
              <a:xfrm>
                <a:off x="4616280" y="5628960"/>
                <a:ext cx="1708200" cy="236880"/>
                <a:chOff x="4616280" y="5628960"/>
                <a:chExt cx="1708200" cy="236880"/>
              </a:xfrm>
            </p:grpSpPr>
            <p:pic>
              <p:nvPicPr>
                <p:cNvPr id="161" name="Ellipse 143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4616280" y="5628960"/>
                  <a:ext cx="1708200" cy="23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2" name=""/>
                <p:cNvSpPr/>
                <p:nvPr/>
              </p:nvSpPr>
              <p:spPr>
                <a:xfrm>
                  <a:off x="4871160" y="5670360"/>
                  <a:ext cx="1197000" cy="15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3" name="Ellipse 45"/>
            <p:cNvSpPr/>
            <p:nvPr/>
          </p:nvSpPr>
          <p:spPr>
            <a:xfrm>
              <a:off x="5032440" y="4381560"/>
              <a:ext cx="938160" cy="704520"/>
            </a:xfrm>
            <a:prstGeom prst="ellipse">
              <a:avLst/>
            </a:prstGeom>
            <a:gradFill rotWithShape="0">
              <a:gsLst>
                <a:gs pos="0">
                  <a:srgbClr val="fffcf9">
                    <a:alpha val="7725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uppe 85"/>
          <p:cNvGrpSpPr/>
          <p:nvPr/>
        </p:nvGrpSpPr>
        <p:grpSpPr>
          <a:xfrm>
            <a:off x="6323040" y="4332240"/>
            <a:ext cx="1709640" cy="1533600"/>
            <a:chOff x="6323040" y="4332240"/>
            <a:chExt cx="1709640" cy="1533600"/>
          </a:xfrm>
        </p:grpSpPr>
        <p:grpSp>
          <p:nvGrpSpPr>
            <p:cNvPr id="165" name="Gruppe 529"/>
            <p:cNvGrpSpPr/>
            <p:nvPr/>
          </p:nvGrpSpPr>
          <p:grpSpPr>
            <a:xfrm>
              <a:off x="6323040" y="4332240"/>
              <a:ext cx="1709640" cy="1533600"/>
              <a:chOff x="6323040" y="4332240"/>
              <a:chExt cx="1709640" cy="1533600"/>
            </a:xfrm>
          </p:grpSpPr>
          <p:sp>
            <p:nvSpPr>
              <p:cNvPr id="166" name="Ellipse 149"/>
              <p:cNvSpPr/>
              <p:nvPr/>
            </p:nvSpPr>
            <p:spPr>
              <a:xfrm>
                <a:off x="6598080" y="4332240"/>
                <a:ext cx="1311120" cy="1317960"/>
              </a:xfrm>
              <a:prstGeom prst="ellipse">
                <a:avLst/>
              </a:prstGeom>
              <a:blipFill rotWithShape="0">
                <a:blip r:embed="rId3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" name="Ellipse 150"/>
              <p:cNvGrpSpPr/>
              <p:nvPr/>
            </p:nvGrpSpPr>
            <p:grpSpPr>
              <a:xfrm>
                <a:off x="6323040" y="5635080"/>
                <a:ext cx="1709640" cy="230760"/>
                <a:chOff x="6323040" y="5635080"/>
                <a:chExt cx="1709640" cy="230760"/>
              </a:xfrm>
            </p:grpSpPr>
            <p:pic>
              <p:nvPicPr>
                <p:cNvPr id="168" name="Ellipse 150" descr="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6323040" y="5635080"/>
                  <a:ext cx="1709640" cy="230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9" name=""/>
                <p:cNvSpPr/>
                <p:nvPr/>
              </p:nvSpPr>
              <p:spPr>
                <a:xfrm>
                  <a:off x="6577920" y="5670720"/>
                  <a:ext cx="1198080" cy="15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0" name="Ellipse 45"/>
            <p:cNvSpPr/>
            <p:nvPr/>
          </p:nvSpPr>
          <p:spPr>
            <a:xfrm>
              <a:off x="6782040" y="4364640"/>
              <a:ext cx="948960" cy="707400"/>
            </a:xfrm>
            <a:prstGeom prst="ellipse">
              <a:avLst/>
            </a:prstGeom>
            <a:gradFill rotWithShape="0">
              <a:gsLst>
                <a:gs pos="0">
                  <a:srgbClr val="fffcf9">
                    <a:alpha val="7725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kstboks 170"/>
          <p:cNvSpPr/>
          <p:nvPr/>
        </p:nvSpPr>
        <p:spPr>
          <a:xfrm>
            <a:off x="1663200" y="2433600"/>
            <a:ext cx="79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51616"/>
                </a:solidFill>
                <a:latin typeface="Calibri"/>
              </a:rPr>
              <a:t>EN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kstboks 171"/>
          <p:cNvSpPr/>
          <p:nvPr/>
        </p:nvSpPr>
        <p:spPr>
          <a:xfrm>
            <a:off x="1573200" y="402912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51616"/>
                </a:solidFill>
                <a:latin typeface="Calibri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kstboks 172"/>
          <p:cNvSpPr/>
          <p:nvPr/>
        </p:nvSpPr>
        <p:spPr>
          <a:xfrm>
            <a:off x="3489480" y="2433600"/>
            <a:ext cx="67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51616"/>
                </a:solidFill>
                <a:latin typeface="Calibri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kstboks 173"/>
          <p:cNvSpPr/>
          <p:nvPr/>
        </p:nvSpPr>
        <p:spPr>
          <a:xfrm>
            <a:off x="5274000" y="243360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51616"/>
                </a:solidFill>
                <a:latin typeface="Calibri"/>
              </a:rPr>
              <a:t>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kstboks 174"/>
          <p:cNvSpPr/>
          <p:nvPr/>
        </p:nvSpPr>
        <p:spPr>
          <a:xfrm>
            <a:off x="3382200" y="572940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51616"/>
                </a:solidFill>
                <a:latin typeface="Calibri"/>
              </a:rPr>
              <a:t>DEN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kstboks 175"/>
          <p:cNvSpPr/>
          <p:nvPr/>
        </p:nvSpPr>
        <p:spPr>
          <a:xfrm>
            <a:off x="7043040" y="2433600"/>
            <a:ext cx="55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51616"/>
                </a:solidFill>
                <a:latin typeface="Calibri"/>
              </a:rPr>
              <a:t>S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kstboks 176"/>
          <p:cNvSpPr/>
          <p:nvPr/>
        </p:nvSpPr>
        <p:spPr>
          <a:xfrm>
            <a:off x="6948720" y="5727600"/>
            <a:ext cx="72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51616"/>
                </a:solidFill>
                <a:latin typeface="Calibri"/>
              </a:rPr>
              <a:t>ICE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kstboks 177"/>
          <p:cNvSpPr/>
          <p:nvPr/>
        </p:nvSpPr>
        <p:spPr>
          <a:xfrm>
            <a:off x="5204880" y="402912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51616"/>
                </a:solidFill>
                <a:latin typeface="Calibri"/>
              </a:rPr>
              <a:t>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kstboks 178"/>
          <p:cNvSpPr/>
          <p:nvPr/>
        </p:nvSpPr>
        <p:spPr>
          <a:xfrm>
            <a:off x="5215320" y="5727600"/>
            <a:ext cx="73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51616"/>
                </a:solidFill>
                <a:latin typeface="Calibri"/>
              </a:rPr>
              <a:t>FIN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kstboks 179"/>
          <p:cNvSpPr/>
          <p:nvPr/>
        </p:nvSpPr>
        <p:spPr>
          <a:xfrm>
            <a:off x="1486440" y="57276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51616"/>
                </a:solidFill>
                <a:latin typeface="Calibri"/>
              </a:rPr>
              <a:t>SW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kstboks 180"/>
          <p:cNvSpPr/>
          <p:nvPr/>
        </p:nvSpPr>
        <p:spPr>
          <a:xfrm>
            <a:off x="7015680" y="4029120"/>
            <a:ext cx="76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51616"/>
                </a:solidFill>
                <a:latin typeface="Calibri"/>
              </a:rPr>
              <a:t>NOR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kstboks 181"/>
          <p:cNvSpPr/>
          <p:nvPr/>
        </p:nvSpPr>
        <p:spPr>
          <a:xfrm>
            <a:off x="3334680" y="40291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51616"/>
                </a:solidFill>
                <a:latin typeface="Calibri"/>
              </a:rPr>
              <a:t>PORTU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661080" y="6237360"/>
            <a:ext cx="237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0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幻灯片之家</a:t>
            </a:r>
            <a:r>
              <a:rPr b="1" i="1" lang="zh-CN" sz="13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0" i="1" lang="zh-CN" sz="13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0" lang="zh-CN" sz="16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AE00-1314-4045-AA0C-CEB167F6CB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5:08:0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